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4A34-E4AB-4B2A-B7B8-7C842FBC2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CF9-BAB2-4F89-8599-939F3A99A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42A-2E40-4B1F-9ED2-A47A78F9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D8A-F718-4C64-8105-A4E77582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A39-A278-41EC-9D1C-74331115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8BF-8A83-4AE2-B332-90003510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AC6A-2152-4032-A458-2D6E9201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BE15-A4D2-49E4-AF4C-3FEFC5D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A7F2-A944-4291-9473-32D03969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CCF1-3847-4A4C-B567-15184A3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FE00-F9A4-4457-8729-CD1B9E4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2FC1-4931-4397-BAC0-61BE197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ECEF-EEE0-43B1-B5C9-4A381E1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3EB-5F62-4FB7-BA57-6AF2D93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8960-361A-4C9A-B936-4A33D8BB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45C9-D009-474C-A435-487554A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40FF-F483-4E8F-85FE-4FDB4F7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133-CC03-4B8F-85E3-B191A26D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C09-8A67-49CB-9CA7-6FF149AC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138E-8714-4CC0-8DA3-1EBA3C27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28DF-3CC4-4C4D-AF90-AFB2A508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9BDFF-4FC1-436D-89F7-8CF2FC8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2A37-6562-47A2-8547-5991032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F6C6-EC11-481A-8747-80CA2AD4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B7C-35F6-49D4-A22F-5118E150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50A9-54F0-4EE5-A6A5-72335A3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2658-550C-4267-803D-8EB1D23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A7E2-1C1C-400C-B431-8A00B5A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6EC0-6BFD-4D14-B4CB-3367F93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20104-CCA6-473B-A258-41C7DE33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48A60-C27D-4B04-8BB4-48FA4FC7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D480-7D7A-4606-89E8-E10B217F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97A5-1D87-41C5-87B6-0DC4029A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10EC-8D9B-4B44-947E-15F8EBD5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D26D-8F9B-41B9-B758-640B916B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425-C558-480E-AB03-A2C34D2A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FFFD8-208F-4BCF-A52D-F6C12458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58265-6CAA-417D-B003-B8A7403B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92C7-B656-482F-91B2-05F6CF5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C69D-BA83-4036-B36D-FFF37E86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7ED21-3368-4663-BB1B-6D6ED14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C3E58-91A5-4C33-84AF-902D297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199EB-E4C2-41A1-BB3C-28264C22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B2E54-DEAF-4FAD-A22B-12BACFA3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54D8-4B99-4150-8060-5819E1C6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FBA5-8748-4FCF-828F-9D0D8C2D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9C5-76F8-4946-A29E-8CEE5A8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C0B39-A5F4-4E84-BFB7-BC5848D6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0875B-3538-4533-81D6-DD34C3F6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804F-5A8E-489B-9B3F-D630229B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38C9-6FF8-42BB-A66B-985CDD4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43C67-41B5-46AA-A132-22C8F956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6A56F-9577-46D7-9DDA-20934FB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DB89C-AD30-48D1-8ABE-C9E8A12D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27612-DB61-4077-9F41-855EC00D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513C0-59D7-4DC8-9881-99F5F72E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0891-2772-4A37-A2F9-987A747B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965-2CAC-447F-9A47-7DED1563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73D05-437C-4305-A3AF-F93230F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8A6-93D4-4650-8186-D3EA262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DFE-F3C2-4A30-9506-857EFDAC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B7B-9A15-450E-8131-C3281E56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337-3F0C-4738-ACC7-C8E370E92E2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кут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кут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 сполучна ліні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572-92C4-4E70-A175-2BFD6E9AE02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15D1-83DD-4583-BB12-7C85D80D116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кут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кут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032-E734-4470-BBD1-1BEEDCE9A24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кут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кут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5066-2A9E-4D49-BE67-9AB230A97B2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Что мы сегодня узнали?</a:t>
            </a: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Что значит выполнить деление в данном отношении?</a:t>
            </a: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7705800" cy="17668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250920" y="1268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 6.2 читать, уметь объяснять новые понятия;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№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9(б), 495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№ 504(а,в)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4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BF09-C491-480F-B27F-933A2B2BF45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:\Documents and Settings\Aida\Рабочий стол\текстуры и фоны, клипарты\новеньки картинки\geometry compass shapes ha.gif"/>
          <p:cNvPicPr/>
          <p:nvPr/>
        </p:nvPicPr>
        <p:blipFill>
          <a:blip r:embed="rId1"/>
          <a:stretch/>
        </p:blipFill>
        <p:spPr>
          <a:xfrm>
            <a:off x="3706920" y="334800"/>
            <a:ext cx="1596960" cy="13287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7"/>
          <p:cNvSpPr/>
          <p:nvPr/>
        </p:nvSpPr>
        <p:spPr>
          <a:xfrm>
            <a:off x="1743120" y="1844640"/>
            <a:ext cx="412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узна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не понрав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затрудня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ё настроени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-49320" y="92160"/>
            <a:ext cx="7877160" cy="1919160"/>
          </a:xfrm>
          <a:prstGeom prst="rect">
            <a:avLst/>
          </a:prstGeom>
          <a:ln w="0">
            <a:noFill/>
          </a:ln>
        </p:spPr>
      </p:pic>
      <p:pic>
        <p:nvPicPr>
          <p:cNvPr id="251" name="Содержимое 3" descr="10785.gif"/>
          <p:cNvPicPr/>
          <p:nvPr/>
        </p:nvPicPr>
        <p:blipFill>
          <a:blip r:embed="rId2"/>
          <a:stretch/>
        </p:blipFill>
        <p:spPr>
          <a:xfrm>
            <a:off x="1403280" y="1557360"/>
            <a:ext cx="18399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560" y="1484280"/>
            <a:ext cx="777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дороги между городами 2400 км. Какой длины получится линия, изображающая эту магистраль на карте, сделанной в масштабе: а)1в  1 : 100 000 0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2вариант    1 : 200 000 0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 миллиметр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лина реки, если на карте ее дли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 3 мм, а масштаб карты 1: 1000 000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в километр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6840" y="1844280"/>
            <a:ext cx="7139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№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Раздели число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 в отношении 5 к 7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,4 в отношении 3 к 8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0,32 в отношении 2 : 5 : 9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1187280" y="47628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блемно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2"/>
          <a:stretch/>
        </p:blipFill>
        <p:spPr>
          <a:xfrm>
            <a:off x="133200" y="1542960"/>
            <a:ext cx="9364680" cy="25164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урок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33200" y="324000"/>
            <a:ext cx="7566120" cy="151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а  128, П 6.2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3" descr="1218.jpg"/>
          <p:cNvPicPr/>
          <p:nvPr/>
        </p:nvPicPr>
        <p:blipFill>
          <a:blip r:embed="rId2"/>
          <a:stretch/>
        </p:blipFill>
        <p:spPr>
          <a:xfrm>
            <a:off x="3857760" y="2714760"/>
            <a:ext cx="34509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Раздели число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60 в отношении 5 к 7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15,4 в отношении 3 к 8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0,32 в отношении 2 : 5 : 9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в (а)      2в(б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1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в (а)      2в(б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92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8920" y="765000"/>
            <a:ext cx="7705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Число однокомнатных, двухкомнатных и трехкомнатных  квартир в доме относится как 2 : 3 : 5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му равно отношение числа двухкомнатных квартир к числу всех квартир?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колько процентов всех квартир составляют однокомнатные квартиры?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Рисунок 3" descr="71.jpg"/>
          <p:cNvPicPr/>
          <p:nvPr/>
        </p:nvPicPr>
        <p:blipFill>
          <a:blip r:embed="rId1"/>
          <a:stretch/>
        </p:blipFill>
        <p:spPr>
          <a:xfrm>
            <a:off x="6875640" y="5111640"/>
            <a:ext cx="18730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Пользователь Windows</cp:lastModifiedBy>
  <dcterms:modified xsi:type="dcterms:W3CDTF">2023-02-06T14:12:02Z</dcterms:modified>
  <cp:revision>32</cp:revision>
  <dc:subject/>
  <dc:title>Слайд 1</dc:title>
</cp:coreProperties>
</file>