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D713-92DA-40C2-A4BE-EEA7CEE98B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C140-373B-439A-B810-C2A0A8E154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230-3C8F-40DB-BF8C-3404953E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FED-3F1A-4542-B609-E9EE3D7D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6117-00AE-43B7-B2EF-2E40EC2E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D23-DDC8-430C-87F5-B42B70D9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CFB0-2446-4A64-B51D-2946F01A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B871-6738-42BB-8768-C633A0E9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04CF-DE9A-41F5-A27F-F09319B8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66EF-14D5-4286-9BA3-F13A700F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150A-3975-4197-9A94-09EAB85A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C714-420D-4F07-B025-E5050352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A2E0-2B00-4811-A649-8582EBDE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34D-9BE4-45EC-9CAB-E61584FF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1303-7FC8-46FE-BBB0-29962459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9AA5-7476-4256-8C86-D2B8F9B7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57FE-EE3E-441A-8D5C-AB5C1365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A5A5-EB17-4D05-91A7-DA0F28C5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097A-ACBF-4A43-9B40-515DE05E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9F44F-3131-4BC3-83B1-5E2FBDD7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86222-D3BC-4964-B501-509811A6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2F83F-3DF4-46C8-8DCD-390E8673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C9C0-B50A-4A53-BA8B-60856242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BBE02-64BB-4394-8D88-A95AAF5B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AA7-4CCE-40EE-B2AE-958EFAAD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6400C-E928-406A-AA79-B50E58D1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BD66F-1475-44BF-8953-4556B98F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B4FF4-013F-4692-901B-5129C722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0A02E-D508-45EA-BBCA-B89A4A09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98FF-6485-4079-8B47-BA8273C7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D9DFC-8D2F-4498-9337-7668ED8C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49B4F-E30C-4A70-965A-E20E8FA7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ADE6C-B121-4707-A649-184D4257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47D23-DD98-4454-8055-900171D5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6B726-683D-4E93-A9A9-3457D5CC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2E61-ECF9-4EBA-A0D5-EB1C9A8F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9FA86-F5A6-4DD6-85E5-9B7E2234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AD55A-78BB-418D-94DB-3488D381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4ED2B-45BF-4A07-89A7-DC27AEF1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3692C-558D-4B62-BBB3-FE35413B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FF245-5DBE-4089-A46F-3DAF8BDF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E570E-5995-4838-A106-B2047539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1401C-C182-411B-AD11-7A7AB3EE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F8C73-BA89-4198-B6B6-C9AB9F34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CD6EB-5C60-4624-A865-946D450F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CF03E-022F-45B1-B1A7-85E3C888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033-F325-4449-8CDF-87FD00EB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3C199-B340-41C8-A1C6-11A3EE85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85B53-9043-49D5-838D-13D4AC58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86A92-8F1D-4B43-803B-89827FED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BC8CD-B1C1-4AA4-A690-A3C8A144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0EAB5-EF82-41F5-9412-F1CEC230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E9B1C-0276-4FA0-A0F3-5C65CD70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483BE-619F-428A-A8E7-D8096DFE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BB76D-107A-4758-A6C5-A770D590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33DD1-5924-486D-9B21-C019E541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4680F-A490-4521-AB25-8A370747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F47-792E-45CC-856E-CFC08964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74367-5710-46FE-A53A-B0BF3388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58F-0776-440B-8168-F792AAE0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3ED7-56F5-4A9D-8631-67FDE945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0EF-3157-48C4-93EC-5B377945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кут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кут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D824-0AFF-47B3-A07F-F8E9224DF54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кут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кут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 сполучна ліні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4CA1-B726-4659-928E-0D33741040E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кут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кут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E4E5-5EE1-414A-8576-A2DB02AD23C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кут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кут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9844-5BC0-40D4-BB5E-9ADA3ACAE658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кут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кут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7C68-7722-41A1-9DA6-1DB4858D5B0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Что мы сегодня узнали?</a:t>
            </a:r>
            <a:endParaRPr b="0" lang="en-US" sz="4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 algn="just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Что значит выполнить деление в данном отношении?</a:t>
            </a:r>
            <a:endParaRPr b="0" lang="en-US" sz="4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7705800" cy="1766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250920" y="1268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6.2 читать, уметь объяснять новые понятия;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№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9(б), 495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ие № 504(а,в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4DE1-05B8-464C-8B78-46E23A10967E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H:\Documents and Settings\Aida\Рабочий стол\текстуры и фоны, клипарты\новеньки картинки\geometry compass shapes ha.gif"/>
          <p:cNvPicPr/>
          <p:nvPr/>
        </p:nvPicPr>
        <p:blipFill>
          <a:blip r:embed="rId1"/>
          <a:stretch/>
        </p:blipFill>
        <p:spPr>
          <a:xfrm>
            <a:off x="3706920" y="334800"/>
            <a:ext cx="1596960" cy="13287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7"/>
          <p:cNvSpPr/>
          <p:nvPr/>
        </p:nvSpPr>
        <p:spPr>
          <a:xfrm>
            <a:off x="1743120" y="1844640"/>
            <a:ext cx="412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узн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науч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е понрави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затрудня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ё настрое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-49320" y="92160"/>
            <a:ext cx="7877160" cy="1919160"/>
          </a:xfrm>
          <a:prstGeom prst="rect">
            <a:avLst/>
          </a:prstGeom>
          <a:ln w="0">
            <a:noFill/>
          </a:ln>
        </p:spPr>
      </p:pic>
      <p:pic>
        <p:nvPicPr>
          <p:cNvPr id="251" name="Содержимое 3" descr="10785.gif"/>
          <p:cNvPicPr/>
          <p:nvPr/>
        </p:nvPicPr>
        <p:blipFill>
          <a:blip r:embed="rId2"/>
          <a:stretch/>
        </p:blipFill>
        <p:spPr>
          <a:xfrm>
            <a:off x="1403280" y="1557360"/>
            <a:ext cx="18399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50560" y="148428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№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дороги между городами 2400 км. Какой длины получится линия, изображающая эту магистраль на карте, сделанной в масштабе: а)1в  1 : 100 000 00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2вариант    1 : 200 000 000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в миллиметра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длина реки, если на карте ее длин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см 3 мм, а масштаб карты 1: 1000 000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в километра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6840" y="1844280"/>
            <a:ext cx="71391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№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Раздели число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60 в отношении 5 к 7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15,4 в отношении 3 к 8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0,32 в отношении 2 : 5 : 9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1187280" y="47628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блемно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2"/>
          <a:stretch/>
        </p:blipFill>
        <p:spPr>
          <a:xfrm>
            <a:off x="133200" y="1542960"/>
            <a:ext cx="9364680" cy="25164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урок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133200" y="324000"/>
            <a:ext cx="7566120" cy="1511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ца  128, П 6.2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Рисунок 3" descr="1218.jpg"/>
          <p:cNvPicPr/>
          <p:nvPr/>
        </p:nvPicPr>
        <p:blipFill>
          <a:blip r:embed="rId2"/>
          <a:stretch/>
        </p:blipFill>
        <p:spPr>
          <a:xfrm>
            <a:off x="3857760" y="2714760"/>
            <a:ext cx="34509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Раздели число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60 в отношении 5 к 7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15,4 в отношении 3 к 8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0,32 в отношении 2 : 5 : 9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№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9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в (а)      2в(б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№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9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в (а)      2в(б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№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92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8920" y="765000"/>
            <a:ext cx="77058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Число однокомнатных, двухкомнатных и трехкомнатных  квартир в доме относится как 2 : 3 : 5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Чему равно отношение числа двухкомнатных квартир к числу всех квартир?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колько процентов всех квартир составляют однокомнатные квартиры?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Рисунок 3" descr="71.jpg"/>
          <p:cNvPicPr/>
          <p:nvPr/>
        </p:nvPicPr>
        <p:blipFill>
          <a:blip r:embed="rId1"/>
          <a:stretch/>
        </p:blipFill>
        <p:spPr>
          <a:xfrm>
            <a:off x="6875640" y="5111640"/>
            <a:ext cx="18730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4:57:21Z</dcterms:created>
  <dc:creator>Admin</dc:creator>
  <dc:description/>
  <dc:language>en-US</dc:language>
  <cp:lastModifiedBy>Пользователь Windows</cp:lastModifiedBy>
  <dcterms:modified xsi:type="dcterms:W3CDTF">2023-02-06T14:12:02Z</dcterms:modified>
  <cp:revision>32</cp:revision>
  <dc:subject/>
  <dc:title>Слайд 1</dc:title>
</cp:coreProperties>
</file>