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B72-E3FC-49B8-985E-777D9B0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AD3-9A43-49D9-B0D5-2FC477F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D67-59A8-45DE-AE4C-D6D5931B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B79-D462-4D0A-AC43-D8DED65B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8E7-9C70-4132-BBD6-BFC6A40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0BA-8DF8-4ED0-B016-EDC6A46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381-868D-4FF3-8B2A-BEF0BC1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D7E-337E-4816-826F-4BDA5B7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8DC-AB7C-4749-AC77-0827B02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6A5-93C9-49B4-916C-216B4E9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685-BB76-442E-A8BE-325B22F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8CD-D426-45FD-A797-01B126A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0D2-9717-42C2-B3CA-E892BFDB4D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920" y="5331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РАСН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ЧЬ</a:t>
            </a:r>
            <a:br>
              <a:rPr sz="44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ОСЛОВИЦ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58669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Аширова А.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МБОУ «Школа – интернат №1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г.о. Электросталь М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914400"/>
            <a:ext cx="4229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Без труда не вытащишь рыбку из пру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990720" y="762120"/>
            <a:ext cx="757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76176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Как аукнется, так и откликнетс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762120"/>
            <a:ext cx="83138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Не рой другому яму – сам в нее упаде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Куй железо пока горяч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30592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Шило в мешке не утаи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46040" y="685800"/>
            <a:ext cx="828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Что такое послов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СЛОВИЦА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раткое народное изречение с назидательным содержа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Из толкового словар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С. И. Ожего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Один в поле не вои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609480"/>
            <a:ext cx="815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За двумя зайцами погонишься – ни одного не поймае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533520" y="762120"/>
            <a:ext cx="8204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Любишь кататься – люби и саночки вози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5345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Calibri"/>
              </a:rPr>
              <a:t>Магические числа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словицы с числ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ин  с сошкой, семеро с лож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еро одного не ж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е имей сто рублей, а имей сто друз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то голов – сто у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ь раз отмерь, один раз отреж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ь бед, один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ной рукой узла не завяж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Ум – хорошо, а два – луч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Для друга и семь вёрст не око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992160" y="1690560"/>
            <a:ext cx="669600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000"/>
                </a:solidFill>
                <a:latin typeface="Calibri"/>
              </a:rPr>
              <a:t>Замени высказывание</a:t>
            </a:r>
            <a:br>
              <a:rPr sz="8000"/>
            </a:br>
            <a:r>
              <a:rPr b="0" i="1" lang="ru-RU" sz="8000" spc="-1" strike="noStrike">
                <a:solidFill>
                  <a:srgbClr val="ffc000"/>
                </a:solidFill>
                <a:latin typeface="Calibri"/>
              </a:rPr>
              <a:t>пословице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c000"/>
                </a:solidFill>
                <a:latin typeface="Calibri"/>
              </a:rPr>
              <a:t>ПОСЛОВИЦЫ –</a:t>
            </a:r>
            <a:br>
              <a:rPr sz="7200"/>
            </a:br>
            <a:br>
              <a:rPr sz="7200"/>
            </a:br>
            <a:r>
              <a:rPr b="0" i="1" lang="ru-RU" sz="7200" spc="-1" strike="noStrike">
                <a:solidFill>
                  <a:srgbClr val="ffc000"/>
                </a:solidFill>
                <a:latin typeface="Calibri"/>
              </a:rPr>
              <a:t>ПЕРЕВЁРТЫШ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4" descr=""/>
          <p:cNvPicPr/>
          <p:nvPr/>
        </p:nvPicPr>
        <p:blipFill>
          <a:blip r:embed="rId1"/>
          <a:stretch/>
        </p:blipFill>
        <p:spPr>
          <a:xfrm>
            <a:off x="450720" y="1743120"/>
            <a:ext cx="8236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000"/>
                </a:solidFill>
                <a:latin typeface="Calibri"/>
              </a:rPr>
              <a:t>Для пословицы характерно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6232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КРАТКОСТЬ (лаконично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ВЯЗЬ С РЕЧ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УСТОЙЧИВ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ШИРОКАЯ УПОТРЕБЛЯЕМ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09480" y="12193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ВСЁ  ПЛОХО,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ЧТО ПЛОХО НАЧИНАЕТСЯ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Calibri"/>
              </a:rPr>
              <a:t>Исправь ошибку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62120" y="7621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Долог день до вечера, коли кушать нечег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57200" y="8380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Знает Мурка , чьё мясо съела</a:t>
            </a: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80880" y="14479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Деньгами горю не поможеш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2040" y="1366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е говори  «УРА» пока не перепрыгнешь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80880" y="12826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Не спеши ногами, торопись дел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68200" y="18288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ачал дело , гуляй смело</a:t>
            </a: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Calibri"/>
              </a:rPr>
              <a:t>Пословицы отражают все стороны нашей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685800" y="1687680"/>
            <a:ext cx="7543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словицы о пословиц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БЕЗ  ПОСЛОВИЦЫ НЕ ПОЖИВЁ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ОСЛОВИЦА - ВСЕМ ДЕЛАМ ПОМОШ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ОСЛОВИЦА НЕДАРОМ МОЛВ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ТАРАЯ ПОСЛОВИЦА ВЕК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Е СЛОМ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Calibri"/>
              </a:rPr>
              <a:t>Владимир Иванович Да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pd_002"/>
          <p:cNvPicPr/>
          <p:nvPr/>
        </p:nvPicPr>
        <p:blipFill>
          <a:blip r:embed="rId1"/>
          <a:stretch/>
        </p:blipFill>
        <p:spPr>
          <a:xfrm>
            <a:off x="2133720" y="116676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Назови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ремя-ч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вет-т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Учиться-пригоди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нь-боро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улик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Тише-даль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Monotype Corsiva"/>
              </a:rPr>
              <a:t>К нам приехал</a:t>
            </a:r>
            <a:br>
              <a:rPr sz="11000"/>
            </a:br>
            <a:r>
              <a:rPr b="0" i="1" lang="ru-RU" sz="11000" spc="-1" strike="noStrike">
                <a:solidFill>
                  <a:srgbClr val="ffc000"/>
                </a:solidFill>
                <a:latin typeface="Monotype Corsiva"/>
              </a:rPr>
              <a:t>иностранец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360" y="6858000"/>
            <a:ext cx="11430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84480" y="609480"/>
            <a:ext cx="6959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желика</cp:lastModifiedBy>
  <cp:lastPrinted>2013-11-11T18:30:58Z</cp:lastPrinted>
  <dcterms:modified xsi:type="dcterms:W3CDTF">2019-09-29T11:15:48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