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7D4-E906-437F-A703-00704DA8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AD3-63F0-41FC-BC95-96E64B99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3AA-FAFC-41C8-BF94-640BC84A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B72-F994-49B3-B2DA-801761A4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801-F2D7-487F-BA4F-71F75BCE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C8E-58E6-49B4-B94A-7FFADE96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97B-7649-48BC-A437-81CB9C3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26F-9591-4A94-B06E-C8D9F02A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46D-A2DA-42D6-B595-9D969AFD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1B5-BBE3-4BD7-B927-38C677F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4DE-1CBB-48DB-85E2-FA36196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E20-2F03-48AB-8881-7F93947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41CF-12C3-4DAF-9372-BB4ECB5AF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bat-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10920" y="2421000"/>
            <a:ext cx="75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eece1"/>
                </a:solidFill>
                <a:latin typeface="Arbat-Bold"/>
              </a:rPr>
              <a:t>1. Глаголы обозначают…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198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дача № 1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«Что обозначают глаголы в повелительном наклонении?»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елевать – иметь власть над кем-нибудь (устар.) 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казывать, указывать.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(из словаря Ожегова С.И.)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Задача №1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Вы, отроки - други, возьмите коня.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) Родные мои, не болейте никогда, будьте здоровы.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) Эй, вратарь, готовься к бою!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) Читайте книги, они учат нас жизни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5) Молчи! Устал я слушать!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Для справок: совет, приказ, команда, пожелание, просьба)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0" name="Прямоугольник 1"/>
          <p:cNvSpPr/>
          <p:nvPr/>
        </p:nvSpPr>
        <p:spPr>
          <a:xfrm>
            <a:off x="6012000" y="1413000"/>
            <a:ext cx="2506680" cy="57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ось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6012000" y="2205000"/>
            <a:ext cx="250668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6012000" y="2997360"/>
            <a:ext cx="2506680" cy="57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ком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6033960" y="3726000"/>
            <a:ext cx="2505240" cy="57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со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6033960" y="4437000"/>
            <a:ext cx="250524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46040" y="2200320"/>
            <a:ext cx="8373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Вы, отроки - други, возьмите ко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) Родные мои, не болейте никогда, будьте здор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) Эй, вратарь, готовься к бою!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) Читайте книги, они учат нас жизни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5) Молчи! Устал я слушать!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539640" y="1162080"/>
            <a:ext cx="7999560" cy="1068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ля справок: совет, приказ, команда, пожелание, прос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Глаголы повелительного наклонения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твечают на вопросы             побуждают к действию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Что делай? (делайте?)              - требую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Что сделай? (Сделайте?)          -  приказываю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- предлагаю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- прося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- советую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http://fs00.infourok.ru/images/doc/219/5727/2/img3.jpg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верь себя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26920" y="1268280"/>
          <a:ext cx="7345440" cy="453708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129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г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лительное на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лительное на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Оцените себя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«5»- 0 ошибок;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«4»- 1-2 ошибки;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«3»- 4 ошибки;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«2»- более 5 ошибок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1. Сегодня на уроке мы узнали о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2. Я научился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3. Мне было трудно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4. Своей работой я… и оцениваю ее на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Изучить п. 93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на выбор: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Записать 5 пословиц с глаголами в повелительном наклонении (дать толкование);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Записать рецепт «Моё любимое блюдо»;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Составить рекламное объявление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55640" y="2565360"/>
            <a:ext cx="767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eece1"/>
                </a:solidFill>
                <a:latin typeface="Arbat-Bold"/>
              </a:rPr>
              <a:t>2. Начальная форма глагола-…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1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ece1"/>
                </a:solidFill>
                <a:latin typeface="Arbat-Bold"/>
              </a:rPr>
              <a:t>3. Инфинитив</a:t>
            </a:r>
            <a:r>
              <a:rPr b="1" i="1" lang="en-US" sz="4000" spc="-1" strike="noStrike">
                <a:solidFill>
                  <a:srgbClr val="eeece1"/>
                </a:solidFill>
                <a:latin typeface="Arbat-Bold"/>
              </a:rPr>
              <a:t> </a:t>
            </a:r>
            <a:r>
              <a:rPr b="1" i="1" lang="ru-RU" sz="4000" spc="-1" strike="noStrike">
                <a:solidFill>
                  <a:srgbClr val="eeece1"/>
                </a:solidFill>
                <a:latin typeface="Arbat-Bold"/>
              </a:rPr>
              <a:t> имеет </a:t>
            </a:r>
            <a:r>
              <a:rPr b="1" i="1" lang="en-US" sz="4000" spc="-1" strike="noStrike">
                <a:solidFill>
                  <a:srgbClr val="eeece1"/>
                </a:solidFill>
                <a:latin typeface="Arbat-Bold"/>
              </a:rPr>
              <a:t> </a:t>
            </a:r>
            <a:r>
              <a:rPr b="1" i="1" lang="ru-RU" sz="4000" spc="-1" strike="noStrike">
                <a:solidFill>
                  <a:srgbClr val="eeece1"/>
                </a:solidFill>
                <a:latin typeface="Arbat-Bold"/>
              </a:rPr>
              <a:t>окончания…</a:t>
            </a:r>
            <a:r>
              <a:rPr b="1" i="1" lang="en-US" sz="4000" spc="-1" strike="noStrike">
                <a:solidFill>
                  <a:srgbClr val="898989"/>
                </a:solidFill>
                <a:latin typeface="Arbat-Bol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4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Arbat-Bold"/>
              </a:rPr>
              <a:t>4. Глаголы,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Arbat-Bold"/>
              </a:rPr>
              <a:t> </a:t>
            </a:r>
            <a:r>
              <a:rPr b="1" lang="ru-RU" sz="4000" spc="-1" strike="noStrike">
                <a:solidFill>
                  <a:srgbClr val="eeece1"/>
                </a:solidFill>
                <a:latin typeface="Arbat-Bold"/>
              </a:rPr>
              <a:t>имеющие постфикс -</a:t>
            </a:r>
            <a:r>
              <a:rPr b="1" i="1" lang="ru-RU" sz="4000" spc="-1" strike="noStrike">
                <a:solidFill>
                  <a:srgbClr val="eeece1"/>
                </a:solidFill>
                <a:latin typeface="Arbat-Bold"/>
              </a:rPr>
              <a:t>ся (-сь) </a:t>
            </a:r>
            <a:r>
              <a:rPr b="1" lang="ru-RU" sz="4000" spc="-1" strike="noStrike">
                <a:solidFill>
                  <a:srgbClr val="eeece1"/>
                </a:solidFill>
                <a:latin typeface="Arbat-Bold"/>
              </a:rPr>
              <a:t>называются…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7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-612720" y="3124080"/>
            <a:ext cx="43894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68000" y="24210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eece1"/>
                </a:solidFill>
                <a:latin typeface="Arbat-Bold"/>
              </a:rPr>
              <a:t>5.</a:t>
            </a:r>
            <a:r>
              <a:rPr b="1" i="1" lang="en-US" sz="4800" spc="-1" strike="noStrike">
                <a:solidFill>
                  <a:srgbClr val="eeece1"/>
                </a:solidFill>
                <a:latin typeface="Arbat-Bold"/>
              </a:rPr>
              <a:t> </a:t>
            </a:r>
            <a:r>
              <a:rPr b="1" i="1" lang="ru-RU" sz="4800" spc="-1" strike="noStrike">
                <a:solidFill>
                  <a:srgbClr val="eeece1"/>
                </a:solidFill>
                <a:latin typeface="Arbat-Bold"/>
              </a:rPr>
              <a:t>Глаголы изменяются по…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10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000" y="2168640"/>
            <a:ext cx="8064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eece1"/>
                </a:solidFill>
                <a:latin typeface="Arbat-Bold"/>
              </a:rPr>
              <a:t>6. Изменение глаголов по лицам и числам называется…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13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284640"/>
            <a:ext cx="41925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471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ингвистическая задача</a:t>
            </a:r>
            <a:br>
              <a:rPr sz="40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ниги просят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358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3100" spc="-1" strike="noStrike">
                <a:solidFill>
                  <a:srgbClr val="ffffff"/>
                </a:solidFill>
                <a:latin typeface="Times New Roman"/>
              </a:rPr>
              <a:t>Пожалуйста, не трогать меня грязными руками: мне будет стыдно перед другими читателями за свой неопрятный внешний вид. Не разрисовывать меня ручкой или карандашом – это так некрасиво! </a:t>
            </a:r>
            <a:r>
              <a:rPr b="0" i="1" lang="ru-RU" sz="31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Не забыть, что после вас мне придётся побывать у других читателей. Помочь оставаться мне чистой, а я помогу вам стать умнее.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bat-Bold"/>
              </a:rPr>
              <a:t>Тема урока: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bat-Bold"/>
              </a:rPr>
              <a:t>«Повелительное наклонение»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17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ÐÐ°ÑÑÐ¸Ð½ÐºÐ¸ Ð¿Ð¾ Ð·Ð°Ð¿ÑÐ¾ÑÑ ÐºÐ¾ÑÐ¾Ð½Ð° .png"/>
          <p:cNvPicPr/>
          <p:nvPr/>
        </p:nvPicPr>
        <p:blipFill>
          <a:blip r:embed="rId2"/>
          <a:stretch/>
        </p:blipFill>
        <p:spPr>
          <a:xfrm rot="668400">
            <a:off x="6862680" y="1306080"/>
            <a:ext cx="197496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 repeatCount="100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Цели урока 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знать, что выражают глаголы в повелительном наклонении;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пределить, на какие вопросы отвечают;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к образуются;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к используются в нашей речи.  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 Irenus</dc:creator>
  <dc:description/>
  <dc:language>en-US</dc:language>
  <cp:lastModifiedBy>Ксения</cp:lastModifiedBy>
  <dcterms:modified xsi:type="dcterms:W3CDTF">2019-04-23T22:18:41Z</dcterms:modified>
  <cp:revision>32</cp:revision>
  <dc:subject/>
  <dc:title>Классная доска</dc:title>
</cp:coreProperties>
</file>