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9CB-2440-4717-A13E-F63C0DE6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387-2E1E-4469-9FC2-5EC908D9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390-29A9-4888-8921-D513DDC6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388-8889-49E4-8E03-E0F4F48A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39D-B3A6-427C-8265-A4CB9AF6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1A8-3333-42CF-B276-C91BCD24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610-7DED-4092-AA77-C9F48916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7EA8-FCB2-4033-A9BD-D5AC8471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699-290B-427C-A6DA-EFF64266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C40-79BE-44B1-8EB4-00FBE0B1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72B-C17D-4D45-A8AB-AB672934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360-17A9-44DE-BC39-53F21443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390F-18D5-4752-88B1-4AA253032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bat-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85000" y="5486400"/>
            <a:ext cx="560520" cy="560520"/>
            <a:chOff x="7785000" y="5486400"/>
            <a:chExt cx="560520" cy="56052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5486400"/>
              <a:ext cx="5605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85720" y="5126040"/>
            <a:ext cx="560520" cy="561960"/>
            <a:chOff x="585720" y="5126040"/>
            <a:chExt cx="56052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85720" y="5126040"/>
              <a:ext cx="5605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17720" y="5559480"/>
            <a:ext cx="555480" cy="560160"/>
            <a:chOff x="1017720" y="5559480"/>
            <a:chExt cx="555480" cy="5601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17720" y="5559480"/>
              <a:ext cx="55548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10920" y="2421000"/>
            <a:ext cx="75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eece1"/>
                </a:solidFill>
                <a:latin typeface="Arbat-Bold"/>
              </a:rPr>
              <a:t>1. Глаголы обозначают…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198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дача № 1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«Что обозначают глаголы в повелительном наклонении?»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елевать – иметь власть над кем-нибудь (устар.) 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казывать, указывать.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(из словаря Ожегова С.И.)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Задача №1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Вы, отроки - други, возьмите коня.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) Родные мои, не болейте никогда, будьте здоровы.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) Эй, вратарь, готовься к бою!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) Читайте книги, они учат нас жизни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5) Молчи! Устал я слушать!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(Для справок: совет, приказ, команда, пожелание, просьба)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0" name="Прямоугольник 1"/>
          <p:cNvSpPr/>
          <p:nvPr/>
        </p:nvSpPr>
        <p:spPr>
          <a:xfrm>
            <a:off x="6012000" y="1413000"/>
            <a:ext cx="2506680" cy="57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ось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"/>
          <p:cNvSpPr/>
          <p:nvPr/>
        </p:nvSpPr>
        <p:spPr>
          <a:xfrm>
            <a:off x="6012000" y="2205000"/>
            <a:ext cx="250668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6012000" y="2997360"/>
            <a:ext cx="2506680" cy="57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ком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6033960" y="3726000"/>
            <a:ext cx="2505240" cy="576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со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6033960" y="4437000"/>
            <a:ext cx="2505240" cy="57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при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46040" y="2200320"/>
            <a:ext cx="8373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)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Вы, отроки - други, возьмите ко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2) Родные мои, не болейте никогда, будьте здор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3) Эй, вратарь, готовься к бою!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4) Читайте книги, они учат нас жизни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5) Молчи! Устал я слушать!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539640" y="1162080"/>
            <a:ext cx="7999560" cy="1068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Для справок: совет, приказ, команда, пожелание, прос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Глаголы повелительного наклонения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Отвечают на вопросы             побуждают к действию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Что делай? (делайте?)              - требую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Что сделай? (Сделайте?)          -  приказываю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- предлагаю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- прося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bat-Bold"/>
              </a:rPr>
              <a:t>- советуют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http://fs00.infourok.ru/images/doc/219/5727/2/img3.jpg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верь себя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826920" y="1268280"/>
          <a:ext cx="7345440" cy="4537080"/>
        </p:xfrm>
        <a:graphic>
          <a:graphicData uri="http://schemas.openxmlformats.org/drawingml/2006/table">
            <a:tbl>
              <a:tblPr/>
              <a:tblGrid>
                <a:gridCol w="2448000"/>
                <a:gridCol w="2449440"/>
                <a:gridCol w="2448000"/>
              </a:tblGrid>
              <a:tr h="1298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лаг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лительное на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елительное на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ж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с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реча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й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Оцените себя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«5»- 0 ошибок;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«4»- 1-2 ошибки;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«3»- 4 ошибки;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bat-Bold"/>
              </a:rPr>
              <a:t>«2»- более 5 ошибок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1. Сегодня на уроке мы узнали о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2. Я научился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3. Мне было трудно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4. Своей работой я… и оцениваю ее на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Изучить п. 93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ание на выбор: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) Записать 5 пословиц с глаголами в повелительном наклонении (дать толкование);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) Записать рецепт «Моё любимое блюдо»;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) Составить рекламное объявление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755640" y="2565360"/>
            <a:ext cx="767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eece1"/>
                </a:solidFill>
                <a:latin typeface="Arbat-Bold"/>
              </a:rPr>
              <a:t>2. Начальная форма глагола-…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1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ece1"/>
                </a:solidFill>
                <a:latin typeface="Arbat-Bold"/>
              </a:rPr>
              <a:t>3. Инфинитив</a:t>
            </a:r>
            <a:r>
              <a:rPr b="1" i="1" lang="en-US" sz="4000" spc="-1" strike="noStrike">
                <a:solidFill>
                  <a:srgbClr val="eeece1"/>
                </a:solidFill>
                <a:latin typeface="Arbat-Bold"/>
              </a:rPr>
              <a:t> </a:t>
            </a:r>
            <a:r>
              <a:rPr b="1" i="1" lang="ru-RU" sz="4000" spc="-1" strike="noStrike">
                <a:solidFill>
                  <a:srgbClr val="eeece1"/>
                </a:solidFill>
                <a:latin typeface="Arbat-Bold"/>
              </a:rPr>
              <a:t> имеет </a:t>
            </a:r>
            <a:r>
              <a:rPr b="1" i="1" lang="en-US" sz="4000" spc="-1" strike="noStrike">
                <a:solidFill>
                  <a:srgbClr val="eeece1"/>
                </a:solidFill>
                <a:latin typeface="Arbat-Bold"/>
              </a:rPr>
              <a:t> </a:t>
            </a:r>
            <a:r>
              <a:rPr b="1" i="1" lang="ru-RU" sz="4000" spc="-1" strike="noStrike">
                <a:solidFill>
                  <a:srgbClr val="eeece1"/>
                </a:solidFill>
                <a:latin typeface="Arbat-Bold"/>
              </a:rPr>
              <a:t>окончания…</a:t>
            </a:r>
            <a:r>
              <a:rPr b="1" i="1" lang="en-US" sz="4000" spc="-1" strike="noStrike">
                <a:solidFill>
                  <a:srgbClr val="898989"/>
                </a:solidFill>
                <a:latin typeface="Arbat-Bol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4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10920" y="206064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Arbat-Bold"/>
              </a:rPr>
              <a:t>4. Глаголы,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eece1"/>
                </a:solidFill>
                <a:latin typeface="Arbat-Bold"/>
              </a:rPr>
              <a:t> </a:t>
            </a:r>
            <a:r>
              <a:rPr b="1" lang="ru-RU" sz="4000" spc="-1" strike="noStrike">
                <a:solidFill>
                  <a:srgbClr val="eeece1"/>
                </a:solidFill>
                <a:latin typeface="Arbat-Bold"/>
              </a:rPr>
              <a:t>имеющие постфикс -</a:t>
            </a:r>
            <a:r>
              <a:rPr b="1" i="1" lang="ru-RU" sz="4000" spc="-1" strike="noStrike">
                <a:solidFill>
                  <a:srgbClr val="eeece1"/>
                </a:solidFill>
                <a:latin typeface="Arbat-Bold"/>
              </a:rPr>
              <a:t>ся (-сь) </a:t>
            </a:r>
            <a:r>
              <a:rPr b="1" lang="ru-RU" sz="4000" spc="-1" strike="noStrike">
                <a:solidFill>
                  <a:srgbClr val="eeece1"/>
                </a:solidFill>
                <a:latin typeface="Arbat-Bold"/>
              </a:rPr>
              <a:t>называются…</a:t>
            </a: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07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-612720" y="3124080"/>
            <a:ext cx="438948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68000" y="24210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eece1"/>
                </a:solidFill>
                <a:latin typeface="Arbat-Bold"/>
              </a:rPr>
              <a:t>5.</a:t>
            </a:r>
            <a:r>
              <a:rPr b="1" i="1" lang="en-US" sz="4800" spc="-1" strike="noStrike">
                <a:solidFill>
                  <a:srgbClr val="eeece1"/>
                </a:solidFill>
                <a:latin typeface="Arbat-Bold"/>
              </a:rPr>
              <a:t> </a:t>
            </a:r>
            <a:r>
              <a:rPr b="1" i="1" lang="ru-RU" sz="4800" spc="-1" strike="noStrike">
                <a:solidFill>
                  <a:srgbClr val="eeece1"/>
                </a:solidFill>
                <a:latin typeface="Arbat-Bold"/>
              </a:rPr>
              <a:t>Глаголы изменяются по…</a:t>
            </a:r>
            <a:endParaRPr b="0" lang="en-US" sz="4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10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2960" y="667800"/>
            <a:ext cx="735804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Блиц-опрос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000" y="2168640"/>
            <a:ext cx="8064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eece1"/>
                </a:solidFill>
                <a:latin typeface="Arbat-Bold"/>
              </a:rPr>
              <a:t>6. Изменение глаголов по лицам и числам называется…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13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284640"/>
            <a:ext cx="41925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471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ингвистическая задача</a:t>
            </a:r>
            <a:br>
              <a:rPr sz="40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ниги просят…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358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ru-RU" sz="3100" spc="-1" strike="noStrike">
                <a:solidFill>
                  <a:srgbClr val="ffffff"/>
                </a:solidFill>
                <a:latin typeface="Times New Roman"/>
              </a:rPr>
              <a:t>Пожалуйста, не трогать меня грязными руками: мне будет стыдно перед другими читателями за свой неопрятный внешний вид. Не разрисовывать меня ручкой или карандашом – это так некрасиво! </a:t>
            </a:r>
            <a:r>
              <a:rPr b="0" i="1" lang="ru-RU" sz="31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Не забыть, что после вас мне придётся побывать у других читателей. Помочь оставаться мне чистой, а я помогу вам стать умнее.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bat-Bold"/>
              </a:rPr>
              <a:t>Тема урока: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bat-Bold"/>
              </a:rPr>
              <a:t>«Повелительное наклонение»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17" name="Picture 5" descr="ÐÐ°ÑÑÐ¸Ð½ÐºÐ¸ Ð¿Ð¾ Ð·Ð°Ð¿ÑÐ¾ÑÑ Ð³Ð»Ð°Ð³Ð¾Ð»"/>
          <p:cNvPicPr/>
          <p:nvPr/>
        </p:nvPicPr>
        <p:blipFill>
          <a:blip r:embed="rId1"/>
          <a:stretch/>
        </p:blipFill>
        <p:spPr>
          <a:xfrm>
            <a:off x="588960" y="3116160"/>
            <a:ext cx="4390920" cy="37418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ÐÐ°ÑÑÐ¸Ð½ÐºÐ¸ Ð¿Ð¾ Ð·Ð°Ð¿ÑÐ¾ÑÑ ÐºÐ¾ÑÐ¾Ð½Ð° .png"/>
          <p:cNvPicPr/>
          <p:nvPr/>
        </p:nvPicPr>
        <p:blipFill>
          <a:blip r:embed="rId2"/>
          <a:stretch/>
        </p:blipFill>
        <p:spPr>
          <a:xfrm rot="668400">
            <a:off x="6862680" y="1306080"/>
            <a:ext cx="197496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 repeatCount="100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Цели урока 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знать, что выражают глаголы в повелительном наклонении;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пределить, на какие вопросы отвечают;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к образуются;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ак используются в нашей речи.  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 Irenus</dc:creator>
  <dc:description/>
  <dc:language>en-US</dc:language>
  <cp:lastModifiedBy>Ксения</cp:lastModifiedBy>
  <dcterms:modified xsi:type="dcterms:W3CDTF">2019-04-23T22:18:41Z</dcterms:modified>
  <cp:revision>32</cp:revision>
  <dc:subject/>
  <dc:title>Классная доска</dc:title>
</cp:coreProperties>
</file>