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7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1.gif" ContentType="image/gif"/>
  <Override PartName="/ppt/media/image30.jpeg" ContentType="image/jpeg"/>
  <Override PartName="/ppt/media/image15.png" ContentType="image/png"/>
  <Override PartName="/ppt/media/image6.png" ContentType="image/png"/>
  <Override PartName="/ppt/media/image11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6.png" ContentType="image/png"/>
  <Override PartName="/ppt/media/image17.png" ContentType="image/png"/>
  <Override PartName="/ppt/media/image26.jpeg" ContentType="image/jpeg"/>
  <Override PartName="/ppt/media/image19.png" ContentType="image/png"/>
  <Override PartName="/ppt/media/image18.wmf" ContentType="image/x-wmf"/>
  <Override PartName="/ppt/media/image20.png" ContentType="image/png"/>
  <Override PartName="/ppt/media/image28.jpeg" ContentType="image/jpeg"/>
  <Override PartName="/ppt/media/image21.gif" ContentType="image/gif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dt" idx="5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ftr" idx="5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 type="sldNum" idx="6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E183-20E5-4CCB-8F51-6FFDE6C21D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C800-553C-4C6D-AD39-30BD1B5C6E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B5B-5D88-42D6-9224-325C6D2F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46E-9295-4CFE-AD20-8CF7CEB3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8DD38-D2EA-4F88-B087-DA1C60AF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A06A5-58C5-44C8-95E6-03984DBA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90737-8AA5-42CB-8F60-4A214D7C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78F44-E2E0-4EE4-8176-AD73D153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95503-0E9A-40B6-B05E-5D883668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33A2C-4A77-476C-9C3A-69C559B5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2F275-21FD-4066-BE17-D9F31F37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4F838-8DF7-4224-8E6D-3B0322B4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6D96A-F1BE-4B67-A7FD-EA880E74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3DC94-A28A-4047-ABDA-F052B789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4C5-D8A8-4C30-A255-7BC681CE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3C1C4-2D67-41F3-AFF2-F6E71D10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890D87-5552-4F26-BABD-DB56B175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7A774-CFB5-4E88-9635-09423A08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D535F-24B0-4706-BF7A-24A91107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175F1-5BF4-4F55-B618-6F3C2573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92190-6388-45A4-9B12-8D88ECD1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26A12-1DF8-4CBB-A835-5AF5AD8C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EF8B6-3CB3-427E-98D4-8C8E14A3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6302B-B815-436F-88BE-4AD06AFD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98C0A-973E-49B6-8999-24E00090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F52-8538-49A6-A25E-D2474F21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4591A-F74F-46C4-AF1A-A52D3A4A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C82A7-F67A-4FFC-8456-7320C77A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480FE-96E0-4382-887D-7FE3D4BA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13998-F672-4805-9C1B-50D83333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37745-F2CD-489F-A524-8F725122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0AA92-4B0F-4840-87DA-44A28875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F4AD9-A581-4085-8962-03B5557A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10812-F5FF-43A3-A0EB-4167A2DF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6DCDA-425E-47EE-97B6-8FB6C528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B692B-7308-4840-AC8A-26C6D67D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9A0C-EEB3-4465-91BD-45648DB5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68FAE-3C81-47CD-B269-D37BD666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9B260-1691-41AC-83EF-5ED05DB7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EB984-D69D-4B54-ABB6-F2F45EE3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23553-BB13-40EF-BF7A-6F5AEEB7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1B308-1577-4C5D-A965-1A110A06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0A5BA-F077-43BA-8661-9DB77371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45360-8D7D-418A-A7B6-960C1FBD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0C24B-2D3E-49C0-A890-C1FC809E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1C9F9-CB35-4F3E-B208-CD558E91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59921-B3B6-4B6B-84DC-A3C1CCD6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672F-388D-40E3-9FD1-E62C2CCC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0A5AF-26E1-4C3B-81D9-BC4DAC54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2F070-C6D4-470D-BF3F-C5C687EF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76D45-27CE-4CF8-8B01-44345965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66485-5AA3-4556-92B8-322E1052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51695-1A04-4443-8F63-E5FE7431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EC8092-19A9-4EB1-AF93-61902319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A85D0-33B8-4583-9857-67538C48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68A0B8-9F3F-41E0-A5B8-882C89ED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A98F5-9885-41F5-80B1-4D3B444E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068F3F-2475-485B-86DB-DEB7EBD7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3378-48E8-44A8-8F26-39773FF6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CAF8F-CBA1-460F-95FE-22E4712D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447E9-9943-44EC-8388-3F884A32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7699E5-BEB4-4FBD-B4F3-E6C982D7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8C242-0A51-4A94-BF72-AD1FB046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5F143A-E0A5-40A7-85AC-47440A88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8DEEFB-1B82-4B77-8EC1-419FA08B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C6C5E-87DC-48A5-8AB6-C5EB7225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40B6E-EB74-4897-95C3-DDE06013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1156DD-4330-47A1-9AD1-C2D062D7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5696B1-9C92-4B16-B39A-339ADD69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4A4B-FAAA-4BCA-AA4D-78078F77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B483D0-E8E6-4E9B-93E0-7B300363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EF8BCE-9AD2-4BD1-B978-2CC2C45C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17F58-BAC3-4E62-81EC-E09CE3B6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3881B-82DA-4C96-865C-4C23BAC9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17A23A-03F7-42F4-86EE-F0F8D1F8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A5FB77-5A30-4995-9E8E-7592942A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9E4227-02A7-45A4-AB56-D95E18BA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6BDB0-7C48-4920-8E93-DC89351B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BC913F-EBE9-4127-9D90-5464DCED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215503-E21D-4B60-9804-51606D21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4276-E8B4-4090-8F4C-994D0F33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4FDA18-3659-4B56-B49A-768EDE1A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DF5EDF-4573-4567-9B20-27475771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D9B127-D0A8-45DC-95B6-599BDDC4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73B45F-A58A-4FE0-9EAB-896C5185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8797EA-31F2-43CB-8A26-17717604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8B03B8-90F4-4B7A-B1F6-4BB1B38E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4E4211-D3DC-497C-842A-C240DAC7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04E9F-F057-4A0E-A6F5-927B4C9E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78A5AC-F09F-418C-AEDD-6F382E19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F765D0-E20B-431B-8D9E-F4A68225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1907-F44C-43CB-B79C-BD1DBF9A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E1DAE3-0854-40E2-BCC5-36BE67D9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4551CB-78D6-48BC-A3E9-8B51DB90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5D1255-3AAE-492A-B07A-3A61FAF7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2C101C-9891-4702-B049-CAB8C0F8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761A2B-2746-49EA-8A76-B4F42392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678588-6195-4A20-9CA4-4CF15CB1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20403-FB82-4C12-98EE-79B37427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C3D8DD-8D33-4BAA-9EBA-D2F8B184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66A7F3-EC5C-4A8C-B3F6-C01A266E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DAD4FF-2E92-4DC6-BE52-196603E1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6FFA-402A-4A67-98C8-BF87D681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5784CA-92FC-49D2-A419-30716A8E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89B976-9540-452F-93A3-120AD977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222898-808A-4003-9373-4F3039F9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436A40-A781-4DFE-B5CF-BB86A562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6FFFBA-BEDC-4921-8648-50F9050B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1E0F88-67EA-40C2-B74C-1868489E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3E3EB6-50AD-4A60-9359-659CF70F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8522B3-1A81-4A89-8AA7-8736FC19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D6BC78-A617-426F-9407-65CB69A4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D7B544-2E06-45EC-BB9D-AB0EA6D1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7361-F905-4305-8F11-ECCDEF58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B8A1-CAFC-4698-B083-2C608690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6EF02C-557A-494A-BFC0-D2AE6889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AB1623-08B2-4080-9962-3D015FAA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2DF2FA-2E16-400E-ACEC-FCB917B8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02A4B4-D2E5-40C3-8FB5-631C1B10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7430AF-94F7-4F20-A6A7-4CDA8DEB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F471F2-926F-4DFE-AA16-811360FE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0CA25E-E3D8-4A94-8476-31AD559B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2BC07F-B52E-4E2C-B0E9-C41F09A8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A7B467-4BB8-438A-BB1F-35E35AD8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19DAF8-039F-4CF6-A823-66A3B4C3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A6D5-8B14-424F-9171-13552227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B24123-E805-46F5-912C-695C5A21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10843C-F7F0-43D9-958F-851F9633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8FE2EC-1A45-49E4-BE60-0589C1A9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DD78D2-AE00-474E-AAD3-B2807587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782B7F-B02C-4274-BEA1-87306A2C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776113-7739-4DBD-AD0F-3FF9B9A8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44C825-D1B4-4C94-8269-1FD32EF5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0515A6-FB84-4CB0-8DAC-DE2F739C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527A62-5807-4CAA-9BE0-1E1E4C45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1610F4-23E2-4DE8-8A80-8CD4B8F5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F479-9F2F-4631-BBFC-26F5EE7B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CCF5FF-7728-4D9B-9DD2-C83B2879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F7B13A-9416-47F8-AB57-28972891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064ACA-F9DD-4EA3-B967-CCB94754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45AE8C-5C82-43C7-8766-80B3B3A3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52BCFB-48EB-437D-995F-9D1BF9C9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8D33AB-C034-4841-9F59-E3E9AE9A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F79363-065D-4E89-A229-7CCD3E9A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0B3C2D-3CCB-4980-B26B-189554E5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E72298-7215-4199-B331-52A50501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23E1-B378-43EE-AFFC-615198DA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A858-6536-4FDA-A290-4AD4190A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391D2-3D8C-4677-927C-FD1A3E4B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11B29-1D2A-42E1-B47B-E75111D2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95C51-0C55-4295-8D27-69105DD2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E287A-D40A-4878-AD6B-3B43F8B1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9B2B3-5D29-45E8-881E-289F1E14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2B4-CBE1-40E2-A0B8-A9DC4781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224A0-1D63-456E-90C8-1303BB03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FECB5-9A8E-427C-9375-59283F1A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84AA1-9041-49C5-BCC4-4642CCF0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6C0A8-792F-4E0B-B8FD-409735FC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CAD71-1D89-4AA9-8B11-5DA9BE7E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972BC-26F9-4396-932F-FA0F4594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F9840-2069-4E1D-B784-1C291CC7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2E43C-0A18-40E3-B504-D9BBFEEE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BC9B8-9A95-45B4-9C82-1CFEA30C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CCE03-CAD1-4AEA-8307-D5BB1E87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B0C4-A10A-4414-82A8-9D7C8265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A01AD-2B1D-4AF1-A77B-B6A0F119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DF3D2-D072-44B1-974B-E11575F0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11C00-7F39-498E-A93B-87ABDFC4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623FD-4A95-4B2C-95B3-5DC98199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1A3A9-A077-45B5-9286-F4F1DE7D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F4E5B-3C8E-401A-8DD9-C55C4388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ABD26-0C0D-4378-87F4-47382E2A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A92D0-E7F7-49D0-9592-9D6E0B65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1C7E1-92C8-458F-B364-A858B8C3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5B4B8-09BF-4E1F-B62C-FC7B9440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67BC-BCB9-4F81-9B81-08785945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FFFFD-49FB-440C-87A6-42B94071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95E0B-1F92-4490-8020-2FE754D1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8A4EB-31B3-4A25-B258-C2913233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8470F-EAE9-45BC-B152-371EAC87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21ECA-CF79-46E9-BA9B-4EBAFF37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839D1-546D-46EB-B22C-19C0FBE7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C9322-10DF-4ED4-A5B0-F7727294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B3D75-9ADB-442F-8B10-7013A796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FA9B4-B92D-41F8-AAB3-A2C5F55B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D6F34-A657-4892-ABD0-6D8A9FB2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BAD-79F5-4CEC-8614-BEE0EFB8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E03C2-AB0C-468D-BD35-498F8DEA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2CD81-1AA4-4CEA-8814-CCFD86DC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F46E4-7FBD-47F3-AE67-DB4D89AC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1D58F-DD1E-49DC-995A-A3C63B65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41F57-EB64-46C5-BF75-E6296383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F9BDD-210A-4A30-A5B4-F613DEEC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A18C6-D4F1-4A3E-9646-C21F58D2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28247-5BFC-4435-80D6-8EA8BA4E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72ED7-1FE2-46D6-834C-BB5137DB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70AD4-D521-41B6-A9DB-337AD86D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BA8D-3A3C-495D-893C-736AEC45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59701-FCF8-4AA7-B2D5-7DEF7158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366C3-067E-48F4-9769-38C50897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E755F-D903-4461-8226-B2D0FB1C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09992-AAC4-4DFA-89F0-47613588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864E4-1B3A-45C3-BF59-798B6993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36916-E687-4C8A-A30C-0D21DB63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41723-A834-4932-A15E-A059C0AF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8A27C-06C3-46A2-998C-A112E1C8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8611C-9C48-4FB3-A51F-A633E639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F89AA-9945-4BC0-9541-457CA886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5BA-BB56-43C7-979C-0471F8A4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E7A0C-F10D-48F7-92EA-8BDE4417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4FD5C-177D-496B-96B6-F2C7FB5D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E93DB-1897-4398-922E-7473D530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5DD75-9910-4499-B76C-1175BDDB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F77AA-C110-40DD-9A36-CDD63F22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C3493-EDC9-4718-A265-CEBEF51D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723F8-F96E-43B8-985B-C11C6B4F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3AEB7-0C0B-4480-803D-E6F3E522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59BDE-1712-4695-BAFA-F9F5F094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A8FBA-724E-44A7-9473-0E239DB4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43AA-3E70-418E-85A1-D2251EA3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A1AFA-B27E-4628-B9B1-5154A966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912C9-1534-4AE3-8343-C5A6AD78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912BF-AB76-496E-8804-750C30FF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59CCC-D58D-42DD-B0FB-74CC56E6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6566F-1216-4A93-ACBE-EC6A23B3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35DB2-649A-4C6A-8551-A889B0EA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80975-EF32-401A-891A-5085DC33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D9635-7221-4139-877A-061C1E50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7AFE5-2893-4FD4-8495-31B1F133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F1070-AE68-442C-A5FB-51D1A91F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05.xml"/><Relationship Id="rId10" Type="http://schemas.openxmlformats.org/officeDocument/2006/relationships/slideLayout" Target="../slideLayouts/slideLayout206.xml"/><Relationship Id="rId11" Type="http://schemas.openxmlformats.org/officeDocument/2006/relationships/slideLayout" Target="../slideLayouts/slideLayout207.xml"/><Relationship Id="rId12" Type="http://schemas.openxmlformats.org/officeDocument/2006/relationships/slideLayout" Target="../slideLayouts/slideLayout208.xml"/><Relationship Id="rId13" Type="http://schemas.openxmlformats.org/officeDocument/2006/relationships/slideLayout" Target="../slideLayouts/slideLayout209.xml"/><Relationship Id="rId14" Type="http://schemas.openxmlformats.org/officeDocument/2006/relationships/slideLayout" Target="../slideLayouts/slideLayout210.xml"/><Relationship Id="rId15" Type="http://schemas.openxmlformats.org/officeDocument/2006/relationships/slideLayout" Target="../slideLayouts/slideLayout211.xml"/><Relationship Id="rId16" Type="http://schemas.openxmlformats.org/officeDocument/2006/relationships/slideLayout" Target="../slideLayouts/slideLayout212.xml"/><Relationship Id="rId17" Type="http://schemas.openxmlformats.org/officeDocument/2006/relationships/slideLayout" Target="../slideLayouts/slideLayout213.xml"/><Relationship Id="rId18" Type="http://schemas.openxmlformats.org/officeDocument/2006/relationships/slideLayout" Target="../slideLayouts/slideLayout214.xml"/><Relationship Id="rId19" Type="http://schemas.openxmlformats.org/officeDocument/2006/relationships/slideLayout" Target="../slideLayouts/slideLayout215.xml"/><Relationship Id="rId20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94E8-3B82-4707-9C98-9CD50490ED5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83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84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87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C1E5-392C-4604-A6CD-447223C40A48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31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32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5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CD41-029E-44A0-9DD8-AA77F4B925F4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79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80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83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3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D359-1D60-4EC2-826B-6E56C8CB63AB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27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28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31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3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3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3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0D67-76EC-4647-ACCD-790FB0C6A1B7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75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76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79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4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382F-A592-4D3C-9A20-650A41BC37EC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723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724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727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4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4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4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6321-2E50-4A92-8AA8-A66B0100A189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771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772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775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4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4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4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B1BD-02AC-42E7-9287-E66C7B11D108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819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822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26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 type="dt" idx="4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 type="ftr" idx="5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 type="sldNum" idx="5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3FA4-07FD-4B65-86F1-9BCE4AB3263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870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873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77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880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883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87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5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5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5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91CD-1D86-4B66-AFC4-24B6F43F7DD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9"/>
    <p:sldLayoutId id="2147483871" r:id="rId10"/>
    <p:sldLayoutId id="2147483872" r:id="rId11"/>
    <p:sldLayoutId id="2147483873" r:id="rId12"/>
    <p:sldLayoutId id="2147483874" r:id="rId13"/>
    <p:sldLayoutId id="2147483875" r:id="rId14"/>
    <p:sldLayoutId id="2147483876" r:id="rId15"/>
    <p:sldLayoutId id="2147483877" r:id="rId16"/>
    <p:sldLayoutId id="2147483878" r:id="rId17"/>
    <p:sldLayoutId id="2147483879" r:id="rId18"/>
    <p:sldLayoutId id="2147483880" r:id="rId19"/>
    <p:sldLayoutId id="2147483881" r:id="rId20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93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934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938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5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5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5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BAA8-385F-4EA6-BE90-B19EEAB00D3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F89B-CB3C-4F48-8D61-A39EB2A16E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29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0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33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CA64-5DC5-42C1-B784-78463557722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80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84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4469-61C1-49B7-AF41-5939380830C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3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23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24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47F4-F24D-447E-A8B4-BC795A7C4E4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1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92" name="Rectangle 2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3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95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56DD-010C-4BAE-9339-425952F0E587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39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40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43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7082-35C7-4895-803D-38FE841D8364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87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88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91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8EE2-17E3-4960-8EBD-FEA56DD13436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Group 28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35" name="Group 26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6" name="Rectangle 3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4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21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39" name="AutoShape 12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AutoShape 20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24E3-B34C-4082-AEC1-3CCF496463BB}" type="slidenum"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92;&#1080;&#1079;&#1084;&#1080;&#1085;.pptx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smiles.rc-mir.com/smile.68299.html" TargetMode="External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8.wmf"/><Relationship Id="rId2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8.wmf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hyperlink" Target="http://smiles.rc-mir.com/smile.99419.html" TargetMode="External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9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2BC3-4B80-40E8-9123-9A753B192A57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826560" y="1268280"/>
            <a:ext cx="85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991" name="Прямоугольник 1" descr=""/>
          <p:cNvPicPr/>
          <p:nvPr/>
        </p:nvPicPr>
        <p:blipFill>
          <a:blip r:embed="rId2"/>
          <a:stretch/>
        </p:blipFill>
        <p:spPr>
          <a:xfrm>
            <a:off x="858960" y="1590840"/>
            <a:ext cx="8119800" cy="3431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8" name="Rectangle 25"/>
          <p:cNvSpPr/>
          <p:nvPr/>
        </p:nvSpPr>
        <p:spPr>
          <a:xfrm>
            <a:off x="0" y="2349360"/>
            <a:ext cx="9144000" cy="450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eccf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21" descr=""/>
          <p:cNvPicPr/>
          <p:nvPr/>
        </p:nvPicPr>
        <p:blipFill>
          <a:blip r:embed="rId2"/>
          <a:stretch/>
        </p:blipFill>
        <p:spPr>
          <a:xfrm>
            <a:off x="5651640" y="44280"/>
            <a:ext cx="3255840" cy="2497320"/>
          </a:xfrm>
          <a:prstGeom prst="rect">
            <a:avLst/>
          </a:prstGeom>
          <a:ln w="0">
            <a:noFill/>
          </a:ln>
        </p:spPr>
      </p:pic>
      <p:sp>
        <p:nvSpPr>
          <p:cNvPr id="1070" name="Номер слайда 47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C893-DC9F-4B99-B7C6-938CA52E7BAA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Picture 71" descr=""/>
          <p:cNvPicPr/>
          <p:nvPr/>
        </p:nvPicPr>
        <p:blipFill>
          <a:blip r:embed="rId3"/>
          <a:stretch/>
        </p:blipFill>
        <p:spPr>
          <a:xfrm>
            <a:off x="-34920" y="0"/>
            <a:ext cx="3059280" cy="2421000"/>
          </a:xfrm>
          <a:prstGeom prst="rect">
            <a:avLst/>
          </a:prstGeom>
          <a:ln w="0">
            <a:noFill/>
          </a:ln>
        </p:spPr>
      </p:pic>
      <p:sp>
        <p:nvSpPr>
          <p:cNvPr id="1072" name="Text Box 74"/>
          <p:cNvSpPr/>
          <p:nvPr/>
        </p:nvSpPr>
        <p:spPr>
          <a:xfrm>
            <a:off x="1311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75"/>
          <p:cNvSpPr/>
          <p:nvPr/>
        </p:nvSpPr>
        <p:spPr>
          <a:xfrm>
            <a:off x="1619280" y="620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78"/>
          <p:cNvSpPr/>
          <p:nvPr/>
        </p:nvSpPr>
        <p:spPr>
          <a:xfrm flipH="1">
            <a:off x="1116000" y="620640"/>
            <a:ext cx="503280" cy="792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Box 13"/>
          <p:cNvSpPr/>
          <p:nvPr/>
        </p:nvSpPr>
        <p:spPr>
          <a:xfrm>
            <a:off x="3203640" y="2421000"/>
            <a:ext cx="5672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ч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щ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рпич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яч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щ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ш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щ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ач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ч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Номер слайда 3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79A9-75A1-47C6-B117-C1309DF7CD3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78" name="Объект 4" descr=""/>
          <p:cNvPicPr/>
          <p:nvPr/>
        </p:nvPicPr>
        <p:blipFill>
          <a:blip r:embed="rId1"/>
          <a:stretch/>
        </p:blipFill>
        <p:spPr>
          <a:xfrm>
            <a:off x="12600" y="144360"/>
            <a:ext cx="3060720" cy="2421000"/>
          </a:xfrm>
          <a:prstGeom prst="rect">
            <a:avLst/>
          </a:prstGeom>
          <a:ln w="0">
            <a:noFill/>
          </a:ln>
        </p:spPr>
      </p:pic>
      <p:pic>
        <p:nvPicPr>
          <p:cNvPr id="1079" name="Рисунок 6" descr=""/>
          <p:cNvPicPr/>
          <p:nvPr/>
        </p:nvPicPr>
        <p:blipFill>
          <a:blip r:embed="rId2"/>
          <a:stretch/>
        </p:blipFill>
        <p:spPr>
          <a:xfrm>
            <a:off x="6083280" y="173160"/>
            <a:ext cx="3060720" cy="2420640"/>
          </a:xfrm>
          <a:prstGeom prst="rect">
            <a:avLst/>
          </a:prstGeom>
          <a:ln w="0">
            <a:noFill/>
          </a:ln>
        </p:spPr>
      </p:pic>
      <p:sp>
        <p:nvSpPr>
          <p:cNvPr id="1080" name="Минус 10"/>
          <p:cNvSpPr/>
          <p:nvPr/>
        </p:nvSpPr>
        <p:spPr>
          <a:xfrm rot="18763200">
            <a:off x="1128600" y="836280"/>
            <a:ext cx="576000" cy="287280"/>
          </a:xfrm>
          <a:custGeom>
            <a:avLst/>
            <a:gdLst/>
            <a:ahLst/>
            <a:rect l="l" t="t" r="r" b="b"/>
            <a:pathLst>
              <a:path w="576263" h="287338">
                <a:moveTo>
                  <a:pt x="76384" y="109878"/>
                </a:moveTo>
                <a:lnTo>
                  <a:pt x="499879" y="109878"/>
                </a:lnTo>
                <a:lnTo>
                  <a:pt x="499879" y="177460"/>
                </a:lnTo>
                <a:lnTo>
                  <a:pt x="76384" y="177460"/>
                </a:lnTo>
                <a:lnTo>
                  <a:pt x="76384" y="109878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Box 11"/>
          <p:cNvSpPr/>
          <p:nvPr/>
        </p:nvSpPr>
        <p:spPr>
          <a:xfrm>
            <a:off x="250920" y="2573280"/>
            <a:ext cx="3313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рп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я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р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Box 12"/>
          <p:cNvSpPr/>
          <p:nvPr/>
        </p:nvSpPr>
        <p:spPr>
          <a:xfrm>
            <a:off x="6064200" y="2565360"/>
            <a:ext cx="2540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мощ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щ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Box 2"/>
          <p:cNvSpPr/>
          <p:nvPr/>
        </p:nvSpPr>
        <p:spPr>
          <a:xfrm>
            <a:off x="2916360" y="414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cc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Номер слайда 7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DCBB-13A2-45EA-8DF7-1BC478ED5F34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i-main-pic" descr="http://www.ispa.ru/i/200808/S3V7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0" name="Номер слайда 1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7565-5425-4DAB-AD87-F103EB6AC602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3"/>
          <p:cNvSpPr/>
          <p:nvPr/>
        </p:nvSpPr>
        <p:spPr>
          <a:xfrm>
            <a:off x="395280" y="468360"/>
            <a:ext cx="874872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4400" spc="-1" strike="noStrike" u="sng">
                <a:solidFill>
                  <a:srgbClr val="9900ff"/>
                </a:solidFill>
                <a:uFillTx/>
                <a:latin typeface="Times New Roman"/>
                <a:ea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полноч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ь</a:t>
            </a:r>
            <a:r>
              <a:rPr b="1" i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на манеж вышел циркач и его доч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ь</a:t>
            </a:r>
            <a:r>
              <a:rPr b="1" i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. На нем был плащ . В руках он держал меч.  Скрипач играл марш . Вот морж поймал мяч. Стояла тиш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ь</a:t>
            </a:r>
            <a:r>
              <a:rPr b="1" i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4"/>
          <p:cNvSpPr/>
          <p:nvPr/>
        </p:nvSpPr>
        <p:spPr>
          <a:xfrm>
            <a:off x="3713040" y="227664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ж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Box 5"/>
          <p:cNvSpPr/>
          <p:nvPr/>
        </p:nvSpPr>
        <p:spPr>
          <a:xfrm>
            <a:off x="6017400" y="429264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ж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Box 7"/>
          <p:cNvSpPr/>
          <p:nvPr/>
        </p:nvSpPr>
        <p:spPr>
          <a:xfrm>
            <a:off x="2201040" y="14130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ж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2"/>
          <p:cNvSpPr/>
          <p:nvPr/>
        </p:nvSpPr>
        <p:spPr>
          <a:xfrm>
            <a:off x="7314120" y="36450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Box 13"/>
          <p:cNvSpPr/>
          <p:nvPr/>
        </p:nvSpPr>
        <p:spPr>
          <a:xfrm>
            <a:off x="833040" y="299736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Box 14"/>
          <p:cNvSpPr/>
          <p:nvPr/>
        </p:nvSpPr>
        <p:spPr>
          <a:xfrm>
            <a:off x="2633400" y="42210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15"/>
          <p:cNvSpPr/>
          <p:nvPr/>
        </p:nvSpPr>
        <p:spPr>
          <a:xfrm>
            <a:off x="1121400" y="227664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Box 16"/>
          <p:cNvSpPr/>
          <p:nvPr/>
        </p:nvSpPr>
        <p:spPr>
          <a:xfrm>
            <a:off x="4721760" y="162864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Box 17"/>
          <p:cNvSpPr/>
          <p:nvPr/>
        </p:nvSpPr>
        <p:spPr>
          <a:xfrm>
            <a:off x="7098480" y="299736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Box 18"/>
          <p:cNvSpPr/>
          <p:nvPr/>
        </p:nvSpPr>
        <p:spPr>
          <a:xfrm>
            <a:off x="4290120" y="36450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Box 19"/>
          <p:cNvSpPr/>
          <p:nvPr/>
        </p:nvSpPr>
        <p:spPr>
          <a:xfrm>
            <a:off x="1193400" y="36450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.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1" descr="0357cbbc37537993b6caa431f1a40c15">
            <a:hlinkClick r:id="rId2"/>
          </p:cNvPr>
          <p:cNvPicPr/>
          <p:nvPr/>
        </p:nvPicPr>
        <p:blipFill>
          <a:blip r:embed="rId3"/>
          <a:stretch/>
        </p:blipFill>
        <p:spPr>
          <a:xfrm rot="20782200">
            <a:off x="0" y="0"/>
            <a:ext cx="2016000" cy="1746360"/>
          </a:xfrm>
          <a:prstGeom prst="rect">
            <a:avLst/>
          </a:prstGeom>
          <a:ln w="0">
            <a:noFill/>
          </a:ln>
        </p:spPr>
      </p:pic>
      <p:sp>
        <p:nvSpPr>
          <p:cNvPr id="1105" name="Text Box 12"/>
          <p:cNvSpPr/>
          <p:nvPr/>
        </p:nvSpPr>
        <p:spPr>
          <a:xfrm>
            <a:off x="2050920" y="0"/>
            <a:ext cx="655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полни упр.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45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 заданию учебн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13"/>
          <p:cNvSpPr/>
          <p:nvPr/>
        </p:nvSpPr>
        <p:spPr>
          <a:xfrm>
            <a:off x="2916360" y="148428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14"/>
          <p:cNvSpPr/>
          <p:nvPr/>
        </p:nvSpPr>
        <p:spPr>
          <a:xfrm>
            <a:off x="250920" y="3429000"/>
            <a:ext cx="8569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15"/>
          <p:cNvSpPr/>
          <p:nvPr/>
        </p:nvSpPr>
        <p:spPr>
          <a:xfrm>
            <a:off x="179280" y="2205000"/>
            <a:ext cx="9396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Шалаш(м.р.), чиж(м.р.), мыш</a:t>
            </a:r>
            <a:r>
              <a:rPr b="1" lang="ru-RU" sz="4000" spc="-1" strike="noStrike">
                <a:solidFill>
                  <a:srgbClr val="cc0066"/>
                </a:solidFill>
                <a:latin typeface="Times New Roman"/>
              </a:rPr>
              <a:t>ь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4000" spc="-1" strike="noStrike">
                <a:solidFill>
                  <a:srgbClr val="cc0066"/>
                </a:solidFill>
                <a:latin typeface="Times New Roman"/>
              </a:rPr>
              <a:t>ж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р.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ёрш(м.р.), грач(м.р.), вещ</a:t>
            </a:r>
            <a:r>
              <a:rPr b="1" lang="ru-RU" sz="4000" spc="-1" strike="noStrike">
                <a:solidFill>
                  <a:srgbClr val="cc0066"/>
                </a:solidFill>
                <a:latin typeface="Times New Roman"/>
              </a:rPr>
              <a:t>ь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4000" spc="-1" strike="noStrike">
                <a:solidFill>
                  <a:srgbClr val="cc0066"/>
                </a:solidFill>
                <a:latin typeface="Times New Roman"/>
              </a:rPr>
              <a:t>ж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р.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лащ(м.р.), ноч</a:t>
            </a:r>
            <a:r>
              <a:rPr b="1" lang="ru-RU" sz="4000" spc="-1" strike="noStrike">
                <a:solidFill>
                  <a:srgbClr val="cc0066"/>
                </a:solidFill>
                <a:latin typeface="Times New Roman"/>
              </a:rPr>
              <a:t>ь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4000" spc="-1" strike="noStrike">
                <a:solidFill>
                  <a:srgbClr val="cc0066"/>
                </a:solidFill>
                <a:latin typeface="Times New Roman"/>
              </a:rPr>
              <a:t>ж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р.), мяч(м.р.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ож(м.р.), лещ(м.р.), камыш(м.р.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вощ(м.р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Номер слайда 7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8EA6-A7B1-4A31-ABE6-C82CAF653892}" type="slidenum">
              <a:rPr b="0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1" name="Номер слайда 5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3F8E-5A98-4538-8E55-B35E137D65FD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4"/>
          <p:cNvSpPr/>
          <p:nvPr/>
        </p:nvSpPr>
        <p:spPr>
          <a:xfrm>
            <a:off x="395280" y="16228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Закончите предло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337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егодня на уроке я узнал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337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амым интересным был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337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 получилось у меня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337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Что не получилось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Picture 10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4" name="Номер слайда 14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C79A-E4D0-40F3-A078-8BF85ED2AC88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Rectangle 13" descr=""/>
          <p:cNvPicPr/>
          <p:nvPr/>
        </p:nvPicPr>
        <p:blipFill>
          <a:blip r:embed="rId2"/>
          <a:stretch/>
        </p:blipFill>
        <p:spPr>
          <a:xfrm>
            <a:off x="390600" y="3743280"/>
            <a:ext cx="8240760" cy="256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6" name="Object 2"/>
          <p:cNvGraphicFramePr/>
          <p:nvPr/>
        </p:nvGraphicFramePr>
        <p:xfrm>
          <a:off x="3691080" y="1817640"/>
          <a:ext cx="1304640" cy="13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1080" y="1817640"/>
                    <a:ext cx="130464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8" name="Object 3"/>
          <p:cNvGraphicFramePr/>
          <p:nvPr/>
        </p:nvGraphicFramePr>
        <p:xfrm>
          <a:off x="7164360" y="3068640"/>
          <a:ext cx="800280" cy="799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9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64360" y="3068640"/>
                    <a:ext cx="8002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0" name="Object 4"/>
          <p:cNvGraphicFramePr/>
          <p:nvPr/>
        </p:nvGraphicFramePr>
        <p:xfrm>
          <a:off x="6300720" y="3068640"/>
          <a:ext cx="655560" cy="65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1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00720" y="3068640"/>
                    <a:ext cx="65556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2" name="Object 5"/>
          <p:cNvGraphicFramePr/>
          <p:nvPr/>
        </p:nvGraphicFramePr>
        <p:xfrm>
          <a:off x="5651640" y="3141720"/>
          <a:ext cx="439560" cy="439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3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51640" y="3141720"/>
                    <a:ext cx="4395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4" name="Object 6"/>
          <p:cNvGraphicFramePr/>
          <p:nvPr/>
        </p:nvGraphicFramePr>
        <p:xfrm>
          <a:off x="5148360" y="3213000"/>
          <a:ext cx="296640" cy="297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5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48360" y="3213000"/>
                    <a:ext cx="29664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6" name="Object 7"/>
          <p:cNvGraphicFramePr/>
          <p:nvPr/>
        </p:nvGraphicFramePr>
        <p:xfrm>
          <a:off x="4643280" y="3357720"/>
          <a:ext cx="225720" cy="225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27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43280" y="3357720"/>
                    <a:ext cx="22572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8" name="Object 8"/>
          <p:cNvGraphicFramePr/>
          <p:nvPr/>
        </p:nvGraphicFramePr>
        <p:xfrm>
          <a:off x="4211640" y="3429000"/>
          <a:ext cx="225360" cy="225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29" name="Object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11640" y="342900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0" name="Object 9"/>
          <p:cNvGraphicFramePr/>
          <p:nvPr/>
        </p:nvGraphicFramePr>
        <p:xfrm>
          <a:off x="3708360" y="3573360"/>
          <a:ext cx="225360" cy="225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31" name="Object 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08360" y="357336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2" name="Object 10"/>
          <p:cNvGraphicFramePr/>
          <p:nvPr/>
        </p:nvGraphicFramePr>
        <p:xfrm>
          <a:off x="3276720" y="3716280"/>
          <a:ext cx="225360" cy="225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33" name="Object 1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76720" y="371628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4" name="Rectangle 2"/>
          <p:cNvSpPr/>
          <p:nvPr/>
        </p:nvSpPr>
        <p:spPr>
          <a:xfrm>
            <a:off x="1371600" y="1511280"/>
            <a:ext cx="701676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0000cc"/>
                </a:solidFill>
                <a:uFillTx/>
                <a:latin typeface="Times New Roman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3" name="Номер слайда 9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737E-E98B-47E5-8489-CB9DBE7B1014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2916360" y="2526840"/>
            <a:ext cx="27352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995" name="TextBox 2"/>
          <p:cNvGrpSpPr/>
          <p:nvPr/>
        </p:nvGrpSpPr>
        <p:grpSpPr>
          <a:xfrm>
            <a:off x="3382920" y="189000"/>
            <a:ext cx="1079280" cy="2088720"/>
            <a:chOff x="3382920" y="189000"/>
            <a:chExt cx="1079280" cy="2088720"/>
          </a:xfrm>
        </p:grpSpPr>
        <p:pic>
          <p:nvPicPr>
            <p:cNvPr id="996" name="TextBox 2" descr=""/>
            <p:cNvPicPr/>
            <p:nvPr/>
          </p:nvPicPr>
          <p:blipFill>
            <a:blip r:embed="rId2"/>
            <a:stretch/>
          </p:blipFill>
          <p:spPr>
            <a:xfrm>
              <a:off x="3382920" y="189000"/>
              <a:ext cx="1078200" cy="20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"/>
            <p:cNvSpPr/>
            <p:nvPr/>
          </p:nvSpPr>
          <p:spPr>
            <a:xfrm>
              <a:off x="3384360" y="189000"/>
              <a:ext cx="107784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3000" spc="-1" strike="noStrike">
                  <a:solidFill>
                    <a:srgbClr val="7030a0"/>
                  </a:solidFill>
                  <a:latin typeface="Arial"/>
                </a:rPr>
                <a:t>Ж</a:t>
              </a:r>
              <a:endParaRPr b="0" lang="en-US" sz="1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TextBox 3"/>
          <p:cNvGrpSpPr/>
          <p:nvPr/>
        </p:nvGrpSpPr>
        <p:grpSpPr>
          <a:xfrm>
            <a:off x="6303960" y="2487600"/>
            <a:ext cx="1577880" cy="2088000"/>
            <a:chOff x="6303960" y="2487600"/>
            <a:chExt cx="1577880" cy="2088000"/>
          </a:xfrm>
        </p:grpSpPr>
        <p:pic>
          <p:nvPicPr>
            <p:cNvPr id="999" name="TextBox 3" descr=""/>
            <p:cNvPicPr/>
            <p:nvPr/>
          </p:nvPicPr>
          <p:blipFill>
            <a:blip r:embed="rId3"/>
            <a:stretch/>
          </p:blipFill>
          <p:spPr>
            <a:xfrm>
              <a:off x="6306840" y="2487600"/>
              <a:ext cx="1571400" cy="20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"/>
            <p:cNvSpPr/>
            <p:nvPr/>
          </p:nvSpPr>
          <p:spPr>
            <a:xfrm>
              <a:off x="6303960" y="2487600"/>
              <a:ext cx="157788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3000" spc="-1" strike="noStrike">
                  <a:solidFill>
                    <a:srgbClr val="7030a0"/>
                  </a:solidFill>
                  <a:latin typeface="Arial"/>
                </a:rPr>
                <a:t>Ч</a:t>
              </a:r>
              <a:endParaRPr b="0" lang="en-US" sz="1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TextBox 4"/>
          <p:cNvGrpSpPr/>
          <p:nvPr/>
        </p:nvGrpSpPr>
        <p:grpSpPr>
          <a:xfrm>
            <a:off x="469800" y="2487600"/>
            <a:ext cx="1077840" cy="2088000"/>
            <a:chOff x="469800" y="2487600"/>
            <a:chExt cx="1077840" cy="2088000"/>
          </a:xfrm>
        </p:grpSpPr>
        <p:pic>
          <p:nvPicPr>
            <p:cNvPr id="1002" name="TextBox 4" descr=""/>
            <p:cNvPicPr/>
            <p:nvPr/>
          </p:nvPicPr>
          <p:blipFill>
            <a:blip r:embed="rId4"/>
            <a:stretch/>
          </p:blipFill>
          <p:spPr>
            <a:xfrm>
              <a:off x="470880" y="2487600"/>
              <a:ext cx="1076400" cy="20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"/>
            <p:cNvSpPr/>
            <p:nvPr/>
          </p:nvSpPr>
          <p:spPr>
            <a:xfrm>
              <a:off x="469800" y="2487600"/>
              <a:ext cx="107784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3000" spc="-1" strike="noStrike">
                  <a:solidFill>
                    <a:srgbClr val="7030a0"/>
                  </a:solidFill>
                  <a:latin typeface="Arial"/>
                </a:rPr>
                <a:t>Щ</a:t>
              </a:r>
              <a:endParaRPr b="0" lang="en-US" sz="1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TextBox 5"/>
          <p:cNvGrpSpPr/>
          <p:nvPr/>
        </p:nvGrpSpPr>
        <p:grpSpPr>
          <a:xfrm>
            <a:off x="3382920" y="4438800"/>
            <a:ext cx="1513080" cy="2090160"/>
            <a:chOff x="3382920" y="4438800"/>
            <a:chExt cx="1513080" cy="2090160"/>
          </a:xfrm>
        </p:grpSpPr>
        <p:pic>
          <p:nvPicPr>
            <p:cNvPr id="1005" name="TextBox 5" descr=""/>
            <p:cNvPicPr/>
            <p:nvPr/>
          </p:nvPicPr>
          <p:blipFill>
            <a:blip r:embed="rId5"/>
            <a:stretch/>
          </p:blipFill>
          <p:spPr>
            <a:xfrm>
              <a:off x="3382920" y="4440240"/>
              <a:ext cx="1513080" cy="20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3384720" y="4438800"/>
              <a:ext cx="151128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3000" spc="-1" strike="noStrike">
                  <a:solidFill>
                    <a:srgbClr val="7030a0"/>
                  </a:solidFill>
                  <a:latin typeface="Arial"/>
                </a:rPr>
                <a:t>Ш</a:t>
              </a:r>
              <a:endParaRPr b="0" lang="en-US" sz="1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TextBox 6"/>
          <p:cNvGrpSpPr/>
          <p:nvPr/>
        </p:nvGrpSpPr>
        <p:grpSpPr>
          <a:xfrm>
            <a:off x="3773520" y="2494080"/>
            <a:ext cx="1158840" cy="2097000"/>
            <a:chOff x="3773520" y="2494080"/>
            <a:chExt cx="1158840" cy="2097000"/>
          </a:xfrm>
        </p:grpSpPr>
        <p:pic>
          <p:nvPicPr>
            <p:cNvPr id="1008" name="TextBox 6" descr=""/>
            <p:cNvPicPr/>
            <p:nvPr/>
          </p:nvPicPr>
          <p:blipFill>
            <a:blip r:embed="rId6"/>
            <a:stretch/>
          </p:blipFill>
          <p:spPr>
            <a:xfrm>
              <a:off x="3773520" y="2494080"/>
              <a:ext cx="1158840" cy="20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"/>
            <p:cNvSpPr/>
            <p:nvPr/>
          </p:nvSpPr>
          <p:spPr>
            <a:xfrm>
              <a:off x="3777120" y="2495520"/>
              <a:ext cx="115308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3000" spc="-1" strike="noStrike">
                  <a:solidFill>
                    <a:srgbClr val="7030a0"/>
                  </a:solidFill>
                  <a:latin typeface="Arial"/>
                </a:rPr>
                <a:t>К</a:t>
              </a:r>
              <a:endParaRPr b="0" lang="en-US" sz="1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1"/>
          <p:cNvSpPr/>
          <p:nvPr/>
        </p:nvSpPr>
        <p:spPr>
          <a:xfrm>
            <a:off x="2484360" y="333360"/>
            <a:ext cx="5759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7030a0"/>
                </a:solidFill>
                <a:latin typeface="Arial"/>
              </a:rPr>
              <a:t>в..р..б..и т..трад.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7030a0"/>
                </a:solidFill>
                <a:latin typeface="Arial"/>
              </a:rPr>
              <a:t>п..л..т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7030a0"/>
                </a:solidFill>
                <a:latin typeface="Arial"/>
              </a:rPr>
              <a:t>к..н..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7030a0"/>
                </a:solidFill>
                <a:latin typeface="Arial"/>
              </a:rPr>
              <a:t>кр..ват.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Picture 10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5280" y="4220640"/>
            <a:ext cx="8229600" cy="207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b8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Мягкий знак на конце существительных после шипящих»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15" name="Object 2"/>
          <p:cNvGraphicFramePr/>
          <p:nvPr/>
        </p:nvGraphicFramePr>
        <p:xfrm>
          <a:off x="7839000" y="2997360"/>
          <a:ext cx="1305000" cy="130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39000" y="2997360"/>
                    <a:ext cx="130500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7" name="Object 3"/>
          <p:cNvGraphicFramePr/>
          <p:nvPr/>
        </p:nvGraphicFramePr>
        <p:xfrm>
          <a:off x="7164360" y="3068640"/>
          <a:ext cx="80028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4360" y="3068640"/>
                    <a:ext cx="8002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9" name="Object 4"/>
          <p:cNvGraphicFramePr/>
          <p:nvPr/>
        </p:nvGraphicFramePr>
        <p:xfrm>
          <a:off x="6300720" y="3068640"/>
          <a:ext cx="655560" cy="655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00720" y="3068640"/>
                    <a:ext cx="65556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1" name="Object 5"/>
          <p:cNvGraphicFramePr/>
          <p:nvPr/>
        </p:nvGraphicFramePr>
        <p:xfrm>
          <a:off x="5651640" y="3141720"/>
          <a:ext cx="439560" cy="439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22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51640" y="3141720"/>
                    <a:ext cx="4395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3" name="Object 6"/>
          <p:cNvGraphicFramePr/>
          <p:nvPr/>
        </p:nvGraphicFramePr>
        <p:xfrm>
          <a:off x="5148360" y="3213000"/>
          <a:ext cx="296640" cy="297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24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48360" y="3213000"/>
                    <a:ext cx="29664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5" name="Object 7"/>
          <p:cNvGraphicFramePr/>
          <p:nvPr/>
        </p:nvGraphicFramePr>
        <p:xfrm>
          <a:off x="4643280" y="3357720"/>
          <a:ext cx="225720" cy="225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26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43280" y="3357720"/>
                    <a:ext cx="22572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7" name="Object 8"/>
          <p:cNvGraphicFramePr/>
          <p:nvPr/>
        </p:nvGraphicFramePr>
        <p:xfrm>
          <a:off x="4211640" y="3429000"/>
          <a:ext cx="225360" cy="225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28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211640" y="342900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9" name="Object 9"/>
          <p:cNvGraphicFramePr/>
          <p:nvPr/>
        </p:nvGraphicFramePr>
        <p:xfrm>
          <a:off x="3708360" y="3573360"/>
          <a:ext cx="225360" cy="225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30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708360" y="357336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1" name="Object 10"/>
          <p:cNvGraphicFramePr/>
          <p:nvPr/>
        </p:nvGraphicFramePr>
        <p:xfrm>
          <a:off x="3276720" y="3716280"/>
          <a:ext cx="225360" cy="225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032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276720" y="371628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3" name="Rectangle 2"/>
          <p:cNvSpPr/>
          <p:nvPr/>
        </p:nvSpPr>
        <p:spPr>
          <a:xfrm>
            <a:off x="1371600" y="1511280"/>
            <a:ext cx="640080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ff3300"/>
                </a:solidFill>
                <a:uFillTx/>
                <a:latin typeface="Times New Roman"/>
              </a:rPr>
              <a:t>ТЕМ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2"/>
          <p:cNvSpPr/>
          <p:nvPr/>
        </p:nvSpPr>
        <p:spPr>
          <a:xfrm>
            <a:off x="1847880" y="0"/>
            <a:ext cx="729612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Номер слайда 14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9F67-D856-4752-B1EB-DAAC10DFA44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7" descr=""/>
          <p:cNvPicPr/>
          <p:nvPr/>
        </p:nvPicPr>
        <p:blipFill>
          <a:blip r:embed="rId2"/>
          <a:stretch/>
        </p:blipFill>
        <p:spPr>
          <a:xfrm>
            <a:off x="468360" y="3068640"/>
            <a:ext cx="2695680" cy="1390680"/>
          </a:xfrm>
          <a:prstGeom prst="rect">
            <a:avLst/>
          </a:prstGeom>
          <a:ln w="0">
            <a:noFill/>
          </a:ln>
        </p:spPr>
      </p:pic>
      <p:sp>
        <p:nvSpPr>
          <p:cNvPr id="1038" name="Rectangle 8"/>
          <p:cNvSpPr/>
          <p:nvPr/>
        </p:nvSpPr>
        <p:spPr>
          <a:xfrm>
            <a:off x="2124000" y="1342800"/>
            <a:ext cx="65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ак запомним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—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род мужс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Гонит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ягкий Знак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метл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Женский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род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—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оборо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ягкий Знак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в друзья бер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Номер слайда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007A-7A56-4D4F-A58D-852E620F77D7}" type="slidenum">
              <a:rPr b="0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0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0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1" name="Text Box 7"/>
          <p:cNvSpPr/>
          <p:nvPr/>
        </p:nvSpPr>
        <p:spPr>
          <a:xfrm>
            <a:off x="1930320" y="11592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8"/>
          <p:cNvSpPr/>
          <p:nvPr/>
        </p:nvSpPr>
        <p:spPr>
          <a:xfrm>
            <a:off x="1619280" y="692280"/>
            <a:ext cx="8820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конце существитель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женского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да  после шипящи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пишется Ь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на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 конце существитель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мужского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да после шипящ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Ь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нак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не пиш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Номер слайда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E93F-D3EC-46F9-AD16-5FB7BD3A6F44}" type="slidenum">
              <a:rPr b="0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4B02-CCA9-49B2-BA47-8B8A36D07B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6" name=""/>
          <p:cNvGraphicFramePr/>
          <p:nvPr/>
        </p:nvGraphicFramePr>
        <p:xfrm>
          <a:off x="611280" y="1989000"/>
          <a:ext cx="8172360" cy="2657520"/>
        </p:xfrm>
        <a:graphic>
          <a:graphicData uri="http://schemas.openxmlformats.org/drawingml/2006/table">
            <a:tbl>
              <a:tblPr/>
              <a:tblGrid>
                <a:gridCol w="4086000"/>
                <a:gridCol w="4086360"/>
              </a:tblGrid>
              <a:tr h="39189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, Ш, Ч, Щ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Р. – Ь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Р. – ----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>
    <p:checke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5" descr="16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8" name="Номер слайда 14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078E-6203-49C1-8D70-1C8E74AF491D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9" name="AutoShape 8" descr=""/>
          <p:cNvPicPr/>
          <p:nvPr/>
        </p:nvPicPr>
        <p:blipFill>
          <a:blip r:embed="rId2"/>
          <a:stretch/>
        </p:blipFill>
        <p:spPr>
          <a:xfrm>
            <a:off x="1792440" y="4121280"/>
            <a:ext cx="6797520" cy="139536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7"/>
          <p:cNvSpPr/>
          <p:nvPr/>
        </p:nvSpPr>
        <p:spPr>
          <a:xfrm>
            <a:off x="468360" y="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Отгадай загадки, напиши отгад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Объясни их правопис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3"/>
          <p:cNvSpPr/>
          <p:nvPr/>
        </p:nvSpPr>
        <p:spPr>
          <a:xfrm>
            <a:off x="0" y="1268280"/>
            <a:ext cx="54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Под соснами, под ёлками лежит мешок с игол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4"/>
          <p:cNvSpPr/>
          <p:nvPr/>
        </p:nvSpPr>
        <p:spPr>
          <a:xfrm>
            <a:off x="0" y="2421000"/>
            <a:ext cx="5076720" cy="31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Драчун и забия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знает стра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ивет в вод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сит иглы на спин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5"/>
          <p:cNvSpPr/>
          <p:nvPr/>
        </p:nvSpPr>
        <p:spPr>
          <a:xfrm>
            <a:off x="0" y="4508640"/>
            <a:ext cx="766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Умный Ивашка, красная рубаш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де пройдет –коснёт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6"/>
          <p:cNvSpPr/>
          <p:nvPr/>
        </p:nvSpPr>
        <p:spPr>
          <a:xfrm>
            <a:off x="0" y="5589720"/>
            <a:ext cx="47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ам след остаё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7"/>
          <p:cNvSpPr/>
          <p:nvPr/>
        </p:nvSpPr>
        <p:spPr>
          <a:xfrm>
            <a:off x="6084720" y="14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Ё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9"/>
          <p:cNvSpPr/>
          <p:nvPr/>
        </p:nvSpPr>
        <p:spPr>
          <a:xfrm>
            <a:off x="5580000" y="2565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ёр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20"/>
          <p:cNvSpPr/>
          <p:nvPr/>
        </p:nvSpPr>
        <p:spPr>
          <a:xfrm>
            <a:off x="5364000" y="5445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аранда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Picture 22" descr="52700f890651dc92124920441652bb6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6000" y="1268280"/>
            <a:ext cx="1028520" cy="9813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24" descr="karanda34"/>
          <p:cNvPicPr/>
          <p:nvPr/>
        </p:nvPicPr>
        <p:blipFill>
          <a:blip r:embed="rId5"/>
          <a:stretch/>
        </p:blipFill>
        <p:spPr>
          <a:xfrm>
            <a:off x="7238880" y="5300640"/>
            <a:ext cx="1905120" cy="12384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26" descr="erch"/>
          <p:cNvPicPr/>
          <p:nvPr/>
        </p:nvPicPr>
        <p:blipFill>
          <a:blip r:embed="rId6"/>
          <a:stretch/>
        </p:blipFill>
        <p:spPr>
          <a:xfrm>
            <a:off x="6540480" y="2565360"/>
            <a:ext cx="2603520" cy="1274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0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5" descr="Картинка 52 из 64000"/>
          <p:cNvPicPr/>
          <p:nvPr/>
        </p:nvPicPr>
        <p:blipFill>
          <a:blip r:embed="rId2"/>
          <a:stretch/>
        </p:blipFill>
        <p:spPr>
          <a:xfrm>
            <a:off x="28440" y="214200"/>
            <a:ext cx="3967200" cy="26575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9" descr="Картинка 28 из 43528"/>
          <p:cNvPicPr/>
          <p:nvPr/>
        </p:nvPicPr>
        <p:blipFill>
          <a:blip r:embed="rId3"/>
          <a:stretch/>
        </p:blipFill>
        <p:spPr>
          <a:xfrm>
            <a:off x="4067280" y="0"/>
            <a:ext cx="2881080" cy="51577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1" descr="Картинка 19 из 63681"/>
          <p:cNvPicPr/>
          <p:nvPr/>
        </p:nvPicPr>
        <p:blipFill>
          <a:blip r:embed="rId4"/>
          <a:stretch/>
        </p:blipFill>
        <p:spPr>
          <a:xfrm>
            <a:off x="6516720" y="3573360"/>
            <a:ext cx="2627280" cy="32846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3" descr="Картинка 1 из 63507"/>
          <p:cNvPicPr/>
          <p:nvPr/>
        </p:nvPicPr>
        <p:blipFill>
          <a:blip r:embed="rId5"/>
          <a:stretch/>
        </p:blipFill>
        <p:spPr>
          <a:xfrm>
            <a:off x="28440" y="3787920"/>
            <a:ext cx="4038840" cy="3070080"/>
          </a:xfrm>
          <a:prstGeom prst="rect">
            <a:avLst/>
          </a:prstGeom>
          <a:ln w="0">
            <a:noFill/>
          </a:ln>
        </p:spPr>
      </p:pic>
      <p:sp>
        <p:nvSpPr>
          <p:cNvPr id="1066" name="Номер слайда 9"/>
          <p:cNvSpPr/>
          <p:nvPr/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93CE-74A9-4BDE-85A2-14D92C382DF6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9:20:06Z</dcterms:created>
  <dc:creator>Admin</dc:creator>
  <dc:description/>
  <dc:language>en-US</dc:language>
  <cp:lastModifiedBy>Пользователь</cp:lastModifiedBy>
  <dcterms:modified xsi:type="dcterms:W3CDTF">2016-05-10T13:05:53Z</dcterms:modified>
  <cp:revision>43</cp:revision>
  <dc:subject/>
  <dc:title>Слайд 1</dc:title>
</cp:coreProperties>
</file>