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7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1.gif" ContentType="image/gif"/>
  <Override PartName="/ppt/media/image30.jpeg" ContentType="image/jpeg"/>
  <Override PartName="/ppt/media/image15.png" ContentType="image/png"/>
  <Override PartName="/ppt/media/image6.png" ContentType="image/png"/>
  <Override PartName="/ppt/media/image11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6.png" ContentType="image/png"/>
  <Override PartName="/ppt/media/image17.png" ContentType="image/png"/>
  <Override PartName="/ppt/media/image26.jpeg" ContentType="image/jpeg"/>
  <Override PartName="/ppt/media/image19.png" ContentType="image/png"/>
  <Override PartName="/ppt/media/image18.wmf" ContentType="image/x-wmf"/>
  <Override PartName="/ppt/media/image20.png" ContentType="image/png"/>
  <Override PartName="/ppt/media/image28.jpeg" ContentType="image/jpeg"/>
  <Override PartName="/ppt/media/image21.gif" ContentType="image/gi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FB0D-A4EB-4326-B1AC-B8544F8FB3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AC2C-6642-4735-9FE8-D6531ACCD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412-747F-4C35-974B-408DE9EB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778B-6347-4D1C-93C2-E020896C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04E77-FACA-4A6D-A302-46B5DAF4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06A8C-1D68-41DB-B1CB-A49288C6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F14DD-241C-44F2-91B9-2A136CEF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0A087-7037-4246-9439-DFBB412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E5577-5527-4B13-8957-A2730CC8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41140-F078-4A52-B8DC-B97FFA0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CE974-0F0B-4A8B-B1CF-F861C2A4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FBFD1-22A6-42FE-949D-51FF7CCA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2EC24-0B13-45CA-A246-EA6475B3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26206-3E36-4A69-8022-5D604610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E08-4F70-4210-9B24-2180CDC1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876E9-B006-43BA-A28B-9ED2B0BB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FB153-9EE0-4400-9F18-15E825CD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2331E-951B-4EF0-9B1C-58761F87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D44BB-585B-464C-AB36-CA8528C8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3ABCE-7FF9-489E-AE11-29703F02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F2CC5-0DEF-4B4D-8E12-9FC4374E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83455-62CE-45C0-81A7-93FA9629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89B4D-32F8-4CD8-9291-2D53265B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62728-71EB-45E0-9B2E-E84F4EE7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7B375-A98E-4CFB-957F-3B7C74BF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8C5-8D60-4AE3-86C2-B676C4E7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1CBF5-0A83-4FD1-96FD-2BF57A31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12F1B-AD9C-4EE2-8469-66865A50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13479-1523-46B0-8C54-E79DFCCC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C2D33-BBA5-4A5C-BB50-EE00C918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8BD50-D85A-4AF6-84FA-298598A0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422DF-D8E4-4E06-A2C8-AF215677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3DF8D-7684-4405-B52C-B4DD13E8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6D50F-EACA-4AF1-B0D7-B8201F6E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C2396-97F9-4630-B913-F3C47010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91BAE-19A8-4AB3-8B6E-6EEFA322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127F-0CDF-421F-9DE2-5A0B25E9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DD037-030A-4707-B9B1-1574828D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03D24-5D21-44CB-8E64-3343C60C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4B2A4-E816-46EB-851E-38AA1B24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46849-4968-4820-8322-DAC4F6B9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31A1B-B979-41DB-BBBE-1466FFA8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056EB-46C6-47AA-A0D3-01CEEB9B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62C55-B115-4D2A-A99B-FC14EA28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A967D-F199-4669-A0B3-0C441F99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DDCEA-06DF-491E-8328-23B28506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6A2BB-D5B2-4225-BC27-65181E8C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9D99-BB0B-4F61-9DB9-A5F8A82C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017E5-A4B5-4BA3-915F-A7A04CE6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BACD5-F385-4852-AD57-3F9A427F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4B8D7-8AC7-44EE-BAEB-C3DE1EB2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C3BAA-3129-4124-885F-784BCDA8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C6E49-080B-43CF-86E9-50B2C637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B6EF0-11B9-4371-9113-F7F3A356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629C2-CFAF-4DD7-939E-11186527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01302-F2FA-4DAE-B4CD-CD0766CA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6681E-1DDC-48B5-80F2-7F683C88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1CEAF-46E9-4F0E-B43E-1611248A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37F7-D813-4883-AF6B-F89EE601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C0CB7-1A4B-4499-8E0D-4152BF0A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5455B-73D0-4BEB-A8A1-9B6F4F47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226AE-9F44-4FA5-B377-0BB137B6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E2D37-F4F6-4B6F-B309-22834BE7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E5D6C-42EC-4D8F-82B3-0474B22D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F3122-15C7-4519-9639-F368DAB3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008DB-56F6-4F4F-9028-CAF1AB1B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26475-E88D-466A-BCF5-AC3D30F8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15F71-572F-495A-88FD-3E146BFB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D2798-23FA-4A53-AD30-D8D84831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D605-C210-4B12-8C5D-FA7D1C29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4F712-08DE-4E39-A85A-A95B7CAF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989CA-D455-40DF-BBF0-2A995522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A626C-CDD4-425D-A1A8-3840F288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47A29-D4A6-4D98-8133-E4799998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71B9B-8DB3-49BD-BFDB-EA861934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4D1FC-70F2-4D25-B0B9-DD120CBA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50338-C805-4A63-81C3-73A69828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83136-5E05-4CED-82F3-1F362C48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5917E-6202-4224-8026-656D6F3B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FB62A-D392-4D0B-B7F1-C843A44F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4CFB-F2A7-4DCD-B91E-5E0F7486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4E19D-6D43-4C25-A801-3C66EBE3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6E2F5-B44B-44E1-A1DA-DF8E1E41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0E536F-D019-4FE7-87FF-B1571DAB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763CC-AD64-42B3-A766-41A45B79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1FF3B-C721-49E5-8771-BC11206D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7938F-D88B-4951-AAD1-98219FDC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4AC78-74AF-4FDB-909F-90865269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34100-76A4-4880-BB03-7FAF0B2B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7C254-8E6F-49E8-9789-532B1E7A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4999D-9F6D-40FC-8932-EDEEB355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5FF6-E480-4BDF-94C1-3CF78B04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B7D44-EDB8-4644-9A60-8EC9BF46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28855-8BAD-41A0-9C1A-B5B96381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5516C-942F-494D-AB06-B2E703E4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AC0BC-E215-4454-BF45-D6573151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16081-8098-4B2E-AEBA-877DC478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06948-3107-4981-9D3A-F16F1C42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CDA0B-435F-4380-B407-01197119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80A51-F494-4150-9740-3940C6F1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C0D0FB-3913-4777-9535-6EB7EBB2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E50D3-B8A1-4A01-A35D-33E76EA1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C8A0-0591-4386-9F13-75F284A3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B3C59-9B75-46B9-AB79-C3C98621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25237-55EE-4EF2-BE74-B627DED5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A5683-8F6A-41BC-8E86-91A2F6F5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A8418B-A38C-4D60-8523-BB27C5F4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DB8AB-9E0A-40C6-BAAF-0070D08C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D1A6E-F77C-479E-B5F2-A8192146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E1DFD-6B77-4208-86FA-7A43242C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E23572-3BDF-405D-BFB4-3C197275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1BDDD8-81B6-4786-941E-070D834D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64C46-0599-4D68-9DC8-5A603A8C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396-63FE-417E-9928-3B05CE05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C1D5-C0C1-4F2B-800E-AD36AFBF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2F3FFC-7C80-40EA-B82A-6950619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A8771-6F1A-4F3D-9DFD-9AE6FF2A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8EEBA9-7FC6-4C3B-BC9A-CF6685DE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E82DF6-BC0E-48BF-8B30-079B7E30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1EA10E-2DCA-4876-A3E4-FBF68E38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0B1B0-4BC9-400F-8986-6C5354F5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0C6DBC-2DCC-4AEE-A2FA-72602DD9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EF28C-E479-4A30-BB63-A4B60DEE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20EDD-4A7F-4EAD-98C7-1E41A24F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578CB-BF21-47B6-9B8A-D5F103FB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1750-082D-4500-8791-77C13C07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ADE06D-B90B-466D-BD18-B248E878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2D723-AC63-459C-B5AD-1FC5ED3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67662-15F0-464B-9499-16C30C29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5BC64C-D5E6-46C0-97A5-058818C4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1294A-48C9-4759-8D5B-327882F2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14F670-D2C5-46C7-8B2C-33335FC3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515F6-6CE9-43CE-9B4C-667F2DC7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AFD28F-DFAC-444F-9E15-1D2C661E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D95177-3DE3-437D-893E-DB524564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590E0-ADC1-4A9B-8E5B-5A0D1D89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D942-C1DD-4E87-AE3C-0E4436AE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028DD7-6346-4C08-BCB6-D3CD7EDF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352F16-EE23-418F-8E91-FED78DB1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5D3766-5B73-4933-BD4E-2F48A120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04F1B8-129E-4708-88E8-4AC73FA9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F81AA3-4046-459C-B880-9B67F15C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6B8EEE-853F-4207-BCB2-3660AF1B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A62818-0D5E-48BA-981F-634E0CD2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FB677E-64E0-4C05-8624-86F4BF6A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CE0ED-A5D5-4737-8475-12E012B1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9769-426E-4814-8EC3-C7655CF4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BE3A-389C-46E0-89A0-635518E8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CD9D-3B85-4D62-89F5-6B216E10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A3C0-DC5C-455D-8246-3E00E954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57B9-B601-46D9-8F7D-D024CBEE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222D-A74C-4238-B284-3FE5C7A8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238A-E2E5-4E1C-A636-98374878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BB0-5AE6-4A0A-BE7B-F0712E3D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72EC1-70DD-4206-A37C-4D0C1406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7FCC-E3D4-4737-8E4F-1B5B06EE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8E32C-9639-4060-A973-2042B215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E459D-8D85-486A-B508-56B7E4C9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1F5A-830A-4EC9-891C-95240579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21220-4EB5-41AE-9093-012A40B9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80EB-3F3F-4D99-81CA-BA3FA162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274D0-6679-442C-A781-3F084AF1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BAD21-F1AF-4EC1-951E-BC7405F6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E5420-2EEA-429A-BC62-1D5B5E9A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8DD-0242-4E3F-87B1-BE20FCFA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E134-2724-410F-A043-BD8E9D41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412A5-BDB2-45F5-8CF3-28D2A05B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DB47-CA87-47AA-90B6-6D4B4894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986D-2510-4438-A486-831DF90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53747-DB66-42CC-91E9-59797503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59173-34F6-4B96-9226-456C0100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2A014-E701-49A7-B190-94015BCE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98CAE-64AE-4D86-B75A-F2CF7F7D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6B76D-1FDD-43B5-8E4F-7B971B58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4C1D5-47A7-4483-8196-A8CDB66F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E7D-050D-481A-8C8D-E369443D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2E090-EFD1-4594-B3D4-0E25C085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E3440-FD12-40B9-865B-2DFDB8A3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15261-FC7A-446F-83A4-8DA4B4F7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C647D-43BA-49D0-BC78-0F244BC7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F0349-DFDA-42CC-BA2E-E97297D1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AC3D3-0A8F-48C7-96B6-6976C041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DD266-31C1-40D6-A66B-6294F7BF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367D9-6B8B-4EDD-AF4E-612432C0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093F7-D331-457E-A28B-2F3D8E92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89AE9-D0B7-4B52-9D72-BF9F63D4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843-504B-4A28-BCA5-39819E12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D504-5667-48ED-BD1C-DCA791AC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DC810-2DF3-4F06-90CF-019C68DB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E3626-1322-488C-AC8F-2660D626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64D1F-C4AC-4F3B-97B1-D589ED0D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C51DF-D33E-4C1D-9A9F-A6C50915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68957-5F00-4065-9D55-4C5C7D72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822C5-B762-4743-B529-37C7E4FE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71BE2-E0C3-4E14-81E7-AD70E212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43182-F27E-49C4-A94C-5337A0EE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2D05C-42A3-493F-8BEE-9D1957F9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6DF-05C9-4E8A-B06B-E8EB840D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F838F-2B9E-471C-B368-6E9057E0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A96BD-EACE-49FA-A364-3F66979E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36B33-62BC-46BE-B0B6-CD342A6C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C84A7-A223-4362-B7A4-DDFC3889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F1C35-0358-4580-B45F-6651CF3D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08BF8-B714-4E06-B144-577CD613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C70D-4945-46F3-97EA-66EC20B5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5A981-8C95-4B1D-A92B-04848876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F3C8A-9570-421B-B6AC-E568F1C9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8FEE4-E476-43E2-BECA-E80C52AA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DEF-BE51-45B0-8B8A-CBE25138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D7226-83B3-40B8-8389-686EC5C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09EC5-ED33-4DE8-A120-8296D7CF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347AB-5636-42DD-90B8-FC51E24B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B7207-4422-4C57-9BBB-4E3DBE78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C421B-53C1-4099-BF30-3670CE0C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7CE56-373B-4C27-B2C4-EAD10524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411FD-FD16-4F4C-8B6F-390DAFFE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354F5-BF25-4E37-922F-EEE3239F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2C8AA-F19A-4ED7-819C-8DE11D2D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FA7C1-1DEB-48DF-B136-53F80361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155-BB73-4FC9-90B1-BC4EDE2F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1E203-5478-41D7-802B-E1F7CB5F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340ED-D92F-4243-84AA-15F68D01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7EA32-CDB1-4961-ADC2-04582645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DDBE4-E5D7-4760-BB6B-A357301F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BBF7D-4887-4AB3-9CDD-C43BC2C7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2DF2F-9EAA-4320-B7BA-62F017B4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062BB-E7ED-420C-9E29-CEAA03A0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60BC8-4387-4784-B8E1-7A73DB72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1914C-706A-4769-B379-AD574EE7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24DE4-24A0-4BB2-9B24-28285CA5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05.xml"/><Relationship Id="rId10" Type="http://schemas.openxmlformats.org/officeDocument/2006/relationships/slideLayout" Target="../slideLayouts/slideLayout206.xml"/><Relationship Id="rId11" Type="http://schemas.openxmlformats.org/officeDocument/2006/relationships/slideLayout" Target="../slideLayouts/slideLayout207.xml"/><Relationship Id="rId12" Type="http://schemas.openxmlformats.org/officeDocument/2006/relationships/slideLayout" Target="../slideLayouts/slideLayout208.xml"/><Relationship Id="rId13" Type="http://schemas.openxmlformats.org/officeDocument/2006/relationships/slideLayout" Target="../slideLayouts/slideLayout209.xml"/><Relationship Id="rId14" Type="http://schemas.openxmlformats.org/officeDocument/2006/relationships/slideLayout" Target="../slideLayouts/slideLayout210.xml"/><Relationship Id="rId15" Type="http://schemas.openxmlformats.org/officeDocument/2006/relationships/slideLayout" Target="../slideLayouts/slideLayout211.xml"/><Relationship Id="rId16" Type="http://schemas.openxmlformats.org/officeDocument/2006/relationships/slideLayout" Target="../slideLayouts/slideLayout212.xml"/><Relationship Id="rId17" Type="http://schemas.openxmlformats.org/officeDocument/2006/relationships/slideLayout" Target="../slideLayouts/slideLayout213.xml"/><Relationship Id="rId18" Type="http://schemas.openxmlformats.org/officeDocument/2006/relationships/slideLayout" Target="../slideLayouts/slideLayout214.xml"/><Relationship Id="rId19" Type="http://schemas.openxmlformats.org/officeDocument/2006/relationships/slideLayout" Target="../slideLayouts/slideLayout215.xml"/><Relationship Id="rId20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5D7A-E379-46DE-90E5-DFC15EE3475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3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4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7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684A-063E-4E6C-9F2F-90C7C62CBCA6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31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32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5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51F6-0E39-4C96-BBEE-68C8F1C00C45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79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80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83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6B62-6442-4D71-858E-F99D3E5DC919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7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28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31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9F2D-6A2C-4D3B-9A17-B636F0EA51E6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75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76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79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34CE-51BD-4A1E-ADDA-242B738552EB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23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24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27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4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4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4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12DD-FBB1-4CBD-9F39-7ED41B4A7455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71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72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75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4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4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4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2204-D79E-4BCF-9CDD-4120EE287217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1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22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26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4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5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5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00AF-04C1-4D75-936E-C6C4711F5CD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870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873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77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80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83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87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5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5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5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B5D8-A04E-4462-AFAD-77DBCE6FD1D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9"/>
    <p:sldLayoutId id="2147483871" r:id="rId10"/>
    <p:sldLayoutId id="2147483872" r:id="rId11"/>
    <p:sldLayoutId id="2147483873" r:id="rId12"/>
    <p:sldLayoutId id="2147483874" r:id="rId13"/>
    <p:sldLayoutId id="2147483875" r:id="rId14"/>
    <p:sldLayoutId id="2147483876" r:id="rId15"/>
    <p:sldLayoutId id="2147483877" r:id="rId16"/>
    <p:sldLayoutId id="2147483878" r:id="rId17"/>
    <p:sldLayoutId id="2147483879" r:id="rId18"/>
    <p:sldLayoutId id="2147483880" r:id="rId19"/>
    <p:sldLayoutId id="2147483881" r:id="rId20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9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34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38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5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5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5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E21D-DC0F-4574-ACAB-FAB4C858503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97CC-E1D3-495F-AB80-B86314859C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9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0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3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B202-B9E0-469A-9720-1D04771088C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8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5C63-B44B-41F8-A3C5-A50D53BD9B3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23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24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E557-D342-42B8-8BDB-5B716863479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92" name="Rectangle 2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3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95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8CB8-9330-4E0E-9438-A9A56B0A7F32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9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40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43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60FD-C08E-4A9A-A98B-C8142F6442C3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7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8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91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263B-DA62-4EA3-820A-E735C1BCBBA3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5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6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9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6205-A8E9-4C41-81B9-5AD01489BDFA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2;&#1080;&#1079;&#1084;&#1080;&#1085;.pptx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smiles.rc-mir.com/smile.68299.html" TargetMode="Externa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8.wmf"/><Relationship Id="rId2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8.wmf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hyperlink" Target="http://smiles.rc-mir.com/smile.99419.html" TargetMode="External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9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CAC2-3B4D-4C86-AC37-EE95C498B6C1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26560" y="126828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991" name="Прямоугольник 1" descr=""/>
          <p:cNvPicPr/>
          <p:nvPr/>
        </p:nvPicPr>
        <p:blipFill>
          <a:blip r:embed="rId2"/>
          <a:stretch/>
        </p:blipFill>
        <p:spPr>
          <a:xfrm>
            <a:off x="858960" y="1590840"/>
            <a:ext cx="8119800" cy="3431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8" name="Rectangle 25"/>
          <p:cNvSpPr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eccf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1" descr=""/>
          <p:cNvPicPr/>
          <p:nvPr/>
        </p:nvPicPr>
        <p:blipFill>
          <a:blip r:embed="rId2"/>
          <a:stretch/>
        </p:blipFill>
        <p:spPr>
          <a:xfrm>
            <a:off x="5651640" y="44280"/>
            <a:ext cx="3255840" cy="2497320"/>
          </a:xfrm>
          <a:prstGeom prst="rect">
            <a:avLst/>
          </a:prstGeom>
          <a:ln w="0">
            <a:noFill/>
          </a:ln>
        </p:spPr>
      </p:pic>
      <p:sp>
        <p:nvSpPr>
          <p:cNvPr id="1070" name="Номер слайда 47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CC17-4241-4266-B83A-0A111E723E9A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71" descr=""/>
          <p:cNvPicPr/>
          <p:nvPr/>
        </p:nvPicPr>
        <p:blipFill>
          <a:blip r:embed="rId3"/>
          <a:stretch/>
        </p:blipFill>
        <p:spPr>
          <a:xfrm>
            <a:off x="-34920" y="0"/>
            <a:ext cx="3059280" cy="242100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74"/>
          <p:cNvSpPr/>
          <p:nvPr/>
        </p:nvSpPr>
        <p:spPr>
          <a:xfrm>
            <a:off x="1311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75"/>
          <p:cNvSpPr/>
          <p:nvPr/>
        </p:nvSpPr>
        <p:spPr>
          <a:xfrm>
            <a:off x="1619280" y="620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78"/>
          <p:cNvSpPr/>
          <p:nvPr/>
        </p:nvSpPr>
        <p:spPr>
          <a:xfrm flipH="1">
            <a:off x="1116000" y="620640"/>
            <a:ext cx="50328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13"/>
          <p:cNvSpPr/>
          <p:nvPr/>
        </p:nvSpPr>
        <p:spPr>
          <a:xfrm>
            <a:off x="3203640" y="2421000"/>
            <a:ext cx="567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щ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пи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щ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а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4ADC-05DB-41A4-8EEF-84336ACF225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8" name="Объект 4" descr=""/>
          <p:cNvPicPr/>
          <p:nvPr/>
        </p:nvPicPr>
        <p:blipFill>
          <a:blip r:embed="rId1"/>
          <a:stretch/>
        </p:blipFill>
        <p:spPr>
          <a:xfrm>
            <a:off x="12600" y="144360"/>
            <a:ext cx="3060720" cy="2421000"/>
          </a:xfrm>
          <a:prstGeom prst="rect">
            <a:avLst/>
          </a:prstGeom>
          <a:ln w="0">
            <a:noFill/>
          </a:ln>
        </p:spPr>
      </p:pic>
      <p:pic>
        <p:nvPicPr>
          <p:cNvPr id="1079" name="Рисунок 6" descr=""/>
          <p:cNvPicPr/>
          <p:nvPr/>
        </p:nvPicPr>
        <p:blipFill>
          <a:blip r:embed="rId2"/>
          <a:stretch/>
        </p:blipFill>
        <p:spPr>
          <a:xfrm>
            <a:off x="6083280" y="173160"/>
            <a:ext cx="3060720" cy="2420640"/>
          </a:xfrm>
          <a:prstGeom prst="rect">
            <a:avLst/>
          </a:prstGeom>
          <a:ln w="0">
            <a:noFill/>
          </a:ln>
        </p:spPr>
      </p:pic>
      <p:sp>
        <p:nvSpPr>
          <p:cNvPr id="1080" name="Минус 10"/>
          <p:cNvSpPr/>
          <p:nvPr/>
        </p:nvSpPr>
        <p:spPr>
          <a:xfrm rot="18763200">
            <a:off x="1128600" y="836280"/>
            <a:ext cx="576000" cy="287280"/>
          </a:xfrm>
          <a:custGeom>
            <a:avLst/>
            <a:gdLst/>
            <a:ahLst/>
            <a:rect l="l" t="t" r="r" b="b"/>
            <a:pathLst>
              <a:path w="576263" h="287338">
                <a:moveTo>
                  <a:pt x="76384" y="109878"/>
                </a:moveTo>
                <a:lnTo>
                  <a:pt x="499879" y="109878"/>
                </a:lnTo>
                <a:lnTo>
                  <a:pt x="499879" y="177460"/>
                </a:lnTo>
                <a:lnTo>
                  <a:pt x="76384" y="177460"/>
                </a:lnTo>
                <a:lnTo>
                  <a:pt x="76384" y="109878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11"/>
          <p:cNvSpPr/>
          <p:nvPr/>
        </p:nvSpPr>
        <p:spPr>
          <a:xfrm>
            <a:off x="250920" y="2573280"/>
            <a:ext cx="331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рп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12"/>
          <p:cNvSpPr/>
          <p:nvPr/>
        </p:nvSpPr>
        <p:spPr>
          <a:xfrm>
            <a:off x="6064200" y="2565360"/>
            <a:ext cx="2540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щ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2"/>
          <p:cNvSpPr/>
          <p:nvPr/>
        </p:nvSpPr>
        <p:spPr>
          <a:xfrm>
            <a:off x="2916360" y="41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cc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Номер слайда 7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2D05-626D-4F6B-B2FC-0B156AF0F2E6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i-main-pic" descr="http://www.ispa.ru/i/200808/S3V7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0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5715-41B0-4846-B38F-328256FC5AC7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3"/>
          <p:cNvSpPr/>
          <p:nvPr/>
        </p:nvSpPr>
        <p:spPr>
          <a:xfrm>
            <a:off x="395280" y="468360"/>
            <a:ext cx="874872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4400" spc="-1" strike="noStrike" u="sng">
                <a:solidFill>
                  <a:srgbClr val="9900ff"/>
                </a:solidFill>
                <a:uFillTx/>
                <a:latin typeface="Times New Roman"/>
                <a:ea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олноч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на манеж вышел циркач и его доч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. На нем был плащ . В руках он держал меч.  Скрипач играл марш . Вот морж поймал мяч. Стояла тиш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4"/>
          <p:cNvSpPr/>
          <p:nvPr/>
        </p:nvSpPr>
        <p:spPr>
          <a:xfrm>
            <a:off x="3713040" y="22766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ж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5"/>
          <p:cNvSpPr/>
          <p:nvPr/>
        </p:nvSpPr>
        <p:spPr>
          <a:xfrm>
            <a:off x="6017400" y="42926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ж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7"/>
          <p:cNvSpPr/>
          <p:nvPr/>
        </p:nvSpPr>
        <p:spPr>
          <a:xfrm>
            <a:off x="2201040" y="1413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ж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2"/>
          <p:cNvSpPr/>
          <p:nvPr/>
        </p:nvSpPr>
        <p:spPr>
          <a:xfrm>
            <a:off x="7314120" y="3645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13"/>
          <p:cNvSpPr/>
          <p:nvPr/>
        </p:nvSpPr>
        <p:spPr>
          <a:xfrm>
            <a:off x="833040" y="29973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14"/>
          <p:cNvSpPr/>
          <p:nvPr/>
        </p:nvSpPr>
        <p:spPr>
          <a:xfrm>
            <a:off x="2633400" y="4221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15"/>
          <p:cNvSpPr/>
          <p:nvPr/>
        </p:nvSpPr>
        <p:spPr>
          <a:xfrm>
            <a:off x="1121400" y="22766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16"/>
          <p:cNvSpPr/>
          <p:nvPr/>
        </p:nvSpPr>
        <p:spPr>
          <a:xfrm>
            <a:off x="4721760" y="16286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17"/>
          <p:cNvSpPr/>
          <p:nvPr/>
        </p:nvSpPr>
        <p:spPr>
          <a:xfrm>
            <a:off x="7098480" y="29973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18"/>
          <p:cNvSpPr/>
          <p:nvPr/>
        </p:nvSpPr>
        <p:spPr>
          <a:xfrm>
            <a:off x="4290120" y="3645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19"/>
          <p:cNvSpPr/>
          <p:nvPr/>
        </p:nvSpPr>
        <p:spPr>
          <a:xfrm>
            <a:off x="1193400" y="3645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1" descr="0357cbbc37537993b6caa431f1a40c15">
            <a:hlinkClick r:id="rId2"/>
          </p:cNvPr>
          <p:cNvPicPr/>
          <p:nvPr/>
        </p:nvPicPr>
        <p:blipFill>
          <a:blip r:embed="rId3"/>
          <a:stretch/>
        </p:blipFill>
        <p:spPr>
          <a:xfrm rot="20782200">
            <a:off x="0" y="0"/>
            <a:ext cx="2016000" cy="1746360"/>
          </a:xfrm>
          <a:prstGeom prst="rect">
            <a:avLst/>
          </a:prstGeom>
          <a:ln w="0">
            <a:noFill/>
          </a:ln>
        </p:spPr>
      </p:pic>
      <p:sp>
        <p:nvSpPr>
          <p:cNvPr id="1105" name="Text Box 12"/>
          <p:cNvSpPr/>
          <p:nvPr/>
        </p:nvSpPr>
        <p:spPr>
          <a:xfrm>
            <a:off x="2050920" y="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полни упр.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45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 заданию учеб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13"/>
          <p:cNvSpPr/>
          <p:nvPr/>
        </p:nvSpPr>
        <p:spPr>
          <a:xfrm>
            <a:off x="2916360" y="148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14"/>
          <p:cNvSpPr/>
          <p:nvPr/>
        </p:nvSpPr>
        <p:spPr>
          <a:xfrm>
            <a:off x="250920" y="3429000"/>
            <a:ext cx="85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15"/>
          <p:cNvSpPr/>
          <p:nvPr/>
        </p:nvSpPr>
        <p:spPr>
          <a:xfrm>
            <a:off x="179280" y="2205000"/>
            <a:ext cx="9396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Шалаш(м.р.), чиж(м.р.), мыш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ж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р.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ёрш(м.р.), грач(м.р.), вещ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ж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р.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ащ(м.р.), ноч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ж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р.), мяч(м.р.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ж(м.р.), лещ(м.р.), камыш(м.р.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вощ(м.р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BC9A-1158-4CC6-A7D2-0AC5CC467BD9}" type="slidenum">
              <a:rPr b="0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1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96D8-CB8D-48D7-A916-D7459C6E8F58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395280" y="16228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Закончите предло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337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годня на уроке я узнал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337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амым интересным был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337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 получилось у меня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337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 не получилось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10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4" name="Номер слайда 1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E042-DD55-4BEA-ABFC-CA9FE1A98026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Rectangle 13" descr=""/>
          <p:cNvPicPr/>
          <p:nvPr/>
        </p:nvPicPr>
        <p:blipFill>
          <a:blip r:embed="rId2"/>
          <a:stretch/>
        </p:blipFill>
        <p:spPr>
          <a:xfrm>
            <a:off x="390600" y="3743280"/>
            <a:ext cx="8240760" cy="25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6" name="Object 2"/>
          <p:cNvGraphicFramePr/>
          <p:nvPr/>
        </p:nvGraphicFramePr>
        <p:xfrm>
          <a:off x="3691080" y="1817640"/>
          <a:ext cx="1304640" cy="13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1817640"/>
                    <a:ext cx="130464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8" name="Object 3"/>
          <p:cNvGraphicFramePr/>
          <p:nvPr/>
        </p:nvGraphicFramePr>
        <p:xfrm>
          <a:off x="7164360" y="3068640"/>
          <a:ext cx="800280" cy="79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9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4360" y="306864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0" name="Object 4"/>
          <p:cNvGraphicFramePr/>
          <p:nvPr/>
        </p:nvGraphicFramePr>
        <p:xfrm>
          <a:off x="6300720" y="3068640"/>
          <a:ext cx="6555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1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3068640"/>
                    <a:ext cx="6555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Object 5"/>
          <p:cNvGraphicFramePr/>
          <p:nvPr/>
        </p:nvGraphicFramePr>
        <p:xfrm>
          <a:off x="5651640" y="3141720"/>
          <a:ext cx="439560" cy="439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3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314172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4" name="Object 6"/>
          <p:cNvGraphicFramePr/>
          <p:nvPr/>
        </p:nvGraphicFramePr>
        <p:xfrm>
          <a:off x="5148360" y="3213000"/>
          <a:ext cx="296640" cy="29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5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8360" y="3213000"/>
                    <a:ext cx="2966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6" name="Object 7"/>
          <p:cNvGraphicFramePr/>
          <p:nvPr/>
        </p:nvGraphicFramePr>
        <p:xfrm>
          <a:off x="4643280" y="3357720"/>
          <a:ext cx="225720" cy="22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7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43280" y="3357720"/>
                    <a:ext cx="2257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8" name="Object 8"/>
          <p:cNvGraphicFramePr/>
          <p:nvPr/>
        </p:nvGraphicFramePr>
        <p:xfrm>
          <a:off x="4211640" y="3429000"/>
          <a:ext cx="225360" cy="225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9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342900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0" name="Object 9"/>
          <p:cNvGraphicFramePr/>
          <p:nvPr/>
        </p:nvGraphicFramePr>
        <p:xfrm>
          <a:off x="3708360" y="3573360"/>
          <a:ext cx="225360" cy="225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1" name="Object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08360" y="35733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Object 10"/>
          <p:cNvGraphicFramePr/>
          <p:nvPr/>
        </p:nvGraphicFramePr>
        <p:xfrm>
          <a:off x="3276720" y="3716280"/>
          <a:ext cx="225360" cy="225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33" name="Object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37162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4" name="Rectangle 2"/>
          <p:cNvSpPr/>
          <p:nvPr/>
        </p:nvSpPr>
        <p:spPr>
          <a:xfrm>
            <a:off x="1371600" y="1511280"/>
            <a:ext cx="701676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00cc"/>
                </a:solidFill>
                <a:uFillTx/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3" name="Номер слайда 9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7E72-B7FE-43F7-9F3F-0038F24DF086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2916360" y="2526840"/>
            <a:ext cx="27352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995" name="TextBox 2"/>
          <p:cNvGrpSpPr/>
          <p:nvPr/>
        </p:nvGrpSpPr>
        <p:grpSpPr>
          <a:xfrm>
            <a:off x="3382920" y="189000"/>
            <a:ext cx="1079280" cy="2088720"/>
            <a:chOff x="3382920" y="189000"/>
            <a:chExt cx="1079280" cy="2088720"/>
          </a:xfrm>
        </p:grpSpPr>
        <p:pic>
          <p:nvPicPr>
            <p:cNvPr id="996" name="TextBox 2" descr=""/>
            <p:cNvPicPr/>
            <p:nvPr/>
          </p:nvPicPr>
          <p:blipFill>
            <a:blip r:embed="rId2"/>
            <a:stretch/>
          </p:blipFill>
          <p:spPr>
            <a:xfrm>
              <a:off x="3382920" y="189000"/>
              <a:ext cx="1078200" cy="20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>
              <a:off x="3384360" y="189000"/>
              <a:ext cx="10778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0" spc="-1" strike="noStrike">
                  <a:solidFill>
                    <a:srgbClr val="7030a0"/>
                  </a:solidFill>
                  <a:latin typeface="Arial"/>
                </a:rPr>
                <a:t>Ж</a:t>
              </a:r>
              <a:endParaRPr b="0" lang="en-US" sz="1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TextBox 3"/>
          <p:cNvGrpSpPr/>
          <p:nvPr/>
        </p:nvGrpSpPr>
        <p:grpSpPr>
          <a:xfrm>
            <a:off x="6303960" y="2487600"/>
            <a:ext cx="1577880" cy="2088000"/>
            <a:chOff x="6303960" y="2487600"/>
            <a:chExt cx="1577880" cy="2088000"/>
          </a:xfrm>
        </p:grpSpPr>
        <p:pic>
          <p:nvPicPr>
            <p:cNvPr id="999" name="TextBox 3" descr=""/>
            <p:cNvPicPr/>
            <p:nvPr/>
          </p:nvPicPr>
          <p:blipFill>
            <a:blip r:embed="rId3"/>
            <a:stretch/>
          </p:blipFill>
          <p:spPr>
            <a:xfrm>
              <a:off x="6306840" y="2487600"/>
              <a:ext cx="1571400" cy="20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6303960" y="2487600"/>
              <a:ext cx="15778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0" spc="-1" strike="noStrike">
                  <a:solidFill>
                    <a:srgbClr val="7030a0"/>
                  </a:solidFill>
                  <a:latin typeface="Arial"/>
                </a:rPr>
                <a:t>Ч</a:t>
              </a:r>
              <a:endParaRPr b="0" lang="en-US" sz="1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TextBox 4"/>
          <p:cNvGrpSpPr/>
          <p:nvPr/>
        </p:nvGrpSpPr>
        <p:grpSpPr>
          <a:xfrm>
            <a:off x="469800" y="2487600"/>
            <a:ext cx="1077840" cy="2088000"/>
            <a:chOff x="469800" y="2487600"/>
            <a:chExt cx="1077840" cy="2088000"/>
          </a:xfrm>
        </p:grpSpPr>
        <p:pic>
          <p:nvPicPr>
            <p:cNvPr id="1002" name="TextBox 4" descr=""/>
            <p:cNvPicPr/>
            <p:nvPr/>
          </p:nvPicPr>
          <p:blipFill>
            <a:blip r:embed="rId4"/>
            <a:stretch/>
          </p:blipFill>
          <p:spPr>
            <a:xfrm>
              <a:off x="470880" y="2487600"/>
              <a:ext cx="1076400" cy="20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469800" y="2487600"/>
              <a:ext cx="10778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0" spc="-1" strike="noStrike">
                  <a:solidFill>
                    <a:srgbClr val="7030a0"/>
                  </a:solidFill>
                  <a:latin typeface="Arial"/>
                </a:rPr>
                <a:t>Щ</a:t>
              </a:r>
              <a:endParaRPr b="0" lang="en-US" sz="1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TextBox 5"/>
          <p:cNvGrpSpPr/>
          <p:nvPr/>
        </p:nvGrpSpPr>
        <p:grpSpPr>
          <a:xfrm>
            <a:off x="3382920" y="4438800"/>
            <a:ext cx="1513080" cy="2090160"/>
            <a:chOff x="3382920" y="4438800"/>
            <a:chExt cx="1513080" cy="2090160"/>
          </a:xfrm>
        </p:grpSpPr>
        <p:pic>
          <p:nvPicPr>
            <p:cNvPr id="1005" name="TextBox 5" descr=""/>
            <p:cNvPicPr/>
            <p:nvPr/>
          </p:nvPicPr>
          <p:blipFill>
            <a:blip r:embed="rId5"/>
            <a:stretch/>
          </p:blipFill>
          <p:spPr>
            <a:xfrm>
              <a:off x="3382920" y="4440240"/>
              <a:ext cx="1513080" cy="20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3384720" y="4438800"/>
              <a:ext cx="15112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0" spc="-1" strike="noStrike">
                  <a:solidFill>
                    <a:srgbClr val="7030a0"/>
                  </a:solidFill>
                  <a:latin typeface="Arial"/>
                </a:rPr>
                <a:t>Ш</a:t>
              </a:r>
              <a:endParaRPr b="0" lang="en-US" sz="1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TextBox 6"/>
          <p:cNvGrpSpPr/>
          <p:nvPr/>
        </p:nvGrpSpPr>
        <p:grpSpPr>
          <a:xfrm>
            <a:off x="3773520" y="2494080"/>
            <a:ext cx="1158840" cy="2097000"/>
            <a:chOff x="3773520" y="2494080"/>
            <a:chExt cx="1158840" cy="2097000"/>
          </a:xfrm>
        </p:grpSpPr>
        <p:pic>
          <p:nvPicPr>
            <p:cNvPr id="1008" name="TextBox 6" descr=""/>
            <p:cNvPicPr/>
            <p:nvPr/>
          </p:nvPicPr>
          <p:blipFill>
            <a:blip r:embed="rId6"/>
            <a:stretch/>
          </p:blipFill>
          <p:spPr>
            <a:xfrm>
              <a:off x="3773520" y="2494080"/>
              <a:ext cx="115884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3777120" y="2495520"/>
              <a:ext cx="11530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0" spc="-1" strike="noStrike">
                  <a:solidFill>
                    <a:srgbClr val="7030a0"/>
                  </a:solidFill>
                  <a:latin typeface="Arial"/>
                </a:rPr>
                <a:t>К</a:t>
              </a:r>
              <a:endParaRPr b="0" lang="en-US" sz="1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1"/>
          <p:cNvSpPr/>
          <p:nvPr/>
        </p:nvSpPr>
        <p:spPr>
          <a:xfrm>
            <a:off x="2484360" y="333360"/>
            <a:ext cx="575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7030a0"/>
                </a:solidFill>
                <a:latin typeface="Arial"/>
              </a:rPr>
              <a:t>в..р..б..и т..трад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7030a0"/>
                </a:solidFill>
                <a:latin typeface="Arial"/>
              </a:rPr>
              <a:t>п..л..т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7030a0"/>
                </a:solidFill>
                <a:latin typeface="Arial"/>
              </a:rPr>
              <a:t>к..н..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7030a0"/>
                </a:solidFill>
                <a:latin typeface="Arial"/>
              </a:rPr>
              <a:t>кр..ват.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10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4220640"/>
            <a:ext cx="8229600" cy="207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b8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Мягкий знак на конце существительных после шипящих»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15" name="Object 2"/>
          <p:cNvGraphicFramePr/>
          <p:nvPr/>
        </p:nvGraphicFramePr>
        <p:xfrm>
          <a:off x="7839000" y="2997360"/>
          <a:ext cx="1305000" cy="13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39000" y="2997360"/>
                    <a:ext cx="13050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Object 3"/>
          <p:cNvGraphicFramePr/>
          <p:nvPr/>
        </p:nvGraphicFramePr>
        <p:xfrm>
          <a:off x="7164360" y="3068640"/>
          <a:ext cx="80028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306864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4"/>
          <p:cNvGraphicFramePr/>
          <p:nvPr/>
        </p:nvGraphicFramePr>
        <p:xfrm>
          <a:off x="6300720" y="3068640"/>
          <a:ext cx="655560" cy="65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3068640"/>
                    <a:ext cx="6555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1" name="Object 5"/>
          <p:cNvGraphicFramePr/>
          <p:nvPr/>
        </p:nvGraphicFramePr>
        <p:xfrm>
          <a:off x="5651640" y="3141720"/>
          <a:ext cx="439560" cy="43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14172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3" name="Object 6"/>
          <p:cNvGraphicFramePr/>
          <p:nvPr/>
        </p:nvGraphicFramePr>
        <p:xfrm>
          <a:off x="5148360" y="3213000"/>
          <a:ext cx="296640" cy="297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48360" y="3213000"/>
                    <a:ext cx="2966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5" name="Object 7"/>
          <p:cNvGraphicFramePr/>
          <p:nvPr/>
        </p:nvGraphicFramePr>
        <p:xfrm>
          <a:off x="4643280" y="3357720"/>
          <a:ext cx="225720" cy="22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2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43280" y="3357720"/>
                    <a:ext cx="2257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Object 8"/>
          <p:cNvGraphicFramePr/>
          <p:nvPr/>
        </p:nvGraphicFramePr>
        <p:xfrm>
          <a:off x="4211640" y="3429000"/>
          <a:ext cx="225360" cy="22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28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11640" y="342900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Object 9"/>
          <p:cNvGraphicFramePr/>
          <p:nvPr/>
        </p:nvGraphicFramePr>
        <p:xfrm>
          <a:off x="3708360" y="3573360"/>
          <a:ext cx="225360" cy="225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30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08360" y="35733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1" name="Object 10"/>
          <p:cNvGraphicFramePr/>
          <p:nvPr/>
        </p:nvGraphicFramePr>
        <p:xfrm>
          <a:off x="3276720" y="3716280"/>
          <a:ext cx="225360" cy="22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32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76720" y="37162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3" name="Rectangle 2"/>
          <p:cNvSpPr/>
          <p:nvPr/>
        </p:nvSpPr>
        <p:spPr>
          <a:xfrm>
            <a:off x="1371600" y="1511280"/>
            <a:ext cx="64008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ff3300"/>
                </a:solidFill>
                <a:uFillTx/>
                <a:latin typeface="Times New Roman"/>
              </a:rPr>
              <a:t>ТЕМ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2"/>
          <p:cNvSpPr/>
          <p:nvPr/>
        </p:nvSpPr>
        <p:spPr>
          <a:xfrm>
            <a:off x="1847880" y="0"/>
            <a:ext cx="729612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Номер слайда 1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B655-A368-4090-9D83-95A25E38F92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7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2695680" cy="1390680"/>
          </a:xfrm>
          <a:prstGeom prst="rect">
            <a:avLst/>
          </a:prstGeom>
          <a:ln w="0">
            <a:noFill/>
          </a:ln>
        </p:spPr>
      </p:pic>
      <p:sp>
        <p:nvSpPr>
          <p:cNvPr id="1038" name="Rectangle 8"/>
          <p:cNvSpPr/>
          <p:nvPr/>
        </p:nvSpPr>
        <p:spPr>
          <a:xfrm>
            <a:off x="2124000" y="1342800"/>
            <a:ext cx="65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ак запомним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—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род мужс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Гонит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ягкий Знак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метл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Женский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род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—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оборо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ягкий Знак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в друзья бер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C443-0BF1-433D-BB7E-63C089EBA956}" type="slidenum">
              <a:rPr b="0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0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1" name="Text Box 7"/>
          <p:cNvSpPr/>
          <p:nvPr/>
        </p:nvSpPr>
        <p:spPr>
          <a:xfrm>
            <a:off x="193032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8"/>
          <p:cNvSpPr/>
          <p:nvPr/>
        </p:nvSpPr>
        <p:spPr>
          <a:xfrm>
            <a:off x="1619280" y="692280"/>
            <a:ext cx="8820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конце существи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женского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да  после шипящ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ишется Ь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конце существи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мужского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да после шипящ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Ь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к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е пиш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BB72-BD98-4BA2-95FD-C44850ADD5CE}" type="slidenum">
              <a:rPr b="0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EC2E-FEEC-43CB-9FEB-0D7FAA152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611280" y="1989000"/>
          <a:ext cx="8172360" cy="2657520"/>
        </p:xfrm>
        <a:graphic>
          <a:graphicData uri="http://schemas.openxmlformats.org/drawingml/2006/table">
            <a:tbl>
              <a:tblPr/>
              <a:tblGrid>
                <a:gridCol w="4086000"/>
                <a:gridCol w="4086360"/>
              </a:tblGrid>
              <a:tr h="39189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, Ш, Ч, Щ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Р. – 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Р. – ---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5" descr="16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8" name="Номер слайда 1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A8A4-C73F-4974-94D6-FBEE35686BF9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AutoShape 8" descr=""/>
          <p:cNvPicPr/>
          <p:nvPr/>
        </p:nvPicPr>
        <p:blipFill>
          <a:blip r:embed="rId2"/>
          <a:stretch/>
        </p:blipFill>
        <p:spPr>
          <a:xfrm>
            <a:off x="1792440" y="4121280"/>
            <a:ext cx="6797520" cy="139536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7"/>
          <p:cNvSpPr/>
          <p:nvPr/>
        </p:nvSpPr>
        <p:spPr>
          <a:xfrm>
            <a:off x="468360" y="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Отгадай загадки, напиши отгад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Объясни их правопис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3"/>
          <p:cNvSpPr/>
          <p:nvPr/>
        </p:nvSpPr>
        <p:spPr>
          <a:xfrm>
            <a:off x="0" y="1268280"/>
            <a:ext cx="54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Под соснами, под ёлками лежит мешок с игол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4"/>
          <p:cNvSpPr/>
          <p:nvPr/>
        </p:nvSpPr>
        <p:spPr>
          <a:xfrm>
            <a:off x="0" y="2421000"/>
            <a:ext cx="507672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Драчун и забия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знает стра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вет в вод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сит иглы на спин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5"/>
          <p:cNvSpPr/>
          <p:nvPr/>
        </p:nvSpPr>
        <p:spPr>
          <a:xfrm>
            <a:off x="0" y="4508640"/>
            <a:ext cx="766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Умный Ивашка, красная руба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де пройдет –коснё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6"/>
          <p:cNvSpPr/>
          <p:nvPr/>
        </p:nvSpPr>
        <p:spPr>
          <a:xfrm>
            <a:off x="0" y="558972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м след остаё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7"/>
          <p:cNvSpPr/>
          <p:nvPr/>
        </p:nvSpPr>
        <p:spPr>
          <a:xfrm>
            <a:off x="6084720" y="14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Ё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9"/>
          <p:cNvSpPr/>
          <p:nvPr/>
        </p:nvSpPr>
        <p:spPr>
          <a:xfrm>
            <a:off x="5580000" y="2565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ёр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20"/>
          <p:cNvSpPr/>
          <p:nvPr/>
        </p:nvSpPr>
        <p:spPr>
          <a:xfrm>
            <a:off x="536400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ранд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Picture 22" descr="52700f890651dc92124920441652bb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1268280"/>
            <a:ext cx="1028520" cy="981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4" descr="karanda34"/>
          <p:cNvPicPr/>
          <p:nvPr/>
        </p:nvPicPr>
        <p:blipFill>
          <a:blip r:embed="rId5"/>
          <a:stretch/>
        </p:blipFill>
        <p:spPr>
          <a:xfrm>
            <a:off x="7238880" y="530064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26" descr="erch"/>
          <p:cNvPicPr/>
          <p:nvPr/>
        </p:nvPicPr>
        <p:blipFill>
          <a:blip r:embed="rId6"/>
          <a:stretch/>
        </p:blipFill>
        <p:spPr>
          <a:xfrm>
            <a:off x="6540480" y="2565360"/>
            <a:ext cx="2603520" cy="1274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5" descr="Картинка 52 из 64000"/>
          <p:cNvPicPr/>
          <p:nvPr/>
        </p:nvPicPr>
        <p:blipFill>
          <a:blip r:embed="rId2"/>
          <a:stretch/>
        </p:blipFill>
        <p:spPr>
          <a:xfrm>
            <a:off x="28440" y="214200"/>
            <a:ext cx="3967200" cy="26575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9" descr="Картинка 28 из 43528"/>
          <p:cNvPicPr/>
          <p:nvPr/>
        </p:nvPicPr>
        <p:blipFill>
          <a:blip r:embed="rId3"/>
          <a:stretch/>
        </p:blipFill>
        <p:spPr>
          <a:xfrm>
            <a:off x="4067280" y="0"/>
            <a:ext cx="2881080" cy="51577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1" descr="Картинка 19 из 63681"/>
          <p:cNvPicPr/>
          <p:nvPr/>
        </p:nvPicPr>
        <p:blipFill>
          <a:blip r:embed="rId4"/>
          <a:stretch/>
        </p:blipFill>
        <p:spPr>
          <a:xfrm>
            <a:off x="6516720" y="3573360"/>
            <a:ext cx="2627280" cy="32846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3" descr="Картинка 1 из 63507"/>
          <p:cNvPicPr/>
          <p:nvPr/>
        </p:nvPicPr>
        <p:blipFill>
          <a:blip r:embed="rId5"/>
          <a:stretch/>
        </p:blipFill>
        <p:spPr>
          <a:xfrm>
            <a:off x="28440" y="3787920"/>
            <a:ext cx="4038840" cy="3070080"/>
          </a:xfrm>
          <a:prstGeom prst="rect">
            <a:avLst/>
          </a:prstGeom>
          <a:ln w="0">
            <a:noFill/>
          </a:ln>
        </p:spPr>
      </p:pic>
      <p:sp>
        <p:nvSpPr>
          <p:cNvPr id="1066" name="Номер слайда 9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9AB1-1B74-485A-B004-3AE86D7875A3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9:20:06Z</dcterms:created>
  <dc:creator>Admin</dc:creator>
  <dc:description/>
  <dc:language>en-US</dc:language>
  <cp:lastModifiedBy>Пользователь</cp:lastModifiedBy>
  <dcterms:modified xsi:type="dcterms:W3CDTF">2016-05-10T13:05:53Z</dcterms:modified>
  <cp:revision>43</cp:revision>
  <dc:subject/>
  <dc:title>Слайд 1</dc:title>
</cp:coreProperties>
</file>