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935F-3B9F-49D4-B658-4F69C67C76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775C-AE83-4DFD-A949-1E936F5B5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415-091B-4C4F-9380-969A0DDE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982-8020-494F-9EF1-2568633A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A38-B32B-43E7-92CF-504959EC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C86-2F32-43D8-8FB1-7C1112E3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31A-5592-4A18-9C70-702FF569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541-2C43-46BB-BCFB-7FE1CF31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705-8D3B-4E67-99D2-5C486736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5FB-22AF-4BC0-B4A2-D65A365F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B8B-9BFA-4AC9-A7A5-43C98A01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15A-95E6-4590-B6D3-CE099304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F92-2D43-4E9E-B3F7-3048FEFF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0BF-139D-4CB2-9203-E7303DAC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CEF4-F7F6-402F-BF5D-1A1E79565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Классный час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Arial"/>
              </a:rPr>
              <a:t>«Я в мире, мир во м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тол"/>
          <p:cNvPicPr/>
          <p:nvPr/>
        </p:nvPicPr>
        <p:blipFill>
          <a:blip r:embed="rId1"/>
          <a:stretch/>
        </p:blipFill>
        <p:spPr>
          <a:xfrm>
            <a:off x="1116000" y="1844640"/>
            <a:ext cx="7056360" cy="4321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Толерантность – это уважение, приняти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онимание многообразия мир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т"/>
          <p:cNvPicPr/>
          <p:nvPr/>
        </p:nvPicPr>
        <p:blipFill>
          <a:blip r:embed="rId1"/>
          <a:stretch/>
        </p:blipFill>
        <p:spPr>
          <a:xfrm>
            <a:off x="755640" y="2276640"/>
            <a:ext cx="7704000" cy="3960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Определение толеран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английском языке- «готовность и способность воспринимать без протеста лич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о французском- «уважение свободы другого, его образа мыс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арабском- «прощение, снисхождение, сострадание, терп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персидском- «готовность к примире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9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Толер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СНИСХОДИ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ДОБ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УВ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ПО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МИРОЛЮ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СОСТР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ВЕЛИКОДУ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Н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СЕРДЕ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МИЛОСЕРД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ДУШЕ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БЛАГОСКЛО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ИСКР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ПРО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РАВЕНСТВ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ОТЗЫВ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Arial"/>
              </a:rPr>
              <a:t>ТЕРП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cc"/>
                </a:solidFill>
                <a:uFillTx/>
                <a:latin typeface="Arial"/>
              </a:rPr>
              <a:t>Интолер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ЛОРА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ЭГО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ЕССЕРДЕ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БЕСТАК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ХВАСТО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ГРУБ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ЗНА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СПЫЛЬ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АЗД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КОНФЛ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КУП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Л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ВИ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ЕТЕРП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ЖЕСТО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ХАМ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Определение интолера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33"/>
                </a:solidFill>
                <a:uFillTx/>
                <a:latin typeface="Arial"/>
              </a:rPr>
              <a:t>Интолерантность</a:t>
            </a: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неприятие другого человека, негативность к существованию через конфликтное, агрессивное пове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692360" y="3213000"/>
            <a:ext cx="4967280" cy="3168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ороны черные и только одна белая, но им хорошо вместе.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Они весело танцуют и поют, и совсем неважно кто и какого цве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oler1"/>
          <p:cNvPicPr/>
          <p:nvPr/>
        </p:nvPicPr>
        <p:blipFill>
          <a:blip r:embed="rId1"/>
          <a:stretch/>
        </p:blipFill>
        <p:spPr>
          <a:xfrm>
            <a:off x="1403280" y="2133720"/>
            <a:ext cx="635004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олерантность</a:t>
            </a: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– это благосклонность и уважение к  другом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4e92d28f3ece72fc607950d8c9430e8c"/>
          <p:cNvPicPr/>
          <p:nvPr/>
        </p:nvPicPr>
        <p:blipFill>
          <a:blip r:embed="rId1"/>
          <a:stretch/>
        </p:blipFill>
        <p:spPr>
          <a:xfrm>
            <a:off x="1476360" y="1773360"/>
            <a:ext cx="6551640" cy="410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-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 Что узнали новог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99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Что такое толерантность в вашем понима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99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Важно ли быть толерантным человеком?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Lyda</dc:creator>
  <dc:description/>
  <dc:language>en-US</dc:language>
  <cp:lastModifiedBy>Admin</cp:lastModifiedBy>
  <dcterms:modified xsi:type="dcterms:W3CDTF">2016-11-15T18:56:28Z</dcterms:modified>
  <cp:revision>13</cp:revision>
  <dc:subject/>
  <dc:title>Беседа о толерантности  для учащихся 1-2 класса.</dc:title>
</cp:coreProperties>
</file>