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9F6-FBA4-472E-8C3A-482C0CDA2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81E9-1BF6-49EA-BFDD-8265BDF80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C32-335D-407C-9643-EB9E1184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A0D-C8A9-4190-BE89-E761C4D5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946-69EA-4FBF-92FB-5ACF273F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38E-71E5-4274-840A-0047D58E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103-33AF-43AB-BCC4-4C7C013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8F8-3210-4201-9563-D0BB381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607-C2A3-45CC-B483-1B1050F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625-EB0B-45C9-A754-4259B47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674-A8E3-48BB-93EE-198B4035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85B-F81B-45B9-884A-3A5DDAB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41D-91C4-4863-8FC4-44B468B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674-1252-43B3-9890-D0F3C20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157-9408-4EBA-A9E0-4A6A7EFF4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Классный час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«Я в мире, мир во м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ол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32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олерантность – это уважение, принят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нимание многообразия ми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т"/>
          <p:cNvPicPr/>
          <p:nvPr/>
        </p:nvPicPr>
        <p:blipFill>
          <a:blip r:embed="rId1"/>
          <a:stretch/>
        </p:blipFill>
        <p:spPr>
          <a:xfrm>
            <a:off x="755640" y="2276640"/>
            <a:ext cx="7704000" cy="396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Определение толеран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английском языке- «готовность и способность воспринимать без протеста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 французском- «уважение свободы другого, его образа мыс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арабском- «прощение, снисхождение, сострадание, терп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персидском- «готовность к примире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НИСХОД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ПО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МИРОЛЮ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ЕЛИКОДУ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ЕРД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МИЛОСЕР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ДУШЕ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БЛАГОСКЛО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ИСКР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ПР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РАВЕНСТВ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ОТЗЫВ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ТЕРП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Ин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ЛОРА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ЕССЕРД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ЕСТАК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ВАСТО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РУ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ЗНА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СПЫЛЬ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НФЛ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У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В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Е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ЖЕСТО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АМ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пределение ин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Arial"/>
              </a:rPr>
              <a:t>Интолерантность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еприятие другого человека, негативность к существованию через конфликтное, агрессивно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92360" y="3213000"/>
            <a:ext cx="4967280" cy="31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роны черные и только одна белая, но им хорошо вместе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Они весело танцуют и поют, и совсем неважно кто и какого цв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oler1"/>
          <p:cNvPicPr/>
          <p:nvPr/>
        </p:nvPicPr>
        <p:blipFill>
          <a:blip r:embed="rId1"/>
          <a:stretch/>
        </p:blipFill>
        <p:spPr>
          <a:xfrm>
            <a:off x="1403280" y="2133720"/>
            <a:ext cx="635004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– это благосклонность и уважение к  друг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e92d28f3ece72fc607950d8c9430e8c"/>
          <p:cNvPicPr/>
          <p:nvPr/>
        </p:nvPicPr>
        <p:blipFill>
          <a:blip r:embed="rId1"/>
          <a:stretch/>
        </p:blipFill>
        <p:spPr>
          <a:xfrm>
            <a:off x="1476360" y="1773360"/>
            <a:ext cx="6551640" cy="410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Что узнали нов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Что такое толерантность в вашем пони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ажно ли быть толерантным человеком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Admin</cp:lastModifiedBy>
  <dcterms:modified xsi:type="dcterms:W3CDTF">2016-11-15T18:56:28Z</dcterms:modified>
  <cp:revision>13</cp:revision>
  <dc:subject/>
  <dc:title>Беседа о толерантности  для учащихся 1-2 класса.</dc:title>
</cp:coreProperties>
</file>