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3FB-2290-47BF-9FD7-2758549C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D1EB-A768-4E99-B854-0A8560C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E73-DB6C-4949-95D8-63938665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070-7945-4415-91BF-D70DFE96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AB2-3060-4FC6-9903-C818A598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53D-5776-4610-8EBF-5EC4525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5DE-EC0B-48D6-8AD9-6FE2250B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022-7BC5-46F6-BF80-AAA9409B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B45-F193-461F-B415-E4C820A7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97F-7E03-41EC-A76D-BAF709D3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7AE-962E-49DF-A783-5210478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AC3-8A60-4C7D-A71D-EA208C42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22EE-FA0F-4886-AEC0-AE548E751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 rot="21366600">
            <a:off x="1816200" y="1219320"/>
            <a:ext cx="607716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я по МДК.02.01. Управление персон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ьности  51.02.03. Библиотек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- библиотек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Аттестация библиотечных работников как средство формирования квалифицированных кадров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974960" y="274680"/>
            <a:ext cx="548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янский филиал ОБП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КИЙ  КОЛЛЕДЖ  КУЛЬТУР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924360" y="6072120"/>
            <a:ext cx="48736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ель:   Малахова Елена Вячеславовна, преподав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468360" y="333360"/>
            <a:ext cx="819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роведения аттестации работников, работодатель должен утвердить локальный нормативный акт (как вариант - положение), определяющ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ядок, сроки и формы проведения аттес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 аттестационной комиссии и порядок ее соз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егории аттестуемых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егории работников, не подлежащих аттес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ки работников (систему определения соответствия работника занимаемой должности путем проставления соответствующих оценок и/или баллов; установление количества / процента правильных ответов, определяющих успешное прохождение работником аттестац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ы решений, принимаемых по результатам аттестации и порядок их приня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ые положения, способствующие, по мнению работодателя, наиболее эффективному проведению данной процед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2"/>
          <p:cNvSpPr/>
          <p:nvPr/>
        </p:nvSpPr>
        <p:spPr>
          <a:xfrm>
            <a:off x="468360" y="333360"/>
            <a:ext cx="45720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локальным нормативным актом, определяющим порядок проведения аттестации, работника необходимо ознакомить под роспись. Следует иметь в виду, что в случае возникновения трудового спора работодатель обязан будет предоставить доказательства того, что работник был поставлен в известность о возможности оценки результатов его работы и его личных деловых качеств в форме аттестации, и что по результатам аттестации может последовать увольнение раб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s://avatars.mds.yandex.net/i?id=37d6ea3fdad106bc28382afee0266fbe-5275502-images-thumbs&amp;ref=rim&amp;n=33&amp;w=150&amp;h=150"/>
          <p:cNvPicPr/>
          <p:nvPr/>
        </p:nvPicPr>
        <p:blipFill>
          <a:blip r:embed="rId1"/>
          <a:stretch/>
        </p:blipFill>
        <p:spPr>
          <a:xfrm>
            <a:off x="5580000" y="338040"/>
            <a:ext cx="3095640" cy="288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s://i.ytimg.com/vi/HRuMiqR4PvI/maxresdefault.jpg"/>
          <p:cNvPicPr/>
          <p:nvPr/>
        </p:nvPicPr>
        <p:blipFill>
          <a:blip r:embed="rId2"/>
          <a:srcRect l="26775" t="38136" r="31884" b="4115"/>
          <a:stretch/>
        </p:blipFill>
        <p:spPr>
          <a:xfrm>
            <a:off x="5580000" y="3670200"/>
            <a:ext cx="3095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333360" y="189000"/>
            <a:ext cx="847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осуществления вышеуказанных действий, работодатель, руководствуясь локальным нормативным актом, должен утвердить график проведения аттестации и довести его до сведения каждого аттестуемого работника не позднее, чем за месяц до начала аттестации. В графике следует указать дату и время проведения аттестации, а также дату представления в аттестационную комиссию всех необходимых документов. Необходимо зафиксировать обязанность работника проходить аттестацию и в трудовом договоре. В случае отказа работника от участия в аттестации, данная норма трудового договора будет являться не только дополнительным доказательством совершения работником проступка, но и дополнительным основанием для привлечения работника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s://shareslide.ru/img/thumbs/cf27e1491d8e6d681efbe0e0c6d28cf4-800x.jpg"/>
          <p:cNvPicPr/>
          <p:nvPr/>
        </p:nvPicPr>
        <p:blipFill>
          <a:blip r:embed="rId1"/>
          <a:srcRect l="4091" t="77608" r="4242" b="3922"/>
          <a:stretch/>
        </p:blipFill>
        <p:spPr>
          <a:xfrm>
            <a:off x="322200" y="5445000"/>
            <a:ext cx="8477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250920" y="115920"/>
            <a:ext cx="8497800" cy="67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ы проведения аттес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Широкое ознакомление работников о порядке и методике проведения аттестации. 2. Демократизм предполагает участие общественности в проведении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Результативность - обязательное и оперативное принятие действенных мер по результатам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Объективность аттестации проявляется в принятии решения аттестационной комиссией большинством голосов, в возможности обжалования решения коми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 Обязательное сообщение результатов работн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. Оценку нельзя соединять с крит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Нельзя говорить сотруднику одновременно о результатах аттестации и об оплате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 обязательном порядке нужно объяснить сотрудникам, что аттестация кадров — это не карательный инструмент для увольнения неугодных или «неправильных» специалистов; она призвана помочь не только работодателям, но и самим сотрудникам найти слабые места в своей профессиональной подготовке и уст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95280" y="189000"/>
            <a:ext cx="835344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ктивная оценка сотрудников основывается на решении таких основных зада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хождение объективных критериев оценки и факторов, конкретизирующих общие крите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вление методов количественного выражения каждого фактора и их совокупности через те или иные показ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тимизация процедуры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основным критериям оценки специалистов относ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ую компетент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ую а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, качество и оперативность выполнения должностных обязанностей или поручаем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ическую совместимость в коллекти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овую дисципли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жность и трудоемкость выполняем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ственную а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539640" y="333360"/>
            <a:ext cx="4572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аттестации оцениваются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профессиональных зн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ость производ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остные и иные значимые ка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ветствие оплаты труда результатам производ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ый клад в совершенствование производственных процессов и реконструкцию рабочего места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ttps://abrakadabra.fun/uploads/posts/2022-01/1643004252_20-abrakadabra-fun-p-bibliotekar-risunok-64.jpg"/>
          <p:cNvPicPr/>
          <p:nvPr/>
        </p:nvPicPr>
        <p:blipFill>
          <a:blip r:embed="rId1"/>
          <a:stretch/>
        </p:blipFill>
        <p:spPr>
          <a:xfrm>
            <a:off x="5364000" y="404640"/>
            <a:ext cx="322596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611280" y="260280"/>
            <a:ext cx="79214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рофессиональной компетентности сотрудников производят по следующим фактор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специального образ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 работы в данной долж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ыт работы по специа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общих и специальных знаний в системе повышения квалиф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ж работы в данной организации, который отражает знание сотрудником конкретных особенностей и условий производ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иодичность повышения квалификации, так как полученная специалистом информация быстро устаревает и должна обновляться не менее чем один раз в пять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s://shkola13shhekino-r71.gosweb.gosuslugi.ru/netcat_files/106/377/1.jpg"/>
          <p:cNvPicPr/>
          <p:nvPr/>
        </p:nvPicPr>
        <p:blipFill>
          <a:blip r:embed="rId1"/>
          <a:srcRect l="0" t="0" r="-5709" b="68487"/>
          <a:stretch/>
        </p:blipFill>
        <p:spPr>
          <a:xfrm>
            <a:off x="2050920" y="5338800"/>
            <a:ext cx="5535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330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2556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prezentacii.org/upload/cloud/19/05/150666/images/screen4.jpg"/>
          <p:cNvPicPr/>
          <p:nvPr/>
        </p:nvPicPr>
        <p:blipFill>
          <a:blip r:embed="rId1"/>
          <a:srcRect l="0" t="5876" r="11043" b="0"/>
          <a:stretch/>
        </p:blipFill>
        <p:spPr>
          <a:xfrm>
            <a:off x="539640" y="404640"/>
            <a:ext cx="80647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468360" y="333360"/>
            <a:ext cx="6119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— важнейшее направление работы по формированию персонала и основной компонент кадровой политики библиотеки, ориентированной на качественные изменения и инновационное развитие. Это эффективно действующий инструмент, позволяющий работодателю, т.е. администрации библиотеки, на основе оценки уровня знаний, умений, теоретических и практических навыков, деловых качеств, детального анализа результатов трудовой деятельности работников определить наличие у них достаточной квалификац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является наиболее общепризнанной и распространенной формой оценки деятельности персонала. Ее проведение оформляется приказом по библиотеке, что дает право на использование результатов аттестации для принятия организационных решений в отношении конкретного работ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аттестации оцениваются работники как таковые, а не только результаты их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6732720" y="476280"/>
            <a:ext cx="2050920" cy="2322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6804000" y="3933720"/>
            <a:ext cx="20527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395280" y="2602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хнология подготовки и проведения аттестации включает в себя несколько этап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готовительный эт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1. Определение целей и времени (периодичности) проведения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2. Изучение необходимой для проведения аттестации нормативно-технической документации (квалификационного справочника должностей служащих, должностных инструкций, положений об отделах и библиотеке и т. 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3. Разработка методики проведения аттестации (установление требований и критериев, составление вопросника или словаря деловых характеристи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4 Формирование состава аттестационной комиссии, составление плана-графика проведения аттестации и подготовка приказа об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5. Ознакомление аттестуемых со сроками и задачами проведения аттес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324000" y="115920"/>
            <a:ext cx="525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пакета необходимых док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1. Составление отзыва-характеристики на аттестуем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2. Заполнение аттестуемым формы само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3. Подготовка аттестационных листов и других док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1. Беседа с аттестуемым, анализ представленных документов, сравнение с результатами предыдущей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2. Принятие решения по каждому сотрудн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3. Оформление результатов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s://avatars.mds.yandex.net/i?id=1e8973f8e8329365da44de4f52305157_l-4865634-images-thumbs&amp;ref=rim&amp;n=13&amp;w=1024&amp;h=768"/>
          <p:cNvPicPr/>
          <p:nvPr/>
        </p:nvPicPr>
        <p:blipFill>
          <a:blip r:embed="rId1"/>
          <a:srcRect l="23131" t="15241" r="46599" b="17023"/>
          <a:stretch/>
        </p:blipFill>
        <p:spPr>
          <a:xfrm>
            <a:off x="5796000" y="917640"/>
            <a:ext cx="295272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11280" y="549360"/>
            <a:ext cx="3889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изация результатов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1. Подготовка приказа и проведение собраний по итогам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2. Передача данных в отдел кадров, занесение полученных данных в личное дело (файл) сотру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3. Анализ и обобщение результатов аттес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s://avatars.dzeninfra.ru/get-zen_doc/1570751/pub_5e1df68011691d00b406cfeb_5e1df7156f5f6f00ad079ddf/scale_1200"/>
          <p:cNvPicPr/>
          <p:nvPr/>
        </p:nvPicPr>
        <p:blipFill>
          <a:blip r:embed="rId1"/>
          <a:stretch/>
        </p:blipFill>
        <p:spPr>
          <a:xfrm>
            <a:off x="4716360" y="1650960"/>
            <a:ext cx="42055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395280" y="189000"/>
            <a:ext cx="8353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временной ситуации вполне приемлемым способом получения интегральной оценки качеств специалистов и руководителей могут служить профессиограммы. Профессиограммы библиотечных специалистов построены по единой структурной схеме, включающей следующие разде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бщая характеристика профессии. Ее социальн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одержание и формы трудовой деятельности. Производственные операции,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анитарно-гигиенические условия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фессиональные требования к специалис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рофессионально-личностные качества библиотекаря (качества внимания, мыслительные, волевые, речевые, коммуникативные, эмоциональ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одготовка кадров. Повышение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468360" y="476280"/>
            <a:ext cx="820908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оинством аттестации является то, что с прохождением аттестации на рабочем месте по ее итогом  работодатель в праве работника поднять по карьерной лестнице, отметить способности  и умения отвечать на поставленные вопро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достатки аттестации - это увольнения с занимаемой должности работника, который не соответствует занима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й должности, даже если он проработал уже достаточное количест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ttps://myslide.ru/documents_7/4b2c68666d8b9ef053b0d31e5b76ced9/img46.jpg"/>
          <p:cNvPicPr/>
          <p:nvPr/>
        </p:nvPicPr>
        <p:blipFill>
          <a:blip r:embed="rId1"/>
          <a:srcRect l="13228" t="24334" r="5499" b="3849"/>
          <a:stretch/>
        </p:blipFill>
        <p:spPr>
          <a:xfrm>
            <a:off x="2916360" y="3933720"/>
            <a:ext cx="38019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11280" y="189000"/>
            <a:ext cx="8208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жительные результаты аттестации персон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жение о поощрении работ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вод работника на вышестоящую дол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все же принято решение об увольнении работника, то действия работодателя должны быть следующи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дание приказа за подписью руководителя или уполномоченного лица, в котором выражается решение по итогам проведенной аттес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знакомление с приказом всех заинтересованных ли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ожение работнику, признанному не соответствующим занимаемой должности, имеющихся в организации ваканс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дание работодателем приказа о его переводе на другую должность при согласии работника на перев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оржение трудового договора с работником по основанию, предусмотренному п. 3 ч. 1 ст. 81 Трудов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378000" y="-747720"/>
            <a:ext cx="849600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тестация персонала - мероприятие управления персоналом, проводимое на основе оценки персонала для оценки уровня труда, качеств и потенциала работника требованиям выполняем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ое назначение аттестации - выявление резервов повышения уровня отдачи работ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тестация работников библиотеки проводится каждые пять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енно важным в аттестации является правильность определения критериев оценки, которые не могут быть одинаковыми для разных долж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методов аттестации персонала для каждой конкретной организации является уникальной задачей, решить которую может только руководство самой орган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меющиеся инструкции по аттестации в большинстве своем содержат общие положения и во многом не удовлетворяют современным требованиям к работникам библиот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библиотеках при разработке собственных положений по проведению аттестации не нужно забывать об определенных формальных требованиях к процедуре ее пр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7380360" y="5626080"/>
            <a:ext cx="1278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79280" y="620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e1e20"/>
                </a:solidFill>
                <a:latin typeface="Times New Roman"/>
                <a:ea typeface="Calibri"/>
              </a:rPr>
              <a:t>    </a:t>
            </a:r>
            <a:r>
              <a:rPr b="1" lang="ru-RU" sz="3200" spc="-1" strike="noStrike">
                <a:solidFill>
                  <a:srgbClr val="0e1e20"/>
                </a:solidFill>
                <a:latin typeface="Times New Roman"/>
                <a:ea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1139760" y="1816200"/>
            <a:ext cx="67914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32000" y="1916280"/>
            <a:ext cx="588816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ин из важнейших элементов кадровой работы, представляющий собой периодическое освидетельствование профессиональной пригодности и соответствия занимаемой должности каждого работника определенной категор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аттест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стимулирование роста квалификации, повышение профессионального уровня библиотечных работников и обеспечение их социальной защищенности посредством дифференцирования оплаты труда. Аттестация является наиболее общепризнанной и распространенной формой оценки деятельности персонала. Ее проведение оформляется приказом по библиотеке, что дает право на использование результатов аттестации для принятия организационных решений в отношении конкретного работ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176040" y="401760"/>
            <a:ext cx="2676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39640" y="333360"/>
            <a:ext cx="813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е годы существенно возросла роль аттестации при составлении программ повышения квалификации, или программ обучения и развития персонала. Цели аттестации носят вполне определенный по своему содержанию характер, они поощряют работников на постоянное совершенствование профессиональных, деловых и личностных качеств, развитие чувства персональной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задачи аттестации зависят от направлений деятельности, организационной структуры библиотеки. В связи с этим следует подчеркнуть, что, исходя из потребностей и стратегии развития, цели аттестации могут быть различными не только в разных библиотеках, но и в подразделениях одной библиотеки, т. к. сами подразделения представляют разные типы структур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rcRect l="0" t="-7541" r="75374" b="0"/>
          <a:stretch/>
        </p:blipFill>
        <p:spPr>
          <a:xfrm>
            <a:off x="2095560" y="4581360"/>
            <a:ext cx="1782720" cy="2048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2"/>
          <a:srcRect l="50739" t="-3761" r="0" b="0"/>
          <a:stretch/>
        </p:blipFill>
        <p:spPr>
          <a:xfrm>
            <a:off x="3851280" y="4653000"/>
            <a:ext cx="356724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744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24000" y="189000"/>
            <a:ext cx="8619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иблиотекарь – человек, который работает в библиотеке и выдает людям книжки». Однако в настоящее время, когда электронно-вычислительная техника прочно вписалась во все сферы деятельности человека, работа библиотекаря не ограничивается только выдачей книг. Компьютеры и Интернет предоставляют сейчас просто неограниченные ресурсы по поиску необходимой информации по всему свету. При желании, можно отыскать даже старые, век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ности летописи. Но не все согласятся, что чи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же с модного ЖК- монитора приятнее, чем держ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уках добротную книгу. Таким образом, библиотека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х пор предоставляет нам возможности по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и в удобном для нас ви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библиотекарь помогает ускорить этот проце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стро и точно определить параметры поис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ит список необходимой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https://i.pinimg.com/originals/f8/16/bd/f816bda56fc18b7ccdcdac87d2fb7759.jpg"/>
          <p:cNvPicPr/>
          <p:nvPr/>
        </p:nvPicPr>
        <p:blipFill>
          <a:blip r:embed="rId1"/>
          <a:stretch/>
        </p:blipFill>
        <p:spPr>
          <a:xfrm>
            <a:off x="6156360" y="2492280"/>
            <a:ext cx="26431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95280" y="18900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ональное сознание современного библиотекар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Индивидуальный стиль деятельности и об­щ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теллектуальная культура библиоте­каря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широкая эрудиция, профессиональная компетентность, методологическая оснащенность, гибкость и адаптивность мышл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ий потенциа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ости библиотека­ря (оригинальности мышления, восприимчивости к проблемам, воображения, способности к формулиров­ке новых определений, способность к саморазвитию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ttps://mdou107lip.ru/files/2021/12/10/dostizheniya.jpg"/>
          <p:cNvPicPr/>
          <p:nvPr/>
        </p:nvPicPr>
        <p:blipFill>
          <a:blip r:embed="rId1"/>
          <a:srcRect l="0" t="6108" r="2238" b="34217"/>
          <a:stretch/>
        </p:blipFill>
        <p:spPr>
          <a:xfrm>
            <a:off x="1366920" y="3789360"/>
            <a:ext cx="63370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539640" y="404640"/>
            <a:ext cx="45720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задачами проведения аттестаци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высококвалифицированного кадрового сост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возможности объективного и обоснованного передвижения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имулирование роста профессионализма и уровня знаний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ие необходимости повышения квалификации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ление соответствия работников занимаемой дол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s://media.istockphoto.com/vectors/teacher-with-a-book-vector-id1220705381?k=20&amp;m=1220705381&amp;s=612x612&amp;w=0&amp;h=NE_yrfRuZ0tp3U9F2SzQ79Jvbp6rHPLERWiwZmUi98E="/>
          <p:cNvPicPr/>
          <p:nvPr/>
        </p:nvPicPr>
        <p:blipFill>
          <a:blip r:embed="rId1"/>
          <a:srcRect l="27190" t="7410" r="13528" b="0"/>
          <a:stretch/>
        </p:blipFill>
        <p:spPr>
          <a:xfrm>
            <a:off x="5435640" y="765000"/>
            <a:ext cx="316872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16:04Z</dcterms:created>
  <dc:creator>Люсенька</dc:creator>
  <dc:description/>
  <dc:language>en-US</dc:language>
  <cp:lastModifiedBy>Gigabyte</cp:lastModifiedBy>
  <dcterms:modified xsi:type="dcterms:W3CDTF">2023-02-06T13:04:16Z</dcterms:modified>
  <cp:revision>72</cp:revision>
  <dc:subject/>
  <dc:title>Слайд 1</dc:title>
</cp:coreProperties>
</file>