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2789-0EDF-47F6-96B2-8634A457D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930D-BAB2-4CE8-9DE4-E73FE7BB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D00C-34C9-4271-964A-9EFB41A3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13EF-B673-4430-9155-4A74C02DA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1022-CD79-4648-9BD9-919026E6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5921-7C63-45D3-81CD-E9584C43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443E-33B2-4ED9-AE55-C47A23F4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C8A6-F66F-4275-B1E0-46B8D070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AED7-0522-42C4-B559-47CD8792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26DC-A875-4558-AF85-D9A8B68A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86A0-4EC4-4E26-B33E-9CB5F257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9B61-2FAC-4147-9C8D-7D60AD71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477D-7E30-4B95-82D5-140383238C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 rot="21366600">
            <a:off x="1816200" y="1219320"/>
            <a:ext cx="607716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ция по МДК.02.01. Управление персона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пециальности  51.02.03. Библиотекове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кация - библиотекар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Аттестация библиотечных работников как средство формирования квалифицированных кадров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1974960" y="274680"/>
            <a:ext cx="5483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янский филиал ОБП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КИЙ  КОЛЛЕДЖ  КУЛЬТУР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3924360" y="6072120"/>
            <a:ext cx="48736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ель:   Малахова Елена Вячеславовна, преподава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468360" y="333360"/>
            <a:ext cx="8190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проведения аттестации работников, работодатель должен утвердить локальный нормативный акт (как вариант - положение), определяющ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рядок, сроки и формы проведения аттест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 аттестационной комиссии и порядок ее созд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тегории аттестуемых работ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тегории работников, не подлежащих аттест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итерии оценки работников (систему определения соответствия работника занимаемой должности путем проставления соответствующих оценок и/или баллов; установление количества / процента правильных ответов, определяющих успешное прохождение работником аттестаци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ды решений, принимаемых по результатам аттестации и порядок их прин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ые положения, способствующие, по мнению работодателя, наиболее эффективному проведению данной процед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2"/>
          <p:cNvSpPr/>
          <p:nvPr/>
        </p:nvSpPr>
        <p:spPr>
          <a:xfrm>
            <a:off x="468360" y="333360"/>
            <a:ext cx="457200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локальным нормативным актом, определяющим порядок проведения аттестации, работника необходимо ознакомить под роспись. Следует иметь в виду, что в случае возникновения трудового спора работодатель обязан будет предоставить доказательства того, что работник был поставлен в известность о возможности оценки результатов его работы и его личных деловых качеств в форме аттестации, и что по результатам аттестации может последовать увольнение работ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https://avatars.mds.yandex.net/i?id=37d6ea3fdad106bc28382afee0266fbe-5275502-images-thumbs&amp;ref=rim&amp;n=33&amp;w=150&amp;h=150"/>
          <p:cNvPicPr/>
          <p:nvPr/>
        </p:nvPicPr>
        <p:blipFill>
          <a:blip r:embed="rId1"/>
          <a:stretch/>
        </p:blipFill>
        <p:spPr>
          <a:xfrm>
            <a:off x="5580000" y="338040"/>
            <a:ext cx="3095640" cy="288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https://i.ytimg.com/vi/HRuMiqR4PvI/maxresdefault.jpg"/>
          <p:cNvPicPr/>
          <p:nvPr/>
        </p:nvPicPr>
        <p:blipFill>
          <a:blip r:embed="rId2"/>
          <a:srcRect l="26775" t="38136" r="31884" b="4115"/>
          <a:stretch/>
        </p:blipFill>
        <p:spPr>
          <a:xfrm>
            <a:off x="5580000" y="3670200"/>
            <a:ext cx="309564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333360" y="189000"/>
            <a:ext cx="8477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ле осуществления вышеуказанных действий, работодатель, руководствуясь локальным нормативным актом, должен утвердить график проведения аттестации и довести его до сведения каждого аттестуемого работника не позднее, чем за месяц до начала аттестации. В графике следует указать дату и время проведения аттестации, а также дату представления в аттестационную комиссию всех необходимых документов. Необходимо зафиксировать обязанность работника проходить аттестацию и в трудовом договоре. В случае отказа работника от участия в аттестации, данная норма трудового договора будет являться не только дополнительным доказательством совершения работником проступка, но и дополнительным основанием для привлечения работника к ответствен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https://shareslide.ru/img/thumbs/cf27e1491d8e6d681efbe0e0c6d28cf4-800x.jpg"/>
          <p:cNvPicPr/>
          <p:nvPr/>
        </p:nvPicPr>
        <p:blipFill>
          <a:blip r:embed="rId1"/>
          <a:srcRect l="4091" t="77608" r="4242" b="3922"/>
          <a:stretch/>
        </p:blipFill>
        <p:spPr>
          <a:xfrm>
            <a:off x="322200" y="5445000"/>
            <a:ext cx="847728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250920" y="115920"/>
            <a:ext cx="8497800" cy="67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нципы проведения аттест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Широкое ознакомление работников о порядке и методике проведения аттестации. 2. Демократизм предполагает участие общественности в проведении аттест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Результативность - обязательное и оперативное принятие действенных мер по результатам аттест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Объективность аттестации проявляется в принятии решения аттестационной комиссией большинством голосов, в возможности обжалования решения коми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. Обязательное сообщение результатов работни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6. Оценку нельзя соединять с крити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7. Нельзя говорить сотруднику одновременно о результатах аттестации и об оплате т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В обязательном порядке нужно объяснить сотрудникам, что аттестация кадров — это не карательный инструмент для увольнения неугодных или «неправильных» специалистов; она призвана помочь не только работодателям, но и самим сотрудникам найти слабые места в своей профессиональной подготовке и устранить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395280" y="189000"/>
            <a:ext cx="835344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ъективная оценка сотрудников основывается на решении таких основных зада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хождение объективных критериев оценки и факторов, конкретизирующих общие критер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явление методов количественного выражения каждого фактора и их совокупности через те или иные показате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тимизация процедуры оце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основным критериям оценки специалистов относя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фессиональную компетент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ворческую актив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ъем, качество и оперативность выполнения должностных обязанностей или поручаемых рабо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сихологическую совместимость в коллектив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удовую дисциплин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жность и трудоемкость выполняемых рабо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щественную актив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539640" y="333360"/>
            <a:ext cx="457200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аттестации оцениваются следующие показат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ровень профессиональных зн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эффективность производствен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чностные и иные значимые каче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ответствие оплаты труда результатам производствен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чный клад в совершенствование производственных процессов и реконструкцию рабочего места и т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https://abrakadabra.fun/uploads/posts/2022-01/1643004252_20-abrakadabra-fun-p-bibliotekar-risunok-64.jpg"/>
          <p:cNvPicPr/>
          <p:nvPr/>
        </p:nvPicPr>
        <p:blipFill>
          <a:blip r:embed="rId1"/>
          <a:stretch/>
        </p:blipFill>
        <p:spPr>
          <a:xfrm>
            <a:off x="5364000" y="404640"/>
            <a:ext cx="322596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611280" y="260280"/>
            <a:ext cx="792144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ценку профессиональной компетентности сотрудников производят по следующим фактор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ровень специально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ыт работы в данной долж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ыт работы по специа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общих и специальных знаний в системе повышения квалифик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ж работы в данной организации, который отражает знание сотрудником конкретных особенностей и условий производ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иодичность повышения квалификации, так как полученная специалистом информация быстро устаревает и должна обновляться не менее чем один раз в пять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https://shkola13shhekino-r71.gosweb.gosuslugi.ru/netcat_files/106/377/1.jpg"/>
          <p:cNvPicPr/>
          <p:nvPr/>
        </p:nvPicPr>
        <p:blipFill>
          <a:blip r:embed="rId1"/>
          <a:srcRect l="0" t="0" r="-5709" b="68487"/>
          <a:stretch/>
        </p:blipFill>
        <p:spPr>
          <a:xfrm>
            <a:off x="2050920" y="5338800"/>
            <a:ext cx="55357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3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03304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2" descr=""/>
          <p:cNvPicPr/>
          <p:nvPr/>
        </p:nvPicPr>
        <p:blipFill>
          <a:blip r:embed="rId1"/>
          <a:stretch/>
        </p:blipFill>
        <p:spPr>
          <a:xfrm>
            <a:off x="25560" y="-27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s://prezentacii.org/upload/cloud/19/05/150666/images/screen4.jpg"/>
          <p:cNvPicPr/>
          <p:nvPr/>
        </p:nvPicPr>
        <p:blipFill>
          <a:blip r:embed="rId1"/>
          <a:srcRect l="0" t="5876" r="11043" b="0"/>
          <a:stretch/>
        </p:blipFill>
        <p:spPr>
          <a:xfrm>
            <a:off x="539640" y="404640"/>
            <a:ext cx="806472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3"/>
          <p:cNvSpPr/>
          <p:nvPr/>
        </p:nvSpPr>
        <p:spPr>
          <a:xfrm>
            <a:off x="468360" y="333360"/>
            <a:ext cx="61196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ация — важнейшее направление работы по формированию персонала и основной компонент кадровой политики библиотеки, ориентированной на качественные изменения и инновационное развитие. Это эффективно действующий инструмент, позволяющий работодателю, т.е. администрации библиотеки, на основе оценки уровня знаний, умений, теоретических и практических навыков, деловых качеств, детального анализа результатов трудовой деятельности работников определить наличие у них достаточной квалификаци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ация является наиболее общепризнанной и распространенной формой оценки деятельности персонала. Ее проведение оформляется приказом по библиотеке, что дает право на использование результатов аттестации для принятия организационных решений в отношении конкретного работ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аттестации оцениваются работники как таковые, а не только результаты их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4" descr=""/>
          <p:cNvPicPr/>
          <p:nvPr/>
        </p:nvPicPr>
        <p:blipFill>
          <a:blip r:embed="rId1"/>
          <a:stretch/>
        </p:blipFill>
        <p:spPr>
          <a:xfrm>
            <a:off x="6732720" y="476280"/>
            <a:ext cx="2050920" cy="23223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"/>
          <p:cNvPicPr/>
          <p:nvPr/>
        </p:nvPicPr>
        <p:blipFill>
          <a:blip r:embed="rId2"/>
          <a:stretch/>
        </p:blipFill>
        <p:spPr>
          <a:xfrm>
            <a:off x="6804000" y="3933720"/>
            <a:ext cx="205272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395280" y="260280"/>
            <a:ext cx="842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хнология подготовки и проведения аттестации включает в себя несколько этап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готовительный эта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1. Определение целей и времени (периодичности) проведения аттест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2. Изучение необходимой для проведения аттестации нормативно-технической документации (квалификационного справочника должностей служащих, должностных инструкций, положений об отделах и библиотеке и т. п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3. Разработка методики проведения аттестации (установление требований и критериев, составление вопросника или словаря деловых характеристи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4 Формирование состава аттестационной комиссии, составление плана-графика проведения аттестации и подготовка приказа об аттест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5. Ознакомление аттестуемых со сроками и задачами проведения аттест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324000" y="115920"/>
            <a:ext cx="5256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ние пакета необходимых доку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1. Составление отзыва-характеристики на аттестуем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2. Заполнение аттестуемым формы самооце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3. Подготовка аттестационных листов и других доку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дение аттест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1. Беседа с аттестуемым, анализ представленных документов, сравнение с результатами предыдущей аттест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2. Принятие решения по каждому сотрудн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3. Оформление результатов аттест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https://avatars.mds.yandex.net/i?id=1e8973f8e8329365da44de4f52305157_l-4865634-images-thumbs&amp;ref=rim&amp;n=13&amp;w=1024&amp;h=768"/>
          <p:cNvPicPr/>
          <p:nvPr/>
        </p:nvPicPr>
        <p:blipFill>
          <a:blip r:embed="rId1"/>
          <a:srcRect l="23131" t="15241" r="46599" b="17023"/>
          <a:stretch/>
        </p:blipFill>
        <p:spPr>
          <a:xfrm>
            <a:off x="5796000" y="917640"/>
            <a:ext cx="295272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611280" y="549360"/>
            <a:ext cx="38894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ализация результатов аттест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1. Подготовка приказа и проведение собраний по итогам аттест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2. Передача данных в отдел кадров, занесение полученных данных в личное дело (файл) сотруд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3. Анализ и обобщение результатов аттест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https://avatars.dzeninfra.ru/get-zen_doc/1570751/pub_5e1df68011691d00b406cfeb_5e1df7156f5f6f00ad079ddf/scale_1200"/>
          <p:cNvPicPr/>
          <p:nvPr/>
        </p:nvPicPr>
        <p:blipFill>
          <a:blip r:embed="rId1"/>
          <a:stretch/>
        </p:blipFill>
        <p:spPr>
          <a:xfrm>
            <a:off x="4716360" y="1650960"/>
            <a:ext cx="420552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395280" y="189000"/>
            <a:ext cx="835344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овременной ситуации вполне приемлемым способом получения интегральной оценки качеств специалистов и руководителей могут служить профессиограммы. Профессиограммы библиотечных специалистов построены по единой структурной схеме, включающей следующие раздел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Общая характеристика профессии. Ее социальное зна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одержание и формы трудовой деятельности. Производственные операции, взаимосвя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Санитарно-гигиенические условия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Профессиональные требования к специалис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Профессионально-личностные качества библиотекаря (качества внимания, мыслительные, волевые, речевые, коммуникативные, эмоциональны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Подготовка кадров. Повышение квалифик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468360" y="476280"/>
            <a:ext cx="820908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оинством аттестации является то, что с прохождением аттестации на рабочем месте по ее итогом  работодатель в праве работника поднять по карьерной лестнице, отметить способности  и умения отвечать на поставленные вопрос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достатки аттестации - это увольнения с занимаемой должности работника, который не соответствует занимае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й должности, даже если он проработал уже достаточное количество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https://myslide.ru/documents_7/4b2c68666d8b9ef053b0d31e5b76ced9/img46.jpg"/>
          <p:cNvPicPr/>
          <p:nvPr/>
        </p:nvPicPr>
        <p:blipFill>
          <a:blip r:embed="rId1"/>
          <a:srcRect l="13228" t="24334" r="5499" b="3849"/>
          <a:stretch/>
        </p:blipFill>
        <p:spPr>
          <a:xfrm>
            <a:off x="2916360" y="3933720"/>
            <a:ext cx="380196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611280" y="189000"/>
            <a:ext cx="8208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ложительные результаты аттестации персона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ложение о поощрении работни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вод работника на вышестоящую долж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все же принято решение об увольнении работника, то действия работодателя должны быть следующи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дание приказа за подписью руководителя или уполномоченного лица, в котором выражается решение по итогам проведенной аттест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знакомление с приказом всех заинтересованных лиц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ложение работнику, признанному не соответствующим занимаемой должности, имеющихся в организации ваканс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дание работодателем приказа о его переводе на другую должность при согласии работника на перево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торжение трудового договора с работником по основанию, предусмотренному п. 3 ч. 1 ст. 81 Трудов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378000" y="-747720"/>
            <a:ext cx="8496000" cy="69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e1e20"/>
                </a:solidFill>
                <a:latin typeface="Times New Roman"/>
                <a:ea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ттестация персонала - мероприятие управления персоналом, проводимое на основе оценки персонала для оценки уровня труда, качеств и потенциала работника требованиям выполняемой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лавное назначение аттестации - выявление резервов повышения уровня отдачи работ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ттестация работников библиотеки проводится каждые пять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обенно важным в аттестации является правильность определения критериев оценки, которые не могут быть одинаковыми для разных должно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методов аттестации персонала для каждой конкретной организации является уникальной задачей, решить которую может только руководство самой организ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Имеющиеся инструкции по аттестации в большинстве своем содержат общие положения и во многом не удовлетворяют современным требованиям к работникам библиот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 библиотеках при разработке собственных положений по проведению аттестации не нужно забывать об определенных формальных требованиях к процедуре ее прове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3" descr=""/>
          <p:cNvPicPr/>
          <p:nvPr/>
        </p:nvPicPr>
        <p:blipFill>
          <a:blip r:embed="rId1"/>
          <a:stretch/>
        </p:blipFill>
        <p:spPr>
          <a:xfrm>
            <a:off x="7380360" y="5626080"/>
            <a:ext cx="12780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179280" y="6206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e1e20"/>
                </a:solidFill>
                <a:latin typeface="Times New Roman"/>
                <a:ea typeface="Calibri"/>
              </a:rPr>
              <a:t>    </a:t>
            </a:r>
            <a:r>
              <a:rPr b="1" lang="ru-RU" sz="3200" spc="-1" strike="noStrike">
                <a:solidFill>
                  <a:srgbClr val="0e1e20"/>
                </a:solidFill>
                <a:latin typeface="Times New Roman"/>
                <a:ea typeface="Calibri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3" descr=""/>
          <p:cNvPicPr/>
          <p:nvPr/>
        </p:nvPicPr>
        <p:blipFill>
          <a:blip r:embed="rId1"/>
          <a:stretch/>
        </p:blipFill>
        <p:spPr>
          <a:xfrm>
            <a:off x="1139760" y="1816200"/>
            <a:ext cx="679140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32000" y="1916280"/>
            <a:ext cx="5888160" cy="23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а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дин из важнейших элементов кадровой работы, представляющий собой периодическое освидетельствование профессиональной пригодности и соответствия занимаемой должности каждого работника определенной категори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 аттестац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стимулирование роста квалификации, повышение профессионального уровня библиотечных работников и обеспечение их социальной защищенности посредством дифференцирования оплаты труда. Аттестация является наиболее общепризнанной и распространенной формой оценки деятельности персонала. Ее проведение оформляется приказом по библиотеке, что дает право на использование результатов аттестации для принятия организационных решений в отношении конкретного работ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2"/>
          <a:stretch/>
        </p:blipFill>
        <p:spPr>
          <a:xfrm>
            <a:off x="176040" y="401760"/>
            <a:ext cx="267660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539640" y="333360"/>
            <a:ext cx="8136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оследние годы существенно возросла роль аттестации при составлении программ повышения квалификации, или программ обучения и развития персонала. Цели аттестации носят вполне определенный по своему содержанию характер, они поощряют работников на постоянное совершенствование профессиональных, деловых и личностных качеств, развитие чувства персональной ответствен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ые задачи аттестации зависят от направлений деятельности, организационной структуры библиотеки. В связи с этим следует подчеркнуть, что, исходя из потребностей и стратегии развития, цели аттестации могут быть различными не только в разных библиотеках, но и в подразделениях одной библиотеки, т. к. сами подразделения представляют разные типы структур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2" descr=""/>
          <p:cNvPicPr/>
          <p:nvPr/>
        </p:nvPicPr>
        <p:blipFill>
          <a:blip r:embed="rId1"/>
          <a:srcRect l="0" t="-7541" r="75374" b="0"/>
          <a:stretch/>
        </p:blipFill>
        <p:spPr>
          <a:xfrm>
            <a:off x="2095560" y="4581360"/>
            <a:ext cx="1782720" cy="20480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3" descr=""/>
          <p:cNvPicPr/>
          <p:nvPr/>
        </p:nvPicPr>
        <p:blipFill>
          <a:blip r:embed="rId2"/>
          <a:srcRect l="50739" t="-3761" r="0" b="0"/>
          <a:stretch/>
        </p:blipFill>
        <p:spPr>
          <a:xfrm>
            <a:off x="3851280" y="4653000"/>
            <a:ext cx="356724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77440" cy="65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324000" y="189000"/>
            <a:ext cx="86198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Библиотекарь – человек, который работает в библиотеке и выдает людям книжки». Однако в настоящее время, когда электронно-вычислительная техника прочно вписалась во все сферы деятельности человека, работа библиотекаря не ограничивается только выдачей книг. Компьютеры и Интернет предоставляют сейчас просто неограниченные ресурсы по поиску необходимой информации по всему свету. При желании, можно отыскать даже старые, век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вности летописи. Но не все согласятся, что чит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же с модного ЖК- монитора приятнее, чем держ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уках добротную книгу. Таким образом, библиотека д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х пор предоставляет нам возможности пои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формации в удобном для нас ви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 библиотекарь помогает ускорить этот процес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быстро и точно определить параметры поис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оставит список необходимой литерату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https://i.pinimg.com/originals/f8/16/bd/f816bda56fc18b7ccdcdac87d2fb7759.jpg"/>
          <p:cNvPicPr/>
          <p:nvPr/>
        </p:nvPicPr>
        <p:blipFill>
          <a:blip r:embed="rId1"/>
          <a:stretch/>
        </p:blipFill>
        <p:spPr>
          <a:xfrm>
            <a:off x="6156360" y="2492280"/>
            <a:ext cx="26431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395280" y="18900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фессиональное сознание современного библиотекар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Индивидуальный стиль деятельности и об­щ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И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теллектуальная культура библиоте­каря 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широкая эрудиция, профессиональная компетентность, методологическая оснащенность, гибкость и адаптивность мышления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ворческий потенциа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чности библиотека­ря (оригинальности мышления, восприимчивости к проблемам, воображения, способности к формулиров­ке новых определений, способность к саморазвитию и т.д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https://mdou107lip.ru/files/2021/12/10/dostizheniya.jpg"/>
          <p:cNvPicPr/>
          <p:nvPr/>
        </p:nvPicPr>
        <p:blipFill>
          <a:blip r:embed="rId1"/>
          <a:srcRect l="0" t="6108" r="2238" b="34217"/>
          <a:stretch/>
        </p:blipFill>
        <p:spPr>
          <a:xfrm>
            <a:off x="1366920" y="3789360"/>
            <a:ext cx="63370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539640" y="404640"/>
            <a:ext cx="457200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ыми задачами проведения аттестации 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высококвалифицированного кадрового соста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еспечение возможности объективного и обоснованного передвижения кадр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имулирование роста профессионализма и уровня знаний работ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ение необходимости повышения квалификации работ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тановление соответствия работников занимаемой дол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https://media.istockphoto.com/vectors/teacher-with-a-book-vector-id1220705381?k=20&amp;m=1220705381&amp;s=612x612&amp;w=0&amp;h=NE_yrfRuZ0tp3U9F2SzQ79Jvbp6rHPLERWiwZmUi98E="/>
          <p:cNvPicPr/>
          <p:nvPr/>
        </p:nvPicPr>
        <p:blipFill>
          <a:blip r:embed="rId1"/>
          <a:srcRect l="27190" t="7410" r="13528" b="0"/>
          <a:stretch/>
        </p:blipFill>
        <p:spPr>
          <a:xfrm>
            <a:off x="5435640" y="765000"/>
            <a:ext cx="3168720" cy="53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13:16:04Z</dcterms:created>
  <dc:creator>Люсенька</dc:creator>
  <dc:description/>
  <dc:language>en-US</dc:language>
  <cp:lastModifiedBy>Gigabyte</cp:lastModifiedBy>
  <dcterms:modified xsi:type="dcterms:W3CDTF">2023-02-06T13:04:16Z</dcterms:modified>
  <cp:revision>72</cp:revision>
  <dc:subject/>
  <dc:title>Слайд 1</dc:title>
</cp:coreProperties>
</file>