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A55-51AE-443F-9ECC-D07F974F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6F2-B385-4BCE-9D56-30CED9FC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A75-2735-4DB1-BBB3-EAF9472E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66B-41AA-45CC-9842-0B3ED7B9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82F5-08F4-443E-9902-A1221A4F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B2E3-177A-4C82-99C7-67A91300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AACB-275E-498A-BF49-32A90803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0F55-06FA-4B5D-ACBC-E14E74CB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1B6D-9484-4407-9E4E-E3CC927D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BC2B-FAC6-46ED-BBF6-71139F3A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5B7D-81DF-44A4-BAC9-44446F5D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084-6D96-45B9-8A27-C757A5A0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E8AD-1BA8-4A33-800E-FFD60B74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892D-3551-4613-8DDA-569ECBE8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7712-3821-4158-B4C0-D24467C7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01A3-B42D-4EDB-80CD-4EE939B3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DE8F-31FF-4EEA-A66F-F38F0678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6B32-8C5A-44C5-9936-4159923A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E05D-41A5-42C0-8EB8-7CB395DC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81A4-98D5-4A44-9004-AACF2A44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52D8-600F-422D-BE90-5C015EFD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B790-135B-4FD8-85D4-BCE0D228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949-6D50-44EB-B969-7341699A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0A19-DAFC-4526-9BBD-177FB765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480B-3590-4514-9F48-8E4E505E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DD78A-81BF-41C4-A36B-DE4EBC8A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85E2-5644-4E11-B537-BE3D7485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9C30-6610-43ED-A934-575EB023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2BDA-CCC8-4F34-8388-27903F49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F74CD-1BD1-45FF-920E-0FFE7FE2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590-D5C1-45AF-AFBF-07D8E113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799-37C2-4E7F-8C59-4A1D3F8F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77B-6F84-47DC-AF8D-810D8615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968-D438-4DD6-8C32-F73BF4A4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967-0251-4C28-843F-5CD1CB4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C38-0A14-4FE5-836F-9B14BB3C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FCA5-76FD-4871-9638-4ADD5276E7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7123-5CD8-48D3-8036-5A2D87B3D61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A32D-8BCE-4F00-9C24-A148DE990A12}" type="slidenum">
              <a:rPr b="1" lang="ru-RU" sz="10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yaklass.ru/p/geometria/8-klass/chetyrekhugolniki-9229/lomanaia-vidy-lomanykh-mnogougolniki-10436/re-5f631654-da63-4817-9438-8981425f1ab5" TargetMode="External"/><Relationship Id="rId2" Type="http://schemas.openxmlformats.org/officeDocument/2006/relationships/hyperlink" Target="https://resh.edu.ru/subject/lesson/2512/main/" TargetMode="External"/><Relationship Id="rId3" Type="http://schemas.openxmlformats.org/officeDocument/2006/relationships/hyperlink" Target="https://file.11klasov.net/15957-geometrija-7-9-klass-uchebnik-atanasjan-ls-butuzov-vf-kadomcev-sb-i-dr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5600" y="18205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Формулы для вычисления площади правильного многоугольника, его стороны и радиуса вписанной окружности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456000" y="439560"/>
            <a:ext cx="238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9 клас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ГЕОМЕТРИ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8 февраля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3530520" y="5697360"/>
            <a:ext cx="53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urier New"/>
                <a:ea typeface="Courier New"/>
              </a:rPr>
              <a:t>Автор презентации: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Courier New"/>
                <a:ea typeface="Courier New"/>
              </a:rPr>
              <a:t>Попов Дмитрий Сергеевич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Задание 4. </a:t>
            </a:r>
            <a:r>
              <a:rPr b="0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Найдите количество сторон правильного многоугольника, если его угол равен 90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"/>
          <p:cNvSpPr/>
          <p:nvPr/>
        </p:nvSpPr>
        <p:spPr>
          <a:xfrm>
            <a:off x="5724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Заголовок 1"/>
          <p:cNvSpPr/>
          <p:nvPr/>
        </p:nvSpPr>
        <p:spPr>
          <a:xfrm>
            <a:off x="504720" y="5162400"/>
            <a:ext cx="8229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б) 4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571680" y="2408400"/>
            <a:ext cx="822960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а) 6;      б) 4;         в) 3;      г) 7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89532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85ff"/>
                </a:solidFill>
                <a:latin typeface="Times New Roman"/>
              </a:rPr>
              <a:t>ПИСЬМЕННО ВЫПОЛНИ №1088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Прямоугольник 2"/>
          <p:cNvSpPr/>
          <p:nvPr/>
        </p:nvSpPr>
        <p:spPr>
          <a:xfrm>
            <a:off x="460440" y="1901880"/>
            <a:ext cx="83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31840" y="1967040"/>
            <a:ext cx="7326360" cy="317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7670880" y="2419200"/>
            <a:ext cx="1473120" cy="2048040"/>
          </a:xfrm>
          <a:prstGeom prst="rect">
            <a:avLst/>
          </a:prstGeom>
          <a:ln w="0">
            <a:noFill/>
          </a:ln>
        </p:spPr>
      </p:pic>
      <p:sp>
        <p:nvSpPr>
          <p:cNvPr id="271" name="Заголовок 1"/>
          <p:cNvSpPr/>
          <p:nvPr/>
        </p:nvSpPr>
        <p:spPr>
          <a:xfrm>
            <a:off x="504720" y="5162400"/>
            <a:ext cx="82296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чание от учителя: 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 данном задании я жду от вас заполненной таблицы, а также всех проделанных вычислений, а также формул, по которым вы выполните вычисления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ши задач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 реальной жиз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657360" y="1547640"/>
            <a:ext cx="799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Сечение головки газового вентиля имеет форму правильного треугольника, сторона которого равна 3 см. Каким должен быть минимальный диаметр круглого железного стержня, из которого изготовляют вентиль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Поперечное сечение деревянного бруска является квадратом со стороной 6 см. Найдите наибольший диаметр круглого стержня, который можно выточить из этого бруска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ыполненные работы отправить на электронную почту учителя до 02.03.2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361800" y="3772080"/>
            <a:ext cx="82296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Удачи в усвоении новых знаний и решении заданий!</a:t>
            </a:r>
            <a:endParaRPr b="0" lang="en-US" sz="4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39800" y="622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ИСПОЛЬЗОВАННЫЕ РЕСУРС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25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700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https://resh.edu.ru/subject/lesson/2512/main/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Times New Roman"/>
                <a:hlinkClick r:id="rId3"/>
              </a:rPr>
              <a:t>https://file.11klasov.net/15957-geometrija-7-9-klass-uchebnik-atanasjan-ls-butuzov-vf-kadomcev-sb-i-dr.htm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66"/>
                </a:solidFill>
                <a:latin typeface="Times New Roman"/>
              </a:rPr>
              <a:t>Ваша задача на сегодня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447840" y="1857240"/>
            <a:ext cx="821052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знакомиться с материалом слайдов 3 – 6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полни устно задания со слайдов 7 – 10, сверься с ответами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ыполни задание со слайда 11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ши задачи из реальной жизни, которые расположены на слайде 12 (обязательно при решении задачи должен присутствовать рисунок, дано, решение и ответ)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2520" y="293400"/>
            <a:ext cx="8210520" cy="22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щадь правильного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гольника,  его сторону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иметр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диусы соответственно вписанной и описанной окружно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0"/>
          <p:cNvGrpSpPr/>
          <p:nvPr/>
        </p:nvGrpSpPr>
        <p:grpSpPr>
          <a:xfrm>
            <a:off x="2571840" y="2597040"/>
            <a:ext cx="3828960" cy="3517920"/>
            <a:chOff x="2571840" y="2597040"/>
            <a:chExt cx="3828960" cy="3517920"/>
          </a:xfrm>
        </p:grpSpPr>
        <p:grpSp>
          <p:nvGrpSpPr>
            <p:cNvPr id="144" name="Группа 57"/>
            <p:cNvGrpSpPr/>
            <p:nvPr/>
          </p:nvGrpSpPr>
          <p:grpSpPr>
            <a:xfrm>
              <a:off x="2571840" y="2597040"/>
              <a:ext cx="3828960" cy="3517920"/>
              <a:chOff x="2571840" y="2597040"/>
              <a:chExt cx="3828960" cy="3517920"/>
            </a:xfrm>
          </p:grpSpPr>
          <p:sp>
            <p:nvSpPr>
              <p:cNvPr id="145" name="Овал 20"/>
              <p:cNvSpPr/>
              <p:nvPr/>
            </p:nvSpPr>
            <p:spPr>
              <a:xfrm>
                <a:off x="2571840" y="2597040"/>
                <a:ext cx="3828960" cy="3517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  <p:grpSp>
            <p:nvGrpSpPr>
              <p:cNvPr id="146" name="Группа 39"/>
              <p:cNvGrpSpPr/>
              <p:nvPr/>
            </p:nvGrpSpPr>
            <p:grpSpPr>
              <a:xfrm>
                <a:off x="2732040" y="2763720"/>
                <a:ext cx="3468240" cy="3207960"/>
                <a:chOff x="2732040" y="2763720"/>
                <a:chExt cx="3468240" cy="3207960"/>
              </a:xfrm>
            </p:grpSpPr>
            <p:grpSp>
              <p:nvGrpSpPr>
                <p:cNvPr id="147" name="Группа 28"/>
                <p:cNvGrpSpPr/>
                <p:nvPr/>
              </p:nvGrpSpPr>
              <p:grpSpPr>
                <a:xfrm>
                  <a:off x="2732040" y="2763720"/>
                  <a:ext cx="3468240" cy="3207960"/>
                  <a:chOff x="2732040" y="2763720"/>
                  <a:chExt cx="3468240" cy="3207960"/>
                </a:xfrm>
              </p:grpSpPr>
              <p:grpSp>
                <p:nvGrpSpPr>
                  <p:cNvPr id="148" name="Группа 29"/>
                  <p:cNvGrpSpPr/>
                  <p:nvPr/>
                </p:nvGrpSpPr>
                <p:grpSpPr>
                  <a:xfrm>
                    <a:off x="2732040" y="2763720"/>
                    <a:ext cx="3468240" cy="3207960"/>
                    <a:chOff x="2732040" y="2763720"/>
                    <a:chExt cx="3468240" cy="3207960"/>
                  </a:xfrm>
                </p:grpSpPr>
                <p:sp>
                  <p:nvSpPr>
                    <p:cNvPr id="149" name="Восьмиугольник 30"/>
                    <p:cNvSpPr/>
                    <p:nvPr/>
                  </p:nvSpPr>
                  <p:spPr>
                    <a:xfrm>
                      <a:off x="2732040" y="2763720"/>
                      <a:ext cx="3468240" cy="3207960"/>
                    </a:xfrm>
                    <a:prstGeom prst="octagon">
                      <a:avLst>
                        <a:gd name="adj" fmla="val 29287"/>
                      </a:avLst>
                    </a:prstGeom>
                    <a:noFill/>
                    <a:ln w="255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Овал 31"/>
                    <p:cNvSpPr/>
                    <p:nvPr/>
                  </p:nvSpPr>
                  <p:spPr>
                    <a:xfrm>
                      <a:off x="2763360" y="2792880"/>
                      <a:ext cx="3395880" cy="315036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" name="Овал 33"/>
                  <p:cNvSpPr/>
                  <p:nvPr/>
                </p:nvSpPr>
                <p:spPr>
                  <a:xfrm>
                    <a:off x="4430880" y="4314600"/>
                    <a:ext cx="105840" cy="98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" name="Прямая соединительная линия 37"/>
                <p:cNvSpPr/>
                <p:nvPr/>
              </p:nvSpPr>
              <p:spPr>
                <a:xfrm flipH="1" flipV="1">
                  <a:off x="2732040" y="3727080"/>
                  <a:ext cx="1767600" cy="647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Надпись 38"/>
                <p:cNvSpPr/>
                <p:nvPr/>
              </p:nvSpPr>
              <p:spPr>
                <a:xfrm>
                  <a:off x="3292920" y="3390840"/>
                  <a:ext cx="84096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3200" spc="-1" strike="noStrike">
                      <a:solidFill>
                        <a:srgbClr val="000033"/>
                      </a:solidFill>
                      <a:latin typeface="Calibri"/>
                      <a:ea typeface="Arial"/>
                    </a:rPr>
                    <a:t>R</a:t>
                  </a:r>
                  <a:endParaRPr b="0" lang="en-US" sz="32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Прямая соединительная линия 58"/>
            <p:cNvSpPr/>
            <p:nvPr/>
          </p:nvSpPr>
          <p:spPr>
            <a:xfrm flipV="1">
              <a:off x="4473720" y="2784600"/>
              <a:ext cx="0" cy="15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55" name="Надпись 60"/>
            <p:cNvSpPr/>
            <p:nvPr/>
          </p:nvSpPr>
          <p:spPr>
            <a:xfrm>
              <a:off x="4362840" y="3040920"/>
              <a:ext cx="1015560" cy="12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33"/>
                  </a:solidFill>
                  <a:latin typeface="Calibri"/>
                  <a:ea typeface="Arial"/>
                </a:rPr>
                <a:t>  </a:t>
              </a:r>
              <a:r>
                <a:rPr b="1" i="1" lang="ru-RU" sz="3200" spc="-1" strike="noStrike">
                  <a:solidFill>
                    <a:srgbClr val="000033"/>
                  </a:solidFill>
                  <a:latin typeface="Calibri"/>
                  <a:ea typeface="Arial"/>
                </a:rPr>
                <a:t>r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4"/>
          <p:cNvSpPr/>
          <p:nvPr/>
        </p:nvSpPr>
        <p:spPr>
          <a:xfrm>
            <a:off x="428760" y="357120"/>
            <a:ext cx="80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Рассмотрим сначала доказательство, что площадь данного многоугольника будет равна: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S =    </a:t>
            </a:r>
            <a:r>
              <a:rPr b="0" i="1" lang="ru-RU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Pr</a:t>
            </a:r>
            <a:r>
              <a:rPr b="0" i="1" lang="en-US" sz="2000" spc="-1" strike="noStrike">
                <a:solidFill>
                  <a:srgbClr val="000033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4152960" y="714240"/>
            <a:ext cx="84240" cy="36540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10"/>
          <p:cNvSpPr/>
          <p:nvPr/>
        </p:nvSpPr>
        <p:spPr>
          <a:xfrm>
            <a:off x="528840" y="112068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Выполним следующее построение: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7286760" y="237600"/>
            <a:ext cx="1398600" cy="1286280"/>
            <a:chOff x="7286760" y="237600"/>
            <a:chExt cx="1398600" cy="1286280"/>
          </a:xfrm>
        </p:grpSpPr>
        <p:grpSp>
          <p:nvGrpSpPr>
            <p:cNvPr id="161" name="Группа 80"/>
            <p:cNvGrpSpPr/>
            <p:nvPr/>
          </p:nvGrpSpPr>
          <p:grpSpPr>
            <a:xfrm>
              <a:off x="7286760" y="237960"/>
              <a:ext cx="1398600" cy="1285920"/>
              <a:chOff x="7286760" y="237960"/>
              <a:chExt cx="1398600" cy="1285920"/>
            </a:xfrm>
          </p:grpSpPr>
          <p:grpSp>
            <p:nvGrpSpPr>
              <p:cNvPr id="162" name="Группа 81"/>
              <p:cNvGrpSpPr/>
              <p:nvPr/>
            </p:nvGrpSpPr>
            <p:grpSpPr>
              <a:xfrm>
                <a:off x="7286760" y="237960"/>
                <a:ext cx="1398600" cy="1285920"/>
                <a:chOff x="7286760" y="237960"/>
                <a:chExt cx="1398600" cy="1285920"/>
              </a:xfrm>
            </p:grpSpPr>
            <p:sp>
              <p:nvSpPr>
                <p:cNvPr id="163" name="Восьмиугольник 91"/>
                <p:cNvSpPr/>
                <p:nvPr/>
              </p:nvSpPr>
              <p:spPr>
                <a:xfrm>
                  <a:off x="7286760" y="237960"/>
                  <a:ext cx="1398600" cy="1285920"/>
                </a:xfrm>
                <a:prstGeom prst="octagon">
                  <a:avLst>
                    <a:gd name="adj" fmla="val 29287"/>
                  </a:avLst>
                </a:prstGeom>
                <a:noFill/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Овал 93"/>
                <p:cNvSpPr/>
                <p:nvPr/>
              </p:nvSpPr>
              <p:spPr>
                <a:xfrm>
                  <a:off x="7299360" y="249480"/>
                  <a:ext cx="1369440" cy="12628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Овал 94"/>
              <p:cNvSpPr/>
              <p:nvPr/>
            </p:nvSpPr>
            <p:spPr>
              <a:xfrm>
                <a:off x="7971840" y="859680"/>
                <a:ext cx="42480" cy="39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</p:grpSp>
        <p:sp>
          <p:nvSpPr>
            <p:cNvPr id="166" name="Прямая соединительная линия 100"/>
            <p:cNvSpPr/>
            <p:nvPr/>
          </p:nvSpPr>
          <p:spPr>
            <a:xfrm flipH="1" flipV="1">
              <a:off x="7286760" y="618480"/>
              <a:ext cx="1398240" cy="5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67" name="Прямая соединительная линия 101"/>
            <p:cNvSpPr/>
            <p:nvPr/>
          </p:nvSpPr>
          <p:spPr>
            <a:xfrm flipV="1">
              <a:off x="7286760" y="618480"/>
              <a:ext cx="1398240" cy="53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68" name="Прямая соединительная линия 103"/>
            <p:cNvSpPr/>
            <p:nvPr/>
          </p:nvSpPr>
          <p:spPr>
            <a:xfrm>
              <a:off x="7694280" y="237960"/>
              <a:ext cx="588600" cy="12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69" name="Прямая соединительная линия 104"/>
            <p:cNvSpPr/>
            <p:nvPr/>
          </p:nvSpPr>
          <p:spPr>
            <a:xfrm flipV="1">
              <a:off x="7694280" y="237600"/>
              <a:ext cx="588240" cy="128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cxnSp>
        <p:nvCxnSpPr>
          <p:cNvPr id="170" name="Прямая со стрелкой 22"/>
          <p:cNvCxnSpPr>
            <a:stCxn id="159" idx="3"/>
          </p:cNvCxnSpPr>
          <p:nvPr/>
        </p:nvCxnSpPr>
        <p:spPr>
          <a:xfrm flipV="1">
            <a:off x="4192200" y="1294560"/>
            <a:ext cx="24757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1" name="Прямоугольник 23"/>
          <p:cNvSpPr/>
          <p:nvPr/>
        </p:nvSpPr>
        <p:spPr>
          <a:xfrm>
            <a:off x="352440" y="159876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роведем линии из центра многоугольника к его вершинам. Многоугольник разбили на несколько треугольников. Применяя формулу площади треугольника запишем следующее равенство. Площадь каждого треугольника будет равна:              , где       -  сторона многоугольника;  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r 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– радиус вписанной окружности, является высотой каждого рассматриваемого треугольника.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Так как все треугольники равны, то умножим количество треугольников на площадь треугольника: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3" name="Picture 19" descr=""/>
          <p:cNvPicPr/>
          <p:nvPr/>
        </p:nvPicPr>
        <p:blipFill>
          <a:blip r:embed="rId2"/>
          <a:stretch/>
        </p:blipFill>
        <p:spPr>
          <a:xfrm>
            <a:off x="8132760" y="2143080"/>
            <a:ext cx="744480" cy="4302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5" name="Picture 21" descr=""/>
          <p:cNvPicPr/>
          <p:nvPr/>
        </p:nvPicPr>
        <p:blipFill>
          <a:blip r:embed="rId3"/>
          <a:stretch/>
        </p:blipFill>
        <p:spPr>
          <a:xfrm>
            <a:off x="895320" y="2409840"/>
            <a:ext cx="314280" cy="404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7" name="Picture 23" descr=""/>
          <p:cNvPicPr/>
          <p:nvPr/>
        </p:nvPicPr>
        <p:blipFill>
          <a:blip r:embed="rId4"/>
          <a:stretch/>
        </p:blipFill>
        <p:spPr>
          <a:xfrm>
            <a:off x="3124080" y="2743200"/>
            <a:ext cx="104760" cy="2858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9" name="Picture 25" descr=""/>
          <p:cNvPicPr/>
          <p:nvPr/>
        </p:nvPicPr>
        <p:blipFill>
          <a:blip r:embed="rId5"/>
          <a:stretch/>
        </p:blipFill>
        <p:spPr>
          <a:xfrm>
            <a:off x="514440" y="3571920"/>
            <a:ext cx="944640" cy="41904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34"/>
          <p:cNvSpPr/>
          <p:nvPr/>
        </p:nvSpPr>
        <p:spPr>
          <a:xfrm>
            <a:off x="1496520" y="3578400"/>
            <a:ext cx="366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,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где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n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– количество треугольников.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407520" y="4025880"/>
            <a:ext cx="47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осле преобразований получим формулу: 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S =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2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83" name="Picture 29" descr=""/>
          <p:cNvPicPr/>
          <p:nvPr/>
        </p:nvPicPr>
        <p:blipFill>
          <a:blip r:embed="rId6"/>
          <a:stretch/>
        </p:blipFill>
        <p:spPr>
          <a:xfrm>
            <a:off x="5010120" y="4029120"/>
            <a:ext cx="762120" cy="41580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38"/>
          <p:cNvSpPr/>
          <p:nvPr/>
        </p:nvSpPr>
        <p:spPr>
          <a:xfrm>
            <a:off x="457200" y="4386240"/>
            <a:ext cx="80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роизведение в скобках отражает периметр рассматриваемого многоугольника. Таким образом, формула расчёта площади многоугольника выглядит следующим образом: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86" name="Picture 31" descr=""/>
          <p:cNvPicPr/>
          <p:nvPr/>
        </p:nvPicPr>
        <p:blipFill>
          <a:blip r:embed="rId7"/>
          <a:stretch/>
        </p:blipFill>
        <p:spPr>
          <a:xfrm>
            <a:off x="2692440" y="4943520"/>
            <a:ext cx="698400" cy="4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257040" y="23328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Выведем формулы для вычисления стороны правильного многоугольника и радиуса вписанной окружности: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188" name="Group 2"/>
          <p:cNvGrpSpPr/>
          <p:nvPr/>
        </p:nvGrpSpPr>
        <p:grpSpPr>
          <a:xfrm>
            <a:off x="6305400" y="560520"/>
            <a:ext cx="2028960" cy="1753920"/>
            <a:chOff x="6305400" y="560520"/>
            <a:chExt cx="2028960" cy="1753920"/>
          </a:xfrm>
        </p:grpSpPr>
        <p:grpSp>
          <p:nvGrpSpPr>
            <p:cNvPr id="189" name="Группа 783"/>
            <p:cNvGrpSpPr/>
            <p:nvPr/>
          </p:nvGrpSpPr>
          <p:grpSpPr>
            <a:xfrm>
              <a:off x="6305400" y="560520"/>
              <a:ext cx="2028960" cy="1753920"/>
              <a:chOff x="6305400" y="560520"/>
              <a:chExt cx="2028960" cy="1753920"/>
            </a:xfrm>
          </p:grpSpPr>
          <p:grpSp>
            <p:nvGrpSpPr>
              <p:cNvPr id="190" name="Группа 784"/>
              <p:cNvGrpSpPr/>
              <p:nvPr/>
            </p:nvGrpSpPr>
            <p:grpSpPr>
              <a:xfrm>
                <a:off x="6305400" y="560520"/>
                <a:ext cx="2028960" cy="1753920"/>
                <a:chOff x="6305400" y="560520"/>
                <a:chExt cx="2028960" cy="1753920"/>
              </a:xfrm>
            </p:grpSpPr>
            <p:grpSp>
              <p:nvGrpSpPr>
                <p:cNvPr id="191" name="Группа 785"/>
                <p:cNvGrpSpPr/>
                <p:nvPr/>
              </p:nvGrpSpPr>
              <p:grpSpPr>
                <a:xfrm>
                  <a:off x="6305400" y="560520"/>
                  <a:ext cx="2028960" cy="1753920"/>
                  <a:chOff x="6305400" y="560520"/>
                  <a:chExt cx="2028960" cy="1753920"/>
                </a:xfrm>
              </p:grpSpPr>
              <p:grpSp>
                <p:nvGrpSpPr>
                  <p:cNvPr id="192" name="Группа 786"/>
                  <p:cNvGrpSpPr/>
                  <p:nvPr/>
                </p:nvGrpSpPr>
                <p:grpSpPr>
                  <a:xfrm>
                    <a:off x="6430680" y="690840"/>
                    <a:ext cx="1903680" cy="1623600"/>
                    <a:chOff x="6430680" y="690840"/>
                    <a:chExt cx="1903680" cy="1623600"/>
                  </a:xfrm>
                </p:grpSpPr>
                <p:sp>
                  <p:nvSpPr>
                    <p:cNvPr id="193" name="Восьмиугольник 787"/>
                    <p:cNvSpPr/>
                    <p:nvPr/>
                  </p:nvSpPr>
                  <p:spPr>
                    <a:xfrm>
                      <a:off x="6513480" y="763560"/>
                      <a:ext cx="1748880" cy="1487520"/>
                    </a:xfrm>
                    <a:prstGeom prst="octagon">
                      <a:avLst>
                        <a:gd name="adj" fmla="val 29287"/>
                      </a:avLst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Овал 788"/>
                    <p:cNvSpPr/>
                    <p:nvPr/>
                  </p:nvSpPr>
                  <p:spPr>
                    <a:xfrm>
                      <a:off x="6527880" y="778320"/>
                      <a:ext cx="1720440" cy="14608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Прямая соединительная линия 789"/>
                    <p:cNvSpPr/>
                    <p:nvPr/>
                  </p:nvSpPr>
                  <p:spPr>
                    <a:xfrm flipH="1" flipV="1">
                      <a:off x="6513480" y="1204560"/>
                      <a:ext cx="1748160" cy="604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Прямая соединительная линия 790"/>
                    <p:cNvSpPr/>
                    <p:nvPr/>
                  </p:nvSpPr>
                  <p:spPr>
                    <a:xfrm flipV="1">
                      <a:off x="6513480" y="1204200"/>
                      <a:ext cx="1748160" cy="615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Прямая соединительная линия 791"/>
                    <p:cNvSpPr/>
                    <p:nvPr/>
                  </p:nvSpPr>
                  <p:spPr>
                    <a:xfrm>
                      <a:off x="7023240" y="763560"/>
                      <a:ext cx="735840" cy="1487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Прямая соединительная линия 792"/>
                    <p:cNvSpPr/>
                    <p:nvPr/>
                  </p:nvSpPr>
                  <p:spPr>
                    <a:xfrm flipV="1">
                      <a:off x="7023240" y="763200"/>
                      <a:ext cx="735480" cy="1487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Прямая соединительная линия 793"/>
                    <p:cNvSpPr/>
                    <p:nvPr/>
                  </p:nvSpPr>
                  <p:spPr>
                    <a:xfrm flipH="1">
                      <a:off x="6522120" y="1509120"/>
                      <a:ext cx="1726560" cy="1800"/>
                    </a:xfrm>
                    <a:prstGeom prst="line">
                      <a:avLst/>
                    </a:prstGeom>
                    <a:ln w="93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Овал 794"/>
                    <p:cNvSpPr/>
                    <p:nvPr/>
                  </p:nvSpPr>
                  <p:spPr>
                    <a:xfrm>
                      <a:off x="6430680" y="690840"/>
                      <a:ext cx="1903680" cy="16236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Прямая соединительная линия 795"/>
                    <p:cNvSpPr/>
                    <p:nvPr/>
                  </p:nvSpPr>
                  <p:spPr>
                    <a:xfrm flipH="1" flipV="1">
                      <a:off x="6788520" y="990000"/>
                      <a:ext cx="1219680" cy="1037160"/>
                    </a:xfrm>
                    <a:prstGeom prst="line">
                      <a:avLst/>
                    </a:prstGeom>
                    <a:ln w="93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Прямая соединительная линия 796"/>
                    <p:cNvSpPr/>
                    <p:nvPr/>
                  </p:nvSpPr>
                  <p:spPr>
                    <a:xfrm>
                      <a:off x="7395480" y="778320"/>
                      <a:ext cx="0" cy="1460520"/>
                    </a:xfrm>
                    <a:prstGeom prst="line">
                      <a:avLst/>
                    </a:prstGeom>
                    <a:ln w="93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Прямая соединительная линия 797"/>
                    <p:cNvSpPr/>
                    <p:nvPr/>
                  </p:nvSpPr>
                  <p:spPr>
                    <a:xfrm flipV="1">
                      <a:off x="6774120" y="987480"/>
                      <a:ext cx="1245600" cy="1027800"/>
                    </a:xfrm>
                    <a:prstGeom prst="line">
                      <a:avLst/>
                    </a:prstGeom>
                    <a:ln w="9360">
                      <a:solidFill>
                        <a:srgbClr val="007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Овал 798"/>
                    <p:cNvSpPr/>
                    <p:nvPr/>
                  </p:nvSpPr>
                  <p:spPr>
                    <a:xfrm>
                      <a:off x="7369920" y="1484640"/>
                      <a:ext cx="53280" cy="453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5" name="Надпись 799"/>
                  <p:cNvSpPr/>
                  <p:nvPr/>
                </p:nvSpPr>
                <p:spPr>
                  <a:xfrm>
                    <a:off x="6305400" y="105588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А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1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Надпись 800"/>
                  <p:cNvSpPr/>
                  <p:nvPr/>
                </p:nvSpPr>
                <p:spPr>
                  <a:xfrm>
                    <a:off x="6870240" y="56052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А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2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Надпись 801"/>
                  <p:cNvSpPr/>
                  <p:nvPr/>
                </p:nvSpPr>
                <p:spPr>
                  <a:xfrm>
                    <a:off x="7780680" y="59004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А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3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Надпись 802"/>
                  <p:cNvSpPr/>
                  <p:nvPr/>
                </p:nvSpPr>
                <p:spPr>
                  <a:xfrm>
                    <a:off x="6333120" y="176760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А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n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Надпись 803"/>
                  <p:cNvSpPr/>
                  <p:nvPr/>
                </p:nvSpPr>
                <p:spPr>
                  <a:xfrm>
                    <a:off x="6559920" y="133452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H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n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Надпись 804"/>
                  <p:cNvSpPr/>
                  <p:nvPr/>
                </p:nvSpPr>
                <p:spPr>
                  <a:xfrm>
                    <a:off x="6866640" y="90432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H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1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Надпись 805"/>
                  <p:cNvSpPr/>
                  <p:nvPr/>
                </p:nvSpPr>
                <p:spPr>
                  <a:xfrm>
                    <a:off x="7414200" y="76788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H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2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Надпись 806"/>
                  <p:cNvSpPr/>
                  <p:nvPr/>
                </p:nvSpPr>
                <p:spPr>
                  <a:xfrm>
                    <a:off x="7934040" y="1023120"/>
                    <a:ext cx="282240" cy="21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ru-RU" sz="1100" spc="-1" strike="noStrike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H</a:t>
                    </a:r>
                    <a:r>
                      <a:rPr b="0" i="1" lang="ru-RU" sz="1100" spc="-1" strike="noStrike" baseline="-25000">
                        <a:solidFill>
                          <a:srgbClr val="000033"/>
                        </a:solidFill>
                        <a:latin typeface="Calibri"/>
                        <a:ea typeface="Arial"/>
                      </a:rPr>
                      <a:t>3</a:t>
                    </a:r>
                    <a:endParaRPr b="0" lang="en-US" sz="1100" spc="-1" strike="noStrike">
                      <a:solidFill>
                        <a:srgbClr val="0000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Овал 807"/>
                <p:cNvSpPr/>
                <p:nvPr/>
              </p:nvSpPr>
              <p:spPr>
                <a:xfrm>
                  <a:off x="6480360" y="1181880"/>
                  <a:ext cx="53280" cy="4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Овал 808"/>
                <p:cNvSpPr/>
                <p:nvPr/>
              </p:nvSpPr>
              <p:spPr>
                <a:xfrm>
                  <a:off x="6756840" y="962640"/>
                  <a:ext cx="53280" cy="4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Надпись 809"/>
              <p:cNvSpPr/>
              <p:nvPr/>
            </p:nvSpPr>
            <p:spPr>
              <a:xfrm>
                <a:off x="7476840" y="1461960"/>
                <a:ext cx="173520" cy="16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100" spc="-1" strike="noStrike">
                    <a:solidFill>
                      <a:srgbClr val="000033"/>
                    </a:solidFill>
                    <a:latin typeface="Calibri"/>
                    <a:ea typeface="Arial"/>
                  </a:rPr>
                  <a:t>O</a:t>
                </a:r>
                <a:endParaRPr b="0" lang="en-US" sz="11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</p:grpSp>
        <p:sp>
          <p:nvSpPr>
            <p:cNvPr id="216" name="Прямая соединительная линия 810"/>
            <p:cNvSpPr/>
            <p:nvPr/>
          </p:nvSpPr>
          <p:spPr>
            <a:xfrm flipV="1">
              <a:off x="6510960" y="1097280"/>
              <a:ext cx="119160" cy="102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217" name="Прямая соединительная линия 811"/>
            <p:cNvSpPr/>
            <p:nvPr/>
          </p:nvSpPr>
          <p:spPr>
            <a:xfrm>
              <a:off x="6514560" y="1195200"/>
              <a:ext cx="0" cy="145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218" name="Прямоугольник 32"/>
          <p:cNvSpPr/>
          <p:nvPr/>
        </p:nvSpPr>
        <p:spPr>
          <a:xfrm>
            <a:off x="247680" y="874800"/>
            <a:ext cx="586728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Рассмотрим прямоугольный треугольник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А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Н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О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. Угол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А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рассматриваемого треугольника будет равен половине угл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α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n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многоугольника (отмечен красным), т.к. сторона треугольник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А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О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является так же биссектрисой угл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α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n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многоугольника.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9" name="Прямоугольник 33"/>
          <p:cNvSpPr/>
          <p:nvPr/>
        </p:nvSpPr>
        <p:spPr>
          <a:xfrm>
            <a:off x="343080" y="2362320"/>
            <a:ext cx="8229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о формуле вычисления угл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α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правильного многоугольника                        , применяя простые преобразования получим равенство для угл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А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рассматриваемого треугольника: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1" name="Picture 32" descr=""/>
          <p:cNvPicPr/>
          <p:nvPr/>
        </p:nvPicPr>
        <p:blipFill>
          <a:blip r:embed="rId1"/>
          <a:stretch/>
        </p:blipFill>
        <p:spPr>
          <a:xfrm>
            <a:off x="6448320" y="2333520"/>
            <a:ext cx="1254240" cy="4096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3" name="Picture 34" descr=""/>
          <p:cNvPicPr/>
          <p:nvPr/>
        </p:nvPicPr>
        <p:blipFill>
          <a:blip r:embed="rId2"/>
          <a:stretch/>
        </p:blipFill>
        <p:spPr>
          <a:xfrm>
            <a:off x="3733920" y="2952720"/>
            <a:ext cx="2530440" cy="3729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1"/>
          <p:cNvSpPr/>
          <p:nvPr/>
        </p:nvSpPr>
        <p:spPr>
          <a:xfrm>
            <a:off x="428760" y="3295800"/>
            <a:ext cx="82674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олагая, что сторона правильного многоугольника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a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n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будет равна                 , учитывая, что треугольник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А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Н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1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О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 является прямоугольным, воспользуемся соотношениями между сторонами и углами прямоугольного треугольника.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Получим следующее равенство: 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α</a:t>
            </a:r>
            <a:r>
              <a:rPr b="0" i="1" lang="ru-RU" sz="1800" spc="-1" strike="noStrike" baseline="-25000">
                <a:solidFill>
                  <a:srgbClr val="000033"/>
                </a:solidFill>
                <a:latin typeface="Times New Roman"/>
                <a:ea typeface="Arial"/>
              </a:rPr>
              <a:t>n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5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6" name="Picture 39" descr=""/>
          <p:cNvPicPr/>
          <p:nvPr/>
        </p:nvPicPr>
        <p:blipFill>
          <a:blip r:embed="rId3"/>
          <a:stretch/>
        </p:blipFill>
        <p:spPr>
          <a:xfrm>
            <a:off x="6953400" y="3371760"/>
            <a:ext cx="914400" cy="243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8" name="Picture 41" descr=""/>
          <p:cNvPicPr/>
          <p:nvPr/>
        </p:nvPicPr>
        <p:blipFill>
          <a:blip r:embed="rId4"/>
          <a:stretch/>
        </p:blipFill>
        <p:spPr>
          <a:xfrm>
            <a:off x="3914640" y="4191120"/>
            <a:ext cx="3414960" cy="342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3"/>
          <p:cNvSpPr/>
          <p:nvPr/>
        </p:nvSpPr>
        <p:spPr>
          <a:xfrm>
            <a:off x="4452480" y="387360"/>
            <a:ext cx="2386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.</a:t>
            </a:r>
            <a:r>
              <a:rPr b="0" lang="ru-RU" sz="600" spc="-1" strike="noStrike">
                <a:solidFill>
                  <a:srgbClr val="000033"/>
                </a:solidFill>
                <a:latin typeface="Times New Roman"/>
                <a:ea typeface="Arial"/>
              </a:rPr>
              <a:t> </a:t>
            </a:r>
            <a:endParaRPr b="0" lang="en-US" sz="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0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1" name="Прямоугольник 49"/>
          <p:cNvSpPr/>
          <p:nvPr/>
        </p:nvSpPr>
        <p:spPr>
          <a:xfrm>
            <a:off x="488880" y="462600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Итак, </a:t>
            </a: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сторона правильного многоугольника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2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33" name="Picture 46" descr=""/>
          <p:cNvPicPr/>
          <p:nvPr/>
        </p:nvPicPr>
        <p:blipFill>
          <a:blip r:embed="rId5"/>
          <a:stretch/>
        </p:blipFill>
        <p:spPr>
          <a:xfrm>
            <a:off x="5219640" y="4533840"/>
            <a:ext cx="1633680" cy="5335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52"/>
          <p:cNvSpPr/>
          <p:nvPr/>
        </p:nvSpPr>
        <p:spPr>
          <a:xfrm>
            <a:off x="1143000" y="500688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Arial"/>
              </a:rPr>
              <a:t>радиус вписанной окружности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36" name="Picture 48" descr=""/>
          <p:cNvPicPr/>
          <p:nvPr/>
        </p:nvPicPr>
        <p:blipFill>
          <a:blip r:embed="rId6"/>
          <a:stretch/>
        </p:blipFill>
        <p:spPr>
          <a:xfrm>
            <a:off x="4448160" y="4952880"/>
            <a:ext cx="134460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4880" y="26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Формулы расчета сторон для правильного треугольника, квадрата и правильного шестиуголь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"/>
          <p:cNvSpPr/>
          <p:nvPr/>
        </p:nvSpPr>
        <p:spPr>
          <a:xfrm>
            <a:off x="652680" y="207324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Треугольник: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2666880" y="1933560"/>
            <a:ext cx="4881600" cy="6285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6"/>
          <p:cNvSpPr/>
          <p:nvPr/>
        </p:nvSpPr>
        <p:spPr>
          <a:xfrm>
            <a:off x="707400" y="295920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Квадрат: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2181240" y="2895480"/>
            <a:ext cx="4659120" cy="6001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3143160" y="3876840"/>
            <a:ext cx="4237200" cy="5428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11"/>
          <p:cNvSpPr/>
          <p:nvPr/>
        </p:nvSpPr>
        <p:spPr>
          <a:xfrm>
            <a:off x="729720" y="38736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Шестиугольник: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Задание 1. </a:t>
            </a:r>
            <a:r>
              <a:rPr b="0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Сторона шестиугольника равна 4 см. Вычислите диаметр описанной окру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571680" y="2408400"/>
            <a:ext cx="822960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а)       ;      б) 12;         в) 8;      г) 4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9" name="AutoShape 2"/>
          <p:cNvSpPr/>
          <p:nvPr/>
        </p:nvSpPr>
        <p:spPr>
          <a:xfrm>
            <a:off x="5724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981000" y="3305160"/>
            <a:ext cx="522360" cy="447840"/>
          </a:xfrm>
          <a:prstGeom prst="rect">
            <a:avLst/>
          </a:prstGeom>
          <a:ln w="0">
            <a:noFill/>
          </a:ln>
        </p:spPr>
      </p:pic>
      <p:sp>
        <p:nvSpPr>
          <p:cNvPr id="252" name="Заголовок 1"/>
          <p:cNvSpPr/>
          <p:nvPr/>
        </p:nvSpPr>
        <p:spPr>
          <a:xfrm>
            <a:off x="457200" y="5181480"/>
            <a:ext cx="82296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в) 8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Задание 2. </a:t>
            </a:r>
            <a:r>
              <a:rPr b="0" lang="ru-RU" sz="3600" spc="-1" strike="noStrike">
                <a:solidFill>
                  <a:srgbClr val="3a88a0"/>
                </a:solidFill>
                <a:latin typeface="Arial"/>
              </a:rPr>
              <a:t>Правильный многоугольник имеет восемь сторон. Рассчитайте углы многоуголь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Заголовок 1"/>
          <p:cNvSpPr/>
          <p:nvPr/>
        </p:nvSpPr>
        <p:spPr>
          <a:xfrm>
            <a:off x="571680" y="2408400"/>
            <a:ext cx="8229600" cy="22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арианты ответов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а) 135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;      б) 172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;         в) 145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;      г) 150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5724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7" name="Заголовок 1"/>
          <p:cNvSpPr/>
          <p:nvPr/>
        </p:nvSpPr>
        <p:spPr>
          <a:xfrm>
            <a:off x="600120" y="5191200"/>
            <a:ext cx="82296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 а) 135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°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07084"/>
                </a:solidFill>
                <a:latin typeface="Times New Roman"/>
                <a:ea typeface="Times New Roman"/>
              </a:rPr>
              <a:t>Задание 3. </a:t>
            </a:r>
            <a:r>
              <a:rPr b="0" lang="ru-RU" sz="3600" spc="-1" strike="noStrike">
                <a:solidFill>
                  <a:srgbClr val="3a88a0"/>
                </a:solidFill>
                <a:latin typeface="Arial"/>
              </a:rPr>
              <a:t>Какое слово требуется убрать для того, чтобы получилось верное утверждение.</a:t>
            </a:r>
            <a:br>
              <a:rPr sz="3600"/>
            </a:br>
            <a:br>
              <a:rPr sz="3600"/>
            </a:br>
            <a:r>
              <a:rPr b="0" i="1" lang="ru-RU" sz="3200" spc="-1" strike="noStrike">
                <a:solidFill>
                  <a:srgbClr val="6600ff"/>
                </a:solidFill>
                <a:latin typeface="Monotype Corsiva"/>
              </a:rPr>
              <a:t>Площадь треугольника равна половине периметра </a:t>
            </a:r>
            <a:br>
              <a:rPr sz="3200"/>
            </a:br>
            <a:r>
              <a:rPr b="0" i="1" lang="ru-RU" sz="3200" spc="-1" strike="noStrike">
                <a:solidFill>
                  <a:srgbClr val="6600ff"/>
                </a:solidFill>
                <a:latin typeface="Monotype Corsiva"/>
              </a:rPr>
              <a:t>произведения его основания умноженное на выс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5724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378000" y="4548240"/>
            <a:ext cx="83642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3-02-06T13:15:52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