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33.jpeg" ContentType="image/jpeg"/>
  <Override PartName="/ppt/media/image27.jpeg" ContentType="image/jpeg"/>
  <Override PartName="/ppt/media/image41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FAB-5447-469D-8DB0-F1B78253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DBE-92AB-499E-B3E1-F2F092D3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4AC-79CE-463E-A586-4A190BCA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A4F-372D-42F0-B56D-CF38E796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CDDC-1549-419D-96BF-17EED7A8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D1EC-74C5-4933-86B8-4D9C04F6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732C-4F6D-49E0-A537-A2812922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0337-BD22-4B00-8EEC-55840225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194F-515E-49FF-99DC-17D402EE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8D67-AA92-4ACA-83AA-548E3278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765B-E73A-4F92-B323-EC6C957C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6BF-BF10-4A79-8074-9684F55F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5252-F769-4FF6-8CCE-B775A7AE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7131-1E3E-4D48-9F4E-84A19061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1907-9B55-4A89-B9DF-C259144C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95ED-13A4-4EEE-AF8C-D08F09DA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FD23-0A2B-4CC8-B083-8AC6D7DC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C54-B84B-4EA6-B18C-AEDB36F2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AB2-617F-49C6-BDFE-25F9DD85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3E5-7A6A-416A-A924-89B79ECE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36A-F0F4-43D0-93F0-29BED72F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988-744E-45A2-AFCD-49B1583F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168-4CEB-4426-AF35-11BFA92D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630-01C3-4696-A32A-D4C4DD76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8046-A394-4F16-AB38-C800AEA72D3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5896-FFD1-4801-A0CF-F021FE268AD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17520" y="176040"/>
            <a:ext cx="8796240" cy="1884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892720" y="2899080"/>
            <a:ext cx="716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4" descr="Сувениры интересных мест :: География (город)"/>
          <p:cNvPicPr/>
          <p:nvPr/>
        </p:nvPicPr>
        <p:blipFill>
          <a:blip r:embed="rId2"/>
          <a:stretch/>
        </p:blipFill>
        <p:spPr>
          <a:xfrm>
            <a:off x="1403280" y="2060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16560" y="2492280"/>
            <a:ext cx="673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: обучающийся 10 Б кл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суков Ар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Каракчеева Анна Владимировна, воспита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3210840" y="21337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НСО «КШ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72440" cy="14446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500720" y="1484280"/>
            <a:ext cx="464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эты и писатели приезжают с концертами, дарят новые сборники стихов, посещают музей и, конечно, городскую библиотеку, общаются со школьниками и студентами, красотой поэтического слова воспитывают в них любовь и уважение к труду, предкам и малой родине.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Содержимое 3" descr="http://kainsk-today.ru/wp-content/uploads/2014/10/%D0%98%D0%B7%D0%BE%D0%B1%D1%80%D0%B0%D0%B6%D0%B5%D0%BD%D0%B8%D0%B5-111.jpg"/>
          <p:cNvPicPr/>
          <p:nvPr/>
        </p:nvPicPr>
        <p:blipFill>
          <a:blip r:embed="rId2"/>
          <a:stretch/>
        </p:blipFill>
        <p:spPr>
          <a:xfrm>
            <a:off x="395280" y="1628640"/>
            <a:ext cx="4068720" cy="3789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0720" y="-122400"/>
            <a:ext cx="8291520" cy="1444680"/>
          </a:xfrm>
          <a:prstGeom prst="rect">
            <a:avLst/>
          </a:prstGeom>
          <a:ln w="0">
            <a:noFill/>
          </a:ln>
        </p:spPr>
      </p:pic>
      <p:pic>
        <p:nvPicPr>
          <p:cNvPr id="119" name="гармошечка-говорушечка муз.Г.Левицкого слов.В.Мельникого.mp4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5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15280" cy="1446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6237360"/>
            <a:ext cx="460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" descr="http://virtualakolmuzy.3dn.ru/_si/0/s15195425.jpg"/>
          <p:cNvPicPr/>
          <p:nvPr/>
        </p:nvPicPr>
        <p:blipFill>
          <a:blip r:embed="rId2"/>
          <a:stretch/>
        </p:blipFill>
        <p:spPr>
          <a:xfrm>
            <a:off x="179280" y="2276640"/>
            <a:ext cx="4248360" cy="38163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4427640" y="1628640"/>
            <a:ext cx="453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лся в 1963году , художник-пейзажи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воем творчестве В.А. Гайер отдает преимущество живописи и графики, но основное направление в творчестве В. А. Гайера- пейзаж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ы Гайера являются украшением выставочных залов города: краеведческого музея, центральной библиотеки, художественной школы, дворца культуры им. Куйбыш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250920" y="134136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айер Валерий Адольф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7260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6264000"/>
            <a:ext cx="46080" cy="44280"/>
          </a:xfrm>
          <a:prstGeom prst="rect">
            <a:avLst/>
          </a:prstGeom>
          <a:noFill/>
          <a:ln w="0">
            <a:noFill/>
          </a:ln>
        </p:spPr>
        <p:txBody>
          <a:bodyPr tIns="-1440" bIns="-144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http://virtualakolmuzy.3dn.ru/_si/0/42544838.jpg"/>
          <p:cNvPicPr/>
          <p:nvPr/>
        </p:nvPicPr>
        <p:blipFill>
          <a:blip r:embed="rId1"/>
          <a:stretch/>
        </p:blipFill>
        <p:spPr>
          <a:xfrm>
            <a:off x="250920" y="0"/>
            <a:ext cx="4030560" cy="27813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4"/>
          <p:cNvSpPr/>
          <p:nvPr/>
        </p:nvSpPr>
        <p:spPr>
          <a:xfrm>
            <a:off x="250920" y="28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. Гайер «Июль. Полдень»  холст, мас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http://virtualakolmuzy.3dn.ru/_si/0/72282256.jpg"/>
          <p:cNvPicPr/>
          <p:nvPr/>
        </p:nvPicPr>
        <p:blipFill>
          <a:blip r:embed="rId2"/>
          <a:stretch/>
        </p:blipFill>
        <p:spPr>
          <a:xfrm>
            <a:off x="4840200" y="0"/>
            <a:ext cx="4303800" cy="22003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6"/>
          <p:cNvSpPr/>
          <p:nvPr/>
        </p:nvSpPr>
        <p:spPr>
          <a:xfrm>
            <a:off x="5003640" y="234936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Гайер «У озера»  холст, ма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http://virtualakolmuzy.3dn.ru/_si/0/34213420.jpg"/>
          <p:cNvPicPr/>
          <p:nvPr/>
        </p:nvPicPr>
        <p:blipFill>
          <a:blip r:embed="rId3"/>
          <a:stretch/>
        </p:blipFill>
        <p:spPr>
          <a:xfrm>
            <a:off x="539640" y="3284640"/>
            <a:ext cx="3295800" cy="27604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8"/>
          <p:cNvSpPr/>
          <p:nvPr/>
        </p:nvSpPr>
        <p:spPr>
          <a:xfrm flipH="1">
            <a:off x="395280" y="623736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Гайер «Золотая осень» холст, ма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http://virtualakolmuzy.3dn.ru/_si/0/16426802.jpg"/>
          <p:cNvPicPr/>
          <p:nvPr/>
        </p:nvPicPr>
        <p:blipFill>
          <a:blip r:embed="rId4"/>
          <a:stretch/>
        </p:blipFill>
        <p:spPr>
          <a:xfrm>
            <a:off x="5003640" y="3284640"/>
            <a:ext cx="4140360" cy="25621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10"/>
          <p:cNvSpPr/>
          <p:nvPr/>
        </p:nvSpPr>
        <p:spPr>
          <a:xfrm>
            <a:off x="5292720" y="609300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Гайер «Вечер» холст, ма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6237360"/>
            <a:ext cx="460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virtualakolmuzy.3dn.ru/_si/0/s09302204.jpg"/>
          <p:cNvPicPr/>
          <p:nvPr/>
        </p:nvPicPr>
        <p:blipFill>
          <a:blip r:embed="rId2"/>
          <a:stretch/>
        </p:blipFill>
        <p:spPr>
          <a:xfrm>
            <a:off x="250920" y="1844640"/>
            <a:ext cx="3457440" cy="388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3924360" y="1487160"/>
            <a:ext cx="4968720" cy="4057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Родился в 1927, композитор, поэт, худож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Вырос в селе Булатово Куйбышевского район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сятки песен А.П. Карпова входят в репертуарные листки и музыкальные сборники, звучат на клубных сценах города и района, их включают в свой репертуар Новосибирский государственный народный хор, Омский народный хор, а самого композитора принимают в секцию композиторов областного Дома народного твор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324000" y="1052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Карпов Анатолий Павл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75760" cy="1322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6264000"/>
            <a:ext cx="154080" cy="44280"/>
          </a:xfrm>
          <a:prstGeom prst="rect">
            <a:avLst/>
          </a:prstGeom>
          <a:noFill/>
          <a:ln w="0">
            <a:noFill/>
          </a:ln>
        </p:spPr>
        <p:txBody>
          <a:bodyPr tIns="-1440" bIns="-144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" descr="http://virtualakolmuzy.3dn.ru/_si/0/s30066259.jpg"/>
          <p:cNvPicPr/>
          <p:nvPr/>
        </p:nvPicPr>
        <p:blipFill>
          <a:blip r:embed="rId2"/>
          <a:stretch/>
        </p:blipFill>
        <p:spPr>
          <a:xfrm>
            <a:off x="684360" y="1773360"/>
            <a:ext cx="4103640" cy="2789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virtualakolmuzy.3dn.ru/_si/0/s87758952.jpg"/>
          <p:cNvPicPr/>
          <p:nvPr/>
        </p:nvPicPr>
        <p:blipFill>
          <a:blip r:embed="rId3"/>
          <a:stretch/>
        </p:blipFill>
        <p:spPr>
          <a:xfrm>
            <a:off x="5580000" y="1413000"/>
            <a:ext cx="3384720" cy="32590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5"/>
          <p:cNvSpPr/>
          <p:nvPr/>
        </p:nvSpPr>
        <p:spPr>
          <a:xfrm>
            <a:off x="5292720" y="47214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  Карпов. «Осень» картон, мас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611280" y="47214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Карпов «Отражение» картон, мас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33520"/>
          </a:xfrm>
          <a:prstGeom prst="rect">
            <a:avLst/>
          </a:prstGeom>
          <a:ln w="0">
            <a:noFill/>
          </a:ln>
        </p:spPr>
      </p:pic>
      <p:pic>
        <p:nvPicPr>
          <p:cNvPr id="147" name="Содержимое 3" descr="http://kainsk-today.ru/wp-content/uploads/2014/09/%D0%98%D0%B7%D0%BE%D0%B1%D1%80%D0%B0%D0%B6%D0%B5%D0%BD%D0%B8%D0%B5-112.jpg"/>
          <p:cNvPicPr/>
          <p:nvPr/>
        </p:nvPicPr>
        <p:blipFill>
          <a:blip r:embed="rId2"/>
          <a:stretch/>
        </p:blipFill>
        <p:spPr>
          <a:xfrm>
            <a:off x="179280" y="1052640"/>
            <a:ext cx="4645080" cy="3816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http://kainsk-today.ru/wp-content/uploads/2014/09/%D0%98%D0%B7%D0%BE%D0%B1%D1%80%D0%B0%D0%B6%D0%B5%D0%BD%D0%B8%D0%B5-0201.jpg"/>
          <p:cNvPicPr/>
          <p:nvPr/>
        </p:nvPicPr>
        <p:blipFill>
          <a:blip r:embed="rId3"/>
          <a:stretch/>
        </p:blipFill>
        <p:spPr>
          <a:xfrm>
            <a:off x="5148360" y="1052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6"/>
          <p:cNvSpPr/>
          <p:nvPr/>
        </p:nvSpPr>
        <p:spPr>
          <a:xfrm>
            <a:off x="250920" y="508464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Карпов «Осенние перелив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тон, ма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5076720" y="443700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Карпов «Ностальг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тон, ма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15280" cy="144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57200" y="2997360"/>
            <a:ext cx="404352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2" descr="002"/>
          <p:cNvPicPr/>
          <p:nvPr/>
        </p:nvPicPr>
        <p:blipFill>
          <a:blip r:embed="rId2"/>
          <a:stretch/>
        </p:blipFill>
        <p:spPr>
          <a:xfrm>
            <a:off x="0" y="1989000"/>
            <a:ext cx="4930920" cy="3888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4"/>
          <p:cNvSpPr/>
          <p:nvPr/>
        </p:nvSpPr>
        <p:spPr>
          <a:xfrm>
            <a:off x="0" y="148428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заров Юрий Николае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7"/>
          <p:cNvSpPr/>
          <p:nvPr/>
        </p:nvSpPr>
        <p:spPr>
          <a:xfrm>
            <a:off x="4932360" y="1413000"/>
            <a:ext cx="4211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наружил в себе талант художника в 57 лет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вляется мастером спорта по легкой атлетике, а еще он служил на Тихоокеанском и Северном флотах. Первые живописные мазки, превратившиеся в художественную картину, он нанес на оргалит, а сегодня, наблюдая за природой, пытается приобрести навыки своеобразной передачи своих эмоций, чувств, настроения на холс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57" name="Содержимое 3" descr="DSC_0022"/>
          <p:cNvPicPr/>
          <p:nvPr/>
        </p:nvPicPr>
        <p:blipFill>
          <a:blip r:embed="rId2"/>
          <a:stretch/>
        </p:blipFill>
        <p:spPr>
          <a:xfrm>
            <a:off x="179280" y="1484280"/>
            <a:ext cx="4375080" cy="29973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DSC_0023"/>
          <p:cNvPicPr/>
          <p:nvPr/>
        </p:nvPicPr>
        <p:blipFill>
          <a:blip r:embed="rId3"/>
          <a:stretch/>
        </p:blipFill>
        <p:spPr>
          <a:xfrm>
            <a:off x="4680000" y="3789360"/>
            <a:ext cx="4464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400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48171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0"/>
            <a:ext cx="561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ОРОДУ ПЕРЕД РАЗЛУКО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 свидания, мой город, до свиданьиц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прощанье слово тёплое скажи. Уезжа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сть надолго мы расстанемс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душой всегда с тобой буду жить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ти, что будут пройдены, трудны и далек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окна малой родины  горят, как мая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планета, несмотря на беды, вертитс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ремя мчится, наши годы тереб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настанет час, когда мы снова встретим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воочию увижу вновь теб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олышутся по Омке зори ранни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овно в годы наилучшие мо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приду я, как на первое свидани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 повзрослевшим новым улицам твои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сть года летят, забвением гроз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 вернусь сквозь времена и расстояни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тому что жить без Родины нельзя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ихи: Ивана Быкова ,                                                                                                        журналист- краевед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2" descr="МК: Река Омь: рыбалка, базы отдыха, отчеты, карта, виды рыб, описание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060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9 июня 2013 года приглашаем в однодневный экскурсионный тур &quot;Каинск исторический&quot;! . Библиотека сибирского краеведения"/>
          <p:cNvPicPr/>
          <p:nvPr/>
        </p:nvPicPr>
        <p:blipFill>
          <a:blip r:embed="rId2"/>
          <a:stretch/>
        </p:blipFill>
        <p:spPr>
          <a:xfrm>
            <a:off x="5867280" y="2060640"/>
            <a:ext cx="3276720" cy="22273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http://kainsk-today.ru/wp-content/uploads/2014/10/%D0%98%D0%B7%D0%BE%D0%B1%D1%80%D0%B0%D0%B6%D0%B5%D0%BD%D0%B8%D0%B5-079.jpg"/>
          <p:cNvPicPr/>
          <p:nvPr/>
        </p:nvPicPr>
        <p:blipFill>
          <a:blip r:embed="rId3"/>
          <a:stretch/>
        </p:blipFill>
        <p:spPr>
          <a:xfrm>
            <a:off x="5668920" y="4446720"/>
            <a:ext cx="34750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2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2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20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20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20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2000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2000"/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2000"/>
                                        <p:tgtEl>
                                          <p:spTgt spid="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72440" cy="160956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3" descr="http://infomania.ru/kuibyshev/blok/img/f5zhw5ucfajba38s.jpg"/>
          <p:cNvPicPr/>
          <p:nvPr/>
        </p:nvPicPr>
        <p:blipFill>
          <a:blip r:embed="rId2"/>
          <a:stretch/>
        </p:blipFill>
        <p:spPr>
          <a:xfrm>
            <a:off x="5651640" y="1557360"/>
            <a:ext cx="3492360" cy="28796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324000" y="1413000"/>
            <a:ext cx="540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тельный сибирский поэт-земляк Владимир Федорович Балачан, который долгое время жил и работал в нашем городе Куйбышеве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эзии его свойственно умение пристально вглядываться в повседневную жизнь. Он пишет о том, что любит и хорошо знает: о родной сибирской земле, ее людях, очень обыкновенных и негромких в проявлении своего человеческого бытия: жить по совести, трудится по долгу, любить по чувству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мне не надо лучшей доли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 горизонтами искать…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жизнь прожить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это пол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перейти, и распах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-255600"/>
            <a:ext cx="8272440" cy="1444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05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ладимир Федорович -поэт, в творчестве которого живет и дышит душа русского челове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 вышел к озеру Чаны                              Вода, как небо голуб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опой нехоженой и росной,                   Зеркальная. Ни бугороч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де по ступенькам тишины                      А возле озера-хлеба,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нялось солнце над березой.               Как золотая отороч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ом направило стопы                           Моя родительница-степь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о по выпуклому небу,                          Твои хлеба, луга и воды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по воде, по всей степи                       Увы! - мне краше не воспе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нуло утро спелым хлебом.                 Чем создала сама прир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5" descr="Россия: Озеро Чаны"/>
          <p:cNvPicPr/>
          <p:nvPr/>
        </p:nvPicPr>
        <p:blipFill>
          <a:blip r:embed="rId2"/>
          <a:stretch/>
        </p:blipFill>
        <p:spPr>
          <a:xfrm>
            <a:off x="5327640" y="5013360"/>
            <a:ext cx="381636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Озеро Чаны (Новосибирская область) - 29 Ноября 2011 - Рыбалка в Сибири"/>
          <p:cNvPicPr/>
          <p:nvPr/>
        </p:nvPicPr>
        <p:blipFill>
          <a:blip r:embed="rId3"/>
          <a:stretch/>
        </p:blipFill>
        <p:spPr>
          <a:xfrm>
            <a:off x="0" y="4989600"/>
            <a:ext cx="493236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-360"/>
            <a:ext cx="8507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слова В. Балачана была написана широко известная песня «Хлеб всему голова», которая в свое время стала визитной карточкой Всесоюзного хора им. Пятницк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5" descr="Хлеб - всему голова - Картинка 14318/22"/>
          <p:cNvPicPr/>
          <p:nvPr/>
        </p:nvPicPr>
        <p:blipFill>
          <a:blip r:embed="rId1"/>
          <a:stretch/>
        </p:blipFill>
        <p:spPr>
          <a:xfrm>
            <a:off x="1979640" y="2637000"/>
            <a:ext cx="506736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7260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ХЛЕБ ВСЕМУ ГОЛОВА. ОЛЬГА ВОРОНЕЦ.mp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3608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20517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-152280"/>
            <a:ext cx="8272440" cy="14446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4788000" y="1268280"/>
            <a:ext cx="435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ш земляк, писатель, журналист, заслуженный работник культуры  Российской Федерации . Детство и юность Евгения Михайловича прошли в городе Куйбышеве. Более сорока лет он живёт в уральском городе Полевском, но часто приезжает на родину.  Подарил читателям библиотеки свои новые книги: «Нас много, Родина - одна», «Спортивная сюит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395280" y="112536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вгений Михайлович Кожевни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Содержимое 3" descr="http://kainsk-today.ru/wp-content/uploads/2014/10/%D0%98%D0%B7%D0%BE%D0%B1%D1%80%D0%B0%D0%B6%D0%B5%D0%BD%D0%B8%D0%B5-1101.jpg"/>
          <p:cNvPicPr/>
          <p:nvPr/>
        </p:nvPicPr>
        <p:blipFill>
          <a:blip r:embed="rId2"/>
          <a:stretch/>
        </p:blipFill>
        <p:spPr>
          <a:xfrm>
            <a:off x="179280" y="2060640"/>
            <a:ext cx="4105440" cy="360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6840" y="5445000"/>
            <a:ext cx="82440" cy="1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63680" y="-182520"/>
            <a:ext cx="8272440" cy="1444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067280" y="1412640"/>
            <a:ext cx="489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димир Миронович Рязан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дился в 1947 г. в д.Соколовка Куйбышевского района НСО. Писать начал с 10 лет, сначала стихи, потом- рассказы и очерки. Сотрудничает с газетой «Трудовая жизнь». Закончил сначала Куйбышевский сельхоз техникум, затем окончил Томский институт.  В. Рязанов – автор многих очерков о земле русской и ее земляках, также сборников, рассказов и стих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Каинск-Art(Рязанов Владимир Миронович)"/>
          <p:cNvPicPr/>
          <p:nvPr/>
        </p:nvPicPr>
        <p:blipFill>
          <a:blip r:embed="rId2"/>
          <a:stretch/>
        </p:blipFill>
        <p:spPr>
          <a:xfrm>
            <a:off x="468360" y="1341360"/>
            <a:ext cx="3240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2073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2204640"/>
            <a:ext cx="9540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, послушай, а я погрущу,                 Я тебе юность свою передал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руг мой любимый на Омке!                   Лучше не надо ину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к я с тобой повидаться хочу,                 Город мой милый, ах, если б ты знал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лая сердцу сторонка!                            Как по тебе я скучаю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сто мне снится родной уголок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юду знаком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жет для них ты простой городок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для меня ты столица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2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6:16:31Z</dcterms:created>
  <dc:creator>user</dc:creator>
  <dc:description/>
  <dc:language>en-US</dc:language>
  <cp:lastModifiedBy>Анна</cp:lastModifiedBy>
  <dcterms:modified xsi:type="dcterms:W3CDTF">2023-02-06T13:33:05Z</dcterms:modified>
  <cp:revision>67</cp:revision>
  <dc:subject/>
  <dc:title>Их именами гордится город Куйбышев</dc:title>
</cp:coreProperties>
</file>