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919-057D-4B25-9ECB-B5B0D80A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BA9-5627-40CC-9A59-3249515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3BC-7C47-42E6-955E-6E8CFE23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8DF-0453-400C-91F2-4189A506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032D-B707-4818-8413-3F63EF5A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6538-FB9C-405B-8EA3-C0726891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9AC7-A45E-46B9-B66A-90317186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1D32-DAC6-4A2E-B9B5-784D27E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D41-45B7-4CDF-9F91-BD03472A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880C-AEE9-4B4A-8627-F6218DCC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2679-93D0-4689-8DAD-89A1948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028-27D4-4E95-B19A-E83C29D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DF64-E7F4-488B-97F4-E15CC304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1910-53D3-4485-84A2-8ECFEFE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BBC0-EEB3-4648-BEEA-94422559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C360-4B78-4A7C-9CA0-721E46BC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3AB4-96B7-407B-81B1-287972C0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4A9-1293-4DC1-9555-22F35C91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E85-F627-4738-A918-19B1E900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CAA-9664-4910-8905-ED65D48C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318-1A9D-4DB3-95F7-E49C586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450-F149-436E-90C6-754A876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34C-5223-4DD4-AEB6-45EB1B6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4A5-97FE-4381-AD5E-EBD0647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2E32-3667-46B0-BE2D-A8BE9DB6E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B5C4-5CFF-4EB5-8F09-B410D9268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читель: Белялова М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«Деление на числа, </a:t>
            </a:r>
            <a:br>
              <a:rPr sz="6000"/>
            </a:b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оканчивающиеся нулями»</a:t>
            </a:r>
            <a:endParaRPr b="0" i="1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66000" y="0"/>
            <a:ext cx="19508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58713"/>
                </a:solidFill>
                <a:latin typeface="Monotype Corsiva"/>
              </a:rPr>
              <a:t>Сравни примеры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60 : 80      2170 : 70      3600 : 900      6480 : 9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Чем они похож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Чем отлич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Распределите все примеры на две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 : 80                         2170 :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00 : 900                     6480 :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ешите примеры второго столби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170  70                      6480  9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Объясни, как выполнено деление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240  60                              3570  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00    54                              270    3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40                                      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40                                      8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                                        6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Стр. 24 Чтение параграф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685800" y="27000"/>
            <a:ext cx="10363320" cy="6905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32440" y="2284920"/>
            <a:ext cx="624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336666"/>
                </a:solidFill>
                <a:latin typeface="Monotype Corsiv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24382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6666"/>
                </a:solidFill>
                <a:latin typeface="Monotype Corsiva"/>
              </a:rPr>
              <a:t>Спасибо </a:t>
            </a:r>
            <a:br>
              <a:rPr sz="8000"/>
            </a:br>
            <a:r>
              <a:rPr b="1" i="1" lang="en-US" sz="8000" spc="-1" strike="noStrike">
                <a:solidFill>
                  <a:srgbClr val="336666"/>
                </a:solidFill>
                <a:latin typeface="Monotype Corsiva"/>
              </a:rPr>
              <a:t>за урок!</a:t>
            </a:r>
            <a:endParaRPr b="0" lang="en-US" sz="8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09680" y="4495680"/>
            <a:ext cx="24861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477120" y="1066680"/>
            <a:ext cx="94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981080" y="121932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952880" y="3124080"/>
            <a:ext cx="15908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Начинаем мы опять</a:t>
            </a:r>
            <a:br>
              <a:rPr sz="60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решать, </a:t>
            </a:r>
            <a:br>
              <a:rPr sz="60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смекать,</a:t>
            </a:r>
            <a:br>
              <a:rPr sz="60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 отгадывать!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62320" y="213372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66"/>
                </a:solidFill>
                <a:latin typeface="Monotype Corsiva"/>
              </a:rPr>
              <a:t>Размин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2286000" cy="208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0" y="990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638680" y="914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 м 36 см … 54 дм                 4 см 5 мм … 5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 т 5 ц … 9500 кг                   32 мес  … 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762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Срав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43600" y="-295200"/>
            <a:ext cx="27432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«</a:t>
            </a: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Найди ошибку</a:t>
            </a: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208  8                          3208  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2      41                        32      4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                                   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                                   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0                                  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3428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Из куска проволоки согнули квадрат 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стороной 6 см. Затем проволо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разогнули и согнули из неё треугольник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равными сторонами. Какова дл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стороны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508640"/>
            <a:ext cx="172728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356000" y="4292640"/>
            <a:ext cx="1224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29264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2520" y="450864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Длина прямоугольника 13 см,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ширина 8 см. Чему равен периметр прямоугольника?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59200"/>
            <a:ext cx="76960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) 21 см                  б) 3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) 42 см                   г) 104 с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140184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Мотоциклист за 4 часа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проехал 240 км. Сколько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км он проедет за 2 часа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с той же скоростью?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3085920"/>
            <a:ext cx="76960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) 60 км                      б) 12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) 160 км                    г) 14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Физминутк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Monotype Corsiva"/>
              </a:rPr>
              <a:t>Мы считали и уст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Monotype Corsiva"/>
              </a:rPr>
              <a:t>Дружно все мы тихо вст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6305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03-14T16:33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