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1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jpeg" ContentType="image/jpeg"/>
  <Override PartName="/ppt/media/image7.png" ContentType="image/png"/>
  <Override PartName="/ppt/media/image4.gif" ContentType="image/gif"/>
  <Override PartName="/ppt/media/image8.png" ContentType="image/png"/>
  <Override PartName="/ppt/media/image3.gif" ContentType="image/gif"/>
  <Override PartName="/ppt/media/image6.png" ContentType="image/png"/>
  <Override PartName="/ppt/media/image12.jpeg" ContentType="image/jpeg"/>
  <Override PartName="/ppt/media/image9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DEE-F9FE-4B63-8365-414A2838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419-C130-4207-9BF1-DA09A012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EDF-94E8-4117-A673-9280DD2C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96A4-2AE3-4CE5-B3B8-0BCAB246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494F-4A5D-494D-9D30-1CB78FF5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3185-F4AD-40D8-88A7-0A8ED6B9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CF93-5E0A-4394-BC0B-ED29FC43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2192-D7B1-4AE6-9333-FF6B90AF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EC7A-90C8-4780-9FCD-BD4F35D1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3225-9AAA-4230-8F39-305C5F81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8155-9048-4929-8CD1-D87E9214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162-691F-4D3E-8A66-AEA158EC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62DF-F217-4A9D-86D5-8D10E9E2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7DD6-8ACF-4AD2-9B02-0F202BB5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82F5-564C-4752-8C86-CCB9F86E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BF1F-BABE-47DD-B0D0-A0CF2EB0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608F-092F-433E-9A7D-2D2E65A9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94C-E6C1-4F67-B930-1B170E05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59C-A196-4546-8A50-6BD95CEC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56B-BBFF-4377-9666-FF37BD1B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197-FB4F-4F67-9800-DE45F2B9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586-07A9-4CE0-9C16-403E17FE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EF3E-5EBE-4598-92C1-76B8F37F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470-6995-445D-93A1-519384C7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5AFE-83C1-49B3-B95C-4D141F550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4D28-BE7C-44EB-929F-4A665E036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Учитель: Белялова М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66"/>
                </a:solidFill>
                <a:latin typeface="Monotype Corsiva"/>
              </a:rPr>
              <a:t>«Деление на числа, </a:t>
            </a:r>
            <a:br>
              <a:rPr sz="6000"/>
            </a:br>
            <a:r>
              <a:rPr b="1" i="1" lang="en-US" sz="6000" spc="-1" strike="noStrike">
                <a:solidFill>
                  <a:srgbClr val="336666"/>
                </a:solidFill>
                <a:latin typeface="Monotype Corsiva"/>
              </a:rPr>
              <a:t>оканчивающиеся нулями»</a:t>
            </a:r>
            <a:endParaRPr b="0" i="1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66000" y="0"/>
            <a:ext cx="19508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58713"/>
                </a:solidFill>
                <a:latin typeface="Monotype Corsiva"/>
              </a:rPr>
              <a:t>Сравни примеры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560 : 80      2170 : 70      3600 : 900      6480 : 9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 Чем они похож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 Чем отличаю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 Распределите все примеры на две групп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5335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60 : 80                         2170 : 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600 : 900                     6480 :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ешите примеры второго столби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170  70                      6480  9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2971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Объясни, как выполнено деление: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240  60                              3570  9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00    54                              270    3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40                                      87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40                                      81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                                        6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Стр. 24 Чтение параграф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905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362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2057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2438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3886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685800" y="27000"/>
            <a:ext cx="10363320" cy="6905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432440" y="2284920"/>
            <a:ext cx="624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336666"/>
                </a:solidFill>
                <a:latin typeface="Monotype Corsiva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657600" y="4114800"/>
            <a:ext cx="243828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336666"/>
                </a:solidFill>
                <a:latin typeface="Monotype Corsiva"/>
              </a:rPr>
              <a:t>Спасибо </a:t>
            </a:r>
            <a:br>
              <a:rPr sz="8000"/>
            </a:br>
            <a:r>
              <a:rPr b="1" i="1" lang="en-US" sz="8000" spc="-1" strike="noStrike">
                <a:solidFill>
                  <a:srgbClr val="336666"/>
                </a:solidFill>
                <a:latin typeface="Monotype Corsiva"/>
              </a:rPr>
              <a:t>за урок!</a:t>
            </a:r>
            <a:endParaRPr b="0" lang="en-US" sz="8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09680" y="4495680"/>
            <a:ext cx="248616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477120" y="1066680"/>
            <a:ext cx="94284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981080" y="1219320"/>
            <a:ext cx="943200" cy="1143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952880" y="3124080"/>
            <a:ext cx="159084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Начинаем мы опять</a:t>
            </a:r>
            <a:br>
              <a:rPr sz="6000"/>
            </a:b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решать, </a:t>
            </a:r>
            <a:br>
              <a:rPr sz="6000"/>
            </a:b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смекать,</a:t>
            </a:r>
            <a:br>
              <a:rPr sz="6000"/>
            </a:b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 отгадывать!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362320" y="2133720"/>
            <a:ext cx="533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66"/>
                </a:solidFill>
                <a:latin typeface="Monotype Corsiva"/>
              </a:rPr>
              <a:t>Разминка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62520" y="3886200"/>
            <a:ext cx="2286000" cy="2089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86000" y="9907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638680" y="914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 м 36 см … 54 дм                 4 см 5 мм … 54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 т 5 ц … 9500 кг                   32 мес  … 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76212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66"/>
                </a:solidFill>
                <a:latin typeface="Monotype Corsiva"/>
              </a:rPr>
              <a:t>Срав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943600" y="-295200"/>
            <a:ext cx="274320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«</a:t>
            </a:r>
            <a:r>
              <a:rPr b="1" i="1" lang="en-US" sz="6000" spc="-1" strike="noStrike">
                <a:solidFill>
                  <a:srgbClr val="336666"/>
                </a:solidFill>
                <a:latin typeface="Monotype Corsiva"/>
              </a:rPr>
              <a:t>Найди ошибку</a:t>
            </a:r>
            <a:r>
              <a:rPr b="0" i="1" lang="en-US" sz="6000" spc="-1" strike="noStrike">
                <a:solidFill>
                  <a:srgbClr val="336666"/>
                </a:solidFill>
                <a:latin typeface="Monotype Corsiva"/>
              </a:rPr>
              <a:t>»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208  8                          3208  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2      41                        32      40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8                                   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8                                   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0                                   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952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2895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77120" y="533520"/>
            <a:ext cx="234288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6666"/>
                </a:solidFill>
                <a:latin typeface="Times New Roman"/>
              </a:rPr>
              <a:t>Из куска проволоки согнули квадрат 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Times New Roman"/>
              </a:rPr>
              <a:t>стороной 6 см. Затем проволо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Times New Roman"/>
              </a:rPr>
              <a:t>разогнули и согнули из неё треугольник 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Times New Roman"/>
              </a:rPr>
              <a:t>равными сторонами. Какова дл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Times New Roman"/>
              </a:rPr>
              <a:t>стороны треуг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4508640"/>
            <a:ext cx="172728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356000" y="4292640"/>
            <a:ext cx="1224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292640"/>
            <a:ext cx="1008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2520" y="4508640"/>
            <a:ext cx="65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Длина прямоугольника 13 см, </a:t>
            </a:r>
            <a:br>
              <a:rPr sz="3600"/>
            </a:b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ширина 8 см. Чему равен периметр прямоугольника?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59200"/>
            <a:ext cx="769608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) 21 см                  б) 34 с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) 42 см                   г) 104 с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8000" y="1401840"/>
            <a:ext cx="48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Мотоциклист за 4 часа </a:t>
            </a:r>
            <a:br>
              <a:rPr sz="3600"/>
            </a:b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                       проехал 240 км. Сколько </a:t>
            </a:r>
            <a:br>
              <a:rPr sz="3600"/>
            </a:b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                       км он проедет за 2 часа </a:t>
            </a:r>
            <a:br>
              <a:rPr sz="3600"/>
            </a:br>
            <a:r>
              <a:rPr b="1" lang="en-US" sz="3600" spc="-1" strike="noStrike">
                <a:solidFill>
                  <a:srgbClr val="336666"/>
                </a:solidFill>
                <a:latin typeface="Times New Roman"/>
              </a:rPr>
              <a:t>                       с той же скоростью?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3085920"/>
            <a:ext cx="769608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а) 60 км                      б) 120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) 160 км                    г) 140 к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4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6666"/>
                </a:solidFill>
                <a:latin typeface="Monotype Corsiva"/>
              </a:rPr>
              <a:t>Физминутка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Monotype Corsiva"/>
              </a:rPr>
              <a:t>Мы считали и уста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Monotype Corsiva"/>
              </a:rPr>
              <a:t>Дружно все мы тихо вста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26305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0-03-14T16:33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