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418-D6C1-4E62-A2E6-A44B45CA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5C6-0D06-464C-ADF2-AD3FE69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CAA-4A61-40E0-B5DA-D91D2E90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B76-C240-432F-A11D-7FAB34D6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FEA-AA1E-4217-A9D4-8B4BB993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412-4EFA-4224-AC5E-EEDEE3C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40E3-EB2B-472E-BB16-5C28F44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41AA-207B-4C2F-8E3E-33701AC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829-19EE-4FDE-8F61-3D7847E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9119-63F4-4BD9-9D80-01D4FF6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CB0D-C0F7-4BD4-9F0A-BC737A0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3EA-4F5F-4679-A2FC-AEE1F01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2339-87F4-471D-AA0B-9432235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9304-B6E5-4140-B2E0-85A6FD8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B3D9-1F20-4C95-9288-F11D85E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86C-9DFA-4826-993D-09B7BE32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D35A-331B-4223-81E6-21C8622A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7B97-75B4-46C5-AC28-AC01B56F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817B-E2EB-4B03-9570-C1A8F659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09E3-DCAD-4ECB-84E1-56C452F7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AC81-789B-44AB-B1EB-2A75857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7ADF-F5CF-44A7-B47C-A7EC109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38D-455D-4015-B36B-82CD38A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E0D5-5A4D-4C7C-828B-657EB30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4449-FF03-4ED9-BAB8-126890F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B906-9E27-4F3B-9995-026692C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9A56-9D7B-4409-A5CC-D8AD424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CBA3-AA48-4EDE-8B29-D208B72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FD04-5A45-4D12-AA44-5851D399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1169-F7AF-4E4F-AB1C-6C4E92EB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3890-BF34-4955-9398-8490AD0E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8B61-11AF-41CD-B6A5-4429168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F5EE-98E5-49D7-9826-A84025A7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40E-8D67-467F-8337-1778078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0003-9D3B-42D1-BB18-56908BE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DF8B-F7BF-4F6B-8A11-1B194C6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C128-C434-4DFB-8EC0-6D275A3B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AD58-ED3C-4139-A970-4611972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ABFD-6C3C-4BBE-B1F3-0DC2B34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FB09-7E22-4D85-B46A-ED5E576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7E4D-EE3C-49D4-980F-14F0CF5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9ED9-2832-48F3-9C1F-39C8FFA5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642A-0786-45D1-BC95-DB409BBE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D5AB-35CA-4CAD-9DBC-6966141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C39-0ADD-4B29-A902-B61F0BD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191E-681A-4EF8-9CD0-4A2FF12A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3E47-32CB-4F9F-9C78-BB7D6B96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386E-C956-4E52-BDE8-FA6876D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E3D3-24C2-48A6-B5FD-5A0542E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F203-CCE8-44D0-A748-90F1633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B978-0D89-4BF7-9C75-C374F80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44C9-59D1-4A26-A176-25D92A5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5C6D-022D-4353-B408-D7A0B68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8F4D-BD7C-4875-94ED-B09AAA4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BE1C-6EE6-458D-B01C-AFF5820E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E3A-CE66-41DA-812A-AC7FE1BA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0228-26EA-4CFD-A0E1-5D04564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CB7-FAA4-4CE7-91FC-FF07524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8F2-AE70-4C45-A26E-A682E35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3A6-4464-4D26-BE9B-3C38010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C5B-6B12-4A99-8B80-B1F58CDDB0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DF1D-DF4B-40DC-A8E7-06FF814716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1010-9B98-4109-A52C-0F1CDB18A6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C4B-FA02-40C0-B629-71CF98631C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FEF3-4CDF-4101-B729-36F6702540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13.xml"/><Relationship Id="rId14" Type="http://schemas.openxmlformats.org/officeDocument/2006/relationships/slide" Target="slide15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16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17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рнир юных физиков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186680" cy="34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хранение скорости тела при отсутствии действия на него других те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>
            <a:hlinkClick r:id="rId1" action="ppaction://hlinksldjump"/>
          </p:cNvPr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Скругленный прямоугольник 3"/>
          <p:cNvSpPr/>
          <p:nvPr/>
        </p:nvSpPr>
        <p:spPr>
          <a:xfrm>
            <a:off x="714240" y="78588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4">
            <a:hlinkClick r:id="rId1" action="ppaction://hlinksldjump"/>
          </p:cNvPr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71720" y="1071720"/>
            <a:ext cx="7143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42960" y="857160"/>
            <a:ext cx="76438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формы и размеров тела под действие внешних с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8840" y="128592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, что легко меняет форму, но сохраняет объ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714240" y="642960"/>
            <a:ext cx="7572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а, с которой Земля притягивает к себе т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кругленный прямоугольник 3"/>
          <p:cNvSpPr/>
          <p:nvPr/>
        </p:nvSpPr>
        <p:spPr>
          <a:xfrm>
            <a:off x="785880" y="78588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642960" y="1428840"/>
            <a:ext cx="7858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а траек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кругленный прямоугольник 3"/>
          <p:cNvSpPr/>
          <p:nvPr/>
        </p:nvSpPr>
        <p:spPr>
          <a:xfrm>
            <a:off x="714240" y="714240"/>
            <a:ext cx="7890120" cy="4730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уменьшается при охлаждении и увеличивается при нагревании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14240" y="857160"/>
            <a:ext cx="7643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ор для измерения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1428840" y="1071720"/>
            <a:ext cx="6858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чайшая частица ве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1357200" y="1214280"/>
            <a:ext cx="66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жит на земле: ни закрасить, 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коблить, ни завал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 скорости, с кот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дят какие- либо измен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мера скорости 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ыт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3"/>
          <p:cNvSpPr/>
          <p:nvPr/>
        </p:nvSpPr>
        <p:spPr>
          <a:xfrm>
            <a:off x="2143080" y="142920"/>
            <a:ext cx="464364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?  Где?  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>
            <a:hlinkClick r:id="rId1" action="ppaction://hlinksldjump"/>
          </p:cNvPr>
          <p:cNvSpPr/>
          <p:nvPr/>
        </p:nvSpPr>
        <p:spPr>
          <a:xfrm>
            <a:off x="42876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5">
            <a:hlinkClick r:id="rId2" action="ppaction://hlinksldjump"/>
          </p:cNvPr>
          <p:cNvSpPr/>
          <p:nvPr/>
        </p:nvSpPr>
        <p:spPr>
          <a:xfrm>
            <a:off x="207180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6">
            <a:hlinkClick r:id="rId3" action="ppaction://hlinksldjump"/>
          </p:cNvPr>
          <p:cNvSpPr/>
          <p:nvPr/>
        </p:nvSpPr>
        <p:spPr>
          <a:xfrm>
            <a:off x="428760" y="278604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7">
            <a:hlinkClick r:id="rId4" action="ppaction://hlinksldjump"/>
          </p:cNvPr>
          <p:cNvSpPr/>
          <p:nvPr/>
        </p:nvSpPr>
        <p:spPr>
          <a:xfrm>
            <a:off x="7072200" y="157176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8">
            <a:hlinkClick r:id="rId5" action="ppaction://hlinksldjump"/>
          </p:cNvPr>
          <p:cNvSpPr/>
          <p:nvPr/>
        </p:nvSpPr>
        <p:spPr>
          <a:xfrm>
            <a:off x="535788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9">
            <a:hlinkClick r:id="rId6" action="ppaction://hlinksldjump"/>
          </p:cNvPr>
          <p:cNvSpPr/>
          <p:nvPr/>
        </p:nvSpPr>
        <p:spPr>
          <a:xfrm>
            <a:off x="371484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0">
            <a:hlinkClick r:id="rId7" action="ppaction://hlinksldjump"/>
          </p:cNvPr>
          <p:cNvSpPr/>
          <p:nvPr/>
        </p:nvSpPr>
        <p:spPr>
          <a:xfrm>
            <a:off x="2071800" y="278604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1">
            <a:hlinkClick r:id="rId8" action="ppaction://hlinksldjump"/>
          </p:cNvPr>
          <p:cNvSpPr/>
          <p:nvPr/>
        </p:nvSpPr>
        <p:spPr>
          <a:xfrm>
            <a:off x="707220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">
            <a:hlinkClick r:id="rId9" action="ppaction://hlinksldjump"/>
          </p:cNvPr>
          <p:cNvSpPr/>
          <p:nvPr/>
        </p:nvSpPr>
        <p:spPr>
          <a:xfrm>
            <a:off x="542916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3">
            <a:hlinkClick r:id="rId10" action="ppaction://hlinksldjump"/>
          </p:cNvPr>
          <p:cNvSpPr/>
          <p:nvPr/>
        </p:nvSpPr>
        <p:spPr>
          <a:xfrm>
            <a:off x="378612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4">
            <a:hlinkClick r:id="rId11" action="ppaction://hlinksldjump"/>
          </p:cNvPr>
          <p:cNvSpPr/>
          <p:nvPr/>
        </p:nvSpPr>
        <p:spPr>
          <a:xfrm>
            <a:off x="214308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5">
            <a:hlinkClick r:id="rId12" action="ppaction://hlinksldjump"/>
          </p:cNvPr>
          <p:cNvSpPr/>
          <p:nvPr/>
        </p:nvSpPr>
        <p:spPr>
          <a:xfrm>
            <a:off x="50004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6">
            <a:hlinkClick r:id="rId13" action="ppaction://hlinksldjump"/>
          </p:cNvPr>
          <p:cNvSpPr/>
          <p:nvPr/>
        </p:nvSpPr>
        <p:spPr>
          <a:xfrm>
            <a:off x="428760" y="414324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7">
            <a:hlinkClick r:id="rId14" action="ppaction://hlinksldjump"/>
          </p:cNvPr>
          <p:cNvSpPr/>
          <p:nvPr/>
        </p:nvSpPr>
        <p:spPr>
          <a:xfrm>
            <a:off x="378612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8">
            <a:hlinkClick r:id="rId15" action="ppaction://hlinksldjump"/>
          </p:cNvPr>
          <p:cNvSpPr/>
          <p:nvPr/>
        </p:nvSpPr>
        <p:spPr>
          <a:xfrm>
            <a:off x="214308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9">
            <a:hlinkClick r:id="rId16" action="ppaction://hlinksldjump"/>
          </p:cNvPr>
          <p:cNvSpPr/>
          <p:nvPr/>
        </p:nvSpPr>
        <p:spPr>
          <a:xfrm>
            <a:off x="542916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20">
            <a:hlinkClick r:id="rId17" action="ppaction://hlinksldjump"/>
          </p:cNvPr>
          <p:cNvSpPr/>
          <p:nvPr/>
        </p:nvSpPr>
        <p:spPr>
          <a:xfrm>
            <a:off x="542916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21">
            <a:hlinkClick r:id="rId18" action="ppaction://hlinksldjump"/>
          </p:cNvPr>
          <p:cNvSpPr/>
          <p:nvPr/>
        </p:nvSpPr>
        <p:spPr>
          <a:xfrm>
            <a:off x="378612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22">
            <a:hlinkClick r:id="rId19" action="ppaction://hlinksldjump"/>
          </p:cNvPr>
          <p:cNvSpPr/>
          <p:nvPr/>
        </p:nvSpPr>
        <p:spPr>
          <a:xfrm>
            <a:off x="7143840" y="535788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23">
            <a:hlinkClick r:id="rId20" action="ppaction://hlinksldjump"/>
          </p:cNvPr>
          <p:cNvSpPr/>
          <p:nvPr/>
        </p:nvSpPr>
        <p:spPr>
          <a:xfrm>
            <a:off x="7143840" y="414324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кПа = … 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7786800" y="592920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714240" y="928800"/>
            <a:ext cx="77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больше площадь, тем … д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1214280" y="857160"/>
            <a:ext cx="65725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предмет легче катить, ч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щи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кругленный прямоугольник 3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4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500040" y="1000080"/>
            <a:ext cx="78580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 измеряют атмосферное д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Скругленный прямоугольник 3"/>
          <p:cNvSpPr/>
          <p:nvPr/>
        </p:nvSpPr>
        <p:spPr>
          <a:xfrm>
            <a:off x="539640" y="404640"/>
            <a:ext cx="8034480" cy="5072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В этом измеряется д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285920" y="1143000"/>
            <a:ext cx="678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е вещество может находиться в трех различных состоя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Скругленный прямоугольник 3"/>
          <p:cNvSpPr/>
          <p:nvPr/>
        </p:nvSpPr>
        <p:spPr>
          <a:xfrm>
            <a:off x="928800" y="714240"/>
            <a:ext cx="7819920" cy="487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763640" y="907920"/>
            <a:ext cx="628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– причина изменения скорости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3"/>
          <p:cNvSpPr/>
          <p:nvPr/>
        </p:nvSpPr>
        <p:spPr>
          <a:xfrm>
            <a:off x="714240" y="714240"/>
            <a:ext cx="7643880" cy="464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Чем она больше, тем изменение скорости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1071720" y="857160"/>
            <a:ext cx="6929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ём измеряют ско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714680" y="1500120"/>
            <a:ext cx="5715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714240" y="1285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со временем положения тела в пространстве относительно други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0:03:31Z</dcterms:created>
  <dc:creator>ФилиппенковаЕС</dc:creator>
  <dc:description/>
  <dc:language>en-US</dc:language>
  <cp:lastModifiedBy>Пользователь</cp:lastModifiedBy>
  <dcterms:modified xsi:type="dcterms:W3CDTF">2022-02-15T16:13:15Z</dcterms:modified>
  <cp:revision>25</cp:revision>
  <dc:subject/>
  <dc:title>Что? Где? Когда?</dc:title>
</cp:coreProperties>
</file>