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66F9-9C46-43A8-AA20-3E85B6C7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11EF-05B2-4775-BD97-3AA6811B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0CD-1BE5-4085-956B-28DAB34A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799-AA8E-4FB7-ADEA-8B7D8E22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4400-F035-4824-98B8-B3D2F0A1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4887-5541-444F-A1C6-9C9EBD5F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0EFF-A317-48E8-8F97-169C7924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8AB4-CE52-41A4-89D8-AF23D95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B251-3C9C-4DE1-8176-DAFBED62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8DF-D4E9-41C0-8E4E-B5B66D3C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1150-611E-48E0-AB0E-EB7FFBAF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500-253D-4213-87AF-8FBE2B85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0E87-C478-4B11-AFC9-0B09B27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EB63-0669-4522-884E-903E234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5CF7-DE09-459C-BE24-BE7EF26A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E9EB-6ADA-40CD-8442-C3AC8430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60FA-DEF2-4A51-9237-0CFBB944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B4DD-0F58-4AAF-AE5F-A4D35875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799D-AFC0-43EB-BEBA-53FD44DA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1FE5-6C5C-4EAA-9579-14F9A8EC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BE24-66F5-4CA7-9074-CB0EF690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8B3F-C8AD-4BB6-9F51-094DE8E6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F3D-E083-4346-B97A-6D055A17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A8FC2-5BF1-4926-A4F3-65F8F71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92303-A246-4328-90D4-0BC9A53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399D-6DF6-4F4E-82C8-B938A913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2E48-0E98-4187-BD2C-F9ABFEC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ECC5-B055-49EF-814F-85FDC33A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A8F9-FB40-4CC8-BC74-BF0A0AFE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D8AD-61F1-485E-B36B-A8CDC9AA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A95F-4E20-420D-BE79-790BD795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F7D30-5738-4D10-9A87-9633962D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D362-F141-4381-99CF-941B7CB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638-269E-4F8F-826C-CFD6037A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FA24-99AC-4212-981A-9EB04A57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1514-730A-49EE-A6E9-B485CC92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3E779-1B57-4B54-9B72-D5824F34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4569-3CA8-4BF4-812F-0E919E75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FEE36-9DF9-4EAB-8DC0-076B0AFE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DDD4-1850-4A1E-91BC-16E51A05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4A88-F8F5-449B-B373-7E6DDAE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9879-1CFE-49B4-AE7E-6B11B8B4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C34C-C279-4367-977D-4CBC33E0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D3AED-BE76-4DAE-BBAC-6925CC78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0A8-B1D4-4ED1-B80B-0F4F92D5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394CA-E1BA-463C-8051-6000CF04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879D2-F786-4749-A822-E08581E8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96A9-D951-4F6A-92D5-38DD4FD0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07F0-AE05-498C-8C66-633CCDA0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1407-7ECC-4D18-BEF7-80D6CD04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432D7-000B-4CD8-A31C-63AFF2C4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C5DA0-1BE8-46D1-B886-46FFF9A5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6F773-99CF-4C31-9EBC-7DD6957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DFC8A-36C3-46CC-A48A-C68F671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BBFF-0BE0-4674-9530-6A4A83B3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CA5-CE67-460F-B0A7-0A9D3611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BE07-E643-4D38-A0AD-AD4D03FC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8F0-9A19-4452-A134-634BD226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774-C72C-48DA-8554-31E9A6F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3E5-11C1-48E7-839F-A1945AB8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422-43F8-4E81-BA88-52565AEB519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D724-7D22-4172-96A2-953B66BB65A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8917-9936-4E1D-A85E-14FCC4A653C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2CB2-7206-4A14-8BE3-2EDC4E70FD7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33993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339933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F86-3013-4ABA-9784-4AE5375B876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" Target="slide9.xml"/><Relationship Id="rId8" Type="http://schemas.openxmlformats.org/officeDocument/2006/relationships/slide" Target="slide12.xml"/><Relationship Id="rId9" Type="http://schemas.openxmlformats.org/officeDocument/2006/relationships/slide" Target="slide11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slide" Target="slide18.xml"/><Relationship Id="rId13" Type="http://schemas.openxmlformats.org/officeDocument/2006/relationships/slide" Target="slide13.xml"/><Relationship Id="rId14" Type="http://schemas.openxmlformats.org/officeDocument/2006/relationships/slide" Target="slide15.xml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slide" Target="slide16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17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рнир юных физиков</a:t>
            </a:r>
            <a:endParaRPr b="0" lang="en-US" sz="6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7186680" cy="34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охранение скорости тела при отсутствии действия на него других тел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4">
            <a:hlinkClick r:id="rId1" action="ppaction://hlinksldjump"/>
          </p:cNvPr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Скругленный прямоугольник 3"/>
          <p:cNvSpPr/>
          <p:nvPr/>
        </p:nvSpPr>
        <p:spPr>
          <a:xfrm>
            <a:off x="714240" y="78588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4">
            <a:hlinkClick r:id="rId1" action="ppaction://hlinksldjump"/>
          </p:cNvPr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1071720" y="1071720"/>
            <a:ext cx="7143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642960" y="857160"/>
            <a:ext cx="76438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формы и размеров тела под действие внешних с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428840" y="1285920"/>
            <a:ext cx="642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, что легко меняет форму, но сохраняет объё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714240" y="642960"/>
            <a:ext cx="75726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а, с которой Земля притягивает к себе те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Скругленный прямоугольник 3"/>
          <p:cNvSpPr/>
          <p:nvPr/>
        </p:nvSpPr>
        <p:spPr>
          <a:xfrm>
            <a:off x="785880" y="78588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642960" y="1428840"/>
            <a:ext cx="7858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ина траект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Скругленный прямоугольник 3"/>
          <p:cNvSpPr/>
          <p:nvPr/>
        </p:nvSpPr>
        <p:spPr>
          <a:xfrm>
            <a:off x="714240" y="714240"/>
            <a:ext cx="7890120" cy="4730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уменьшается при охлаждении и увеличивается при нагревании</a:t>
            </a: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714240" y="857160"/>
            <a:ext cx="7643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бор для измерения си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4"/>
          <p:cNvSpPr/>
          <p:nvPr/>
        </p:nvSpPr>
        <p:spPr>
          <a:xfrm>
            <a:off x="7724880" y="58672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"/>
          <p:cNvSpPr/>
          <p:nvPr/>
        </p:nvSpPr>
        <p:spPr>
          <a:xfrm>
            <a:off x="1428840" y="1071720"/>
            <a:ext cx="6858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ьчайшая частица веще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4"/>
          <p:cNvSpPr/>
          <p:nvPr/>
        </p:nvSpPr>
        <p:spPr>
          <a:xfrm>
            <a:off x="7877160" y="6019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1357200" y="1214280"/>
            <a:ext cx="66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жит на земле: ни закрасить, 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коблить, ни завал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а скорости, с котор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сходят какие- либо измен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 мера скорости и развит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ыт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4"/>
          <p:cNvSpPr/>
          <p:nvPr/>
        </p:nvSpPr>
        <p:spPr>
          <a:xfrm>
            <a:off x="7877160" y="6019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Скругленный прямоугольник 3"/>
          <p:cNvSpPr/>
          <p:nvPr/>
        </p:nvSpPr>
        <p:spPr>
          <a:xfrm>
            <a:off x="2143080" y="142920"/>
            <a:ext cx="4643640" cy="78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?  Где?  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4">
            <a:hlinkClick r:id="rId1" action="ppaction://hlinksldjump"/>
          </p:cNvPr>
          <p:cNvSpPr/>
          <p:nvPr/>
        </p:nvSpPr>
        <p:spPr>
          <a:xfrm>
            <a:off x="428760" y="157176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5">
            <a:hlinkClick r:id="rId2" action="ppaction://hlinksldjump"/>
          </p:cNvPr>
          <p:cNvSpPr/>
          <p:nvPr/>
        </p:nvSpPr>
        <p:spPr>
          <a:xfrm>
            <a:off x="2071800" y="157176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6">
            <a:hlinkClick r:id="rId3" action="ppaction://hlinksldjump"/>
          </p:cNvPr>
          <p:cNvSpPr/>
          <p:nvPr/>
        </p:nvSpPr>
        <p:spPr>
          <a:xfrm>
            <a:off x="428760" y="278604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7">
            <a:hlinkClick r:id="rId4" action="ppaction://hlinksldjump"/>
          </p:cNvPr>
          <p:cNvSpPr/>
          <p:nvPr/>
        </p:nvSpPr>
        <p:spPr>
          <a:xfrm>
            <a:off x="7072200" y="157176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8">
            <a:hlinkClick r:id="rId5" action="ppaction://hlinksldjump"/>
          </p:cNvPr>
          <p:cNvSpPr/>
          <p:nvPr/>
        </p:nvSpPr>
        <p:spPr>
          <a:xfrm>
            <a:off x="5357880" y="157176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9">
            <a:hlinkClick r:id="rId6" action="ppaction://hlinksldjump"/>
          </p:cNvPr>
          <p:cNvSpPr/>
          <p:nvPr/>
        </p:nvSpPr>
        <p:spPr>
          <a:xfrm>
            <a:off x="3714840" y="157176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0">
            <a:hlinkClick r:id="rId7" action="ppaction://hlinksldjump"/>
          </p:cNvPr>
          <p:cNvSpPr/>
          <p:nvPr/>
        </p:nvSpPr>
        <p:spPr>
          <a:xfrm>
            <a:off x="2071800" y="278604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11">
            <a:hlinkClick r:id="rId8" action="ppaction://hlinksldjump"/>
          </p:cNvPr>
          <p:cNvSpPr/>
          <p:nvPr/>
        </p:nvSpPr>
        <p:spPr>
          <a:xfrm>
            <a:off x="7072200" y="278604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12">
            <a:hlinkClick r:id="rId9" action="ppaction://hlinksldjump"/>
          </p:cNvPr>
          <p:cNvSpPr/>
          <p:nvPr/>
        </p:nvSpPr>
        <p:spPr>
          <a:xfrm>
            <a:off x="5429160" y="278604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3">
            <a:hlinkClick r:id="rId10" action="ppaction://hlinksldjump"/>
          </p:cNvPr>
          <p:cNvSpPr/>
          <p:nvPr/>
        </p:nvSpPr>
        <p:spPr>
          <a:xfrm>
            <a:off x="3786120" y="278604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4">
            <a:hlinkClick r:id="rId11" action="ppaction://hlinksldjump"/>
          </p:cNvPr>
          <p:cNvSpPr/>
          <p:nvPr/>
        </p:nvSpPr>
        <p:spPr>
          <a:xfrm>
            <a:off x="2143080" y="4143240"/>
            <a:ext cx="12146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5">
            <a:hlinkClick r:id="rId12" action="ppaction://hlinksldjump"/>
          </p:cNvPr>
          <p:cNvSpPr/>
          <p:nvPr/>
        </p:nvSpPr>
        <p:spPr>
          <a:xfrm>
            <a:off x="500040" y="535788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6">
            <a:hlinkClick r:id="rId13" action="ppaction://hlinksldjump"/>
          </p:cNvPr>
          <p:cNvSpPr/>
          <p:nvPr/>
        </p:nvSpPr>
        <p:spPr>
          <a:xfrm>
            <a:off x="428760" y="414324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7">
            <a:hlinkClick r:id="rId14" action="ppaction://hlinksldjump"/>
          </p:cNvPr>
          <p:cNvSpPr/>
          <p:nvPr/>
        </p:nvSpPr>
        <p:spPr>
          <a:xfrm>
            <a:off x="3786120" y="4143240"/>
            <a:ext cx="12146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18">
            <a:hlinkClick r:id="rId15" action="ppaction://hlinksldjump"/>
          </p:cNvPr>
          <p:cNvSpPr/>
          <p:nvPr/>
        </p:nvSpPr>
        <p:spPr>
          <a:xfrm>
            <a:off x="2143080" y="535788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9">
            <a:hlinkClick r:id="rId16" action="ppaction://hlinksldjump"/>
          </p:cNvPr>
          <p:cNvSpPr/>
          <p:nvPr/>
        </p:nvSpPr>
        <p:spPr>
          <a:xfrm>
            <a:off x="5429160" y="535788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20">
            <a:hlinkClick r:id="rId17" action="ppaction://hlinksldjump"/>
          </p:cNvPr>
          <p:cNvSpPr/>
          <p:nvPr/>
        </p:nvSpPr>
        <p:spPr>
          <a:xfrm>
            <a:off x="5429160" y="4143240"/>
            <a:ext cx="121464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21">
            <a:hlinkClick r:id="rId18" action="ppaction://hlinksldjump"/>
          </p:cNvPr>
          <p:cNvSpPr/>
          <p:nvPr/>
        </p:nvSpPr>
        <p:spPr>
          <a:xfrm>
            <a:off x="3786120" y="535788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22">
            <a:hlinkClick r:id="rId19" action="ppaction://hlinksldjump"/>
          </p:cNvPr>
          <p:cNvSpPr/>
          <p:nvPr/>
        </p:nvSpPr>
        <p:spPr>
          <a:xfrm>
            <a:off x="7143840" y="535788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23">
            <a:hlinkClick r:id="rId20" action="ppaction://hlinksldjump"/>
          </p:cNvPr>
          <p:cNvSpPr/>
          <p:nvPr/>
        </p:nvSpPr>
        <p:spPr>
          <a:xfrm>
            <a:off x="7143840" y="414324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 кПа = … 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7786800" y="592920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Скругленный прямоугольник 4"/>
          <p:cNvSpPr/>
          <p:nvPr/>
        </p:nvSpPr>
        <p:spPr>
          <a:xfrm>
            <a:off x="7877160" y="6019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714240" y="928800"/>
            <a:ext cx="7786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 больше площадь, тем … д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Скругленный прямоугольник 4"/>
          <p:cNvSpPr/>
          <p:nvPr/>
        </p:nvSpPr>
        <p:spPr>
          <a:xfrm>
            <a:off x="7877160" y="6019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1214280" y="857160"/>
            <a:ext cx="65725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предмет легче катить, ч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щи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Скругленный прямоугольник 3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4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500040" y="1000080"/>
            <a:ext cx="785808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 измеряют атмосферное да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Скругленный прямоугольник 3"/>
          <p:cNvSpPr/>
          <p:nvPr/>
        </p:nvSpPr>
        <p:spPr>
          <a:xfrm>
            <a:off x="539640" y="404640"/>
            <a:ext cx="8034480" cy="5072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В этом измеряется д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1285920" y="1143000"/>
            <a:ext cx="6786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е вещество может находиться в трех различных состоя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вите 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Скругленный прямоугольник 3"/>
          <p:cNvSpPr/>
          <p:nvPr/>
        </p:nvSpPr>
        <p:spPr>
          <a:xfrm>
            <a:off x="928800" y="714240"/>
            <a:ext cx="7819920" cy="4875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1763640" y="907920"/>
            <a:ext cx="6286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– причина изменения скорости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Скругленный прямоугольник 3"/>
          <p:cNvSpPr/>
          <p:nvPr/>
        </p:nvSpPr>
        <p:spPr>
          <a:xfrm>
            <a:off x="714240" y="714240"/>
            <a:ext cx="7643880" cy="4643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Чем она больше, тем изменение скорости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1071720" y="857160"/>
            <a:ext cx="6929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ём измеряют скор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Скругленный прямоугольник 3"/>
          <p:cNvSpPr/>
          <p:nvPr/>
        </p:nvSpPr>
        <p:spPr>
          <a:xfrm>
            <a:off x="714240" y="714240"/>
            <a:ext cx="7643880" cy="4357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4">
            <a:hlinkClick r:id="rId1" action="ppaction://hlinksldjump"/>
          </p:cNvPr>
          <p:cNvSpPr/>
          <p:nvPr/>
        </p:nvSpPr>
        <p:spPr>
          <a:xfrm>
            <a:off x="7572240" y="5715000"/>
            <a:ext cx="12146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1714680" y="1500120"/>
            <a:ext cx="5715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714240" y="1285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прос №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нение со временем положения тела в пространстве относительно других 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0:03:31Z</dcterms:created>
  <dc:creator>ФилиппенковаЕС</dc:creator>
  <dc:description/>
  <dc:language>en-US</dc:language>
  <cp:lastModifiedBy>Пользователь</cp:lastModifiedBy>
  <dcterms:modified xsi:type="dcterms:W3CDTF">2022-02-15T16:13:15Z</dcterms:modified>
  <cp:revision>25</cp:revision>
  <dc:subject/>
  <dc:title>Что? Где? Когда?</dc:title>
</cp:coreProperties>
</file>