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445-E71E-48F1-84AA-1FAC15DA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5F9-1344-48D4-B587-5042C3EC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BAE-D95F-46BB-A26A-8354049B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86B-767F-4731-A041-5B034E1C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8128-F8BA-44C3-BB2B-246F80E2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581A-5F7C-4ED5-93FC-A015C39D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E822-E918-41C6-8E01-873B653B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DD4-830B-4AAE-B974-19A3A8BB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CCEF-6C45-4521-8FB1-AED539F4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3DAF-C794-4BAB-A84B-46C290FD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2B36-1F04-473B-BFF1-28F0E36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EBB-9BB6-4B5F-8718-CB4F2273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3A1C-0687-4779-8EBA-329CFBB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14DB-1428-45A5-BCF4-4D4D40BA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E54E-4D38-4474-B517-3B69F9DE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BF61-972D-466D-8240-8E406D1F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F3BE-C1DB-4A74-B8B8-8E1BD913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E8DA-4E57-4502-BAFC-1F6B7991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2392-CE6E-419A-A47A-D4B7A870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678A-BF68-4526-8933-FD31ADDE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4C0A-68C3-415B-969D-48012A4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8EE8-1437-41D3-B449-E0D5484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9FB-6B29-4BD8-B538-D60B3508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9BAA-2694-49A5-9073-B93E85CC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750B-A04B-40E7-BDA0-58A29A2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1CA0-4FC5-4926-A758-33AAB79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4D07-A9FD-4751-BD86-19856158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A1F7-88A0-477A-A874-C89CE73C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2C48-B0FB-4F9B-9EA3-D1C02314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A77F8-C79F-40C6-8086-EB517EEC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615-F636-43B2-A3E9-2144748D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B0D-8FD6-4FFA-9D4E-27BD7D84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10F-7A96-419D-8777-059DB5C5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905-E54A-4D25-9995-35E1D74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B2A-6327-49E6-AF64-9FBC4174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D0C-1AC2-4255-B499-FD7D96E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22E7-2724-4AB9-BCB2-5FAA3CC50C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281D-A9DA-4888-8BE1-D41497C8711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93C-3102-4ED0-AED7-8571767B1EB4}" type="slidenum">
              <a:rPr b="1" lang="ru-RU" sz="10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5600" y="182052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авильные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многоугольники, вычисление их элементов. Окружность, описанная около правильного многоугольника. Окружность, вписанная в правильный многоугольник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303640" y="420840"/>
            <a:ext cx="491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9 клас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ЕОМЕТРИ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адцать первое февраля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3530520" y="5697360"/>
            <a:ext cx="53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urier New"/>
                <a:ea typeface="Courier New"/>
              </a:rPr>
              <a:t>Автор презентации: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Courier New"/>
                <a:ea typeface="Courier New"/>
              </a:rPr>
              <a:t>Попов Дмитрий Сергеевич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еор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юбой правильный многоугольник можно вписать окружность, и притом только од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542880" y="1603440"/>
            <a:ext cx="4254480" cy="5254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5143680" y="2247840"/>
            <a:ext cx="3209760" cy="31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7840" y="531360"/>
            <a:ext cx="822960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Из доказанного очевидно следующие утверждения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600120" y="1933560"/>
            <a:ext cx="82868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ст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кружность вписанная в правильный многоугольник, касается сторон многоугольника в их серединах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ст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Центр окружности, описанной около правильного многоугольника, совпадает с центром окружности, вписанной в тот же многоугольник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843120" y="5540400"/>
            <a:ext cx="73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Эта точка называется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  <a:ea typeface="Arial"/>
              </a:rPr>
              <a:t>центром правильного многоугольника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ИСЬМЕННО ВЫПОЛНИТЕ ТЕСТ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460440" y="1901880"/>
            <a:ext cx="831204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1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Правильным называется выпуклый многоугольник, у которого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все стороны равны;                               б) все углы равны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в) все стороны и все углы равны;            г) все углы острые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2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Если все вершины многоугольника лежат на окружности, то окружность называется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вписанной;                 б) описаннной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3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Около правильного многоугольника можно описать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Одну окружность;           б) две окружности;            в) множество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4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Если все стороны многоугольника касаются окружности, то окружность называется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вписанной;                      б) описанной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5. 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Центр окружности, описанной около правильного многоугольника и центр окружности, вписанной в этот же многоугольник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центр вписанной окружности;                         б) центр описанной окружности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в) центр правильного многоугольника;                г) центр многоугольника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6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Если четырехугольник вписан в окружность, то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сумма его противолежащих углов равна 180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  <a:ea typeface="Arial"/>
              </a:rPr>
              <a:t>°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б) сумма  углов, прилежащих к одной стороне,  равна 180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  <a:ea typeface="Arial"/>
              </a:rPr>
              <a:t>°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в) суммы  противоположных сторон равны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г) суммы смежных сторон равны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9532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85ff"/>
                </a:solidFill>
                <a:latin typeface="Times New Roman"/>
              </a:rPr>
              <a:t>ПИСЬМЕННО ВЫПОЛНИ ЗАДАНИ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460440" y="1901880"/>
            <a:ext cx="83120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Верно ли утверждение о том, что любой правильный многоугольник является выпуклым?  Ответ обоснуйте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Верно ли утверждение о том, что любой выпуклый многоугольник является правильным?  Ответ обоснуйте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Докажите утверждение о том, что любой равносторонний треугольник является правильным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Найдите углы правильного 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п-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угольнинка, если а) 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п=5;  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б)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 п=18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Сколько сторон имеет правильный многоугольник, если каждый его угол равен а) 60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°; б) 135°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9800" y="622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ИСПОЛЬЗОВАННЫЕ РЕСУРС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>
              <a:spcBef>
                <a:spcPts val="499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https://www.yaklass.ru/p/geometria/8-klass/chetyrekhugolniki-9229/lomanaia-vidy-lomanykh-mnogougolniki-10436/re-5f631654-da63-4817-9438-8981425f1ab5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https://ru.onlinemschool.com/math/formula/regular_polygon/#h4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https://file.11klasov.net/15957-geometrija-7-9-klass-uchebnik-atanasjan-ls-butuzov-vf-kadomcev-sb-i-dr.htm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https://interneturok.ru/lesson/geometry/9-klass/dlina-okruzhnosti-i-ploschad-kruga/okruzhnost-vpisannaya-v-pravilnyy-mnogougolnik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230040" y="1616040"/>
            <a:ext cx="60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Многоугольник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– это простая замкнутая ломаная линия и конечная часть плоскости, которую она ограничивает</a:t>
            </a:r>
            <a:r>
              <a:rPr b="1" i="1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1" name="Блок-схема: извлечение 3"/>
          <p:cNvSpPr/>
          <p:nvPr/>
        </p:nvSpPr>
        <p:spPr>
          <a:xfrm>
            <a:off x="6459480" y="1617840"/>
            <a:ext cx="703440" cy="650520"/>
          </a:xfrm>
          <a:prstGeom prst="flowChartExtra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Правильный пятиугольник 4"/>
          <p:cNvSpPr/>
          <p:nvPr/>
        </p:nvSpPr>
        <p:spPr>
          <a:xfrm>
            <a:off x="7790040" y="1617840"/>
            <a:ext cx="939600" cy="718920"/>
          </a:xfrm>
          <a:prstGeom prst="pentag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3" name="Шестиугольник 5"/>
          <p:cNvSpPr/>
          <p:nvPr/>
        </p:nvSpPr>
        <p:spPr>
          <a:xfrm>
            <a:off x="6807240" y="2598840"/>
            <a:ext cx="1625400" cy="804600"/>
          </a:xfrm>
          <a:prstGeom prst="hexagon">
            <a:avLst>
              <a:gd name="adj" fmla="val 24990"/>
              <a:gd name="vf" fmla="val 11547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4" name="Правильный пятиугольник 6"/>
          <p:cNvSpPr/>
          <p:nvPr/>
        </p:nvSpPr>
        <p:spPr>
          <a:xfrm>
            <a:off x="457200" y="3759120"/>
            <a:ext cx="2354400" cy="2024280"/>
          </a:xfrm>
          <a:prstGeom prst="pentag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1472040" y="3397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132120" y="432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2860200" y="437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582840" y="582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2233800" y="5818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3"/>
          <p:cNvSpPr/>
          <p:nvPr/>
        </p:nvSpPr>
        <p:spPr>
          <a:xfrm flipV="1">
            <a:off x="906480" y="4532040"/>
            <a:ext cx="1905120" cy="1251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Прямая соединительная линия 22"/>
          <p:cNvSpPr/>
          <p:nvPr/>
        </p:nvSpPr>
        <p:spPr>
          <a:xfrm flipV="1">
            <a:off x="939960" y="4532400"/>
            <a:ext cx="1871640" cy="12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24"/>
          <p:cNvSpPr/>
          <p:nvPr/>
        </p:nvSpPr>
        <p:spPr>
          <a:xfrm flipH="1" flipV="1">
            <a:off x="457200" y="4532040"/>
            <a:ext cx="1905120" cy="12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29"/>
          <p:cNvSpPr/>
          <p:nvPr/>
        </p:nvSpPr>
        <p:spPr>
          <a:xfrm>
            <a:off x="474840" y="4513320"/>
            <a:ext cx="23367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30"/>
          <p:cNvSpPr/>
          <p:nvPr/>
        </p:nvSpPr>
        <p:spPr>
          <a:xfrm flipV="1">
            <a:off x="922320" y="3758760"/>
            <a:ext cx="711360" cy="20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34"/>
          <p:cNvSpPr/>
          <p:nvPr/>
        </p:nvSpPr>
        <p:spPr>
          <a:xfrm flipH="1" flipV="1">
            <a:off x="1633680" y="3758760"/>
            <a:ext cx="728640" cy="20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236760" y="4121280"/>
            <a:ext cx="558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A, B, C, D, E 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– вершины;</a:t>
            </a:r>
            <a:br>
              <a:rPr sz="2400"/>
            </a:b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A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В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, B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С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, CD, DE,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АЕ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– стороны; </a:t>
            </a:r>
            <a:br>
              <a:rPr sz="2400"/>
            </a:b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A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С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А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D, BE, BD,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C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Е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– диагонали. </a:t>
            </a:r>
            <a:br>
              <a:rPr sz="2400"/>
            </a:b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нятие много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973080" y="1616040"/>
            <a:ext cx="72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Правильный многоугольник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– это выпуклый многоугольник, у которого все углы равны и все стороны равны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42960" y="2944800"/>
            <a:ext cx="816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Примерами правильных прямоугольников являются равносторонний треугольник и квадрат. На рисунках изображены правильные пятиугольник,  семиугольник и восьмиугольник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774960" y="4656240"/>
            <a:ext cx="1662120" cy="153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259680" y="4656240"/>
            <a:ext cx="1600200" cy="160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1353960" y="4608360"/>
            <a:ext cx="1828800" cy="1791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652320" y="44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оняти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го многоугольника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33"/>
                </a:solidFill>
                <a:latin typeface="Arial"/>
              </a:rPr>
              <a:t>Выведем формулу для вычисления угла</a:t>
            </a:r>
            <a:r>
              <a:rPr b="1" i="1" lang="en-US" sz="2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33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33"/>
                </a:solidFill>
                <a:latin typeface="Arial"/>
              </a:rPr>
              <a:t>правильного 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33"/>
                </a:solidFill>
                <a:latin typeface="Times New Roman"/>
              </a:rPr>
              <a:t>-</a:t>
            </a:r>
            <a:r>
              <a:rPr b="1" i="1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угольник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47e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7797960" y="584280"/>
            <a:ext cx="338040" cy="406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0" y="731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47e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74840" y="201240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Сумма всех углов правильного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угольника равна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п –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 2)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∙ 180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°, причём все углы его равны, поэтому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2928960" y="3132000"/>
            <a:ext cx="423720" cy="5097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9"/>
          <p:cNvSpPr/>
          <p:nvPr/>
        </p:nvSpPr>
        <p:spPr>
          <a:xfrm>
            <a:off x="3408840" y="32018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47e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3751200" y="3174840"/>
            <a:ext cx="473040" cy="495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47e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4" name="Прямоугольник 13"/>
          <p:cNvSpPr/>
          <p:nvPr/>
        </p:nvSpPr>
        <p:spPr>
          <a:xfrm>
            <a:off x="4258800" y="3143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33"/>
                </a:solidFill>
                <a:latin typeface="Times New Roman"/>
              </a:rPr>
              <a:t>∙ </a:t>
            </a:r>
            <a:r>
              <a:rPr b="1" i="1" lang="ru-RU" sz="2400" spc="-1" strike="noStrike">
                <a:solidFill>
                  <a:srgbClr val="000033"/>
                </a:solidFill>
                <a:latin typeface="Times New Roman"/>
              </a:rPr>
              <a:t>180</a:t>
            </a:r>
            <a:r>
              <a:rPr b="1" i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676440" y="1419120"/>
            <a:ext cx="8115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33"/>
                </a:solidFill>
                <a:latin typeface="Times New Roman"/>
                <a:ea typeface="Arial"/>
              </a:rPr>
              <a:t>Изучив свойства правильного многоугольника, исследуем вопрос о возможности вписать его в некоторую окружность.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Теорема (об описанной около правильного многоугольника окружности)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коло любого правильного многоугольника можно описать окружность и притом ровно одну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17880" y="1866960"/>
            <a:ext cx="53924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 доказанного очевидно следующее утверждени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504720" y="179064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Центр правильного многоугольника совпадает с центром описанной около него окружности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676440" y="1419120"/>
            <a:ext cx="81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Окружность называется вписанной в многоугольник, если все стороны многоугольника являются касаются этой окружности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Докажем теорему об окружности, вписанной в правильный многоугольник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3-02-06T11:55:4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