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722-54D1-45A0-B0FA-0F426B1B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13DF-173E-4900-8794-6E5E7A42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7E3-7EB9-429D-94C9-68B0D9F7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7E8-7A06-44F2-9AE1-E2DA66CA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21B3-7E2C-4F43-BB6F-468A49DF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7AD3-DF2B-471F-B155-7EB3348F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58D0-B862-4511-9EA7-2EEE1727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FD40-D987-42D3-8116-6F92DFFD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25E2-2E0E-45B3-865B-52C48FBC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E293-1A00-4F3E-9102-0FC78EE2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56D4-153B-4D59-BB73-60733DFE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3C2-9009-49E5-A61C-994B38FC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6949-1054-4B5E-840C-5B23B422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0AFC-F88A-40B8-A7EC-84ADE4F1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8EC5-87E9-4A26-92A8-C0C77977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AD15-F56C-4711-907F-29C0D9CF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ED42-67EA-4258-A73F-037228A2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4FFED-51CF-4F0E-864A-B971849A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78DEA-DEB7-430B-A5EF-5A253693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7CD35-721F-4878-AC53-180A16F0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E4B97-D535-49C0-92E9-A9D50701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F8FBC-9920-47EA-81F6-907CCF11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F59-9075-487D-A4FC-8C78741D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BAD4E-8A58-434E-AA4A-2FE7EA1E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4C40F-E7B3-4D74-A251-06BB6632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D4E88-71B5-4986-AC33-8B279162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12D10-A5CC-47C8-885D-C34DC933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06F8B-7CD8-4197-A967-D4B05176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5B5E2-2D50-4FE4-B310-3440B3F5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97EFB-B7CB-4052-AC39-3D6EACD3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8329-76F4-474C-A7D7-2CF56679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7FA-56A9-4E58-A5C0-7CE4C473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982F-52DC-4418-9D25-082058A4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D9D-5742-4B92-8A8D-101ADC8E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C76-2092-4184-BE62-E1BA047F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4967-ACCC-4DE1-8643-6464A619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880D-DCFD-4AF0-A267-1E637B6C509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2BB1-33C8-4F7B-854F-CF1FF3C77914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9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53A0-E337-43D1-BFC0-53B5FB278989}" type="slidenum">
              <a:rPr b="1" lang="ru-RU" sz="10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5600" y="1820520"/>
            <a:ext cx="8229600" cy="37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Правильные</a:t>
            </a: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многоугольники, вычисление их элементов. Окружность, описанная около правильного многоугольника. Окружность, вписанная в правильный многоугольник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303640" y="420840"/>
            <a:ext cx="491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9 класс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ГЕОМЕТРИЯ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вадцать первое февраля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9" name="Text Box 39"/>
          <p:cNvSpPr/>
          <p:nvPr/>
        </p:nvSpPr>
        <p:spPr>
          <a:xfrm>
            <a:off x="3530520" y="5697360"/>
            <a:ext cx="53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urier New"/>
                <a:ea typeface="Courier New"/>
              </a:rPr>
              <a:t>Автор презентации:</a:t>
            </a:r>
            <a:br>
              <a:rPr sz="2400"/>
            </a:br>
            <a:r>
              <a:rPr b="1" lang="ru-RU" sz="2400" spc="-1" strike="noStrike">
                <a:solidFill>
                  <a:srgbClr val="00b050"/>
                </a:solidFill>
                <a:latin typeface="Courier New"/>
                <a:ea typeface="Courier New"/>
              </a:rPr>
              <a:t>Попов Дмитрий Сергеевич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Теорем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юбой правильный многоугольник можно вписать окружность, и притом только од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542880" y="1603440"/>
            <a:ext cx="4254480" cy="5254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5143680" y="2247840"/>
            <a:ext cx="3209760" cy="31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7840" y="531360"/>
            <a:ext cx="822960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Из доказанного очевидно следующие утверждения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2"/>
          <p:cNvSpPr/>
          <p:nvPr/>
        </p:nvSpPr>
        <p:spPr>
          <a:xfrm>
            <a:off x="600120" y="1933560"/>
            <a:ext cx="82868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ледств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кружность вписанная в правильный многоугольник, касается сторон многоугольника в их серединах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ледств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Центр окружности, описанной около правильного многоугольника, совпадает с центром окружности, вписанной в тот же многоугольник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7" name="Прямоугольник 4"/>
          <p:cNvSpPr/>
          <p:nvPr/>
        </p:nvSpPr>
        <p:spPr>
          <a:xfrm>
            <a:off x="843120" y="5540400"/>
            <a:ext cx="73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Эта точка называется </a:t>
            </a:r>
            <a:r>
              <a:rPr b="1" lang="ru-RU" sz="3200" spc="-1" strike="noStrike">
                <a:solidFill>
                  <a:srgbClr val="6600ff"/>
                </a:solidFill>
                <a:latin typeface="Times New Roman"/>
                <a:ea typeface="Arial"/>
              </a:rPr>
              <a:t>центром правильного многоугольника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ПИСЬМЕННО ВЫПОЛНИТЕ ТЕСТ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Прямоугольник 2"/>
          <p:cNvSpPr/>
          <p:nvPr/>
        </p:nvSpPr>
        <p:spPr>
          <a:xfrm>
            <a:off x="460440" y="1901880"/>
            <a:ext cx="831204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33"/>
                </a:solidFill>
                <a:latin typeface="Times New Roman"/>
              </a:rPr>
              <a:t>1.</a:t>
            </a: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 Правильным называется выпуклый многоугольник, у которого:</a:t>
            </a:r>
            <a:br>
              <a:rPr sz="1700"/>
            </a:b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а) все стороны равны;                               б) все углы равны;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в) все стороны и все углы равны;            г) все углы острые.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33"/>
                </a:solidFill>
                <a:latin typeface="Times New Roman"/>
              </a:rPr>
              <a:t>2.</a:t>
            </a: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 Если все вершины многоугольника лежат на окружности, то окружность называется:</a:t>
            </a:r>
            <a:br>
              <a:rPr sz="1700"/>
            </a:b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а) вписанной;                 б) описаннной.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33"/>
                </a:solidFill>
                <a:latin typeface="Times New Roman"/>
              </a:rPr>
              <a:t>3.</a:t>
            </a: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 Около правильного многоугольника можно описать:</a:t>
            </a:r>
            <a:br>
              <a:rPr sz="1700"/>
            </a:b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а) Одну окружность;           б) две окружности;            в) множество.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33"/>
                </a:solidFill>
                <a:latin typeface="Times New Roman"/>
              </a:rPr>
              <a:t>4.</a:t>
            </a: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 Если все стороны многоугольника касаются окружности, то окружность называется:</a:t>
            </a:r>
            <a:br>
              <a:rPr sz="1700"/>
            </a:b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а) вписанной;                      б) описанной.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33"/>
                </a:solidFill>
                <a:latin typeface="Times New Roman"/>
              </a:rPr>
              <a:t>5. </a:t>
            </a: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Центр окружности, описанной около правильного многоугольника и центр окружности, вписанной в этот же многоугольник:</a:t>
            </a:r>
            <a:br>
              <a:rPr sz="1700"/>
            </a:b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а) центр вписанной окружности;                         б) центр описанной окружности;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в) центр правильного многоугольника;                г) центр многоугольника.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33"/>
                </a:solidFill>
                <a:latin typeface="Times New Roman"/>
              </a:rPr>
              <a:t>6.</a:t>
            </a: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 Если четырехугольник вписан в окружность, то:</a:t>
            </a:r>
            <a:br>
              <a:rPr sz="1700"/>
            </a:b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а) сумма его противолежащих углов равна 180</a:t>
            </a:r>
            <a:r>
              <a:rPr b="0" lang="ru-RU" sz="1700" spc="-1" strike="noStrike">
                <a:solidFill>
                  <a:srgbClr val="000033"/>
                </a:solidFill>
                <a:latin typeface="Times New Roman"/>
                <a:ea typeface="Arial"/>
              </a:rPr>
              <a:t>°;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б) сумма  углов, прилежащих к одной стороне,  равна 180</a:t>
            </a:r>
            <a:r>
              <a:rPr b="0" lang="ru-RU" sz="1700" spc="-1" strike="noStrike">
                <a:solidFill>
                  <a:srgbClr val="000033"/>
                </a:solidFill>
                <a:latin typeface="Times New Roman"/>
                <a:ea typeface="Arial"/>
              </a:rPr>
              <a:t>°;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в) суммы  противоположных сторон равны;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33"/>
                </a:solidFill>
                <a:latin typeface="Times New Roman"/>
              </a:rPr>
              <a:t>г) суммы смежных сторон равны.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89532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a85ff"/>
                </a:solidFill>
                <a:latin typeface="Times New Roman"/>
              </a:rPr>
              <a:t>ПИСЬМЕННО ВЫПОЛНИ ЗАДАНИЯ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Прямоугольник 2"/>
          <p:cNvSpPr/>
          <p:nvPr/>
        </p:nvSpPr>
        <p:spPr>
          <a:xfrm>
            <a:off x="460440" y="1901880"/>
            <a:ext cx="83120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Верно ли утверждение о том, что любой правильный многоугольник является выпуклым?  Ответ обоснуйте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Верно ли утверждение о том, что любой выпуклый многоугольник является правильным?  Ответ обоснуйте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Докажите утверждение о том, что любой равносторонний треугольник является правильным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Найдите углы правильного </a:t>
            </a:r>
            <a:r>
              <a:rPr b="0" i="1" lang="ru-RU" sz="2400" spc="-1" strike="noStrike">
                <a:solidFill>
                  <a:srgbClr val="000033"/>
                </a:solidFill>
                <a:latin typeface="Times New Roman"/>
              </a:rPr>
              <a:t>п-</a:t>
            </a: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угольнинка, если а) </a:t>
            </a:r>
            <a:r>
              <a:rPr b="0" i="1" lang="ru-RU" sz="2400" spc="-1" strike="noStrike">
                <a:solidFill>
                  <a:srgbClr val="000033"/>
                </a:solidFill>
                <a:latin typeface="Times New Roman"/>
              </a:rPr>
              <a:t>п=5;  </a:t>
            </a: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б)</a:t>
            </a:r>
            <a:r>
              <a:rPr b="0" i="1" lang="ru-RU" sz="2400" spc="-1" strike="noStrike">
                <a:solidFill>
                  <a:srgbClr val="000033"/>
                </a:solidFill>
                <a:latin typeface="Times New Roman"/>
              </a:rPr>
              <a:t> п=18</a:t>
            </a: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33"/>
                </a:solidFill>
                <a:latin typeface="Times New Roman"/>
              </a:rPr>
              <a:t>Сколько сторон имеет правильный многоугольник, если каждый его угол равен а) 60</a:t>
            </a:r>
            <a:r>
              <a:rPr b="0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°; б) 135°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39800" y="6220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ИСПОЛЬЗОВАННЫЕ РЕСУРСЫ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251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>
              <a:spcBef>
                <a:spcPts val="499"/>
              </a:spcBef>
              <a:buClr>
                <a:srgbClr val="275c6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https://www.yaklass.ru/p/geometria/8-klass/chetyrekhugolniki-9229/lomanaia-vidy-lomanykh-mnogougolniki-10436/re-5f631654-da63-4817-9438-8981425f1ab5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275c6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https://ru.onlinemschool.com/math/formula/regular_polygon/#h4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275c6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https://file.11klasov.net/15957-geometrija-7-9-klass-uchebnik-atanasjan-ls-butuzov-vf-kadomcev-sb-i-dr.htm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275c6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https://interneturok.ru/lesson/geometry/9-klass/dlina-okruzhnosti-i-ploschad-kruga/okruzhnost-vpisannaya-v-pravilnyy-mnogougolnik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230040" y="1616040"/>
            <a:ext cx="608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33"/>
                </a:solidFill>
                <a:latin typeface="Arial"/>
                <a:ea typeface="Arial"/>
              </a:rPr>
              <a:t>Многоугольник </a:t>
            </a:r>
            <a:r>
              <a:rPr b="0" lang="ru-RU" sz="2400" spc="-1" strike="noStrike">
                <a:solidFill>
                  <a:srgbClr val="000033"/>
                </a:solidFill>
                <a:latin typeface="Arial"/>
                <a:ea typeface="Arial"/>
              </a:rPr>
              <a:t>– это простая замкнутая ломаная линия и конечная часть плоскости, которую она ограничивает</a:t>
            </a:r>
            <a:r>
              <a:rPr b="1" i="1" lang="ru-RU" sz="2400" spc="-1" strike="noStrike">
                <a:solidFill>
                  <a:srgbClr val="000033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1" name="Блок-схема: извлечение 3"/>
          <p:cNvSpPr/>
          <p:nvPr/>
        </p:nvSpPr>
        <p:spPr>
          <a:xfrm>
            <a:off x="6459480" y="1617840"/>
            <a:ext cx="703440" cy="650520"/>
          </a:xfrm>
          <a:prstGeom prst="flowChartExtra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2" name="Правильный пятиугольник 4"/>
          <p:cNvSpPr/>
          <p:nvPr/>
        </p:nvSpPr>
        <p:spPr>
          <a:xfrm>
            <a:off x="7790040" y="1617840"/>
            <a:ext cx="939600" cy="718920"/>
          </a:xfrm>
          <a:prstGeom prst="pentagon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3" name="Шестиугольник 5"/>
          <p:cNvSpPr/>
          <p:nvPr/>
        </p:nvSpPr>
        <p:spPr>
          <a:xfrm>
            <a:off x="6807240" y="2598840"/>
            <a:ext cx="1625400" cy="804600"/>
          </a:xfrm>
          <a:prstGeom prst="hexagon">
            <a:avLst>
              <a:gd name="adj" fmla="val 24990"/>
              <a:gd name="vf" fmla="val 11547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4" name="Правильный пятиугольник 6"/>
          <p:cNvSpPr/>
          <p:nvPr/>
        </p:nvSpPr>
        <p:spPr>
          <a:xfrm>
            <a:off x="457200" y="3759120"/>
            <a:ext cx="2354400" cy="2024280"/>
          </a:xfrm>
          <a:prstGeom prst="pentagon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1472040" y="3397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Arial"/>
                <a:ea typeface="Arial"/>
              </a:rPr>
              <a:t>С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132120" y="432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3"/>
                </a:solidFill>
                <a:latin typeface="Arial"/>
                <a:ea typeface="Arial"/>
              </a:rPr>
              <a:t>В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7" name="Прямоугольник 9"/>
          <p:cNvSpPr/>
          <p:nvPr/>
        </p:nvSpPr>
        <p:spPr>
          <a:xfrm>
            <a:off x="2860200" y="437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8" name="Прямоугольник 10"/>
          <p:cNvSpPr/>
          <p:nvPr/>
        </p:nvSpPr>
        <p:spPr>
          <a:xfrm>
            <a:off x="582840" y="5826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9" name="Прямоугольник 11"/>
          <p:cNvSpPr/>
          <p:nvPr/>
        </p:nvSpPr>
        <p:spPr>
          <a:xfrm>
            <a:off x="2233800" y="5818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Прямая соединительная линия 13"/>
          <p:cNvSpPr/>
          <p:nvPr/>
        </p:nvSpPr>
        <p:spPr>
          <a:xfrm flipV="1">
            <a:off x="906480" y="4532040"/>
            <a:ext cx="1905120" cy="12510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1" name="Прямая соединительная линия 22"/>
          <p:cNvSpPr/>
          <p:nvPr/>
        </p:nvSpPr>
        <p:spPr>
          <a:xfrm flipV="1">
            <a:off x="939960" y="4532400"/>
            <a:ext cx="1871640" cy="12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2" name="Прямая соединительная линия 24"/>
          <p:cNvSpPr/>
          <p:nvPr/>
        </p:nvSpPr>
        <p:spPr>
          <a:xfrm flipH="1" flipV="1">
            <a:off x="457200" y="4532040"/>
            <a:ext cx="1905120" cy="125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3" name="Прямая соединительная линия 29"/>
          <p:cNvSpPr/>
          <p:nvPr/>
        </p:nvSpPr>
        <p:spPr>
          <a:xfrm>
            <a:off x="474840" y="4513320"/>
            <a:ext cx="23367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4" name="Прямая соединительная линия 30"/>
          <p:cNvSpPr/>
          <p:nvPr/>
        </p:nvSpPr>
        <p:spPr>
          <a:xfrm flipV="1">
            <a:off x="922320" y="3758760"/>
            <a:ext cx="711360" cy="20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34"/>
          <p:cNvSpPr/>
          <p:nvPr/>
        </p:nvSpPr>
        <p:spPr>
          <a:xfrm flipH="1" flipV="1">
            <a:off x="1633680" y="3758760"/>
            <a:ext cx="728640" cy="20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236760" y="4121280"/>
            <a:ext cx="558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A, B, C, D, E </a:t>
            </a:r>
            <a:r>
              <a:rPr b="0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– вершины;</a:t>
            </a:r>
            <a:br>
              <a:rPr sz="2400"/>
            </a:b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A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В</a:t>
            </a: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, B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С</a:t>
            </a: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, CD, DE,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 АЕ</a:t>
            </a: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– стороны; </a:t>
            </a:r>
            <a:br>
              <a:rPr sz="2400"/>
            </a:b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A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С</a:t>
            </a: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, 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А</a:t>
            </a: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D, BE, BD,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C</a:t>
            </a:r>
            <a:r>
              <a:rPr b="1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Е</a:t>
            </a: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– диагонали. </a:t>
            </a:r>
            <a:br>
              <a:rPr sz="2400"/>
            </a:b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нятие многоуг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973080" y="1616040"/>
            <a:ext cx="721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33"/>
                </a:solidFill>
                <a:latin typeface="Arial"/>
                <a:ea typeface="Arial"/>
              </a:rPr>
              <a:t>Правильный многоугольник </a:t>
            </a:r>
            <a:r>
              <a:rPr b="0" lang="ru-RU" sz="2400" spc="-1" strike="noStrike">
                <a:solidFill>
                  <a:srgbClr val="000033"/>
                </a:solidFill>
                <a:latin typeface="Arial"/>
                <a:ea typeface="Arial"/>
              </a:rPr>
              <a:t>– это выпуклый многоугольник, у которого все углы равны и все стороны равны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642960" y="2944800"/>
            <a:ext cx="816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Примерами правильных прямоугольников являются равносторонний треугольник и квадрат. На рисунках изображены правильные пятиугольник,  семиугольник и восьмиугольник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3774960" y="4656240"/>
            <a:ext cx="1662120" cy="153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6259680" y="4656240"/>
            <a:ext cx="1600200" cy="1608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3"/>
          <a:stretch/>
        </p:blipFill>
        <p:spPr>
          <a:xfrm>
            <a:off x="1353960" y="4608360"/>
            <a:ext cx="1828800" cy="179100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652320" y="444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Понятие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правильного многоугольника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33"/>
                </a:solidFill>
                <a:latin typeface="Arial"/>
              </a:rPr>
              <a:t>Выведем формулу для вычисления угла</a:t>
            </a:r>
            <a:r>
              <a:rPr b="1" i="1" lang="en-US" sz="2400" spc="-1" strike="noStrike">
                <a:solidFill>
                  <a:srgbClr val="000033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3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33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33"/>
                </a:solidFill>
                <a:latin typeface="Arial"/>
              </a:rPr>
              <a:t>правильного </a:t>
            </a:r>
            <a:r>
              <a:rPr b="1" i="1" lang="ru-RU" sz="2800" spc="-1" strike="noStrike">
                <a:solidFill>
                  <a:srgbClr val="000033"/>
                </a:solidFill>
                <a:latin typeface="Times New Roman"/>
              </a:rPr>
              <a:t>п</a:t>
            </a:r>
            <a:r>
              <a:rPr b="1" i="1" lang="ru-RU" sz="2400" spc="-1" strike="noStrike">
                <a:solidFill>
                  <a:srgbClr val="000033"/>
                </a:solidFill>
                <a:latin typeface="Times New Roman"/>
              </a:rPr>
              <a:t>-</a:t>
            </a:r>
            <a:r>
              <a:rPr b="1" i="1" lang="ru-RU" sz="2400" spc="-1" strike="noStrike">
                <a:solidFill>
                  <a:srgbClr val="000033"/>
                </a:solidFill>
                <a:latin typeface="Arial"/>
                <a:ea typeface="Arial"/>
              </a:rPr>
              <a:t>угольника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47e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7797960" y="584280"/>
            <a:ext cx="338040" cy="4064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0" y="731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47e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74840" y="2012400"/>
            <a:ext cx="8229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Arial"/>
              </a:rPr>
              <a:t>Сумма всех углов правильного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п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угольника равна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(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п –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Arial"/>
              </a:rPr>
              <a:t> 2)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 ∙ 180</a:t>
            </a:r>
            <a:r>
              <a:rPr b="1" i="1" lang="ru-RU" sz="2400" spc="-1" strike="noStrike">
                <a:solidFill>
                  <a:srgbClr val="003366"/>
                </a:solidFill>
                <a:latin typeface="Arial"/>
                <a:ea typeface="Arial"/>
              </a:rPr>
              <a:t>°, причём все углы его равны, поэтому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2928960" y="3132000"/>
            <a:ext cx="423720" cy="50976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9"/>
          <p:cNvSpPr/>
          <p:nvPr/>
        </p:nvSpPr>
        <p:spPr>
          <a:xfrm>
            <a:off x="3408840" y="320184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47e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3751200" y="3174840"/>
            <a:ext cx="473040" cy="495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0" y="952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47e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4" name="Прямоугольник 13"/>
          <p:cNvSpPr/>
          <p:nvPr/>
        </p:nvSpPr>
        <p:spPr>
          <a:xfrm>
            <a:off x="4258800" y="3143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33"/>
                </a:solidFill>
                <a:latin typeface="Times New Roman"/>
              </a:rPr>
              <a:t>∙ </a:t>
            </a:r>
            <a:r>
              <a:rPr b="1" i="1" lang="ru-RU" sz="2400" spc="-1" strike="noStrike">
                <a:solidFill>
                  <a:srgbClr val="000033"/>
                </a:solidFill>
                <a:latin typeface="Times New Roman"/>
              </a:rPr>
              <a:t>180</a:t>
            </a:r>
            <a:r>
              <a:rPr b="1" i="1" lang="ru-RU" sz="2400" spc="-1" strike="noStrike">
                <a:solidFill>
                  <a:srgbClr val="000033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676440" y="1419120"/>
            <a:ext cx="8115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33"/>
                </a:solidFill>
                <a:latin typeface="Times New Roman"/>
                <a:ea typeface="Arial"/>
              </a:rPr>
              <a:t>Изучив свойства правильного многоугольника, исследуем вопрос о возможности вписать его в некоторую окружность.</a:t>
            </a:r>
            <a:endParaRPr b="0" lang="en-US" sz="4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Теорема (об описанной около правильного многоугольника окружности)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коло любого правильного многоугольника можно описать окружность и притом ровно одну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117880" y="1866960"/>
            <a:ext cx="53924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з доказанного очевидно следующее утверждение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2"/>
          <p:cNvSpPr/>
          <p:nvPr/>
        </p:nvSpPr>
        <p:spPr>
          <a:xfrm>
            <a:off x="504720" y="1790640"/>
            <a:ext cx="828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ледст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Центр правильного многоугольника совпадает с центром описанной около него окружности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1"/>
          <p:cNvSpPr/>
          <p:nvPr/>
        </p:nvSpPr>
        <p:spPr>
          <a:xfrm>
            <a:off x="676440" y="1419120"/>
            <a:ext cx="81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33"/>
                </a:solidFill>
                <a:latin typeface="Times New Roman"/>
                <a:ea typeface="Arial"/>
              </a:rPr>
              <a:t>Окружность называется вписанной в многоугольник, если все стороны многоугольника являются касаются этой окружности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33"/>
                </a:solidFill>
                <a:latin typeface="Times New Roman"/>
                <a:ea typeface="Arial"/>
              </a:rPr>
              <a:t>Докажем теорему об окружности, вписанной в правильный многоугольник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23-02-06T11:55:48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