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8D93-3C02-414B-A52B-1378943C5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B9F4-5E64-4DC9-B666-9E997976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0E7F-55AE-4F21-962D-A033DD6B4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83A1-D10C-49B3-ACE4-C112938B8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7CC1-2790-4C4C-A80F-8A6FAFB9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5858-3DAD-44F7-9472-579C2E23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A8B9-B874-4C68-B344-CC2C8648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2497-404D-42E2-827D-A6A1CCB2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345F-97B8-4D2E-B237-A5D9E0A5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1F63-ABB4-43D7-BA83-EE1245FB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1947-2CBD-451F-AFA9-D8B8EDFA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BD33-9371-4581-99DD-8D122472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D85E-5513-4389-9FBB-9A32434DCB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04000" cy="3744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바탕"/>
                <a:ea typeface="바탕"/>
              </a:rPr>
              <a:t>Поэма Н.А.Некрасова «Кому на Руси жить хорошо»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5280" y="4365360"/>
            <a:ext cx="8352000" cy="1871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바탕"/>
                <a:ea typeface="바탕"/>
              </a:rPr>
              <a:t>Замысел, жанр, компози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37396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바탕"/>
                <a:ea typeface="바탕"/>
              </a:rPr>
              <a:t>Кто такие странники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2"/>
          <p:cNvSpPr/>
          <p:nvPr/>
        </p:nvSpPr>
        <p:spPr>
          <a:xfrm>
            <a:off x="324000" y="4365720"/>
            <a:ext cx="8569080" cy="2576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«Странники» - семеро мужиков, ищущие счастлив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«Странники» - все думающие люди (мотив  нравственного скитания – поиска ответов на вопросы о новом укладе жизни в стран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«Странники» - «Божьи люди» - юродивые, паломники, пилигри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2411280" y="1628640"/>
            <a:ext cx="410544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Картинка 63 из 865"/>
          <p:cNvPicPr/>
          <p:nvPr/>
        </p:nvPicPr>
        <p:blipFill>
          <a:blip r:embed="rId1"/>
          <a:stretch/>
        </p:blipFill>
        <p:spPr>
          <a:xfrm>
            <a:off x="324000" y="765000"/>
            <a:ext cx="4176720" cy="5185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Картинка 37 из 132"/>
          <p:cNvPicPr/>
          <p:nvPr/>
        </p:nvPicPr>
        <p:blipFill>
          <a:blip r:embed="rId2"/>
          <a:stretch/>
        </p:blipFill>
        <p:spPr>
          <a:xfrm>
            <a:off x="4932360" y="692280"/>
            <a:ext cx="374328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Картинка 11 из 84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47214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2"/>
          <p:cNvSpPr/>
          <p:nvPr/>
        </p:nvSpPr>
        <p:spPr>
          <a:xfrm>
            <a:off x="2286000" y="765000"/>
            <a:ext cx="4572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3"/>
          <p:cNvSpPr/>
          <p:nvPr/>
        </p:nvSpPr>
        <p:spPr>
          <a:xfrm>
            <a:off x="250920" y="5084640"/>
            <a:ext cx="8642160" cy="1023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바탕"/>
                <a:ea typeface="바탕"/>
              </a:rPr>
              <a:t>«Говорящие»  названия создают образ пореформенной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4"/>
          <p:cNvSpPr/>
          <p:nvPr/>
        </p:nvSpPr>
        <p:spPr>
          <a:xfrm>
            <a:off x="2286000" y="765000"/>
            <a:ext cx="4572000" cy="12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바탕"/>
                <a:ea typeface="바탕"/>
              </a:rPr>
              <a:t>Подтянутая губер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바탕"/>
                <a:ea typeface="바탕"/>
              </a:rPr>
              <a:t>Терпигорев уез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바탕"/>
                <a:ea typeface="바탕"/>
              </a:rPr>
              <a:t>Пустопорожняя вол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"/>
          <p:cNvSpPr/>
          <p:nvPr/>
        </p:nvSpPr>
        <p:spPr>
          <a:xfrm>
            <a:off x="324000" y="192600"/>
            <a:ext cx="8569080" cy="1068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바탕"/>
                <a:ea typeface="바탕"/>
              </a:rPr>
              <a:t>КОМУ ЖИВЁТСЯ ВЕСЕЛ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바탕"/>
                <a:ea typeface="바탕"/>
              </a:rPr>
              <a:t>ВОЛЬГОТНО НА РУС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Картинка 61 из 1665"/>
          <p:cNvPicPr/>
          <p:nvPr/>
        </p:nvPicPr>
        <p:blipFill>
          <a:blip r:embed="rId1"/>
          <a:stretch/>
        </p:blipFill>
        <p:spPr>
          <a:xfrm>
            <a:off x="2195640" y="1844640"/>
            <a:ext cx="40320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4572000" y="1700280"/>
            <a:ext cx="4248000" cy="43599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바탕"/>
                <a:ea typeface="바탕"/>
              </a:rPr>
              <a:t>«Я задумал изложить в связном рассказе все, что я знаю о народе, все, что мне привелось услышать из уст его, и я затеял «Кому на Руси жить хорош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바탕"/>
                <a:ea typeface="바탕"/>
              </a:rPr>
              <a:t>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바탕"/>
                <a:ea typeface="바탕"/>
              </a:rPr>
              <a:t>(Н.А.Некрас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Картинка 50 из 1135"/>
          <p:cNvPicPr/>
          <p:nvPr/>
        </p:nvPicPr>
        <p:blipFill>
          <a:blip r:embed="rId1">
            <a:lum bright="32000"/>
          </a:blip>
          <a:stretch/>
        </p:blipFill>
        <p:spPr>
          <a:xfrm>
            <a:off x="179280" y="115920"/>
            <a:ext cx="41767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s11.radikal.ru/i183/1103/ca/f1183bfdf4cct.jpg"/>
          <p:cNvPicPr/>
          <p:nvPr/>
        </p:nvPicPr>
        <p:blipFill>
          <a:blip r:embed="rId1"/>
          <a:stretch/>
        </p:blipFill>
        <p:spPr>
          <a:xfrm>
            <a:off x="468360" y="189000"/>
            <a:ext cx="8136000" cy="439236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3"/>
          <p:cNvSpPr/>
          <p:nvPr/>
        </p:nvSpPr>
        <p:spPr>
          <a:xfrm>
            <a:off x="250920" y="4292640"/>
            <a:ext cx="8642160" cy="22885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Приступая к работе над поэмой, Некрасов поставил перед собой сложную задачу – показать в поэме состояние Руси в пореформенный период, а также прошлое и настоящее народа и заявить о путях возможного преобразования существующего по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4859280" y="620640"/>
            <a:ext cx="3960720" cy="1124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spcBef>
                <a:spcPts val="41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바탕"/>
                <a:ea typeface="바탕"/>
              </a:rPr>
              <a:t>ПОЭМА</a:t>
            </a:r>
            <a:r>
              <a:rPr b="1" lang="ru-RU" sz="2800" spc="-1" strike="noStrike">
                <a:solidFill>
                  <a:srgbClr val="000000"/>
                </a:solidFill>
                <a:latin typeface="바탕"/>
                <a:ea typeface="바탕"/>
              </a:rPr>
              <a:t>-</a:t>
            </a:r>
            <a:r>
              <a:rPr b="1" lang="en-GB" sz="28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바탕"/>
                <a:ea typeface="바탕"/>
              </a:rPr>
              <a:t>лиро-эпический жанр большого объе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4788000" y="3573360"/>
            <a:ext cx="4105080" cy="2100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41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10729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d10729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d10729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바탕"/>
                <a:ea typeface="바탕"/>
              </a:rPr>
              <a:t>ЭПОПЕЯ</a:t>
            </a:r>
            <a:r>
              <a:rPr b="1" lang="ru-RU" sz="2800" spc="-1" strike="noStrike">
                <a:solidFill>
                  <a:srgbClr val="000000"/>
                </a:solidFill>
                <a:latin typeface="바탕"/>
                <a:ea typeface="바탕"/>
              </a:rPr>
              <a:t>-</a:t>
            </a:r>
            <a:r>
              <a:rPr b="1" lang="en-GB" sz="28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바탕"/>
                <a:ea typeface="바탕"/>
              </a:rPr>
              <a:t>художественное произведение, в котором отражаются целые эпохи в жизни страны и на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Картинка 33 из 1666"/>
          <p:cNvPicPr/>
          <p:nvPr/>
        </p:nvPicPr>
        <p:blipFill>
          <a:blip r:embed="rId1"/>
          <a:stretch/>
        </p:blipFill>
        <p:spPr>
          <a:xfrm>
            <a:off x="395280" y="476280"/>
            <a:ext cx="4176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바탕"/>
                <a:ea typeface="바탕"/>
              </a:rPr>
              <a:t>Композиция поэ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4284720" y="1628640"/>
            <a:ext cx="3959280" cy="52146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Композиция поэмы сочетает эпическое повествование с лирическими  отступле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Главы поэмы самостоятельны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Автор свободно обращается со временем и пространством , это объясняется жанровой спецификой произведения</a:t>
            </a:r>
            <a:r>
              <a:rPr b="1" lang="ru-RU" sz="2400" spc="-1" strike="noStrike">
                <a:solidFill>
                  <a:srgbClr val="4f6228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Картинка 3 из 1664"/>
          <p:cNvPicPr/>
          <p:nvPr/>
        </p:nvPicPr>
        <p:blipFill>
          <a:blip r:embed="rId1"/>
          <a:stretch/>
        </p:blipFill>
        <p:spPr>
          <a:xfrm>
            <a:off x="250920" y="1773360"/>
            <a:ext cx="38098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324000" y="189000"/>
            <a:ext cx="8424720" cy="1070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41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바탕"/>
                <a:ea typeface="바탕"/>
              </a:rPr>
              <a:t>КОМПОЗИЦИЯ</a:t>
            </a:r>
            <a:r>
              <a:rPr b="1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 поэмы </a:t>
            </a:r>
            <a:r>
              <a:rPr b="1" lang="en-GB" sz="2400" spc="-1" strike="noStrike">
                <a:solidFill>
                  <a:srgbClr val="000000"/>
                </a:solidFill>
                <a:latin typeface="바탕"/>
                <a:ea typeface="바탕"/>
              </a:rPr>
              <a:t>«календарная»</a:t>
            </a:r>
            <a:r>
              <a:rPr b="1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, так как в каждой главе автор обозначил время происходящих событ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4356000" y="1390680"/>
            <a:ext cx="4032360" cy="4579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9000"/>
              </a:lnSpc>
              <a:spcBef>
                <a:spcPts val="41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«</a:t>
            </a:r>
            <a:r>
              <a:rPr b="1" lang="en-GB" sz="2400" spc="-1" strike="noStrike">
                <a:solidFill>
                  <a:srgbClr val="000000"/>
                </a:solidFill>
                <a:latin typeface="바탕"/>
                <a:ea typeface="바탕"/>
              </a:rPr>
              <a:t>Пролог» </a:t>
            </a:r>
            <a:r>
              <a:rPr b="1" lang="en-GB" sz="1800" spc="-1" strike="noStrike">
                <a:solidFill>
                  <a:srgbClr val="000000"/>
                </a:solidFill>
                <a:latin typeface="바탕"/>
                <a:ea typeface="바탕"/>
              </a:rPr>
              <a:t>- весна (птицы вьют гнёзда, кукует кукушка)</a:t>
            </a:r>
            <a:r>
              <a:rPr b="1" lang="en-GB" sz="1800" spc="-1" strike="noStrike">
                <a:solidFill>
                  <a:srgbClr val="000000"/>
                </a:solidFill>
                <a:latin typeface="바탕"/>
                <a:ea typeface="바탕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41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바탕"/>
                <a:ea typeface="바탕"/>
              </a:rPr>
              <a:t>«Поп» </a:t>
            </a:r>
            <a:r>
              <a:rPr b="1" lang="en-GB" sz="1800" spc="-1" strike="noStrike">
                <a:solidFill>
                  <a:srgbClr val="000000"/>
                </a:solidFill>
                <a:latin typeface="바탕"/>
                <a:ea typeface="바탕"/>
              </a:rPr>
              <a:t>- «А время уж нераннее,подходит месяц ма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9000"/>
              </a:lnSpc>
              <a:spcBef>
                <a:spcPts val="41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바탕"/>
                <a:ea typeface="바탕"/>
              </a:rPr>
              <a:t>«Сельская ярмонка» </a:t>
            </a:r>
            <a:r>
              <a:rPr b="1" lang="en-GB" sz="1800" spc="-1" strike="noStrike">
                <a:solidFill>
                  <a:srgbClr val="000000"/>
                </a:solidFill>
                <a:latin typeface="바탕"/>
                <a:ea typeface="바탕"/>
              </a:rPr>
              <a:t>- «Лишь на Николу вешнего погода поуставилась» (9 мая по старому стилю)</a:t>
            </a:r>
            <a:r>
              <a:rPr b="1" lang="en-GB" sz="1800" spc="-1" strike="noStrike">
                <a:solidFill>
                  <a:srgbClr val="000000"/>
                </a:solidFill>
                <a:latin typeface="바탕"/>
                <a:ea typeface="바탕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9000"/>
              </a:lnSpc>
              <a:spcBef>
                <a:spcPts val="41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바탕"/>
                <a:ea typeface="바탕"/>
              </a:rPr>
              <a:t>«Последыш» </a:t>
            </a:r>
            <a:r>
              <a:rPr b="1" lang="en-GB" sz="1800" spc="-1" strike="noStrike">
                <a:solidFill>
                  <a:srgbClr val="000000"/>
                </a:solidFill>
                <a:latin typeface="바탕"/>
                <a:ea typeface="바탕"/>
              </a:rPr>
              <a:t>- «Петровки.Время жаркое. В разгаре сенокос»(12 июля)</a:t>
            </a:r>
            <a:r>
              <a:rPr b="1" lang="en-GB" sz="1800" spc="-1" strike="noStrike">
                <a:solidFill>
                  <a:srgbClr val="000000"/>
                </a:solidFill>
                <a:latin typeface="바탕"/>
                <a:ea typeface="바탕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Картинка 28 из 1666"/>
          <p:cNvPicPr/>
          <p:nvPr/>
        </p:nvPicPr>
        <p:blipFill>
          <a:blip r:embed="rId1"/>
          <a:stretch/>
        </p:blipFill>
        <p:spPr>
          <a:xfrm>
            <a:off x="468360" y="1628640"/>
            <a:ext cx="36720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Картинка 34 из 1666"/>
          <p:cNvPicPr/>
          <p:nvPr/>
        </p:nvPicPr>
        <p:blipFill>
          <a:blip r:embed="rId1"/>
          <a:stretch/>
        </p:blipFill>
        <p:spPr>
          <a:xfrm>
            <a:off x="684360" y="333360"/>
            <a:ext cx="7619760" cy="424800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2"/>
          <p:cNvSpPr/>
          <p:nvPr/>
        </p:nvSpPr>
        <p:spPr>
          <a:xfrm>
            <a:off x="1692360" y="4869000"/>
            <a:ext cx="5543640" cy="13453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바탕"/>
                <a:ea typeface="바탕"/>
              </a:rPr>
              <a:t>«</a:t>
            </a:r>
            <a:r>
              <a:rPr b="1" lang="en-GB" sz="2800" spc="-1" strike="noStrike">
                <a:solidFill>
                  <a:srgbClr val="000000"/>
                </a:solidFill>
                <a:latin typeface="바탕"/>
                <a:ea typeface="바탕"/>
              </a:rPr>
              <a:t>Крестьянка» </a:t>
            </a:r>
            <a:r>
              <a:rPr b="1" lang="en-GB" sz="2400" spc="-1" strike="noStrike">
                <a:solidFill>
                  <a:srgbClr val="000000"/>
                </a:solidFill>
                <a:latin typeface="바탕"/>
                <a:ea typeface="바탕"/>
              </a:rPr>
              <a:t>- жа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바탕"/>
                <a:ea typeface="바탕"/>
              </a:rPr>
              <a:t>«Пир на весь мир» </a:t>
            </a:r>
            <a:r>
              <a:rPr b="1" lang="en-GB" sz="2400" spc="-1" strike="noStrike">
                <a:solidFill>
                  <a:srgbClr val="000000"/>
                </a:solidFill>
                <a:latin typeface="바탕"/>
                <a:ea typeface="바탕"/>
              </a:rPr>
              <a:t>- сенок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바탕"/>
                <a:ea typeface="바탕"/>
              </a:rPr>
              <a:t>кончается (ранняя осень)</a:t>
            </a:r>
            <a:r>
              <a:rPr b="1" lang="en-GB" sz="2400" spc="-1" strike="noStrike">
                <a:solidFill>
                  <a:srgbClr val="000000"/>
                </a:solidFill>
                <a:latin typeface="바탕"/>
                <a:ea typeface="바탕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바탕"/>
                <a:ea typeface="바탕"/>
              </a:rPr>
              <a:t>Художественные особенности поэ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2"/>
          <p:cNvSpPr/>
          <p:nvPr/>
        </p:nvSpPr>
        <p:spPr>
          <a:xfrm>
            <a:off x="324000" y="5445000"/>
            <a:ext cx="8569080" cy="11912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Сквозной образ произведений Некрасова - образ дороги - символическое отражение крестного пути России в поисках ист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Картинка 8 из 31911"/>
          <p:cNvPicPr/>
          <p:nvPr/>
        </p:nvPicPr>
        <p:blipFill>
          <a:blip r:embed="rId1"/>
          <a:stretch/>
        </p:blipFill>
        <p:spPr>
          <a:xfrm>
            <a:off x="755640" y="1989000"/>
            <a:ext cx="7848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바탕"/>
                <a:ea typeface="바탕"/>
              </a:rPr>
              <a:t>Фольклорные мотивы поэ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2"/>
          <p:cNvSpPr/>
          <p:nvPr/>
        </p:nvSpPr>
        <p:spPr>
          <a:xfrm>
            <a:off x="6227640" y="1844640"/>
            <a:ext cx="2160720" cy="26542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Волшебная сказ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Был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Народная пес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Прит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Легенд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Картинка 33 из 979"/>
          <p:cNvPicPr/>
          <p:nvPr/>
        </p:nvPicPr>
        <p:blipFill>
          <a:blip r:embed="rId1"/>
          <a:stretch/>
        </p:blipFill>
        <p:spPr>
          <a:xfrm>
            <a:off x="539640" y="2205000"/>
            <a:ext cx="56199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01:07:42Z</dcterms:created>
  <dc:creator>.</dc:creator>
  <dc:description>З.В. Александрова  http://aida.ucoz.ru</dc:description>
  <dc:language>en-US</dc:language>
  <cp:lastModifiedBy>Лена</cp:lastModifiedBy>
  <dcterms:modified xsi:type="dcterms:W3CDTF">2023-02-06T10:54:15Z</dcterms:modified>
  <cp:revision>25</cp:revision>
  <dc:subject/>
  <dc:title>Поэма Н.А.Некрасова «Кому на Руси жить хорошо».</dc:title>
</cp:coreProperties>
</file>