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584-B5F2-4FD1-8FAE-FF042367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F0D-D931-481A-85C9-4FA9BA55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352-715F-4326-98C3-AAF35F8B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F32-C671-402C-875E-6F980CBF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8DA-7B27-48CE-AA3F-5C5C39BC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2C2-A929-4E77-8E25-F298BA66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2C2-A656-4A1C-9D1F-22456671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62A-A351-42E0-A2F8-3A3EF069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937-8FE3-4B15-8C4E-A6200994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5BD-0C73-4DD8-8DF7-23C28DB2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BE6-36F8-45A1-8B07-3A7126E2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8DA-A7DC-4E6B-89DC-ACC80F76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061D-B6A6-49B7-AD36-F111B5805B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4000" cy="374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바탕"/>
                <a:ea typeface="바탕"/>
              </a:rPr>
              <a:t>Поэма Н.А.Некрасова «Кому на Руси жить хорошо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4365360"/>
            <a:ext cx="8352000" cy="1871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Замысел, жанр, компози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7396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Кто такие странники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324000" y="4365720"/>
            <a:ext cx="8569080" cy="257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«Странники» - семеро мужиков, ищущие счастли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«Странники» - все думающие люди (мотив  нравственного скитания – поиска ответов на вопросы о новом укладе жизни в стр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«Странники» - «Божьи люди» - юродивые, паломники, пилигр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1054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Картинка 63 из 865"/>
          <p:cNvPicPr/>
          <p:nvPr/>
        </p:nvPicPr>
        <p:blipFill>
          <a:blip r:embed="rId1"/>
          <a:stretch/>
        </p:blipFill>
        <p:spPr>
          <a:xfrm>
            <a:off x="324000" y="765000"/>
            <a:ext cx="4176720" cy="518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Картинка 37 из 132"/>
          <p:cNvPicPr/>
          <p:nvPr/>
        </p:nvPicPr>
        <p:blipFill>
          <a:blip r:embed="rId2"/>
          <a:stretch/>
        </p:blipFill>
        <p:spPr>
          <a:xfrm>
            <a:off x="4932360" y="692280"/>
            <a:ext cx="3743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Картинка 11 из 84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7214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286000" y="765000"/>
            <a:ext cx="4572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50920" y="5084640"/>
            <a:ext cx="8642160" cy="1023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«Говорящие»  названия создают образ пореформенно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2286000" y="765000"/>
            <a:ext cx="4572000" cy="12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Подтянутая губер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Терпигорев у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Пустопорожняя в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324000" y="192600"/>
            <a:ext cx="856908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КОМУ ЖИВЁТСЯ ВЕСЕ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ВОЛЬГОТНО НА РУ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Картинка 61 из 1665"/>
          <p:cNvPicPr/>
          <p:nvPr/>
        </p:nvPicPr>
        <p:blipFill>
          <a:blip r:embed="rId1"/>
          <a:stretch/>
        </p:blipFill>
        <p:spPr>
          <a:xfrm>
            <a:off x="2195640" y="1844640"/>
            <a:ext cx="4032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4572000" y="1700280"/>
            <a:ext cx="4248000" cy="4359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«Я задумал изложить в связном рассказе все, что я знаю о народе, все, что мне привелось услышать из уст его, и я затеял «Кому на Руси жить хорош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(Н.А.Некра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Картинка 50 из 1135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179280" y="115920"/>
            <a:ext cx="417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11.radikal.ru/i183/1103/ca/f1183bfdf4cct.jpg"/>
          <p:cNvPicPr/>
          <p:nvPr/>
        </p:nvPicPr>
        <p:blipFill>
          <a:blip r:embed="rId1"/>
          <a:stretch/>
        </p:blipFill>
        <p:spPr>
          <a:xfrm>
            <a:off x="468360" y="189000"/>
            <a:ext cx="8136000" cy="4392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250920" y="4292640"/>
            <a:ext cx="8642160" cy="2288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Приступая к работе над поэмой, Некрасов поставил перед собой сложную задачу – показать в поэме состояние Руси в пореформенный период, а также прошлое и настоящее народа и заявить о путях возможного преобразования существующе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859280" y="620640"/>
            <a:ext cx="3960720" cy="112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ПОЭМА</a:t>
            </a: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лиро-эпический жанр большого объ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4788000" y="3573360"/>
            <a:ext cx="4105080" cy="2100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729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d10729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d10729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ЭПОПЕЯ</a:t>
            </a: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художественное произведение, в котором отражаются целые эпохи в жизни страны и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Картинка 33 из 1666"/>
          <p:cNvPicPr/>
          <p:nvPr/>
        </p:nvPicPr>
        <p:blipFill>
          <a:blip r:embed="rId1"/>
          <a:stretch/>
        </p:blipFill>
        <p:spPr>
          <a:xfrm>
            <a:off x="395280" y="476280"/>
            <a:ext cx="417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Композиция поэ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4284720" y="1628640"/>
            <a:ext cx="3959280" cy="5214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Композиция поэмы сочетает эпическое повествование с лирическими  отступл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Главы поэмы самостоятельны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Автор свободно обращается со временем и пространством , это объясняется жанровой спецификой произведения</a:t>
            </a: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Картинка 3 из 1664"/>
          <p:cNvPicPr/>
          <p:nvPr/>
        </p:nvPicPr>
        <p:blipFill>
          <a:blip r:embed="rId1"/>
          <a:stretch/>
        </p:blipFill>
        <p:spPr>
          <a:xfrm>
            <a:off x="250920" y="177336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24000" y="189000"/>
            <a:ext cx="8424720" cy="1070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КОМПОЗИЦИЯ</a:t>
            </a: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 поэмы 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«календарная»</a:t>
            </a: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, так как в каждой главе автор обозначил время происходящих собы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4356000" y="1390680"/>
            <a:ext cx="4032360" cy="4579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«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Пролог» 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- весна (птицы вьют гнёзда, кукует кукушка)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«Поп» 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- «А время уж нераннее,подходит месяц ма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«Сельская ярмонка» 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- «Лишь на Николу вешнего погода поуставилась» (9 мая по старому стилю)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«Последыш» 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- «Петровки.Время жаркое. В разгаре сенокос»(12 июля)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28 из 1666"/>
          <p:cNvPicPr/>
          <p:nvPr/>
        </p:nvPicPr>
        <p:blipFill>
          <a:blip r:embed="rId1"/>
          <a:stretch/>
        </p:blipFill>
        <p:spPr>
          <a:xfrm>
            <a:off x="468360" y="1628640"/>
            <a:ext cx="3672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а 34 из 1666"/>
          <p:cNvPicPr/>
          <p:nvPr/>
        </p:nvPicPr>
        <p:blipFill>
          <a:blip r:embed="rId1"/>
          <a:stretch/>
        </p:blipFill>
        <p:spPr>
          <a:xfrm>
            <a:off x="684360" y="333360"/>
            <a:ext cx="7619760" cy="424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1692360" y="4869000"/>
            <a:ext cx="5543640" cy="1345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«</a:t>
            </a: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Крестьянка» 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- жа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«Пир на весь мир» 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- сенок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кончается (ранняя осень)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Художественные особенности поэ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324000" y="5445000"/>
            <a:ext cx="856908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Сквозной образ произведений Некрасова - образ дороги - символическое отражение крестного пути России в поисках ист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Картинка 8 из 31911"/>
          <p:cNvPicPr/>
          <p:nvPr/>
        </p:nvPicPr>
        <p:blipFill>
          <a:blip r:embed="rId1"/>
          <a:stretch/>
        </p:blipFill>
        <p:spPr>
          <a:xfrm>
            <a:off x="755640" y="1989000"/>
            <a:ext cx="7848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Фольклорные мотивы поэ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6227640" y="1844640"/>
            <a:ext cx="2160720" cy="265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Волшебная ска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Бы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Народная пес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Прит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Легенд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а 33 из 979"/>
          <p:cNvPicPr/>
          <p:nvPr/>
        </p:nvPicPr>
        <p:blipFill>
          <a:blip r:embed="rId1"/>
          <a:stretch/>
        </p:blipFill>
        <p:spPr>
          <a:xfrm>
            <a:off x="539640" y="2205000"/>
            <a:ext cx="56199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1:07:42Z</dcterms:created>
  <dc:creator>.</dc:creator>
  <dc:description>З.В. Александрова  http://aida.ucoz.ru</dc:description>
  <dc:language>en-US</dc:language>
  <cp:lastModifiedBy>Лена</cp:lastModifiedBy>
  <dcterms:modified xsi:type="dcterms:W3CDTF">2023-02-06T10:54:15Z</dcterms:modified>
  <cp:revision>25</cp:revision>
  <dc:subject/>
  <dc:title>Поэма Н.А.Некрасова «Кому на Руси жить хорошо».</dc:title>
</cp:coreProperties>
</file>