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0008-B778-45A2-923F-1342BACF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AF7E-B65A-4759-9546-F42595D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EBF-DDF1-400C-82D9-FC31974F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759-09D7-4F7D-9DF9-5980B41A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9E8-01AA-4225-8028-A922E70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B6F-6571-4632-97A4-2C947A94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259-D9FC-4822-B317-08EB0B30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FED-D0DC-41B2-BBC0-DF09BE6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E72-8F5B-4214-8CB6-6FDBC171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51A-0DD5-4FE6-8898-2C63467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E17-F541-4E77-9CE7-ECEF1C6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1E5-CB2A-45E1-BE8E-4219E7C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809C-93FE-4EC6-B849-6995F8328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76280"/>
            <a:ext cx="896472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 по ОДНК НР 7 клас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льту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ая культура , Духовная культура –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религ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мировые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 как называется основной закон РФ, опиши 2 статьи этого з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называют патриот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-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функции семь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акон РФ регулирует семейные отнош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бывают семьи по составу и по кол-ву де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емейные ценн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 основные семейные трад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общест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явилось образование на Рус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известны братья Кирилл и Мефод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4:07:01Z</dcterms:created>
  <dc:creator>Lena</dc:creator>
  <dc:description/>
  <dc:language>en-US</dc:language>
  <cp:lastModifiedBy>Яваева Ю. А.</cp:lastModifiedBy>
  <dcterms:modified xsi:type="dcterms:W3CDTF">2023-01-20T08:50:49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f0000000000010243100207f6000400038000</vt:lpwstr>
  </property>
</Properties>
</file>