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E9A-8EFC-402C-A42B-57810D9B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CB5-5240-4AD0-A1A8-78B97A8A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047-9B96-433B-A574-75D3FE92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B4E-972D-4F5F-AF53-D9DD6C02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0CA-2D67-49AA-8ED9-DF113523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7B6-41C4-4657-BB6F-CC6D8924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294-5BAA-4921-AFA9-27892E23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162-4DDB-4261-BD3E-2553203A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637-4C22-4868-AAD6-561B7A2E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3A4-DB23-4712-A941-06F9BE65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714-7DF1-4995-92D2-650112C3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0EA-3E5F-489E-8245-FFEC9E53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E371-B848-47A5-83F4-51597D585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476280"/>
            <a:ext cx="896472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 по ОДНК НР 7 кла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культу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ая культура , Духовная культура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религ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 основные мировые рели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как называется основной закон РФ, опиши 2 статьи этого з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называют патриот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-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 основные функции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РФ регулирует семейные отнош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ывают семьи по составу и по кол-ву дет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емейные цен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 основные семейные тради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обще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явилось образование на Рус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известны братья Кирилл и Мефод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4:07:01Z</dcterms:created>
  <dc:creator>Lena</dc:creator>
  <dc:description/>
  <dc:language>en-US</dc:language>
  <cp:lastModifiedBy>Яваева Ю. А.</cp:lastModifiedBy>
  <dcterms:modified xsi:type="dcterms:W3CDTF">2023-01-20T08:50:49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f0000000000010243100207f6000400038000</vt:lpwstr>
  </property>
</Properties>
</file>