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51E-5B78-483F-99F1-9CA8D001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689E-5510-49A0-82B3-F7F54413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707E-F1ED-4772-A14A-B7D3123C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CD3-3031-45C0-8327-2D48F6B0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325-1E2A-45EA-B708-A6D1939C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E0D-4401-4F36-90B3-955C3331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EE3-E404-4511-A3D7-45FC718C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57A5-E1A7-4808-BA1C-EA05353B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5B0-6C3B-4577-B60E-F8707EC0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8758-E858-47C3-903B-5F95B764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1506-EC28-4783-85E2-BD54BF95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3E7-2C33-425A-93DD-B22AEE0B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ffff"/>
            </a:gs>
            <a:gs pos="100000">
              <a:srgbClr val="cc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66CB-06DE-4C13-8592-37507FA823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2285640"/>
            <a:ext cx="5943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«Разделительный Ъ и Ь знаки»</a:t>
            </a:r>
            <a:r>
              <a:rPr b="0" lang="ru-RU" sz="4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1523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202920" y="456120"/>
            <a:ext cx="25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2743200" cy="266544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324480" y="304920"/>
            <a:ext cx="2495520" cy="44956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82" name="Picture 7" descr=""/>
          <p:cNvPicPr/>
          <p:nvPr/>
        </p:nvPicPr>
        <p:blipFill>
          <a:blip r:embed="rId2"/>
          <a:srcRect l="0" t="0" r="55953" b="13254"/>
          <a:stretch/>
        </p:blipFill>
        <p:spPr>
          <a:xfrm>
            <a:off x="2209680" y="3733920"/>
            <a:ext cx="3810240" cy="281916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83" name="Picture 8" descr=""/>
          <p:cNvPicPr/>
          <p:nvPr/>
        </p:nvPicPr>
        <p:blipFill>
          <a:blip r:embed="rId3"/>
          <a:srcRect l="51399" t="0" r="0" b="0"/>
          <a:stretch/>
        </p:blipFill>
        <p:spPr>
          <a:xfrm>
            <a:off x="304920" y="304920"/>
            <a:ext cx="4267080" cy="325260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sp>
        <p:nvSpPr>
          <p:cNvPr id="84" name="AutoShape 9"/>
          <p:cNvSpPr/>
          <p:nvPr/>
        </p:nvSpPr>
        <p:spPr>
          <a:xfrm rot="5400000">
            <a:off x="875880" y="723600"/>
            <a:ext cx="304920" cy="1143000"/>
          </a:xfrm>
          <a:custGeom>
            <a:avLst/>
            <a:gdLst>
              <a:gd name="textAreaLeft" fmla="*/ 89640 w 304920"/>
              <a:gd name="textAreaRight" fmla="*/ 305280 w 304920"/>
              <a:gd name="textAreaTop" fmla="*/ 246960 h 1143000"/>
              <a:gd name="textAreaBottom" fmla="*/ 8960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Домашнее задание:</a:t>
            </a:r>
            <a:br>
              <a:rPr sz="4000"/>
            </a:b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составить свой плакат-подсказку о правописании разделительного Ь и Ъ зна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2743200" y="3352680"/>
            <a:ext cx="335268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676520" y="3048120"/>
            <a:ext cx="5943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petrova-om.21411s12.edusite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posobiy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4-5plus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eduhelp.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3-4-5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allda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juxotiml.iv-edu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uchitel.edu54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914400" y="685800"/>
            <a:ext cx="7467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Спасибо за работу!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867280" y="3733920"/>
            <a:ext cx="2395800" cy="26668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Знания  и дружная работа – главные помощники в открытии новых правил  написания с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rcRect l="0" t="0" r="0" b="6001"/>
          <a:stretch/>
        </p:blipFill>
        <p:spPr>
          <a:xfrm>
            <a:off x="2666880" y="2895480"/>
            <a:ext cx="38293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Работа с текстом №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80880" y="1828800"/>
            <a:ext cx="8305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за то волка бют,  что сер, а за то, что овцу с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чьи солются – река будет, люди обединятся – силу их не побед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зя познаются в бе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57200" y="1828800"/>
            <a:ext cx="8305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за то волка б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т,  что сер, а за то, что овцу с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чьи со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тся – река будет, люди об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динятся – силу их не побед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з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познаются в бе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Работа с текстом №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28600" y="190584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автомобиле река раз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зжа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дужной пы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 асфальт полив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хал к стройке кран под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ёмн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ёмный кран – силач огром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га хлещет так и ся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ёт в лицо крупой колюч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28600" y="1905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автомобиле река разезжа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дужной пылю асфальт полив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ехал к стройке кран подёмн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ёмный кран – силач огром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юга хлещет так и ся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ёт в лицо крупой колюч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Работа с текстом №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90720" y="182952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га замела лес. Суч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ре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 покрыты снегом. Нет в лесу прежнего звонкого весе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. Лишь вз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рошенные вороб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сидят на ветках, да зайка с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ёжился под е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90720" y="182952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юга замела лес. Сучя деревев покрыты снегом. Нет в лесу прежнего звонкого веселя. Лишь взерошенные вороби сидят на ветках, да зайка сёжился под ел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Какие знаки в русском языке называются разделительны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2840040" y="2133720"/>
            <a:ext cx="3776760" cy="434340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sp>
        <p:nvSpPr>
          <p:cNvPr id="59" name="WordArt 9"/>
          <p:cNvSpPr txBox="1"/>
          <p:nvPr/>
        </p:nvSpPr>
        <p:spPr>
          <a:xfrm>
            <a:off x="685800" y="2362320"/>
            <a:ext cx="36082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Ъ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60" name="WordArt 10"/>
          <p:cNvSpPr txBox="1"/>
          <p:nvPr/>
        </p:nvSpPr>
        <p:spPr>
          <a:xfrm>
            <a:off x="6095880" y="2362320"/>
            <a:ext cx="25146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Ь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266688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Текст 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ь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ъ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ь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дин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з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124080" y="380880"/>
            <a:ext cx="24386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Текст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ъезж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ы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ъех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ъём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ь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ь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5715000" y="380880"/>
            <a:ext cx="31240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Текст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ь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ь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е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ъерош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б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ъёж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380880" y="4267080"/>
            <a:ext cx="2122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…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…ёжи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…ерош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ч…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…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…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…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…единя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б…и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…ех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4"/>
          <p:cNvSpPr txBox="1"/>
          <p:nvPr/>
        </p:nvSpPr>
        <p:spPr>
          <a:xfrm>
            <a:off x="762120" y="4724280"/>
            <a:ext cx="2286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Ъ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5562720" y="4648320"/>
            <a:ext cx="1600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Ь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01826E-006 L 0.48924 -0.0832 E">
                                      <p:cBhvr>
                                        <p:cTn id="115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92189E-006 L 0.49253 -0.06125 E">
                                      <p:cBhvr>
                                        <p:cTn id="119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53 E">
                                      <p:cBhvr>
                                        <p:cTn id="123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4421 E">
                                      <p:cBhvr>
                                        <p:cTn id="127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74232E-006 L 0.49792 -0.19506 E">
                                      <p:cBhvr>
                                        <p:cTn id="131" dur="2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68246E-006 L -0.00208 -0.20638 E">
                                      <p:cBhvr>
                                        <p:cTn id="135" dur="2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11 -0.00693 L 0.49722 -0.25098 E">
                                      <p:cBhvr>
                                        <p:cTn id="139" dur="2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514 E">
                                      <p:cBhvr>
                                        <p:cTn id="143" dur="2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0289E-006 L 0.49826 -0.29582 E">
                                      <p:cBhvr>
                                        <p:cTn id="147" dur="2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35812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ревье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учь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бью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ольютс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оробьих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5029200" y="457200"/>
            <a:ext cx="358128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ъёжилс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зъерошенны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ъе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ъединятс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дъеха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 rot="5400000">
            <a:off x="1009440" y="5009760"/>
            <a:ext cx="228600" cy="1028880"/>
          </a:xfrm>
          <a:custGeom>
            <a:avLst/>
            <a:gdLst>
              <a:gd name="textAreaLeft" fmla="*/ 66960 w 228600"/>
              <a:gd name="textAreaRight" fmla="*/ 228960 w 228600"/>
              <a:gd name="textAreaTop" fmla="*/ 222120 h 1028880"/>
              <a:gd name="textAreaBottom" fmla="*/ 806760 h 10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 rot="5400000">
            <a:off x="761760" y="1828800"/>
            <a:ext cx="152280" cy="609480"/>
          </a:xfrm>
          <a:custGeom>
            <a:avLst/>
            <a:gdLst>
              <a:gd name="textAreaLeft" fmla="*/ 44640 w 152280"/>
              <a:gd name="textAreaRight" fmla="*/ 152640 w 152280"/>
              <a:gd name="textAreaTop" fmla="*/ 131760 h 609480"/>
              <a:gd name="textAreaBottom" fmla="*/ 47772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 rot="5400000">
            <a:off x="609480" y="3124080"/>
            <a:ext cx="75960" cy="380880"/>
          </a:xfrm>
          <a:custGeom>
            <a:avLst/>
            <a:gdLst>
              <a:gd name="textAreaLeft" fmla="*/ 22320 w 75960"/>
              <a:gd name="textAreaRight" fmla="*/ 76320 w 75960"/>
              <a:gd name="textAreaTop" fmla="*/ 82080 h 380880"/>
              <a:gd name="textAreaBottom" fmla="*/ 29880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/>
          <p:cNvSpPr/>
          <p:nvPr/>
        </p:nvSpPr>
        <p:spPr>
          <a:xfrm rot="5400000">
            <a:off x="761760" y="4114800"/>
            <a:ext cx="152280" cy="609480"/>
          </a:xfrm>
          <a:custGeom>
            <a:avLst/>
            <a:gdLst>
              <a:gd name="textAreaLeft" fmla="*/ 44640 w 152280"/>
              <a:gd name="textAreaRight" fmla="*/ 152640 w 152280"/>
              <a:gd name="textAreaTop" fmla="*/ 131760 h 609480"/>
              <a:gd name="textAreaBottom" fmla="*/ 47772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"/>
          <p:cNvSpPr/>
          <p:nvPr/>
        </p:nvSpPr>
        <p:spPr>
          <a:xfrm rot="5400000">
            <a:off x="1009440" y="514080"/>
            <a:ext cx="228600" cy="1028880"/>
          </a:xfrm>
          <a:custGeom>
            <a:avLst/>
            <a:gdLst>
              <a:gd name="textAreaLeft" fmla="*/ 66960 w 228600"/>
              <a:gd name="textAreaRight" fmla="*/ 228960 w 228600"/>
              <a:gd name="textAreaTop" fmla="*/ 222120 h 1028880"/>
              <a:gd name="textAreaBottom" fmla="*/ 806760 h 10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 rot="5400000">
            <a:off x="5790960" y="685440"/>
            <a:ext cx="152280" cy="609480"/>
          </a:xfrm>
          <a:custGeom>
            <a:avLst/>
            <a:gdLst>
              <a:gd name="textAreaLeft" fmla="*/ 44640 w 152280"/>
              <a:gd name="textAreaRight" fmla="*/ 152640 w 152280"/>
              <a:gd name="textAreaTop" fmla="*/ 131760 h 609480"/>
              <a:gd name="textAreaBottom" fmla="*/ 47772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2"/>
          <p:cNvSpPr/>
          <p:nvPr/>
        </p:nvSpPr>
        <p:spPr>
          <a:xfrm rot="5400000">
            <a:off x="6248160" y="1523880"/>
            <a:ext cx="152280" cy="914400"/>
          </a:xfrm>
          <a:custGeom>
            <a:avLst/>
            <a:gdLst>
              <a:gd name="textAreaLeft" fmla="*/ 44640 w 152280"/>
              <a:gd name="textAreaRight" fmla="*/ 152640 w 152280"/>
              <a:gd name="textAreaTop" fmla="*/ 197640 h 914400"/>
              <a:gd name="textAreaBottom" fmla="*/ 71676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"/>
          <p:cNvSpPr/>
          <p:nvPr/>
        </p:nvSpPr>
        <p:spPr>
          <a:xfrm rot="5400000">
            <a:off x="5676840" y="3009960"/>
            <a:ext cx="76320" cy="304560"/>
          </a:xfrm>
          <a:custGeom>
            <a:avLst/>
            <a:gdLst>
              <a:gd name="textAreaLeft" fmla="*/ 22320 w 76320"/>
              <a:gd name="textAreaRight" fmla="*/ 76320 w 76320"/>
              <a:gd name="textAreaTop" fmla="*/ 65880 h 304560"/>
              <a:gd name="textAreaBottom" fmla="*/ 2386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4"/>
          <p:cNvSpPr/>
          <p:nvPr/>
        </p:nvSpPr>
        <p:spPr>
          <a:xfrm rot="5400000">
            <a:off x="6286320" y="3695760"/>
            <a:ext cx="152640" cy="838080"/>
          </a:xfrm>
          <a:custGeom>
            <a:avLst/>
            <a:gdLst>
              <a:gd name="textAreaLeft" fmla="*/ 44640 w 152640"/>
              <a:gd name="textAreaRight" fmla="*/ 153000 w 152640"/>
              <a:gd name="textAreaTop" fmla="*/ 181080 h 838080"/>
              <a:gd name="textAreaBottom" fmla="*/ 65700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 rot="5400000">
            <a:off x="6248160" y="4876920"/>
            <a:ext cx="152280" cy="609480"/>
          </a:xfrm>
          <a:custGeom>
            <a:avLst/>
            <a:gdLst>
              <a:gd name="textAreaLeft" fmla="*/ 44640 w 152280"/>
              <a:gd name="textAreaRight" fmla="*/ 152640 w 152280"/>
              <a:gd name="textAreaTop" fmla="*/ 131760 h 609480"/>
              <a:gd name="textAreaBottom" fmla="*/ 47772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6" descr=""/>
          <p:cNvPicPr/>
          <p:nvPr/>
        </p:nvPicPr>
        <p:blipFill>
          <a:blip r:embed="rId1"/>
          <a:srcRect l="18610" t="0" r="3256" b="12502"/>
          <a:stretch/>
        </p:blipFill>
        <p:spPr>
          <a:xfrm>
            <a:off x="2895480" y="2438280"/>
            <a:ext cx="2057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учитель</cp:lastModifiedBy>
  <dcterms:modified xsi:type="dcterms:W3CDTF">2012-01-26T19:15:0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