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43A-4DBF-44C2-A30E-8F9AF0EE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718-93BD-439F-A718-4740FFB9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BC2-DADB-491D-95B5-B7ADDB71C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552-A6D2-4B7C-BB18-98B73675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80B-06CB-49C7-A88D-0AE712C0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778-609C-4298-B35D-209CD6D0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289-8F07-4B38-9C87-46742C6D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9C9-6B09-4A75-AE6B-F1AC3F49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FBE-DF62-4E0C-805B-2639B513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8D6-1DA9-48C6-B39F-B7B26B6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F40-B10A-42E1-90DE-53CE4470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040-51A0-4F50-AE7A-8333D5E5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ff"/>
            </a:gs>
            <a:gs pos="100000">
              <a:srgbClr val="cc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B16-3918-4D8B-9FC3-D320CAB42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«Разделительный Ъ и Ь знаки»</a:t>
            </a:r>
            <a:r>
              <a:rPr b="0" lang="ru-RU" sz="4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523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русского язы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2920" y="456120"/>
            <a:ext cx="25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743200" cy="2665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495520" cy="44956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2" name="Picture 7" descr=""/>
          <p:cNvPicPr/>
          <p:nvPr/>
        </p:nvPicPr>
        <p:blipFill>
          <a:blip r:embed="rId2"/>
          <a:srcRect l="0" t="0" r="55953" b="13254"/>
          <a:stretch/>
        </p:blipFill>
        <p:spPr>
          <a:xfrm>
            <a:off x="2209680" y="3733920"/>
            <a:ext cx="3810240" cy="281916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83" name="Picture 8" descr=""/>
          <p:cNvPicPr/>
          <p:nvPr/>
        </p:nvPicPr>
        <p:blipFill>
          <a:blip r:embed="rId3"/>
          <a:srcRect l="51399" t="0" r="0" b="0"/>
          <a:stretch/>
        </p:blipFill>
        <p:spPr>
          <a:xfrm>
            <a:off x="304920" y="304920"/>
            <a:ext cx="4267080" cy="32526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84" name="AutoShape 9"/>
          <p:cNvSpPr/>
          <p:nvPr/>
        </p:nvSpPr>
        <p:spPr>
          <a:xfrm rot="5400000">
            <a:off x="875880" y="723600"/>
            <a:ext cx="304920" cy="1143000"/>
          </a:xfrm>
          <a:custGeom>
            <a:avLst/>
            <a:gdLst>
              <a:gd name="textAreaLeft" fmla="*/ 89640 w 304920"/>
              <a:gd name="textAreaRight" fmla="*/ 305280 w 304920"/>
              <a:gd name="textAreaTop" fmla="*/ 246960 h 1143000"/>
              <a:gd name="textAreaBottom" fmla="*/ 89604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составить свой плакат-подсказку о правописании разделительного Ь и Ъ зн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35268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676520" y="3048120"/>
            <a:ext cx="5943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petrova-om.21411s12.edusit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posobi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4-5plus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eduhelp.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3-4-5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allda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juxotiml.iv-ed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uchitel.edu54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914400" y="685800"/>
            <a:ext cx="7467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Спасибо за работу!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395800" cy="26668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Знания  и дружная работа – главные помощники в открытии новых правил  написания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rcRect l="0" t="0" r="0" b="6001"/>
          <a:stretch/>
        </p:blipFill>
        <p:spPr>
          <a:xfrm>
            <a:off x="2666880" y="2895480"/>
            <a:ext cx="3829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80880" y="18288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за то волка бют,  что сер, а за то, что овцу с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чьи солются – река будет, люди обединятся – силу их не побе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зя познаются в б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1828800"/>
            <a:ext cx="8305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за то волка 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,  что сер, а за то, что овцу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учьи со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тся – река будет, люди 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динятся – силу их не побед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познаются в б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28600" y="190584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автомобиле река ра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з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ужной пы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 асфальт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хал к стройке кран 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м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мный кран – силач огро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га хлещет так и 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т в лицо крупой колю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28600" y="190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автомобиле река разез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ужной пылю асфальт полив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ехал к стройке кран подём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ёмный кран – силач огром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юга хлещет так и ся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ёт в лицо крупой колюч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Работа с текстом №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90720" y="18295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га замела лес. Суч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рев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 покрыты снегом. Нет в лесу прежнего звонкого вес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. Лишь вз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рошенные вороб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сидят на ветках, да зайка с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ъ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ёжился под е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90720" y="182952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юга замела лес. Сучя деревев покрыты снегом. Нет в лесу прежнего звонкого веселя. Лишь взерошенные вороби сидят на ветках, да зайка сёжился под ел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Arial"/>
              </a:rPr>
              <a:t>Какие знаки в русском языке называются разделитель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2840040" y="2133720"/>
            <a:ext cx="3776760" cy="43434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59" name="WordArt 9"/>
          <p:cNvSpPr txBox="1"/>
          <p:nvPr/>
        </p:nvSpPr>
        <p:spPr>
          <a:xfrm>
            <a:off x="685800" y="2362320"/>
            <a:ext cx="36082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Ъ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6095880" y="2362320"/>
            <a:ext cx="2514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266688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ь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124080" y="380880"/>
            <a:ext cx="24386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ъезж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ы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х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ём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ьё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715000" y="380880"/>
            <a:ext cx="3124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Текст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е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ъерош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ъёж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122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…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ёжи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…ерош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ч…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…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…е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…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…един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роб…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…ех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762120" y="4724280"/>
            <a:ext cx="2286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Ъ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5562720" y="4648320"/>
            <a:ext cx="1600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Ь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01826E-006 L 0.48924 -0.0832 E">
                                      <p:cBhvr>
                                        <p:cTn id="115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92189E-006 L 0.49253 -0.06125 E">
                                      <p:cBhvr>
                                        <p:cTn id="119" dur="2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53 E">
                                      <p:cBhvr>
                                        <p:cTn id="123" dur="2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4421 E">
                                      <p:cBhvr>
                                        <p:cTn id="127" dur="2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4232E-006 L 0.49792 -0.19506 E">
                                      <p:cBhvr>
                                        <p:cTn id="131" dur="2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8246E-006 L -0.00208 -0.20638 E">
                                      <p:cBhvr>
                                        <p:cTn id="135" dur="2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-0.00693 L 0.49722 -0.25098 E">
                                      <p:cBhvr>
                                        <p:cTn id="139" dur="2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514 E">
                                      <p:cBhvr>
                                        <p:cTn id="143" dur="20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0289E-006 L 0.49826 -0.29582 E">
                                      <p:cBhvr>
                                        <p:cTn id="147" dur="20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3581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ревье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учь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ью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ольют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оробьих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029200" y="457200"/>
            <a:ext cx="35812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ъёжил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зъерошенны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ъе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ъединятся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дъеха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rot="5400000">
            <a:off x="1009440" y="5009760"/>
            <a:ext cx="228600" cy="1028880"/>
          </a:xfrm>
          <a:custGeom>
            <a:avLst/>
            <a:gdLst>
              <a:gd name="textAreaLeft" fmla="*/ 66960 w 228600"/>
              <a:gd name="textAreaRight" fmla="*/ 228960 w 228600"/>
              <a:gd name="textAreaTop" fmla="*/ 222120 h 1028880"/>
              <a:gd name="textAreaBottom" fmla="*/ 80676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5400000">
            <a:off x="761760" y="18288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 rot="5400000">
            <a:off x="609480" y="312408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82080 h 380880"/>
              <a:gd name="textAreaBottom" fmla="*/ 29880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 rot="5400000">
            <a:off x="761760" y="411480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 rot="5400000">
            <a:off x="1009440" y="514080"/>
            <a:ext cx="228600" cy="1028880"/>
          </a:xfrm>
          <a:custGeom>
            <a:avLst/>
            <a:gdLst>
              <a:gd name="textAreaLeft" fmla="*/ 66960 w 228600"/>
              <a:gd name="textAreaRight" fmla="*/ 228960 w 228600"/>
              <a:gd name="textAreaTop" fmla="*/ 222120 h 1028880"/>
              <a:gd name="textAreaBottom" fmla="*/ 80676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 rot="5400000">
            <a:off x="5790960" y="68544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 rot="5400000">
            <a:off x="6248160" y="1523880"/>
            <a:ext cx="152280" cy="914400"/>
          </a:xfrm>
          <a:custGeom>
            <a:avLst/>
            <a:gdLst>
              <a:gd name="textAreaLeft" fmla="*/ 44640 w 152280"/>
              <a:gd name="textAreaRight" fmla="*/ 152640 w 152280"/>
              <a:gd name="textAreaTop" fmla="*/ 197640 h 914400"/>
              <a:gd name="textAreaBottom" fmla="*/ 716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 rot="5400000">
            <a:off x="5676840" y="3009960"/>
            <a:ext cx="76320" cy="304560"/>
          </a:xfrm>
          <a:custGeom>
            <a:avLst/>
            <a:gdLst>
              <a:gd name="textAreaLeft" fmla="*/ 22320 w 76320"/>
              <a:gd name="textAreaRight" fmla="*/ 76320 w 76320"/>
              <a:gd name="textAreaTop" fmla="*/ 65880 h 304560"/>
              <a:gd name="textAreaBottom" fmla="*/ 2386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4"/>
          <p:cNvSpPr/>
          <p:nvPr/>
        </p:nvSpPr>
        <p:spPr>
          <a:xfrm rot="5400000">
            <a:off x="6286320" y="3695760"/>
            <a:ext cx="152640" cy="838080"/>
          </a:xfrm>
          <a:custGeom>
            <a:avLst/>
            <a:gdLst>
              <a:gd name="textAreaLeft" fmla="*/ 44640 w 152640"/>
              <a:gd name="textAreaRight" fmla="*/ 153000 w 152640"/>
              <a:gd name="textAreaTop" fmla="*/ 181080 h 838080"/>
              <a:gd name="textAreaBottom" fmla="*/ 65700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 rot="5400000">
            <a:off x="6248160" y="4876920"/>
            <a:ext cx="152280" cy="609480"/>
          </a:xfrm>
          <a:custGeom>
            <a:avLst/>
            <a:gdLst>
              <a:gd name="textAreaLeft" fmla="*/ 44640 w 152280"/>
              <a:gd name="textAreaRight" fmla="*/ 152640 w 152280"/>
              <a:gd name="textAreaTop" fmla="*/ 131760 h 609480"/>
              <a:gd name="textAreaBottom" fmla="*/ 47772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669"/>
                  <a:pt x="0" y="9338"/>
                </a:cubicBezTo>
                <a:lnTo>
                  <a:pt x="0" y="12262"/>
                </a:lnTo>
                <a:cubicBezTo>
                  <a:pt x="0" y="16931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"/>
          <p:cNvPicPr/>
          <p:nvPr/>
        </p:nvPicPr>
        <p:blipFill>
          <a:blip r:embed="rId1"/>
          <a:srcRect l="18610" t="0" r="3256" b="12502"/>
          <a:stretch/>
        </p:blipFill>
        <p:spPr>
          <a:xfrm>
            <a:off x="2895480" y="2438280"/>
            <a:ext cx="205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2-01-26T19:15:0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