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1388-3623-47B8-BA99-C85C4E329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6E9A-EA42-4EB3-BFE6-E85E5447C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5B9-9D5D-4722-91B9-F496D49E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D34-1D1D-4CFF-93B4-C8CE0C4B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226-1150-41A3-8613-ADBF69AF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9FE-AE05-431E-BF10-93178490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7E6F-C26B-4FF3-A4CF-05EBA083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C84-874D-46F0-9F62-C99406AB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E07-6A58-420E-B01D-4D11103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592-5AA7-4C30-B5E0-EBEF68D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ADE-27AC-4EC2-BBA2-6AD6135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1B93-10B0-4C24-950B-EDD426DC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D38-9636-4ABD-A115-E60C0529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5A8-51DE-400E-ADF4-3FBB1FB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1DD6-3AB4-412E-B5C6-16353B0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8B44-26DB-4DA9-B193-B4D0AE2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04B-8AC0-41FA-9C2E-99FE2253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499-902D-43D2-B962-DB816DAC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0A33-BF7C-419C-B6FF-90D4B66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6A6B-24C7-4298-A208-6ED1191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3598-BA9C-4AB1-841D-7742B7C1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EDC9-D654-4A73-B996-C593478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FD6B-6840-4A90-9242-9B714418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E758-801C-486A-BACE-5B2DAE3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6B2-E7EB-4774-BE92-5BBDB1D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6ACF-837F-47CE-83DB-B71A283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582E-6A05-42D4-B46F-6752AAE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8462-B9E9-40C7-9F1A-7D2C395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8EDB-4ED7-4BB6-8E29-5E9E5B2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3A0D-CE90-4CBC-AD62-27E1BBE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5446-6F60-40B8-8752-2EA660F3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50B2-DB05-4EDB-8AA2-E4916710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5407-A8B7-4B05-B9AA-01F9C3A5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19FE-A3CD-4392-8900-DE7D7E3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9C1F-C51C-4C9B-A022-9912E46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18C-B1B8-4365-B385-A4EE8F6E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3E3E-CD9D-4D7B-BE2A-274C2ACE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2422-A82E-4853-8E80-0726EF0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7EAB-282A-4442-8E84-50C9EF2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D5B5-72A1-43E7-BF03-573D8E9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98FD-C4AC-49DC-BB29-54E4C9C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1792-EF8C-49E5-9CDE-4928ED1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32D7-5B66-46FF-A400-9C3736B0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B61B-66D4-4C7F-B32D-4CF724C8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C9D8-C555-4E38-AFA2-6F50B03A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948F-C04B-449E-BC01-4A729A41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6CF-D1F5-4E34-8706-E9B0B24A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C982-A2B0-4A7C-9193-AFB1668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0D8A-5546-4B9F-9D98-A6C1F7B5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9B595-49BB-4584-8D12-E605781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9292-270A-4538-9400-0F4B521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9C948-E7DD-4F81-BC30-33B62BEF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E996-9789-4C82-90DA-E33FDA3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A29E-E938-4B84-BA9E-62EEBD25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C3DC-67F3-4EF5-B729-3D639CD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29C7-8107-42E6-AFDF-5993DFFD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42D5-360C-4A7D-ABDF-4B561A41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946-469E-4648-8676-7DA34E1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7B0C7-D96F-40AF-9464-D6B1F903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B9AA-4EA9-4134-9E98-D5E4568A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B92B-DD64-4FD7-A545-5DBE6C9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96CE-AED5-479A-96E7-3F51802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BB133-24C0-4B3D-9A00-1F80252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4972-6BCC-4338-BA06-16A2DF1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B1AC-D66A-46CD-8CB3-DEF0201D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EDE9-521A-4AE6-AD9C-C158B26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91A6-3089-4516-9923-6F1DB8A5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F82E1-B8CC-484A-B568-BDC229E3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B77-F768-4603-A007-98D9078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AB45-89A8-42A7-A5DB-47321AF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8F0B-6B5B-4D6B-A886-C52ED6DF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3201A-41AA-41D4-B32A-0768772C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C1BA-3936-4568-8476-01CFB6A9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3319-CF36-416A-A581-7F0BB3A0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C4E2-B8E6-4209-9304-827D714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E93E0-C36C-45D5-B0F3-01AA6733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743F-C0DC-4B88-B6D0-F6A3FA8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C8E1D-E734-44D7-B492-73FE1BC4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DB5A5-A808-4CCA-9838-D998520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EF3-2711-4526-AF38-DF3F314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61B2-0DB8-4537-A38F-85B3677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FDE6-8DA4-436C-BA4F-C7C18D8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17BB-4AE6-466A-9393-8F191685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EAABE-C362-437A-A6EA-28143B05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C485-D533-46AA-A79C-0C9A6967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B4D-7844-4682-9858-353D6C0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2915-8E17-45C3-9E60-14D0FF524256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52F-A9D5-4C18-BF12-D1E2D611E51C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AF6-BE50-4AA6-81FD-30D28B7BA697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CAF1-3205-459D-B8F3-EC0F69AFFA20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3A1-45EC-4535-BB5A-8C9863D116AE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843-95EA-40D8-8276-29BD660C9E95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14A-4263-4A0E-83E5-EF0E01683311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Скругленный прямоугольник 3"/>
          <p:cNvGrpSpPr/>
          <p:nvPr/>
        </p:nvGrpSpPr>
        <p:grpSpPr>
          <a:xfrm>
            <a:off x="1170000" y="1390680"/>
            <a:ext cx="7778880" cy="3578040"/>
            <a:chOff x="1170000" y="1390680"/>
            <a:chExt cx="7778880" cy="3578040"/>
          </a:xfrm>
        </p:grpSpPr>
        <p:pic>
          <p:nvPicPr>
            <p:cNvPr id="32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70000" y="1390680"/>
              <a:ext cx="77788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577880" y="1792440"/>
              <a:ext cx="6967800" cy="27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762280" y="5748480"/>
            <a:ext cx="5881680" cy="1094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5"/>
          <p:cNvSpPr/>
          <p:nvPr/>
        </p:nvSpPr>
        <p:spPr>
          <a:xfrm>
            <a:off x="3214800" y="521496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Рыжкова Елена Борис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2411280" y="142920"/>
            <a:ext cx="57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льяновский педагогический коллед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2143080" y="19288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Lucida Calligraphy"/>
              </a:rPr>
              <a:t>The Infinitive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Lucida Calligraphy"/>
              </a:rPr>
              <a:t>the Ger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Gerund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non-perfect geru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en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 action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ith th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tion expressed by the finite verb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’m surprised at his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doing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it so quick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Thank you for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asking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me to co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ая соединительная линия 3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21520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Gerund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perfect geru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notes an 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ri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to that of the finite  verb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’m surprised at his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having done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it 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ая соединительная линия 3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21520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8556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1071720" y="928800"/>
            <a:ext cx="75722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non-continuous (Indefinite) Infinitiv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presses an action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ith that expressed by the finite verb, so it may refer to the present, past or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 hope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 hoped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’ll hope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tomorrow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возврат 8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5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2848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Continuous Infinitiv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notes a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ion simultaneous with th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ed by the finite verb, but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n action </a:t>
            </a: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in progres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 must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be sleeping</a:t>
            </a:r>
            <a:r>
              <a:rPr b="0" i="1" lang="en-US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</a:rPr>
              <a:t>A Perfect Infinitive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enotes an 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ior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to the action expressed by th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nite verb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.g. 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 claims </a:t>
            </a:r>
            <a:r>
              <a:rPr b="1" i="1" lang="en-US" sz="30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have worked</a:t>
            </a:r>
            <a:r>
              <a:rPr b="0" i="1" lang="en-US" sz="30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First he worked here, then h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aimed he had worked here.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 Perfect Continuous Infinitiv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es an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tion going on befo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tim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ndicated by a finite verb.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He seems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to have been sitt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there all da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Управляющая кнопка: возврат 4"/>
          <p:cNvSpPr/>
          <p:nvPr/>
        </p:nvSpPr>
        <p:spPr>
          <a:xfrm>
            <a:off x="835812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5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500040"/>
          <a:ext cx="9144000" cy="6357960"/>
        </p:xfrm>
        <a:graphic>
          <a:graphicData uri="http://schemas.openxmlformats.org/drawingml/2006/table">
            <a:tbl>
              <a:tblPr/>
              <a:tblGrid>
                <a:gridCol w="1571760"/>
                <a:gridCol w="3786120"/>
                <a:gridCol w="3786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Syntactic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6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denotes an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llow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of the predicate ver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world's greatest cycling event became the ambition of his lif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expresses  an acti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multaneo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ith that of the predicate ver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ritin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tters is a waste of ti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7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e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used only after the link-verb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 comm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se in Engli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job of a reporter </a:t>
                      </a: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xpos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found af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th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nk-verb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particularly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an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That would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mean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llin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m everyth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5920" y="-357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syntactic Functions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4480" y="-357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syntactic Functions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426960"/>
          <a:ext cx="9144000" cy="6613560"/>
        </p:xfrm>
        <a:graphic>
          <a:graphicData uri="http://schemas.openxmlformats.org/drawingml/2006/table">
            <a:tbl>
              <a:tblPr/>
              <a:tblGrid>
                <a:gridCol w="1571760"/>
                <a:gridCol w="3929040"/>
                <a:gridCol w="3643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Syntactic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8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n object of a verb, it i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xically depend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usually find the infinitive as an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object of a verb or adjecti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 a sentence with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 formal su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nnoyed m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a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ll a l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n object of a verb, 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xical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pend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can also be found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as an object of an adjecti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sentence with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 formal su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ill be great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m at the par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placed i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st-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their head-noun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exically depen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 can qual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 nou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indefinite pronou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n ordinal nume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wa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he fir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c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mself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n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pportunity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s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lso placed i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st-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their head-noun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exically depen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is always preced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 pre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usually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n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pportunity of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do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9" name="Управляющая кнопка: возврат 4"/>
          <p:cNvSpPr/>
          <p:nvPr/>
        </p:nvSpPr>
        <p:spPr>
          <a:xfrm>
            <a:off x="8429760" y="65721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1" y="14482"/>
                  <a:pt x="14517" y="14482"/>
                </a:cubicBezTo>
                <a:lnTo>
                  <a:pt x="16180" y="14482"/>
                </a:lnTo>
                <a:cubicBezTo>
                  <a:pt x="17215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7" y="18155"/>
                  <a:pt x="16180" y="18155"/>
                </a:cubicBezTo>
                <a:lnTo>
                  <a:pt x="14517" y="18155"/>
                </a:lnTo>
                <a:cubicBezTo>
                  <a:pt x="11749" y="18155"/>
                  <a:pt x="9173" y="15596"/>
                  <a:pt x="9173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-14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Verbs taking gerund or infinitive with a change in meaning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0" y="857160"/>
          <a:ext cx="9144000" cy="6131160"/>
        </p:xfrm>
        <a:graphic>
          <a:graphicData uri="http://schemas.openxmlformats.org/drawingml/2006/table">
            <a:tbl>
              <a:tblPr/>
              <a:tblGrid>
                <a:gridCol w="2714760"/>
                <a:gridCol w="3286080"/>
                <a:gridCol w="314316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something you are planning to 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glad 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d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y home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nk of a past ev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eachers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i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hildre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01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thing slips your memory and the action doesn’t take 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totally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o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turn of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cook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to be able to remember a past ev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ll never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e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ak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y driving test for the first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01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sorry about giving someone bad new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infor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ou that your application had been rejec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sorry about what has happen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v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school with no qualification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500200"/>
                <a:gridCol w="3595680"/>
                <a:gridCol w="304812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ake an effo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’m really going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tr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pas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se ex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e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f you don’t know what that word means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oo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t up in a diction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to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rupt an action to do something el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was busy writing an essay, but I had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stop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answ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 ph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op an 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Ple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sto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lking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go 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op one action and start anoth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went on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sa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he was a man one could trust complete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tin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The kid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went 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augh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even after the teacher had told them to sto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5684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72314"/>
                </a:solidFill>
                <a:latin typeface="Century Schoolbook"/>
              </a:rPr>
              <a:t>The Infinitive and Gerund</a:t>
            </a:r>
            <a:endParaRPr b="0" lang="en-US" sz="32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840" y="9284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00000"/>
                </a:solidFill>
                <a:latin typeface="Gill Sans MT Condensed"/>
                <a:ea typeface="Arial"/>
              </a:rPr>
              <a:t>1.</a:t>
            </a:r>
            <a:r>
              <a:rPr b="0" lang="en-US" sz="3700" spc="-1" strike="noStrike">
                <a:solidFill>
                  <a:srgbClr val="002060"/>
                </a:solidFill>
                <a:latin typeface="Gill Sans MT Condensed"/>
                <a:ea typeface="Arial"/>
              </a:rPr>
              <a:t>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Gill Sans MT Condensed"/>
                <a:ea typeface="Arial"/>
                <a:hlinkClick r:id="rId1" action="ppaction://hlinksldjump"/>
              </a:rPr>
              <a:t>The defini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2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2" action="ppaction://hlinksldjump"/>
              </a:rPr>
              <a:t>The Forms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4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3" action="ppaction://hlinksldjump"/>
              </a:rPr>
              <a:t>The Syntactic Functio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5.    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4" action="ppaction://hlinksldjump"/>
              </a:rPr>
              <a:t>Verbs taking the gerund or the infinitiv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    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with a change in mean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7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.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5" action="ppaction://hlinksldjump"/>
              </a:rPr>
              <a:t>The Gerund and Verbal Noun Compare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6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6" action="ppaction://hlinksldjump"/>
              </a:rPr>
              <a:t>The Infinitive Constructio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Freestyle 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Прямая соединительная линия 3"/>
          <p:cNvSpPr/>
          <p:nvPr/>
        </p:nvSpPr>
        <p:spPr>
          <a:xfrm>
            <a:off x="1714680" y="85716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0"/>
          <a:ext cx="9144000" cy="6738840"/>
        </p:xfrm>
        <a:graphic>
          <a:graphicData uri="http://schemas.openxmlformats.org/drawingml/2006/table">
            <a:tbl>
              <a:tblPr/>
              <a:tblGrid>
                <a:gridCol w="3048120"/>
                <a:gridCol w="2881080"/>
                <a:gridCol w="3214800"/>
              </a:tblGrid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3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 in the habit of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hink it right to 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interview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ndidates in person before offering them a place on the cours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jo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Do you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rn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foreign language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7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didn’t mean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he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 just happened to see a boo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vol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ing at university often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an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rn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live on your ow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ear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ea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/teach a ski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d lov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pain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arn/teach a subj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She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each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painting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 a local adult educational cent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4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imag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lieve/think someth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Everyon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b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best grammar book on the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nk abo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go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evening cla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Imagi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be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 gradu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o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did not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propo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forgi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m this tim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ut forward for consider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hat do you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opos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do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mean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eed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b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y, very caref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ssive mean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pian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un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99" name="Управляющая кнопка: возврат 4"/>
          <p:cNvSpPr/>
          <p:nvPr/>
        </p:nvSpPr>
        <p:spPr>
          <a:xfrm>
            <a:off x="8358120" y="635796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2844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Verbs Follows by the Gerund: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000080" y="642960"/>
          <a:ext cx="8143920" cy="621504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  <a:gridCol w="2714760"/>
              </a:tblGrid>
              <a:tr h="105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dmit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void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lay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ny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ndure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scape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orget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give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ve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ntion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neglect                       to postpone                   to put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quit                             to recall                         to recoll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gret                          to 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go on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intend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k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isk                              to appreciate                to be wo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urst out                     can’t help                      can’t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ancy                           to feel like                     to sugg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TextBox 6"/>
          <p:cNvSpPr/>
          <p:nvPr/>
        </p:nvSpPr>
        <p:spPr>
          <a:xfrm>
            <a:off x="7643880" y="1429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8440" y="-2862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The Verbs Follows by the Infinitive: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000080" y="500040"/>
          <a:ext cx="8143920" cy="656424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  <a:gridCol w="2714760"/>
              </a:tblGrid>
              <a:tr h="656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g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r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ttem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e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ho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lai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o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on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ci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term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x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l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sit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in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an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negl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om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w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hreat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a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ffor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pp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gl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pp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e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romi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f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re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5" name="Прямоугольник 4"/>
          <p:cNvSpPr/>
          <p:nvPr/>
        </p:nvSpPr>
        <p:spPr>
          <a:xfrm>
            <a:off x="7858080" y="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возврат 5"/>
          <p:cNvSpPr/>
          <p:nvPr/>
        </p:nvSpPr>
        <p:spPr>
          <a:xfrm>
            <a:off x="8215200" y="6286680"/>
            <a:ext cx="500040" cy="28548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7493"/>
                </a:moveTo>
                <a:lnTo>
                  <a:pt x="15408" y="7493"/>
                </a:lnTo>
                <a:lnTo>
                  <a:pt x="15408" y="12828"/>
                </a:lnTo>
                <a:cubicBezTo>
                  <a:pt x="15408" y="13751"/>
                  <a:pt x="16209" y="14482"/>
                  <a:pt x="17244" y="14482"/>
                </a:cubicBezTo>
                <a:lnTo>
                  <a:pt x="18907" y="14482"/>
                </a:lnTo>
                <a:cubicBezTo>
                  <a:pt x="19943" y="14482"/>
                  <a:pt x="20743" y="13751"/>
                  <a:pt x="20743" y="12828"/>
                </a:cubicBezTo>
                <a:lnTo>
                  <a:pt x="20743" y="7493"/>
                </a:lnTo>
                <a:lnTo>
                  <a:pt x="18907" y="7493"/>
                </a:lnTo>
                <a:lnTo>
                  <a:pt x="22414" y="3985"/>
                </a:lnTo>
                <a:lnTo>
                  <a:pt x="26087" y="7493"/>
                </a:lnTo>
                <a:lnTo>
                  <a:pt x="24251" y="7493"/>
                </a:lnTo>
                <a:lnTo>
                  <a:pt x="24251" y="12828"/>
                </a:lnTo>
                <a:cubicBezTo>
                  <a:pt x="24251" y="15596"/>
                  <a:pt x="21675" y="18155"/>
                  <a:pt x="18907" y="18155"/>
                </a:cubicBezTo>
                <a:lnTo>
                  <a:pt x="17244" y="18155"/>
                </a:lnTo>
                <a:cubicBezTo>
                  <a:pt x="14477" y="18155"/>
                  <a:pt x="11900" y="15596"/>
                  <a:pt x="11900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000080" y="214200"/>
            <a:ext cx="8143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some other verbs the infinitive and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rund seem to be interchangeable. These verbs ar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o begin, to cease, to continue, to dread, to hate,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intend, to like, to love, to neglect, to prefer and to star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ever, afte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gin, to cease and to contin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infini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commonly fou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tart, to like and to h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more often follo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geru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commence and to set out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used with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finish, to keep, to keep on, to leave off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et about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eru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Управляющая кнопка: возврат 3"/>
          <p:cNvSpPr/>
          <p:nvPr/>
        </p:nvSpPr>
        <p:spPr>
          <a:xfrm>
            <a:off x="8215200" y="6286680"/>
            <a:ext cx="500040" cy="28548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7493"/>
                </a:moveTo>
                <a:lnTo>
                  <a:pt x="15408" y="7493"/>
                </a:lnTo>
                <a:lnTo>
                  <a:pt x="15408" y="12828"/>
                </a:lnTo>
                <a:cubicBezTo>
                  <a:pt x="15408" y="13751"/>
                  <a:pt x="16209" y="14482"/>
                  <a:pt x="17244" y="14482"/>
                </a:cubicBezTo>
                <a:lnTo>
                  <a:pt x="18907" y="14482"/>
                </a:lnTo>
                <a:cubicBezTo>
                  <a:pt x="19943" y="14482"/>
                  <a:pt x="20743" y="13751"/>
                  <a:pt x="20743" y="12828"/>
                </a:cubicBezTo>
                <a:lnTo>
                  <a:pt x="20743" y="7493"/>
                </a:lnTo>
                <a:lnTo>
                  <a:pt x="18907" y="7493"/>
                </a:lnTo>
                <a:lnTo>
                  <a:pt x="22414" y="3985"/>
                </a:lnTo>
                <a:lnTo>
                  <a:pt x="26087" y="7493"/>
                </a:lnTo>
                <a:lnTo>
                  <a:pt x="24251" y="7493"/>
                </a:lnTo>
                <a:lnTo>
                  <a:pt x="24251" y="12828"/>
                </a:lnTo>
                <a:cubicBezTo>
                  <a:pt x="24251" y="15596"/>
                  <a:pt x="21675" y="18155"/>
                  <a:pt x="18907" y="18155"/>
                </a:cubicBezTo>
                <a:lnTo>
                  <a:pt x="17244" y="18155"/>
                </a:lnTo>
                <a:cubicBezTo>
                  <a:pt x="14477" y="18155"/>
                  <a:pt x="11900" y="15596"/>
                  <a:pt x="11900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0"/>
          <a:ext cx="9144000" cy="7480440"/>
        </p:xfrm>
        <a:graphic>
          <a:graphicData uri="http://schemas.openxmlformats.org/drawingml/2006/table">
            <a:tbl>
              <a:tblPr/>
              <a:tblGrid>
                <a:gridCol w="1214280"/>
                <a:gridCol w="2428920"/>
                <a:gridCol w="1857600"/>
                <a:gridCol w="142920"/>
                <a:gridCol w="1785960"/>
                <a:gridCol w="1714320"/>
              </a:tblGrid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After the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 O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nt ,wish, would like, like, hate, desire, expect , know, believe, consider, 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+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95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(completed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-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(action in progre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fter the verb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, see, notice, make, allo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n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Passive Voi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use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+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l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cros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 road.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mad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hel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e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ro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ro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4143240"/>
                <a:gridCol w="4214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a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wor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lo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een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hear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ppos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believ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expect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report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consider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thought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foun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announc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known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ворили, чт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мног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ботае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ыш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полаг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аг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жид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общ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чит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ум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наружи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ъяви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ло известно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1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see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know all about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.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pear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urned out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v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ppen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nc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залос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чт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на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 об э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аза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аза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4143240"/>
                <a:gridCol w="421488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ike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win the priz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sur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хоже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о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ыигра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О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язатель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прид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718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ot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se verbs may be followed by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fferent analytical forms of the infinitive with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 For a moment she appear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hesita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) He see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gaine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l he want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 The letter seem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been misla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) In that same week I happen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been enqui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hether all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vitations had been sent 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643200"/>
                <a:gridCol w="5500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-finite verb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names a process or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on in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st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glad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se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o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-finite for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the verb, which serves a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verbal name of a proces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remember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e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er at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41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combin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b and no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acterist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ll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with the particl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,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2060"/>
                          </a:solidFill>
                          <a:uFillTx/>
                          <a:latin typeface="Century Schoolbook"/>
                          <a:hlinkClick r:id="rId1" action="ppaction://hlinksldjump"/>
                        </a:rPr>
                        <a:t>Bare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without th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ticl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, do, s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ha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b and nou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haracteristic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is used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fter all prepositio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lud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nk you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ll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possessive pronouns and the genitives like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JOHN’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an be used as attributes to geru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y object to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i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annoyed at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ike’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get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p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57160" y="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Verb Characteris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554040"/>
          <a:ext cx="9286920" cy="6303960"/>
        </p:xfrm>
        <a:graphic>
          <a:graphicData uri="http://schemas.openxmlformats.org/drawingml/2006/table">
            <a:tbl>
              <a:tblPr/>
              <a:tblGrid>
                <a:gridCol w="4643280"/>
                <a:gridCol w="464364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The relative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perfect or non-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relative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perfect or non-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active or 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active or 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As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ontinuous or non-continuo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7632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It may take direct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was pleasan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ee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you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re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ve you considere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bro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t may be modifi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pe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y words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oud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that she could hear 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may be modifi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you min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r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6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t may function as the second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ound verbal pred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modal and aspec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com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morro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y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gan to belie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s sto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may function as the second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compound verbal pred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modal and aspec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 I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ept on rain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you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d wa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8" name="Прямая соединительная линия 7"/>
          <p:cNvSpPr/>
          <p:nvPr/>
        </p:nvSpPr>
        <p:spPr>
          <a:xfrm>
            <a:off x="285840" y="569880"/>
            <a:ext cx="0" cy="62881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86960" y="-21456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Gerund and the Verbal Noun Compared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785880"/>
          <a:ext cx="9144000" cy="6210360"/>
        </p:xfrm>
        <a:graphic>
          <a:graphicData uri="http://schemas.openxmlformats.org/drawingml/2006/table">
            <a:tbl>
              <a:tblPr/>
              <a:tblGrid>
                <a:gridCol w="5286240"/>
                <a:gridCol w="385776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Verbal 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06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It can be determin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rticle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ive prono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ther give me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good beat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It has both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ngul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plura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r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liking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re regulated by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msta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ck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number distin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use my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rup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ou agai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is follow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prepositional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y discussed t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ign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f a new facto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tak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direct o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 was again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an  intervie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4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It is follow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ttribut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with prep. O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new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f the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2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It can be modifi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He is a man of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id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can be modifi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 child was tired of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t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st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41" name="Прямая соединительная линия 4"/>
          <p:cNvSpPr/>
          <p:nvPr/>
        </p:nvSpPr>
        <p:spPr>
          <a:xfrm flipH="1">
            <a:off x="283680" y="785880"/>
            <a:ext cx="1800" cy="62863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Управляющая кнопка: возврат 10">
            <a:hlinkClick r:id="rId1" action="ppaction://hlinksldjump"/>
          </p:cNvPr>
          <p:cNvSpPr/>
          <p:nvPr/>
        </p:nvSpPr>
        <p:spPr>
          <a:xfrm flipV="1" rot="10800000">
            <a:off x="8572680" y="65721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7493"/>
                </a:moveTo>
                <a:lnTo>
                  <a:pt x="9991" y="7493"/>
                </a:lnTo>
                <a:lnTo>
                  <a:pt x="9991" y="12828"/>
                </a:lnTo>
                <a:cubicBezTo>
                  <a:pt x="9991" y="13751"/>
                  <a:pt x="10792" y="14482"/>
                  <a:pt x="11827" y="14482"/>
                </a:cubicBezTo>
                <a:lnTo>
                  <a:pt x="13490" y="14482"/>
                </a:lnTo>
                <a:cubicBezTo>
                  <a:pt x="14526" y="14482"/>
                  <a:pt x="15326" y="13751"/>
                  <a:pt x="15326" y="12828"/>
                </a:cubicBezTo>
                <a:lnTo>
                  <a:pt x="15326" y="7493"/>
                </a:lnTo>
                <a:lnTo>
                  <a:pt x="13490" y="7493"/>
                </a:lnTo>
                <a:lnTo>
                  <a:pt x="16997" y="3985"/>
                </a:lnTo>
                <a:lnTo>
                  <a:pt x="20670" y="7493"/>
                </a:lnTo>
                <a:lnTo>
                  <a:pt x="18834" y="7493"/>
                </a:lnTo>
                <a:lnTo>
                  <a:pt x="18834" y="12828"/>
                </a:lnTo>
                <a:cubicBezTo>
                  <a:pt x="18834" y="15596"/>
                  <a:pt x="16258" y="18155"/>
                  <a:pt x="13490" y="18155"/>
                </a:cubicBezTo>
                <a:lnTo>
                  <a:pt x="11827" y="18155"/>
                </a:lnTo>
                <a:cubicBezTo>
                  <a:pt x="9060" y="18155"/>
                  <a:pt x="6483" y="15596"/>
                  <a:pt x="6483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4280" y="-28620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Bare Infinitive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44" name="Таблица 7" descr=""/>
          <p:cNvPicPr/>
          <p:nvPr/>
        </p:nvPicPr>
        <p:blipFill>
          <a:blip r:embed="rId1"/>
          <a:stretch/>
        </p:blipFill>
        <p:spPr>
          <a:xfrm>
            <a:off x="865080" y="920880"/>
            <a:ext cx="8345520" cy="6070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928800" y="5716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We usually use Bare Infinitive af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-2862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Bare Infinitive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85520" y="428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We usually use Bare Infinitive afte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9" name="Таблица 3" descr=""/>
          <p:cNvPicPr/>
          <p:nvPr/>
        </p:nvPicPr>
        <p:blipFill>
          <a:blip r:embed="rId1"/>
          <a:stretch/>
        </p:blipFill>
        <p:spPr>
          <a:xfrm>
            <a:off x="792000" y="743040"/>
            <a:ext cx="8418600" cy="6535800"/>
          </a:xfrm>
          <a:prstGeom prst="rect">
            <a:avLst/>
          </a:prstGeom>
          <a:ln w="0">
            <a:noFill/>
          </a:ln>
        </p:spPr>
      </p:pic>
      <p:sp>
        <p:nvSpPr>
          <p:cNvPr id="350" name="Управляющая кнопка: возврат 4">
            <a:hlinkClick r:id="rId2" action="ppaction://hlinksldjump"/>
          </p:cNvPr>
          <p:cNvSpPr/>
          <p:nvPr/>
        </p:nvSpPr>
        <p:spPr>
          <a:xfrm>
            <a:off x="8286840" y="60721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8480" y="-2862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52" name="Таблица 4" descr=""/>
          <p:cNvPicPr/>
          <p:nvPr/>
        </p:nvPicPr>
        <p:blipFill>
          <a:blip r:embed="rId1"/>
          <a:stretch/>
        </p:blipFill>
        <p:spPr>
          <a:xfrm>
            <a:off x="-66600" y="-60480"/>
            <a:ext cx="9277200" cy="70106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ая соединительная линия 6"/>
          <p:cNvSpPr/>
          <p:nvPr/>
        </p:nvSpPr>
        <p:spPr>
          <a:xfrm>
            <a:off x="0" y="1857240"/>
            <a:ext cx="2714760" cy="1643040"/>
          </a:xfrm>
          <a:prstGeom prst="line">
            <a:avLst/>
          </a:prstGeom>
          <a:ln w="19080">
            <a:solidFill>
              <a:srgbClr val="e17b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1000080" y="1928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A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Таблица 4" descr=""/>
          <p:cNvPicPr/>
          <p:nvPr/>
        </p:nvPicPr>
        <p:blipFill>
          <a:blip r:embed="rId1"/>
          <a:stretch/>
        </p:blipFill>
        <p:spPr>
          <a:xfrm>
            <a:off x="-66600" y="-60480"/>
            <a:ext cx="9277200" cy="52610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ая соединительная линия 5"/>
          <p:cNvSpPr/>
          <p:nvPr/>
        </p:nvSpPr>
        <p:spPr>
          <a:xfrm>
            <a:off x="0" y="1214280"/>
            <a:ext cx="2928960" cy="13575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8"/>
          <p:cNvSpPr/>
          <p:nvPr/>
        </p:nvSpPr>
        <p:spPr>
          <a:xfrm>
            <a:off x="2857680" y="3714840"/>
            <a:ext cx="628632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1285920" y="51404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noted that the passive ger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t much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правляющая кнопка: возврат 6">
            <a:hlinkClick r:id="rId2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8:38:47Z</dcterms:created>
  <dc:creator>Admin</dc:creator>
  <dc:description/>
  <dc:language>en-US</dc:language>
  <cp:lastModifiedBy>Владимир</cp:lastModifiedBy>
  <dcterms:modified xsi:type="dcterms:W3CDTF">2023-02-06T09:20:39Z</dcterms:modified>
  <cp:revision>13</cp:revision>
  <dc:subject/>
  <dc:title>Слайд 1</dc:title>
</cp:coreProperties>
</file>