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entury Schoolbook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Century Schoolbook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E7FFA-0917-4C9E-B08F-1C8C363EC2E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1EA8F-F377-467D-B96A-EDB8A798DD9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C46E9-675F-411B-BB4A-8CFAE8FAD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entury Schoolboo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8B9F7-21C7-4123-9E8A-018EA3413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entury School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FFB69-6DBC-4178-A03A-F0CD63A27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entury Schoolboo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2548C-5135-461C-9FBB-2FD3CAF2D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61845-B390-422C-AB8D-1B4575A76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entury Schoolboo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4EEBB-26F1-4A2D-887F-B1D558C15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entury School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7A037-EF36-4552-8F98-4B3DDBA70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061DF-0E00-4D31-B923-77988D511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2FF6D-1514-4911-9D8E-3EE59EB20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FCF46-E435-4E4C-B472-4E2FB2505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entury Schoolboo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51212-5506-451B-9D02-0C5FE69A5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entury Schoolboo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0A26E-1E78-4A9B-B092-F7C47EEC3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FA11D-6DF7-4A2A-8E53-B62C82927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22E7E-EF0B-408F-BD36-B718BA176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2FE34-F6B5-4FC6-9BDF-91F768905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entury School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BB71C-4D95-4FFD-84A3-7EE85ADE1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entury School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E31ED-B0A0-40D6-9B17-716A40ADD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173BCA-B7E1-41CF-9DAD-2FEB17EE0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entury Schoolboo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43E787-1B6E-4358-9D55-DDE2543AC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entury Schoolboo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E04E84-C88D-4D32-8C9F-B58405713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3886FE-00A2-485C-8B43-637084719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3EDC20-1EBB-42BC-BF01-6504A144E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entury Schoolboo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1DEE5-432A-45A4-8B08-7654931A7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DA8629-A73E-4296-9186-BD1A8633A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entury Schoolboo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4B6B16-9A4F-47F9-A2F9-913BEFCED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45DE32-84D9-4E53-8869-9F45A1485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418996-B698-4161-AF07-A07734FC5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5D4226-BF38-4655-B9C9-5E2F95757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entury Schoolboo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C09B57-12A9-4745-84B1-D42C2BD39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entury Schoolboo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C046E7-2722-41DB-8E6C-556BF0F05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5C3F88-F3C3-49F4-8EE8-FCCADF70F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entury Schoolboo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6D2D4B-A24C-4F90-BD05-29CD25997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entury Schoolboo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0311D3-504B-4DBA-8D6B-BC5D0F6C1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entury School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0D781-11E7-4ABF-A714-ECB3573E0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entury Schoolboo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008CCD-C8E4-44E9-B6C9-FE2EAF259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150EFC-DE86-4778-9B89-FBCB13706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CBA4D1-1831-467C-BF25-5B0AB2514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entury Schoolboo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54B8E5-2A1C-47A9-A852-169DA12AC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entury Schoolboo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83C831-9EFC-4A8C-8D1D-6392028A1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entury Schoolboo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E01F83-4CCF-4176-8D03-0E3E1B3D4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entury Schoolboo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B30F56-C026-4D0D-903F-C8BFBA09C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37D79D-4134-4FB9-B2A4-4E9B8A47E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C75300-45CE-4829-A570-A2410A0EA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DE2381-E941-4642-AEE9-1AF63DBF3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A2061-C889-4FBD-AFBF-593A58D31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entury Schoolboo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BE14F9-F8A7-4402-BCC0-89A688631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entury Schoolboo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CA6CF2-87A5-4CA0-A034-0E21ECB83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entury Schoolboo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ADF2CE-7F11-43BF-93D3-833D647C0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13C8EA-6DC4-44BE-983E-03A38DD20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ADFFD0-79BD-4726-BC85-E4E4A58AC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entury Schoolboo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28C6A2-ACE3-495C-893D-C43CEB958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entury Schoolboo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4F6B91-A8DE-4973-B23F-6F8E4CE7E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entury Schoolboo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D687EF-1EF2-4202-BE02-7F505A239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entury School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D2311B-5629-4BB7-B089-A4292810B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E50D30-503F-4836-8CF6-A0657C633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485DB-5FC0-44C1-84D2-9833ACFF9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entury Schoolboo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13A010-EF16-464A-88BE-1FC81BFD7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4F7A45-23A8-434F-A44B-AE736C1C7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0E4767-3828-4852-971F-F58DA858F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entury Schoolbook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A0CDE7-EF47-4D81-A0FF-1E44F91CC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C89FFF-64D7-4301-8892-ACD8278F3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DD12E0-8C13-40AE-909E-E1E3E0A0C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910242-0688-434E-AD6A-09E22CC0E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entury Schoolbook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6025D9-9392-4778-8439-E9101C4F2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entury Schoolbook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9EDADF-7C2D-4D6D-B621-0B636A586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entury Schoolbook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AB6E83-0A0D-47D7-BF23-1772CC525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entury Schoolboo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C2B6F-25C1-4B6E-9C5A-749F75344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entury Schoolbook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4787EB-0A14-4889-B09D-C554A15BC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entury Schoolbook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5B7C25-CCE3-42AC-816A-003D15BF2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entury Schoolbook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813932-F2C3-4FA2-85DF-32EBEC3EF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EB7A46-07ED-467D-89C7-7D07B3C91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entury Schoolbook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A77CA8-CDFE-491D-ABD6-EBC07D1F1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04114A-12B0-4E15-BEA5-83A3B09C3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entury Schoolbook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587397-C872-4294-AD7B-4054F28D2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1BD6D2-7748-4A43-9A9D-3E9BF6C66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F27F80-A2E2-4A2D-85F1-F135A82B9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147D07-9B26-46EE-A1EC-F1CE4AC6D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entury Schoolboo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E4EDD-C8D3-44F5-8F3B-632424387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entury Schoolbook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B672A4-4361-45AE-BECC-2343BE2A1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entury Schoolbook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A9ED28-F8A6-4CEB-831D-EC346A6BA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entury Schoolbook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68889C-B2D2-43E0-B80D-52B1F6AE4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entury Schoolbook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256E59-6D88-46D0-AEFA-C23C06566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entury Schoolbook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9C9DA9-2430-40C6-9B6D-FAE32C90A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entury Schoolboo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BBF43-571E-4D3D-ABEB-2258D239B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entury Schoolbook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entury Schoolboo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58CC6-AAF9-40E5-9E81-3EEFC70B5B6C}" type="slidenum">
              <a:rPr b="0" lang="ru-RU" sz="1200" spc="-1" strike="noStrike">
                <a:solidFill>
                  <a:srgbClr val="b5a788"/>
                </a:solidFill>
                <a:latin typeface="Century School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entury Schoolbook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entury School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B802D-8363-4B03-8C93-A3927532F1F2}" type="slidenum">
              <a:rPr b="0" lang="ru-RU" sz="1200" spc="-1" strike="noStrike">
                <a:solidFill>
                  <a:srgbClr val="b5a788"/>
                </a:solidFill>
                <a:latin typeface="Century School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entury Schoolbook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entury School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29908-60F1-49A0-9ADC-AF68B94EB4D5}" type="slidenum">
              <a:rPr b="0" lang="ru-RU" sz="1200" spc="-1" strike="noStrike">
                <a:solidFill>
                  <a:srgbClr val="b5a788"/>
                </a:solidFill>
                <a:latin typeface="Century School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entury Schoolbook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entury School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D6F64-3803-485C-9D69-45EC28E584D6}" type="slidenum">
              <a:rPr b="0" lang="ru-RU" sz="1200" spc="-1" strike="noStrike">
                <a:solidFill>
                  <a:srgbClr val="b5a788"/>
                </a:solidFill>
                <a:latin typeface="Century School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entury Schoolbook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entury School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02EEA-C0B5-4716-8929-532C5A459300}" type="slidenum">
              <a:rPr b="0" lang="ru-RU" sz="1200" spc="-1" strike="noStrike">
                <a:solidFill>
                  <a:srgbClr val="b5a788"/>
                </a:solidFill>
                <a:latin typeface="Century School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entury Schoolbook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entury School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6096A-BCEB-4009-B4A5-331676309667}" type="slidenum">
              <a:rPr b="0" lang="ru-RU" sz="1200" spc="-1" strike="noStrike">
                <a:solidFill>
                  <a:srgbClr val="b5a788"/>
                </a:solidFill>
                <a:latin typeface="Century School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entury Schoolbook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entury Schoolbook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9A040-9211-455E-8B05-FF841A0E2E02}" type="slidenum">
              <a:rPr b="0" lang="ru-RU" sz="1200" spc="-1" strike="noStrike">
                <a:solidFill>
                  <a:srgbClr val="b5a788"/>
                </a:solidFill>
                <a:latin typeface="Century School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8.xml"/><Relationship Id="rId3" Type="http://schemas.openxmlformats.org/officeDocument/2006/relationships/slide" Target="slide16.xml"/><Relationship Id="rId4" Type="http://schemas.openxmlformats.org/officeDocument/2006/relationships/slide" Target="slide18.xml"/><Relationship Id="rId5" Type="http://schemas.openxmlformats.org/officeDocument/2006/relationships/slide" Target="slide5.xml"/><Relationship Id="rId6" Type="http://schemas.openxmlformats.org/officeDocument/2006/relationships/slide" Target="slide25.xml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5" name="Скругленный прямоугольник 3"/>
          <p:cNvGrpSpPr/>
          <p:nvPr/>
        </p:nvGrpSpPr>
        <p:grpSpPr>
          <a:xfrm>
            <a:off x="1170000" y="1390680"/>
            <a:ext cx="7778880" cy="3578040"/>
            <a:chOff x="1170000" y="1390680"/>
            <a:chExt cx="7778880" cy="3578040"/>
          </a:xfrm>
        </p:grpSpPr>
        <p:pic>
          <p:nvPicPr>
            <p:cNvPr id="326" name="Скругленный прямоугольник 3" descr=""/>
            <p:cNvPicPr/>
            <p:nvPr/>
          </p:nvPicPr>
          <p:blipFill>
            <a:blip r:embed="rId1"/>
            <a:stretch/>
          </p:blipFill>
          <p:spPr>
            <a:xfrm>
              <a:off x="1170000" y="1390680"/>
              <a:ext cx="7778880" cy="357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7" name=""/>
            <p:cNvSpPr/>
            <p:nvPr/>
          </p:nvSpPr>
          <p:spPr>
            <a:xfrm>
              <a:off x="1577880" y="1792440"/>
              <a:ext cx="6967800" cy="277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8" name="Прямая соединительная линия 4" descr=""/>
          <p:cNvPicPr/>
          <p:nvPr/>
        </p:nvPicPr>
        <p:blipFill>
          <a:blip r:embed="rId2"/>
          <a:stretch/>
        </p:blipFill>
        <p:spPr>
          <a:xfrm>
            <a:off x="2762280" y="5748480"/>
            <a:ext cx="5881680" cy="109440"/>
          </a:xfrm>
          <a:prstGeom prst="rect">
            <a:avLst/>
          </a:prstGeom>
          <a:ln w="0">
            <a:noFill/>
          </a:ln>
        </p:spPr>
      </p:pic>
      <p:sp>
        <p:nvSpPr>
          <p:cNvPr id="329" name="TextBox 5"/>
          <p:cNvSpPr/>
          <p:nvPr/>
        </p:nvSpPr>
        <p:spPr>
          <a:xfrm>
            <a:off x="3214800" y="5214960"/>
            <a:ext cx="564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Century Gothic"/>
              </a:rPr>
              <a:t>Рыжкова Елена Борисо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Box 7"/>
          <p:cNvSpPr/>
          <p:nvPr/>
        </p:nvSpPr>
        <p:spPr>
          <a:xfrm>
            <a:off x="2411280" y="142920"/>
            <a:ext cx="578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Ульяновский педагогический колледж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Box 5"/>
          <p:cNvSpPr/>
          <p:nvPr/>
        </p:nvSpPr>
        <p:spPr>
          <a:xfrm>
            <a:off x="2143080" y="1928880"/>
            <a:ext cx="5715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00000"/>
                </a:solidFill>
                <a:latin typeface="Lucida Calligraphy"/>
              </a:rPr>
              <a:t>The Infinitive and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00000"/>
                </a:solidFill>
                <a:latin typeface="Lucida Calligraphy"/>
              </a:rPr>
              <a:t>the Gerun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428480" y="-21456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572314"/>
                </a:solidFill>
                <a:latin typeface="Century Schoolbook"/>
              </a:rPr>
              <a:t>The Forms of the Gerund</a:t>
            </a:r>
            <a:endParaRPr b="0" lang="en-US" sz="2400" spc="-1" strike="noStrike">
              <a:solidFill>
                <a:srgbClr val="572314"/>
              </a:solidFill>
              <a:latin typeface="Century Schoolbook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1213920" y="1447560"/>
            <a:ext cx="7720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entury Schoolbook"/>
              </a:rPr>
              <a:t>A non-perfect gerund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denote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an action 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simultaneous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with the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action expressed by the finite verb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Century Schoolbook"/>
              </a:rPr>
              <a:t>e.g. </a:t>
            </a:r>
            <a:r>
              <a:rPr b="0" i="1" lang="en-US" sz="2800" spc="-1" strike="noStrike">
                <a:solidFill>
                  <a:srgbClr val="000000"/>
                </a:solidFill>
                <a:latin typeface="Century Schoolbook"/>
              </a:rPr>
              <a:t>I’m surprised at his </a:t>
            </a:r>
            <a:r>
              <a:rPr b="1" i="1" lang="en-US" sz="2800" spc="-1" strike="noStrike">
                <a:solidFill>
                  <a:srgbClr val="c00000"/>
                </a:solidFill>
                <a:latin typeface="Century Schoolbook"/>
              </a:rPr>
              <a:t>doing</a:t>
            </a:r>
            <a:r>
              <a:rPr b="0" i="1" lang="en-US" sz="2800" spc="-1" strike="noStrike">
                <a:solidFill>
                  <a:srgbClr val="000000"/>
                </a:solidFill>
                <a:latin typeface="Century Schoolbook"/>
              </a:rPr>
              <a:t> it so quickly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entury Schoolbook"/>
              </a:rPr>
              <a:t>       </a:t>
            </a:r>
            <a:r>
              <a:rPr b="0" i="1" lang="en-US" sz="2800" spc="-1" strike="noStrike">
                <a:solidFill>
                  <a:srgbClr val="000000"/>
                </a:solidFill>
                <a:latin typeface="Century Schoolbook"/>
              </a:rPr>
              <a:t>Thank you for </a:t>
            </a:r>
            <a:r>
              <a:rPr b="1" i="1" lang="en-US" sz="2800" spc="-1" strike="noStrike">
                <a:solidFill>
                  <a:srgbClr val="c00000"/>
                </a:solidFill>
                <a:latin typeface="Century Schoolbook"/>
              </a:rPr>
              <a:t>asking</a:t>
            </a:r>
            <a:r>
              <a:rPr b="0" i="1" lang="en-US" sz="2800" spc="-1" strike="noStrike">
                <a:solidFill>
                  <a:srgbClr val="000000"/>
                </a:solidFill>
                <a:latin typeface="Century Schoolbook"/>
              </a:rPr>
              <a:t> me to come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3" name="Прямая соединительная линия 3"/>
          <p:cNvSpPr/>
          <p:nvPr/>
        </p:nvSpPr>
        <p:spPr>
          <a:xfrm>
            <a:off x="1714680" y="714240"/>
            <a:ext cx="7272000" cy="0"/>
          </a:xfrm>
          <a:prstGeom prst="line">
            <a:avLst/>
          </a:prstGeom>
          <a:ln w="22320">
            <a:solidFill>
              <a:srgbClr val="d599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Управляющая кнопка: возврат 4">
            <a:hlinkClick r:id="rId1" action="ppaction://hlinksldjump"/>
          </p:cNvPr>
          <p:cNvSpPr/>
          <p:nvPr/>
        </p:nvSpPr>
        <p:spPr>
          <a:xfrm>
            <a:off x="8215200" y="6286680"/>
            <a:ext cx="571680" cy="357120"/>
          </a:xfrm>
          <a:custGeom>
            <a:avLst/>
            <a:gdLst>
              <a:gd name="textAreaLeft" fmla="*/ 23040 w 571680"/>
              <a:gd name="textAreaRight" fmla="*/ 548640 w 57168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34564" h="21600">
                <a:moveTo>
                  <a:pt x="0" y="0"/>
                </a:moveTo>
                <a:lnTo>
                  <a:pt x="34564" y="0"/>
                </a:lnTo>
                <a:lnTo>
                  <a:pt x="34564" y="21600"/>
                </a:lnTo>
                <a:lnTo>
                  <a:pt x="0" y="21600"/>
                </a:lnTo>
                <a:close/>
              </a:path>
              <a:path fill="lightenLess" w="34564" h="21600">
                <a:moveTo>
                  <a:pt x="0" y="0"/>
                </a:moveTo>
                <a:lnTo>
                  <a:pt x="34564" y="0"/>
                </a:lnTo>
                <a:lnTo>
                  <a:pt x="33164" y="1400"/>
                </a:lnTo>
                <a:lnTo>
                  <a:pt x="1400" y="1400"/>
                </a:lnTo>
                <a:close/>
              </a:path>
              <a:path fill="darken" w="34564" h="21600">
                <a:moveTo>
                  <a:pt x="34564" y="0"/>
                </a:moveTo>
                <a:lnTo>
                  <a:pt x="34564" y="21600"/>
                </a:lnTo>
                <a:lnTo>
                  <a:pt x="33164" y="20200"/>
                </a:lnTo>
                <a:lnTo>
                  <a:pt x="33164" y="1400"/>
                </a:lnTo>
                <a:close/>
              </a:path>
              <a:path fill="darkenLess" w="34564" h="21600">
                <a:moveTo>
                  <a:pt x="345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64" y="20200"/>
                </a:lnTo>
                <a:close/>
              </a:path>
              <a:path fill="lighten" w="345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64" h="21600">
                <a:moveTo>
                  <a:pt x="10276" y="7493"/>
                </a:moveTo>
                <a:lnTo>
                  <a:pt x="13783" y="7493"/>
                </a:lnTo>
                <a:lnTo>
                  <a:pt x="13783" y="12828"/>
                </a:lnTo>
                <a:cubicBezTo>
                  <a:pt x="13783" y="13751"/>
                  <a:pt x="14584" y="14482"/>
                  <a:pt x="15620" y="14482"/>
                </a:cubicBezTo>
                <a:lnTo>
                  <a:pt x="17282" y="14482"/>
                </a:lnTo>
                <a:cubicBezTo>
                  <a:pt x="18318" y="14482"/>
                  <a:pt x="19119" y="13751"/>
                  <a:pt x="19119" y="12828"/>
                </a:cubicBezTo>
                <a:lnTo>
                  <a:pt x="19119" y="7493"/>
                </a:lnTo>
                <a:lnTo>
                  <a:pt x="17282" y="7493"/>
                </a:lnTo>
                <a:lnTo>
                  <a:pt x="20790" y="3985"/>
                </a:lnTo>
                <a:lnTo>
                  <a:pt x="24463" y="7493"/>
                </a:lnTo>
                <a:lnTo>
                  <a:pt x="22626" y="7493"/>
                </a:lnTo>
                <a:lnTo>
                  <a:pt x="22626" y="12828"/>
                </a:lnTo>
                <a:cubicBezTo>
                  <a:pt x="22626" y="15596"/>
                  <a:pt x="20050" y="18155"/>
                  <a:pt x="17282" y="18155"/>
                </a:cubicBezTo>
                <a:lnTo>
                  <a:pt x="15620" y="18155"/>
                </a:lnTo>
                <a:cubicBezTo>
                  <a:pt x="12852" y="18155"/>
                  <a:pt x="10276" y="15596"/>
                  <a:pt x="10276" y="12828"/>
                </a:cubicBezTo>
                <a:close/>
              </a:path>
            </a:pathLst>
          </a:cu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428480" y="-21456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572314"/>
                </a:solidFill>
                <a:latin typeface="Century Schoolbook"/>
              </a:rPr>
              <a:t>The Forms of the Gerund</a:t>
            </a:r>
            <a:endParaRPr b="0" lang="en-US" sz="2400" spc="-1" strike="noStrike">
              <a:solidFill>
                <a:srgbClr val="572314"/>
              </a:solidFill>
              <a:latin typeface="Century Schoolbook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1142640" y="1447560"/>
            <a:ext cx="77914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entury Schoolbook"/>
              </a:rPr>
              <a:t>A perfect gerund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denotes an action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prior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to that of the finite  verb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Century Schoolbook"/>
              </a:rPr>
              <a:t>e.g. </a:t>
            </a:r>
            <a:r>
              <a:rPr b="0" i="1" lang="en-US" sz="2800" spc="-1" strike="noStrike">
                <a:solidFill>
                  <a:srgbClr val="000000"/>
                </a:solidFill>
                <a:latin typeface="Century Schoolbook"/>
              </a:rPr>
              <a:t>I’m surprised at his </a:t>
            </a:r>
            <a:r>
              <a:rPr b="1" i="1" lang="en-US" sz="2800" spc="-1" strike="noStrike">
                <a:solidFill>
                  <a:srgbClr val="c00000"/>
                </a:solidFill>
                <a:latin typeface="Century Schoolbook"/>
              </a:rPr>
              <a:t>having done</a:t>
            </a:r>
            <a:r>
              <a:rPr b="0" i="1" lang="en-US" sz="2800" spc="-1" strike="noStrike">
                <a:solidFill>
                  <a:srgbClr val="000000"/>
                </a:solidFill>
                <a:latin typeface="Century Schoolbook"/>
              </a:rPr>
              <a:t> it so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entury Schoolbook"/>
              </a:rPr>
              <a:t>       </a:t>
            </a:r>
            <a:r>
              <a:rPr b="0" i="1" lang="en-US" sz="2800" spc="-1" strike="noStrike">
                <a:solidFill>
                  <a:srgbClr val="000000"/>
                </a:solidFill>
                <a:latin typeface="Century Schoolbook"/>
              </a:rPr>
              <a:t>quickly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7" name="Прямая соединительная линия 3"/>
          <p:cNvSpPr/>
          <p:nvPr/>
        </p:nvSpPr>
        <p:spPr>
          <a:xfrm>
            <a:off x="1714680" y="714240"/>
            <a:ext cx="7272000" cy="0"/>
          </a:xfrm>
          <a:prstGeom prst="line">
            <a:avLst/>
          </a:prstGeom>
          <a:ln w="22320">
            <a:solidFill>
              <a:srgbClr val="d599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Управляющая кнопка: возврат 4">
            <a:hlinkClick r:id="rId1" action="ppaction://hlinksldjump"/>
          </p:cNvPr>
          <p:cNvSpPr/>
          <p:nvPr/>
        </p:nvSpPr>
        <p:spPr>
          <a:xfrm>
            <a:off x="8215200" y="6286680"/>
            <a:ext cx="571680" cy="357120"/>
          </a:xfrm>
          <a:custGeom>
            <a:avLst/>
            <a:gdLst>
              <a:gd name="textAreaLeft" fmla="*/ 23040 w 571680"/>
              <a:gd name="textAreaRight" fmla="*/ 548640 w 57168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34564" h="21600">
                <a:moveTo>
                  <a:pt x="0" y="0"/>
                </a:moveTo>
                <a:lnTo>
                  <a:pt x="34564" y="0"/>
                </a:lnTo>
                <a:lnTo>
                  <a:pt x="34564" y="21600"/>
                </a:lnTo>
                <a:lnTo>
                  <a:pt x="0" y="21600"/>
                </a:lnTo>
                <a:close/>
              </a:path>
              <a:path fill="lightenLess" w="34564" h="21600">
                <a:moveTo>
                  <a:pt x="0" y="0"/>
                </a:moveTo>
                <a:lnTo>
                  <a:pt x="34564" y="0"/>
                </a:lnTo>
                <a:lnTo>
                  <a:pt x="33164" y="1400"/>
                </a:lnTo>
                <a:lnTo>
                  <a:pt x="1400" y="1400"/>
                </a:lnTo>
                <a:close/>
              </a:path>
              <a:path fill="darken" w="34564" h="21600">
                <a:moveTo>
                  <a:pt x="34564" y="0"/>
                </a:moveTo>
                <a:lnTo>
                  <a:pt x="34564" y="21600"/>
                </a:lnTo>
                <a:lnTo>
                  <a:pt x="33164" y="20200"/>
                </a:lnTo>
                <a:lnTo>
                  <a:pt x="33164" y="1400"/>
                </a:lnTo>
                <a:close/>
              </a:path>
              <a:path fill="darkenLess" w="34564" h="21600">
                <a:moveTo>
                  <a:pt x="345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64" y="20200"/>
                </a:lnTo>
                <a:close/>
              </a:path>
              <a:path fill="lighten" w="345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64" h="21600">
                <a:moveTo>
                  <a:pt x="10276" y="7493"/>
                </a:moveTo>
                <a:lnTo>
                  <a:pt x="13783" y="7493"/>
                </a:lnTo>
                <a:lnTo>
                  <a:pt x="13783" y="12828"/>
                </a:lnTo>
                <a:cubicBezTo>
                  <a:pt x="13783" y="13751"/>
                  <a:pt x="14584" y="14482"/>
                  <a:pt x="15620" y="14482"/>
                </a:cubicBezTo>
                <a:lnTo>
                  <a:pt x="17282" y="14482"/>
                </a:lnTo>
                <a:cubicBezTo>
                  <a:pt x="18318" y="14482"/>
                  <a:pt x="19119" y="13751"/>
                  <a:pt x="19119" y="12828"/>
                </a:cubicBezTo>
                <a:lnTo>
                  <a:pt x="19119" y="7493"/>
                </a:lnTo>
                <a:lnTo>
                  <a:pt x="17282" y="7493"/>
                </a:lnTo>
                <a:lnTo>
                  <a:pt x="20790" y="3985"/>
                </a:lnTo>
                <a:lnTo>
                  <a:pt x="24463" y="7493"/>
                </a:lnTo>
                <a:lnTo>
                  <a:pt x="22626" y="7493"/>
                </a:lnTo>
                <a:lnTo>
                  <a:pt x="22626" y="12828"/>
                </a:lnTo>
                <a:cubicBezTo>
                  <a:pt x="22626" y="15596"/>
                  <a:pt x="20050" y="18155"/>
                  <a:pt x="17282" y="18155"/>
                </a:cubicBezTo>
                <a:lnTo>
                  <a:pt x="15620" y="18155"/>
                </a:lnTo>
                <a:cubicBezTo>
                  <a:pt x="12852" y="18155"/>
                  <a:pt x="10276" y="15596"/>
                  <a:pt x="10276" y="12828"/>
                </a:cubicBezTo>
                <a:close/>
              </a:path>
            </a:pathLst>
          </a:cu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285560" y="-21456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572314"/>
                </a:solidFill>
                <a:latin typeface="Century Schoolbook"/>
              </a:rPr>
              <a:t>The Forms of the Infinitive</a:t>
            </a:r>
            <a:endParaRPr b="0" lang="en-US" sz="2400" spc="-1" strike="noStrike">
              <a:solidFill>
                <a:srgbClr val="572314"/>
              </a:solidFill>
              <a:latin typeface="Century Schoolbook"/>
            </a:endParaRPr>
          </a:p>
        </p:txBody>
      </p:sp>
      <p:sp>
        <p:nvSpPr>
          <p:cNvPr id="370" name="TextBox 6"/>
          <p:cNvSpPr/>
          <p:nvPr/>
        </p:nvSpPr>
        <p:spPr>
          <a:xfrm>
            <a:off x="1071720" y="928800"/>
            <a:ext cx="7572240" cy="60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entury Schoolbook"/>
              </a:rPr>
              <a:t>A non-continuous (Indefinite) Infinitive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expresses an action </a:t>
            </a:r>
            <a:r>
              <a:rPr b="1" lang="en-US" sz="2800" spc="-1" strike="noStrike">
                <a:solidFill>
                  <a:srgbClr val="002060"/>
                </a:solidFill>
                <a:latin typeface="Century Schoolbook"/>
              </a:rPr>
              <a:t>simultaneous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with that expressed by the finite verb, so it may refer to the present, past or futur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Century Schoolbook"/>
              </a:rPr>
              <a:t>e.g. </a:t>
            </a:r>
            <a:r>
              <a:rPr b="0" i="1" lang="en-US" sz="2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I hope </a:t>
            </a:r>
            <a:r>
              <a:rPr b="1" i="1" lang="en-US" sz="2800" spc="-1" strike="noStrike">
                <a:solidFill>
                  <a:srgbClr val="c00000"/>
                </a:solidFill>
                <a:latin typeface="Century Schoolbook"/>
                <a:ea typeface="Times New Roman"/>
              </a:rPr>
              <a:t>to meet</a:t>
            </a:r>
            <a:r>
              <a:rPr b="0" i="1" lang="en-US" sz="2800" spc="-1" strike="noStrike">
                <a:solidFill>
                  <a:srgbClr val="c00000"/>
                </a:solidFill>
                <a:latin typeface="Century Schoolbook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her tonigh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         </a:t>
            </a:r>
            <a:r>
              <a:rPr b="0" i="1" lang="en-US" sz="2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I hoped </a:t>
            </a:r>
            <a:r>
              <a:rPr b="1" i="1" lang="en-US" sz="2800" spc="-1" strike="noStrike">
                <a:solidFill>
                  <a:srgbClr val="c00000"/>
                </a:solidFill>
                <a:latin typeface="Century Schoolbook"/>
                <a:ea typeface="Times New Roman"/>
              </a:rPr>
              <a:t>to meet</a:t>
            </a:r>
            <a:r>
              <a:rPr b="0" i="1" lang="en-US" sz="2800" spc="-1" strike="noStrike">
                <a:solidFill>
                  <a:srgbClr val="c00000"/>
                </a:solidFill>
                <a:latin typeface="Century Schoolbook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her yesterd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         </a:t>
            </a:r>
            <a:r>
              <a:rPr b="0" i="1" lang="en-US" sz="2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I’ll hope </a:t>
            </a:r>
            <a:r>
              <a:rPr b="1" i="1" lang="en-US" sz="2800" spc="-1" strike="noStrike">
                <a:solidFill>
                  <a:srgbClr val="c00000"/>
                </a:solidFill>
                <a:latin typeface="Century Schoolbook"/>
                <a:ea typeface="Times New Roman"/>
              </a:rPr>
              <a:t>to meet</a:t>
            </a:r>
            <a:r>
              <a:rPr b="0" i="1" lang="en-US" sz="2800" spc="-1" strike="noStrike">
                <a:solidFill>
                  <a:srgbClr val="c00000"/>
                </a:solidFill>
                <a:latin typeface="Century Schoolbook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her tomorrow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Управляющая кнопка: возврат 8">
            <a:hlinkClick r:id="rId1" action="ppaction://hlinksldjump"/>
          </p:cNvPr>
          <p:cNvSpPr/>
          <p:nvPr/>
        </p:nvSpPr>
        <p:spPr>
          <a:xfrm>
            <a:off x="8358120" y="6286680"/>
            <a:ext cx="571680" cy="357120"/>
          </a:xfrm>
          <a:custGeom>
            <a:avLst/>
            <a:gdLst>
              <a:gd name="textAreaLeft" fmla="*/ 23040 w 571680"/>
              <a:gd name="textAreaRight" fmla="*/ 548640 w 57168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34564" h="21600">
                <a:moveTo>
                  <a:pt x="0" y="0"/>
                </a:moveTo>
                <a:lnTo>
                  <a:pt x="34564" y="0"/>
                </a:lnTo>
                <a:lnTo>
                  <a:pt x="34564" y="21600"/>
                </a:lnTo>
                <a:lnTo>
                  <a:pt x="0" y="21600"/>
                </a:lnTo>
                <a:close/>
              </a:path>
              <a:path fill="lightenLess" w="34564" h="21600">
                <a:moveTo>
                  <a:pt x="0" y="0"/>
                </a:moveTo>
                <a:lnTo>
                  <a:pt x="34564" y="0"/>
                </a:lnTo>
                <a:lnTo>
                  <a:pt x="33164" y="1400"/>
                </a:lnTo>
                <a:lnTo>
                  <a:pt x="1400" y="1400"/>
                </a:lnTo>
                <a:close/>
              </a:path>
              <a:path fill="darken" w="34564" h="21600">
                <a:moveTo>
                  <a:pt x="34564" y="0"/>
                </a:moveTo>
                <a:lnTo>
                  <a:pt x="34564" y="21600"/>
                </a:lnTo>
                <a:lnTo>
                  <a:pt x="33164" y="20200"/>
                </a:lnTo>
                <a:lnTo>
                  <a:pt x="33164" y="1400"/>
                </a:lnTo>
                <a:close/>
              </a:path>
              <a:path fill="darkenLess" w="34564" h="21600">
                <a:moveTo>
                  <a:pt x="345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64" y="20200"/>
                </a:lnTo>
                <a:close/>
              </a:path>
              <a:path fill="lighten" w="345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64" h="21600">
                <a:moveTo>
                  <a:pt x="10276" y="7493"/>
                </a:moveTo>
                <a:lnTo>
                  <a:pt x="13783" y="7493"/>
                </a:lnTo>
                <a:lnTo>
                  <a:pt x="13783" y="12828"/>
                </a:lnTo>
                <a:cubicBezTo>
                  <a:pt x="13783" y="13751"/>
                  <a:pt x="14584" y="14482"/>
                  <a:pt x="15620" y="14482"/>
                </a:cubicBezTo>
                <a:lnTo>
                  <a:pt x="17282" y="14482"/>
                </a:lnTo>
                <a:cubicBezTo>
                  <a:pt x="18318" y="14482"/>
                  <a:pt x="19119" y="13751"/>
                  <a:pt x="19119" y="12828"/>
                </a:cubicBezTo>
                <a:lnTo>
                  <a:pt x="19119" y="7493"/>
                </a:lnTo>
                <a:lnTo>
                  <a:pt x="17282" y="7493"/>
                </a:lnTo>
                <a:lnTo>
                  <a:pt x="20790" y="3985"/>
                </a:lnTo>
                <a:lnTo>
                  <a:pt x="24463" y="7493"/>
                </a:lnTo>
                <a:lnTo>
                  <a:pt x="22626" y="7493"/>
                </a:lnTo>
                <a:lnTo>
                  <a:pt x="22626" y="12828"/>
                </a:lnTo>
                <a:cubicBezTo>
                  <a:pt x="22626" y="15596"/>
                  <a:pt x="20050" y="18155"/>
                  <a:pt x="17282" y="18155"/>
                </a:cubicBezTo>
                <a:lnTo>
                  <a:pt x="15620" y="18155"/>
                </a:lnTo>
                <a:cubicBezTo>
                  <a:pt x="12852" y="18155"/>
                  <a:pt x="10276" y="15596"/>
                  <a:pt x="10276" y="12828"/>
                </a:cubicBezTo>
                <a:close/>
              </a:path>
            </a:pathLst>
          </a:cu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Прямая соединительная линия 5"/>
          <p:cNvSpPr/>
          <p:nvPr/>
        </p:nvSpPr>
        <p:spPr>
          <a:xfrm>
            <a:off x="1714680" y="714240"/>
            <a:ext cx="7272000" cy="0"/>
          </a:xfrm>
          <a:prstGeom prst="line">
            <a:avLst/>
          </a:prstGeom>
          <a:ln w="22320">
            <a:solidFill>
              <a:srgbClr val="d599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428480" y="-21456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572314"/>
                </a:solidFill>
                <a:latin typeface="Century Schoolbook"/>
              </a:rPr>
              <a:t>The Forms of the Infinitive</a:t>
            </a:r>
            <a:endParaRPr b="0" lang="en-US" sz="2400" spc="-1" strike="noStrike">
              <a:solidFill>
                <a:srgbClr val="572314"/>
              </a:solidFill>
              <a:latin typeface="Century Schoolbook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1428480" y="1571400"/>
            <a:ext cx="7497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entury Schoolbook"/>
              </a:rPr>
              <a:t>A</a:t>
            </a:r>
            <a:r>
              <a:rPr b="1" lang="ru-RU" sz="2800" spc="-1" strike="noStrike">
                <a:solidFill>
                  <a:srgbClr val="c00000"/>
                </a:solidFill>
                <a:latin typeface="Century Schoolbook"/>
              </a:rPr>
              <a:t> Continuous Infinitive 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denotes an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action simultaneous with that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expressed by the finite verb, but it is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an action </a:t>
            </a:r>
            <a:r>
              <a:rPr b="1" lang="en-US" sz="3200" spc="-1" strike="noStrike">
                <a:solidFill>
                  <a:srgbClr val="002060"/>
                </a:solidFill>
                <a:latin typeface="Century Schoolbook"/>
              </a:rPr>
              <a:t>in progress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Century Schoolbook"/>
              </a:rPr>
              <a:t>e.g.  </a:t>
            </a:r>
            <a:r>
              <a:rPr b="0" i="1" lang="en-US" sz="32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He must </a:t>
            </a:r>
            <a:r>
              <a:rPr b="1" i="1" lang="en-US" sz="3200" spc="-1" strike="noStrike">
                <a:solidFill>
                  <a:srgbClr val="c00000"/>
                </a:solidFill>
                <a:latin typeface="Century Schoolbook"/>
                <a:ea typeface="Times New Roman"/>
              </a:rPr>
              <a:t>be sleeping</a:t>
            </a:r>
            <a:r>
              <a:rPr b="0" i="1" lang="en-US" sz="3200" spc="-1" strike="noStrike">
                <a:solidFill>
                  <a:srgbClr val="c00000"/>
                </a:solidFill>
                <a:latin typeface="Century Schoolbook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now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5" name="Управляющая кнопка: возврат 5">
            <a:hlinkClick r:id="rId1" action="ppaction://hlinksldjump"/>
          </p:cNvPr>
          <p:cNvSpPr/>
          <p:nvPr/>
        </p:nvSpPr>
        <p:spPr>
          <a:xfrm>
            <a:off x="8358120" y="6286680"/>
            <a:ext cx="571680" cy="357120"/>
          </a:xfrm>
          <a:custGeom>
            <a:avLst/>
            <a:gdLst>
              <a:gd name="textAreaLeft" fmla="*/ 23040 w 571680"/>
              <a:gd name="textAreaRight" fmla="*/ 548640 w 57168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34564" h="21600">
                <a:moveTo>
                  <a:pt x="0" y="0"/>
                </a:moveTo>
                <a:lnTo>
                  <a:pt x="34564" y="0"/>
                </a:lnTo>
                <a:lnTo>
                  <a:pt x="34564" y="21600"/>
                </a:lnTo>
                <a:lnTo>
                  <a:pt x="0" y="21600"/>
                </a:lnTo>
                <a:close/>
              </a:path>
              <a:path fill="lightenLess" w="34564" h="21600">
                <a:moveTo>
                  <a:pt x="0" y="0"/>
                </a:moveTo>
                <a:lnTo>
                  <a:pt x="34564" y="0"/>
                </a:lnTo>
                <a:lnTo>
                  <a:pt x="33164" y="1400"/>
                </a:lnTo>
                <a:lnTo>
                  <a:pt x="1400" y="1400"/>
                </a:lnTo>
                <a:close/>
              </a:path>
              <a:path fill="darken" w="34564" h="21600">
                <a:moveTo>
                  <a:pt x="34564" y="0"/>
                </a:moveTo>
                <a:lnTo>
                  <a:pt x="34564" y="21600"/>
                </a:lnTo>
                <a:lnTo>
                  <a:pt x="33164" y="20200"/>
                </a:lnTo>
                <a:lnTo>
                  <a:pt x="33164" y="1400"/>
                </a:lnTo>
                <a:close/>
              </a:path>
              <a:path fill="darkenLess" w="34564" h="21600">
                <a:moveTo>
                  <a:pt x="345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64" y="20200"/>
                </a:lnTo>
                <a:close/>
              </a:path>
              <a:path fill="lighten" w="345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64" h="21600">
                <a:moveTo>
                  <a:pt x="10276" y="7493"/>
                </a:moveTo>
                <a:lnTo>
                  <a:pt x="13783" y="7493"/>
                </a:lnTo>
                <a:lnTo>
                  <a:pt x="13783" y="12828"/>
                </a:lnTo>
                <a:cubicBezTo>
                  <a:pt x="13783" y="13751"/>
                  <a:pt x="14584" y="14482"/>
                  <a:pt x="15620" y="14482"/>
                </a:cubicBezTo>
                <a:lnTo>
                  <a:pt x="17282" y="14482"/>
                </a:lnTo>
                <a:cubicBezTo>
                  <a:pt x="18318" y="14482"/>
                  <a:pt x="19119" y="13751"/>
                  <a:pt x="19119" y="12828"/>
                </a:cubicBezTo>
                <a:lnTo>
                  <a:pt x="19119" y="7493"/>
                </a:lnTo>
                <a:lnTo>
                  <a:pt x="17282" y="7493"/>
                </a:lnTo>
                <a:lnTo>
                  <a:pt x="20790" y="3985"/>
                </a:lnTo>
                <a:lnTo>
                  <a:pt x="24463" y="7493"/>
                </a:lnTo>
                <a:lnTo>
                  <a:pt x="22626" y="7493"/>
                </a:lnTo>
                <a:lnTo>
                  <a:pt x="22626" y="12828"/>
                </a:lnTo>
                <a:cubicBezTo>
                  <a:pt x="22626" y="15596"/>
                  <a:pt x="20050" y="18155"/>
                  <a:pt x="17282" y="18155"/>
                </a:cubicBezTo>
                <a:lnTo>
                  <a:pt x="15620" y="18155"/>
                </a:lnTo>
                <a:cubicBezTo>
                  <a:pt x="12852" y="18155"/>
                  <a:pt x="10276" y="15596"/>
                  <a:pt x="10276" y="12828"/>
                </a:cubicBezTo>
                <a:close/>
              </a:path>
            </a:pathLst>
          </a:cu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Прямая соединительная линия 6"/>
          <p:cNvSpPr/>
          <p:nvPr/>
        </p:nvSpPr>
        <p:spPr>
          <a:xfrm>
            <a:off x="1714680" y="714240"/>
            <a:ext cx="7272000" cy="0"/>
          </a:xfrm>
          <a:prstGeom prst="line">
            <a:avLst/>
          </a:prstGeom>
          <a:ln w="22320">
            <a:solidFill>
              <a:srgbClr val="d599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428480" y="-14328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572314"/>
                </a:solidFill>
                <a:latin typeface="Century Schoolbook"/>
              </a:rPr>
              <a:t>The Forms of the Infinitive</a:t>
            </a:r>
            <a:endParaRPr b="0" lang="en-US" sz="2400" spc="-1" strike="noStrike">
              <a:solidFill>
                <a:srgbClr val="572314"/>
              </a:solidFill>
              <a:latin typeface="Century Schoolbook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00000"/>
                </a:solidFill>
                <a:latin typeface="Century Schoolbook"/>
              </a:rPr>
              <a:t>A Perfect Infinitive </a:t>
            </a: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denotes an action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Schoolbook"/>
              </a:rPr>
              <a:t>prior</a:t>
            </a: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 to the action expressed by the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finite verb.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Schoolbook"/>
              </a:rPr>
              <a:t>e.g.  </a:t>
            </a:r>
            <a:r>
              <a:rPr b="0" i="1" lang="en-US" sz="30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He claims </a:t>
            </a:r>
            <a:r>
              <a:rPr b="1" i="1" lang="en-US" sz="3000" spc="-1" strike="noStrike">
                <a:solidFill>
                  <a:srgbClr val="c00000"/>
                </a:solidFill>
                <a:latin typeface="Century Schoolbook"/>
                <a:ea typeface="Times New Roman"/>
              </a:rPr>
              <a:t>to have worked</a:t>
            </a:r>
            <a:r>
              <a:rPr b="0" i="1" lang="en-US" sz="3000" spc="-1" strike="noStrike">
                <a:solidFill>
                  <a:srgbClr val="c00000"/>
                </a:solidFill>
                <a:latin typeface="Century Schoolbook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here.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       </a:t>
            </a:r>
            <a:r>
              <a:rPr b="0" lang="en-US" sz="30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(First he worked here, then he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        </a:t>
            </a:r>
            <a:r>
              <a:rPr b="0" lang="en-US" sz="30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claimed he had worked here.)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9" name="Управляющая кнопка: возврат 5">
            <a:hlinkClick r:id="rId1" action="ppaction://hlinksldjump"/>
          </p:cNvPr>
          <p:cNvSpPr/>
          <p:nvPr/>
        </p:nvSpPr>
        <p:spPr>
          <a:xfrm>
            <a:off x="8358120" y="6286680"/>
            <a:ext cx="571680" cy="357120"/>
          </a:xfrm>
          <a:custGeom>
            <a:avLst/>
            <a:gdLst>
              <a:gd name="textAreaLeft" fmla="*/ 23040 w 571680"/>
              <a:gd name="textAreaRight" fmla="*/ 548640 w 57168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34564" h="21600">
                <a:moveTo>
                  <a:pt x="0" y="0"/>
                </a:moveTo>
                <a:lnTo>
                  <a:pt x="34564" y="0"/>
                </a:lnTo>
                <a:lnTo>
                  <a:pt x="34564" y="21600"/>
                </a:lnTo>
                <a:lnTo>
                  <a:pt x="0" y="21600"/>
                </a:lnTo>
                <a:close/>
              </a:path>
              <a:path fill="lightenLess" w="34564" h="21600">
                <a:moveTo>
                  <a:pt x="0" y="0"/>
                </a:moveTo>
                <a:lnTo>
                  <a:pt x="34564" y="0"/>
                </a:lnTo>
                <a:lnTo>
                  <a:pt x="33164" y="1400"/>
                </a:lnTo>
                <a:lnTo>
                  <a:pt x="1400" y="1400"/>
                </a:lnTo>
                <a:close/>
              </a:path>
              <a:path fill="darken" w="34564" h="21600">
                <a:moveTo>
                  <a:pt x="34564" y="0"/>
                </a:moveTo>
                <a:lnTo>
                  <a:pt x="34564" y="21600"/>
                </a:lnTo>
                <a:lnTo>
                  <a:pt x="33164" y="20200"/>
                </a:lnTo>
                <a:lnTo>
                  <a:pt x="33164" y="1400"/>
                </a:lnTo>
                <a:close/>
              </a:path>
              <a:path fill="darkenLess" w="34564" h="21600">
                <a:moveTo>
                  <a:pt x="345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64" y="20200"/>
                </a:lnTo>
                <a:close/>
              </a:path>
              <a:path fill="lighten" w="345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64" h="21600">
                <a:moveTo>
                  <a:pt x="10276" y="7493"/>
                </a:moveTo>
                <a:lnTo>
                  <a:pt x="13783" y="7493"/>
                </a:lnTo>
                <a:lnTo>
                  <a:pt x="13783" y="12828"/>
                </a:lnTo>
                <a:cubicBezTo>
                  <a:pt x="13783" y="13751"/>
                  <a:pt x="14584" y="14482"/>
                  <a:pt x="15620" y="14482"/>
                </a:cubicBezTo>
                <a:lnTo>
                  <a:pt x="17282" y="14482"/>
                </a:lnTo>
                <a:cubicBezTo>
                  <a:pt x="18318" y="14482"/>
                  <a:pt x="19119" y="13751"/>
                  <a:pt x="19119" y="12828"/>
                </a:cubicBezTo>
                <a:lnTo>
                  <a:pt x="19119" y="7493"/>
                </a:lnTo>
                <a:lnTo>
                  <a:pt x="17282" y="7493"/>
                </a:lnTo>
                <a:lnTo>
                  <a:pt x="20790" y="3985"/>
                </a:lnTo>
                <a:lnTo>
                  <a:pt x="24463" y="7493"/>
                </a:lnTo>
                <a:lnTo>
                  <a:pt x="22626" y="7493"/>
                </a:lnTo>
                <a:lnTo>
                  <a:pt x="22626" y="12828"/>
                </a:lnTo>
                <a:cubicBezTo>
                  <a:pt x="22626" y="15596"/>
                  <a:pt x="20050" y="18155"/>
                  <a:pt x="17282" y="18155"/>
                </a:cubicBezTo>
                <a:lnTo>
                  <a:pt x="15620" y="18155"/>
                </a:lnTo>
                <a:cubicBezTo>
                  <a:pt x="12852" y="18155"/>
                  <a:pt x="10276" y="15596"/>
                  <a:pt x="10276" y="12828"/>
                </a:cubicBezTo>
                <a:close/>
              </a:path>
            </a:pathLst>
          </a:cu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Прямая соединительная линия 6"/>
          <p:cNvSpPr/>
          <p:nvPr/>
        </p:nvSpPr>
        <p:spPr>
          <a:xfrm>
            <a:off x="1714680" y="714240"/>
            <a:ext cx="7272000" cy="0"/>
          </a:xfrm>
          <a:prstGeom prst="line">
            <a:avLst/>
          </a:prstGeom>
          <a:ln w="22320">
            <a:solidFill>
              <a:srgbClr val="d599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428480" y="-14328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72314"/>
                </a:solidFill>
                <a:latin typeface="Century Schoolbook"/>
              </a:rPr>
              <a:t>The Forms of the Infinitive</a:t>
            </a:r>
            <a:endParaRPr b="0" lang="en-US" sz="2400" spc="-1" strike="noStrike">
              <a:solidFill>
                <a:srgbClr val="572314"/>
              </a:solidFill>
              <a:latin typeface="Century Schoolbook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1142640" y="144756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entury Schoolbook"/>
              </a:rPr>
              <a:t>A Perfect Continuous Infinitive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expresses an </a:t>
            </a: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action going on before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the time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 indicated by a finite verb.</a:t>
            </a:r>
            <a:r>
              <a:rPr b="1" lang="en-US" sz="3200" spc="-1" strike="noStrike">
                <a:solidFill>
                  <a:srgbClr val="c00000"/>
                </a:solidFill>
                <a:latin typeface="Century Schoolboo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Century Schoolbook"/>
              </a:rPr>
              <a:t>e.g.  </a:t>
            </a:r>
            <a:r>
              <a:rPr b="0" i="1" lang="en-US" sz="3200" spc="-1" strike="noStrike">
                <a:solidFill>
                  <a:srgbClr val="000000"/>
                </a:solidFill>
                <a:latin typeface="Century Schoolbook"/>
              </a:rPr>
              <a:t>He seems </a:t>
            </a:r>
            <a:r>
              <a:rPr b="1" i="1" lang="en-US" sz="3200" spc="-1" strike="noStrike">
                <a:solidFill>
                  <a:srgbClr val="c00000"/>
                </a:solidFill>
                <a:latin typeface="Century Schoolbook"/>
              </a:rPr>
              <a:t>to have been sitting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00000"/>
                </a:solidFill>
                <a:latin typeface="Century Schoolbook"/>
              </a:rPr>
              <a:t>        </a:t>
            </a:r>
            <a:r>
              <a:rPr b="0" i="1" lang="en-US" sz="3200" spc="-1" strike="noStrike">
                <a:solidFill>
                  <a:srgbClr val="000000"/>
                </a:solidFill>
                <a:latin typeface="Century Schoolbook"/>
              </a:rPr>
              <a:t>there all day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3" name="Управляющая кнопка: возврат 4"/>
          <p:cNvSpPr/>
          <p:nvPr/>
        </p:nvSpPr>
        <p:spPr>
          <a:xfrm>
            <a:off x="8358120" y="6215040"/>
            <a:ext cx="500040" cy="357120"/>
          </a:xfrm>
          <a:custGeom>
            <a:avLst/>
            <a:gdLst>
              <a:gd name="textAreaLeft" fmla="*/ 23040 w 500040"/>
              <a:gd name="textAreaRight" fmla="*/ 477000 w 50004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30236" h="21600">
                <a:moveTo>
                  <a:pt x="0" y="0"/>
                </a:moveTo>
                <a:lnTo>
                  <a:pt x="30236" y="0"/>
                </a:lnTo>
                <a:lnTo>
                  <a:pt x="30236" y="21600"/>
                </a:lnTo>
                <a:lnTo>
                  <a:pt x="0" y="21600"/>
                </a:lnTo>
                <a:close/>
              </a:path>
              <a:path fill="lightenLess" w="30236" h="21600">
                <a:moveTo>
                  <a:pt x="0" y="0"/>
                </a:moveTo>
                <a:lnTo>
                  <a:pt x="30236" y="0"/>
                </a:lnTo>
                <a:lnTo>
                  <a:pt x="28836" y="1400"/>
                </a:lnTo>
                <a:lnTo>
                  <a:pt x="1400" y="1400"/>
                </a:lnTo>
                <a:close/>
              </a:path>
              <a:path fill="darken" w="30236" h="21600">
                <a:moveTo>
                  <a:pt x="30236" y="0"/>
                </a:moveTo>
                <a:lnTo>
                  <a:pt x="30236" y="21600"/>
                </a:lnTo>
                <a:lnTo>
                  <a:pt x="28836" y="20200"/>
                </a:lnTo>
                <a:lnTo>
                  <a:pt x="28836" y="1400"/>
                </a:lnTo>
                <a:close/>
              </a:path>
              <a:path fill="darkenLess" w="30236" h="21600">
                <a:moveTo>
                  <a:pt x="302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36" y="20200"/>
                </a:lnTo>
                <a:close/>
              </a:path>
              <a:path fill="lighten" w="302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36" h="21600">
                <a:moveTo>
                  <a:pt x="8111" y="7493"/>
                </a:moveTo>
                <a:lnTo>
                  <a:pt x="11619" y="7493"/>
                </a:lnTo>
                <a:lnTo>
                  <a:pt x="11619" y="12828"/>
                </a:lnTo>
                <a:cubicBezTo>
                  <a:pt x="11619" y="13751"/>
                  <a:pt x="12420" y="14482"/>
                  <a:pt x="13455" y="14482"/>
                </a:cubicBezTo>
                <a:lnTo>
                  <a:pt x="15118" y="14482"/>
                </a:lnTo>
                <a:cubicBezTo>
                  <a:pt x="16154" y="14482"/>
                  <a:pt x="16954" y="13751"/>
                  <a:pt x="16954" y="12828"/>
                </a:cubicBezTo>
                <a:lnTo>
                  <a:pt x="16954" y="7493"/>
                </a:lnTo>
                <a:lnTo>
                  <a:pt x="15118" y="7493"/>
                </a:lnTo>
                <a:lnTo>
                  <a:pt x="18625" y="3985"/>
                </a:lnTo>
                <a:lnTo>
                  <a:pt x="22298" y="7493"/>
                </a:lnTo>
                <a:lnTo>
                  <a:pt x="20462" y="7493"/>
                </a:lnTo>
                <a:lnTo>
                  <a:pt x="20462" y="12828"/>
                </a:lnTo>
                <a:cubicBezTo>
                  <a:pt x="20462" y="15596"/>
                  <a:pt x="17886" y="18155"/>
                  <a:pt x="15118" y="18155"/>
                </a:cubicBezTo>
                <a:lnTo>
                  <a:pt x="13455" y="18155"/>
                </a:lnTo>
                <a:cubicBezTo>
                  <a:pt x="10688" y="18155"/>
                  <a:pt x="8111" y="15596"/>
                  <a:pt x="8111" y="12828"/>
                </a:cubicBezTo>
                <a:close/>
              </a:path>
            </a:pathLst>
          </a:cu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Прямая соединительная линия 5"/>
          <p:cNvSpPr/>
          <p:nvPr/>
        </p:nvSpPr>
        <p:spPr>
          <a:xfrm>
            <a:off x="1714680" y="714240"/>
            <a:ext cx="7272000" cy="0"/>
          </a:xfrm>
          <a:prstGeom prst="line">
            <a:avLst/>
          </a:prstGeom>
          <a:ln w="22320">
            <a:solidFill>
              <a:srgbClr val="d599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5" name=""/>
          <p:cNvGraphicFramePr/>
          <p:nvPr/>
        </p:nvGraphicFramePr>
        <p:xfrm>
          <a:off x="0" y="500040"/>
          <a:ext cx="9144000" cy="6357960"/>
        </p:xfrm>
        <a:graphic>
          <a:graphicData uri="http://schemas.openxmlformats.org/drawingml/2006/table">
            <a:tbl>
              <a:tblPr/>
              <a:tblGrid>
                <a:gridCol w="1571760"/>
                <a:gridCol w="3786120"/>
                <a:gridCol w="378612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Century Schoolbook"/>
                        </a:rPr>
                        <a:t>The Syntactic Fun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100000">
                          <a:srgbClr val="fee7f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The Infinitiv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100000">
                          <a:srgbClr val="fee7f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The Gerun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100000">
                          <a:srgbClr val="fee7f2"/>
                        </a:gs>
                      </a:gsLst>
                      <a:lin ang="5400000"/>
                    </a:gradFill>
                  </a:tcPr>
                </a:tc>
              </a:tr>
              <a:tr h="26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00000"/>
                          </a:solidFill>
                          <a:latin typeface="Century Schoolbook"/>
                        </a:rPr>
                        <a:t>Subje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100000">
                          <a:srgbClr val="fee7f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It denotes an ac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following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that of the predicate verb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e.g. </a:t>
                      </a: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To win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the world's greatest cycling event became the ambition of his life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100000">
                          <a:srgbClr val="fee7f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It expresses  an action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simultaneous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with that of the predicate verb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e.g.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Writing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letters is a waste of time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100000">
                          <a:srgbClr val="fee7f2"/>
                        </a:gs>
                      </a:gsLst>
                      <a:lin ang="5400000"/>
                    </a:gradFill>
                  </a:tcPr>
                </a:tc>
              </a:tr>
              <a:tr h="2784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Century Schoolbook"/>
                        </a:rPr>
                        <a:t>Predicati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100000">
                          <a:srgbClr val="fee7f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It is used only after the link-verb </a:t>
                      </a: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to be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It is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in common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use in English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e.g.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The job of a reporter </a:t>
                      </a:r>
                      <a:r>
                        <a:rPr b="0" i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Century Schoolbook"/>
                        </a:rPr>
                        <a:t>is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to expose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and</a:t>
                      </a: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to recor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100000">
                          <a:srgbClr val="fee7f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It is found after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other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link-verbs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, particularly </a:t>
                      </a: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to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mean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e.g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. That would </a:t>
                      </a:r>
                      <a:r>
                        <a:rPr b="0" i="1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Century Schoolbook"/>
                        </a:rPr>
                        <a:t>mean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telling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him everything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100000">
                          <a:srgbClr val="fee7f2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645920" y="-35748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72314"/>
                </a:solidFill>
                <a:latin typeface="Century Schoolbook"/>
              </a:rPr>
              <a:t>The syntactic Functions</a:t>
            </a:r>
            <a:endParaRPr b="0" lang="en-US" sz="2800" spc="-1" strike="noStrike">
              <a:solidFill>
                <a:srgbClr val="572314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644480" y="-35748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72314"/>
                </a:solidFill>
                <a:latin typeface="Century Schoolbook"/>
              </a:rPr>
              <a:t>The syntactic Functions</a:t>
            </a:r>
            <a:endParaRPr b="0" lang="en-US" sz="2800" spc="-1" strike="noStrike">
              <a:solidFill>
                <a:srgbClr val="572314"/>
              </a:solidFill>
              <a:latin typeface="Century Schoolbook"/>
            </a:endParaRPr>
          </a:p>
        </p:txBody>
      </p:sp>
      <p:graphicFrame>
        <p:nvGraphicFramePr>
          <p:cNvPr id="388" name=""/>
          <p:cNvGraphicFramePr/>
          <p:nvPr/>
        </p:nvGraphicFramePr>
        <p:xfrm>
          <a:off x="0" y="426960"/>
          <a:ext cx="9144000" cy="6613560"/>
        </p:xfrm>
        <a:graphic>
          <a:graphicData uri="http://schemas.openxmlformats.org/drawingml/2006/table">
            <a:tbl>
              <a:tblPr/>
              <a:tblGrid>
                <a:gridCol w="1571760"/>
                <a:gridCol w="3929040"/>
                <a:gridCol w="3643200"/>
              </a:tblGrid>
              <a:tr h="914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Century Schoolbook"/>
                        </a:rPr>
                        <a:t>The Syntactic Fun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100000">
                          <a:srgbClr val="fee7f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The Infinitiv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100000">
                          <a:srgbClr val="fee7f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The Gerun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100000">
                          <a:srgbClr val="fee7f2"/>
                        </a:gs>
                      </a:gsLst>
                      <a:lin ang="5400000"/>
                    </a:gradFill>
                  </a:tcPr>
                </a:tc>
              </a:tr>
              <a:tr h="2896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00000"/>
                          </a:solidFill>
                          <a:latin typeface="Century Schoolbook"/>
                        </a:rPr>
                        <a:t>Obje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100000">
                          <a:srgbClr val="fee7f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As an object of a verb, it is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lexically dependen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We usually find the infinitive as an 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Century Schoolbook"/>
                        </a:rPr>
                        <a:t>object of a verb or adjective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in a sentence with </a:t>
                      </a: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it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as a formal subject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e.g.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r>
                        <a:rPr b="0" i="1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Century Schoolbook"/>
                        </a:rPr>
                        <a:t>It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annoyed me </a:t>
                      </a: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to hear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hi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     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tell a li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100000">
                          <a:srgbClr val="fee7f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As an object of a verb, it 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lexically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dependen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The gerund can also be found 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Century Schoolbook"/>
                        </a:rPr>
                        <a:t>as an object of an adjective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a sentence with </a:t>
                      </a: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it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as a formal subject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e.g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. </a:t>
                      </a:r>
                      <a:r>
                        <a:rPr b="0" i="1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Century Schoolbook"/>
                        </a:rPr>
                        <a:t>It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will be great </a:t>
                      </a: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hav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     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them at the party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100000">
                          <a:srgbClr val="fee7f2"/>
                        </a:gs>
                      </a:gsLst>
                      <a:lin ang="5400000"/>
                    </a:gradFill>
                  </a:tcPr>
                </a:tc>
              </a:tr>
              <a:tr h="3109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00000"/>
                          </a:solidFill>
                          <a:latin typeface="Century Schoolbook"/>
                        </a:rPr>
                        <a:t>Attribu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100000">
                          <a:srgbClr val="fee7f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It is placed in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post-position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to their head-noun and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is lexically dependent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It  can qual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a noun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an indefinite pronoun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and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an ordinal numeral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e.g</a:t>
                      </a: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.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He was</a:t>
                      </a: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r>
                        <a:rPr b="0" i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entury Schoolbook"/>
                        </a:rPr>
                        <a:t>the first </a:t>
                      </a: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to recov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himself</a:t>
                      </a: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I had no </a:t>
                      </a: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opportunity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r>
                        <a:rPr b="0" i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entury Schoolbook"/>
                        </a:rPr>
                        <a:t>to spea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to her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100000">
                          <a:srgbClr val="fee7f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It is also placed in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post-position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to their head-noun and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is lexically dependent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The gerund is always preceded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by a preposition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, usually </a:t>
                      </a: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of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e.g</a:t>
                      </a: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.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I had no </a:t>
                      </a: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opportunity of </a:t>
                      </a:r>
                      <a:r>
                        <a:rPr b="0" i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entury Schoolbook"/>
                        </a:rPr>
                        <a:t>doing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so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100000">
                          <a:srgbClr val="fee7f2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sp>
        <p:nvSpPr>
          <p:cNvPr id="389" name="Управляющая кнопка: возврат 4"/>
          <p:cNvSpPr/>
          <p:nvPr/>
        </p:nvSpPr>
        <p:spPr>
          <a:xfrm>
            <a:off x="8429760" y="6572160"/>
            <a:ext cx="428400" cy="285840"/>
          </a:xfrm>
          <a:custGeom>
            <a:avLst/>
            <a:gdLst>
              <a:gd name="textAreaLeft" fmla="*/ 18360 w 428400"/>
              <a:gd name="textAreaRight" fmla="*/ 410040 w 42840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32359" h="21600">
                <a:moveTo>
                  <a:pt x="0" y="0"/>
                </a:moveTo>
                <a:lnTo>
                  <a:pt x="32359" y="0"/>
                </a:lnTo>
                <a:lnTo>
                  <a:pt x="32359" y="21600"/>
                </a:lnTo>
                <a:lnTo>
                  <a:pt x="0" y="21600"/>
                </a:lnTo>
                <a:close/>
              </a:path>
              <a:path fill="lightenLess" w="32359" h="21600">
                <a:moveTo>
                  <a:pt x="0" y="0"/>
                </a:moveTo>
                <a:lnTo>
                  <a:pt x="32359" y="0"/>
                </a:lnTo>
                <a:lnTo>
                  <a:pt x="30959" y="1400"/>
                </a:lnTo>
                <a:lnTo>
                  <a:pt x="1400" y="1400"/>
                </a:lnTo>
                <a:close/>
              </a:path>
              <a:path fill="darken" w="32359" h="21600">
                <a:moveTo>
                  <a:pt x="32359" y="0"/>
                </a:moveTo>
                <a:lnTo>
                  <a:pt x="32359" y="21600"/>
                </a:lnTo>
                <a:lnTo>
                  <a:pt x="30959" y="20200"/>
                </a:lnTo>
                <a:lnTo>
                  <a:pt x="30959" y="1400"/>
                </a:lnTo>
                <a:close/>
              </a:path>
              <a:path fill="darkenLess" w="32359" h="21600">
                <a:moveTo>
                  <a:pt x="323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59" y="20200"/>
                </a:lnTo>
                <a:close/>
              </a:path>
              <a:path fill="lighten" w="323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59" h="21600">
                <a:moveTo>
                  <a:pt x="9173" y="7493"/>
                </a:moveTo>
                <a:lnTo>
                  <a:pt x="12681" y="7493"/>
                </a:lnTo>
                <a:lnTo>
                  <a:pt x="12681" y="12828"/>
                </a:lnTo>
                <a:cubicBezTo>
                  <a:pt x="12681" y="13751"/>
                  <a:pt x="13481" y="14482"/>
                  <a:pt x="14517" y="14482"/>
                </a:cubicBezTo>
                <a:lnTo>
                  <a:pt x="16180" y="14482"/>
                </a:lnTo>
                <a:cubicBezTo>
                  <a:pt x="17215" y="14482"/>
                  <a:pt x="18016" y="13751"/>
                  <a:pt x="18016" y="12828"/>
                </a:cubicBezTo>
                <a:lnTo>
                  <a:pt x="18016" y="7493"/>
                </a:lnTo>
                <a:lnTo>
                  <a:pt x="16180" y="7493"/>
                </a:lnTo>
                <a:lnTo>
                  <a:pt x="19687" y="3985"/>
                </a:lnTo>
                <a:lnTo>
                  <a:pt x="23360" y="7493"/>
                </a:lnTo>
                <a:lnTo>
                  <a:pt x="21524" y="7493"/>
                </a:lnTo>
                <a:lnTo>
                  <a:pt x="21524" y="12828"/>
                </a:lnTo>
                <a:cubicBezTo>
                  <a:pt x="21524" y="15596"/>
                  <a:pt x="18947" y="18155"/>
                  <a:pt x="16180" y="18155"/>
                </a:cubicBezTo>
                <a:lnTo>
                  <a:pt x="14517" y="18155"/>
                </a:lnTo>
                <a:cubicBezTo>
                  <a:pt x="11749" y="18155"/>
                  <a:pt x="9173" y="15596"/>
                  <a:pt x="9173" y="12828"/>
                </a:cubicBezTo>
                <a:close/>
              </a:path>
            </a:pathLst>
          </a:cu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143000" y="-14328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72314"/>
                </a:solidFill>
                <a:latin typeface="Century Schoolbook"/>
              </a:rPr>
              <a:t>Verbs taking gerund or infinitive with a change in meaning</a:t>
            </a:r>
            <a:endParaRPr b="0" lang="en-US" sz="2400" spc="-1" strike="noStrike">
              <a:solidFill>
                <a:srgbClr val="572314"/>
              </a:solidFill>
              <a:latin typeface="Century Schoolbook"/>
            </a:endParaRPr>
          </a:p>
        </p:txBody>
      </p:sp>
      <p:graphicFrame>
        <p:nvGraphicFramePr>
          <p:cNvPr id="391" name=""/>
          <p:cNvGraphicFramePr/>
          <p:nvPr/>
        </p:nvGraphicFramePr>
        <p:xfrm>
          <a:off x="0" y="857160"/>
          <a:ext cx="9144000" cy="6131160"/>
        </p:xfrm>
        <a:graphic>
          <a:graphicData uri="http://schemas.openxmlformats.org/drawingml/2006/table">
            <a:tbl>
              <a:tblPr/>
              <a:tblGrid>
                <a:gridCol w="2714760"/>
                <a:gridCol w="3286080"/>
                <a:gridCol w="3143160"/>
              </a:tblGrid>
              <a:tr h="6429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c00000"/>
                          </a:solidFill>
                          <a:latin typeface="Century Schoolbook"/>
                        </a:rPr>
                        <a:t>Verb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100000">
                          <a:srgbClr val="fee7f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The Infiniti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100000">
                          <a:srgbClr val="fee7f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The Geru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100000">
                          <a:srgbClr val="fee7f2"/>
                        </a:gs>
                      </a:gsLst>
                      <a:lin ang="5400000"/>
                    </a:gradFill>
                  </a:tcPr>
                </a:tc>
              </a:tr>
              <a:tr h="14637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00000"/>
                          </a:solidFill>
                          <a:latin typeface="Century Schoolbook"/>
                        </a:rPr>
                        <a:t>Rememb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100000">
                          <a:srgbClr val="fee7f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“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to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do something you are planning to do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”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e.g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.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I’m glad I </a:t>
                      </a:r>
                      <a:r>
                        <a:rPr b="1" i="1" lang="en-US" sz="1800" spc="-1" strike="noStrike">
                          <a:solidFill>
                            <a:srgbClr val="c00000"/>
                          </a:solidFill>
                          <a:latin typeface="Century Schoolbook"/>
                        </a:rPr>
                        <a:t>remember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r>
                        <a:rPr b="0" i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entury Schoolbook"/>
                        </a:rPr>
                        <a:t>to do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my homework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100000">
                          <a:srgbClr val="fee7f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“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to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think of a past even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”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e.g.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I </a:t>
                      </a:r>
                      <a:r>
                        <a:rPr b="1" i="1" lang="en-US" sz="1800" spc="-1" strike="noStrike">
                          <a:solidFill>
                            <a:srgbClr val="c00000"/>
                          </a:solidFill>
                          <a:latin typeface="Century Schoolbook"/>
                        </a:rPr>
                        <a:t>remember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teachers </a:t>
                      </a:r>
                      <a:r>
                        <a:rPr b="0" i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entury Schoolbook"/>
                        </a:rPr>
                        <a:t>hitting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children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100000">
                          <a:srgbClr val="fee7f2"/>
                        </a:gs>
                      </a:gsLst>
                      <a:lin ang="5400000"/>
                    </a:gradFill>
                  </a:tcPr>
                </a:tc>
              </a:tr>
              <a:tr h="20127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00000"/>
                          </a:solidFill>
                          <a:latin typeface="Century Schoolbook"/>
                        </a:rPr>
                        <a:t>Forget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100000">
                          <a:srgbClr val="fee7f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“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Something slips your memory and the action doesn’t take plac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”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e.g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.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I totally </a:t>
                      </a:r>
                      <a:r>
                        <a:rPr b="1" i="1" lang="en-US" sz="1800" spc="-1" strike="noStrike">
                          <a:solidFill>
                            <a:srgbClr val="c00000"/>
                          </a:solidFill>
                          <a:latin typeface="Century Schoolbook"/>
                        </a:rPr>
                        <a:t>forgot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r>
                        <a:rPr b="0" i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entury Schoolbook"/>
                        </a:rPr>
                        <a:t>to turn off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the cooker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100000">
                          <a:srgbClr val="fee7f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“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not to be able to remember a past even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”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e.g.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I’ll never </a:t>
                      </a:r>
                      <a:r>
                        <a:rPr b="1" i="1" lang="en-US" sz="1800" spc="-1" strike="noStrike">
                          <a:solidFill>
                            <a:srgbClr val="c00000"/>
                          </a:solidFill>
                          <a:latin typeface="Century Schoolbook"/>
                        </a:rPr>
                        <a:t>forget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r>
                        <a:rPr b="0" i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entury Schoolbook"/>
                        </a:rPr>
                        <a:t>taking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my driving test for the first tim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100000">
                          <a:srgbClr val="fee7f2"/>
                        </a:gs>
                      </a:gsLst>
                      <a:lin ang="5400000"/>
                    </a:gradFill>
                  </a:tcPr>
                </a:tc>
              </a:tr>
              <a:tr h="20116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c00000"/>
                          </a:solidFill>
                          <a:latin typeface="Century Schoolbook"/>
                        </a:rPr>
                        <a:t>Regret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100000">
                          <a:srgbClr val="fee7f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“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to be sorry about giving someone bad news”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e.g.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We </a:t>
                      </a: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Century Schoolbook"/>
                        </a:rPr>
                        <a:t>regre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entury Schoolbook"/>
                        </a:rPr>
                        <a:t>to inform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you that your application had been rejected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100000">
                          <a:srgbClr val="fee7f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“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to be sorry about what has happened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”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e.g.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I </a:t>
                      </a: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Century Schoolbook"/>
                        </a:rPr>
                        <a:t>regre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entury Schoolbook"/>
                        </a:rPr>
                        <a:t>leaving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school with no qualifications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100000">
                          <a:srgbClr val="fee7f2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1434960" y="1447560"/>
            <a:ext cx="7499520" cy="4800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93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2500200"/>
                <a:gridCol w="3595680"/>
                <a:gridCol w="3048120"/>
              </a:tblGrid>
              <a:tr h="654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c00000"/>
                          </a:solidFill>
                          <a:latin typeface="Century Schoolbook"/>
                        </a:rPr>
                        <a:t>Verb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100000">
                          <a:srgbClr val="fee7f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2060"/>
                          </a:solidFill>
                          <a:latin typeface="Century Schoolbook"/>
                        </a:rPr>
                        <a:t>The Infinitiv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100000">
                          <a:srgbClr val="fee7f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2060"/>
                          </a:solidFill>
                          <a:latin typeface="Century Schoolbook"/>
                        </a:rPr>
                        <a:t>The Gerun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100000">
                          <a:srgbClr val="fee7f2"/>
                        </a:gs>
                      </a:gsLst>
                      <a:lin ang="5400000"/>
                    </a:gradFill>
                  </a:tcPr>
                </a:tc>
              </a:tr>
              <a:tr h="196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c00000"/>
                          </a:solidFill>
                          <a:latin typeface="Century Schoolbook"/>
                        </a:rPr>
                        <a:t>try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100000">
                          <a:srgbClr val="fee7f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“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to make an effor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”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e.g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. I’m really going </a:t>
                      </a: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Century Schoolbook"/>
                        </a:rPr>
                        <a:t>to try </a:t>
                      </a: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entury Schoolbook"/>
                        </a:rPr>
                        <a:t>to pass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these exam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100000">
                          <a:srgbClr val="fee7f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“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to tes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”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e.g.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If you don’t know what that word means, </a:t>
                      </a: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Century Schoolbook"/>
                        </a:rPr>
                        <a:t>tr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entury Schoolbook"/>
                        </a:rPr>
                        <a:t>looking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it up in a dictionary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100000">
                          <a:srgbClr val="fee7f2"/>
                        </a:gs>
                      </a:gsLst>
                      <a:lin ang="5400000"/>
                    </a:gradFill>
                  </a:tcPr>
                </a:tc>
              </a:tr>
              <a:tr h="196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c00000"/>
                          </a:solidFill>
                          <a:latin typeface="Century Schoolbook"/>
                        </a:rPr>
                        <a:t>stop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100000">
                          <a:srgbClr val="fee7f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“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to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interrupt an action to do something els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”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e.g.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I was busy writing an essay, but I had </a:t>
                      </a: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Century Schoolbook"/>
                        </a:rPr>
                        <a:t>to stop </a:t>
                      </a: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entury Schoolbook"/>
                        </a:rPr>
                        <a:t>to answer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the phon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100000">
                          <a:srgbClr val="fee7f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“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to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stop an action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”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e.g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. Pleas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,</a:t>
                      </a: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Century Schoolbook"/>
                        </a:rPr>
                        <a:t> stop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talking!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100000">
                          <a:srgbClr val="fee7f2"/>
                        </a:gs>
                      </a:gsLst>
                      <a:lin ang="5400000"/>
                    </a:gradFill>
                  </a:tcPr>
                </a:tc>
              </a:tr>
              <a:tr h="22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c00000"/>
                          </a:solidFill>
                          <a:latin typeface="Century Schoolbook"/>
                        </a:rPr>
                        <a:t>go on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100000">
                          <a:srgbClr val="fee7f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“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to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stop one action and start another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”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e.g.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He </a:t>
                      </a: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Century Schoolbook"/>
                        </a:rPr>
                        <a:t>went on </a:t>
                      </a: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entury Schoolbook"/>
                        </a:rPr>
                        <a:t>to say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that he was a man one could trust completely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100000">
                          <a:srgbClr val="fee7f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“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to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continu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e.g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. The kids </a:t>
                      </a: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Century Schoolbook"/>
                        </a:rPr>
                        <a:t>went on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l</a:t>
                      </a: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entury Schoolbook"/>
                        </a:rPr>
                        <a:t>aughing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even after the teacher had told them to stop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100000">
                          <a:srgbClr val="fee7f2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356840" y="-14328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572314"/>
                </a:solidFill>
                <a:latin typeface="Century Schoolbook"/>
              </a:rPr>
              <a:t>The Infinitive and Gerund</a:t>
            </a:r>
            <a:endParaRPr b="0" lang="en-US" sz="3200" spc="-1" strike="noStrike">
              <a:solidFill>
                <a:srgbClr val="572314"/>
              </a:solidFill>
              <a:latin typeface="Century Schoolbook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213840" y="928440"/>
            <a:ext cx="864396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71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c00000"/>
                </a:solidFill>
                <a:latin typeface="Gill Sans MT Condensed"/>
                <a:ea typeface="Arial"/>
              </a:rPr>
              <a:t>1.</a:t>
            </a:r>
            <a:r>
              <a:rPr b="0" lang="en-US" sz="3700" spc="-1" strike="noStrike">
                <a:solidFill>
                  <a:srgbClr val="002060"/>
                </a:solidFill>
                <a:latin typeface="Gill Sans MT Condensed"/>
                <a:ea typeface="Arial"/>
              </a:rPr>
              <a:t>   </a:t>
            </a:r>
            <a:r>
              <a:rPr b="0" lang="en-US" sz="3000" spc="-1" strike="noStrike" u="sng">
                <a:solidFill>
                  <a:srgbClr val="002060"/>
                </a:solidFill>
                <a:uFillTx/>
                <a:latin typeface="Gill Sans MT Condensed"/>
                <a:ea typeface="Arial"/>
                <a:hlinkClick r:id="rId1" action="ppaction://hlinksldjump"/>
              </a:rPr>
              <a:t>The definition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350280" indent="-271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00000"/>
                </a:solidFill>
                <a:latin typeface="Century Schoolbook"/>
                <a:ea typeface="Arial"/>
              </a:rPr>
              <a:t>2.</a:t>
            </a:r>
            <a:r>
              <a:rPr b="0" lang="en-US" sz="3000" spc="-1" strike="noStrike">
                <a:solidFill>
                  <a:srgbClr val="002060"/>
                </a:solidFill>
                <a:latin typeface="Century Schoolbook"/>
                <a:ea typeface="Arial"/>
              </a:rPr>
              <a:t>    </a:t>
            </a:r>
            <a:r>
              <a:rPr b="0" lang="en-US" sz="3000" spc="-1" strike="noStrike" u="sng">
                <a:solidFill>
                  <a:srgbClr val="002060"/>
                </a:solidFill>
                <a:uFillTx/>
                <a:latin typeface="Century Schoolbook"/>
                <a:ea typeface="Arial"/>
                <a:hlinkClick r:id="rId2" action="ppaction://hlinksldjump"/>
              </a:rPr>
              <a:t>The Forms  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350280" indent="-271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00000"/>
                </a:solidFill>
                <a:latin typeface="Century Schoolbook"/>
                <a:ea typeface="Arial"/>
              </a:rPr>
              <a:t>4.</a:t>
            </a:r>
            <a:r>
              <a:rPr b="0" lang="en-US" sz="3000" spc="-1" strike="noStrike">
                <a:solidFill>
                  <a:srgbClr val="002060"/>
                </a:solidFill>
                <a:latin typeface="Century Schoolbook"/>
                <a:ea typeface="Arial"/>
              </a:rPr>
              <a:t>    </a:t>
            </a:r>
            <a:r>
              <a:rPr b="0" lang="en-US" sz="3000" spc="-1" strike="noStrike" u="sng">
                <a:solidFill>
                  <a:srgbClr val="002060"/>
                </a:solidFill>
                <a:uFillTx/>
                <a:latin typeface="Century Schoolbook"/>
                <a:ea typeface="Arial"/>
                <a:hlinkClick r:id="rId3" action="ppaction://hlinksldjump"/>
              </a:rPr>
              <a:t>The Syntactic Functions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350280" indent="-271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00000"/>
                </a:solidFill>
                <a:latin typeface="Century Schoolbook"/>
                <a:ea typeface="Arial"/>
              </a:rPr>
              <a:t>5.    </a:t>
            </a:r>
            <a:r>
              <a:rPr b="1" lang="en-US" sz="3000" spc="-1" strike="noStrike" u="sng">
                <a:solidFill>
                  <a:srgbClr val="002060"/>
                </a:solidFill>
                <a:uFillTx/>
                <a:latin typeface="Century Schoolbook"/>
                <a:ea typeface="Arial"/>
                <a:hlinkClick r:id="rId4" action="ppaction://hlinksldjump"/>
              </a:rPr>
              <a:t>Verbs taking the gerund or the infinitive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350280" indent="-271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2060"/>
                </a:solidFill>
                <a:latin typeface="Century Schoolbook"/>
                <a:ea typeface="Arial"/>
              </a:rPr>
              <a:t>        </a:t>
            </a:r>
            <a:r>
              <a:rPr b="0" lang="en-US" sz="3000" spc="-1" strike="noStrike">
                <a:solidFill>
                  <a:srgbClr val="002060"/>
                </a:solidFill>
                <a:latin typeface="Century Schoolbook"/>
                <a:ea typeface="Arial"/>
              </a:rPr>
              <a:t>with a change in meaning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350280" indent="-271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00000"/>
                </a:solidFill>
                <a:latin typeface="Century Schoolbook"/>
                <a:ea typeface="Arial"/>
              </a:rPr>
              <a:t>7</a:t>
            </a:r>
            <a:r>
              <a:rPr b="0" lang="en-US" sz="3000" spc="-1" strike="noStrike">
                <a:solidFill>
                  <a:srgbClr val="002060"/>
                </a:solidFill>
                <a:latin typeface="Century Schoolbook"/>
                <a:ea typeface="Arial"/>
              </a:rPr>
              <a:t>.    </a:t>
            </a:r>
            <a:r>
              <a:rPr b="0" lang="en-US" sz="3000" spc="-1" strike="noStrike" u="sng">
                <a:solidFill>
                  <a:srgbClr val="002060"/>
                </a:solidFill>
                <a:uFillTx/>
                <a:latin typeface="Century Schoolbook"/>
                <a:ea typeface="Arial"/>
                <a:hlinkClick r:id="rId5" action="ppaction://hlinksldjump"/>
              </a:rPr>
              <a:t>The Gerund and Verbal Noun Compared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350280" indent="-271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00000"/>
                </a:solidFill>
                <a:latin typeface="Century Schoolbook"/>
                <a:ea typeface="Arial"/>
              </a:rPr>
              <a:t>6.</a:t>
            </a:r>
            <a:r>
              <a:rPr b="0" lang="en-US" sz="3000" spc="-1" strike="noStrike">
                <a:solidFill>
                  <a:srgbClr val="002060"/>
                </a:solidFill>
                <a:latin typeface="Century Schoolbook"/>
                <a:ea typeface="Arial"/>
              </a:rPr>
              <a:t>    </a:t>
            </a:r>
            <a:r>
              <a:rPr b="0" lang="en-US" sz="3000" spc="-1" strike="noStrike" u="sng">
                <a:solidFill>
                  <a:srgbClr val="002060"/>
                </a:solidFill>
                <a:uFillTx/>
                <a:latin typeface="Century Schoolbook"/>
                <a:ea typeface="Arial"/>
                <a:hlinkClick r:id="rId6" action="ppaction://hlinksldjump"/>
              </a:rPr>
              <a:t>The Infinitive Constructions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350280" indent="-271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Century Schoolbook"/>
            </a:endParaRPr>
          </a:p>
          <a:p>
            <a:pPr marL="350280" indent="-2710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Freestyle Scrip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350280" indent="-271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Прямая соединительная линия 3"/>
          <p:cNvSpPr/>
          <p:nvPr/>
        </p:nvSpPr>
        <p:spPr>
          <a:xfrm>
            <a:off x="1714680" y="857160"/>
            <a:ext cx="7272000" cy="0"/>
          </a:xfrm>
          <a:prstGeom prst="line">
            <a:avLst/>
          </a:prstGeom>
          <a:ln w="22320">
            <a:solidFill>
              <a:srgbClr val="d599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entury Schoolbook"/>
            </a:endParaRPr>
          </a:p>
        </p:txBody>
      </p:sp>
      <p:graphicFrame>
        <p:nvGraphicFramePr>
          <p:cNvPr id="395" name=""/>
          <p:cNvGraphicFramePr/>
          <p:nvPr/>
        </p:nvGraphicFramePr>
        <p:xfrm>
          <a:off x="0" y="0"/>
          <a:ext cx="9144000" cy="6738840"/>
        </p:xfrm>
        <a:graphic>
          <a:graphicData uri="http://schemas.openxmlformats.org/drawingml/2006/table">
            <a:tbl>
              <a:tblPr/>
              <a:tblGrid>
                <a:gridCol w="3048120"/>
                <a:gridCol w="2881080"/>
                <a:gridCol w="3214800"/>
              </a:tblGrid>
              <a:tr h="790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c00000"/>
                          </a:solidFill>
                          <a:latin typeface="Century Schoolbook"/>
                        </a:rPr>
                        <a:t>Verb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100000">
                          <a:srgbClr val="fee7f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2060"/>
                          </a:solidFill>
                          <a:latin typeface="Century Schoolbook"/>
                        </a:rPr>
                        <a:t>The Infinitiv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100000">
                          <a:srgbClr val="fee7f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2060"/>
                          </a:solidFill>
                          <a:latin typeface="Century Schoolbook"/>
                        </a:rPr>
                        <a:t>The Gerun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100000">
                          <a:srgbClr val="fee7f2"/>
                        </a:gs>
                      </a:gsLst>
                      <a:lin ang="5400000"/>
                    </a:gradFill>
                  </a:tcPr>
                </a:tc>
              </a:tr>
              <a:tr h="2352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c00000"/>
                          </a:solidFill>
                          <a:latin typeface="Century Schoolbook"/>
                        </a:rPr>
                        <a:t>lik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100000">
                          <a:srgbClr val="fee7f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“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to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be in the habit of”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“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to think it right to do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”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e.g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.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We </a:t>
                      </a:r>
                      <a:r>
                        <a:rPr b="1" i="1" lang="en-US" sz="1800" spc="-1" strike="noStrike">
                          <a:solidFill>
                            <a:srgbClr val="c00000"/>
                          </a:solidFill>
                          <a:latin typeface="Century Schoolbook"/>
                        </a:rPr>
                        <a:t>like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r>
                        <a:rPr b="0" i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entury Schoolbook"/>
                        </a:rPr>
                        <a:t>to interview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candidates in person before offering them a place on the course.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100000">
                          <a:srgbClr val="fee7f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“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to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enjo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”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e.g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. Do you </a:t>
                      </a: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Century Schoolbook"/>
                        </a:rPr>
                        <a:t>lik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entury Schoolbook"/>
                        </a:rPr>
                        <a:t>learning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foreign languages?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100000">
                          <a:srgbClr val="fee7f2"/>
                        </a:gs>
                      </a:gsLst>
                      <a:lin ang="5400000"/>
                    </a:gradFill>
                  </a:tcPr>
                </a:tc>
              </a:tr>
              <a:tr h="1797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c00000"/>
                          </a:solidFill>
                          <a:latin typeface="Century Schoolbook"/>
                        </a:rPr>
                        <a:t>mean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100000">
                          <a:srgbClr val="fee7f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“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to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intend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”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e.g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.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I </a:t>
                      </a:r>
                      <a:r>
                        <a:rPr b="1" i="1" lang="en-US" sz="1800" spc="-1" strike="noStrike">
                          <a:solidFill>
                            <a:srgbClr val="c00000"/>
                          </a:solidFill>
                          <a:latin typeface="Century Schoolbook"/>
                        </a:rPr>
                        <a:t>didn’t mean </a:t>
                      </a:r>
                      <a:r>
                        <a:rPr b="0" i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entury Schoolbook"/>
                        </a:rPr>
                        <a:t>to cheat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. I just happened to see a book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100000">
                          <a:srgbClr val="fee7f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“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to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involv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”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e.g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.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Being at university often </a:t>
                      </a:r>
                      <a:r>
                        <a:rPr b="1" i="1" lang="en-US" sz="1800" spc="-1" strike="noStrike">
                          <a:solidFill>
                            <a:srgbClr val="c00000"/>
                          </a:solidFill>
                          <a:latin typeface="Century Schoolbook"/>
                        </a:rPr>
                        <a:t>means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r>
                        <a:rPr b="0" i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entury Schoolbook"/>
                        </a:rPr>
                        <a:t>learning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to live on your own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100000">
                          <a:srgbClr val="fee7f2"/>
                        </a:gs>
                      </a:gsLst>
                      <a:lin ang="5400000"/>
                    </a:gradFill>
                  </a:tcPr>
                </a:tc>
              </a:tr>
              <a:tr h="1798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c00000"/>
                          </a:solidFill>
                          <a:latin typeface="Century Schoolbook"/>
                        </a:rPr>
                        <a:t>learn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c00000"/>
                          </a:solidFill>
                          <a:latin typeface="Century Schoolbook"/>
                        </a:rPr>
                        <a:t>teach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100000">
                          <a:srgbClr val="fee7f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“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to learn/teach a skill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”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e.g</a:t>
                      </a: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.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I’d love </a:t>
                      </a: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to learn </a:t>
                      </a:r>
                      <a:r>
                        <a:rPr b="0" i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entury Schoolbook"/>
                        </a:rPr>
                        <a:t>to paint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well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100000">
                          <a:srgbClr val="fee7f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“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to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learn/teach a subjec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”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e.g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. She </a:t>
                      </a:r>
                      <a:r>
                        <a:rPr b="1" i="1" lang="en-US" sz="1800" spc="-1" strike="noStrike">
                          <a:solidFill>
                            <a:srgbClr val="c00000"/>
                          </a:solidFill>
                          <a:latin typeface="Century Schoolbook"/>
                        </a:rPr>
                        <a:t>teaches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r>
                        <a:rPr b="0" i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entury Schoolbook"/>
                        </a:rPr>
                        <a:t>painting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at a local adult educational centr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100000">
                          <a:srgbClr val="fee7f2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entury Schoolbook"/>
            </a:endParaRPr>
          </a:p>
        </p:txBody>
      </p:sp>
      <p:pic>
        <p:nvPicPr>
          <p:cNvPr id="397" name="" descr=""/>
          <p:cNvPicPr/>
          <p:nvPr/>
        </p:nvPicPr>
        <p:blipFill>
          <a:blip r:embed="rId1"/>
          <a:stretch/>
        </p:blipFill>
        <p:spPr>
          <a:xfrm>
            <a:off x="1434960" y="1447560"/>
            <a:ext cx="7499520" cy="4800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98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  <a:gridCol w="3048120"/>
              </a:tblGrid>
              <a:tr h="858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c00000"/>
                          </a:solidFill>
                          <a:latin typeface="Century Schoolbook"/>
                        </a:rPr>
                        <a:t>Verb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100000">
                          <a:srgbClr val="fee7f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2060"/>
                          </a:solidFill>
                          <a:latin typeface="Century Schoolbook"/>
                        </a:rPr>
                        <a:t>The Infinitiv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100000">
                          <a:srgbClr val="fee7f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2060"/>
                          </a:solidFill>
                          <a:latin typeface="Century Schoolbook"/>
                        </a:rPr>
                        <a:t>The Gerun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100000">
                          <a:srgbClr val="fee7f2"/>
                        </a:gs>
                      </a:gsLst>
                      <a:lin ang="5400000"/>
                    </a:gradFill>
                  </a:tcPr>
                </a:tc>
              </a:tr>
              <a:tr h="244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c00000"/>
                          </a:solidFill>
                          <a:latin typeface="Century Schoolbook"/>
                        </a:rPr>
                        <a:t>Consider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c00000"/>
                          </a:solidFill>
                          <a:latin typeface="Century Schoolbook"/>
                        </a:rPr>
                        <a:t>imagin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100000">
                          <a:srgbClr val="fee7f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“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to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believe/think something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”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e.g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. Everyone </a:t>
                      </a: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Century Schoolbook"/>
                        </a:rPr>
                        <a:t>considers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it </a:t>
                      </a: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entury Schoolbook"/>
                        </a:rPr>
                        <a:t>to be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the best grammar book on the market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100000">
                          <a:srgbClr val="fee7f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“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to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think abou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”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e.g.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I’m </a:t>
                      </a: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Century Schoolbook"/>
                        </a:rPr>
                        <a:t>considering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entury Schoolbook"/>
                        </a:rPr>
                        <a:t>going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to evening classe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      </a:t>
                      </a: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Century Schoolbook"/>
                        </a:rPr>
                        <a:t>Imagin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entury Schoolbook"/>
                        </a:rPr>
                        <a:t>being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a graduat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100000">
                          <a:srgbClr val="fee7f2"/>
                        </a:gs>
                      </a:gsLst>
                      <a:lin ang="5400000"/>
                    </a:gradFill>
                  </a:tcPr>
                </a:tc>
              </a:tr>
              <a:tr h="1952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c00000"/>
                          </a:solidFill>
                          <a:latin typeface="Century Schoolbook"/>
                        </a:rPr>
                        <a:t>propos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100000">
                          <a:srgbClr val="fee7f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“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to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intend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”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e.g.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He did not 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entury Schoolbook"/>
                        </a:rPr>
                        <a:t>propos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entury Schoolbook"/>
                        </a:rPr>
                        <a:t>to forgiv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them this tim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100000">
                          <a:srgbClr val="fee7f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“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to put forward for consideration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”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e.g.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What do you </a:t>
                      </a: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Century Schoolbook"/>
                        </a:rPr>
                        <a:t>propose </a:t>
                      </a: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entury Schoolbook"/>
                        </a:rPr>
                        <a:t>doing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100000">
                          <a:srgbClr val="fee7f2"/>
                        </a:gs>
                      </a:gsLst>
                      <a:lin ang="5400000"/>
                    </a:gradFill>
                  </a:tcPr>
                </a:tc>
              </a:tr>
              <a:tr h="160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c00000"/>
                          </a:solidFill>
                          <a:latin typeface="Century Schoolbook"/>
                        </a:rPr>
                        <a:t>need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100000">
                          <a:srgbClr val="fee7f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“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active meaning”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e.g.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She 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entury Schoolbook"/>
                        </a:rPr>
                        <a:t>needs </a:t>
                      </a: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entury Schoolbook"/>
                        </a:rPr>
                        <a:t>to be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very, very careful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100000">
                          <a:srgbClr val="fee7f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“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passive meaning”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e.g.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The piano 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entury Schoolbook"/>
                        </a:rPr>
                        <a:t>nee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       </a:t>
                      </a: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entury Schoolbook"/>
                        </a:rPr>
                        <a:t>tuning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100000">
                          <a:srgbClr val="fee7f2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sp>
        <p:nvSpPr>
          <p:cNvPr id="399" name="Управляющая кнопка: возврат 4"/>
          <p:cNvSpPr/>
          <p:nvPr/>
        </p:nvSpPr>
        <p:spPr>
          <a:xfrm>
            <a:off x="8358120" y="6357960"/>
            <a:ext cx="571680" cy="357120"/>
          </a:xfrm>
          <a:custGeom>
            <a:avLst/>
            <a:gdLst>
              <a:gd name="textAreaLeft" fmla="*/ 23040 w 571680"/>
              <a:gd name="textAreaRight" fmla="*/ 548640 w 57168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34564" h="21600">
                <a:moveTo>
                  <a:pt x="0" y="0"/>
                </a:moveTo>
                <a:lnTo>
                  <a:pt x="34564" y="0"/>
                </a:lnTo>
                <a:lnTo>
                  <a:pt x="34564" y="21600"/>
                </a:lnTo>
                <a:lnTo>
                  <a:pt x="0" y="21600"/>
                </a:lnTo>
                <a:close/>
              </a:path>
              <a:path fill="lightenLess" w="34564" h="21600">
                <a:moveTo>
                  <a:pt x="0" y="0"/>
                </a:moveTo>
                <a:lnTo>
                  <a:pt x="34564" y="0"/>
                </a:lnTo>
                <a:lnTo>
                  <a:pt x="33164" y="1400"/>
                </a:lnTo>
                <a:lnTo>
                  <a:pt x="1400" y="1400"/>
                </a:lnTo>
                <a:close/>
              </a:path>
              <a:path fill="darken" w="34564" h="21600">
                <a:moveTo>
                  <a:pt x="34564" y="0"/>
                </a:moveTo>
                <a:lnTo>
                  <a:pt x="34564" y="21600"/>
                </a:lnTo>
                <a:lnTo>
                  <a:pt x="33164" y="20200"/>
                </a:lnTo>
                <a:lnTo>
                  <a:pt x="33164" y="1400"/>
                </a:lnTo>
                <a:close/>
              </a:path>
              <a:path fill="darkenLess" w="34564" h="21600">
                <a:moveTo>
                  <a:pt x="345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64" y="20200"/>
                </a:lnTo>
                <a:close/>
              </a:path>
              <a:path fill="lighten" w="345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64" h="21600">
                <a:moveTo>
                  <a:pt x="10276" y="7493"/>
                </a:moveTo>
                <a:lnTo>
                  <a:pt x="13783" y="7493"/>
                </a:lnTo>
                <a:lnTo>
                  <a:pt x="13783" y="12828"/>
                </a:lnTo>
                <a:cubicBezTo>
                  <a:pt x="13783" y="13751"/>
                  <a:pt x="14584" y="14482"/>
                  <a:pt x="15620" y="14482"/>
                </a:cubicBezTo>
                <a:lnTo>
                  <a:pt x="17282" y="14482"/>
                </a:lnTo>
                <a:cubicBezTo>
                  <a:pt x="18318" y="14482"/>
                  <a:pt x="19119" y="13751"/>
                  <a:pt x="19119" y="12828"/>
                </a:cubicBezTo>
                <a:lnTo>
                  <a:pt x="19119" y="7493"/>
                </a:lnTo>
                <a:lnTo>
                  <a:pt x="17282" y="7493"/>
                </a:lnTo>
                <a:lnTo>
                  <a:pt x="20790" y="3985"/>
                </a:lnTo>
                <a:lnTo>
                  <a:pt x="24463" y="7493"/>
                </a:lnTo>
                <a:lnTo>
                  <a:pt x="22626" y="7493"/>
                </a:lnTo>
                <a:lnTo>
                  <a:pt x="22626" y="12828"/>
                </a:lnTo>
                <a:cubicBezTo>
                  <a:pt x="22626" y="15596"/>
                  <a:pt x="20050" y="18155"/>
                  <a:pt x="17282" y="18155"/>
                </a:cubicBezTo>
                <a:lnTo>
                  <a:pt x="15620" y="18155"/>
                </a:lnTo>
                <a:cubicBezTo>
                  <a:pt x="12852" y="18155"/>
                  <a:pt x="10276" y="15596"/>
                  <a:pt x="10276" y="12828"/>
                </a:cubicBezTo>
                <a:close/>
              </a:path>
            </a:pathLst>
          </a:cu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928440" y="-21456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572314"/>
                </a:solidFill>
                <a:latin typeface="Century Schoolbook"/>
              </a:rPr>
              <a:t>The Verbs Follows by the Gerund:</a:t>
            </a:r>
            <a:endParaRPr b="0" lang="en-US" sz="2400" spc="-1" strike="noStrike">
              <a:solidFill>
                <a:srgbClr val="572314"/>
              </a:solidFill>
              <a:latin typeface="Century Schoolbook"/>
            </a:endParaRPr>
          </a:p>
        </p:txBody>
      </p:sp>
      <p:graphicFrame>
        <p:nvGraphicFramePr>
          <p:cNvPr id="401" name=""/>
          <p:cNvGraphicFramePr/>
          <p:nvPr/>
        </p:nvGraphicFramePr>
        <p:xfrm>
          <a:off x="1000080" y="642960"/>
          <a:ext cx="8143920" cy="6215040"/>
        </p:xfrm>
        <a:graphic>
          <a:graphicData uri="http://schemas.openxmlformats.org/drawingml/2006/table">
            <a:tbl>
              <a:tblPr/>
              <a:tblGrid>
                <a:gridCol w="2714760"/>
                <a:gridCol w="2714400"/>
                <a:gridCol w="2714760"/>
              </a:tblGrid>
              <a:tr h="1051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to admit                    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to avoid                  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to delay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to deny                      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to endure              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to enjo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to escape                   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to forget                 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to give u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to love                       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to mention               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64305"/>
                      </a:solidFill>
                    </a:lnL>
                    <a:lnR w="5760">
                      <a:solidFill>
                        <a:srgbClr val="964305"/>
                      </a:solidFill>
                    </a:lnR>
                    <a:lnT w="5760">
                      <a:solidFill>
                        <a:srgbClr val="964305"/>
                      </a:solidFill>
                    </a:lnT>
                    <a:lnB w="5760">
                      <a:solidFill>
                        <a:srgbClr val="964305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100000">
                          <a:srgbClr val="fee7f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to neglect                       to postpone                   to put of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to quit                             to recall                         to recollec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to regret                          to res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to go on                      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to intend               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to kee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64305"/>
                      </a:solidFill>
                    </a:lnL>
                    <a:lnR w="5760">
                      <a:solidFill>
                        <a:srgbClr val="964305"/>
                      </a:solidFill>
                    </a:lnR>
                    <a:lnT w="5760">
                      <a:solidFill>
                        <a:srgbClr val="964305"/>
                      </a:solidFill>
                    </a:lnT>
                    <a:lnB w="5760">
                      <a:solidFill>
                        <a:srgbClr val="964305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100000">
                          <a:srgbClr val="fee7f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to resum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to risk                              to appreciate                to be wort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to burst out                     can’t help                      can’t sta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to fancy                           to feel like                     to sugge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to mi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64305"/>
                      </a:solidFill>
                    </a:lnL>
                    <a:lnR w="5760">
                      <a:solidFill>
                        <a:srgbClr val="964305"/>
                      </a:solidFill>
                    </a:lnR>
                    <a:lnT w="5760">
                      <a:solidFill>
                        <a:srgbClr val="964305"/>
                      </a:solidFill>
                    </a:lnT>
                    <a:lnB w="5760">
                      <a:solidFill>
                        <a:srgbClr val="964305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100000">
                          <a:srgbClr val="fee7f2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sp>
        <p:nvSpPr>
          <p:cNvPr id="402" name="TextBox 6"/>
          <p:cNvSpPr/>
          <p:nvPr/>
        </p:nvSpPr>
        <p:spPr>
          <a:xfrm>
            <a:off x="7643880" y="142920"/>
            <a:ext cx="221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Not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928440" y="-28620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572314"/>
                </a:solidFill>
                <a:latin typeface="Century Schoolbook"/>
              </a:rPr>
              <a:t>The Verbs Follows by the Infinitive:</a:t>
            </a:r>
            <a:endParaRPr b="0" lang="en-US" sz="2800" spc="-1" strike="noStrike">
              <a:solidFill>
                <a:srgbClr val="572314"/>
              </a:solidFill>
              <a:latin typeface="Century Schoolbook"/>
            </a:endParaRPr>
          </a:p>
        </p:txBody>
      </p:sp>
      <p:graphicFrame>
        <p:nvGraphicFramePr>
          <p:cNvPr id="404" name=""/>
          <p:cNvGraphicFramePr/>
          <p:nvPr/>
        </p:nvGraphicFramePr>
        <p:xfrm>
          <a:off x="1000080" y="500040"/>
          <a:ext cx="8143920" cy="6564240"/>
        </p:xfrm>
        <a:graphic>
          <a:graphicData uri="http://schemas.openxmlformats.org/drawingml/2006/table">
            <a:tbl>
              <a:tblPr/>
              <a:tblGrid>
                <a:gridCol w="2714760"/>
                <a:gridCol w="2714400"/>
                <a:gridCol w="2714760"/>
              </a:tblGrid>
              <a:tr h="6564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to agre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to arran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to ask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to attemp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to </a:t>
                      </a: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care</a:t>
                      </a: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to choos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to claim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to com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to consent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to decid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to deser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to determin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to expect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64305"/>
                      </a:solidFill>
                    </a:lnL>
                    <a:lnR w="5760">
                      <a:solidFill>
                        <a:srgbClr val="964305"/>
                      </a:solidFill>
                    </a:lnR>
                    <a:lnT w="5760">
                      <a:solidFill>
                        <a:srgbClr val="964305"/>
                      </a:solidFill>
                    </a:lnT>
                    <a:lnB w="12240">
                      <a:solidFill>
                        <a:srgbClr val="964305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100000">
                          <a:srgbClr val="fee7f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to fe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to help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to hesitat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to hop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to intend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to lear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to long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to lov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to manag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to neglect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to offer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to omit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to pl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64305"/>
                      </a:solidFill>
                    </a:lnL>
                    <a:lnR w="5760">
                      <a:solidFill>
                        <a:srgbClr val="964305"/>
                      </a:solidFill>
                    </a:lnR>
                    <a:lnT w="5760">
                      <a:solidFill>
                        <a:srgbClr val="964305"/>
                      </a:solidFill>
                    </a:lnT>
                    <a:lnB w="12240">
                      <a:solidFill>
                        <a:srgbClr val="964305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100000">
                          <a:srgbClr val="fee7f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to swear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to tend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to threate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to want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to wish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to afford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to appear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to be glad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to happe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to see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to promis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to refu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to pretend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64305"/>
                      </a:solidFill>
                    </a:lnL>
                    <a:lnR w="5760">
                      <a:solidFill>
                        <a:srgbClr val="964305"/>
                      </a:solidFill>
                    </a:lnR>
                    <a:lnT w="5760">
                      <a:solidFill>
                        <a:srgbClr val="964305"/>
                      </a:solidFill>
                    </a:lnT>
                    <a:lnB w="12240">
                      <a:solidFill>
                        <a:srgbClr val="964305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100000">
                          <a:srgbClr val="fee7f2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sp>
        <p:nvSpPr>
          <p:cNvPr id="405" name="Прямоугольник 4"/>
          <p:cNvSpPr/>
          <p:nvPr/>
        </p:nvSpPr>
        <p:spPr>
          <a:xfrm>
            <a:off x="7858080" y="0"/>
            <a:ext cx="107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Not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Управляющая кнопка: возврат 5"/>
          <p:cNvSpPr/>
          <p:nvPr/>
        </p:nvSpPr>
        <p:spPr>
          <a:xfrm>
            <a:off x="8215200" y="6286680"/>
            <a:ext cx="500040" cy="285480"/>
          </a:xfrm>
          <a:custGeom>
            <a:avLst/>
            <a:gdLst>
              <a:gd name="textAreaLeft" fmla="*/ 18360 w 500040"/>
              <a:gd name="textAreaRight" fmla="*/ 481680 w 500040"/>
              <a:gd name="textAreaTop" fmla="*/ 18360 h 285480"/>
              <a:gd name="textAreaBottom" fmla="*/ 267120 h 285480"/>
            </a:gdLst>
            <a:ahLst/>
            <a:rect l="textAreaLeft" t="textAreaTop" r="textAreaRight" b="textAreaBottom"/>
            <a:pathLst>
              <a:path w="37814" h="21600">
                <a:moveTo>
                  <a:pt x="0" y="0"/>
                </a:moveTo>
                <a:lnTo>
                  <a:pt x="37814" y="0"/>
                </a:lnTo>
                <a:lnTo>
                  <a:pt x="37814" y="21600"/>
                </a:lnTo>
                <a:lnTo>
                  <a:pt x="0" y="21600"/>
                </a:lnTo>
                <a:close/>
              </a:path>
              <a:path fill="lightenLess" w="37814" h="21600">
                <a:moveTo>
                  <a:pt x="0" y="0"/>
                </a:moveTo>
                <a:lnTo>
                  <a:pt x="37814" y="0"/>
                </a:lnTo>
                <a:lnTo>
                  <a:pt x="36414" y="1400"/>
                </a:lnTo>
                <a:lnTo>
                  <a:pt x="1400" y="1400"/>
                </a:lnTo>
                <a:close/>
              </a:path>
              <a:path fill="darken" w="37814" h="21600">
                <a:moveTo>
                  <a:pt x="37814" y="0"/>
                </a:moveTo>
                <a:lnTo>
                  <a:pt x="37814" y="21600"/>
                </a:lnTo>
                <a:lnTo>
                  <a:pt x="36414" y="20200"/>
                </a:lnTo>
                <a:lnTo>
                  <a:pt x="36414" y="1400"/>
                </a:lnTo>
                <a:close/>
              </a:path>
              <a:path fill="darkenLess" w="37814" h="21600">
                <a:moveTo>
                  <a:pt x="378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414" y="20200"/>
                </a:lnTo>
                <a:close/>
              </a:path>
              <a:path fill="lighten" w="378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814" h="21600">
                <a:moveTo>
                  <a:pt x="11900" y="7493"/>
                </a:moveTo>
                <a:lnTo>
                  <a:pt x="15408" y="7493"/>
                </a:lnTo>
                <a:lnTo>
                  <a:pt x="15408" y="12828"/>
                </a:lnTo>
                <a:cubicBezTo>
                  <a:pt x="15408" y="13751"/>
                  <a:pt x="16209" y="14482"/>
                  <a:pt x="17244" y="14482"/>
                </a:cubicBezTo>
                <a:lnTo>
                  <a:pt x="18907" y="14482"/>
                </a:lnTo>
                <a:cubicBezTo>
                  <a:pt x="19943" y="14482"/>
                  <a:pt x="20743" y="13751"/>
                  <a:pt x="20743" y="12828"/>
                </a:cubicBezTo>
                <a:lnTo>
                  <a:pt x="20743" y="7493"/>
                </a:lnTo>
                <a:lnTo>
                  <a:pt x="18907" y="7493"/>
                </a:lnTo>
                <a:lnTo>
                  <a:pt x="22414" y="3985"/>
                </a:lnTo>
                <a:lnTo>
                  <a:pt x="26087" y="7493"/>
                </a:lnTo>
                <a:lnTo>
                  <a:pt x="24251" y="7493"/>
                </a:lnTo>
                <a:lnTo>
                  <a:pt x="24251" y="12828"/>
                </a:lnTo>
                <a:cubicBezTo>
                  <a:pt x="24251" y="15596"/>
                  <a:pt x="21675" y="18155"/>
                  <a:pt x="18907" y="18155"/>
                </a:cubicBezTo>
                <a:lnTo>
                  <a:pt x="17244" y="18155"/>
                </a:lnTo>
                <a:cubicBezTo>
                  <a:pt x="14477" y="18155"/>
                  <a:pt x="11900" y="15596"/>
                  <a:pt x="11900" y="12828"/>
                </a:cubicBezTo>
                <a:close/>
              </a:path>
            </a:pathLst>
          </a:cu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 txBox="1"/>
          <p:nvPr/>
        </p:nvSpPr>
        <p:spPr>
          <a:xfrm>
            <a:off x="1000080" y="214200"/>
            <a:ext cx="8143920" cy="642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76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ith some other verbs the infinitive and th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57480" indent="-276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gerund seem to be interchangeable. These verbs are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57480" indent="-276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Century Schoolbook"/>
              </a:rPr>
              <a:t>to begin, to cease, to continue, to dread, to hate, t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57480" indent="-276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Century Schoolbook"/>
              </a:rPr>
              <a:t>intend, to like, to love, to neglect, to prefer and to start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57480" indent="-276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However, after 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to begin, to cease and to continu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57480" indent="-276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the infinitive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is commonly found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57480" indent="-276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57480" indent="-276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To start, to like and to hate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are more often followed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57480" indent="-276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by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the gerund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57480" indent="-276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57480" indent="-276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To commence and to set out</a:t>
            </a:r>
            <a:r>
              <a:rPr b="0" i="1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re used with</a:t>
            </a:r>
            <a:r>
              <a:rPr b="0" i="1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57480" indent="-276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infinitive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57480" indent="-276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Yet 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to finish, to keep, to keep on, to leave off, and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57480" indent="-276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to set about</a:t>
            </a:r>
            <a:r>
              <a:rPr b="0" i="1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ake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gerund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57480" indent="-276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8" name="Управляющая кнопка: возврат 3"/>
          <p:cNvSpPr/>
          <p:nvPr/>
        </p:nvSpPr>
        <p:spPr>
          <a:xfrm>
            <a:off x="8215200" y="6286680"/>
            <a:ext cx="500040" cy="285480"/>
          </a:xfrm>
          <a:custGeom>
            <a:avLst/>
            <a:gdLst>
              <a:gd name="textAreaLeft" fmla="*/ 18360 w 500040"/>
              <a:gd name="textAreaRight" fmla="*/ 481680 w 500040"/>
              <a:gd name="textAreaTop" fmla="*/ 18360 h 285480"/>
              <a:gd name="textAreaBottom" fmla="*/ 267120 h 285480"/>
            </a:gdLst>
            <a:ahLst/>
            <a:rect l="textAreaLeft" t="textAreaTop" r="textAreaRight" b="textAreaBottom"/>
            <a:pathLst>
              <a:path w="37814" h="21600">
                <a:moveTo>
                  <a:pt x="0" y="0"/>
                </a:moveTo>
                <a:lnTo>
                  <a:pt x="37814" y="0"/>
                </a:lnTo>
                <a:lnTo>
                  <a:pt x="37814" y="21600"/>
                </a:lnTo>
                <a:lnTo>
                  <a:pt x="0" y="21600"/>
                </a:lnTo>
                <a:close/>
              </a:path>
              <a:path fill="lightenLess" w="37814" h="21600">
                <a:moveTo>
                  <a:pt x="0" y="0"/>
                </a:moveTo>
                <a:lnTo>
                  <a:pt x="37814" y="0"/>
                </a:lnTo>
                <a:lnTo>
                  <a:pt x="36414" y="1400"/>
                </a:lnTo>
                <a:lnTo>
                  <a:pt x="1400" y="1400"/>
                </a:lnTo>
                <a:close/>
              </a:path>
              <a:path fill="darken" w="37814" h="21600">
                <a:moveTo>
                  <a:pt x="37814" y="0"/>
                </a:moveTo>
                <a:lnTo>
                  <a:pt x="37814" y="21600"/>
                </a:lnTo>
                <a:lnTo>
                  <a:pt x="36414" y="20200"/>
                </a:lnTo>
                <a:lnTo>
                  <a:pt x="36414" y="1400"/>
                </a:lnTo>
                <a:close/>
              </a:path>
              <a:path fill="darkenLess" w="37814" h="21600">
                <a:moveTo>
                  <a:pt x="378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414" y="20200"/>
                </a:lnTo>
                <a:close/>
              </a:path>
              <a:path fill="lighten" w="378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814" h="21600">
                <a:moveTo>
                  <a:pt x="11900" y="7493"/>
                </a:moveTo>
                <a:lnTo>
                  <a:pt x="15408" y="7493"/>
                </a:lnTo>
                <a:lnTo>
                  <a:pt x="15408" y="12828"/>
                </a:lnTo>
                <a:cubicBezTo>
                  <a:pt x="15408" y="13751"/>
                  <a:pt x="16209" y="14482"/>
                  <a:pt x="17244" y="14482"/>
                </a:cubicBezTo>
                <a:lnTo>
                  <a:pt x="18907" y="14482"/>
                </a:lnTo>
                <a:cubicBezTo>
                  <a:pt x="19943" y="14482"/>
                  <a:pt x="20743" y="13751"/>
                  <a:pt x="20743" y="12828"/>
                </a:cubicBezTo>
                <a:lnTo>
                  <a:pt x="20743" y="7493"/>
                </a:lnTo>
                <a:lnTo>
                  <a:pt x="18907" y="7493"/>
                </a:lnTo>
                <a:lnTo>
                  <a:pt x="22414" y="3985"/>
                </a:lnTo>
                <a:lnTo>
                  <a:pt x="26087" y="7493"/>
                </a:lnTo>
                <a:lnTo>
                  <a:pt x="24251" y="7493"/>
                </a:lnTo>
                <a:lnTo>
                  <a:pt x="24251" y="12828"/>
                </a:lnTo>
                <a:cubicBezTo>
                  <a:pt x="24251" y="15596"/>
                  <a:pt x="21675" y="18155"/>
                  <a:pt x="18907" y="18155"/>
                </a:cubicBezTo>
                <a:lnTo>
                  <a:pt x="17244" y="18155"/>
                </a:lnTo>
                <a:cubicBezTo>
                  <a:pt x="14477" y="18155"/>
                  <a:pt x="11900" y="15596"/>
                  <a:pt x="11900" y="12828"/>
                </a:cubicBezTo>
                <a:close/>
              </a:path>
            </a:pathLst>
          </a:cu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9" name=""/>
          <p:cNvGraphicFramePr/>
          <p:nvPr/>
        </p:nvGraphicFramePr>
        <p:xfrm>
          <a:off x="0" y="0"/>
          <a:ext cx="9144000" cy="7480440"/>
        </p:xfrm>
        <a:graphic>
          <a:graphicData uri="http://schemas.openxmlformats.org/drawingml/2006/table">
            <a:tbl>
              <a:tblPr/>
              <a:tblGrid>
                <a:gridCol w="1214280"/>
                <a:gridCol w="2428920"/>
                <a:gridCol w="1857600"/>
                <a:gridCol w="142920"/>
                <a:gridCol w="1785960"/>
                <a:gridCol w="1714320"/>
              </a:tblGrid>
              <a:tr h="665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Century Schoolbook"/>
                        </a:rPr>
                        <a:t>Typ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64305"/>
                      </a:solidFill>
                    </a:lnL>
                    <a:lnR w="5760">
                      <a:solidFill>
                        <a:srgbClr val="964305"/>
                      </a:solidFill>
                    </a:lnR>
                    <a:lnT w="5760">
                      <a:solidFill>
                        <a:srgbClr val="964305"/>
                      </a:solidFill>
                    </a:lnT>
                    <a:lnB w="12240">
                      <a:solidFill>
                        <a:srgbClr val="964305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100000">
                          <a:srgbClr val="fee7f2"/>
                        </a:gs>
                      </a:gsLst>
                      <a:lin ang="5400000"/>
                    </a:gradFill>
                  </a:tcPr>
                </a:tc>
                <a:tc gridSpan="3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Century Schoolbook"/>
                        </a:rPr>
                        <a:t>After the verb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64305"/>
                      </a:solidFill>
                    </a:lnL>
                    <a:lnR w="5760">
                      <a:solidFill>
                        <a:srgbClr val="964305"/>
                      </a:solidFill>
                    </a:lnR>
                    <a:lnT w="5760">
                      <a:solidFill>
                        <a:srgbClr val="964305"/>
                      </a:solidFill>
                    </a:lnT>
                    <a:lnB w="12240">
                      <a:solidFill>
                        <a:srgbClr val="964305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100000">
                          <a:srgbClr val="fee7f2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Century Schoolbook"/>
                        </a:rPr>
                        <a:t>Complex  Objec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64305"/>
                      </a:solidFill>
                    </a:lnL>
                    <a:lnR w="5760">
                      <a:solidFill>
                        <a:srgbClr val="964305"/>
                      </a:solidFill>
                    </a:lnR>
                    <a:lnT w="5760">
                      <a:solidFill>
                        <a:srgbClr val="964305"/>
                      </a:solidFill>
                    </a:lnT>
                    <a:lnB w="12240">
                      <a:solidFill>
                        <a:srgbClr val="964305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100000">
                          <a:srgbClr val="fee7f2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34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Century Schoolbook"/>
                        </a:rPr>
                        <a:t>st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64305"/>
                      </a:solidFill>
                    </a:lnL>
                    <a:lnR w="5760">
                      <a:solidFill>
                        <a:srgbClr val="964305"/>
                      </a:solidFill>
                    </a:lnR>
                    <a:lnT w="12240">
                      <a:solidFill>
                        <a:srgbClr val="964305"/>
                      </a:solidFill>
                    </a:lnT>
                    <a:lnB w="5760">
                      <a:solidFill>
                        <a:srgbClr val="964305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100000">
                          <a:srgbClr val="fee7f2"/>
                        </a:gs>
                      </a:gsLst>
                      <a:lin ang="5400000"/>
                    </a:gradFill>
                  </a:tcPr>
                </a:tc>
                <a:tc gridSpan="3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want ,wish, would like, like, hate, desire, expect , know, believe, consider, ge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64305"/>
                      </a:solidFill>
                    </a:lnL>
                    <a:lnR w="5760">
                      <a:solidFill>
                        <a:srgbClr val="964305"/>
                      </a:solidFill>
                    </a:lnR>
                    <a:lnT w="12240">
                      <a:solidFill>
                        <a:srgbClr val="964305"/>
                      </a:solidFill>
                    </a:lnT>
                    <a:lnB w="5760">
                      <a:solidFill>
                        <a:srgbClr val="964305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100000">
                          <a:srgbClr val="fee7f2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somebod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64305"/>
                      </a:solidFill>
                    </a:lnL>
                    <a:lnR w="5760">
                      <a:solidFill>
                        <a:srgbClr val="964305"/>
                      </a:solidFill>
                    </a:lnR>
                    <a:lnT w="12240">
                      <a:solidFill>
                        <a:srgbClr val="964305"/>
                      </a:solidFill>
                    </a:lnT>
                    <a:lnB w="5760">
                      <a:solidFill>
                        <a:srgbClr val="964305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100000">
                          <a:srgbClr val="fee7f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To + 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64305"/>
                      </a:solidFill>
                    </a:lnL>
                    <a:lnR w="5760">
                      <a:solidFill>
                        <a:srgbClr val="964305"/>
                      </a:solidFill>
                    </a:lnR>
                    <a:lnT w="12240">
                      <a:solidFill>
                        <a:srgbClr val="964305"/>
                      </a:solidFill>
                    </a:lnT>
                    <a:lnB w="5760">
                      <a:solidFill>
                        <a:srgbClr val="964305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100000">
                          <a:srgbClr val="fee7f2"/>
                        </a:gs>
                      </a:gsLst>
                      <a:lin ang="5400000"/>
                    </a:gradFill>
                  </a:tcPr>
                </a:tc>
              </a:tr>
              <a:tr h="725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2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Century Schoolbook"/>
                        </a:rPr>
                        <a:t>nd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64305"/>
                      </a:solidFill>
                    </a:lnL>
                    <a:lnR w="5760">
                      <a:solidFill>
                        <a:srgbClr val="964305"/>
                      </a:solidFill>
                    </a:lnR>
                    <a:lnT w="5760">
                      <a:solidFill>
                        <a:srgbClr val="964305"/>
                      </a:solidFill>
                    </a:lnT>
                    <a:lnB w="5760">
                      <a:solidFill>
                        <a:srgbClr val="964305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100000">
                          <a:srgbClr val="fee7f2"/>
                        </a:gs>
                      </a:gsLst>
                      <a:lin ang="5400000"/>
                    </a:gradFill>
                  </a:tcPr>
                </a:tc>
                <a:tc gridSpan="3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l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mak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64305"/>
                      </a:solidFill>
                    </a:lnL>
                    <a:lnR w="5760">
                      <a:solidFill>
                        <a:srgbClr val="964305"/>
                      </a:solidFill>
                    </a:lnR>
                    <a:lnT w="5760">
                      <a:solidFill>
                        <a:srgbClr val="964305"/>
                      </a:solidFill>
                    </a:lnT>
                    <a:lnB w="5760">
                      <a:solidFill>
                        <a:srgbClr val="964305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100000">
                          <a:srgbClr val="fee7f2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somebod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64305"/>
                      </a:solidFill>
                    </a:lnL>
                    <a:lnR w="5760">
                      <a:solidFill>
                        <a:srgbClr val="964305"/>
                      </a:solidFill>
                    </a:lnR>
                    <a:lnT w="5760">
                      <a:solidFill>
                        <a:srgbClr val="964305"/>
                      </a:solidFill>
                    </a:lnT>
                    <a:lnB w="5760">
                      <a:solidFill>
                        <a:srgbClr val="964305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100000">
                          <a:srgbClr val="fee7f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64305"/>
                      </a:solidFill>
                    </a:lnL>
                    <a:lnR w="5760">
                      <a:solidFill>
                        <a:srgbClr val="964305"/>
                      </a:solidFill>
                    </a:lnR>
                    <a:lnT w="5760">
                      <a:solidFill>
                        <a:srgbClr val="964305"/>
                      </a:solidFill>
                    </a:lnT>
                    <a:lnB w="5760">
                      <a:solidFill>
                        <a:srgbClr val="964305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100000">
                          <a:srgbClr val="fee7f2"/>
                        </a:gs>
                      </a:gsLst>
                      <a:lin ang="5400000"/>
                    </a:gradFill>
                  </a:tcPr>
                </a:tc>
              </a:tr>
              <a:tr h="995400"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3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Century Schoolbook"/>
                        </a:rPr>
                        <a:t>rd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64305"/>
                      </a:solidFill>
                    </a:lnL>
                    <a:lnR w="5760">
                      <a:solidFill>
                        <a:srgbClr val="964305"/>
                      </a:solidFill>
                    </a:lnR>
                    <a:lnT w="5760">
                      <a:solidFill>
                        <a:srgbClr val="964305"/>
                      </a:solidFill>
                    </a:lnT>
                    <a:lnB w="5760">
                      <a:solidFill>
                        <a:srgbClr val="964305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100000">
                          <a:srgbClr val="fee7f2"/>
                        </a:gs>
                      </a:gsLst>
                      <a:lin ang="5400000"/>
                    </a:gradFill>
                  </a:tcPr>
                </a:tc>
                <a:tc gridSpan="3" row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se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he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fee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not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Wat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64305"/>
                      </a:solidFill>
                    </a:lnL>
                    <a:lnR w="5760">
                      <a:solidFill>
                        <a:srgbClr val="964305"/>
                      </a:solidFill>
                    </a:lnR>
                    <a:lnT w="5760">
                      <a:solidFill>
                        <a:srgbClr val="964305"/>
                      </a:solidFill>
                    </a:lnT>
                    <a:lnB w="5760">
                      <a:solidFill>
                        <a:srgbClr val="964305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100000">
                          <a:srgbClr val="fee7f2"/>
                        </a:gs>
                      </a:gsLst>
                      <a:lin ang="5400000"/>
                    </a:gra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64305"/>
                      </a:solidFill>
                    </a:lnL>
                    <a:lnR w="5760">
                      <a:solidFill>
                        <a:srgbClr val="964305"/>
                      </a:solidFill>
                    </a:lnR>
                    <a:lnT w="5760">
                      <a:solidFill>
                        <a:srgbClr val="964305"/>
                      </a:solidFill>
                    </a:lnT>
                    <a:lnB w="5760">
                      <a:solidFill>
                        <a:srgbClr val="964305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100000">
                          <a:srgbClr val="fee7f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V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(completed actio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64305"/>
                      </a:solidFill>
                    </a:lnL>
                    <a:lnR w="5760">
                      <a:solidFill>
                        <a:srgbClr val="964305"/>
                      </a:solidFill>
                    </a:lnR>
                    <a:lnT w="5760">
                      <a:solidFill>
                        <a:srgbClr val="964305"/>
                      </a:solidFill>
                    </a:lnT>
                    <a:lnB w="5760">
                      <a:solidFill>
                        <a:srgbClr val="964305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100000">
                          <a:srgbClr val="fee7f2"/>
                        </a:gs>
                      </a:gsLst>
                      <a:lin ang="5400000"/>
                    </a:gradFill>
                  </a:tcPr>
                </a:tc>
              </a:tr>
              <a:tr h="738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V-ing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(action in progres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64305"/>
                      </a:solidFill>
                    </a:lnL>
                    <a:lnR w="5760">
                      <a:solidFill>
                        <a:srgbClr val="964305"/>
                      </a:solidFill>
                    </a:lnR>
                    <a:lnT w="5760">
                      <a:solidFill>
                        <a:srgbClr val="964305"/>
                      </a:solidFill>
                    </a:lnT>
                    <a:lnB w="5760">
                      <a:solidFill>
                        <a:srgbClr val="964305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100000">
                          <a:srgbClr val="fee7f2"/>
                        </a:gs>
                      </a:gsLst>
                      <a:lin ang="5400000"/>
                    </a:gradFill>
                  </a:tcPr>
                </a:tc>
              </a:tr>
              <a:tr h="857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Note!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64305"/>
                      </a:solidFill>
                    </a:lnL>
                    <a:lnR w="5760">
                      <a:solidFill>
                        <a:srgbClr val="964305"/>
                      </a:solidFill>
                    </a:lnR>
                    <a:lnT w="5760">
                      <a:solidFill>
                        <a:srgbClr val="964305"/>
                      </a:solidFill>
                    </a:lnT>
                    <a:lnB w="5760">
                      <a:solidFill>
                        <a:srgbClr val="964305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100000">
                          <a:srgbClr val="fee7f2"/>
                        </a:gs>
                      </a:gsLst>
                      <a:lin ang="5400000"/>
                    </a:gradFill>
                  </a:tcPr>
                </a:tc>
                <a:tc gridSpan="5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After the verbs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hear, see, notice, make, allow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in </a:t>
                      </a:r>
                      <a:r>
                        <a:rPr b="0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Century Schoolbook"/>
                        </a:rPr>
                        <a:t>Passive Voice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we use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to + 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64305"/>
                      </a:solidFill>
                    </a:lnL>
                    <a:lnR w="5760">
                      <a:solidFill>
                        <a:srgbClr val="964305"/>
                      </a:solidFill>
                    </a:lnR>
                    <a:lnT w="5760">
                      <a:solidFill>
                        <a:srgbClr val="964305"/>
                      </a:solidFill>
                    </a:lnT>
                    <a:lnB w="5760">
                      <a:solidFill>
                        <a:srgbClr val="964305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100000">
                          <a:srgbClr val="fee7f2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64680"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I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mad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him 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Century Schoolbook"/>
                        </a:rPr>
                        <a:t>help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me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I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saw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him 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Century Schoolbook"/>
                        </a:rPr>
                        <a:t>cross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the road.  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64305"/>
                      </a:solidFill>
                    </a:lnL>
                    <a:lnR w="5760">
                      <a:solidFill>
                        <a:srgbClr val="964305"/>
                      </a:solidFill>
                    </a:lnR>
                    <a:lnT w="5760">
                      <a:solidFill>
                        <a:srgbClr val="964305"/>
                      </a:solidFill>
                    </a:lnT>
                    <a:lnB w="5760">
                      <a:solidFill>
                        <a:srgbClr val="964305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100000">
                          <a:srgbClr val="fee7f2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but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64305"/>
                      </a:solidFill>
                    </a:lnL>
                    <a:lnR w="5760">
                      <a:solidFill>
                        <a:srgbClr val="964305"/>
                      </a:solidFill>
                    </a:lnR>
                    <a:lnT w="5760">
                      <a:solidFill>
                        <a:srgbClr val="964305"/>
                      </a:solidFill>
                    </a:lnT>
                    <a:lnB w="5760">
                      <a:solidFill>
                        <a:srgbClr val="964305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100000">
                          <a:srgbClr val="fee7f2"/>
                        </a:gs>
                      </a:gsLst>
                      <a:lin ang="5400000"/>
                    </a:gradFill>
                  </a:tcPr>
                </a:tc>
                <a:tc gridSpan="3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He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was made 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Century Schoolbook"/>
                        </a:rPr>
                        <a:t>to help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me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He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was seen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Century Schoolbook"/>
                        </a:rPr>
                        <a:t>to cross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the road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64305"/>
                      </a:solidFill>
                    </a:lnL>
                    <a:lnR w="5760">
                      <a:solidFill>
                        <a:srgbClr val="964305"/>
                      </a:solidFill>
                    </a:lnR>
                    <a:lnT w="5760">
                      <a:solidFill>
                        <a:srgbClr val="964305"/>
                      </a:solidFill>
                    </a:lnT>
                    <a:lnB w="5760">
                      <a:solidFill>
                        <a:srgbClr val="964305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100000">
                          <a:srgbClr val="fee7f2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785880"/>
                <a:gridCol w="4143240"/>
                <a:gridCol w="4214880"/>
              </a:tblGrid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entury Schoolbook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64305"/>
                      </a:solidFill>
                    </a:lnL>
                    <a:lnR w="5760">
                      <a:solidFill>
                        <a:srgbClr val="964305"/>
                      </a:solidFill>
                    </a:lnR>
                    <a:lnT w="5760">
                      <a:solidFill>
                        <a:srgbClr val="964305"/>
                      </a:solidFill>
                    </a:lnT>
                    <a:lnB w="12240">
                      <a:solidFill>
                        <a:srgbClr val="964305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100000">
                          <a:srgbClr val="fee7f2"/>
                        </a:gs>
                      </a:gsLst>
                      <a:lin ang="5400000"/>
                    </a:gra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Century Schoolbook"/>
                        </a:rPr>
                        <a:t>Complex Subjec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64305"/>
                      </a:solidFill>
                    </a:lnL>
                    <a:lnR w="5760">
                      <a:solidFill>
                        <a:srgbClr val="964305"/>
                      </a:solidFill>
                    </a:lnR>
                    <a:lnT w="5760">
                      <a:solidFill>
                        <a:srgbClr val="964305"/>
                      </a:solidFill>
                    </a:lnT>
                    <a:lnB w="12240">
                      <a:solidFill>
                        <a:srgbClr val="964305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100000">
                          <a:srgbClr val="fee7f2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5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Century Schoolbook"/>
                        </a:rPr>
                        <a:t>st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64305"/>
                      </a:solidFill>
                    </a:lnL>
                    <a:lnR w="5760">
                      <a:solidFill>
                        <a:srgbClr val="964305"/>
                      </a:solidFill>
                    </a:lnR>
                    <a:lnT w="12240">
                      <a:solidFill>
                        <a:srgbClr val="964305"/>
                      </a:solidFill>
                    </a:lnT>
                    <a:lnB w="5760">
                      <a:solidFill>
                        <a:srgbClr val="964305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100000">
                          <a:srgbClr val="fee7f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entury Schoolbook"/>
                        </a:rPr>
                        <a:t>H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was said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entury Schoolbook"/>
                        </a:rPr>
                        <a:t>to work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a lo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…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was seen to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…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was heard to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…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supposed to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…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was believed to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…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was expected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…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was reported to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…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was considered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…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was thought to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…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was found to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…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was announced to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…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was known to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64305"/>
                      </a:solidFill>
                    </a:lnL>
                    <a:lnR w="5760">
                      <a:solidFill>
                        <a:srgbClr val="964305"/>
                      </a:solidFill>
                    </a:lnR>
                    <a:lnT w="12240">
                      <a:solidFill>
                        <a:srgbClr val="964305"/>
                      </a:solidFill>
                    </a:lnT>
                    <a:lnB w="5760">
                      <a:solidFill>
                        <a:srgbClr val="964305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100000">
                          <a:srgbClr val="fee7f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Говорили, что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он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много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работает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Видели, что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Слышали, что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Предполагали, что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Полагали, что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Ожидали, что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Сообщали, что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Считали, что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Думали, что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Обнаружили, что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Объявили, что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Было известно, что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64305"/>
                      </a:solidFill>
                    </a:lnL>
                    <a:lnR w="5760">
                      <a:solidFill>
                        <a:srgbClr val="964305"/>
                      </a:solidFill>
                    </a:lnR>
                    <a:lnT w="12240">
                      <a:solidFill>
                        <a:srgbClr val="964305"/>
                      </a:solidFill>
                    </a:lnT>
                    <a:lnB w="5760">
                      <a:solidFill>
                        <a:srgbClr val="964305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100000">
                          <a:srgbClr val="fee7f2"/>
                        </a:gs>
                      </a:gsLst>
                      <a:lin ang="5400000"/>
                    </a:gradFill>
                  </a:tcPr>
                </a:tc>
              </a:tr>
              <a:tr h="217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2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Century Schoolbook"/>
                        </a:rPr>
                        <a:t>nd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64305"/>
                      </a:solidFill>
                    </a:lnL>
                    <a:lnR w="5760">
                      <a:solidFill>
                        <a:srgbClr val="964305"/>
                      </a:solidFill>
                    </a:lnR>
                    <a:lnT w="5760">
                      <a:solidFill>
                        <a:srgbClr val="964305"/>
                      </a:solidFill>
                    </a:lnT>
                    <a:lnB w="5760">
                      <a:solidFill>
                        <a:srgbClr val="964305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100000">
                          <a:srgbClr val="fee7f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He seemed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to know all about it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...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appeared to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…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turned out to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…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proved to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…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happened to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…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chanced to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64305"/>
                      </a:solidFill>
                    </a:lnL>
                    <a:lnR w="5760">
                      <a:solidFill>
                        <a:srgbClr val="964305"/>
                      </a:solidFill>
                    </a:lnR>
                    <a:lnT w="5760">
                      <a:solidFill>
                        <a:srgbClr val="964305"/>
                      </a:solidFill>
                    </a:lnT>
                    <a:lnB w="5760">
                      <a:solidFill>
                        <a:srgbClr val="964305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100000">
                          <a:srgbClr val="fee7f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Казалось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, что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он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знает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все об этом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Оказалос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Оказалос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64305"/>
                      </a:solidFill>
                    </a:lnL>
                    <a:lnR w="5760">
                      <a:solidFill>
                        <a:srgbClr val="964305"/>
                      </a:solidFill>
                    </a:lnR>
                    <a:lnT w="5760">
                      <a:solidFill>
                        <a:srgbClr val="964305"/>
                      </a:solidFill>
                    </a:lnT>
                    <a:lnB w="5760">
                      <a:solidFill>
                        <a:srgbClr val="964305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100000">
                          <a:srgbClr val="fee7f2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1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785880"/>
                <a:gridCol w="4143240"/>
                <a:gridCol w="4214880"/>
              </a:tblGrid>
              <a:tr h="1179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entury Schoolbook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64305"/>
                      </a:solidFill>
                    </a:lnL>
                    <a:lnR w="5760">
                      <a:solidFill>
                        <a:srgbClr val="964305"/>
                      </a:solidFill>
                    </a:lnR>
                    <a:lnT w="5760">
                      <a:solidFill>
                        <a:srgbClr val="964305"/>
                      </a:solidFill>
                    </a:lnT>
                    <a:lnB w="12240">
                      <a:solidFill>
                        <a:srgbClr val="964305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100000">
                          <a:srgbClr val="fee7f2"/>
                        </a:gs>
                      </a:gsLst>
                      <a:lin ang="5400000"/>
                    </a:gra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Century Schoolbook"/>
                        </a:rPr>
                        <a:t>Complex Subjec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64305"/>
                      </a:solidFill>
                    </a:lnL>
                    <a:lnR w="5760">
                      <a:solidFill>
                        <a:srgbClr val="964305"/>
                      </a:solidFill>
                    </a:lnR>
                    <a:lnT w="5760">
                      <a:solidFill>
                        <a:srgbClr val="964305"/>
                      </a:solidFill>
                    </a:lnT>
                    <a:lnB w="12240">
                      <a:solidFill>
                        <a:srgbClr val="964305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100000">
                          <a:srgbClr val="fee7f2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6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3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Century Schoolbook"/>
                        </a:rPr>
                        <a:t>rd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64305"/>
                      </a:solidFill>
                    </a:lnL>
                    <a:lnR w="5760">
                      <a:solidFill>
                        <a:srgbClr val="964305"/>
                      </a:solidFill>
                    </a:lnR>
                    <a:lnT w="12240">
                      <a:solidFill>
                        <a:srgbClr val="964305"/>
                      </a:solidFill>
                    </a:lnT>
                    <a:lnB w="5760">
                      <a:solidFill>
                        <a:srgbClr val="964305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100000">
                          <a:srgbClr val="fee7f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Century Schoolbook"/>
                        </a:rPr>
                        <a:t>H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is likely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Century Schoolbook"/>
                        </a:rPr>
                        <a:t>to win the priz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Century Schoolbook"/>
                        </a:rPr>
                        <a:t>H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is sur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Century Schoolbook"/>
                        </a:rPr>
                        <a:t>to com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64305"/>
                      </a:solidFill>
                    </a:lnL>
                    <a:lnR w="5760">
                      <a:solidFill>
                        <a:srgbClr val="964305"/>
                      </a:solidFill>
                    </a:lnR>
                    <a:lnT w="12240">
                      <a:solidFill>
                        <a:srgbClr val="964305"/>
                      </a:solidFill>
                    </a:lnT>
                    <a:lnB w="5760">
                      <a:solidFill>
                        <a:srgbClr val="964305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100000">
                          <a:srgbClr val="fee7f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Похоже,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что </a:t>
                      </a:r>
                      <a:r>
                        <a:rPr b="0" lang="ru-RU" sz="2000" spc="-1" strike="noStrike" u="sng">
                          <a:solidFill>
                            <a:srgbClr val="000000"/>
                          </a:solidFill>
                          <a:uFillTx/>
                          <a:latin typeface="Century Schoolbook"/>
                        </a:rPr>
                        <a:t>он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r>
                        <a:rPr b="0" lang="ru-RU" sz="2000" spc="-1" strike="noStrike" u="sng">
                          <a:solidFill>
                            <a:srgbClr val="000000"/>
                          </a:solidFill>
                          <a:uFillTx/>
                          <a:latin typeface="Century Schoolbook"/>
                        </a:rPr>
                        <a:t>выиграет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приз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000000"/>
                          </a:solidFill>
                          <a:uFillTx/>
                          <a:latin typeface="Century Schoolbook"/>
                        </a:rPr>
                        <a:t>Он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обязательно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r>
                        <a:rPr b="0" lang="ru-RU" sz="2000" spc="-1" strike="noStrike" u="sng">
                          <a:solidFill>
                            <a:srgbClr val="000000"/>
                          </a:solidFill>
                          <a:uFillTx/>
                          <a:latin typeface="Century Schoolbook"/>
                        </a:rPr>
                        <a:t>придет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64305"/>
                      </a:solidFill>
                    </a:lnL>
                    <a:lnR w="5760">
                      <a:solidFill>
                        <a:srgbClr val="964305"/>
                      </a:solidFill>
                    </a:lnR>
                    <a:lnT w="12240">
                      <a:solidFill>
                        <a:srgbClr val="964305"/>
                      </a:solidFill>
                    </a:lnT>
                    <a:lnB w="5760">
                      <a:solidFill>
                        <a:srgbClr val="964305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100000">
                          <a:srgbClr val="fee7f2"/>
                        </a:gs>
                      </a:gsLst>
                      <a:lin ang="5400000"/>
                    </a:gradFill>
                  </a:tcPr>
                </a:tc>
              </a:tr>
              <a:tr h="37180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Century Schoolbook"/>
                        </a:rPr>
                        <a:t>Note!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These verbs may be followed by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different analytical forms of the infinitive with </a:t>
                      </a: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to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e.g.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) For a moment she appeared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to be hesitating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2) He seemed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to have gained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all he wanted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3) The letter seems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to have been mislaid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4) In that same week I happened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to have been enquiring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whether all th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    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invitations had been sent out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64305"/>
                      </a:solidFill>
                    </a:lnL>
                    <a:lnR w="5760">
                      <a:solidFill>
                        <a:srgbClr val="964305"/>
                      </a:solidFill>
                    </a:lnR>
                    <a:lnT w="5760">
                      <a:solidFill>
                        <a:srgbClr val="964305"/>
                      </a:solidFill>
                    </a:lnT>
                    <a:lnB w="5760">
                      <a:solidFill>
                        <a:srgbClr val="964305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100000">
                          <a:srgbClr val="fee7f2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5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3643200"/>
                <a:gridCol w="5500800"/>
              </a:tblGrid>
              <a:tr h="530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Century Schoolbook"/>
                        </a:rPr>
                        <a:t>The Infinit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64305"/>
                      </a:solidFill>
                    </a:lnL>
                    <a:lnR w="5760">
                      <a:solidFill>
                        <a:srgbClr val="964305"/>
                      </a:solidFill>
                    </a:lnR>
                    <a:lnT w="5760">
                      <a:solidFill>
                        <a:srgbClr val="964305"/>
                      </a:solidFill>
                    </a:lnT>
                    <a:lnB w="5760">
                      <a:solidFill>
                        <a:srgbClr val="964305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100000">
                          <a:srgbClr val="fee7f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Century Schoolbook"/>
                        </a:rPr>
                        <a:t>The Geru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64305"/>
                      </a:solidFill>
                    </a:lnL>
                    <a:lnR w="5760">
                      <a:solidFill>
                        <a:srgbClr val="964305"/>
                      </a:solidFill>
                    </a:lnR>
                    <a:lnT w="5760">
                      <a:solidFill>
                        <a:srgbClr val="964305"/>
                      </a:solidFill>
                    </a:lnT>
                    <a:lnB w="5760">
                      <a:solidFill>
                        <a:srgbClr val="964305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100000">
                          <a:srgbClr val="fee7f2"/>
                        </a:gs>
                      </a:gsLst>
                      <a:lin ang="5400000"/>
                    </a:gradFill>
                  </a:tcPr>
                </a:tc>
              </a:tr>
              <a:tr h="2192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65040" indent="-282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It is a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non-finite verb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for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65040" indent="-282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that names a process or 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65040" indent="-282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action in a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most gener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65040" indent="-282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way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65040" indent="-282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65040" indent="-282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e.g.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I’m glad </a:t>
                      </a:r>
                      <a:r>
                        <a:rPr b="1" i="1" lang="en-US" sz="2000" spc="-1" strike="noStrike">
                          <a:solidFill>
                            <a:srgbClr val="c00000"/>
                          </a:solidFill>
                          <a:latin typeface="Century Schoolbook"/>
                        </a:rPr>
                        <a:t>to see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you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64305"/>
                      </a:solidFill>
                    </a:lnL>
                    <a:lnR w="5760">
                      <a:solidFill>
                        <a:srgbClr val="964305"/>
                      </a:solidFill>
                    </a:lnR>
                    <a:lnT w="5760">
                      <a:solidFill>
                        <a:srgbClr val="964305"/>
                      </a:solidFill>
                    </a:lnT>
                    <a:lnB w="5760">
                      <a:solidFill>
                        <a:srgbClr val="964305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100000">
                          <a:srgbClr val="fee7f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It is a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non-finite form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of the verb, which serves as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the verbal name of a proces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e.g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. 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I remember </a:t>
                      </a:r>
                      <a:r>
                        <a:rPr b="1" i="1" lang="en-US" sz="2000" spc="-1" strike="noStrike">
                          <a:solidFill>
                            <a:srgbClr val="c00000"/>
                          </a:solidFill>
                          <a:latin typeface="Century Schoolbook"/>
                        </a:rPr>
                        <a:t>meeting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her at 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      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party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64305"/>
                      </a:solidFill>
                    </a:lnL>
                    <a:lnR w="5760">
                      <a:solidFill>
                        <a:srgbClr val="964305"/>
                      </a:solidFill>
                    </a:lnR>
                    <a:lnT w="5760">
                      <a:solidFill>
                        <a:srgbClr val="964305"/>
                      </a:solidFill>
                    </a:lnT>
                    <a:lnB w="5760">
                      <a:solidFill>
                        <a:srgbClr val="964305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100000">
                          <a:srgbClr val="fee7f2"/>
                        </a:gs>
                      </a:gsLst>
                      <a:lin ang="5400000"/>
                    </a:gradFill>
                  </a:tcPr>
                </a:tc>
              </a:tr>
              <a:tr h="4135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65040" indent="-282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It combines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verb and nou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65040" indent="-282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characteristic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65040" indent="-282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65040" indent="-282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65040" indent="-282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Full Infinit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65040" indent="-282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(with the particle </a:t>
                      </a: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to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65040" indent="-282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e.g.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to be, to d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65040" indent="-282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65040" indent="-282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002060"/>
                          </a:solidFill>
                          <a:uFillTx/>
                          <a:latin typeface="Century Schoolbook"/>
                          <a:hlinkClick r:id="rId1" action="ppaction://hlinksldjump"/>
                        </a:rPr>
                        <a:t>Bare Infinit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65040" indent="-282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(without the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particle </a:t>
                      </a: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to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)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65040" indent="-282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e.g.</a:t>
                      </a:r>
                      <a:r>
                        <a:rPr b="1" i="1" lang="en-US" sz="2800" spc="-1" strike="noStrike">
                          <a:solidFill>
                            <a:srgbClr val="002060"/>
                          </a:solidFill>
                          <a:latin typeface="Century Schoolbook"/>
                        </a:rPr>
                        <a:t>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be, do, sit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64305"/>
                      </a:solidFill>
                    </a:lnL>
                    <a:lnR w="5760">
                      <a:solidFill>
                        <a:srgbClr val="964305"/>
                      </a:solidFill>
                    </a:lnR>
                    <a:lnT w="5760">
                      <a:solidFill>
                        <a:srgbClr val="964305"/>
                      </a:solidFill>
                    </a:lnT>
                    <a:lnB w="5760">
                      <a:solidFill>
                        <a:srgbClr val="964305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100000">
                          <a:srgbClr val="fee7f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It has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verb and noun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characteristic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The gerund is used </a:t>
                      </a:r>
                      <a:r>
                        <a:rPr b="0" lang="en-US" sz="2000" spc="-1" strike="noStrike">
                          <a:solidFill>
                            <a:srgbClr val="c00000"/>
                          </a:solidFill>
                          <a:latin typeface="Century Schoolbook"/>
                        </a:rPr>
                        <a:t>after all prepositions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including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TO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2060"/>
                          </a:solidFill>
                          <a:latin typeface="Century Schoolbook"/>
                        </a:rPr>
                        <a:t>e.g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.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Thank you </a:t>
                      </a:r>
                      <a:r>
                        <a:rPr b="1" i="1" lang="en-US" sz="2000" spc="-1" strike="noStrike">
                          <a:solidFill>
                            <a:srgbClr val="c00000"/>
                          </a:solidFill>
                          <a:latin typeface="Century Schoolbook"/>
                        </a:rPr>
                        <a:t>for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calling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The possessive pronouns and the genitives like </a:t>
                      </a:r>
                      <a:r>
                        <a:rPr b="1" lang="en-US" sz="2000" spc="-1" strike="noStrike">
                          <a:solidFill>
                            <a:srgbClr val="c00000"/>
                          </a:solidFill>
                          <a:latin typeface="Century Schoolbook"/>
                        </a:rPr>
                        <a:t>JOHN’S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can be used as attributes to gerund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2060"/>
                          </a:solidFill>
                          <a:latin typeface="Century Schoolbook"/>
                        </a:rPr>
                        <a:t>e.g.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They object to </a:t>
                      </a:r>
                      <a:r>
                        <a:rPr b="1" i="1" lang="en-US" sz="2000" spc="-1" strike="noStrike">
                          <a:solidFill>
                            <a:srgbClr val="c00000"/>
                          </a:solidFill>
                          <a:latin typeface="Century Schoolbook"/>
                        </a:rPr>
                        <a:t>his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doing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that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   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I’m annoyed at </a:t>
                      </a:r>
                      <a:r>
                        <a:rPr b="1" i="1" lang="en-US" sz="2000" spc="-1" strike="noStrike">
                          <a:solidFill>
                            <a:srgbClr val="c00000"/>
                          </a:solidFill>
                          <a:latin typeface="Century Schoolbook"/>
                        </a:rPr>
                        <a:t>Mike’s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forgetting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to pa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64305"/>
                      </a:solidFill>
                    </a:lnL>
                    <a:lnR w="5760">
                      <a:solidFill>
                        <a:srgbClr val="964305"/>
                      </a:solidFill>
                    </a:lnR>
                    <a:lnT w="5760">
                      <a:solidFill>
                        <a:srgbClr val="964305"/>
                      </a:solidFill>
                    </a:lnT>
                    <a:lnB w="5760">
                      <a:solidFill>
                        <a:srgbClr val="964305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100000">
                          <a:srgbClr val="fee7f2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 txBox="1"/>
          <p:nvPr/>
        </p:nvSpPr>
        <p:spPr>
          <a:xfrm>
            <a:off x="857160" y="0"/>
            <a:ext cx="785808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00000"/>
                </a:solidFill>
                <a:latin typeface="Century Schoolbook"/>
              </a:rPr>
              <a:t>Verb Characteristics: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337" name=""/>
          <p:cNvGraphicFramePr/>
          <p:nvPr/>
        </p:nvGraphicFramePr>
        <p:xfrm>
          <a:off x="0" y="554040"/>
          <a:ext cx="9286920" cy="6303960"/>
        </p:xfrm>
        <a:graphic>
          <a:graphicData uri="http://schemas.openxmlformats.org/drawingml/2006/table">
            <a:tbl>
              <a:tblPr/>
              <a:tblGrid>
                <a:gridCol w="4643280"/>
                <a:gridCol w="4643640"/>
              </a:tblGrid>
              <a:tr h="5349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The Infinitiv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64305"/>
                      </a:solidFill>
                    </a:lnL>
                    <a:lnR w="5760">
                      <a:solidFill>
                        <a:srgbClr val="964305"/>
                      </a:solidFill>
                    </a:lnR>
                    <a:lnT w="5760">
                      <a:solidFill>
                        <a:srgbClr val="964305"/>
                      </a:solidFill>
                    </a:lnT>
                    <a:lnB w="5760">
                      <a:solidFill>
                        <a:srgbClr val="964305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100000">
                          <a:srgbClr val="fee7f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The Gerun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64305"/>
                      </a:solidFill>
                    </a:lnL>
                    <a:lnR w="5760">
                      <a:solidFill>
                        <a:srgbClr val="964305"/>
                      </a:solidFill>
                    </a:lnR>
                    <a:lnT w="5760">
                      <a:solidFill>
                        <a:srgbClr val="964305"/>
                      </a:solidFill>
                    </a:lnT>
                    <a:lnB w="5760">
                      <a:solidFill>
                        <a:srgbClr val="964305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100000">
                          <a:srgbClr val="fee7f2"/>
                        </a:gs>
                      </a:gsLst>
                      <a:lin ang="5400000"/>
                    </a:gradFill>
                  </a:tcPr>
                </a:tc>
              </a:tr>
              <a:tr h="72540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. The relative ten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(perfect or non-perfect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64305"/>
                      </a:solidFill>
                    </a:lnL>
                    <a:lnR w="5760">
                      <a:solidFill>
                        <a:srgbClr val="964305"/>
                      </a:solidFill>
                    </a:lnR>
                    <a:lnT w="5760">
                      <a:solidFill>
                        <a:srgbClr val="964305"/>
                      </a:solidFill>
                    </a:lnT>
                    <a:lnB w="5760">
                      <a:solidFill>
                        <a:srgbClr val="964305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100000">
                          <a:srgbClr val="fee7f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The relative ten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(perfect or non-perfect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64305"/>
                      </a:solidFill>
                    </a:lnL>
                    <a:lnR w="5760">
                      <a:solidFill>
                        <a:srgbClr val="964305"/>
                      </a:solidFill>
                    </a:lnR>
                    <a:lnT w="5760">
                      <a:solidFill>
                        <a:srgbClr val="964305"/>
                      </a:solidFill>
                    </a:lnT>
                    <a:lnB w="5760">
                      <a:solidFill>
                        <a:srgbClr val="964305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100000">
                          <a:srgbClr val="fee7f2"/>
                        </a:gs>
                      </a:gsLst>
                      <a:lin ang="5400000"/>
                    </a:gradFill>
                  </a:tcPr>
                </a:tc>
              </a:tr>
              <a:tr h="733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2. Vo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(active or perfect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64305"/>
                      </a:solidFill>
                    </a:lnL>
                    <a:lnR w="5760">
                      <a:solidFill>
                        <a:srgbClr val="964305"/>
                      </a:solidFill>
                    </a:lnR>
                    <a:lnT w="5760">
                      <a:solidFill>
                        <a:srgbClr val="964305"/>
                      </a:solidFill>
                    </a:lnT>
                    <a:lnB w="5760">
                      <a:solidFill>
                        <a:srgbClr val="964305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100000">
                          <a:srgbClr val="fee7f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Vo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(active or perfect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64305"/>
                      </a:solidFill>
                    </a:lnL>
                    <a:lnR w="5760">
                      <a:solidFill>
                        <a:srgbClr val="964305"/>
                      </a:solidFill>
                    </a:lnR>
                    <a:lnT w="5760">
                      <a:solidFill>
                        <a:srgbClr val="964305"/>
                      </a:solidFill>
                    </a:lnT>
                    <a:lnB w="5760">
                      <a:solidFill>
                        <a:srgbClr val="964305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100000">
                          <a:srgbClr val="fee7f2"/>
                        </a:gs>
                      </a:gsLst>
                      <a:lin ang="5400000"/>
                    </a:gradFill>
                  </a:tcPr>
                </a:tc>
              </a:tr>
              <a:tr h="738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3. Aspect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(continuous or non-continuou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64305"/>
                      </a:solidFill>
                    </a:lnL>
                    <a:lnR w="5760">
                      <a:solidFill>
                        <a:srgbClr val="964305"/>
                      </a:solidFill>
                    </a:lnR>
                    <a:lnT w="5760">
                      <a:solidFill>
                        <a:srgbClr val="964305"/>
                      </a:solidFill>
                    </a:lnT>
                    <a:lnB w="5760">
                      <a:solidFill>
                        <a:srgbClr val="964305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100000">
                          <a:srgbClr val="fee7f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              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___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64305"/>
                      </a:solidFill>
                    </a:lnL>
                    <a:lnR w="5760">
                      <a:solidFill>
                        <a:srgbClr val="964305"/>
                      </a:solidFill>
                    </a:lnR>
                    <a:lnT w="5760">
                      <a:solidFill>
                        <a:srgbClr val="964305"/>
                      </a:solidFill>
                    </a:lnT>
                    <a:lnB w="5760">
                      <a:solidFill>
                        <a:srgbClr val="964305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100000">
                          <a:srgbClr val="fee7f2"/>
                        </a:gs>
                      </a:gsLst>
                      <a:lin ang="5400000"/>
                    </a:gradFill>
                  </a:tcPr>
                </a:tc>
              </a:tr>
              <a:tr h="976320">
                <a:tc>
                  <a:txBody>
                    <a:bodyPr lIns="90000" rIns="90000" anchor="t">
                      <a:noAutofit/>
                    </a:bodyPr>
                    <a:p>
                      <a:pPr marL="457200" indent="-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4. It may take direct obje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 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e.g.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I was pleasant </a:t>
                      </a: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to see </a:t>
                      </a:r>
                      <a:r>
                        <a:rPr b="0" i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entury Schoolbook"/>
                        </a:rPr>
                        <a:t>you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yesterday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64305"/>
                      </a:solidFill>
                    </a:lnL>
                    <a:lnR w="5760">
                      <a:solidFill>
                        <a:srgbClr val="964305"/>
                      </a:solidFill>
                    </a:lnR>
                    <a:lnT w="5760">
                      <a:solidFill>
                        <a:srgbClr val="964305"/>
                      </a:solidFill>
                    </a:lnT>
                    <a:lnB w="5760">
                      <a:solidFill>
                        <a:srgbClr val="964305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100000">
                          <a:srgbClr val="fee7f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I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may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tak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direc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obje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e.g.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Have you considered </a:t>
                      </a: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getting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r>
                        <a:rPr b="0" i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entury Schoolbook"/>
                        </a:rPr>
                        <a:t> a jo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       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abroad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64305"/>
                      </a:solidFill>
                    </a:lnL>
                    <a:lnR w="5760">
                      <a:solidFill>
                        <a:srgbClr val="964305"/>
                      </a:solidFill>
                    </a:lnR>
                    <a:lnT w="5760">
                      <a:solidFill>
                        <a:srgbClr val="964305"/>
                      </a:solidFill>
                    </a:lnT>
                    <a:lnB w="5760">
                      <a:solidFill>
                        <a:srgbClr val="964305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100000">
                          <a:srgbClr val="fee7f2"/>
                        </a:gs>
                      </a:gsLst>
                      <a:lin ang="5400000"/>
                    </a:gradFill>
                  </a:tcPr>
                </a:tc>
              </a:tr>
              <a:tr h="988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5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. It may be modified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by an adver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e.g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.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I had </a:t>
                      </a: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to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repeat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my words </a:t>
                      </a:r>
                      <a:r>
                        <a:rPr b="0" i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entury Schoolbook"/>
                        </a:rPr>
                        <a:t>louder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         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so that she could hear 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64305"/>
                      </a:solidFill>
                    </a:lnL>
                    <a:lnR w="5760">
                      <a:solidFill>
                        <a:srgbClr val="964305"/>
                      </a:solidFill>
                    </a:lnR>
                    <a:lnT w="5760">
                      <a:solidFill>
                        <a:srgbClr val="964305"/>
                      </a:solidFill>
                    </a:lnT>
                    <a:lnB w="5760">
                      <a:solidFill>
                        <a:srgbClr val="964305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100000">
                          <a:srgbClr val="fee7f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It may be modified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by an adver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e.g.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Do you mind </a:t>
                      </a: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sitting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r>
                        <a:rPr b="0" i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entury Schoolbook"/>
                        </a:rPr>
                        <a:t>here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64305"/>
                      </a:solidFill>
                    </a:lnL>
                    <a:lnR w="5760">
                      <a:solidFill>
                        <a:srgbClr val="964305"/>
                      </a:solidFill>
                    </a:lnR>
                    <a:lnT w="5760">
                      <a:solidFill>
                        <a:srgbClr val="964305"/>
                      </a:solidFill>
                    </a:lnT>
                    <a:lnB w="5760">
                      <a:solidFill>
                        <a:srgbClr val="964305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100000">
                          <a:srgbClr val="fee7f2"/>
                        </a:gs>
                      </a:gsLst>
                      <a:lin ang="5400000"/>
                    </a:gradFill>
                  </a:tcPr>
                </a:tc>
              </a:tr>
              <a:tr h="1606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6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. It may function as the second par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of a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compound verbal predic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(modal and aspective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e.g.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He </a:t>
                      </a: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may come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tomorrow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         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They </a:t>
                      </a: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began to believe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his stor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64305"/>
                      </a:solidFill>
                    </a:lnL>
                    <a:lnR w="5760">
                      <a:solidFill>
                        <a:srgbClr val="964305"/>
                      </a:solidFill>
                    </a:lnR>
                    <a:lnT w="5760">
                      <a:solidFill>
                        <a:srgbClr val="964305"/>
                      </a:solidFill>
                    </a:lnT>
                    <a:lnB w="5760">
                      <a:solidFill>
                        <a:srgbClr val="964305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100000">
                          <a:srgbClr val="fee7f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It may function as the second par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of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a compound verbal predic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(modal and aspective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e.g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.  It </a:t>
                      </a: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kept on raining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      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Do you </a:t>
                      </a: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mind waiting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64305"/>
                      </a:solidFill>
                    </a:lnL>
                    <a:lnR w="5760">
                      <a:solidFill>
                        <a:srgbClr val="964305"/>
                      </a:solidFill>
                    </a:lnR>
                    <a:lnT w="5760">
                      <a:solidFill>
                        <a:srgbClr val="964305"/>
                      </a:solidFill>
                    </a:lnT>
                    <a:lnB w="5760">
                      <a:solidFill>
                        <a:srgbClr val="964305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100000">
                          <a:srgbClr val="fee7f2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sp>
        <p:nvSpPr>
          <p:cNvPr id="338" name="Прямая соединительная линия 7"/>
          <p:cNvSpPr/>
          <p:nvPr/>
        </p:nvSpPr>
        <p:spPr>
          <a:xfrm>
            <a:off x="285840" y="569880"/>
            <a:ext cx="0" cy="6288120"/>
          </a:xfrm>
          <a:prstGeom prst="line">
            <a:avLst/>
          </a:prstGeom>
          <a:ln w="19080">
            <a:solidFill>
              <a:srgbClr val="4f27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786960" y="-21456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72314"/>
                </a:solidFill>
                <a:latin typeface="Century Schoolbook"/>
              </a:rPr>
              <a:t>The Gerund and the Verbal Noun Compared</a:t>
            </a:r>
            <a:endParaRPr b="0" lang="en-US" sz="2800" spc="-1" strike="noStrike">
              <a:solidFill>
                <a:srgbClr val="572314"/>
              </a:solidFill>
              <a:latin typeface="Century Schoolbook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0" y="785880"/>
          <a:ext cx="9144000" cy="6210360"/>
        </p:xfrm>
        <a:graphic>
          <a:graphicData uri="http://schemas.openxmlformats.org/drawingml/2006/table">
            <a:tbl>
              <a:tblPr/>
              <a:tblGrid>
                <a:gridCol w="5286240"/>
                <a:gridCol w="3857760"/>
              </a:tblGrid>
              <a:tr h="5349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The Verbal Nou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64305"/>
                      </a:solidFill>
                    </a:lnL>
                    <a:lnR w="5760">
                      <a:solidFill>
                        <a:srgbClr val="964305"/>
                      </a:solidFill>
                    </a:lnR>
                    <a:lnT w="5760">
                      <a:solidFill>
                        <a:srgbClr val="964305"/>
                      </a:solidFill>
                    </a:lnT>
                    <a:lnB w="12240">
                      <a:solidFill>
                        <a:srgbClr val="964305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100000">
                          <a:srgbClr val="fee7f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The Gerun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64305"/>
                      </a:solidFill>
                    </a:lnL>
                    <a:lnR w="5760">
                      <a:solidFill>
                        <a:srgbClr val="964305"/>
                      </a:solidFill>
                    </a:lnR>
                    <a:lnT w="5760">
                      <a:solidFill>
                        <a:srgbClr val="964305"/>
                      </a:solidFill>
                    </a:lnT>
                    <a:lnB w="12240">
                      <a:solidFill>
                        <a:srgbClr val="964305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100000">
                          <a:srgbClr val="fee7f2"/>
                        </a:gs>
                      </a:gsLst>
                      <a:lin ang="5400000"/>
                    </a:gradFill>
                  </a:tcPr>
                </a:tc>
              </a:tr>
              <a:tr h="106740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.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It can be determined by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 article a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emonstrative pronoun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.g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.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Father give me </a:t>
                      </a: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good beating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64305"/>
                      </a:solidFill>
                    </a:lnL>
                    <a:lnR w="5760">
                      <a:solidFill>
                        <a:srgbClr val="964305"/>
                      </a:solidFill>
                    </a:lnR>
                    <a:lnT w="12240">
                      <a:solidFill>
                        <a:srgbClr val="964305"/>
                      </a:solidFill>
                    </a:lnT>
                    <a:lnB w="5760">
                      <a:solidFill>
                        <a:srgbClr val="964305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100000">
                          <a:srgbClr val="fee7f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_____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64305"/>
                      </a:solidFill>
                    </a:lnL>
                    <a:lnR w="5760">
                      <a:solidFill>
                        <a:srgbClr val="964305"/>
                      </a:solidFill>
                    </a:lnR>
                    <a:lnT w="12240">
                      <a:solidFill>
                        <a:srgbClr val="964305"/>
                      </a:solidFill>
                    </a:lnT>
                    <a:lnB w="5760">
                      <a:solidFill>
                        <a:srgbClr val="964305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100000">
                          <a:srgbClr val="fee7f2"/>
                        </a:gs>
                      </a:gsLst>
                      <a:lin ang="5400000"/>
                    </a:gradFill>
                  </a:tcPr>
                </a:tc>
              </a:tr>
              <a:tr h="1128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.  It has both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ngular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d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plural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form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.g.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Our </a:t>
                      </a:r>
                      <a:r>
                        <a:rPr b="0" i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 Narrow"/>
                        </a:rPr>
                        <a:t>liking</a:t>
                      </a:r>
                      <a:r>
                        <a:rPr b="1" i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 Narrow"/>
                        </a:rPr>
                        <a:t>s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are regulated by ou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         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ircumstance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64305"/>
                      </a:solidFill>
                    </a:lnL>
                    <a:lnR w="5760">
                      <a:solidFill>
                        <a:srgbClr val="964305"/>
                      </a:solidFill>
                    </a:lnR>
                    <a:lnT w="5760">
                      <a:solidFill>
                        <a:srgbClr val="964305"/>
                      </a:solidFill>
                    </a:lnT>
                    <a:lnB w="5760">
                      <a:solidFill>
                        <a:srgbClr val="964305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100000">
                          <a:srgbClr val="fee7f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t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lacks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number distinctio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.g.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cuse my </a:t>
                      </a: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rupt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    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ou again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64305"/>
                      </a:solidFill>
                    </a:lnL>
                    <a:lnR w="5760">
                      <a:solidFill>
                        <a:srgbClr val="964305"/>
                      </a:solidFill>
                    </a:lnR>
                    <a:lnT w="5760">
                      <a:solidFill>
                        <a:srgbClr val="964305"/>
                      </a:solidFill>
                    </a:lnT>
                    <a:lnB w="5760">
                      <a:solidFill>
                        <a:srgbClr val="964305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100000">
                          <a:srgbClr val="fee7f2"/>
                        </a:gs>
                      </a:gsLst>
                      <a:lin ang="5400000"/>
                    </a:gradFill>
                  </a:tcPr>
                </a:tc>
              </a:tr>
              <a:tr h="131148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.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t is followed by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 prepositional obje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.g.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hey discussed the </a:t>
                      </a: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esigning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</a:t>
                      </a:r>
                      <a:r>
                        <a:rPr b="0" i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 Narrow"/>
                        </a:rPr>
                        <a:t>of a new factory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64305"/>
                      </a:solidFill>
                    </a:lnL>
                    <a:lnR w="5760">
                      <a:solidFill>
                        <a:srgbClr val="964305"/>
                      </a:solidFill>
                    </a:lnR>
                    <a:lnT w="5760">
                      <a:solidFill>
                        <a:srgbClr val="964305"/>
                      </a:solidFill>
                    </a:lnT>
                    <a:lnB w="5760">
                      <a:solidFill>
                        <a:srgbClr val="964305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100000">
                          <a:srgbClr val="fee7f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t takes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 direct object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.g.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He was against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giving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    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 Narrow"/>
                        </a:rPr>
                        <a:t>an  interview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64305"/>
                      </a:solidFill>
                    </a:lnL>
                    <a:lnR w="5760">
                      <a:solidFill>
                        <a:srgbClr val="964305"/>
                      </a:solidFill>
                    </a:lnR>
                    <a:lnT w="5760">
                      <a:solidFill>
                        <a:srgbClr val="964305"/>
                      </a:solidFill>
                    </a:lnT>
                    <a:lnB w="5760">
                      <a:solidFill>
                        <a:srgbClr val="964305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100000">
                          <a:srgbClr val="fee7f2"/>
                        </a:gs>
                      </a:gsLst>
                      <a:lin ang="5400000"/>
                    </a:gradFill>
                  </a:tcPr>
                </a:tc>
              </a:tr>
              <a:tr h="94248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.  It is followed by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 attribute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with prep. OF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.g.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 new </a:t>
                      </a: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eaning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</a:t>
                      </a:r>
                      <a:r>
                        <a:rPr b="0" i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 Narrow"/>
                        </a:rPr>
                        <a:t>of the ver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64305"/>
                      </a:solidFill>
                    </a:lnL>
                    <a:lnR w="5760">
                      <a:solidFill>
                        <a:srgbClr val="964305"/>
                      </a:solidFill>
                    </a:lnR>
                    <a:lnT w="5760">
                      <a:solidFill>
                        <a:srgbClr val="964305"/>
                      </a:solidFill>
                    </a:lnT>
                    <a:lnB w="5760">
                      <a:solidFill>
                        <a:srgbClr val="964305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100000">
                          <a:srgbClr val="fee7f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               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______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64305"/>
                      </a:solidFill>
                    </a:lnL>
                    <a:lnR w="5760">
                      <a:solidFill>
                        <a:srgbClr val="964305"/>
                      </a:solidFill>
                    </a:lnR>
                    <a:lnT w="5760">
                      <a:solidFill>
                        <a:srgbClr val="964305"/>
                      </a:solidFill>
                    </a:lnT>
                    <a:lnB w="5760">
                      <a:solidFill>
                        <a:srgbClr val="964305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100000">
                          <a:srgbClr val="fee7f2"/>
                        </a:gs>
                      </a:gsLst>
                      <a:lin ang="5400000"/>
                    </a:gradFill>
                  </a:tcPr>
                </a:tc>
              </a:tr>
              <a:tr h="1225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.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It can be modified by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 adjecti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  </a:t>
                      </a: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.g.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He is a man of </a:t>
                      </a:r>
                      <a:r>
                        <a:rPr b="0" i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 Narrow"/>
                        </a:rPr>
                        <a:t>wide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</a:t>
                      </a: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ading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64305"/>
                      </a:solidFill>
                    </a:lnL>
                    <a:lnR w="5760">
                      <a:solidFill>
                        <a:srgbClr val="964305"/>
                      </a:solidFill>
                    </a:lnR>
                    <a:lnT w="5760">
                      <a:solidFill>
                        <a:srgbClr val="964305"/>
                      </a:solidFill>
                    </a:lnT>
                    <a:lnB w="5760">
                      <a:solidFill>
                        <a:srgbClr val="964305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100000">
                          <a:srgbClr val="fee7f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t can be modified by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 adver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.g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.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he child was tired of </a:t>
                      </a: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tting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</a:t>
                      </a:r>
                      <a:r>
                        <a:rPr b="0" i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 Narrow"/>
                        </a:rPr>
                        <a:t>still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64305"/>
                      </a:solidFill>
                    </a:lnL>
                    <a:lnR w="5760">
                      <a:solidFill>
                        <a:srgbClr val="964305"/>
                      </a:solidFill>
                    </a:lnR>
                    <a:lnT w="5760">
                      <a:solidFill>
                        <a:srgbClr val="964305"/>
                      </a:solidFill>
                    </a:lnT>
                    <a:lnB w="5760">
                      <a:solidFill>
                        <a:srgbClr val="964305"/>
                      </a:solidFill>
                    </a:lnB>
                    <a:gradFill rotWithShape="0">
                      <a:gsLst>
                        <a:gs pos="0">
                          <a:srgbClr val="fbeac7"/>
                        </a:gs>
                        <a:gs pos="100000">
                          <a:srgbClr val="fee7f2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sp>
        <p:nvSpPr>
          <p:cNvPr id="341" name="Прямая соединительная линия 4"/>
          <p:cNvSpPr/>
          <p:nvPr/>
        </p:nvSpPr>
        <p:spPr>
          <a:xfrm flipH="1">
            <a:off x="283680" y="785880"/>
            <a:ext cx="1800" cy="6286320"/>
          </a:xfrm>
          <a:prstGeom prst="line">
            <a:avLst/>
          </a:prstGeom>
          <a:ln w="19080">
            <a:solidFill>
              <a:srgbClr val="4f27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Управляющая кнопка: возврат 10">
            <a:hlinkClick r:id="rId1" action="ppaction://hlinksldjump"/>
          </p:cNvPr>
          <p:cNvSpPr/>
          <p:nvPr/>
        </p:nvSpPr>
        <p:spPr>
          <a:xfrm flipV="1" rot="10800000">
            <a:off x="8572680" y="6572160"/>
            <a:ext cx="357120" cy="285840"/>
          </a:xfrm>
          <a:custGeom>
            <a:avLst/>
            <a:gdLst>
              <a:gd name="textAreaLeft" fmla="*/ 18360 w 357120"/>
              <a:gd name="textAreaRight" fmla="*/ 338760 w 35712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26980" h="21600">
                <a:moveTo>
                  <a:pt x="0" y="0"/>
                </a:moveTo>
                <a:lnTo>
                  <a:pt x="26980" y="0"/>
                </a:lnTo>
                <a:lnTo>
                  <a:pt x="26980" y="21600"/>
                </a:lnTo>
                <a:lnTo>
                  <a:pt x="0" y="21600"/>
                </a:lnTo>
                <a:close/>
              </a:path>
              <a:path fill="lightenLess" w="26980" h="21600">
                <a:moveTo>
                  <a:pt x="0" y="0"/>
                </a:moveTo>
                <a:lnTo>
                  <a:pt x="26980" y="0"/>
                </a:lnTo>
                <a:lnTo>
                  <a:pt x="25580" y="1400"/>
                </a:lnTo>
                <a:lnTo>
                  <a:pt x="1400" y="1400"/>
                </a:lnTo>
                <a:close/>
              </a:path>
              <a:path fill="darken" w="26980" h="21600">
                <a:moveTo>
                  <a:pt x="26980" y="0"/>
                </a:moveTo>
                <a:lnTo>
                  <a:pt x="26980" y="21600"/>
                </a:lnTo>
                <a:lnTo>
                  <a:pt x="25580" y="20200"/>
                </a:lnTo>
                <a:lnTo>
                  <a:pt x="25580" y="1400"/>
                </a:lnTo>
                <a:close/>
              </a:path>
              <a:path fill="darkenLess" w="26980" h="21600">
                <a:moveTo>
                  <a:pt x="269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80" y="20200"/>
                </a:lnTo>
                <a:close/>
              </a:path>
              <a:path fill="lighten" w="269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80" h="21600">
                <a:moveTo>
                  <a:pt x="6483" y="7493"/>
                </a:moveTo>
                <a:lnTo>
                  <a:pt x="9991" y="7493"/>
                </a:lnTo>
                <a:lnTo>
                  <a:pt x="9991" y="12828"/>
                </a:lnTo>
                <a:cubicBezTo>
                  <a:pt x="9991" y="13751"/>
                  <a:pt x="10792" y="14482"/>
                  <a:pt x="11827" y="14482"/>
                </a:cubicBezTo>
                <a:lnTo>
                  <a:pt x="13490" y="14482"/>
                </a:lnTo>
                <a:cubicBezTo>
                  <a:pt x="14526" y="14482"/>
                  <a:pt x="15326" y="13751"/>
                  <a:pt x="15326" y="12828"/>
                </a:cubicBezTo>
                <a:lnTo>
                  <a:pt x="15326" y="7493"/>
                </a:lnTo>
                <a:lnTo>
                  <a:pt x="13490" y="7493"/>
                </a:lnTo>
                <a:lnTo>
                  <a:pt x="16997" y="3985"/>
                </a:lnTo>
                <a:lnTo>
                  <a:pt x="20670" y="7493"/>
                </a:lnTo>
                <a:lnTo>
                  <a:pt x="18834" y="7493"/>
                </a:lnTo>
                <a:lnTo>
                  <a:pt x="18834" y="12828"/>
                </a:lnTo>
                <a:cubicBezTo>
                  <a:pt x="18834" y="15596"/>
                  <a:pt x="16258" y="18155"/>
                  <a:pt x="13490" y="18155"/>
                </a:cubicBezTo>
                <a:lnTo>
                  <a:pt x="11827" y="18155"/>
                </a:lnTo>
                <a:cubicBezTo>
                  <a:pt x="9060" y="18155"/>
                  <a:pt x="6483" y="15596"/>
                  <a:pt x="6483" y="12828"/>
                </a:cubicBezTo>
                <a:close/>
              </a:path>
            </a:pathLst>
          </a:cu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16200000"/>
          </a:gra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214280" y="-286200"/>
            <a:ext cx="7498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572314"/>
                </a:solidFill>
                <a:latin typeface="Century Schoolbook"/>
              </a:rPr>
              <a:t>Bare Infinitive</a:t>
            </a:r>
            <a:endParaRPr b="0" lang="en-US" sz="2800" spc="-1" strike="noStrike">
              <a:solidFill>
                <a:srgbClr val="572314"/>
              </a:solidFill>
              <a:latin typeface="Century Schoolbook"/>
            </a:endParaRPr>
          </a:p>
        </p:txBody>
      </p:sp>
      <p:pic>
        <p:nvPicPr>
          <p:cNvPr id="344" name="Таблица 7" descr=""/>
          <p:cNvPicPr/>
          <p:nvPr/>
        </p:nvPicPr>
        <p:blipFill>
          <a:blip r:embed="rId1"/>
          <a:stretch/>
        </p:blipFill>
        <p:spPr>
          <a:xfrm>
            <a:off x="865080" y="920880"/>
            <a:ext cx="8345520" cy="6070320"/>
          </a:xfrm>
          <a:prstGeom prst="rect">
            <a:avLst/>
          </a:prstGeom>
          <a:ln w="0">
            <a:noFill/>
          </a:ln>
        </p:spPr>
      </p:pic>
      <p:sp>
        <p:nvSpPr>
          <p:cNvPr id="345" name="TextBox 8"/>
          <p:cNvSpPr/>
          <p:nvPr/>
        </p:nvSpPr>
        <p:spPr>
          <a:xfrm>
            <a:off x="928800" y="571680"/>
            <a:ext cx="628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entury Schoolbook"/>
              </a:rPr>
              <a:t>We usually use Bare Infinitive aft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Управляющая кнопка: далее 9">
            <a:hlinkClick r:id="" action="ppaction://hlinkshowjump?jump=nextslide"/>
          </p:cNvPr>
          <p:cNvSpPr/>
          <p:nvPr/>
        </p:nvSpPr>
        <p:spPr>
          <a:xfrm>
            <a:off x="8429760" y="6215040"/>
            <a:ext cx="500040" cy="357120"/>
          </a:xfrm>
          <a:custGeom>
            <a:avLst/>
            <a:gdLst>
              <a:gd name="textAreaLeft" fmla="*/ 23040 w 500040"/>
              <a:gd name="textAreaRight" fmla="*/ 477000 w 50004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30236" h="21600">
                <a:moveTo>
                  <a:pt x="0" y="0"/>
                </a:moveTo>
                <a:lnTo>
                  <a:pt x="30236" y="0"/>
                </a:lnTo>
                <a:lnTo>
                  <a:pt x="30236" y="21600"/>
                </a:lnTo>
                <a:lnTo>
                  <a:pt x="0" y="21600"/>
                </a:lnTo>
                <a:close/>
              </a:path>
              <a:path fill="lightenLess" w="30236" h="21600">
                <a:moveTo>
                  <a:pt x="0" y="0"/>
                </a:moveTo>
                <a:lnTo>
                  <a:pt x="30236" y="0"/>
                </a:lnTo>
                <a:lnTo>
                  <a:pt x="28836" y="1400"/>
                </a:lnTo>
                <a:lnTo>
                  <a:pt x="1400" y="1400"/>
                </a:lnTo>
                <a:close/>
              </a:path>
              <a:path fill="darken" w="30236" h="21600">
                <a:moveTo>
                  <a:pt x="30236" y="0"/>
                </a:moveTo>
                <a:lnTo>
                  <a:pt x="30236" y="21600"/>
                </a:lnTo>
                <a:lnTo>
                  <a:pt x="28836" y="20200"/>
                </a:lnTo>
                <a:lnTo>
                  <a:pt x="28836" y="1400"/>
                </a:lnTo>
                <a:close/>
              </a:path>
              <a:path fill="darkenLess" w="30236" h="21600">
                <a:moveTo>
                  <a:pt x="302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36" y="20200"/>
                </a:lnTo>
                <a:close/>
              </a:path>
              <a:path fill="lighten" w="302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36" h="21600">
                <a:moveTo>
                  <a:pt x="8111" y="3794"/>
                </a:moveTo>
                <a:lnTo>
                  <a:pt x="22124" y="10800"/>
                </a:lnTo>
                <a:lnTo>
                  <a:pt x="8111" y="17806"/>
                </a:lnTo>
                <a:close/>
              </a:path>
            </a:pathLst>
          </a:cu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428480" y="-28620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572314"/>
                </a:solidFill>
                <a:latin typeface="Century Schoolbook"/>
              </a:rPr>
              <a:t>Bare Infinitive</a:t>
            </a:r>
            <a:endParaRPr b="0" lang="en-US" sz="2800" spc="-1" strike="noStrike">
              <a:solidFill>
                <a:srgbClr val="572314"/>
              </a:solidFill>
              <a:latin typeface="Century Schoolbook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785520" y="428400"/>
            <a:ext cx="7497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entury Schoolbook"/>
              </a:rPr>
              <a:t>We usually use Bare Infinitive after: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49" name="Таблица 3" descr=""/>
          <p:cNvPicPr/>
          <p:nvPr/>
        </p:nvPicPr>
        <p:blipFill>
          <a:blip r:embed="rId1"/>
          <a:stretch/>
        </p:blipFill>
        <p:spPr>
          <a:xfrm>
            <a:off x="792000" y="743040"/>
            <a:ext cx="8418600" cy="6535800"/>
          </a:xfrm>
          <a:prstGeom prst="rect">
            <a:avLst/>
          </a:prstGeom>
          <a:ln w="0">
            <a:noFill/>
          </a:ln>
        </p:spPr>
      </p:pic>
      <p:sp>
        <p:nvSpPr>
          <p:cNvPr id="350" name="Управляющая кнопка: возврат 4">
            <a:hlinkClick r:id="rId2" action="ppaction://hlinksldjump"/>
          </p:cNvPr>
          <p:cNvSpPr/>
          <p:nvPr/>
        </p:nvSpPr>
        <p:spPr>
          <a:xfrm>
            <a:off x="8286840" y="6072120"/>
            <a:ext cx="500040" cy="357120"/>
          </a:xfrm>
          <a:custGeom>
            <a:avLst/>
            <a:gdLst>
              <a:gd name="textAreaLeft" fmla="*/ 23040 w 500040"/>
              <a:gd name="textAreaRight" fmla="*/ 477000 w 50004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30236" h="21600">
                <a:moveTo>
                  <a:pt x="0" y="0"/>
                </a:moveTo>
                <a:lnTo>
                  <a:pt x="30236" y="0"/>
                </a:lnTo>
                <a:lnTo>
                  <a:pt x="30236" y="21600"/>
                </a:lnTo>
                <a:lnTo>
                  <a:pt x="0" y="21600"/>
                </a:lnTo>
                <a:close/>
              </a:path>
              <a:path fill="lightenLess" w="30236" h="21600">
                <a:moveTo>
                  <a:pt x="0" y="0"/>
                </a:moveTo>
                <a:lnTo>
                  <a:pt x="30236" y="0"/>
                </a:lnTo>
                <a:lnTo>
                  <a:pt x="28836" y="1400"/>
                </a:lnTo>
                <a:lnTo>
                  <a:pt x="1400" y="1400"/>
                </a:lnTo>
                <a:close/>
              </a:path>
              <a:path fill="darken" w="30236" h="21600">
                <a:moveTo>
                  <a:pt x="30236" y="0"/>
                </a:moveTo>
                <a:lnTo>
                  <a:pt x="30236" y="21600"/>
                </a:lnTo>
                <a:lnTo>
                  <a:pt x="28836" y="20200"/>
                </a:lnTo>
                <a:lnTo>
                  <a:pt x="28836" y="1400"/>
                </a:lnTo>
                <a:close/>
              </a:path>
              <a:path fill="darkenLess" w="30236" h="21600">
                <a:moveTo>
                  <a:pt x="302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36" y="20200"/>
                </a:lnTo>
                <a:close/>
              </a:path>
              <a:path fill="lighten" w="302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36" h="21600">
                <a:moveTo>
                  <a:pt x="8111" y="7493"/>
                </a:moveTo>
                <a:lnTo>
                  <a:pt x="11619" y="7493"/>
                </a:lnTo>
                <a:lnTo>
                  <a:pt x="11619" y="12828"/>
                </a:lnTo>
                <a:cubicBezTo>
                  <a:pt x="11619" y="13751"/>
                  <a:pt x="12420" y="14482"/>
                  <a:pt x="13455" y="14482"/>
                </a:cubicBezTo>
                <a:lnTo>
                  <a:pt x="15118" y="14482"/>
                </a:lnTo>
                <a:cubicBezTo>
                  <a:pt x="16154" y="14482"/>
                  <a:pt x="16954" y="13751"/>
                  <a:pt x="16954" y="12828"/>
                </a:cubicBezTo>
                <a:lnTo>
                  <a:pt x="16954" y="7493"/>
                </a:lnTo>
                <a:lnTo>
                  <a:pt x="15118" y="7493"/>
                </a:lnTo>
                <a:lnTo>
                  <a:pt x="18625" y="3985"/>
                </a:lnTo>
                <a:lnTo>
                  <a:pt x="22298" y="7493"/>
                </a:lnTo>
                <a:lnTo>
                  <a:pt x="20462" y="7493"/>
                </a:lnTo>
                <a:lnTo>
                  <a:pt x="20462" y="12828"/>
                </a:lnTo>
                <a:cubicBezTo>
                  <a:pt x="20462" y="15596"/>
                  <a:pt x="17886" y="18155"/>
                  <a:pt x="15118" y="18155"/>
                </a:cubicBezTo>
                <a:lnTo>
                  <a:pt x="13455" y="18155"/>
                </a:lnTo>
                <a:cubicBezTo>
                  <a:pt x="10688" y="18155"/>
                  <a:pt x="8111" y="15596"/>
                  <a:pt x="8111" y="12828"/>
                </a:cubicBezTo>
                <a:close/>
              </a:path>
            </a:pathLst>
          </a:cu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428480" y="-28620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72314"/>
                </a:solidFill>
                <a:latin typeface="Century Schoolbook"/>
              </a:rPr>
              <a:t>The Forms of the Infinitive</a:t>
            </a:r>
            <a:endParaRPr b="0" lang="en-US" sz="2400" spc="-1" strike="noStrike">
              <a:solidFill>
                <a:srgbClr val="572314"/>
              </a:solidFill>
              <a:latin typeface="Century Schoolbook"/>
            </a:endParaRPr>
          </a:p>
        </p:txBody>
      </p:sp>
      <p:pic>
        <p:nvPicPr>
          <p:cNvPr id="352" name="Таблица 4" descr=""/>
          <p:cNvPicPr/>
          <p:nvPr/>
        </p:nvPicPr>
        <p:blipFill>
          <a:blip r:embed="rId1"/>
          <a:stretch/>
        </p:blipFill>
        <p:spPr>
          <a:xfrm>
            <a:off x="-66600" y="-60480"/>
            <a:ext cx="9277200" cy="7010640"/>
          </a:xfrm>
          <a:prstGeom prst="rect">
            <a:avLst/>
          </a:prstGeom>
          <a:ln w="0">
            <a:noFill/>
          </a:ln>
        </p:spPr>
      </p:pic>
      <p:sp>
        <p:nvSpPr>
          <p:cNvPr id="353" name="Прямая соединительная линия 6"/>
          <p:cNvSpPr/>
          <p:nvPr/>
        </p:nvSpPr>
        <p:spPr>
          <a:xfrm>
            <a:off x="0" y="1857240"/>
            <a:ext cx="2714760" cy="1643040"/>
          </a:xfrm>
          <a:prstGeom prst="line">
            <a:avLst/>
          </a:prstGeom>
          <a:ln w="19080">
            <a:solidFill>
              <a:srgbClr val="e17b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Box 7"/>
          <p:cNvSpPr/>
          <p:nvPr/>
        </p:nvSpPr>
        <p:spPr>
          <a:xfrm>
            <a:off x="214200" y="2857680"/>
            <a:ext cx="164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entury Schoolbook"/>
              </a:rPr>
              <a:t>T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Box 8"/>
          <p:cNvSpPr/>
          <p:nvPr/>
        </p:nvSpPr>
        <p:spPr>
          <a:xfrm>
            <a:off x="1000080" y="1928880"/>
            <a:ext cx="164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Century Schoolbook"/>
              </a:rPr>
              <a:t>Asp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Таблица 4" descr=""/>
          <p:cNvPicPr/>
          <p:nvPr/>
        </p:nvPicPr>
        <p:blipFill>
          <a:blip r:embed="rId1"/>
          <a:stretch/>
        </p:blipFill>
        <p:spPr>
          <a:xfrm>
            <a:off x="-66600" y="-60480"/>
            <a:ext cx="9277200" cy="5261040"/>
          </a:xfrm>
          <a:prstGeom prst="rect">
            <a:avLst/>
          </a:prstGeom>
          <a:ln w="0">
            <a:noFill/>
          </a:ln>
        </p:spPr>
      </p:pic>
      <p:sp>
        <p:nvSpPr>
          <p:cNvPr id="357" name="Прямая соединительная линия 5"/>
          <p:cNvSpPr/>
          <p:nvPr/>
        </p:nvSpPr>
        <p:spPr>
          <a:xfrm>
            <a:off x="0" y="1214280"/>
            <a:ext cx="2928960" cy="1357560"/>
          </a:xfrm>
          <a:prstGeom prst="line">
            <a:avLst/>
          </a:prstGeom>
          <a:ln w="1260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Прямая соединительная линия 8"/>
          <p:cNvSpPr/>
          <p:nvPr/>
        </p:nvSpPr>
        <p:spPr>
          <a:xfrm>
            <a:off x="2857680" y="3714840"/>
            <a:ext cx="6286320" cy="1440"/>
          </a:xfrm>
          <a:prstGeom prst="line">
            <a:avLst/>
          </a:prstGeom>
          <a:ln w="1260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Box 20"/>
          <p:cNvSpPr/>
          <p:nvPr/>
        </p:nvSpPr>
        <p:spPr>
          <a:xfrm>
            <a:off x="1285920" y="5140440"/>
            <a:ext cx="7215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Not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ould be noted that the passive geru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 not much us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Управляющая кнопка: возврат 6">
            <a:hlinkClick r:id="rId2" action="ppaction://hlinksldjump"/>
          </p:cNvPr>
          <p:cNvSpPr/>
          <p:nvPr/>
        </p:nvSpPr>
        <p:spPr>
          <a:xfrm>
            <a:off x="8358120" y="6286680"/>
            <a:ext cx="571680" cy="357120"/>
          </a:xfrm>
          <a:custGeom>
            <a:avLst/>
            <a:gdLst>
              <a:gd name="textAreaLeft" fmla="*/ 23040 w 571680"/>
              <a:gd name="textAreaRight" fmla="*/ 548640 w 57168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34564" h="21600">
                <a:moveTo>
                  <a:pt x="0" y="0"/>
                </a:moveTo>
                <a:lnTo>
                  <a:pt x="34564" y="0"/>
                </a:lnTo>
                <a:lnTo>
                  <a:pt x="34564" y="21600"/>
                </a:lnTo>
                <a:lnTo>
                  <a:pt x="0" y="21600"/>
                </a:lnTo>
                <a:close/>
              </a:path>
              <a:path fill="lightenLess" w="34564" h="21600">
                <a:moveTo>
                  <a:pt x="0" y="0"/>
                </a:moveTo>
                <a:lnTo>
                  <a:pt x="34564" y="0"/>
                </a:lnTo>
                <a:lnTo>
                  <a:pt x="33164" y="1400"/>
                </a:lnTo>
                <a:lnTo>
                  <a:pt x="1400" y="1400"/>
                </a:lnTo>
                <a:close/>
              </a:path>
              <a:path fill="darken" w="34564" h="21600">
                <a:moveTo>
                  <a:pt x="34564" y="0"/>
                </a:moveTo>
                <a:lnTo>
                  <a:pt x="34564" y="21600"/>
                </a:lnTo>
                <a:lnTo>
                  <a:pt x="33164" y="20200"/>
                </a:lnTo>
                <a:lnTo>
                  <a:pt x="33164" y="1400"/>
                </a:lnTo>
                <a:close/>
              </a:path>
              <a:path fill="darkenLess" w="34564" h="21600">
                <a:moveTo>
                  <a:pt x="345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64" y="20200"/>
                </a:lnTo>
                <a:close/>
              </a:path>
              <a:path fill="lighten" w="345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64" h="21600">
                <a:moveTo>
                  <a:pt x="10276" y="7493"/>
                </a:moveTo>
                <a:lnTo>
                  <a:pt x="13783" y="7493"/>
                </a:lnTo>
                <a:lnTo>
                  <a:pt x="13783" y="12828"/>
                </a:lnTo>
                <a:cubicBezTo>
                  <a:pt x="13783" y="13751"/>
                  <a:pt x="14584" y="14482"/>
                  <a:pt x="15620" y="14482"/>
                </a:cubicBezTo>
                <a:lnTo>
                  <a:pt x="17282" y="14482"/>
                </a:lnTo>
                <a:cubicBezTo>
                  <a:pt x="18318" y="14482"/>
                  <a:pt x="19119" y="13751"/>
                  <a:pt x="19119" y="12828"/>
                </a:cubicBezTo>
                <a:lnTo>
                  <a:pt x="19119" y="7493"/>
                </a:lnTo>
                <a:lnTo>
                  <a:pt x="17282" y="7493"/>
                </a:lnTo>
                <a:lnTo>
                  <a:pt x="20790" y="3985"/>
                </a:lnTo>
                <a:lnTo>
                  <a:pt x="24463" y="7493"/>
                </a:lnTo>
                <a:lnTo>
                  <a:pt x="22626" y="7493"/>
                </a:lnTo>
                <a:lnTo>
                  <a:pt x="22626" y="12828"/>
                </a:lnTo>
                <a:cubicBezTo>
                  <a:pt x="22626" y="15596"/>
                  <a:pt x="20050" y="18155"/>
                  <a:pt x="17282" y="18155"/>
                </a:cubicBezTo>
                <a:lnTo>
                  <a:pt x="15620" y="18155"/>
                </a:lnTo>
                <a:cubicBezTo>
                  <a:pt x="12852" y="18155"/>
                  <a:pt x="10276" y="15596"/>
                  <a:pt x="10276" y="12828"/>
                </a:cubicBezTo>
                <a:close/>
              </a:path>
            </a:pathLst>
          </a:cu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9T08:38:47Z</dcterms:created>
  <dc:creator>Admin</dc:creator>
  <dc:description/>
  <dc:language>en-US</dc:language>
  <cp:lastModifiedBy>Владимир</cp:lastModifiedBy>
  <dcterms:modified xsi:type="dcterms:W3CDTF">2023-02-06T09:20:39Z</dcterms:modified>
  <cp:revision>13</cp:revision>
  <dc:subject/>
  <dc:title>Слайд 1</dc:title>
</cp:coreProperties>
</file>