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8398-508F-474D-A02A-998EC8AF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73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71040" y="8106480"/>
            <a:ext cx="78073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60F0-FD5D-4A6F-9AAB-0121FD3F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7104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172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A965-162E-4C0F-8219-0646E569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0920" y="190656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50800" y="190656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71040" y="810648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0920" y="810648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50800" y="810648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71E2-DAE4-4DA5-985A-3D67BE73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30E9-E3F2-4A22-AFC8-9B6D8419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732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D4A6-59A1-4008-81B6-E0ABDB7C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732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AF45-56B1-4E9E-8304-33D684FC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8C2B-9A33-4EEB-B3D1-FEFF5736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E97A-56C1-40BF-BD8C-F35833A3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8B24-D00A-4538-A3C1-DD4DAABF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7104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10C3-DB5F-437F-A39C-903F5D42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732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0566-D0EF-4F4B-8509-A5C933A5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172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BD6F-487B-4E41-A20E-FA8F2A2D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71040" y="8106480"/>
            <a:ext cx="78073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0DC7-646B-40A8-BB51-2EB054FC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73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71040" y="8106480"/>
            <a:ext cx="78073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4933-85D0-4AC8-A97B-BB0DB488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7104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172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98A3-8810-44FD-B01E-3C9DEE83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10920" y="190656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50800" y="190656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71040" y="810648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10920" y="810648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50800" y="810648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51B2-306B-439E-8A97-3097D4D9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80732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732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732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1893-795D-409F-A9AB-C9F933C6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7104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172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1040" y="8106480"/>
            <a:ext cx="78073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73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71040" y="8106480"/>
            <a:ext cx="78073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7104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172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10920" y="190656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50800" y="190656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71040" y="810648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310920" y="810648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950800" y="8106480"/>
            <a:ext cx="2513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CA7E-962C-4851-BEC2-0FBDD6F1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DB9B-0A51-4496-BBDB-0AF2555B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13CB-4020-4DB4-97FA-9FFB1CF6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7104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5990-0EE0-48B5-AD84-B5ADCF27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1720" y="810648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4633-0192-405B-94D4-25E87366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906560"/>
            <a:ext cx="38098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1040" y="8106480"/>
            <a:ext cx="78073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E9C6-9864-4D22-AAA4-1BC597C8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58040" cy="6868800"/>
            <a:chOff x="0" y="0"/>
            <a:chExt cx="9158040" cy="6868800"/>
          </a:xfrm>
        </p:grpSpPr>
        <p:sp>
          <p:nvSpPr>
            <p:cNvPr id="1" name="Rectangle 2"/>
            <p:cNvSpPr/>
            <p:nvPr/>
          </p:nvSpPr>
          <p:spPr>
            <a:xfrm>
              <a:off x="0" y="6643800"/>
              <a:ext cx="8077320" cy="225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0"/>
              <a:ext cx="807732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7952040" y="0"/>
              <a:ext cx="1202760" cy="68565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7847280" y="1080"/>
              <a:ext cx="1292760" cy="6305040"/>
              <a:chOff x="7847280" y="1080"/>
              <a:chExt cx="1292760" cy="6305040"/>
            </a:xfrm>
          </p:grpSpPr>
          <p:grpSp>
            <p:nvGrpSpPr>
              <p:cNvPr id="5" name="Group 6"/>
              <p:cNvGrpSpPr/>
              <p:nvPr/>
            </p:nvGrpSpPr>
            <p:grpSpPr>
              <a:xfrm>
                <a:off x="8380080" y="1080"/>
                <a:ext cx="759960" cy="2267640"/>
                <a:chOff x="8380080" y="1080"/>
                <a:chExt cx="759960" cy="2267640"/>
              </a:xfrm>
            </p:grpSpPr>
            <p:grpSp>
              <p:nvGrpSpPr>
                <p:cNvPr id="6" name="Group 7"/>
                <p:cNvGrpSpPr/>
                <p:nvPr/>
              </p:nvGrpSpPr>
              <p:grpSpPr>
                <a:xfrm>
                  <a:off x="8701560" y="1080"/>
                  <a:ext cx="276840" cy="273600"/>
                  <a:chOff x="8701560" y="1080"/>
                  <a:chExt cx="276840" cy="273600"/>
                </a:xfrm>
              </p:grpSpPr>
              <p:grpSp>
                <p:nvGrpSpPr>
                  <p:cNvPr id="7" name="Group 8"/>
                  <p:cNvGrpSpPr/>
                  <p:nvPr/>
                </p:nvGrpSpPr>
                <p:grpSpPr>
                  <a:xfrm>
                    <a:off x="8701560" y="1080"/>
                    <a:ext cx="276840" cy="273600"/>
                    <a:chOff x="8701560" y="1080"/>
                    <a:chExt cx="276840" cy="273600"/>
                  </a:xfrm>
                </p:grpSpPr>
                <p:sp>
                  <p:nvSpPr>
                    <p:cNvPr id="8" name="Freeform 9"/>
                    <p:cNvSpPr/>
                    <p:nvPr/>
                  </p:nvSpPr>
                  <p:spPr>
                    <a:xfrm rot="16200000">
                      <a:off x="8739720" y="-37080"/>
                      <a:ext cx="200160" cy="27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0"/>
                    <p:cNvSpPr/>
                    <p:nvPr/>
                  </p:nvSpPr>
                  <p:spPr>
                    <a:xfrm rot="16200000">
                      <a:off x="8749080" y="92880"/>
                      <a:ext cx="140040" cy="22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1"/>
                  <p:cNvSpPr/>
                  <p:nvPr/>
                </p:nvSpPr>
                <p:spPr>
                  <a:xfrm rot="16200000">
                    <a:off x="8821800" y="131040"/>
                    <a:ext cx="266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 rot="16200000">
                    <a:off x="8752680" y="74520"/>
                    <a:ext cx="424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 rot="16200000">
                    <a:off x="8825760" y="61560"/>
                    <a:ext cx="630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 rot="16200000">
                    <a:off x="8893440" y="112320"/>
                    <a:ext cx="2340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 rot="16200000">
                    <a:off x="8820720" y="190080"/>
                    <a:ext cx="630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 rot="16200000">
                    <a:off x="8768160" y="164520"/>
                    <a:ext cx="378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0080" y="22788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5560" y="2278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07960" y="53244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2000" y="912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5560" y="8366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4280" y="121752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5560" y="15980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5560" y="1978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5"/>
              <p:cNvGrpSpPr/>
              <p:nvPr/>
            </p:nvGrpSpPr>
            <p:grpSpPr>
              <a:xfrm>
                <a:off x="7847280" y="1599120"/>
                <a:ext cx="826200" cy="4707000"/>
                <a:chOff x="7847280" y="1599120"/>
                <a:chExt cx="826200" cy="4707000"/>
              </a:xfrm>
            </p:grpSpPr>
            <p:pic>
              <p:nvPicPr>
                <p:cNvPr id="25" name="Picture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0760" y="159912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7080" y="19036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0760" y="251280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79000" y="274140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998840" y="28933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5160" y="31982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79000" y="3274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3040" y="373140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2880" y="350280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2880" y="388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0760" y="411192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3040" y="22078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7280" y="43405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2880" y="487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3040" y="525420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2880" y="54064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5160" y="56350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2880" y="6015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7080" y="58633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5"/>
            <p:cNvSpPr/>
            <p:nvPr/>
          </p:nvSpPr>
          <p:spPr>
            <a:xfrm>
              <a:off x="7952040" y="4907520"/>
              <a:ext cx="1190160" cy="193932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46"/>
            <p:cNvSpPr/>
            <p:nvPr/>
          </p:nvSpPr>
          <p:spPr>
            <a:xfrm>
              <a:off x="7937640" y="4856760"/>
              <a:ext cx="1218960" cy="199944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7"/>
            <p:cNvSpPr/>
            <p:nvPr/>
          </p:nvSpPr>
          <p:spPr>
            <a:xfrm>
              <a:off x="7926480" y="2817000"/>
              <a:ext cx="1231560" cy="403596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79af7d"/>
                </a:gs>
                <a:gs pos="50000">
                  <a:srgbClr val="375039"/>
                </a:gs>
                <a:gs pos="100000">
                  <a:srgbClr val="79af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48"/>
            <p:cNvSpPr/>
            <p:nvPr/>
          </p:nvSpPr>
          <p:spPr>
            <a:xfrm>
              <a:off x="8008920" y="3537360"/>
              <a:ext cx="979200" cy="218376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49"/>
            <p:cNvSpPr/>
            <p:nvPr/>
          </p:nvSpPr>
          <p:spPr>
            <a:xfrm>
              <a:off x="8242560" y="426600"/>
              <a:ext cx="914040" cy="504720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50"/>
            <p:cNvSpPr/>
            <p:nvPr/>
          </p:nvSpPr>
          <p:spPr>
            <a:xfrm>
              <a:off x="8248680" y="261720"/>
              <a:ext cx="909360" cy="307080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51"/>
            <p:cNvSpPr/>
            <p:nvPr/>
          </p:nvSpPr>
          <p:spPr>
            <a:xfrm>
              <a:off x="7942320" y="0"/>
              <a:ext cx="576000" cy="33519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52"/>
            <p:cNvSpPr/>
            <p:nvPr/>
          </p:nvSpPr>
          <p:spPr>
            <a:xfrm>
              <a:off x="7942320" y="1080"/>
              <a:ext cx="299880" cy="335232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3"/>
            <p:cNvSpPr/>
            <p:nvPr/>
          </p:nvSpPr>
          <p:spPr>
            <a:xfrm>
              <a:off x="7864560" y="1080"/>
              <a:ext cx="8856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4"/>
            <p:cNvSpPr/>
            <p:nvPr/>
          </p:nvSpPr>
          <p:spPr>
            <a:xfrm>
              <a:off x="7956720" y="6228000"/>
              <a:ext cx="1164960" cy="61884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55"/>
            <p:cNvSpPr/>
            <p:nvPr/>
          </p:nvSpPr>
          <p:spPr>
            <a:xfrm rot="5400000">
              <a:off x="4324680" y="331560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2040"/>
            <a:ext cx="1781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200" y="6248520"/>
            <a:ext cx="3454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5C4FFE-8265-46AB-A834-99BAE798008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"/>
          <p:cNvGrpSpPr/>
          <p:nvPr/>
        </p:nvGrpSpPr>
        <p:grpSpPr>
          <a:xfrm>
            <a:off x="0" y="0"/>
            <a:ext cx="9158040" cy="6868800"/>
            <a:chOff x="0" y="0"/>
            <a:chExt cx="9158040" cy="6868800"/>
          </a:xfrm>
        </p:grpSpPr>
        <p:sp>
          <p:nvSpPr>
            <p:cNvPr id="97" name="Rectangle 2"/>
            <p:cNvSpPr/>
            <p:nvPr/>
          </p:nvSpPr>
          <p:spPr>
            <a:xfrm>
              <a:off x="0" y="6643800"/>
              <a:ext cx="8077320" cy="225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3"/>
            <p:cNvSpPr/>
            <p:nvPr/>
          </p:nvSpPr>
          <p:spPr>
            <a:xfrm>
              <a:off x="0" y="0"/>
              <a:ext cx="807732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4"/>
            <p:cNvSpPr/>
            <p:nvPr/>
          </p:nvSpPr>
          <p:spPr>
            <a:xfrm>
              <a:off x="7952040" y="0"/>
              <a:ext cx="1202760" cy="68565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Group 5"/>
            <p:cNvGrpSpPr/>
            <p:nvPr/>
          </p:nvGrpSpPr>
          <p:grpSpPr>
            <a:xfrm>
              <a:off x="7847280" y="1080"/>
              <a:ext cx="1292760" cy="6305040"/>
              <a:chOff x="7847280" y="1080"/>
              <a:chExt cx="1292760" cy="6305040"/>
            </a:xfrm>
          </p:grpSpPr>
          <p:grpSp>
            <p:nvGrpSpPr>
              <p:cNvPr id="101" name="Group 6"/>
              <p:cNvGrpSpPr/>
              <p:nvPr/>
            </p:nvGrpSpPr>
            <p:grpSpPr>
              <a:xfrm>
                <a:off x="8380080" y="1080"/>
                <a:ext cx="759960" cy="2267640"/>
                <a:chOff x="8380080" y="1080"/>
                <a:chExt cx="759960" cy="2267640"/>
              </a:xfrm>
            </p:grpSpPr>
            <p:grpSp>
              <p:nvGrpSpPr>
                <p:cNvPr id="102" name="Group 7"/>
                <p:cNvGrpSpPr/>
                <p:nvPr/>
              </p:nvGrpSpPr>
              <p:grpSpPr>
                <a:xfrm>
                  <a:off x="8701560" y="1080"/>
                  <a:ext cx="276840" cy="273600"/>
                  <a:chOff x="8701560" y="1080"/>
                  <a:chExt cx="276840" cy="273600"/>
                </a:xfrm>
              </p:grpSpPr>
              <p:grpSp>
                <p:nvGrpSpPr>
                  <p:cNvPr id="103" name="Group 8"/>
                  <p:cNvGrpSpPr/>
                  <p:nvPr/>
                </p:nvGrpSpPr>
                <p:grpSpPr>
                  <a:xfrm>
                    <a:off x="8701560" y="1080"/>
                    <a:ext cx="276840" cy="273600"/>
                    <a:chOff x="8701560" y="1080"/>
                    <a:chExt cx="276840" cy="273600"/>
                  </a:xfrm>
                </p:grpSpPr>
                <p:sp>
                  <p:nvSpPr>
                    <p:cNvPr id="104" name="Freeform 9"/>
                    <p:cNvSpPr/>
                    <p:nvPr/>
                  </p:nvSpPr>
                  <p:spPr>
                    <a:xfrm rot="16200000">
                      <a:off x="8739720" y="-37080"/>
                      <a:ext cx="200160" cy="27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0"/>
                    <p:cNvSpPr/>
                    <p:nvPr/>
                  </p:nvSpPr>
                  <p:spPr>
                    <a:xfrm rot="16200000">
                      <a:off x="8749080" y="92880"/>
                      <a:ext cx="140040" cy="22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1"/>
                  <p:cNvSpPr/>
                  <p:nvPr/>
                </p:nvSpPr>
                <p:spPr>
                  <a:xfrm rot="16200000">
                    <a:off x="8821800" y="131040"/>
                    <a:ext cx="266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2"/>
                  <p:cNvSpPr/>
                  <p:nvPr/>
                </p:nvSpPr>
                <p:spPr>
                  <a:xfrm rot="16200000">
                    <a:off x="8752680" y="74520"/>
                    <a:ext cx="424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3"/>
                  <p:cNvSpPr/>
                  <p:nvPr/>
                </p:nvSpPr>
                <p:spPr>
                  <a:xfrm rot="16200000">
                    <a:off x="8825760" y="61560"/>
                    <a:ext cx="630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4"/>
                  <p:cNvSpPr/>
                  <p:nvPr/>
                </p:nvSpPr>
                <p:spPr>
                  <a:xfrm rot="16200000">
                    <a:off x="8893440" y="112320"/>
                    <a:ext cx="2340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5"/>
                  <p:cNvSpPr/>
                  <p:nvPr/>
                </p:nvSpPr>
                <p:spPr>
                  <a:xfrm rot="16200000">
                    <a:off x="8820720" y="190080"/>
                    <a:ext cx="630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6"/>
                  <p:cNvSpPr/>
                  <p:nvPr/>
                </p:nvSpPr>
                <p:spPr>
                  <a:xfrm rot="16200000">
                    <a:off x="8768160" y="164520"/>
                    <a:ext cx="378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0080" y="22788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5560" y="2278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07960" y="53244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2000" y="912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5560" y="8366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4280" y="121752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5560" y="15980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5560" y="1978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5"/>
              <p:cNvGrpSpPr/>
              <p:nvPr/>
            </p:nvGrpSpPr>
            <p:grpSpPr>
              <a:xfrm>
                <a:off x="7847280" y="1599120"/>
                <a:ext cx="826200" cy="4707000"/>
                <a:chOff x="7847280" y="1599120"/>
                <a:chExt cx="826200" cy="4707000"/>
              </a:xfrm>
            </p:grpSpPr>
            <p:pic>
              <p:nvPicPr>
                <p:cNvPr id="121" name="Picture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0760" y="159912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7080" y="19036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0760" y="251280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79000" y="274140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998840" y="28933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5160" y="31982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79000" y="3274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3040" y="373140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2880" y="350280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2880" y="388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0760" y="411192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3040" y="22078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7280" y="43405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2880" y="487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3040" y="525420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2880" y="54064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5160" y="56350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2880" y="6015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7080" y="58633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5"/>
            <p:cNvSpPr/>
            <p:nvPr/>
          </p:nvSpPr>
          <p:spPr>
            <a:xfrm>
              <a:off x="7952040" y="4907520"/>
              <a:ext cx="1190160" cy="193932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6"/>
            <p:cNvSpPr/>
            <p:nvPr/>
          </p:nvSpPr>
          <p:spPr>
            <a:xfrm>
              <a:off x="7937640" y="4856760"/>
              <a:ext cx="1218960" cy="199944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7"/>
            <p:cNvSpPr/>
            <p:nvPr/>
          </p:nvSpPr>
          <p:spPr>
            <a:xfrm>
              <a:off x="7926480" y="2817000"/>
              <a:ext cx="1231560" cy="403596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79af7d"/>
                </a:gs>
                <a:gs pos="50000">
                  <a:srgbClr val="375039"/>
                </a:gs>
                <a:gs pos="100000">
                  <a:srgbClr val="79af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48"/>
            <p:cNvSpPr/>
            <p:nvPr/>
          </p:nvSpPr>
          <p:spPr>
            <a:xfrm>
              <a:off x="8008920" y="3537360"/>
              <a:ext cx="979200" cy="218376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49"/>
            <p:cNvSpPr/>
            <p:nvPr/>
          </p:nvSpPr>
          <p:spPr>
            <a:xfrm>
              <a:off x="8242560" y="426600"/>
              <a:ext cx="914040" cy="504720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50"/>
            <p:cNvSpPr/>
            <p:nvPr/>
          </p:nvSpPr>
          <p:spPr>
            <a:xfrm>
              <a:off x="8248680" y="261720"/>
              <a:ext cx="909360" cy="307080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51"/>
            <p:cNvSpPr/>
            <p:nvPr/>
          </p:nvSpPr>
          <p:spPr>
            <a:xfrm>
              <a:off x="7942320" y="0"/>
              <a:ext cx="576000" cy="33519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2"/>
            <p:cNvSpPr/>
            <p:nvPr/>
          </p:nvSpPr>
          <p:spPr>
            <a:xfrm>
              <a:off x="7942320" y="1080"/>
              <a:ext cx="299880" cy="335232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3"/>
            <p:cNvSpPr/>
            <p:nvPr/>
          </p:nvSpPr>
          <p:spPr>
            <a:xfrm>
              <a:off x="7864560" y="1080"/>
              <a:ext cx="8856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54"/>
            <p:cNvSpPr/>
            <p:nvPr/>
          </p:nvSpPr>
          <p:spPr>
            <a:xfrm>
              <a:off x="7956720" y="6228000"/>
              <a:ext cx="1164960" cy="61884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55"/>
            <p:cNvSpPr/>
            <p:nvPr/>
          </p:nvSpPr>
          <p:spPr>
            <a:xfrm rot="5400000">
              <a:off x="4324680" y="3315600"/>
              <a:ext cx="6856560" cy="225360"/>
            </a:xfrm>
            <a:custGeom>
              <a:avLst/>
              <a:gdLst>
                <a:gd name="textAreaLeft" fmla="*/ 668160 w 6856560"/>
                <a:gd name="textAreaRight" fmla="*/ 6188400 w 68565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370160"/>
            <a:ext cx="69642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2040"/>
            <a:ext cx="1781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200" y="6248520"/>
            <a:ext cx="3454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D5B4D77-A613-4561-8392-2D16EBA29C95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7320" cy="11869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g.photo.tut.ua/bustravel/229/12805/530/1_26548.jpg" TargetMode="External"/><Relationship Id="rId2" Type="http://schemas.openxmlformats.org/officeDocument/2006/relationships/hyperlink" Target="http://www.mozart.cat/fotos/galeries/monument_03.jpg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7e0021"/>
                </a:solidFill>
                <a:latin typeface="Times New Roman"/>
              </a:rPr>
              <a:t>В чём сила музыки В.А.Моцарта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727280" y="3716280"/>
            <a:ext cx="702144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 клас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142560"/>
            <a:ext cx="74768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«Рондо» из «Маленькой ночной серенады» В.А.Моцарта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2160720"/>
            <a:ext cx="738648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1320" indent="-571320">
              <a:lnSpc>
                <a:spcPct val="95000"/>
              </a:lnSpc>
              <a:spcBef>
                <a:spcPts val="901"/>
              </a:spcBef>
              <a:spcAft>
                <a:spcPts val="1426"/>
              </a:spcAft>
              <a:buSzPct val="102812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320" indent="-571320">
              <a:lnSpc>
                <a:spcPct val="95000"/>
              </a:lnSpc>
              <a:spcBef>
                <a:spcPts val="901"/>
              </a:spcBef>
              <a:spcAft>
                <a:spcPts val="1426"/>
              </a:spcAft>
              <a:buClr>
                <a:srgbClr val="2f1311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ределить характер произведе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320" indent="-571320">
              <a:lnSpc>
                <a:spcPct val="95000"/>
              </a:lnSpc>
              <a:spcBef>
                <a:spcPts val="901"/>
              </a:spcBef>
              <a:spcAft>
                <a:spcPts val="1426"/>
              </a:spcAft>
              <a:buClr>
                <a:srgbClr val="2f1311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колько раз повторяется главная тем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320" indent="-571320">
              <a:lnSpc>
                <a:spcPct val="95000"/>
              </a:lnSpc>
              <a:spcBef>
                <a:spcPts val="901"/>
              </a:spcBef>
              <a:spcAft>
                <a:spcPts val="1426"/>
              </a:spcAft>
              <a:buClr>
                <a:srgbClr val="2f1311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ля каких инструментов написана эта музык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81000"/>
            <a:ext cx="747684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леднее произведение В.А.Моцар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2160360"/>
            <a:ext cx="7386480" cy="39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5200" indent="-56520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Задани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Clr>
                <a:srgbClr val="2f1311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то исполняет это произведение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Clr>
                <a:srgbClr val="2f1311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аково его настроение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-56520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Clr>
                <a:srgbClr val="2f1311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огда бывает такое настроение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Реквие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2276280"/>
            <a:ext cx="738648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1100"/>
              </a:spcBef>
              <a:spcAft>
                <a:spcPts val="1426"/>
              </a:spcAft>
              <a:buSzPct val="102909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то означает это слово? 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(в чьём исполнении звучит, с какой целью)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Реквие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2276280"/>
            <a:ext cx="738648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Aft>
                <a:spcPts val="1426"/>
              </a:spcAft>
              <a:buSzPct val="102909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ольшое вокальное или вокально – инструментальное произведение, написанное в память умерши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Лакримоза» из «Реквиема» В.А.Моцар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63520" y="2852280"/>
            <a:ext cx="738648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1199"/>
              </a:spcBef>
              <a:spcAft>
                <a:spcPts val="1426"/>
              </a:spcAft>
              <a:buSzPct val="102861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Лакримоза в переводе с латинского означает «слёзная», «печальная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83680"/>
            <a:ext cx="75214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. Какие произведения Моцарта написаны в форме рондо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8920" y="2700000"/>
            <a:ext cx="738684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А) «Маленькая ночная серенада»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Б) «Лакримоза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В) «Реквием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5214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. Что такое серенада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916280"/>
            <a:ext cx="73864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1100"/>
              </a:spcBef>
              <a:spcAft>
                <a:spcPts val="1426"/>
              </a:spcAft>
              <a:buSzPct val="102909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А) песня в ночное врем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100"/>
              </a:spcBef>
              <a:spcAft>
                <a:spcPts val="1426"/>
              </a:spcAft>
              <a:buSzPct val="102909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Б) песня для возлюбленной в ночное врем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100"/>
              </a:spcBef>
              <a:spcAft>
                <a:spcPts val="1426"/>
              </a:spcAft>
              <a:buSzPct val="102909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В) песня для возлюбленн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36360"/>
            <a:ext cx="741672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3. Назовите последнее произведение Моцарт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916280"/>
            <a:ext cx="73864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1100"/>
              </a:spcBef>
              <a:spcAft>
                <a:spcPts val="1426"/>
              </a:spcAft>
              <a:buSzPct val="102909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А) «Маленькая ночная серенада»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100"/>
              </a:spcBef>
              <a:spcAft>
                <a:spcPts val="1426"/>
              </a:spcAft>
              <a:buSzPct val="102909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Б) «Реквием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100"/>
              </a:spcBef>
              <a:spcAft>
                <a:spcPts val="1426"/>
              </a:spcAft>
              <a:buSzPct val="102909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В) «Лакримоз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5214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4. Что такое реквием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3520" y="1916280"/>
            <a:ext cx="738648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1100"/>
              </a:spcBef>
              <a:spcAft>
                <a:spcPts val="1426"/>
              </a:spcAft>
              <a:buSzPct val="102909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А) слёзный, печаль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100"/>
              </a:spcBef>
              <a:spcAft>
                <a:spcPts val="1426"/>
              </a:spcAft>
              <a:buSzPct val="102909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Б) лакримо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100"/>
              </a:spcBef>
              <a:spcAft>
                <a:spcPts val="1426"/>
              </a:spcAft>
              <a:buSzPct val="102909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В) произведение в память умерши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665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пробуйте оценить себя. Если вы уверены, что ответили правильно на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2997000"/>
            <a:ext cx="7386480" cy="30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4 вопроса – оценка «5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 вопроса – оценка «4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 вопроса – оценка «3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ь свои результа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63520" y="1598760"/>
          <a:ext cx="7386480" cy="4495680"/>
        </p:xfrm>
        <a:graphic>
          <a:graphicData uri="http://schemas.openxmlformats.org/drawingml/2006/table">
            <a:tbl>
              <a:tblPr/>
              <a:tblGrid>
                <a:gridCol w="1476360"/>
                <a:gridCol w="1478160"/>
                <a:gridCol w="1477800"/>
                <a:gridCol w="1476360"/>
                <a:gridCol w="1477800"/>
              </a:tblGrid>
              <a:tr h="2247840">
                <a:tc>
                  <a:txBody>
                    <a:bodyPr lIns="90000" rIns="90000" tIns="694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9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36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п/п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4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9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4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9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4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9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4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9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47840">
                <a:tc>
                  <a:txBody>
                    <a:bodyPr lIns="90000" rIns="90000" tIns="6696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99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отве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4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9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4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9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4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9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948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9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50560" y="72720"/>
            <a:ext cx="7489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. Каковы основные черты творчества Моцарта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63520" y="2565000"/>
            <a:ext cx="73864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1100"/>
              </a:spcBef>
              <a:spcAft>
                <a:spcPts val="1426"/>
              </a:spcAft>
              <a:buSzPct val="102909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А) борьба чувств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100"/>
              </a:spcBef>
              <a:spcAft>
                <a:spcPts val="1426"/>
              </a:spcAft>
              <a:buSzPct val="102909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Б) лирич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100"/>
              </a:spcBef>
              <a:spcAft>
                <a:spcPts val="1426"/>
              </a:spcAft>
              <a:buSzPct val="102909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В) чистота, солнечность, ясность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-16200"/>
            <a:ext cx="75214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. В чём сила музыки Моцарта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3520" y="2060280"/>
            <a:ext cx="73864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1100"/>
              </a:spcBef>
              <a:spcAft>
                <a:spcPts val="1426"/>
              </a:spcAft>
              <a:buSzPct val="102909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А) в музыкальной красот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100"/>
              </a:spcBef>
              <a:spcAft>
                <a:spcPts val="1426"/>
              </a:spcAft>
              <a:buSzPct val="102909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Б) в жизненной правд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100"/>
              </a:spcBef>
              <a:spcAft>
                <a:spcPts val="1426"/>
              </a:spcAft>
              <a:buSzPct val="102909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В) в музыкальной красоте и глубокой жизненной правд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665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пробуйте оценить себя. Если вы уверены, что ответили правильно на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3141720"/>
            <a:ext cx="7386480" cy="29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 вопроса – оценка «5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 вопрос  – оценка «4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ь свои результа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63520" y="1598760"/>
          <a:ext cx="7189920" cy="4497120"/>
        </p:xfrm>
        <a:graphic>
          <a:graphicData uri="http://schemas.openxmlformats.org/drawingml/2006/table">
            <a:tbl>
              <a:tblPr/>
              <a:tblGrid>
                <a:gridCol w="3084480"/>
                <a:gridCol w="2089080"/>
                <a:gridCol w="2016360"/>
              </a:tblGrid>
              <a:tr h="224928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00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44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п/п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00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00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4784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00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ответы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00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В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00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4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В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машнее задание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901"/>
              </a:spcBef>
              <a:spcAft>
                <a:spcPts val="1426"/>
              </a:spcAft>
              <a:buSzPct val="102812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(на выбор)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901"/>
              </a:spcBef>
              <a:spcAft>
                <a:spcPts val="1426"/>
              </a:spcAft>
              <a:buClr>
                <a:srgbClr val="2f1311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знать интересные факты из жизни В. Моцарт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901"/>
              </a:spcBef>
              <a:spcAft>
                <a:spcPts val="1426"/>
              </a:spcAft>
              <a:buClr>
                <a:srgbClr val="2f1311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ставить кроссворд о жизни и творчестве В. Моцарт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901"/>
              </a:spcBef>
              <a:spcAft>
                <a:spcPts val="1426"/>
              </a:spcAft>
              <a:buClr>
                <a:srgbClr val="2f1311"/>
              </a:buClr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лушать музыку В.А. Моцарт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0920" y="4220640"/>
            <a:ext cx="7807320" cy="22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img.photo.tut.ua/bustravel/229/12805/530/1_26548.j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mozart.cat/fotos/galeries/monument_03.j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60000" y="96840"/>
            <a:ext cx="752148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чему маленького Моцарта называли чудо  ребёнком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4920" y="2207880"/>
            <a:ext cx="738684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А) за музыкальную одарён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Б) за концертное путешествие по Европ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В) за игру на музыкальных инструмента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9240" y="12600"/>
            <a:ext cx="73771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. Благодаря чему был  развит музыкальный талант Моцарта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53520" y="3060360"/>
            <a:ext cx="73868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А) его старани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Б) поддержке отц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В) поддержке отца 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старанию самого Моцар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82520" y="179280"/>
            <a:ext cx="73771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 каких музыкальных инструментах играл Моцарт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53520" y="2879280"/>
            <a:ext cx="7386840" cy="36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А) на клавесине и орган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Б) на скрипк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В) на клавесине, органе, скрипк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665840" cy="23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пробуйте оценить себя. Если вы уверены, что ответили правильно на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2997000"/>
            <a:ext cx="7386480" cy="30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3 вопроса – оценка «5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 вопроса – оценка «4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 вопрос – оценка «3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ьте свои результат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63520" y="1598760"/>
          <a:ext cx="7386480" cy="4495680"/>
        </p:xfrm>
        <a:graphic>
          <a:graphicData uri="http://schemas.openxmlformats.org/drawingml/2006/table">
            <a:tbl>
              <a:tblPr/>
              <a:tblGrid>
                <a:gridCol w="1846440"/>
                <a:gridCol w="1847520"/>
                <a:gridCol w="1846440"/>
                <a:gridCol w="1846080"/>
              </a:tblGrid>
              <a:tr h="2247840">
                <a:tc>
                  <a:txBody>
                    <a:bodyPr lIns="90000" rIns="90000" tIns="720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 № </a:t>
                      </a:r>
                      <a:r>
                        <a:rPr b="0" lang="ru-RU" sz="40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п/п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20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20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20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47840">
                <a:tc>
                  <a:txBody>
                    <a:bodyPr lIns="90000" rIns="90000" tIns="720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отве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20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20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20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spcAft>
                          <a:spcPts val="14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2f1311"/>
                          </a:solidFill>
                          <a:latin typeface="Times New Roman"/>
                        </a:rPr>
                        <a:t>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9240" y="199800"/>
            <a:ext cx="76658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еренад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 (от итальянского - ясная погода, ночная прохлада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2781000"/>
            <a:ext cx="738648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пробуйте дать понятие, что такое «серенада»?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(что это, когда исполняется, где, с какой целью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еренада 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1001"/>
              </a:spcBef>
              <a:spcAft>
                <a:spcPts val="1426"/>
              </a:spcAft>
              <a:buSzPct val="10286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то музыкальное произведение, песня, исполняемая в вечернее или ночное время перед домом возлюбленной в знак любви и почитания.  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8:15:00Z</dcterms:created>
  <dc:creator>школа</dc:creator>
  <dc:description/>
  <dc:language>en-US</dc:language>
  <cp:lastModifiedBy>Admin</cp:lastModifiedBy>
  <dcterms:modified xsi:type="dcterms:W3CDTF">2023-02-06T07:54:37Z</dcterms:modified>
  <cp:revision>11</cp:revision>
  <dc:subject/>
  <dc:title>Слайд 1</dc:title>
</cp:coreProperties>
</file>