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7E07-CA5A-441E-B512-1F374E52C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732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71040" y="8106480"/>
            <a:ext cx="780732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89FB-9A93-4414-925F-B9042E10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720" y="190656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71040" y="810648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1720" y="810648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6CD7-858B-4016-BA7D-FAF668270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13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0920" y="1906560"/>
            <a:ext cx="2513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50800" y="1906560"/>
            <a:ext cx="2513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71040" y="8106480"/>
            <a:ext cx="2513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0920" y="8106480"/>
            <a:ext cx="2513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50800" y="8106480"/>
            <a:ext cx="2513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2F5A-1A92-4889-A29E-91CBE1B99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B8B8-778B-4A53-B68D-B59FABCC3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807320" cy="11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7523-4366-49F2-85AE-FE429990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7320" cy="11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D3C2-8ED5-4DB9-84C1-AF57AE51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880" cy="11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1720" y="1906560"/>
            <a:ext cx="3809880" cy="11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8C059-A8F6-4F54-9D95-A618FD5B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E591-F214-4272-9D66-6C2EEFB8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FF22-CFDA-4D10-97FD-8D10793D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1720" y="1906560"/>
            <a:ext cx="3809880" cy="11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71040" y="810648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FFDC-93DD-4E77-9730-7D3E0515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807320" cy="11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62FA-9FF9-4F9D-96D5-907ED677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880" cy="11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1720" y="190656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1720" y="810648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961A-F5AF-41EE-9E91-DA8DCFD4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1720" y="190656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71040" y="8106480"/>
            <a:ext cx="780732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9D78-6929-48BA-92ED-97E0BCB8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732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71040" y="8106480"/>
            <a:ext cx="780732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A703-279B-42D2-9EB2-F357CE17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720" y="190656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71040" y="810648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1720" y="810648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51D7-E440-4472-87E2-27C55A5C8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13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310920" y="1906560"/>
            <a:ext cx="2513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50800" y="1906560"/>
            <a:ext cx="2513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71040" y="8106480"/>
            <a:ext cx="2513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310920" y="8106480"/>
            <a:ext cx="2513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50800" y="8106480"/>
            <a:ext cx="2513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DB54B-231E-4F5B-AB1A-CB780CBC7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807320" cy="11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7320" cy="11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880" cy="11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1720" y="1906560"/>
            <a:ext cx="3809880" cy="11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7320" cy="11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E0DE-77FD-4A1A-BB87-49A7C7BA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1720" y="1906560"/>
            <a:ext cx="3809880" cy="11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71040" y="810648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880" cy="11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1720" y="190656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1720" y="810648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1720" y="190656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71040" y="8106480"/>
            <a:ext cx="780732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732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71040" y="8106480"/>
            <a:ext cx="780732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1720" y="190656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71040" y="810648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1720" y="810648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13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310920" y="1906560"/>
            <a:ext cx="2513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950800" y="1906560"/>
            <a:ext cx="2513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71040" y="8106480"/>
            <a:ext cx="2513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310920" y="8106480"/>
            <a:ext cx="2513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5950800" y="8106480"/>
            <a:ext cx="2513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880" cy="11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720" y="1906560"/>
            <a:ext cx="3809880" cy="11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8F08-3207-46A5-AC0B-A1B57197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76C5-57BA-4769-87CE-51D032D2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635E-F165-435B-ACFF-EE20A989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1720" y="1906560"/>
            <a:ext cx="3809880" cy="11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71040" y="810648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0F2E-4B05-4009-AEC0-9425FA73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880" cy="11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1720" y="190656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1720" y="810648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5DF7-7287-4EC1-B5D5-7043F61E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1720" y="190656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1040" y="8106480"/>
            <a:ext cx="780732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2CC7-2AD7-41CF-B77C-2C5D15DB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.xml"/><Relationship Id="rId32" Type="http://schemas.openxmlformats.org/officeDocument/2006/relationships/slideLayout" Target="../slideLayouts/slideLayout2.xml"/><Relationship Id="rId33" Type="http://schemas.openxmlformats.org/officeDocument/2006/relationships/slideLayout" Target="../slideLayouts/slideLayout3.xml"/><Relationship Id="rId34" Type="http://schemas.openxmlformats.org/officeDocument/2006/relationships/slideLayout" Target="../slideLayouts/slideLayout4.xml"/><Relationship Id="rId35" Type="http://schemas.openxmlformats.org/officeDocument/2006/relationships/slideLayout" Target="../slideLayouts/slideLayout5.xml"/><Relationship Id="rId36" Type="http://schemas.openxmlformats.org/officeDocument/2006/relationships/slideLayout" Target="../slideLayouts/slideLayout6.xml"/><Relationship Id="rId37" Type="http://schemas.openxmlformats.org/officeDocument/2006/relationships/slideLayout" Target="../slideLayouts/slideLayout7.xml"/><Relationship Id="rId38" Type="http://schemas.openxmlformats.org/officeDocument/2006/relationships/slideLayout" Target="../slideLayouts/slideLayout8.xml"/><Relationship Id="rId39" Type="http://schemas.openxmlformats.org/officeDocument/2006/relationships/slideLayout" Target="../slideLayouts/slideLayout9.xml"/><Relationship Id="rId40" Type="http://schemas.openxmlformats.org/officeDocument/2006/relationships/slideLayout" Target="../slideLayouts/slideLayout10.xml"/><Relationship Id="rId41" Type="http://schemas.openxmlformats.org/officeDocument/2006/relationships/slideLayout" Target="../slideLayouts/slideLayout11.xml"/><Relationship Id="rId4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58040" cy="6868800"/>
            <a:chOff x="0" y="0"/>
            <a:chExt cx="9158040" cy="6868800"/>
          </a:xfrm>
        </p:grpSpPr>
        <p:sp>
          <p:nvSpPr>
            <p:cNvPr id="1" name="Rectangle 2"/>
            <p:cNvSpPr/>
            <p:nvPr/>
          </p:nvSpPr>
          <p:spPr>
            <a:xfrm>
              <a:off x="0" y="6643800"/>
              <a:ext cx="8077320" cy="225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0" y="0"/>
              <a:ext cx="807732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7952040" y="0"/>
              <a:ext cx="1202760" cy="685656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5"/>
            <p:cNvGrpSpPr/>
            <p:nvPr/>
          </p:nvGrpSpPr>
          <p:grpSpPr>
            <a:xfrm>
              <a:off x="7847280" y="1080"/>
              <a:ext cx="1292760" cy="6305040"/>
              <a:chOff x="7847280" y="1080"/>
              <a:chExt cx="1292760" cy="6305040"/>
            </a:xfrm>
          </p:grpSpPr>
          <p:grpSp>
            <p:nvGrpSpPr>
              <p:cNvPr id="5" name="Group 6"/>
              <p:cNvGrpSpPr/>
              <p:nvPr/>
            </p:nvGrpSpPr>
            <p:grpSpPr>
              <a:xfrm>
                <a:off x="8380080" y="1080"/>
                <a:ext cx="759960" cy="2267640"/>
                <a:chOff x="8380080" y="1080"/>
                <a:chExt cx="759960" cy="2267640"/>
              </a:xfrm>
            </p:grpSpPr>
            <p:grpSp>
              <p:nvGrpSpPr>
                <p:cNvPr id="6" name="Group 7"/>
                <p:cNvGrpSpPr/>
                <p:nvPr/>
              </p:nvGrpSpPr>
              <p:grpSpPr>
                <a:xfrm>
                  <a:off x="8701560" y="1080"/>
                  <a:ext cx="276840" cy="273600"/>
                  <a:chOff x="8701560" y="1080"/>
                  <a:chExt cx="276840" cy="273600"/>
                </a:xfrm>
              </p:grpSpPr>
              <p:grpSp>
                <p:nvGrpSpPr>
                  <p:cNvPr id="7" name="Group 8"/>
                  <p:cNvGrpSpPr/>
                  <p:nvPr/>
                </p:nvGrpSpPr>
                <p:grpSpPr>
                  <a:xfrm>
                    <a:off x="8701560" y="1080"/>
                    <a:ext cx="276840" cy="273600"/>
                    <a:chOff x="8701560" y="1080"/>
                    <a:chExt cx="276840" cy="273600"/>
                  </a:xfrm>
                </p:grpSpPr>
                <p:sp>
                  <p:nvSpPr>
                    <p:cNvPr id="8" name="Freeform 9"/>
                    <p:cNvSpPr/>
                    <p:nvPr/>
                  </p:nvSpPr>
                  <p:spPr>
                    <a:xfrm rot="16200000">
                      <a:off x="8739720" y="-37080"/>
                      <a:ext cx="200160" cy="27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0"/>
                    <p:cNvSpPr/>
                    <p:nvPr/>
                  </p:nvSpPr>
                  <p:spPr>
                    <a:xfrm rot="16200000">
                      <a:off x="8749080" y="92880"/>
                      <a:ext cx="140040" cy="22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1"/>
                  <p:cNvSpPr/>
                  <p:nvPr/>
                </p:nvSpPr>
                <p:spPr>
                  <a:xfrm rot="16200000">
                    <a:off x="8821800" y="131040"/>
                    <a:ext cx="266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2"/>
                  <p:cNvSpPr/>
                  <p:nvPr/>
                </p:nvSpPr>
                <p:spPr>
                  <a:xfrm rot="16200000">
                    <a:off x="8752680" y="74520"/>
                    <a:ext cx="424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 rot="16200000">
                    <a:off x="8825760" y="61560"/>
                    <a:ext cx="6300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4"/>
                  <p:cNvSpPr/>
                  <p:nvPr/>
                </p:nvSpPr>
                <p:spPr>
                  <a:xfrm rot="16200000">
                    <a:off x="8893440" y="112320"/>
                    <a:ext cx="2340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960" bIns="12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5"/>
                  <p:cNvSpPr/>
                  <p:nvPr/>
                </p:nvSpPr>
                <p:spPr>
                  <a:xfrm rot="16200000">
                    <a:off x="8820720" y="190080"/>
                    <a:ext cx="630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6"/>
                  <p:cNvSpPr/>
                  <p:nvPr/>
                </p:nvSpPr>
                <p:spPr>
                  <a:xfrm rot="16200000">
                    <a:off x="8768160" y="164520"/>
                    <a:ext cx="378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0080" y="227880"/>
                  <a:ext cx="2948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5560" y="2278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07960" y="532440"/>
                  <a:ext cx="2948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2000" y="9129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5560" y="83664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4280" y="121752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5560" y="159804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5560" y="19785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5"/>
              <p:cNvGrpSpPr/>
              <p:nvPr/>
            </p:nvGrpSpPr>
            <p:grpSpPr>
              <a:xfrm>
                <a:off x="7847280" y="1599120"/>
                <a:ext cx="826200" cy="4707000"/>
                <a:chOff x="7847280" y="1599120"/>
                <a:chExt cx="826200" cy="4707000"/>
              </a:xfrm>
            </p:grpSpPr>
            <p:pic>
              <p:nvPicPr>
                <p:cNvPr id="25" name="Picture 26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0760" y="159912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7080" y="190368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0760" y="251280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2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79000" y="274140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7998840" y="289332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5160" y="319824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79000" y="32745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3040" y="373140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2880" y="350280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2880" y="38836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0760" y="411192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3040" y="220788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8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7280" y="434052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39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2880" y="48736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3040" y="525420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2880" y="54064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2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5160" y="563508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3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2880" y="60159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7080" y="586332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5"/>
            <p:cNvSpPr/>
            <p:nvPr/>
          </p:nvSpPr>
          <p:spPr>
            <a:xfrm>
              <a:off x="7952040" y="4907520"/>
              <a:ext cx="1190160" cy="193932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46"/>
            <p:cNvSpPr/>
            <p:nvPr/>
          </p:nvSpPr>
          <p:spPr>
            <a:xfrm>
              <a:off x="7937640" y="4856760"/>
              <a:ext cx="1218960" cy="199944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f0b854"/>
                </a:gs>
                <a:gs pos="50000">
                  <a:srgbClr val="dc893e"/>
                </a:gs>
                <a:gs pos="100000">
                  <a:srgbClr val="f0b8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7"/>
            <p:cNvSpPr/>
            <p:nvPr/>
          </p:nvSpPr>
          <p:spPr>
            <a:xfrm>
              <a:off x="7926480" y="2817000"/>
              <a:ext cx="1231560" cy="403596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79af7d"/>
                </a:gs>
                <a:gs pos="50000">
                  <a:srgbClr val="375039"/>
                </a:gs>
                <a:gs pos="100000">
                  <a:srgbClr val="79af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48"/>
            <p:cNvSpPr/>
            <p:nvPr/>
          </p:nvSpPr>
          <p:spPr>
            <a:xfrm>
              <a:off x="8008920" y="3537360"/>
              <a:ext cx="979200" cy="218376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49"/>
            <p:cNvSpPr/>
            <p:nvPr/>
          </p:nvSpPr>
          <p:spPr>
            <a:xfrm>
              <a:off x="8242560" y="426600"/>
              <a:ext cx="914040" cy="504720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50"/>
            <p:cNvSpPr/>
            <p:nvPr/>
          </p:nvSpPr>
          <p:spPr>
            <a:xfrm>
              <a:off x="8248680" y="261720"/>
              <a:ext cx="909360" cy="307080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51"/>
            <p:cNvSpPr/>
            <p:nvPr/>
          </p:nvSpPr>
          <p:spPr>
            <a:xfrm>
              <a:off x="7942320" y="0"/>
              <a:ext cx="576000" cy="335196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52"/>
            <p:cNvSpPr/>
            <p:nvPr/>
          </p:nvSpPr>
          <p:spPr>
            <a:xfrm>
              <a:off x="7942320" y="1080"/>
              <a:ext cx="299880" cy="335232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0b854"/>
                </a:gs>
                <a:gs pos="50000">
                  <a:srgbClr val="dc893e"/>
                </a:gs>
                <a:gs pos="100000">
                  <a:srgbClr val="f0b8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53"/>
            <p:cNvSpPr/>
            <p:nvPr/>
          </p:nvSpPr>
          <p:spPr>
            <a:xfrm>
              <a:off x="7864560" y="1080"/>
              <a:ext cx="8856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4"/>
            <p:cNvSpPr/>
            <p:nvPr/>
          </p:nvSpPr>
          <p:spPr>
            <a:xfrm>
              <a:off x="7956720" y="6228000"/>
              <a:ext cx="1164960" cy="61884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c16059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AutoShape 55"/>
            <p:cNvSpPr/>
            <p:nvPr/>
          </p:nvSpPr>
          <p:spPr>
            <a:xfrm rot="5400000">
              <a:off x="4324680" y="3315600"/>
              <a:ext cx="6856560" cy="225360"/>
            </a:xfrm>
            <a:custGeom>
              <a:avLst/>
              <a:gdLst>
                <a:gd name="textAreaLeft" fmla="*/ 668160 w 6856560"/>
                <a:gd name="textAreaRight" fmla="*/ 6188400 w 68565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2040"/>
            <a:ext cx="1781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200" y="6248520"/>
            <a:ext cx="3454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4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E25D458-3B68-478F-BB8B-FAC3B62A461D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1"/>
    <p:sldLayoutId id="2147483650" r:id="rId32"/>
    <p:sldLayoutId id="2147483651" r:id="rId33"/>
    <p:sldLayoutId id="2147483652" r:id="rId34"/>
    <p:sldLayoutId id="2147483653" r:id="rId35"/>
    <p:sldLayoutId id="2147483654" r:id="rId36"/>
    <p:sldLayoutId id="2147483655" r:id="rId37"/>
    <p:sldLayoutId id="2147483656" r:id="rId38"/>
    <p:sldLayoutId id="2147483657" r:id="rId39"/>
    <p:sldLayoutId id="2147483658" r:id="rId40"/>
    <p:sldLayoutId id="2147483659" r:id="rId41"/>
    <p:sldLayoutId id="2147483660" r:id="rId4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1"/>
          <p:cNvGrpSpPr/>
          <p:nvPr/>
        </p:nvGrpSpPr>
        <p:grpSpPr>
          <a:xfrm>
            <a:off x="0" y="0"/>
            <a:ext cx="9158040" cy="6868800"/>
            <a:chOff x="0" y="0"/>
            <a:chExt cx="9158040" cy="6868800"/>
          </a:xfrm>
        </p:grpSpPr>
        <p:sp>
          <p:nvSpPr>
            <p:cNvPr id="97" name="Rectangle 2"/>
            <p:cNvSpPr/>
            <p:nvPr/>
          </p:nvSpPr>
          <p:spPr>
            <a:xfrm>
              <a:off x="0" y="6643800"/>
              <a:ext cx="8077320" cy="225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Rectangle 3"/>
            <p:cNvSpPr/>
            <p:nvPr/>
          </p:nvSpPr>
          <p:spPr>
            <a:xfrm>
              <a:off x="0" y="0"/>
              <a:ext cx="807732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4"/>
            <p:cNvSpPr/>
            <p:nvPr/>
          </p:nvSpPr>
          <p:spPr>
            <a:xfrm>
              <a:off x="7952040" y="0"/>
              <a:ext cx="1202760" cy="685656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" name="Group 5"/>
            <p:cNvGrpSpPr/>
            <p:nvPr/>
          </p:nvGrpSpPr>
          <p:grpSpPr>
            <a:xfrm>
              <a:off x="7847280" y="1080"/>
              <a:ext cx="1292760" cy="6305040"/>
              <a:chOff x="7847280" y="1080"/>
              <a:chExt cx="1292760" cy="6305040"/>
            </a:xfrm>
          </p:grpSpPr>
          <p:grpSp>
            <p:nvGrpSpPr>
              <p:cNvPr id="101" name="Group 6"/>
              <p:cNvGrpSpPr/>
              <p:nvPr/>
            </p:nvGrpSpPr>
            <p:grpSpPr>
              <a:xfrm>
                <a:off x="8380080" y="1080"/>
                <a:ext cx="759960" cy="2267640"/>
                <a:chOff x="8380080" y="1080"/>
                <a:chExt cx="759960" cy="2267640"/>
              </a:xfrm>
            </p:grpSpPr>
            <p:grpSp>
              <p:nvGrpSpPr>
                <p:cNvPr id="102" name="Group 7"/>
                <p:cNvGrpSpPr/>
                <p:nvPr/>
              </p:nvGrpSpPr>
              <p:grpSpPr>
                <a:xfrm>
                  <a:off x="8701560" y="1080"/>
                  <a:ext cx="276840" cy="273600"/>
                  <a:chOff x="8701560" y="1080"/>
                  <a:chExt cx="276840" cy="273600"/>
                </a:xfrm>
              </p:grpSpPr>
              <p:grpSp>
                <p:nvGrpSpPr>
                  <p:cNvPr id="103" name="Group 8"/>
                  <p:cNvGrpSpPr/>
                  <p:nvPr/>
                </p:nvGrpSpPr>
                <p:grpSpPr>
                  <a:xfrm>
                    <a:off x="8701560" y="1080"/>
                    <a:ext cx="276840" cy="273600"/>
                    <a:chOff x="8701560" y="1080"/>
                    <a:chExt cx="276840" cy="273600"/>
                  </a:xfrm>
                </p:grpSpPr>
                <p:sp>
                  <p:nvSpPr>
                    <p:cNvPr id="104" name="Freeform 9"/>
                    <p:cNvSpPr/>
                    <p:nvPr/>
                  </p:nvSpPr>
                  <p:spPr>
                    <a:xfrm rot="16200000">
                      <a:off x="8739720" y="-37080"/>
                      <a:ext cx="200160" cy="27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0"/>
                    <p:cNvSpPr/>
                    <p:nvPr/>
                  </p:nvSpPr>
                  <p:spPr>
                    <a:xfrm rot="16200000">
                      <a:off x="8749080" y="92880"/>
                      <a:ext cx="140040" cy="22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1"/>
                  <p:cNvSpPr/>
                  <p:nvPr/>
                </p:nvSpPr>
                <p:spPr>
                  <a:xfrm rot="16200000">
                    <a:off x="8821800" y="131040"/>
                    <a:ext cx="266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2"/>
                  <p:cNvSpPr/>
                  <p:nvPr/>
                </p:nvSpPr>
                <p:spPr>
                  <a:xfrm rot="16200000">
                    <a:off x="8752680" y="74520"/>
                    <a:ext cx="424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3"/>
                  <p:cNvSpPr/>
                  <p:nvPr/>
                </p:nvSpPr>
                <p:spPr>
                  <a:xfrm rot="16200000">
                    <a:off x="8825760" y="61560"/>
                    <a:ext cx="6300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4"/>
                  <p:cNvSpPr/>
                  <p:nvPr/>
                </p:nvSpPr>
                <p:spPr>
                  <a:xfrm rot="16200000">
                    <a:off x="8893440" y="112320"/>
                    <a:ext cx="2340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960" bIns="12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5"/>
                  <p:cNvSpPr/>
                  <p:nvPr/>
                </p:nvSpPr>
                <p:spPr>
                  <a:xfrm rot="16200000">
                    <a:off x="8820720" y="190080"/>
                    <a:ext cx="630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6"/>
                  <p:cNvSpPr/>
                  <p:nvPr/>
                </p:nvSpPr>
                <p:spPr>
                  <a:xfrm rot="16200000">
                    <a:off x="8768160" y="164520"/>
                    <a:ext cx="378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0080" y="227880"/>
                  <a:ext cx="2948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5560" y="2278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07960" y="532440"/>
                  <a:ext cx="2948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2000" y="9129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5560" y="83664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4280" y="121752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5560" y="159804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5560" y="19785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5"/>
              <p:cNvGrpSpPr/>
              <p:nvPr/>
            </p:nvGrpSpPr>
            <p:grpSpPr>
              <a:xfrm>
                <a:off x="7847280" y="1599120"/>
                <a:ext cx="826200" cy="4707000"/>
                <a:chOff x="7847280" y="1599120"/>
                <a:chExt cx="826200" cy="4707000"/>
              </a:xfrm>
            </p:grpSpPr>
            <p:pic>
              <p:nvPicPr>
                <p:cNvPr id="121" name="Picture 26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0760" y="159912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7080" y="190368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0760" y="251280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2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79000" y="274140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7998840" y="289332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5160" y="319824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79000" y="32745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3040" y="373140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2880" y="350280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2880" y="38836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0760" y="411192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3040" y="220788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8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7280" y="434052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39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2880" y="48736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3040" y="525420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2880" y="54064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2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5160" y="563508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3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2880" y="60159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7080" y="586332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5"/>
            <p:cNvSpPr/>
            <p:nvPr/>
          </p:nvSpPr>
          <p:spPr>
            <a:xfrm>
              <a:off x="7952040" y="4907520"/>
              <a:ext cx="1190160" cy="193932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46"/>
            <p:cNvSpPr/>
            <p:nvPr/>
          </p:nvSpPr>
          <p:spPr>
            <a:xfrm>
              <a:off x="7937640" y="4856760"/>
              <a:ext cx="1218960" cy="199944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f0b854"/>
                </a:gs>
                <a:gs pos="50000">
                  <a:srgbClr val="dc893e"/>
                </a:gs>
                <a:gs pos="100000">
                  <a:srgbClr val="f0b8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47"/>
            <p:cNvSpPr/>
            <p:nvPr/>
          </p:nvSpPr>
          <p:spPr>
            <a:xfrm>
              <a:off x="7926480" y="2817000"/>
              <a:ext cx="1231560" cy="403596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79af7d"/>
                </a:gs>
                <a:gs pos="50000">
                  <a:srgbClr val="375039"/>
                </a:gs>
                <a:gs pos="100000">
                  <a:srgbClr val="79af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48"/>
            <p:cNvSpPr/>
            <p:nvPr/>
          </p:nvSpPr>
          <p:spPr>
            <a:xfrm>
              <a:off x="8008920" y="3537360"/>
              <a:ext cx="979200" cy="218376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49"/>
            <p:cNvSpPr/>
            <p:nvPr/>
          </p:nvSpPr>
          <p:spPr>
            <a:xfrm>
              <a:off x="8242560" y="426600"/>
              <a:ext cx="914040" cy="504720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50"/>
            <p:cNvSpPr/>
            <p:nvPr/>
          </p:nvSpPr>
          <p:spPr>
            <a:xfrm>
              <a:off x="8248680" y="261720"/>
              <a:ext cx="909360" cy="307080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51"/>
            <p:cNvSpPr/>
            <p:nvPr/>
          </p:nvSpPr>
          <p:spPr>
            <a:xfrm>
              <a:off x="7942320" y="0"/>
              <a:ext cx="576000" cy="335196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52"/>
            <p:cNvSpPr/>
            <p:nvPr/>
          </p:nvSpPr>
          <p:spPr>
            <a:xfrm>
              <a:off x="7942320" y="1080"/>
              <a:ext cx="299880" cy="335232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0b854"/>
                </a:gs>
                <a:gs pos="50000">
                  <a:srgbClr val="dc893e"/>
                </a:gs>
                <a:gs pos="100000">
                  <a:srgbClr val="f0b8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53"/>
            <p:cNvSpPr/>
            <p:nvPr/>
          </p:nvSpPr>
          <p:spPr>
            <a:xfrm>
              <a:off x="7864560" y="1080"/>
              <a:ext cx="8856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54"/>
            <p:cNvSpPr/>
            <p:nvPr/>
          </p:nvSpPr>
          <p:spPr>
            <a:xfrm>
              <a:off x="7956720" y="6228000"/>
              <a:ext cx="1164960" cy="61884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c16059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AutoShape 55"/>
            <p:cNvSpPr/>
            <p:nvPr/>
          </p:nvSpPr>
          <p:spPr>
            <a:xfrm rot="5400000">
              <a:off x="4324680" y="3315600"/>
              <a:ext cx="6856560" cy="225360"/>
            </a:xfrm>
            <a:custGeom>
              <a:avLst/>
              <a:gdLst>
                <a:gd name="textAreaLeft" fmla="*/ 668160 w 6856560"/>
                <a:gd name="textAreaRight" fmla="*/ 6188400 w 68565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370160"/>
            <a:ext cx="69642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2040"/>
            <a:ext cx="1781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200" y="6248520"/>
            <a:ext cx="3454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4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7EED65D-D0C5-4E28-AA29-C766F9DF63F0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807320" cy="11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g.photo.tut.ua/bustravel/229/12805/530/1_26548.jpg" TargetMode="External"/><Relationship Id="rId2" Type="http://schemas.openxmlformats.org/officeDocument/2006/relationships/hyperlink" Target="http://www.mozart.cat/fotos/galeries/monument_03.jpg" TargetMode="External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7e0021"/>
                </a:solidFill>
                <a:latin typeface="Times New Roman"/>
              </a:rPr>
              <a:t>В чём сила музыки В.А.Моцарта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727280" y="3716280"/>
            <a:ext cx="702144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6 клас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142560"/>
            <a:ext cx="74768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«Рондо» из «Маленькой ночной серенады» В.А.Моцарта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3520" y="2160720"/>
            <a:ext cx="7386480" cy="43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1320" indent="-571320">
              <a:lnSpc>
                <a:spcPct val="95000"/>
              </a:lnSpc>
              <a:spcBef>
                <a:spcPts val="901"/>
              </a:spcBef>
              <a:spcAft>
                <a:spcPts val="1426"/>
              </a:spcAft>
              <a:buSzPct val="102812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Задание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320" indent="-571320">
              <a:lnSpc>
                <a:spcPct val="95000"/>
              </a:lnSpc>
              <a:spcBef>
                <a:spcPts val="901"/>
              </a:spcBef>
              <a:spcAft>
                <a:spcPts val="1426"/>
              </a:spcAft>
              <a:buClr>
                <a:srgbClr val="2f1311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пределить характер произведени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320" indent="-571320">
              <a:lnSpc>
                <a:spcPct val="95000"/>
              </a:lnSpc>
              <a:spcBef>
                <a:spcPts val="901"/>
              </a:spcBef>
              <a:spcAft>
                <a:spcPts val="1426"/>
              </a:spcAft>
              <a:buClr>
                <a:srgbClr val="2f1311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колько раз повторяется главная тема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320" indent="-571320">
              <a:lnSpc>
                <a:spcPct val="95000"/>
              </a:lnSpc>
              <a:spcBef>
                <a:spcPts val="901"/>
              </a:spcBef>
              <a:spcAft>
                <a:spcPts val="1426"/>
              </a:spcAft>
              <a:buClr>
                <a:srgbClr val="2f1311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ля каких инструментов написана эта музыка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8880" y="81000"/>
            <a:ext cx="74768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леднее произведение В.А.Моцар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63520" y="2160360"/>
            <a:ext cx="7386480" cy="39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5200" indent="-565200">
              <a:lnSpc>
                <a:spcPct val="95000"/>
              </a:lnSpc>
              <a:spcBef>
                <a:spcPts val="1001"/>
              </a:spcBef>
              <a:spcAft>
                <a:spcPts val="1426"/>
              </a:spcAft>
              <a:buSzPct val="102865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Задание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95000"/>
              </a:lnSpc>
              <a:spcBef>
                <a:spcPts val="1001"/>
              </a:spcBef>
              <a:spcAft>
                <a:spcPts val="1426"/>
              </a:spcAft>
              <a:buClr>
                <a:srgbClr val="2f1311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то исполняет это произведение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95000"/>
              </a:lnSpc>
              <a:spcBef>
                <a:spcPts val="1001"/>
              </a:spcBef>
              <a:spcAft>
                <a:spcPts val="1426"/>
              </a:spcAft>
              <a:buClr>
                <a:srgbClr val="2f1311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аково его настроение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95000"/>
              </a:lnSpc>
              <a:spcBef>
                <a:spcPts val="1001"/>
              </a:spcBef>
              <a:spcAft>
                <a:spcPts val="1426"/>
              </a:spcAft>
              <a:buClr>
                <a:srgbClr val="2f1311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огда бывает такое настроение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lnSpc>
                <a:spcPct val="95000"/>
              </a:lnSpc>
              <a:spcBef>
                <a:spcPts val="1001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Реквие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63520" y="2276280"/>
            <a:ext cx="738648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1100"/>
              </a:spcBef>
              <a:spcAft>
                <a:spcPts val="1426"/>
              </a:spcAft>
              <a:buSzPct val="102909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Что означает это слово? 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(в чьём исполнении звучит, с какой целью)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Реквие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3520" y="2276280"/>
            <a:ext cx="738648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Aft>
                <a:spcPts val="1426"/>
              </a:spcAft>
              <a:buSzPct val="102909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большое вокальное или вокально – инструментальное произведение, написанное в память умерши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Лакримоза» из «Реквиема» В.А.Моцар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63520" y="2852280"/>
            <a:ext cx="738648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1199"/>
              </a:spcBef>
              <a:spcAft>
                <a:spcPts val="1426"/>
              </a:spcAft>
              <a:buSzPct val="102861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Лакримоза в переводе с латинского означает «слёзная», «печальная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83680"/>
            <a:ext cx="752148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1. Какие произведения Моцарта написаны в форме рондо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78920" y="2700000"/>
            <a:ext cx="738684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1001"/>
              </a:spcBef>
              <a:spcAft>
                <a:spcPts val="1426"/>
              </a:spcAft>
              <a:buSzPct val="102865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А) «Маленькая ночная серенада»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1001"/>
              </a:spcBef>
              <a:spcAft>
                <a:spcPts val="1426"/>
              </a:spcAft>
              <a:buSzPct val="102865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Б) «Лакримоза»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1001"/>
              </a:spcBef>
              <a:spcAft>
                <a:spcPts val="1426"/>
              </a:spcAft>
              <a:buSzPct val="102865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В) «Реквием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5000"/>
              </a:lnSpc>
              <a:spcBef>
                <a:spcPts val="1001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52148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. Что такое серенада?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63520" y="1916280"/>
            <a:ext cx="738648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1100"/>
              </a:spcBef>
              <a:spcAft>
                <a:spcPts val="1426"/>
              </a:spcAft>
              <a:buSzPct val="102909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А) песня в ночное врем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1100"/>
              </a:spcBef>
              <a:spcAft>
                <a:spcPts val="1426"/>
              </a:spcAft>
              <a:buSzPct val="102909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Б) песня для возлюбленной в ночное врем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1100"/>
              </a:spcBef>
              <a:spcAft>
                <a:spcPts val="1426"/>
              </a:spcAft>
              <a:buSzPct val="102909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В) песня для возлюбленно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24000" y="36360"/>
            <a:ext cx="741672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3. Назовите последнее произведение Моцарта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3520" y="1916280"/>
            <a:ext cx="738648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1100"/>
              </a:spcBef>
              <a:spcAft>
                <a:spcPts val="1426"/>
              </a:spcAft>
              <a:buSzPct val="102909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А) «Маленькая ночная серенада»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1100"/>
              </a:spcBef>
              <a:spcAft>
                <a:spcPts val="1426"/>
              </a:spcAft>
              <a:buSzPct val="102909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Б) «Реквием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1100"/>
              </a:spcBef>
              <a:spcAft>
                <a:spcPts val="1426"/>
              </a:spcAft>
              <a:buSzPct val="102909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В) «Лакримоза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52148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4. Что такое реквием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63520" y="1916280"/>
            <a:ext cx="738648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1100"/>
              </a:spcBef>
              <a:spcAft>
                <a:spcPts val="1426"/>
              </a:spcAft>
              <a:buSzPct val="102909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А) слёзный, печальны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1100"/>
              </a:spcBef>
              <a:spcAft>
                <a:spcPts val="1426"/>
              </a:spcAft>
              <a:buSzPct val="102909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Б) лакримоз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1100"/>
              </a:spcBef>
              <a:spcAft>
                <a:spcPts val="1426"/>
              </a:spcAft>
              <a:buSzPct val="102909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В) произведение в память умерши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7665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пробуйте оценить себя. Если вы уверены, что ответили правильно на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3520" y="2997000"/>
            <a:ext cx="7386480" cy="30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1001"/>
              </a:spcBef>
              <a:spcAft>
                <a:spcPts val="1426"/>
              </a:spcAft>
              <a:buSzPct val="102865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4 вопроса – оценка «5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1001"/>
              </a:spcBef>
              <a:spcAft>
                <a:spcPts val="1426"/>
              </a:spcAft>
              <a:buSzPct val="102865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3 вопроса – оценка «4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1001"/>
              </a:spcBef>
              <a:spcAft>
                <a:spcPts val="1426"/>
              </a:spcAft>
              <a:buSzPct val="102865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2 вопроса – оценка «3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верь свои результа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263520" y="1598760"/>
          <a:ext cx="7386480" cy="4495680"/>
        </p:xfrm>
        <a:graphic>
          <a:graphicData uri="http://schemas.openxmlformats.org/drawingml/2006/table">
            <a:tbl>
              <a:tblPr/>
              <a:tblGrid>
                <a:gridCol w="1476360"/>
                <a:gridCol w="1478160"/>
                <a:gridCol w="1477800"/>
                <a:gridCol w="1476360"/>
                <a:gridCol w="1477800"/>
              </a:tblGrid>
              <a:tr h="2247840">
                <a:tc>
                  <a:txBody>
                    <a:bodyPr lIns="90000" rIns="90000" tIns="694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901"/>
                        </a:spcBef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№ </a:t>
                      </a:r>
                      <a:r>
                        <a:rPr b="0" lang="ru-RU" sz="36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п/п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4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901"/>
                        </a:spcBef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4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901"/>
                        </a:spcBef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4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901"/>
                        </a:spcBef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4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901"/>
                        </a:spcBef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47840">
                <a:tc>
                  <a:txBody>
                    <a:bodyPr lIns="90000" rIns="90000" tIns="669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799"/>
                        </a:spcBef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отве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4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901"/>
                        </a:spcBef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4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901"/>
                        </a:spcBef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Б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4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901"/>
                        </a:spcBef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Б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4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901"/>
                        </a:spcBef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В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50560" y="72720"/>
            <a:ext cx="7489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1. Каковы основные черты творчества Моцарта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63520" y="2565000"/>
            <a:ext cx="738648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1100"/>
              </a:spcBef>
              <a:spcAft>
                <a:spcPts val="1426"/>
              </a:spcAft>
              <a:buSzPct val="102909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А) борьба чувств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1100"/>
              </a:spcBef>
              <a:spcAft>
                <a:spcPts val="1426"/>
              </a:spcAft>
              <a:buSzPct val="102909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Б) лирич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1100"/>
              </a:spcBef>
              <a:spcAft>
                <a:spcPts val="1426"/>
              </a:spcAft>
              <a:buSzPct val="102909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В) чистота, солнечность, ясность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8880" y="-16200"/>
            <a:ext cx="75214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2. В чём сила музыки Моцарта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63520" y="2060280"/>
            <a:ext cx="73864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1100"/>
              </a:spcBef>
              <a:spcAft>
                <a:spcPts val="1426"/>
              </a:spcAft>
              <a:buSzPct val="102909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А) в музыкальной красот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1100"/>
              </a:spcBef>
              <a:spcAft>
                <a:spcPts val="1426"/>
              </a:spcAft>
              <a:buSzPct val="102909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Б) в жизненной правд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1100"/>
              </a:spcBef>
              <a:spcAft>
                <a:spcPts val="1426"/>
              </a:spcAft>
              <a:buSzPct val="102909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В) в музыкальной красоте и глубокой жизненной правд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7665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пробуйте оценить себя. Если вы уверены, что ответили правильно на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63520" y="3141720"/>
            <a:ext cx="7386480" cy="29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1001"/>
              </a:spcBef>
              <a:spcAft>
                <a:spcPts val="1426"/>
              </a:spcAft>
              <a:buSzPct val="102865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2 вопроса – оценка «5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1001"/>
              </a:spcBef>
              <a:spcAft>
                <a:spcPts val="1426"/>
              </a:spcAft>
              <a:buSzPct val="102865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 вопрос  – оценка «4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5000"/>
              </a:lnSpc>
              <a:spcBef>
                <a:spcPts val="1001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верь свои результа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263520" y="1598760"/>
          <a:ext cx="7189920" cy="4497120"/>
        </p:xfrm>
        <a:graphic>
          <a:graphicData uri="http://schemas.openxmlformats.org/drawingml/2006/table">
            <a:tbl>
              <a:tblPr/>
              <a:tblGrid>
                <a:gridCol w="3084480"/>
                <a:gridCol w="2089080"/>
                <a:gridCol w="2016360"/>
              </a:tblGrid>
              <a:tr h="224928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00"/>
                        </a:spcBef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44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№ </a:t>
                      </a:r>
                      <a:r>
                        <a:rPr b="0" lang="ru-RU" sz="44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п/п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00"/>
                        </a:spcBef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44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00"/>
                        </a:spcBef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44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4784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00"/>
                        </a:spcBef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44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ответы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00"/>
                        </a:spcBef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44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В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00"/>
                        </a:spcBef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44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В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омашнее задание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0000"/>
              </a:lnSpc>
              <a:spcBef>
                <a:spcPts val="901"/>
              </a:spcBef>
              <a:spcAft>
                <a:spcPts val="1426"/>
              </a:spcAft>
              <a:buSzPct val="102812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(на выбор)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901"/>
              </a:spcBef>
              <a:spcAft>
                <a:spcPts val="1426"/>
              </a:spcAft>
              <a:buClr>
                <a:srgbClr val="2f1311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знать интересные факты из жизни В. Моцарта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901"/>
              </a:spcBef>
              <a:spcAft>
                <a:spcPts val="1426"/>
              </a:spcAft>
              <a:buClr>
                <a:srgbClr val="2f1311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ставить кроссворд о жизни и творчестве В. Моцарта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901"/>
              </a:spcBef>
              <a:spcAft>
                <a:spcPts val="1426"/>
              </a:spcAft>
              <a:buClr>
                <a:srgbClr val="2f1311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лушать музыку В.А. Моцарта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10920" y="4220640"/>
            <a:ext cx="7807320" cy="22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img.photo.tut.ua/bustravel/229/12805/530/1_26548.jp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mozart.cat/fotos/galeries/monument_03.jp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60000" y="96840"/>
            <a:ext cx="752148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чему маленького Моцарта называли чудо  ребёнком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4920" y="2207880"/>
            <a:ext cx="738684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1001"/>
              </a:spcBef>
              <a:spcAft>
                <a:spcPts val="1426"/>
              </a:spcAft>
              <a:buSzPct val="102865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А) за музыкальную одарённос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1001"/>
              </a:spcBef>
              <a:spcAft>
                <a:spcPts val="1426"/>
              </a:spcAft>
              <a:buSzPct val="102865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Б) за концертное путешествие по Европ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1001"/>
              </a:spcBef>
              <a:spcAft>
                <a:spcPts val="1426"/>
              </a:spcAft>
              <a:buSzPct val="102865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В) за игру на музыкальных инструмента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9240" y="12600"/>
            <a:ext cx="737712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2. Благодаря чему был  развит музыкальный талант Моцарта?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53520" y="3060360"/>
            <a:ext cx="73868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1001"/>
              </a:spcBef>
              <a:spcAft>
                <a:spcPts val="1426"/>
              </a:spcAft>
              <a:buSzPct val="102865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А) его старани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1001"/>
              </a:spcBef>
              <a:spcAft>
                <a:spcPts val="1426"/>
              </a:spcAft>
              <a:buSzPct val="102865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Б) поддержке отц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1001"/>
              </a:spcBef>
              <a:spcAft>
                <a:spcPts val="1426"/>
              </a:spcAft>
              <a:buSzPct val="102865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В) поддержке отца 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5000"/>
              </a:lnSpc>
              <a:spcBef>
                <a:spcPts val="1001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старанию самого Моцар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82520" y="179280"/>
            <a:ext cx="737712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а каких музыкальных инструментах играл Моцарт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53520" y="2879280"/>
            <a:ext cx="7386840" cy="36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1001"/>
              </a:spcBef>
              <a:spcAft>
                <a:spcPts val="1426"/>
              </a:spcAft>
              <a:buSzPct val="102865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А) на клавесине и орган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1001"/>
              </a:spcBef>
              <a:spcAft>
                <a:spcPts val="1426"/>
              </a:spcAft>
              <a:buSzPct val="102865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Б) на скрипк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1001"/>
              </a:spcBef>
              <a:spcAft>
                <a:spcPts val="1426"/>
              </a:spcAft>
              <a:buSzPct val="102865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В) на клавесине, органе, скрипк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7665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пробуйте оценить себя. Если вы уверены, что ответили правильно на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3520" y="2997000"/>
            <a:ext cx="7386480" cy="30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1001"/>
              </a:spcBef>
              <a:spcAft>
                <a:spcPts val="1426"/>
              </a:spcAft>
              <a:buSzPct val="102865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3 вопроса – оценка «5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1001"/>
              </a:spcBef>
              <a:spcAft>
                <a:spcPts val="1426"/>
              </a:spcAft>
              <a:buSzPct val="102865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2 вопроса – оценка «4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1001"/>
              </a:spcBef>
              <a:spcAft>
                <a:spcPts val="1426"/>
              </a:spcAft>
              <a:buSzPct val="102865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 вопрос – оценка «3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верьте свои результаты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63520" y="1598760"/>
          <a:ext cx="7386480" cy="4495680"/>
        </p:xfrm>
        <a:graphic>
          <a:graphicData uri="http://schemas.openxmlformats.org/drawingml/2006/table">
            <a:tbl>
              <a:tblPr/>
              <a:tblGrid>
                <a:gridCol w="1846440"/>
                <a:gridCol w="1847520"/>
                <a:gridCol w="1846440"/>
                <a:gridCol w="1846080"/>
              </a:tblGrid>
              <a:tr h="2247840">
                <a:tc>
                  <a:txBody>
                    <a:bodyPr lIns="90000" rIns="90000" tIns="720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 № </a:t>
                      </a:r>
                      <a:r>
                        <a:rPr b="0" lang="ru-RU" sz="40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п/п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20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20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20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47840">
                <a:tc>
                  <a:txBody>
                    <a:bodyPr lIns="90000" rIns="90000" tIns="720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ответ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20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20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В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20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В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9240" y="199800"/>
            <a:ext cx="76658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еренад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 (от итальянского - ясная погода, ночная прохлада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63520" y="2781000"/>
            <a:ext cx="738648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001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опробуйте дать понятие, что такое «серенада»?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(что это, когда исполняется, где, с какой целью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еренада -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1001"/>
              </a:spcBef>
              <a:spcAft>
                <a:spcPts val="1426"/>
              </a:spcAft>
              <a:buSzPct val="102865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это музыкальное произведение, песня, исполняемая в вечернее или ночное время перед домом возлюбленной в знак любви и почитания.  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8T18:15:00Z</dcterms:created>
  <dc:creator>школа</dc:creator>
  <dc:description/>
  <dc:language>en-US</dc:language>
  <cp:lastModifiedBy>Admin</cp:lastModifiedBy>
  <dcterms:modified xsi:type="dcterms:W3CDTF">2023-02-06T07:54:37Z</dcterms:modified>
  <cp:revision>11</cp:revision>
  <dc:subject/>
  <dc:title>Слайд 1</dc:title>
</cp:coreProperties>
</file>