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1A3-8B9E-42C4-A196-29F92E1F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111-C3CE-469E-93CB-40771C88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0F38A-2DDA-416B-9226-1D4516FF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D76A5-D50E-4C1B-AAE6-BA5996B2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42730-41F7-44F0-9A58-74C223A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FB198-7D65-4C94-A2D3-90248A2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0E12C-B9C3-4237-9390-ECE2BE2E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B4C35-4DFE-4553-8C3B-97385E4A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A5A9F-B663-4391-964D-F85FCE84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00504-9884-446F-989C-5834279A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7772E-F750-487A-810B-D21DDEE0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28EDD-2181-4895-A979-4C2571F2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7C2-FB72-48CB-B0B2-BB6232EF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50EE1-47CE-46BB-B691-A0E992C6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173F8-CED1-40A4-9309-DECA477B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6BA1-33B0-4D54-AC04-D90E53D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40F7A-9168-4DDF-A78B-A99639FC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CDA86-37B7-40F9-8696-694CF01A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383CA-6A89-4D5A-A2FC-D945D0B3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8C730-C95B-4F5D-AA26-0398B91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752A-D733-447D-A9B3-274AAD6D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975F1-997F-44ED-BF2F-389ADAFF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2B4D1-CF09-42D5-A028-8071427F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91B-CC41-424F-8389-8E0614B5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735D4-F622-4B81-BCAF-E62E9BBF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95EE-7030-4ACD-B971-F4B7C8DC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DA82F-4906-446A-9D5E-A5465A0B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F8D8B-94E8-4867-AF12-293D964C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980FE-FE06-4063-8D7C-8ECE6C30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C6818-E20E-4B03-95F3-5FD48EC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042AA-FF4B-4079-AB68-6BE545C4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4679-619E-486C-8AAB-DB6D655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C11EA-5182-480D-B341-338E862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04A5-44D3-4F56-8341-EA23604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D607-23A3-4EFA-A796-51112E55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35A05-3F24-4546-87DF-14F5B19D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67CFF-811D-4CB7-93CA-9A2B40F8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1F4E6-C2D6-4D59-8183-DBE09BDD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B918F-853D-4327-8EFF-02806B1D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28FE0-ABB7-4B89-83E9-294A5D9C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3BBB4-83BF-4C09-AA44-2092AFC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662E1-808F-444E-9332-F6D29494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9CC27-1F24-4FDC-8072-83CC463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99C29-FA24-4671-B573-82B62AE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456D7-8A29-4FC5-B6C5-C5F6AEA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5872-6564-4F7B-87AB-62A346B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E0CEA-2C9D-4661-B71B-E22DEF61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F2F43-A20A-4A3F-94AA-430BCD44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B4376-FF82-4B12-B796-2F1FD4F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AEF4C-B748-418A-ACC1-502A403D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0D6F0-5D2F-4861-A3A7-204CACE9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FF8E4-9BA9-48A6-8966-A5328964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AA665-6854-411C-B6CB-A8B18E5B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F3152-ECB8-4C3C-983E-CAA7A2D7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D31A0-F0DA-404E-BF97-64583E5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701E2-C358-42C0-8042-7A1F62EB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6F72-A4B9-444B-9317-E7E94B29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68F8F-AA61-428E-9375-ABCE3C71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167A0-3FDF-4A91-A287-16356E7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77700-DFBF-43D3-A47A-4BA08DFA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FF95C5-C30E-424F-813F-39433AC9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00583-C590-46B5-B190-E0C185EA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9A492-EC8F-4339-8BD2-5C345658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DB20D-D1B3-41DB-9641-85962D4C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4DA4E-AA07-4A04-8E94-27B82382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C1071B-6631-46A1-B2A1-A981A471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39EB5E-5A18-4D19-B6B0-135DF434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5C3D-945B-4194-9DBA-C7601A73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8E5E4-EAEF-4004-9277-E07B0DAD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F38E8-4016-49D5-A19D-48542C28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83A4E-BCDC-4EA1-ABDD-4547CA1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7F2A5-3B11-4581-8469-DFBBED4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D2722-3369-4983-BCD9-F345BE69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E72CC-DBEB-4EC2-9BF3-A76C3DC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699AD-7F59-4EB5-9A55-5F76878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4690B-7673-44E5-B723-E0E810E2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B77B2-5CBB-41E7-A753-6D7F165C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F3799-A8FB-4553-9CB8-23D024D0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0928-C382-478F-B416-6E41C807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445FA0-C761-4AB8-8299-6E3BE4E7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F28D2-5F26-4886-8BF4-3D2F87CD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E65EC5-7658-4957-884D-B41C4756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69AD5-C403-49B5-8930-11E26592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73256-CB4B-42D0-A83B-8BB1B76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F21FF8-A886-4E64-9829-A19047B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4402C-FA55-41AE-94F1-1E1619A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A32D4-538C-45D4-9F18-49051007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E13AE-3276-4493-9930-3D9AE71D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74BDED-024F-4AE0-AA70-6A0DF0C1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5414-962D-455C-85C4-E77128D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03A0F8-7B79-4262-9933-3843F389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96EA5-C2AF-4A3F-8ADC-EE560A17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27D9D-7386-46BA-8876-D6B8CF6A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F80A8-87B9-4418-94AB-B428E02C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948CDA-7C4A-4B34-A88C-AAE66DC0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7DD3C-3700-4B12-B70E-F290EEE8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C9DA4A-F034-463E-A872-7DD5B1ED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A0F3C-E9EA-43D9-A9C2-9CB852F2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36E76-712E-471A-A897-005258F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63C23-D418-460A-BE50-B2373477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6511-EB8A-4428-825E-D206FC2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5D5E2-785F-4630-A0A5-428E2AA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0D943-8AFB-4758-AFD6-BE293EE3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496E0-D1DE-4C3D-944C-79BE42D7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40C47-A2FC-43E3-8716-47967F7C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7E5199-813A-472F-8D6A-6FF46D9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220EE-A3B8-484E-8704-C11C2E76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BEF1F-B178-439F-B565-11710C8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D9CA4-0BC8-4D0E-9D05-AE88009A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77D20-3C8B-4FBE-8E7D-366F7E8A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2E3F4-4494-424D-B7DE-4674FC9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8B3-3287-42A4-A97C-4F0A4D77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51B2-6AE6-456C-933F-1A618C85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F6CEF9-E5CB-451D-88ED-73C95AB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B4E35E-FE54-4F59-8175-BD23BFA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38646-6A0B-4D53-AFDC-AB03997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14B18-B056-4C5F-ACC1-9B25B253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AAA69-0109-4548-BC7C-F4286169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E9564-76DA-4455-8D7C-1021709D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7B961-14DD-488B-B2C8-9CDF4876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4B30E-ADD3-44B2-91A8-D9D40B83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5D9E0-5744-4B2F-8F81-A6C563C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B1DC9-1498-4081-8AFC-F7D82C25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31BC-B073-4680-9EC3-968B9D1C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C136F-F311-4238-8A55-DF8FEA11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574575-3F26-48A7-AA1C-BC73BD39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74D90-E264-47E4-B078-C7F75191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3CE0FE-C84E-4613-9429-F1A63DE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0B1CBD-8CB5-46E4-8385-CBE282F4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3761E-E7B3-4FDB-8844-F6C4B000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D00D46-68AC-4BFF-A267-99D306EF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8470-6E07-4BFA-951D-DB1E749B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1B6E-18F8-45BD-B405-BF2C6113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49CE-0F2A-4AFB-93A9-D70BCC7A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4BE6-61EA-45DF-B042-875C1288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8DC7-612E-4916-B7D8-B5E936F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F502-AABD-45CD-813C-8FC82CB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788B-1B33-4384-B88D-FBDF9DF2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3E19-98EE-401A-9CED-91B97715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105-A401-4595-9E16-4124033A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1EE0-3AB1-425A-B016-40A7F91A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F00F6-BFD4-448A-ACF7-30DB5E3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083D7-C86C-4A57-947A-4C58A2F5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3BE7-A505-47B4-9D1A-47BC135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571A0-1CCC-467B-B72D-8C408F7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767E0-03C4-47E1-A17F-FEABE0E4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465A-7B89-41A7-AB6D-2B5BE475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05044-096E-471B-AFA8-0861F188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2105C-1FB0-4726-B168-7319C857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AD15-DFC4-45F9-88A8-A7E6C882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716-07F0-4C3E-A188-EC527533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5FAF-D975-422F-8870-A1DDAE5A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D5E3-1B5E-483F-BAC8-A7450F37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DFBA6-BF2F-4AC6-B573-FDE7803F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28D58-793E-43E8-9AFE-381FAB0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9006-6AE0-4463-BD91-1BDC1705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EB22-48A9-46AA-A1D4-D1CAE526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16F9-5592-4055-BF0C-14CF1DDA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D8D96-C25B-4D68-9CAD-3557E570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95698-2266-40E5-805C-DC70E73C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97106-7626-4EA3-B9FD-DD1FD911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756-C6EA-4F0B-A215-E7B68605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E3A4-F449-48F8-B2B2-5A17CE9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05811-09D3-44E4-8DAA-9E4EC04F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71EA-2040-4B2E-95C8-702E27C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E006-7C69-4D55-B656-63C05F2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1C750-EB88-4B78-A2B6-F14BAAE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022BB-9878-4334-AE10-56CF6CD2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0BF7-3690-4C67-AA63-66617960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92169-BDB5-4A71-B6A9-2798BCF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4386D-6902-4845-BBE8-788710C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D55B8-36AF-4D94-905B-65C7D951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FA9-BAB4-46AE-971E-35056C06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8EEE6-8BFE-4FC8-A76E-BDE3B8FA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3CF89-9506-44E9-86B8-63506AB0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2D995-3939-4038-91C5-F0FD7F45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C9D9F-33B6-41CA-ADC1-2150DA35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55A1-0790-47E7-B8C7-FE716FE8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A45D7-00DD-4717-976B-BFC98605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30E7-17E8-461D-AA63-1FE0C573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28CF-846F-4AE7-9F30-7C68C235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68EBA-B079-41BC-8CAC-167EB91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485E0-7B4F-4499-83DD-CCF1BC9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683-76E8-4FEB-9310-7CF6589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4CAFE-E163-4E5C-A9CB-4F910CB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972B9-4113-4EBE-B197-E7DBE23D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90BE9-DF1B-44DB-913E-93462179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963EA-A644-4B18-9558-48E56ED9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DB3A1-47F5-4571-B785-CDEB56F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10F3-059D-436C-82BD-05785435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39BAA-E23F-43DF-85A1-7E7D8490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A48A5-084E-4F07-AC2A-B1D653E0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7C899-FF6C-487E-9BC5-EC3AD76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9425-512A-444D-9410-355DC7A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876-0389-4E98-B4D4-7152264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358EF-8697-4377-BE8D-8C07C75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85B2F-D5C8-49CB-9473-680D2E8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96FE-9AFF-4F36-87F4-B3680A84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6597F-B478-42FE-AE19-7D6B79D2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A9DB4-7CCB-4EAA-B1CF-FFFD89B4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5D72E-7885-4CE2-ADBD-C239C85C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2802-30A0-4E28-B979-68F7FF56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653A-1985-42FD-8D2F-CADDBA57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7BDE7-091A-4A59-A7CC-E6F06E5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7F3A4-74CD-4DB2-9AB2-0F2BCA8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D5A-0C30-4869-AB8E-E91AE10A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779BC-E0F0-4F66-9ED1-46B7C7A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4FC0-E842-4B6F-B79E-AF5D766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D9D13-B35D-413C-8A1E-87ED998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6F6F-BCC5-46D6-834C-E8CE402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48C05-EC4D-4CE0-9DB0-D08C023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367E5-6776-480E-B475-D4145534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7B283-A675-4DDD-A8A2-47E8FF0A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03409-CE8A-4528-9E46-685BA976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7911B-9DA5-4311-91FF-E7BC5C63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11143-9252-45A3-A662-875DC2B1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4305E-9538-45D8-828C-ED1A3648F6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B38FD-4D51-4FA1-85A6-789AB9CBD4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53C47-7805-482B-8FF0-B12547BB9D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F2DAE2-A7AD-4759-BC8B-242156A547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0C51D-DD8F-4234-9A70-B464F2C812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E9315-5DAC-4195-A41F-92F77654DB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7FD10-D6DB-4702-A9EA-9739A659A4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81245-9AC4-4B83-B794-7E72949B3E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28129-663D-4997-A947-8835829669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F1A2-2115-4482-85C5-D7D89533FE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3121E-F4FE-4D19-95FC-589FC1DA72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33C08-4AD0-4321-A6C8-3A6C9D4FBC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D037E-F34B-461E-891A-928213CE28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16729-59B0-46BB-B522-D3199AAC91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E9A02-4E43-4759-8A83-4690C7AED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8BE1B-26B0-441F-B0A4-9FDA675BFA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A43EA-2727-42CA-84EC-2F9C3EB1B9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34AAD-F74A-455D-AB57-012322D67C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ДИАГНОСТИКА ВОСПРИЯТИЯ У ДЕТЕЙ С НАРУШЕНИЕМ ИНТЕЛЛЕКТА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Заголовок 1"/>
          <p:cNvSpPr/>
          <p:nvPr/>
        </p:nvSpPr>
        <p:spPr>
          <a:xfrm>
            <a:off x="1371600" y="5335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Прямоугольник 3"/>
          <p:cNvSpPr/>
          <p:nvPr/>
        </p:nvSpPr>
        <p:spPr>
          <a:xfrm>
            <a:off x="2743200" y="4800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275e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33275e"/>
                </a:solidFill>
                <a:latin typeface="Times New Roman"/>
                <a:ea typeface="Times New Roman"/>
              </a:rPr>
              <a:t>Сидяйкина Анна 391 групп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2"/>
          <p:cNvSpPr/>
          <p:nvPr/>
        </p:nvSpPr>
        <p:spPr>
          <a:xfrm>
            <a:off x="685800" y="7664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мотрите карточки, на них нарисованы геометрические фигуры. Назовите их. Найдите две одинаковые карточки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5" name="Picture 3" descr="Копия (4) File0720"/>
          <p:cNvPicPr/>
          <p:nvPr/>
        </p:nvPicPr>
        <p:blipFill>
          <a:blip r:embed="rId1"/>
          <a:stretch/>
        </p:blipFill>
        <p:spPr>
          <a:xfrm>
            <a:off x="1905120" y="2362320"/>
            <a:ext cx="2057400" cy="9363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" descr="Копия (2) File0720"/>
          <p:cNvPicPr/>
          <p:nvPr/>
        </p:nvPicPr>
        <p:blipFill>
          <a:blip r:embed="rId2"/>
          <a:stretch/>
        </p:blipFill>
        <p:spPr>
          <a:xfrm>
            <a:off x="1905120" y="3505320"/>
            <a:ext cx="2057400" cy="85572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5" descr="Копия (5) File0720"/>
          <p:cNvPicPr/>
          <p:nvPr/>
        </p:nvPicPr>
        <p:blipFill>
          <a:blip r:embed="rId3"/>
          <a:stretch/>
        </p:blipFill>
        <p:spPr>
          <a:xfrm>
            <a:off x="4964040" y="2362320"/>
            <a:ext cx="2652840" cy="198108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" descr="Копия (3) File0720"/>
          <p:cNvPicPr/>
          <p:nvPr/>
        </p:nvPicPr>
        <p:blipFill>
          <a:blip r:embed="rId4"/>
          <a:stretch/>
        </p:blipFill>
        <p:spPr>
          <a:xfrm>
            <a:off x="3657600" y="4648320"/>
            <a:ext cx="2459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1" name="Picture 2" descr="https://superinf.ru/img/Srenie/Zrenie_clip_image006.jpg"/>
          <p:cNvPicPr/>
          <p:nvPr/>
        </p:nvPicPr>
        <p:blipFill>
          <a:blip r:embed="rId1"/>
          <a:stretch/>
        </p:blipFill>
        <p:spPr>
          <a:xfrm>
            <a:off x="1066680" y="0"/>
            <a:ext cx="678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4" name="Picture 2" descr="https://works.doklad.ru/images/GYRS6zVUZns/m16fbf5d4.jpg"/>
          <p:cNvPicPr/>
          <p:nvPr/>
        </p:nvPicPr>
        <p:blipFill>
          <a:blip r:embed="rId1"/>
          <a:stretch/>
        </p:blipFill>
        <p:spPr>
          <a:xfrm>
            <a:off x="65160" y="336600"/>
            <a:ext cx="90136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07" name="Picture 2" descr="https://ds04.infourok.ru/uploads/ex/053e/0018211d-ca0289af/5/img42.jpg"/>
          <p:cNvPicPr/>
          <p:nvPr/>
        </p:nvPicPr>
        <p:blipFill>
          <a:blip r:embed="rId1"/>
          <a:stretch/>
        </p:blipFill>
        <p:spPr>
          <a:xfrm>
            <a:off x="457200" y="257040"/>
            <a:ext cx="84582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w Cen MT"/>
              </a:rPr>
              <a:t>РЕЗУЛЬТАТЫ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685800" y="2057400"/>
            <a:ext cx="7773840" cy="3424320"/>
          </a:xfrm>
          <a:prstGeom prst="rect">
            <a:avLst/>
          </a:prstGeom>
          <a:noFill/>
          <a:ln w="9360">
            <a:solidFill>
              <a:srgbClr val="33275e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ВЫШЕ СРЕДНЕГО (+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БЕЗОШИБОЧНО ВЫПОЛНИЛ ВСЕ ЗАДАНИЯ, СТАРАТЕЛЬНО И БЫСТРО СПРАВИЛСЯ С ТЕСТОМ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СРЕДНИЙ УРОВЕНЬ (V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ДОПУСТИЛ НЕЗНАЧИТЕЛЬНЫЕ ОШИБКИ, ПОСЛЕ ПОМОЩИ ВЗРОСЛОГО ИСПРАВИЛ ИХ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НИЖЕ СРЕДНЕГО (-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С ТРУДОМ СПРАВЛЯЛСЯ С ЗАДАНИЯМИ, ДОПУСКАЛ МНОГОЧИСЛЕННЫЕ И «ГРУБЫЕ» ОШИБКИ, ОТКАЗЫВАЛСЯ ПРИНИМАТЬ ПОМОЩЬ ВЗРОСЛОГО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w Cen MT"/>
              </a:rPr>
              <a:t>НИЗКИЙ УРОВЕНЬ (!)</a:t>
            </a:r>
            <a:r>
              <a:rPr b="0" i="1" lang="ru-RU" sz="1700" spc="-1" strike="noStrike">
                <a:solidFill>
                  <a:srgbClr val="000000"/>
                </a:solidFill>
                <a:latin typeface="Tw Cen MT"/>
              </a:rPr>
              <a:t> – РЕБЕНОК СОВЕРШЕННО НЕ СПРАВИЛСЯ С ЗАДАНИЯМИ, ОТКАЗЫВАЛСЯ ИХ ВЫПОЛНЯТЬ, ССЫЛАЯСЬ НА СВОЕ НЕЗНАНИЕ И Т.П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Прямоугольник 5"/>
          <p:cNvSpPr/>
          <p:nvPr/>
        </p:nvSpPr>
        <p:spPr>
          <a:xfrm>
            <a:off x="1066680" y="28954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80880" y="838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У УМСТВЕННО ОТСТАЛЫХ ДЕТЕЙ В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НЕСКОЛЬКО  РАЗ ЧАЩЕ, ЧЕМ У ИХ НОРМАЛЬНО РАЗВИВАЮЩИХСЯ СВЕРСТНИКОВ, НАБЛЮДАЮТСЯ НАРУШЕНИЯ ОРГАНОВ СЛУХА И ЗРЕНИЯ. ЭТО ЧАСТО ВЕДЕТ К ПОЯВЛЕНИЮ НЕДОСТАТКОВ ИХ ВОСПРИЯТИЯ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79" name="Picture 4" descr="https://st.depositphotos.com/1007422/1474/i/950/depositphotos_14747277-stock-photo-child-draws-a-picture-paints.jpg"/>
          <p:cNvPicPr/>
          <p:nvPr/>
        </p:nvPicPr>
        <p:blipFill>
          <a:blip r:embed="rId1"/>
          <a:stretch/>
        </p:blipFill>
        <p:spPr>
          <a:xfrm>
            <a:off x="2438280" y="3435480"/>
            <a:ext cx="4572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"/>
          <p:cNvSpPr/>
          <p:nvPr/>
        </p:nvSpPr>
        <p:spPr>
          <a:xfrm>
            <a:off x="838080" y="530640"/>
            <a:ext cx="8610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 детей с нарушением интеллекта нарушено и отличается рядом особенностей. </a:t>
            </a:r>
            <a:br>
              <a:rPr sz="3600"/>
            </a:br>
            <a:r>
              <a:rPr b="1" lang="ru-RU" sz="3600" spc="-1" strike="noStrike">
                <a:solidFill>
                  <a:srgbClr val="c41e52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обобщенности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ный темп восприяти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кость объема восприятия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я дифференцированность;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сть восприятия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Прямоугольник 1"/>
          <p:cNvSpPr/>
          <p:nvPr/>
        </p:nvSpPr>
        <p:spPr>
          <a:xfrm>
            <a:off x="609480" y="609480"/>
            <a:ext cx="7848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Главным  недостатком является нарушение обобщенности восприятия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Это проявляется в неумении выделять главное, существенное в объекте</a:t>
            </a:r>
            <a:r>
              <a:rPr b="1" lang="ru-RU" sz="3600" spc="-1" strike="noStrike">
                <a:solidFill>
                  <a:srgbClr val="812674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2" name="Picture 5" descr="http://www.mi-roditeli.com/uploads/2016/03/1019229381-1024x683.jpg"/>
          <p:cNvPicPr/>
          <p:nvPr/>
        </p:nvPicPr>
        <p:blipFill>
          <a:blip r:embed="rId1"/>
          <a:stretch/>
        </p:blipFill>
        <p:spPr>
          <a:xfrm>
            <a:off x="1676520" y="2895480"/>
            <a:ext cx="548640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"НАЙДИ ЗАКОНОМЕРНОСТЬ»</a:t>
            </a:r>
            <a:br>
              <a:rPr sz="25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НАПРАВЛЕНО НА ФОРМИРОВАНИЕ УМ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И ОБОБЩАТЬ</a:t>
            </a:r>
            <a:br>
              <a:rPr sz="25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: "ВНИМАТЕЛЬНО РАССМОТРИ КАРТИНКИ И ЗАПОЛНИ ПУСТУЮ КЛЕТКУ, НЕ НАРУШАЯ ЗАКОНОМЕРНОСТИ"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4" name="Picture 2" descr=""/>
          <p:cNvPicPr/>
          <p:nvPr/>
        </p:nvPicPr>
        <p:blipFill>
          <a:blip r:embed="rId1"/>
          <a:stretch/>
        </p:blipFill>
        <p:spPr>
          <a:xfrm>
            <a:off x="755640" y="2736720"/>
            <a:ext cx="74739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47600"/>
            <a:ext cx="7773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 "КОПИРОВАНИЕ ТОЧЕК«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Прямоугольник 2"/>
          <p:cNvSpPr/>
          <p:nvPr/>
        </p:nvSpPr>
        <p:spPr>
          <a:xfrm>
            <a:off x="685800" y="1295280"/>
            <a:ext cx="754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скопировать несколько групп точек расположенных в строчках, нарисованных на свободном месте справа от образца. Задание выполняется на листе из школьной тетради. Затем ребенок должен (после выполнения задания) рассказать пространственное расположение точек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7" name="Рисунок 3" descr=""/>
          <p:cNvPicPr/>
          <p:nvPr/>
        </p:nvPicPr>
        <p:blipFill>
          <a:blip r:embed="rId1"/>
          <a:stretch/>
        </p:blipFill>
        <p:spPr>
          <a:xfrm>
            <a:off x="1901880" y="3273480"/>
            <a:ext cx="57243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Прямоугольник 1"/>
          <p:cNvSpPr/>
          <p:nvPr/>
        </p:nvSpPr>
        <p:spPr>
          <a:xfrm>
            <a:off x="685800" y="53352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еобразие зрительного восприятия проявляется при рассматривании сюжетных картин, понимание которых оказывается неполным, поверхностным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89" name="Picture 4" descr=""/>
          <p:cNvPicPr/>
          <p:nvPr/>
        </p:nvPicPr>
        <p:blipFill>
          <a:blip r:embed="rId1"/>
          <a:stretch/>
        </p:blipFill>
        <p:spPr>
          <a:xfrm>
            <a:off x="2457360" y="2762280"/>
            <a:ext cx="43401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00280" y="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УХОВОЕ ВОСПРИЯТИЕ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533520" y="2209680"/>
            <a:ext cx="8229600" cy="2362320"/>
          </a:xfrm>
          <a:prstGeom prst="rect">
            <a:avLst/>
          </a:prstGeom>
          <a:noFill/>
          <a:ln w="9360">
            <a:solidFill>
              <a:srgbClr val="33275e"/>
            </a:solidFill>
            <a:miter/>
          </a:ln>
        </p:spPr>
        <p:txBody>
          <a:bodyPr anchor="t">
            <a:normAutofit/>
          </a:bodyPr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УПРАЖНЕНИЯ РЕШАЮТ ДВЕ ЗАДАЧИ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РАБОТКА НЕРЕЧЕВЫХ СЛУХОВЫХ ОБРАЗОВ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ЗВИТИЕ СЛУХОМОТОРНЫХ КООРДИНАЦИЙ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28600" indent="-22860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ВОСПРИЯТИЕ ЗВУКА ДОЛЖНЫ ДАТЬ ПРЕДСТАВЛЕНИЕ О ШУРШАНИИ, СКРИПЕ, ПИСКЕ , БУЛЬКАНЬЕ, ЗВОНЕ , ШЕЛЕСТЕ, ПЕНИИ ПТИЦ , ШУМЕ МАШИН , КРИКАХ ЖИВОТНЫХ, О ГРОМКОМ И ТИХОМ ЗВУКЕ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742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 «НАЙДИ СПРЯТАННЫЕ ПРЕДМЕТ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93" name="Рисунок 2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55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Sysadmin</cp:lastModifiedBy>
  <dcterms:modified xsi:type="dcterms:W3CDTF">2023-02-06T09:05:44Z</dcterms:modified>
  <cp:revision>21</cp:revision>
  <dc:subject/>
  <dc:title>Название презентации</dc:title>
</cp:coreProperties>
</file>