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3A0-53D7-4B13-970E-298A29A8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2B-00C1-487B-A484-60777FF5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9FD9D-5E1E-435E-B959-1E555B3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B321-930F-4BA7-BD66-79CB0747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F1665-2009-42B9-9937-8D48D070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41B1-DD2D-48EC-9D5E-15A4124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BADF3-D9DB-473E-BF59-63F9DBA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6455-9675-484F-B970-F7747AF5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F78A2-07DE-483F-B40A-3AAA2E2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F75A-F80A-471F-A963-F0B7DE74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FBBB-80E6-4204-9DDB-86C2D44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7F45F-28BF-4267-A286-26DF753C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090-71D8-42DA-9516-D204D9DA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BB50-4710-4AD0-B3B5-53FF5CB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75C2-0494-4929-AF4C-F1A19D2E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F5DC4-85C9-4F20-82C7-1899422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25FC3-E514-4075-AC7A-53F91EDE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8F3A-E969-488E-931C-B30A4F64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301C2-9A48-4BFA-971C-3B3611A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CABF-3105-4FD2-A561-4D4D35E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07B4C-0FDD-4A6A-B5D9-7E4CCE0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F6B15-023E-47E8-9AE5-A9306B6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E767C-74D7-40AE-B916-B7BEF4AC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BEB-A68C-4D51-923C-033B2A1F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F0687-F14C-4248-BDDA-36A7862F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9294-BAAA-4B29-9710-B2EDC8E7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EECBC-F434-4867-8A6B-A681BD71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A50F0-F54A-4062-9459-15068B67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F34C-7F0D-405A-ACD1-F0346FF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8C63F-4E32-44F9-9B90-C9A0DDF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9D51-2CF5-443E-BC3F-14A981C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61A2-3483-40AB-A4DB-54BEF9F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BE7C-9AEB-4A63-96DA-44C2F32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B7401-44D7-40F8-9490-5CC2C8B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8F24-CF6B-4327-AC61-1B341023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34B81-4907-48D1-82AE-8F580BC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4D94D-302E-4795-A8C4-2BC570E8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2D941-EF16-447F-A2BB-1385A21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E1F9A-E855-41F5-BE79-B9E150A9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DA25-E706-4E19-BE72-4407A059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16DF8-9E3D-4C9F-A95C-171C5340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6E1FA-EF0E-4429-BEA0-76E208B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E2F8E-ED69-4B18-8704-4C0868A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F62C1-2283-4A25-888A-9C30D5E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2A935-E64A-45CD-AF7D-7A91349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E7C3-40B8-4FB8-957B-C72041BE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C2434-9B8F-46A1-B1D5-392541B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99C6-60A1-4D2B-AE44-F944FE7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21332-13EF-4491-A843-5E8A401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DB303-8D60-4CC6-A0F9-752DBE98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E0047-450A-4EE2-8B86-6A1B99EE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38646-66DA-472E-8356-279738D3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EA38C-E9EC-4DA0-897F-A4D2F6B8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0E50F-E44C-40DA-B3BD-FECA38C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17331-2310-4401-B960-BFC4E3B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8148F-E42E-4CE3-8724-DBA1D6D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E68A-C0EF-484B-B7D3-2968615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93255-81CC-4BDB-91D3-B3EB1B2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70FD0-AADD-45A8-8EC3-0CFE2F3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9E8EB-5F61-48D4-B139-E9FEBE6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04292-D2C7-49C7-AA52-FE6B6AC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9BDAD-95F7-4048-9931-BADA4328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88BB9-F6F2-420F-86D7-6A0B4312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63A7A-32B9-4B8A-84A7-B7ABCD61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DEE14-532E-4414-844F-57855845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1B064-2B69-41F5-BC92-DFD24F6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8AAF5-C92E-4444-9384-C1F7B41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AE11-17DC-4C34-AFA7-0EE3FD6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DF484-692F-4E2A-9810-38C2779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93DBD-46C3-483A-972E-0AA5387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701EE-06CC-4F98-9F8B-304411F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83328-B69B-46C6-9346-F137FED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2FCC6-39D7-4020-9911-E8AA5E99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EC646-BC03-48BE-A35D-1B8ED0F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0C712-2357-4E64-8470-0BA9471B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998F5-E532-4098-A693-96C45A65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E4BA1-EAA1-4B03-92B0-487D2EA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617E1-4A9E-4B79-A786-ED4E94F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58D5-52CC-447F-A5CC-B9CFD10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53054-4A33-4B20-9D3D-3FBCFD1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55CEB-E1EC-4B3F-A5E3-4C6BE11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7BBCB-800B-4B12-927F-999342D6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E020F-0ED7-4AF1-B31E-EC1660C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4BABA-83AA-413C-B308-11EA3B7C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D883E-842A-4DA3-9910-AE8E456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8D76C-5DE2-409B-9881-B9F0535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3C0A6-C469-4B95-B70E-5D0F99D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453FC-DE33-4663-8ABF-5115A97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CC788-032A-4F5D-A384-D3381177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CB72-92CB-4184-AED4-0187451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BDEB3-35FC-483D-AA73-48814EB2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3E8D8-451E-4C13-B1A6-5C65BB14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1507E-12CE-4586-91C3-651C2FBB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3831A-6B3B-4C42-B809-4E3B9D94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17BB4-4FB2-412E-AC95-404A7DB4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18775-FB50-44CA-BBC8-8F4F0C0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2F56A-5A02-423F-B95B-D632B16F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161D5-1B63-40C3-A9D5-4F024CF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57839-DCD2-4318-83E8-C03A581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12BAB-1C94-4890-8BEA-DF4EAD1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64F-4AB1-4738-B5A0-7D1AE41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B8A04-0E0F-495E-BFDB-6BBA824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DE4E1-8CE1-4C49-BCDB-DA376D41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310EC-00C0-4CA8-A926-10183DA2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0E56A-7B18-4ABC-986F-1760E52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A429D-C88A-4C3C-9396-C9F717B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9B46C-1D68-45AC-AE2B-48A2376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E36A0-1B85-4F96-ADB7-7C831D2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28A2A-13E6-49A4-869B-481EC077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49283-77F4-4035-9EF2-B108BAE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79FA7-81DA-457A-83B9-B71E2CD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F9B-C1A3-4E4E-AAFE-11AD12E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7919-450E-46AD-AC25-EF79A54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62996-6FD8-41E7-87FD-873480D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B70E2-F41A-49DD-885F-9606721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4E325-9478-4077-B128-430C4DE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88E0B-5CFF-4BC9-A2E4-D6CDEBFE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DAE75-A5D3-4AEB-B6DF-59BAF6F3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CC4E5-930C-401A-9067-6863B7A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7FF3C-F352-4440-A760-29FCD5BD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6E67E-39C6-4EA5-82C5-924C361E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F9381-20A0-4ECF-BAE8-7F17BEF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A6C71-5CC8-4B2A-B4A9-E4BFE2FB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82F1-2D28-4699-9E8F-BF054169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78CCC-2EEE-40A8-921F-C698AE2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91D28-457C-4017-B993-4D126D5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ACE403-6190-48D4-B0F3-A7AB1A0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C86E4-7A84-4A4B-8C8D-DB841E0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8BCBB-BC97-41FB-89D8-44975ED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924C8-C8F2-490F-A264-31EEAF0D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A07C5-136F-4691-AC65-276244D2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A4BA-4E7E-41B3-A2C6-08E328B4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CC2-33FA-46E2-AFD7-50EA61BA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638A-7965-4872-BACC-34706117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6A75-8B2C-4905-B7E8-C5ADB3D6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6C54-6277-42AC-9FBC-5A06BB44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2F7D-8B3A-46E7-B741-F6D4BCD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A91B-97FB-470F-9513-5725BA3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3E37-BC7E-49D8-9976-8E234F1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125-380A-43A5-9123-B9C1D2E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7AEF-DF26-469B-8DC4-AD089166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F9A9-590C-4019-9BF9-92B15CD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02C4-B28A-4EE5-8FA8-A03120B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0118-A1E1-44C5-B2AD-3C0C173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32E3-044F-4777-B43F-F495391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DE6B-55CA-4EAF-9B98-9DC769A0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8CEA-CBC0-43AE-BDF3-955385A1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BA76-87EB-4361-A2B8-5A16BB38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064F-0C0D-4A75-A8BE-8C69071F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3188-271C-4A44-B8DC-68344F57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054-8039-4E1E-B607-4515BE6F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86E4-87F1-4959-8010-F8E0DCD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5AD6-7092-4A89-A834-FCACDE01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FEB5-482D-4661-AE99-6F37C40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1EA6-9DEE-4EEA-9766-63CC485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322B-46C2-45BB-9A6D-026001F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F821-869C-4CFD-AD28-A399C81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C48A-55B8-4401-A6A5-61268C1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776F-9B29-4CFC-845B-6B5FDBCA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8341-C7AB-4E44-BB3E-52DC6B89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F328-5178-4312-97C5-FA906C2F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763-A0A9-42EA-A1C8-AA77AEB1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3036-AB7D-4986-8FFD-6A29A3A0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DEAA-34FC-4879-B6D9-2CBD60AD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4746-6937-4697-98F7-7F63B26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7176-68F6-456B-8BBD-928690F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5BB4-ABAB-44E6-91C4-427880F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112F-5B88-4986-894F-519F3D8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34FC-1A32-4597-B512-653EC60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96AE-E26E-4F25-8A00-7C4264E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B32D-048C-4324-B2BF-BBE408C6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A11B-279E-45FE-BC87-ED70B477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7E6-16DE-43A3-9FD6-50E9954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5302-1727-402A-9C78-14CA866D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8237-C8D4-48AF-9FCB-8463DE4E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6B9B-012A-4FFA-8CA8-91923BF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0E88-BE12-416F-B7EE-D4BE3BF0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81CE-9098-47F9-936B-0D11A67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C1FB-A986-494D-BCBC-57E3963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ADF2-8CE6-4603-B7F1-E085C8EF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78FD9-7101-4DF3-BE64-6F4B900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AC3C-1492-46C8-AA9D-6B59EC9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54D0-97AF-4815-82C4-454D4282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68A-9D6E-4E26-B6C7-A6ED788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6BDB2-3FE5-4AF1-A89A-5F7E26F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4746-D7D3-4E19-9ADF-1784EB32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0580-564C-4071-86AE-D4D15B93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CCC80-5680-4FE8-82B3-F1486ABD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DA21-1815-4B85-AF13-E07604D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BB24-827B-480E-A024-E61B4BE0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268F-D7F3-4795-81F0-CB8C15E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9A97-09B9-4B0E-BE91-BC88436D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3F44-C03E-48EA-91DF-26FC024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4A3EE-3FF2-4FB7-85E3-237608F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ABE-7B55-4687-8A2E-239D2C5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515D-1E63-4630-B3BA-CE77CAE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B38E3-2B11-4DE4-8970-A0C6C2A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533D4-8C21-49FD-9C0D-73214F8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E445-E837-4CF6-9695-E789241A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DEDF-A5BA-43D9-9FE4-89C2F85B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4D70-24CB-4FB5-8A03-0A2512AA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A9209-8BDA-4B4E-AD82-9670BF3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397F-6319-416F-B1DD-9BB4573F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2591-9145-422C-92C3-BDAE5E8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49E28-165C-42C8-8448-91B1E91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3E3-0788-4321-BBF0-BFD1453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90F1-568D-4136-A395-2D61737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EF4B0-6103-44BF-BA46-126679D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C193D-C463-441A-A5D5-60B29B5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7D95-E2BD-4494-99F1-A3B5AB6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ED69-EE9A-4E20-81D7-E98BC514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8DA1-3758-473B-A1B5-0A01C4D5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85622-3641-429A-8F9E-6946B6D1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C23FF-F83A-4A7B-A54E-A40A4D2C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D1945-8272-4C1D-BF4E-ECB44B2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388B3-0EA7-4550-BCEC-0A558E5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6DC67-F9FE-4E1D-967D-19712E96C9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396C5-C7E5-4A4F-A6ED-1E6D53B4F7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3E3D3-7C5C-43EA-B110-99823BB95A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67F8D-F57C-4B35-B85B-1DD6FE8C35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CAE21-F083-48BE-AA05-31C23C4226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B35B0-E451-4C0C-A90C-9A3FDA0C29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050D0-AAA4-41A1-8F52-8EA8CD0E69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7CB27-43A7-41EE-B9E3-8C9046707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C1AD9-B9E1-464F-B8E6-75E23FC60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F8040-5A99-451B-B528-8A1459F36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9800E-23B1-44FD-983D-CF92EA262A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2CD4B-F0C5-45C6-A335-94E012526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4D962-EB75-4AD4-BDA4-37E61B067D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9EC05-30FC-4465-B4FE-596AF1A7EB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BEA93-F0AE-4DC1-AA70-1CB029FC2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083C3-3EFF-4F61-80FE-801BAC8D4C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33747-F4CC-4324-A868-E1D3AC6816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1F921-40F0-48FE-9599-61424B9AB5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ДИАГНОСТИКА ВОСПРИЯТИЯ У ДЕТЕЙ С НАРУШЕНИЕМ ИНТЕЛЛЕКТ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Заголовок 1"/>
          <p:cNvSpPr/>
          <p:nvPr/>
        </p:nvSpPr>
        <p:spPr>
          <a:xfrm>
            <a:off x="137160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Прямоугольник 3"/>
          <p:cNvSpPr/>
          <p:nvPr/>
        </p:nvSpPr>
        <p:spPr>
          <a:xfrm>
            <a:off x="2743200" y="4800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275e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275e"/>
                </a:solidFill>
                <a:latin typeface="Times New Roman"/>
                <a:ea typeface="Times New Roman"/>
              </a:rPr>
              <a:t>Сидяйкина Анна 391 групп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685800" y="7664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мотрите карточки, на них нарисованы геометрические фигуры. Назовите их. Найдите две одинаковые карточк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5" name="Picture 3" descr="Копия (4) File0720"/>
          <p:cNvPicPr/>
          <p:nvPr/>
        </p:nvPicPr>
        <p:blipFill>
          <a:blip r:embed="rId1"/>
          <a:stretch/>
        </p:blipFill>
        <p:spPr>
          <a:xfrm>
            <a:off x="1905120" y="2362320"/>
            <a:ext cx="2057400" cy="9363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" descr="Копия (2) File0720"/>
          <p:cNvPicPr/>
          <p:nvPr/>
        </p:nvPicPr>
        <p:blipFill>
          <a:blip r:embed="rId2"/>
          <a:stretch/>
        </p:blipFill>
        <p:spPr>
          <a:xfrm>
            <a:off x="1905120" y="3505320"/>
            <a:ext cx="2057400" cy="8557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" descr="Копия (5) File0720"/>
          <p:cNvPicPr/>
          <p:nvPr/>
        </p:nvPicPr>
        <p:blipFill>
          <a:blip r:embed="rId3"/>
          <a:stretch/>
        </p:blipFill>
        <p:spPr>
          <a:xfrm>
            <a:off x="4964040" y="2362320"/>
            <a:ext cx="2652840" cy="19810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Копия (3) File0720"/>
          <p:cNvPicPr/>
          <p:nvPr/>
        </p:nvPicPr>
        <p:blipFill>
          <a:blip r:embed="rId4"/>
          <a:stretch/>
        </p:blipFill>
        <p:spPr>
          <a:xfrm>
            <a:off x="3657600" y="4648320"/>
            <a:ext cx="2459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1" name="Picture 2" descr="https://superinf.ru/img/Srenie/Zrenie_clip_image006.jpg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4" name="Picture 2" descr="https://works.doklad.ru/images/GYRS6zVUZns/m16fbf5d4.jpg"/>
          <p:cNvPicPr/>
          <p:nvPr/>
        </p:nvPicPr>
        <p:blipFill>
          <a:blip r:embed="rId1"/>
          <a:stretch/>
        </p:blipFill>
        <p:spPr>
          <a:xfrm>
            <a:off x="65160" y="336600"/>
            <a:ext cx="9013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Picture 2" descr="https://ds04.infourok.ru/uploads/ex/053e/0018211d-ca0289af/5/img42.jpg"/>
          <p:cNvPicPr/>
          <p:nvPr/>
        </p:nvPicPr>
        <p:blipFill>
          <a:blip r:embed="rId1"/>
          <a:stretch/>
        </p:blipFill>
        <p:spPr>
          <a:xfrm>
            <a:off x="457200" y="25704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РЕЗУЛЬТАТЫ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057400"/>
            <a:ext cx="7773840" cy="3424320"/>
          </a:xfrm>
          <a:prstGeom prst="rect">
            <a:avLst/>
          </a:prstGeom>
          <a:noFill/>
          <a:ln w="9360">
            <a:solidFill>
              <a:srgbClr val="33275e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ВЫШЕ СРЕДНЕГО (+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БЕЗОШИБОЧНО ВЫПОЛНИЛ ВСЕ ЗАДАНИЯ, СТАРАТЕЛЬНО И БЫСТРО СПРАВИЛСЯ С ТЕСТОМ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СРЕДНИЙ УРОВЕНЬ (V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ДОПУСТИЛ НЕЗНАЧИТЕЛЬНЫЕ ОШИБКИ, ПОСЛЕ ПОМОЩИ ВЗРОСЛОГО ИСПРАВИЛ ИХ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НИЖЕ СРЕДНЕГО (-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С ТРУДОМ СПРАВЛЯЛСЯ С ЗАДАНИЯМИ, ДОПУСКАЛ МНОГОЧИСЛЕННЫЕ И «ГРУБЫЕ» ОШИБКИ, ОТКАЗЫВАЛСЯ ПРИНИМАТЬ ПОМОЩЬ ВЗРОСЛОГО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НИЗКИЙ УРОВЕНЬ (!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СОВЕРШЕННО НЕ СПРАВИЛСЯ С ЗАДАНИЯМИ, ОТКАЗЫВАЛСЯ ИХ ВЫПОЛНЯТЬ, ССЫЛАЯСЬ НА СВОЕ НЕЗНАНИЕ И Т.П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Прямоугольник 5"/>
          <p:cNvSpPr/>
          <p:nvPr/>
        </p:nvSpPr>
        <p:spPr>
          <a:xfrm>
            <a:off x="1066680" y="2895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0880" y="838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У УМСТВЕННО ОТСТАЛЫХ ДЕТЕЙ В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НЕСКОЛЬКО  РАЗ ЧАЩЕ, ЧЕМ У ИХ НОРМАЛЬНО РАЗВИВАЮЩИХСЯ СВЕРСТНИКОВ, НАБЛЮДАЮТСЯ НАРУШЕНИЯ ОРГАНОВ СЛУХА И ЗРЕНИЯ. ЭТО ЧАСТО ВЕДЕТ К ПОЯВЛЕНИЮ НЕДОСТАТКОВ ИХ ВОСПРИЯТ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Picture 4" descr="https://st.depositphotos.com/1007422/1474/i/950/depositphotos_14747277-stock-photo-child-draws-a-picture-paints.jpg"/>
          <p:cNvPicPr/>
          <p:nvPr/>
        </p:nvPicPr>
        <p:blipFill>
          <a:blip r:embed="rId1"/>
          <a:stretch/>
        </p:blipFill>
        <p:spPr>
          <a:xfrm>
            <a:off x="2438280" y="343548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"/>
          <p:cNvSpPr/>
          <p:nvPr/>
        </p:nvSpPr>
        <p:spPr>
          <a:xfrm>
            <a:off x="838080" y="530640"/>
            <a:ext cx="861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детей с нарушением интеллекта нарушено и отличается рядом особенностей. </a:t>
            </a:r>
            <a:br>
              <a:rPr sz="3600"/>
            </a:br>
            <a:r>
              <a:rPr b="1" lang="ru-RU" sz="3600" spc="-1" strike="noStrike">
                <a:solidFill>
                  <a:srgbClr val="c41e52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обобщенности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ый темп восприяти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ость объема восприяти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дифференцированность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сть восприятия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Прямоугольник 1"/>
          <p:cNvSpPr/>
          <p:nvPr/>
        </p:nvSpPr>
        <p:spPr>
          <a:xfrm>
            <a:off x="609480" y="609480"/>
            <a:ext cx="7848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Главным  недостатком является нарушение обобщенности восприятия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Это проявляется в неумении выделять главное, существенное в объекте</a:t>
            </a:r>
            <a:r>
              <a:rPr b="1" lang="ru-RU" sz="36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2" name="Picture 5" descr="http://www.mi-roditeli.com/uploads/2016/03/1019229381-1024x683.jpg"/>
          <p:cNvPicPr/>
          <p:nvPr/>
        </p:nvPicPr>
        <p:blipFill>
          <a:blip r:embed="rId1"/>
          <a:stretch/>
        </p:blipFill>
        <p:spPr>
          <a:xfrm>
            <a:off x="1676520" y="2895480"/>
            <a:ext cx="548640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"НАЙДИ ЗАКОНОМЕРНОСТЬ»</a:t>
            </a:r>
            <a:br>
              <a:rPr sz="25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ПРАВЛЕНО НА ФОРМИРОВАНИЕ УМ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И ОБОБЩАТЬ</a:t>
            </a:r>
            <a:br>
              <a:rPr sz="25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: "ВНИМАТЕЛЬНО РАССМОТРИ КАРТИНКИ И ЗАПОЛНИ ПУСТУЮ КЛЕТКУ, НЕ НАРУШАЯ ЗАКОНОМЕРНОСТИ"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755640" y="2736720"/>
            <a:ext cx="74739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 "КОПИРОВАНИЕ ТОЧЕК«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Прямоугольник 2"/>
          <p:cNvSpPr/>
          <p:nvPr/>
        </p:nvSpPr>
        <p:spPr>
          <a:xfrm>
            <a:off x="685800" y="129528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скопировать несколько групп точек расположенных в строчках, нарисованных на свободном месте справа от образца. Задание выполняется на листе из школьной тетради. Затем ребенок должен (после выполнения задания) рассказать пространственное расположение точек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Рисунок 3" descr=""/>
          <p:cNvPicPr/>
          <p:nvPr/>
        </p:nvPicPr>
        <p:blipFill>
          <a:blip r:embed="rId1"/>
          <a:stretch/>
        </p:blipFill>
        <p:spPr>
          <a:xfrm>
            <a:off x="1901880" y="3273480"/>
            <a:ext cx="5724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Прямоугольник 1"/>
          <p:cNvSpPr/>
          <p:nvPr/>
        </p:nvSpPr>
        <p:spPr>
          <a:xfrm>
            <a:off x="685800" y="53352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еобразие зрительного восприятия проявляется при рассматривании сюжетных картин, понимание которых оказывается неполным, поверхностны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9" name="Picture 4" descr=""/>
          <p:cNvPicPr/>
          <p:nvPr/>
        </p:nvPicPr>
        <p:blipFill>
          <a:blip r:embed="rId1"/>
          <a:stretch/>
        </p:blipFill>
        <p:spPr>
          <a:xfrm>
            <a:off x="2457360" y="2762280"/>
            <a:ext cx="43401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ХОВОЕ ВОСПРИЯТИ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33520" y="2209680"/>
            <a:ext cx="8229600" cy="2362320"/>
          </a:xfrm>
          <a:prstGeom prst="rect">
            <a:avLst/>
          </a:prstGeom>
          <a:noFill/>
          <a:ln w="9360">
            <a:solidFill>
              <a:srgbClr val="33275e"/>
            </a:solidFill>
            <a:miter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ПРАЖНЕНИЯ РЕШАЮТ ДВЕ ЗАДАЧИ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РАБОТКА НЕРЕЧЕВЫХ СЛУХОВЫХ ОБРАЗОВ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ЗВИТИЕ СЛУХОМОТОРНЫХ КООРДИНАЦИЙ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ОСПРИЯТИЕ ЗВУКА ДОЛЖНЫ ДАТЬ ПРЕДСТАВЛЕНИЕ О ШУРШАНИИ, СКРИПЕ, ПИСКЕ , БУЛЬКАНЬЕ, ЗВОНЕ , ШЕЛЕСТЕ, ПЕНИИ ПТИЦ , ШУМЕ МАШИН , КРИКАХ ЖИВОТНЫХ, О ГРОМКОМ И ТИХОМ ЗВУКЕ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«НАЙДИ СПРЯТАННЫЕ ПРЕДМЕТ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3" name="Рисунок 2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55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Sysadmin</cp:lastModifiedBy>
  <dcterms:modified xsi:type="dcterms:W3CDTF">2023-02-06T09:05:44Z</dcterms:modified>
  <cp:revision>21</cp:revision>
  <dc:subject/>
  <dc:title>Название презентации</dc:title>
</cp:coreProperties>
</file>