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26.gif" ContentType="image/gif"/>
  <Override PartName="/ppt/media/image1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FFF7-EBD7-4C68-8083-CE244037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9D37-2B59-4BD6-B628-652542C8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FCB-0770-4580-971A-2057C86B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5F8-537D-47ED-881F-440DBBFB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CE6C-9DF7-4C47-80CB-95C2334B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CF97-3720-48B9-9073-C74FD9D2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AC32-5407-472E-A229-274A100E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B28D-575C-402E-903B-E6105F74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8672-9555-4C16-8433-54162531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EA02-D1C7-472C-A1DB-BD5A66F3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F4A3-8FB4-4451-95F2-F53A7ED6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026-1F3E-43F6-B292-C63B1A8A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195A-BE9E-4737-8D72-F97EA6F5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99D5-988D-4702-9198-16A6F673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94D5-298A-4147-8849-A0FB5AFB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C2D7-4A03-4EA9-893C-CB99B0BD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67A5-37CF-443F-9428-2BDFB2A7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2E0-F283-4187-9481-57669820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14D-3B7B-44A0-B3B4-99B8C24C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DBC-5BA0-46D4-9A3B-EE4D44D5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8F5-95AE-4E21-ACFF-862F495A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540-8597-40AE-A483-7E5931E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D40-9B90-41E4-84FA-BF61BED6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7FA1-C2B6-4D54-8A79-5B117599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1C7-A350-4E0E-9710-8E7011187E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Rectangle 10"/>
          <p:cNvGrpSpPr/>
          <p:nvPr/>
        </p:nvGrpSpPr>
        <p:grpSpPr>
          <a:xfrm>
            <a:off x="-6480" y="-6480"/>
            <a:ext cx="9156960" cy="7023240"/>
            <a:chOff x="-6480" y="-6480"/>
            <a:chExt cx="9156960" cy="7023240"/>
          </a:xfrm>
        </p:grpSpPr>
        <p:pic>
          <p:nvPicPr>
            <p:cNvPr id="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70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6 Imagen" descr="Dibujo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Rectangle 10"/>
          <p:cNvGrpSpPr/>
          <p:nvPr/>
        </p:nvGrpSpPr>
        <p:grpSpPr>
          <a:xfrm>
            <a:off x="-6480" y="-6480"/>
            <a:ext cx="9156960" cy="7023240"/>
            <a:chOff x="-6480" y="-6480"/>
            <a:chExt cx="9156960" cy="7023240"/>
          </a:xfrm>
        </p:grpSpPr>
        <p:pic>
          <p:nvPicPr>
            <p:cNvPr id="47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70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0"/>
              <a:ext cx="9144000" cy="70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" name="6 Imagen" descr="Dibujo.bmp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F70F-7804-40F4-AC99-3F086C3003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682560" y="2120760"/>
            <a:ext cx="7785000" cy="88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55280" y="549000"/>
            <a:ext cx="8064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264200" y="60418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351080" y="182880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гностика мышления детей с ЗП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482560" y="48499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дяйкиной Анны 391 груп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«Классификация предметов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(5-7 ле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 позволяет исследовать предметы обобщения и абстрагирования, особенности памяти, объем и устойчивость внимания, личностные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В норм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сновывают сходства и различия на уровне отвлеченных категор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1335872833-9351"/>
          <p:cNvPicPr/>
          <p:nvPr/>
        </p:nvPicPr>
        <p:blipFill>
          <a:blip r:embed="rId1"/>
          <a:stretch/>
        </p:blipFill>
        <p:spPr>
          <a:xfrm>
            <a:off x="0" y="0"/>
            <a:ext cx="428616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4328859"/>
          <p:cNvPicPr/>
          <p:nvPr/>
        </p:nvPicPr>
        <p:blipFill>
          <a:blip r:embed="rId2"/>
          <a:srcRect l="14488" t="0" r="14488" b="0"/>
          <a:stretch/>
        </p:blipFill>
        <p:spPr>
          <a:xfrm>
            <a:off x="6012000" y="189000"/>
            <a:ext cx="2950920" cy="415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83395"/>
          <p:cNvPicPr/>
          <p:nvPr/>
        </p:nvPicPr>
        <p:blipFill>
          <a:blip r:embed="rId3"/>
          <a:srcRect l="0" t="7770" r="0" b="0"/>
          <a:stretch/>
        </p:blipFill>
        <p:spPr>
          <a:xfrm>
            <a:off x="1476360" y="2349360"/>
            <a:ext cx="4381560" cy="2089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furniture4"/>
          <p:cNvPicPr/>
          <p:nvPr/>
        </p:nvPicPr>
        <p:blipFill>
          <a:blip r:embed="rId4"/>
          <a:stretch/>
        </p:blipFill>
        <p:spPr>
          <a:xfrm>
            <a:off x="6084720" y="4437000"/>
            <a:ext cx="2759400" cy="2208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imgh1021096"/>
          <p:cNvPicPr/>
          <p:nvPr/>
        </p:nvPicPr>
        <p:blipFill>
          <a:blip r:embed="rId5"/>
          <a:stretch/>
        </p:blipFill>
        <p:spPr>
          <a:xfrm>
            <a:off x="250920" y="4221000"/>
            <a:ext cx="351468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54900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«Сюжетные картинки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- с явным смысл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«Расскажи что здесь происходит. Придумай об этом рассказ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- со скрытым смысл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«Рассмотри картину, кто изображен на ней, внимательно послушай текст, подумай и скажи что здесь произошло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- картинки-«нелепицы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«Так бывает или нет?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- серия картин. (разложить по сюжету, по логике событи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C:\Users\Секретарь\Desktop\images (1).jpg"/>
          <p:cNvPicPr/>
          <p:nvPr/>
        </p:nvPicPr>
        <p:blipFill>
          <a:blip r:embed="rId1"/>
          <a:stretch/>
        </p:blipFill>
        <p:spPr>
          <a:xfrm>
            <a:off x="108000" y="333360"/>
            <a:ext cx="87361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:\Users\Секретарь\Desktop\suteev_07.jpg"/>
          <p:cNvPicPr/>
          <p:nvPr/>
        </p:nvPicPr>
        <p:blipFill>
          <a:blip r:embed="rId1"/>
          <a:stretch/>
        </p:blipFill>
        <p:spPr>
          <a:xfrm>
            <a:off x="4303800" y="343080"/>
            <a:ext cx="5203800" cy="6937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Секретарь\Desktop\img_07.jpg"/>
          <p:cNvPicPr/>
          <p:nvPr/>
        </p:nvPicPr>
        <p:blipFill>
          <a:blip r:embed="rId2"/>
          <a:stretch/>
        </p:blipFill>
        <p:spPr>
          <a:xfrm>
            <a:off x="0" y="404640"/>
            <a:ext cx="433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Секретарь\Desktop\1.jpg"/>
          <p:cNvPicPr/>
          <p:nvPr/>
        </p:nvPicPr>
        <p:blipFill>
          <a:blip r:embed="rId1"/>
          <a:stretch/>
        </p:blipFill>
        <p:spPr>
          <a:xfrm>
            <a:off x="468360" y="357120"/>
            <a:ext cx="3887640" cy="5676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Секретарь\Desktop\2.jpg"/>
          <p:cNvPicPr/>
          <p:nvPr/>
        </p:nvPicPr>
        <p:blipFill>
          <a:blip r:embed="rId2"/>
          <a:stretch/>
        </p:blipFill>
        <p:spPr>
          <a:xfrm>
            <a:off x="4721400" y="333360"/>
            <a:ext cx="391932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Секретарь\Desktop\5.jpg"/>
          <p:cNvPicPr/>
          <p:nvPr/>
        </p:nvPicPr>
        <p:blipFill>
          <a:blip r:embed="rId1"/>
          <a:stretch/>
        </p:blipFill>
        <p:spPr>
          <a:xfrm>
            <a:off x="250920" y="527040"/>
            <a:ext cx="4005000" cy="5759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Секретарь\Desktop\4.jpg"/>
          <p:cNvPicPr/>
          <p:nvPr/>
        </p:nvPicPr>
        <p:blipFill>
          <a:blip r:embed="rId2"/>
          <a:stretch/>
        </p:blipFill>
        <p:spPr>
          <a:xfrm>
            <a:off x="4957920" y="527040"/>
            <a:ext cx="406080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042560" y="1196640"/>
            <a:ext cx="6985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тическая коррекционная работа по формированию мышления существенно изменяет способы ориентировки ребенка в окружающем мире, приучают его выделять существенные   связи и отношения между объектами, что  приводит к росту его интеллектуальных    возможностей. Дети начинают ориентироваться   не только на цель, но и способы достижения е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это меняет их отношение к задаче, ведет к оценке собственных действий и разграничению правильных и неправильных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26560" y="1699920"/>
            <a:ext cx="7488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97080" y="6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332000" y="19890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imes New Roman"/>
              </a:rPr>
              <a:t>Благодарю за внимание!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7" descr="254"/>
          <p:cNvPicPr/>
          <p:nvPr/>
        </p:nvPicPr>
        <p:blipFill>
          <a:blip r:embed="rId2"/>
          <a:stretch/>
        </p:blipFill>
        <p:spPr>
          <a:xfrm>
            <a:off x="3995640" y="4508640"/>
            <a:ext cx="11620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1412800070941"/>
          <p:cNvPicPr/>
          <p:nvPr/>
        </p:nvPicPr>
        <p:blipFill>
          <a:blip r:embed="rId1"/>
          <a:stretch/>
        </p:blipFill>
        <p:spPr>
          <a:xfrm>
            <a:off x="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%D0%B4%D0%BE%D1%81%D0%BA%D0%B0-%D0%A1%D0%B5%D0%B3%D0%B5%D0%BD%D0%B0"/>
          <p:cNvPicPr/>
          <p:nvPr/>
        </p:nvPicPr>
        <p:blipFill>
          <a:blip r:embed="rId2"/>
          <a:stretch/>
        </p:blipFill>
        <p:spPr>
          <a:xfrm>
            <a:off x="4857840" y="3629160"/>
            <a:ext cx="4286160" cy="3228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5651640" y="476280"/>
            <a:ext cx="3492360" cy="140940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Доски Сеген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риал: 3 разных доски с углубленными пазами, в которые вкладываются фигурки, точно соответствующие паз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dffb273c91cb8c9b7dacc43c1d2900af"/>
          <p:cNvPicPr/>
          <p:nvPr/>
        </p:nvPicPr>
        <p:blipFill>
          <a:blip r:embed="rId1"/>
          <a:stretch/>
        </p:blipFill>
        <p:spPr>
          <a:xfrm>
            <a:off x="468360" y="0"/>
            <a:ext cx="80992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f51abaec240bf0b4d6d0809f5634371c"/>
          <p:cNvPicPr/>
          <p:nvPr/>
        </p:nvPicPr>
        <p:blipFill>
          <a:blip r:embed="rId1"/>
          <a:stretch/>
        </p:blipFill>
        <p:spPr>
          <a:xfrm>
            <a:off x="1187280" y="0"/>
            <a:ext cx="6072480" cy="70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71280" y="4221000"/>
            <a:ext cx="65372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сегодня методика ученого совершенствуется, появляются различные варианты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full_5003_____________________________________________________"/>
          <p:cNvPicPr/>
          <p:nvPr/>
        </p:nvPicPr>
        <p:blipFill>
          <a:blip r:embed="rId1"/>
          <a:stretch/>
        </p:blipFill>
        <p:spPr>
          <a:xfrm>
            <a:off x="395280" y="404640"/>
            <a:ext cx="3711600" cy="298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0_15827f_6c144c25_orig_1400_1000_5_100"/>
          <p:cNvPicPr/>
          <p:nvPr/>
        </p:nvPicPr>
        <p:blipFill>
          <a:blip r:embed="rId2"/>
          <a:stretch/>
        </p:blipFill>
        <p:spPr>
          <a:xfrm>
            <a:off x="4356000" y="620640"/>
            <a:ext cx="43354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39640" y="19890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«Классификация объектов по одному признаку»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Материал: наборы из 24 карточек с изображением геометрических фигур (по 6 кругов, квадратов, треугольников, ромбов) трех цветов, двух величин (большие, маленьки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3404"/>
          <p:cNvPicPr/>
          <p:nvPr/>
        </p:nvPicPr>
        <p:blipFill>
          <a:blip r:embed="rId1"/>
          <a:stretch/>
        </p:blipFill>
        <p:spPr>
          <a:xfrm>
            <a:off x="4427640" y="3492360"/>
            <a:ext cx="4465440" cy="3365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1"/>
          <p:cNvPicPr/>
          <p:nvPr/>
        </p:nvPicPr>
        <p:blipFill>
          <a:blip r:embed="rId2"/>
          <a:srcRect l="0" t="0" r="46867" b="0"/>
          <a:stretch/>
        </p:blipFill>
        <p:spPr>
          <a:xfrm>
            <a:off x="324000" y="260280"/>
            <a:ext cx="4464000" cy="31561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3"/>
          <p:cNvSpPr txBox="1"/>
          <p:nvPr/>
        </p:nvSpPr>
        <p:spPr>
          <a:xfrm rot="5400000">
            <a:off x="1702080" y="4786920"/>
            <a:ext cx="25192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+mn-lt"/>
              </a:rPr>
              <a:t>по форм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+mn-lt"/>
              <a:ea typeface="+mn-lt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5435640" y="692280"/>
            <a:ext cx="259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 цвету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5148360" y="2781360"/>
            <a:ext cx="352728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По величин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1_html_m596f759f"/>
          <p:cNvPicPr/>
          <p:nvPr/>
        </p:nvPicPr>
        <p:blipFill>
          <a:blip r:embed="rId1"/>
          <a:stretch/>
        </p:blipFill>
        <p:spPr>
          <a:xfrm>
            <a:off x="395280" y="620640"/>
            <a:ext cx="78976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4000" y="1557360"/>
            <a:ext cx="83534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ение понятий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териалом служит ряд слов, обозначающих различные понятия, набор сюжетных картинок и табли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Сравнение и различение понятий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гает выявить, в какой степени ребенок оперирует отвлеченными категориями при включении данного понятия в систему более общих понятий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08000" y="260280"/>
            <a:ext cx="8785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Исследование вербально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логических (высших) форм мыш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03:45:33Z</dcterms:created>
  <dc:creator>XTreme</dc:creator>
  <dc:description/>
  <dc:language>en-US</dc:language>
  <cp:lastModifiedBy>Sysadmin</cp:lastModifiedBy>
  <dcterms:modified xsi:type="dcterms:W3CDTF">2023-02-06T09:19:55Z</dcterms:modified>
  <cp:revision>105</cp:revision>
  <dc:subject/>
  <dc:title>Семинар </dc:title>
</cp:coreProperties>
</file>