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C656-99B7-490D-883F-5F4DD2EF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F97C-0AB5-4FC5-A42A-01B34EB5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7DB3-D3C3-44FE-ABF7-7054438E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6177-166D-4FCD-9FB5-FB8C4A3D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892-5722-4DD8-8CBC-CFE37A8F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DDAA-C1C6-4891-92FC-D8888796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EC9F-EAF0-4762-8B80-294A2D2F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376-B813-4F06-93FC-3842C52B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915-D27B-4A6D-A785-3E8429BA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A760-09A9-4C74-8CD8-8D430FD2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92D1-CDFA-4DC3-BD7D-1EC3F9B6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F028-EA6E-4D88-8B5D-A27E0F56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FF7A24-27D3-490F-9436-EEAC274FA8A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Wasp\Desktop\день семьи\433aebfbf405.jpg"/>
          <p:cNvPicPr/>
          <p:nvPr/>
        </p:nvPicPr>
        <p:blipFill>
          <a:blip r:embed="rId1"/>
          <a:stretch/>
        </p:blipFill>
        <p:spPr>
          <a:xfrm>
            <a:off x="2905200" y="2138400"/>
            <a:ext cx="3333240" cy="2580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Wasp\Desktop\день семьи\09177714.jpg"/>
          <p:cNvPicPr/>
          <p:nvPr/>
        </p:nvPicPr>
        <p:blipFill>
          <a:blip r:embed="rId2"/>
          <a:stretch/>
        </p:blipFill>
        <p:spPr>
          <a:xfrm>
            <a:off x="-108360" y="-2880"/>
            <a:ext cx="9252000" cy="6860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Wasp\Desktop\день семьи\433aebfbf405.jpg"/>
          <p:cNvPicPr/>
          <p:nvPr/>
        </p:nvPicPr>
        <p:blipFill>
          <a:blip r:embed="rId3"/>
          <a:stretch/>
        </p:blipFill>
        <p:spPr>
          <a:xfrm>
            <a:off x="-108360" y="0"/>
            <a:ext cx="5688360" cy="440424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6"/>
          <p:cNvSpPr/>
          <p:nvPr/>
        </p:nvSpPr>
        <p:spPr>
          <a:xfrm>
            <a:off x="1071360" y="4357800"/>
            <a:ext cx="77864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Семья - это та первичная среда, где человек должен , учиться творить добро. В.А.СУХОМЛИНСКИЙ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Wasp\Desktop\день семьи\091777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6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Wasp\Desktop\день семьи\Glueckliche_Familie_249480.jpg"/>
          <p:cNvPicPr/>
          <p:nvPr/>
        </p:nvPicPr>
        <p:blipFill>
          <a:blip r:embed="rId2"/>
          <a:stretch/>
        </p:blipFill>
        <p:spPr>
          <a:xfrm>
            <a:off x="142920" y="214200"/>
            <a:ext cx="4178880" cy="2785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Wasp\Desktop\день семьи\happy-family-21.jpg"/>
          <p:cNvPicPr/>
          <p:nvPr/>
        </p:nvPicPr>
        <p:blipFill>
          <a:blip r:embed="rId3"/>
          <a:stretch/>
        </p:blipFill>
        <p:spPr>
          <a:xfrm>
            <a:off x="4339800" y="214200"/>
            <a:ext cx="4435920" cy="2785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157320" y="4140360"/>
            <a:ext cx="8880120" cy="118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353535"/>
                </a:solidFill>
                <a:latin typeface="Times New Roman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..Залог семейного счастья в доброт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ткровенности, отзывчивости...</a:t>
            </a:r>
            <a:r>
              <a:rPr b="0" lang="ru-RU" sz="3600" spc="-1" strike="noStrike">
                <a:solidFill>
                  <a:srgbClr val="353535"/>
                </a:solidFill>
                <a:latin typeface="Bookman Old Style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Wasp\Desktop\день семьи\09177714.jpg"/>
          <p:cNvPicPr/>
          <p:nvPr/>
        </p:nvPicPr>
        <p:blipFill>
          <a:blip r:embed="rId1"/>
          <a:stretch/>
        </p:blipFill>
        <p:spPr>
          <a:xfrm>
            <a:off x="-108360" y="-2880"/>
            <a:ext cx="9252000" cy="68601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35640" y="116640"/>
            <a:ext cx="8964000" cy="61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Вся семья вместе, так и душа на мес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В недружной семье добра не быва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В родной семье и каша гущ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В семье дружат — живут не тужа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Wasp\Desktop\день семьи\09177714.jpg"/>
          <p:cNvPicPr/>
          <p:nvPr/>
        </p:nvPicPr>
        <p:blipFill>
          <a:blip r:embed="rId1"/>
          <a:stretch/>
        </p:blipFill>
        <p:spPr>
          <a:xfrm>
            <a:off x="-108360" y="-2880"/>
            <a:ext cx="9252000" cy="68601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347040" y="303840"/>
            <a:ext cx="8496720" cy="61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В семье разлад, так и дому не ра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Семья сильна, когда над ней крыша од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Каково семя, таково и плем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Родители трудолюбивы, и дети не ленив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F:\день семьи\eU7uPkg_GBg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Wasp\Desktop\день семьи\09177714.jpg"/>
          <p:cNvPicPr/>
          <p:nvPr/>
        </p:nvPicPr>
        <p:blipFill>
          <a:blip r:embed="rId1"/>
          <a:stretch/>
        </p:blipFill>
        <p:spPr>
          <a:xfrm>
            <a:off x="-84960" y="-20160"/>
            <a:ext cx="9252000" cy="686016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401760" y="260640"/>
            <a:ext cx="193968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9600" spc="-1" strike="noStrike">
                <a:solidFill>
                  <a:srgbClr val="c00000"/>
                </a:solidFill>
                <a:latin typeface="Bookman Old Style"/>
              </a:rPr>
              <a:t>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9600" spc="-1" strike="noStrike">
                <a:solidFill>
                  <a:srgbClr val="c00000"/>
                </a:solidFill>
                <a:latin typeface="Bookman Old Style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9600" spc="-1" strike="noStrike">
                <a:solidFill>
                  <a:srgbClr val="c00000"/>
                </a:solidFill>
                <a:latin typeface="Bookman Old Style"/>
              </a:rPr>
              <a:t>М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9600" spc="-1" strike="noStrike">
                <a:solidFill>
                  <a:srgbClr val="c00000"/>
                </a:solidFill>
                <a:latin typeface="Bookman Old Style"/>
              </a:rPr>
              <a:t>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1834920" y="764640"/>
            <a:ext cx="669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- счастли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2771640" y="2267640"/>
            <a:ext cx="322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- еди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3194280" y="3789000"/>
            <a:ext cx="3602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- многодет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2642400" y="5294880"/>
            <a:ext cx="1788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- яр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F:\день семьи\semja (1).jpg"/>
          <p:cNvPicPr/>
          <p:nvPr/>
        </p:nvPicPr>
        <p:blipFill>
          <a:blip r:embed="rId2"/>
          <a:stretch/>
        </p:blipFill>
        <p:spPr>
          <a:xfrm>
            <a:off x="5929200" y="142920"/>
            <a:ext cx="2999880" cy="37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  <Words>94</Words>
  <Paragraphs>2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17:11:40Z</dcterms:created>
  <dc:creator>Wasp</dc:creator>
  <dc:description/>
  <dc:language>en-US</dc:language>
  <cp:lastModifiedBy>Teacher</cp:lastModifiedBy>
  <dcterms:modified xsi:type="dcterms:W3CDTF">2023-02-02T17:54:34Z</dcterms:modified>
  <cp:revision>3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