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EEB-4518-447A-90EA-D124DDBA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B64-395A-43B8-A641-62B0772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4A0-6FB6-4482-A42E-2F8A84B6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27B-2045-4237-9F19-CF161519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5AA-ABAB-41E2-B72A-999AA0F8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D6A-9046-4AF3-BDA1-07EA9173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A09-407D-4129-A9A4-AD039BD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0B9-E29F-4307-AB75-C88DB65C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3C1-0B89-49ED-8B72-B0AFD4D6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F10-AE34-4154-9819-C308390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A23-7D4C-4730-8D62-53D56BC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663-1941-4E13-B57F-AE4E441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2E98-5204-4A86-8D0D-87412B00C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elpmammy.ru/text-images/20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5/m2oo7.0/0_22f55_6059b741_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har.ru/books/p60615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i.net.ru/books/81737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elpmammy.ru/text-images/206.jpg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www.bookin.org.ru/book/62260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alexgetti.narod.ru/imga055.jpg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covers.cnt.itdelo.com/a/as/ast/ast949693big.jpg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www.bookarchive.ru/uploads/posts/1252243351_1.jp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bouquiniste.appee.ru/media/cardim926.jpg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lib.rus.ec/i/58/109258/cover.jpg" TargetMode="External"/><Relationship Id="rId20" Type="http://schemas.openxmlformats.org/officeDocument/2006/relationships/image" Target="../media/image10.jpeg"/><Relationship Id="rId21" Type="http://schemas.openxmlformats.org/officeDocument/2006/relationships/image" Target="../media/image11.jpe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m.img.com.ua/dnevnik/photo/3368145/62/2436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54/563/54563544_2891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360" y="1484280"/>
            <a:ext cx="4176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Самуил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Яковлевич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Маршак - детя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000" y="475920"/>
            <a:ext cx="3746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22 из 1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907920"/>
            <a:ext cx="3666960" cy="485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5084640"/>
            <a:ext cx="41767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59280" y="-206640"/>
            <a:ext cx="202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44000" y="1600200"/>
            <a:ext cx="44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3544920"/>
            <a:ext cx="237636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онк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ку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чал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качь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219640" y="260280"/>
            <a:ext cx="3313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02_04"/>
          <p:cNvPicPr/>
          <p:nvPr/>
        </p:nvPicPr>
        <p:blipFill>
          <a:blip r:embed="rId1"/>
          <a:stretch/>
        </p:blipFill>
        <p:spPr>
          <a:xfrm>
            <a:off x="419904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132000" y="4076640"/>
            <a:ext cx="244800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Желтый,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расны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луб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гнать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т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319f2"/>
          <p:cNvPicPr/>
          <p:nvPr/>
        </p:nvPicPr>
        <p:blipFill>
          <a:blip r:embed="rId2"/>
          <a:stretch/>
        </p:blipFill>
        <p:spPr>
          <a:xfrm>
            <a:off x="971640" y="333360"/>
            <a:ext cx="2361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924360" y="620640"/>
            <a:ext cx="475128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обедал, воробей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зоопарке у звере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обедал я сперв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решеткою у ль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дкрепился у лисиц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моржа попил водицы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857140_Gde_obedal_vorobej"/>
          <p:cNvPicPr/>
          <p:nvPr/>
        </p:nvPicPr>
        <p:blipFill>
          <a:blip r:embed="rId1"/>
          <a:stretch/>
        </p:blipFill>
        <p:spPr>
          <a:xfrm>
            <a:off x="336600" y="333360"/>
            <a:ext cx="3660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51280" y="470880"/>
            <a:ext cx="303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16000" y="260280"/>
            <a:ext cx="6265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Вот какой рассея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211640" y="1125360"/>
            <a:ext cx="45370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 человек рассеянны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лице Бассейно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 он утром на кроват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 рубашку надеват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укава просунул руки 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азалось, это брю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т какой рассеянны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лицы Бассейной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mgu384"/>
          <p:cNvPicPr/>
          <p:nvPr/>
        </p:nvPicPr>
        <p:blipFill>
          <a:blip r:embed="rId1"/>
          <a:stretch/>
        </p:blipFill>
        <p:spPr>
          <a:xfrm>
            <a:off x="324000" y="907920"/>
            <a:ext cx="3695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24000" y="1052640"/>
            <a:ext cx="410364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ма сдавала в багаж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в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од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квояж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зин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нк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аленькую собачонку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Картинка 320 из 6444"/>
          <p:cNvPicPr/>
          <p:nvPr/>
        </p:nvPicPr>
        <p:blipFill>
          <a:blip r:embed="rId1"/>
          <a:stretch/>
        </p:blipFill>
        <p:spPr>
          <a:xfrm>
            <a:off x="4076640" y="836640"/>
            <a:ext cx="45752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276720" y="333360"/>
            <a:ext cx="23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Багаж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50920" y="1052640"/>
            <a:ext cx="381636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а-была девоч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её зва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зва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т и зна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ы не знает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ей было ле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зи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ько лет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рока ещё н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его четыре г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i_007"/>
          <p:cNvPicPr/>
          <p:nvPr/>
        </p:nvPicPr>
        <p:blipFill>
          <a:blip r:embed="rId1"/>
          <a:stretch/>
        </p:blipFill>
        <p:spPr>
          <a:xfrm>
            <a:off x="5759280" y="260280"/>
            <a:ext cx="2899080" cy="4608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995640" y="4724280"/>
            <a:ext cx="4788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л у неё... Кто у неё бы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ат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ь полосаты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это такой? Котёно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58920" y="260280"/>
            <a:ext cx="45370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сатый полосаты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24000" y="364500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стучится в дверь ко м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толстой сумкой на ремн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цифрой "5" на медной бляшк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ней форменной фуражке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инградский почталь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артинка 73 из 6443"/>
          <p:cNvPicPr/>
          <p:nvPr/>
        </p:nvPicPr>
        <p:blipFill>
          <a:blip r:embed="rId1"/>
          <a:stretch/>
        </p:blipFill>
        <p:spPr>
          <a:xfrm>
            <a:off x="5508720" y="3532320"/>
            <a:ext cx="329724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8" descr="img_1"/>
          <p:cNvPicPr/>
          <p:nvPr/>
        </p:nvPicPr>
        <p:blipFill>
          <a:blip r:embed="rId2"/>
          <a:stretch/>
        </p:blipFill>
        <p:spPr>
          <a:xfrm>
            <a:off x="971640" y="189000"/>
            <a:ext cx="2697120" cy="3600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500720" y="260280"/>
            <a:ext cx="439092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его сегодня м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ем в сумке на боку,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шкента, Таганрог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мбова и Бак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мь часов он начал дел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сять сумка похуд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 двенадцати часа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ё разнёс по адреса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09279829_0"/>
          <p:cNvPicPr/>
          <p:nvPr/>
        </p:nvPicPr>
        <p:blipFill>
          <a:blip r:embed="rId1"/>
          <a:stretch/>
        </p:blipFill>
        <p:spPr>
          <a:xfrm>
            <a:off x="5219640" y="549360"/>
            <a:ext cx="2890800" cy="3816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4356000" y="4149720"/>
            <a:ext cx="45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убился дым угарны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рью комната полн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уках Кузьма-пожар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нес Лену из ок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95280" y="1052640"/>
            <a:ext cx="403236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лощади базар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аланче пожарн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лые сут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зорный у буд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лядывал вокруг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евер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ю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осток,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иден ли дымок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900000" y="33336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72000" y="-3558240"/>
            <a:ext cx="51444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1341360"/>
            <a:ext cx="453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ирались лодыр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попали лодыр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й ранец с книжка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пин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оньки под мышка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емн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Картинка 6 из 47"/>
          <p:cNvPicPr/>
          <p:nvPr/>
        </p:nvPicPr>
        <p:blipFill>
          <a:blip r:embed="rId1"/>
          <a:stretch/>
        </p:blipFill>
        <p:spPr>
          <a:xfrm>
            <a:off x="4716360" y="333360"/>
            <a:ext cx="381024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900000" y="404640"/>
            <a:ext cx="338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от и лоды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427640" y="3760920"/>
            <a:ext cx="4716360" cy="30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лодыря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ый ко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Мне, коту усатом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 знал я лодыр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оде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 такими встретил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ервый раз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photo_medium"/>
          <p:cNvPicPr/>
          <p:nvPr/>
        </p:nvPicPr>
        <p:blipFill>
          <a:blip r:embed="rId2"/>
          <a:stretch/>
        </p:blipFill>
        <p:spPr>
          <a:xfrm>
            <a:off x="900000" y="4365720"/>
            <a:ext cx="16923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95280" y="0"/>
            <a:ext cx="453708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на аре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школьников Москвы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тюлен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ль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нглеры-медвежа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и-акробат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атоходец-сл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ый чемп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583836"/>
          <p:cNvPicPr/>
          <p:nvPr/>
        </p:nvPicPr>
        <p:blipFill>
          <a:blip r:embed="rId1"/>
          <a:stretch/>
        </p:blipFill>
        <p:spPr>
          <a:xfrm>
            <a:off x="5508720" y="333360"/>
            <a:ext cx="2687400" cy="360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26005"/>
          <p:cNvPicPr/>
          <p:nvPr/>
        </p:nvPicPr>
        <p:blipFill>
          <a:blip r:embed="rId2"/>
          <a:stretch/>
        </p:blipFill>
        <p:spPr>
          <a:xfrm>
            <a:off x="684360" y="3573360"/>
            <a:ext cx="2519280" cy="28861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27640" y="4005360"/>
            <a:ext cx="432108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ственные в ми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леты-силач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расывают ги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етские мяч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556000" y="260280"/>
            <a:ext cx="4248000" cy="62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пожарны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ет милиц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фотограф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шей столиц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ав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могут най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ня какого-т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 двадц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го рос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ечистый и крепки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дит он в бел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тболке и кеп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 "ГТО"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руди у н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 не знаю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нем ничег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0_76354_fa973cfa_XL"/>
          <p:cNvPicPr/>
          <p:nvPr/>
        </p:nvPicPr>
        <p:blipFill>
          <a:blip r:embed="rId1"/>
          <a:stretch/>
        </p:blipFill>
        <p:spPr>
          <a:xfrm>
            <a:off x="6291360" y="0"/>
            <a:ext cx="257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8825"/>
          <p:cNvPicPr/>
          <p:nvPr/>
        </p:nvPicPr>
        <p:blipFill>
          <a:blip r:embed="rId2"/>
          <a:stretch/>
        </p:blipFill>
        <p:spPr>
          <a:xfrm>
            <a:off x="179280" y="260280"/>
            <a:ext cx="27496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Картинка 159 из 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413000"/>
            <a:ext cx="1776600" cy="23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Картинка 315 из 30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429000"/>
            <a:ext cx="16956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Картинка 258 из 30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1413000"/>
            <a:ext cx="1425600" cy="22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а 22 из 1306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2060640"/>
            <a:ext cx="239256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Картинка 151 из 306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68360" y="333360"/>
            <a:ext cx="1235160" cy="19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артинка 155 из 306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03640" y="4581360"/>
            <a:ext cx="159228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Картинка 161 из 3065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64000" y="189000"/>
            <a:ext cx="162396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Картинка 176 из 3065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42920" y="314172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Картинка 141 из 3065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92720" y="260280"/>
            <a:ext cx="1498680" cy="19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Картинка 275 из 306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979640" y="4581360"/>
            <a:ext cx="1585800" cy="201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3a2ff"/>
          <p:cNvPicPr/>
          <p:nvPr/>
        </p:nvPicPr>
        <p:blipFill>
          <a:blip r:embed="rId21"/>
          <a:stretch/>
        </p:blipFill>
        <p:spPr>
          <a:xfrm>
            <a:off x="3492360" y="4724280"/>
            <a:ext cx="15368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44000" y="1600200"/>
            <a:ext cx="44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7280" y="476280"/>
            <a:ext cx="4681440" cy="59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дя лет пяти-ше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ли, как себя вести 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В гостях, медвед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ревет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грубить и чва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омым надо кланятьс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мать пред ними шляп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ступать на лап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 ловить зубами блох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 ходить на четырёх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61575_Urok_vezhlivosti"/>
          <p:cNvPicPr/>
          <p:nvPr/>
        </p:nvPicPr>
        <p:blipFill>
          <a:blip r:embed="rId1"/>
          <a:stretch/>
        </p:blipFill>
        <p:spPr>
          <a:xfrm>
            <a:off x="250920" y="189000"/>
            <a:ext cx="3895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аршак – сказо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надца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е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шкин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я бояться – счастья не 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ушка – иностр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 про ко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шебная па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колес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9280" y="1052640"/>
            <a:ext cx="525636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ла ночью мышка в норк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пи, мышонок, замолч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м тебе я хлебной кор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гарочек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ей мышонок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Голосок твой слишком тон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, мама, не пищ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мне няньку поищ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i_012"/>
          <p:cNvPicPr/>
          <p:nvPr/>
        </p:nvPicPr>
        <p:blipFill>
          <a:blip r:embed="rId1"/>
          <a:stretch/>
        </p:blipFill>
        <p:spPr>
          <a:xfrm>
            <a:off x="4500720" y="3357720"/>
            <a:ext cx="4286160" cy="3124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763640" y="333360"/>
            <a:ext cx="547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Сказка о глупом мышо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635960" y="701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284720" y="1268280"/>
            <a:ext cx="485928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есла мышонка кош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ет: - Не бойся, крош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граем час-друг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шки-мышки, доро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уганный мышон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ей спросонок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 кошки-мышки наша ма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елела нам игра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160755_Skazka_ob_umnom_myshonke"/>
          <p:cNvPicPr/>
          <p:nvPr/>
        </p:nvPicPr>
        <p:blipFill>
          <a:blip r:embed="rId1"/>
          <a:stretch/>
        </p:blipFill>
        <p:spPr>
          <a:xfrm>
            <a:off x="0" y="260280"/>
            <a:ext cx="4570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62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знай сказ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nabor05"/>
          <p:cNvPicPr/>
          <p:nvPr/>
        </p:nvPicPr>
        <p:blipFill>
          <a:blip r:embed="rId1"/>
          <a:stretch/>
        </p:blipFill>
        <p:spPr>
          <a:xfrm>
            <a:off x="371304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68360" y="5151600"/>
            <a:ext cx="2736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336463_original"/>
          <p:cNvPicPr/>
          <p:nvPr/>
        </p:nvPicPr>
        <p:blipFill>
          <a:blip r:embed="rId1"/>
          <a:stretch/>
        </p:blipFill>
        <p:spPr>
          <a:xfrm>
            <a:off x="6300720" y="549360"/>
            <a:ext cx="2495520" cy="33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80cac3285018"/>
          <p:cNvPicPr/>
          <p:nvPr/>
        </p:nvPicPr>
        <p:blipFill>
          <a:blip r:embed="rId2"/>
          <a:stretch/>
        </p:blipFill>
        <p:spPr>
          <a:xfrm>
            <a:off x="250920" y="333360"/>
            <a:ext cx="2619360" cy="3738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6840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знай сказ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300ba32fc6d0"/>
          <p:cNvPicPr/>
          <p:nvPr/>
        </p:nvPicPr>
        <p:blipFill>
          <a:blip r:embed="rId3"/>
          <a:stretch/>
        </p:blipFill>
        <p:spPr>
          <a:xfrm>
            <a:off x="2124000" y="3573360"/>
            <a:ext cx="482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956720" y="1600200"/>
            <a:ext cx="73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20080304092817398"/>
          <p:cNvPicPr/>
          <p:nvPr/>
        </p:nvPicPr>
        <p:blipFill>
          <a:blip r:embed="rId1"/>
          <a:stretch/>
        </p:blipFill>
        <p:spPr>
          <a:xfrm>
            <a:off x="353880" y="1197000"/>
            <a:ext cx="3878280" cy="5445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2" name="Picture 7" descr="28-%D1%80%D0%B2%D0%B7%D1%89%D0%BD%D1%8C%D0%B6"/>
          <p:cNvPicPr/>
          <p:nvPr/>
        </p:nvPicPr>
        <p:blipFill>
          <a:blip r:embed="rId2"/>
          <a:stretch/>
        </p:blipFill>
        <p:spPr>
          <a:xfrm>
            <a:off x="4643280" y="1214280"/>
            <a:ext cx="4069080" cy="3051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знай сказ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Картинка 1 из 29370"/>
          <p:cNvPicPr/>
          <p:nvPr/>
        </p:nvPicPr>
        <p:blipFill>
          <a:blip r:embed="rId3"/>
          <a:stretch/>
        </p:blipFill>
        <p:spPr>
          <a:xfrm>
            <a:off x="5076720" y="4365720"/>
            <a:ext cx="3043440" cy="22780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5" name="Picture 11" descr="oblozhka3-front"/>
          <p:cNvPicPr/>
          <p:nvPr/>
        </p:nvPicPr>
        <p:blipFill>
          <a:blip r:embed="rId4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5796000" y="4221000"/>
            <a:ext cx="30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55640" y="333360"/>
            <a:ext cx="4896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елания друзьям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аю вам цвести, рас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ть, крепить здоров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для дальнего пути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ейшее условь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каждый день и каждый ч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новое добуд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добрым будет ум у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ердце умным буд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от души желаю 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зья, всего хорош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ё хорошее, друзь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ется нам недешево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Картинка 22 из 13065"/>
          <p:cNvPicPr/>
          <p:nvPr/>
        </p:nvPicPr>
        <p:blipFill>
          <a:blip r:embed="rId1"/>
          <a:stretch/>
        </p:blipFill>
        <p:spPr>
          <a:xfrm>
            <a:off x="5796000" y="40464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муилу Яковлевичу Маршак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за чудесный подарок детя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з биографи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08000" y="1341360"/>
            <a:ext cx="497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уил Яковлевич Маршак родился 3 ноября 1887 года в Ворон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arshak-2_original"/>
          <p:cNvPicPr/>
          <p:nvPr/>
        </p:nvPicPr>
        <p:blipFill>
          <a:blip r:embed="rId1"/>
          <a:stretch/>
        </p:blipFill>
        <p:spPr>
          <a:xfrm>
            <a:off x="395280" y="1557360"/>
            <a:ext cx="322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3528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ьчик с детства тянулся к знаниям, к книгам, рано стал писать сти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чала учился в гимназии, потом окончил Лондонский университет. Первые стихотворные книжки писателя появились в 1923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detstvo09"/>
          <p:cNvPicPr/>
          <p:nvPr/>
        </p:nvPicPr>
        <p:blipFill>
          <a:blip r:embed="rId1"/>
          <a:stretch/>
        </p:blipFill>
        <p:spPr>
          <a:xfrm>
            <a:off x="468360" y="1413000"/>
            <a:ext cx="315288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з биографи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50920" y="1844640"/>
            <a:ext cx="460836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мит он в поле и в са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дом не попадё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икуда я не и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уда он и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Картинка 1 из 1792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773360"/>
            <a:ext cx="392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50920" y="1700280"/>
            <a:ext cx="439236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перед нам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делка на но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Картинка 28 из 170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3068640"/>
            <a:ext cx="4762440" cy="2676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5651640" y="587700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9640" y="1773360"/>
            <a:ext cx="525636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лотняной стра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еке Просты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ывёт парох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назад, то вперё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за ним такая гладь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морщинки не вид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516720" y="4941720"/>
            <a:ext cx="18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Картинка 5 из 80652"/>
          <p:cNvPicPr/>
          <p:nvPr/>
        </p:nvPicPr>
        <p:blipFill>
          <a:blip r:embed="rId1"/>
          <a:stretch/>
        </p:blipFill>
        <p:spPr>
          <a:xfrm>
            <a:off x="5076720" y="1844640"/>
            <a:ext cx="38102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5280" y="1484280"/>
            <a:ext cx="540072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конём рогатым правл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этого кон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к забору не приставл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адёт он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артинка 59 из 1988"/>
          <p:cNvPicPr/>
          <p:nvPr/>
        </p:nvPicPr>
        <p:blipFill>
          <a:blip r:embed="rId1"/>
          <a:stretch/>
        </p:blipFill>
        <p:spPr>
          <a:xfrm>
            <a:off x="4356000" y="3213000"/>
            <a:ext cx="4500720" cy="3368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2050920" y="6021360"/>
            <a:ext cx="216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00" y="1844640"/>
            <a:ext cx="4824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ьют его рукой и палк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му его не жалк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что беднягу бьют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то, что он н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артинка 9 из 173075"/>
          <p:cNvPicPr/>
          <p:nvPr/>
        </p:nvPicPr>
        <p:blipFill>
          <a:blip r:embed="rId1"/>
          <a:stretch/>
        </p:blipFill>
        <p:spPr>
          <a:xfrm>
            <a:off x="5148360" y="907920"/>
            <a:ext cx="360972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5940360" y="4581360"/>
            <a:ext cx="208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5:22Z</dcterms:created>
  <dc:creator>Admin</dc:creator>
  <dc:description/>
  <dc:language>en-US</dc:language>
  <cp:lastModifiedBy>XTreme.ws</cp:lastModifiedBy>
  <dcterms:modified xsi:type="dcterms:W3CDTF">2012-10-21T17:14:28Z</dcterms:modified>
  <cp:revision>12</cp:revision>
  <dc:subject/>
  <dc:title>Слайд 1</dc:title>
</cp:coreProperties>
</file>