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47B-8A99-46DE-BDBC-CB5E0098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D07-0320-4AC3-946A-DF311AF2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11E-B484-4DA6-B21B-CC3B0790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BBE-4C55-440A-A68D-4358E91D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05CF-A01C-4392-9F0A-5517BC7B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170-A519-4E90-9C8F-804D96F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35A-BE17-4E77-A886-07E04FD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43F-8FEB-426F-8468-C2266CA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39D-51FA-441E-B8DE-8763A9C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E7C-9740-4BF4-877A-33FA64B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F6F-89BF-4C4A-BDC9-E6B7AD2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B5E-1A71-4E5C-BC17-D61C7A89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BE0F-0F25-4BB0-A99E-81EDD1434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elpmammy.ru/text-images/20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305/m2oo7.0/0_22f55_6059b741_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606150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booksiti.net.ru/books/817375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elpmammy.ru/text-images/206.jpg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www.bookin.org.ru/book/62260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alexgetti.narod.ru/imga055.jpg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covers.cnt.itdelo.com/a/as/ast/ast949693big.jpg" TargetMode="External"/><Relationship Id="rId14" Type="http://schemas.openxmlformats.org/officeDocument/2006/relationships/image" Target="../media/image7.jpeg"/><Relationship Id="rId15" Type="http://schemas.openxmlformats.org/officeDocument/2006/relationships/hyperlink" Target="http://www.bookarchive.ru/uploads/posts/1252243351_1.jpg" TargetMode="External"/><Relationship Id="rId16" Type="http://schemas.openxmlformats.org/officeDocument/2006/relationships/image" Target="../media/image8.jpeg"/><Relationship Id="rId17" Type="http://schemas.openxmlformats.org/officeDocument/2006/relationships/hyperlink" Target="http://bouquiniste.appee.ru/media/cardim926.jpg" TargetMode="External"/><Relationship Id="rId18" Type="http://schemas.openxmlformats.org/officeDocument/2006/relationships/image" Target="../media/image9.jpeg"/><Relationship Id="rId19" Type="http://schemas.openxmlformats.org/officeDocument/2006/relationships/hyperlink" Target="http://lib.rus.ec/i/58/109258/cover.jpg" TargetMode="External"/><Relationship Id="rId20" Type="http://schemas.openxmlformats.org/officeDocument/2006/relationships/image" Target="../media/image10.jpeg"/><Relationship Id="rId21" Type="http://schemas.openxmlformats.org/officeDocument/2006/relationships/image" Target="../media/image11.jpe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m.img.com.ua/dnevnik/photo/3368145/62/2436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54/563/54563544_2891g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360" y="1484280"/>
            <a:ext cx="41767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Самуил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Яковлевич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Маршак - детя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000" y="475920"/>
            <a:ext cx="3746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22 из 1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907920"/>
            <a:ext cx="3666960" cy="4857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5084640"/>
            <a:ext cx="417672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59280" y="-206640"/>
            <a:ext cx="202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44000" y="1600200"/>
            <a:ext cx="44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468360" y="3544920"/>
            <a:ext cx="237636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онк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ку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мчал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качь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219640" y="260280"/>
            <a:ext cx="331308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я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m02_04"/>
          <p:cNvPicPr/>
          <p:nvPr/>
        </p:nvPicPr>
        <p:blipFill>
          <a:blip r:embed="rId1"/>
          <a:stretch/>
        </p:blipFill>
        <p:spPr>
          <a:xfrm>
            <a:off x="419904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8"/>
          <p:cNvSpPr/>
          <p:nvPr/>
        </p:nvSpPr>
        <p:spPr>
          <a:xfrm>
            <a:off x="3132000" y="4076640"/>
            <a:ext cx="244800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Arial"/>
              </a:rPr>
              <a:t>Желтый,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расный,</a:t>
            </a:r>
            <a:br>
              <a:rPr sz="2400"/>
            </a:b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Голуб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угнатьс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тоб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319f2"/>
          <p:cNvPicPr/>
          <p:nvPr/>
        </p:nvPicPr>
        <p:blipFill>
          <a:blip r:embed="rId2"/>
          <a:stretch/>
        </p:blipFill>
        <p:spPr>
          <a:xfrm>
            <a:off x="971640" y="333360"/>
            <a:ext cx="23619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924360" y="620640"/>
            <a:ext cx="475128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де обедал, воробей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 зоопарке у зверей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обедал я сперв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решеткою у ль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дкрепился у лисиц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моржа попил водицы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857140_Gde_obedal_vorobej"/>
          <p:cNvPicPr/>
          <p:nvPr/>
        </p:nvPicPr>
        <p:blipFill>
          <a:blip r:embed="rId1"/>
          <a:stretch/>
        </p:blipFill>
        <p:spPr>
          <a:xfrm>
            <a:off x="336600" y="333360"/>
            <a:ext cx="3660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51280" y="470880"/>
            <a:ext cx="30351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116000" y="260280"/>
            <a:ext cx="62658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Вот какой рассея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211640" y="1125360"/>
            <a:ext cx="453708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 человек рассеян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лице Бассейно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л он утром на кроват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 рубашку надевать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кава просунул руки 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азалось, это брюк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т какой рассеянный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улицы Бассейной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imgu384"/>
          <p:cNvPicPr/>
          <p:nvPr/>
        </p:nvPicPr>
        <p:blipFill>
          <a:blip r:embed="rId1"/>
          <a:stretch/>
        </p:blipFill>
        <p:spPr>
          <a:xfrm>
            <a:off x="324000" y="907920"/>
            <a:ext cx="3695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24000" y="1052640"/>
            <a:ext cx="410364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ма сдавала в багаж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в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од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квояж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зин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нк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маленькую собачонку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артинка 320 из 6444"/>
          <p:cNvPicPr/>
          <p:nvPr/>
        </p:nvPicPr>
        <p:blipFill>
          <a:blip r:embed="rId1"/>
          <a:stretch/>
        </p:blipFill>
        <p:spPr>
          <a:xfrm>
            <a:off x="4076640" y="836640"/>
            <a:ext cx="4575240" cy="5545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76720" y="333360"/>
            <a:ext cx="23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Багаж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50920" y="1052640"/>
            <a:ext cx="381636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а-была девоч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её зва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звал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т и зн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ы не знает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ей было ле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зим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ько лет,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рока ещё н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его четыре г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i_007"/>
          <p:cNvPicPr/>
          <p:nvPr/>
        </p:nvPicPr>
        <p:blipFill>
          <a:blip r:embed="rId1"/>
          <a:stretch/>
        </p:blipFill>
        <p:spPr>
          <a:xfrm>
            <a:off x="5759280" y="260280"/>
            <a:ext cx="2899080" cy="4608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3995640" y="4724280"/>
            <a:ext cx="47880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л у неё... Кто у неё бы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ат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ь полосаты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это такой? Котёнок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258920" y="260280"/>
            <a:ext cx="453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сатый полосаты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24000" y="364500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стучится в дверь ко м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толстой сумкой на рем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цифрой "5" на медной бляшк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иней форменной фуражк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инградский почтальон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артинка 73 из 6443"/>
          <p:cNvPicPr/>
          <p:nvPr/>
        </p:nvPicPr>
        <p:blipFill>
          <a:blip r:embed="rId1"/>
          <a:stretch/>
        </p:blipFill>
        <p:spPr>
          <a:xfrm>
            <a:off x="5508720" y="3532320"/>
            <a:ext cx="3297240" cy="295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3" name="Picture 8" descr="img_1"/>
          <p:cNvPicPr/>
          <p:nvPr/>
        </p:nvPicPr>
        <p:blipFill>
          <a:blip r:embed="rId2"/>
          <a:stretch/>
        </p:blipFill>
        <p:spPr>
          <a:xfrm>
            <a:off x="971640" y="189000"/>
            <a:ext cx="2697120" cy="3600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500720" y="260280"/>
            <a:ext cx="439092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его сегодня мног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ем в сумке на боку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шкента, Таганрог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Тамбова и Бак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мь часов он начал дел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десять сумка похудел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 двенадцати часа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ё разнёс по адреса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09279829_0"/>
          <p:cNvPicPr/>
          <p:nvPr/>
        </p:nvPicPr>
        <p:blipFill>
          <a:blip r:embed="rId1"/>
          <a:stretch/>
        </p:blipFill>
        <p:spPr>
          <a:xfrm>
            <a:off x="5219640" y="549360"/>
            <a:ext cx="2890800" cy="3816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4356000" y="4149720"/>
            <a:ext cx="45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убился дым угарны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рью комната полн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уках Кузьма-пожар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нес Лену из ок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95280" y="1052640"/>
            <a:ext cx="4032360" cy="40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лощади базарн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аланче пожарн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лые сут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зорный у буд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лядывал вокруг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еве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ю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восток,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иден ли дымок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900000" y="33336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72000" y="-3558240"/>
            <a:ext cx="514440" cy="88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1341360"/>
            <a:ext cx="453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ирались лодыр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рок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попали лодыр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ка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й ранец с книжка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пин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коньки под мышкам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ремн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Картинка 6 из 47"/>
          <p:cNvPicPr/>
          <p:nvPr/>
        </p:nvPicPr>
        <p:blipFill>
          <a:blip r:embed="rId1"/>
          <a:stretch/>
        </p:blipFill>
        <p:spPr>
          <a:xfrm>
            <a:off x="4716360" y="333360"/>
            <a:ext cx="3810240" cy="380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900000" y="404640"/>
            <a:ext cx="338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Кот и лоды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427640" y="3760920"/>
            <a:ext cx="4716360" cy="30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лодыря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ый ко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Мне, коту усатом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ро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 знал я лодыр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оде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 такими встретил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ервый раз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photo_medium"/>
          <p:cNvPicPr/>
          <p:nvPr/>
        </p:nvPicPr>
        <p:blipFill>
          <a:blip r:embed="rId2"/>
          <a:stretch/>
        </p:blipFill>
        <p:spPr>
          <a:xfrm>
            <a:off x="900000" y="4365720"/>
            <a:ext cx="169236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395280" y="0"/>
            <a:ext cx="453708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вые на аре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школьников Москвы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тюлен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нцующие льв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онглеры-медвежа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и-акробат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атоходец-сло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ый чемп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583836"/>
          <p:cNvPicPr/>
          <p:nvPr/>
        </p:nvPicPr>
        <p:blipFill>
          <a:blip r:embed="rId1"/>
          <a:stretch/>
        </p:blipFill>
        <p:spPr>
          <a:xfrm>
            <a:off x="5508720" y="333360"/>
            <a:ext cx="2687400" cy="360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26005"/>
          <p:cNvPicPr/>
          <p:nvPr/>
        </p:nvPicPr>
        <p:blipFill>
          <a:blip r:embed="rId2"/>
          <a:stretch/>
        </p:blipFill>
        <p:spPr>
          <a:xfrm>
            <a:off x="684360" y="3573360"/>
            <a:ext cx="2519280" cy="28861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427640" y="4005360"/>
            <a:ext cx="432108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енные в ми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леты-силач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брасывают ги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детские мяч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556000" y="260280"/>
            <a:ext cx="4248000" cy="62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пожарны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ет милиц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фотограф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шей столиц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щут давн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могут най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ня какого-т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 двадц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его рос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ечистый и крепки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ит он в бел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тболке и кепк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 "ГТО"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руди у н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е не знаю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 нем ничег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0_76354_fa973cfa_XL"/>
          <p:cNvPicPr/>
          <p:nvPr/>
        </p:nvPicPr>
        <p:blipFill>
          <a:blip r:embed="rId1"/>
          <a:stretch/>
        </p:blipFill>
        <p:spPr>
          <a:xfrm>
            <a:off x="6291360" y="0"/>
            <a:ext cx="257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18825"/>
          <p:cNvPicPr/>
          <p:nvPr/>
        </p:nvPicPr>
        <p:blipFill>
          <a:blip r:embed="rId2"/>
          <a:stretch/>
        </p:blipFill>
        <p:spPr>
          <a:xfrm>
            <a:off x="179280" y="260280"/>
            <a:ext cx="274968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Картинка 159 из 306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413000"/>
            <a:ext cx="1776600" cy="23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Картинка 315 из 306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429000"/>
            <a:ext cx="1695600" cy="2298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Картинка 258 из 30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26920" y="1413000"/>
            <a:ext cx="1425600" cy="222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Картинка 22 из 1306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48000" y="2060640"/>
            <a:ext cx="239256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Картинка 151 из 306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68360" y="333360"/>
            <a:ext cx="1235160" cy="194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Картинка 155 из 306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03640" y="4581360"/>
            <a:ext cx="1592280" cy="208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Картинка 161 из 3065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564000" y="189000"/>
            <a:ext cx="1623960" cy="18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Картинка 176 из 3065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042920" y="3141720"/>
            <a:ext cx="146700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Картинка 141 из 3065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292720" y="260280"/>
            <a:ext cx="1498680" cy="19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Картинка 275 из 306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979640" y="4581360"/>
            <a:ext cx="1585800" cy="2014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3" descr="3a2ff"/>
          <p:cNvPicPr/>
          <p:nvPr/>
        </p:nvPicPr>
        <p:blipFill>
          <a:blip r:embed="rId21"/>
          <a:stretch/>
        </p:blipFill>
        <p:spPr>
          <a:xfrm>
            <a:off x="3492360" y="4724280"/>
            <a:ext cx="15368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244000" y="1600200"/>
            <a:ext cx="44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7280" y="476280"/>
            <a:ext cx="4681440" cy="590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дя лет пяти-шест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ли, как себя вести 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В гостях, медвед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реве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льзя грубить и чва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ым надо кланятьс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имать пред ними шляп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наступать на лапу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ловить зубами блох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 ходить на четырёх…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61575_Urok_vezhlivosti"/>
          <p:cNvPicPr/>
          <p:nvPr/>
        </p:nvPicPr>
        <p:blipFill>
          <a:blip r:embed="rId1"/>
          <a:stretch/>
        </p:blipFill>
        <p:spPr>
          <a:xfrm>
            <a:off x="250920" y="189000"/>
            <a:ext cx="3895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Маршак – сказо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надцать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рем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шкин 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я бояться – счастья не ви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ушка – иностран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е ве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зка про ко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шебная пал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ое колесо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1052640"/>
            <a:ext cx="525636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ла ночью мышка в норк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Спи, мышонок, замолч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м тебе я хлебной корк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гарочек св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ей мышон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Голосок твой слишком тоно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е, мама, не пищ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мне няньку поищ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i_012"/>
          <p:cNvPicPr/>
          <p:nvPr/>
        </p:nvPicPr>
        <p:blipFill>
          <a:blip r:embed="rId1"/>
          <a:stretch/>
        </p:blipFill>
        <p:spPr>
          <a:xfrm>
            <a:off x="4500720" y="3357720"/>
            <a:ext cx="4286160" cy="3124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763640" y="333360"/>
            <a:ext cx="547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казка о глупом мышо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635960" y="701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4284720" y="1268280"/>
            <a:ext cx="485928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есла мышонка кош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оет: - Не бойся, крош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граем час-друг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шки-мышки, дорог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пуганный мышон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чает ей спросон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 кошки-мышки наша ма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елела нам играт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160755_Skazka_ob_umnom_myshonke"/>
          <p:cNvPicPr/>
          <p:nvPr/>
        </p:nvPicPr>
        <p:blipFill>
          <a:blip r:embed="rId1"/>
          <a:stretch/>
        </p:blipFill>
        <p:spPr>
          <a:xfrm>
            <a:off x="0" y="260280"/>
            <a:ext cx="45705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62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nabor05"/>
          <p:cNvPicPr/>
          <p:nvPr/>
        </p:nvPicPr>
        <p:blipFill>
          <a:blip r:embed="rId1"/>
          <a:stretch/>
        </p:blipFill>
        <p:spPr>
          <a:xfrm>
            <a:off x="3713040" y="0"/>
            <a:ext cx="543096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468360" y="5151600"/>
            <a:ext cx="273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336463_original"/>
          <p:cNvPicPr/>
          <p:nvPr/>
        </p:nvPicPr>
        <p:blipFill>
          <a:blip r:embed="rId1"/>
          <a:stretch/>
        </p:blipFill>
        <p:spPr>
          <a:xfrm>
            <a:off x="6300720" y="549360"/>
            <a:ext cx="2495520" cy="3311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80cac3285018"/>
          <p:cNvPicPr/>
          <p:nvPr/>
        </p:nvPicPr>
        <p:blipFill>
          <a:blip r:embed="rId2"/>
          <a:stretch/>
        </p:blipFill>
        <p:spPr>
          <a:xfrm>
            <a:off x="250920" y="333360"/>
            <a:ext cx="2619360" cy="3738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274680"/>
            <a:ext cx="6840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300ba32fc6d0"/>
          <p:cNvPicPr/>
          <p:nvPr/>
        </p:nvPicPr>
        <p:blipFill>
          <a:blip r:embed="rId3"/>
          <a:stretch/>
        </p:blipFill>
        <p:spPr>
          <a:xfrm>
            <a:off x="2124000" y="3573360"/>
            <a:ext cx="482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956720" y="1600200"/>
            <a:ext cx="73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20080304092817398"/>
          <p:cNvPicPr/>
          <p:nvPr/>
        </p:nvPicPr>
        <p:blipFill>
          <a:blip r:embed="rId1"/>
          <a:stretch/>
        </p:blipFill>
        <p:spPr>
          <a:xfrm>
            <a:off x="353880" y="1197000"/>
            <a:ext cx="3878280" cy="5445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2" name="Picture 7" descr="28-%D1%80%D0%B2%D0%B7%D1%89%D0%BD%D1%8C%D0%B6"/>
          <p:cNvPicPr/>
          <p:nvPr/>
        </p:nvPicPr>
        <p:blipFill>
          <a:blip r:embed="rId2"/>
          <a:stretch/>
        </p:blipFill>
        <p:spPr>
          <a:xfrm>
            <a:off x="4643280" y="1214280"/>
            <a:ext cx="4069080" cy="3051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знай сказ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Картинка 1 из 29370"/>
          <p:cNvPicPr/>
          <p:nvPr/>
        </p:nvPicPr>
        <p:blipFill>
          <a:blip r:embed="rId3"/>
          <a:stretch/>
        </p:blipFill>
        <p:spPr>
          <a:xfrm>
            <a:off x="5076720" y="4365720"/>
            <a:ext cx="3043440" cy="2278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145" name="Picture 11" descr="oblozhka3-front"/>
          <p:cNvPicPr/>
          <p:nvPr/>
        </p:nvPicPr>
        <p:blipFill>
          <a:blip r:embed="rId4"/>
          <a:stretch/>
        </p:blipFill>
        <p:spPr>
          <a:xfrm>
            <a:off x="250920" y="0"/>
            <a:ext cx="849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5796000" y="4221000"/>
            <a:ext cx="30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55640" y="333360"/>
            <a:ext cx="4896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ожелания друзьям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аю вам цвести, раст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пить, крепить здоровь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о для дальнего пути -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ейшее условье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каждый день и каждый ча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новое добуде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добрым будет ум у вас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ердце умным будет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м от души желаю 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зья, всего хорошег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сё хорошее, друзь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ется нам недешево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Картинка 22 из 13065"/>
          <p:cNvPicPr/>
          <p:nvPr/>
        </p:nvPicPr>
        <p:blipFill>
          <a:blip r:embed="rId1"/>
          <a:stretch/>
        </p:blipFill>
        <p:spPr>
          <a:xfrm>
            <a:off x="5796000" y="40464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амуилу Яковлевичу Маршаку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за чудесный подарок детя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з биографи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08000" y="1341360"/>
            <a:ext cx="4978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уил Яковлевич Маршак родился 3 ноября 1887 года в Ворон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arshak-2_original"/>
          <p:cNvPicPr/>
          <p:nvPr/>
        </p:nvPicPr>
        <p:blipFill>
          <a:blip r:embed="rId1"/>
          <a:stretch/>
        </p:blipFill>
        <p:spPr>
          <a:xfrm>
            <a:off x="395280" y="1557360"/>
            <a:ext cx="3228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63528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льчик с детства тянулся к знаниям, к книгам, рано стал писать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учился в гимназии, потом окончил Лондонский университет. Первые стихотворные книжки писателя появились в 1923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detstvo09"/>
          <p:cNvPicPr/>
          <p:nvPr/>
        </p:nvPicPr>
        <p:blipFill>
          <a:blip r:embed="rId1"/>
          <a:stretch/>
        </p:blipFill>
        <p:spPr>
          <a:xfrm>
            <a:off x="468360" y="1413000"/>
            <a:ext cx="315288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Arial"/>
              </a:rPr>
              <a:t>Из биографи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50920" y="1844640"/>
            <a:ext cx="4608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мит он в поле и в са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в дом не попадё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икуда я не ид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куда он и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Картинка 1 из 1792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773360"/>
            <a:ext cx="3924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50920" y="1700280"/>
            <a:ext cx="439236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перед нами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е оглобли за ушам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глазах по колес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иделка на нос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Картинка 28 из 17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068640"/>
            <a:ext cx="4762440" cy="2676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9"/>
          <p:cNvSpPr/>
          <p:nvPr/>
        </p:nvSpPr>
        <p:spPr>
          <a:xfrm>
            <a:off x="5651640" y="5877000"/>
            <a:ext cx="151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39640" y="1773360"/>
            <a:ext cx="525636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олотняной стра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реке Просты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ывёт пароход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назад, то вперё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за ним такая гладь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морщинки не вид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6516720" y="4941720"/>
            <a:ext cx="18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тю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Картинка 5 из 80652"/>
          <p:cNvPicPr/>
          <p:nvPr/>
        </p:nvPicPr>
        <p:blipFill>
          <a:blip r:embed="rId1"/>
          <a:stretch/>
        </p:blipFill>
        <p:spPr>
          <a:xfrm>
            <a:off x="5076720" y="1844640"/>
            <a:ext cx="38102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5280" y="1484280"/>
            <a:ext cx="540072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конём рогатым правл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этого кон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к забору не приставлю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адёт он без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Картинка 59 из 1988"/>
          <p:cNvPicPr/>
          <p:nvPr/>
        </p:nvPicPr>
        <p:blipFill>
          <a:blip r:embed="rId1"/>
          <a:stretch/>
        </p:blipFill>
        <p:spPr>
          <a:xfrm>
            <a:off x="4356000" y="3213000"/>
            <a:ext cx="4500720" cy="3368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2050920" y="6021360"/>
            <a:ext cx="216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Загадки С.Я. Марш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24000" y="1844640"/>
            <a:ext cx="4824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ьют его рукой и палко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му его не жалко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что беднягу бьют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 то, что он наду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Картинка 9 из 173075"/>
          <p:cNvPicPr/>
          <p:nvPr/>
        </p:nvPicPr>
        <p:blipFill>
          <a:blip r:embed="rId1"/>
          <a:stretch/>
        </p:blipFill>
        <p:spPr>
          <a:xfrm>
            <a:off x="5148360" y="907920"/>
            <a:ext cx="3609720" cy="3810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5940360" y="4581360"/>
            <a:ext cx="208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7:55:22Z</dcterms:created>
  <dc:creator>Admin</dc:creator>
  <dc:description/>
  <dc:language>en-US</dc:language>
  <cp:lastModifiedBy>XTreme.ws</cp:lastModifiedBy>
  <dcterms:modified xsi:type="dcterms:W3CDTF">2012-10-21T17:14:28Z</dcterms:modified>
  <cp:revision>12</cp:revision>
  <dc:subject/>
  <dc:title>Слайд 1</dc:title>
</cp:coreProperties>
</file>