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gif" ContentType="image/gif"/>
  <Override PartName="/ppt/media/image13.wmf" ContentType="image/x-wmf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6.jpeg" ContentType="image/jpeg"/>
  <Override PartName="/ppt/media/image21.jpeg" ContentType="image/jpeg"/>
  <Override PartName="/ppt/media/image17.gif" ContentType="image/gif"/>
  <Override PartName="/ppt/media/image1.wmf" ContentType="image/x-wmf"/>
  <Override PartName="/ppt/media/image2.png" ContentType="image/png"/>
  <Override PartName="/ppt/media/image22.gif" ContentType="image/gif"/>
  <Override PartName="/ppt/media/image5.wmf" ContentType="image/x-wmf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96F-A67B-45FB-A222-BC4E9499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69F-8E41-4ACD-B566-A965055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BCE-BBD4-4A7E-BE90-753B0A0A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6F0-9948-4250-8160-35E94FD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9CA-44B7-4CE8-A819-729C5B0F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C15-78C4-4167-BF9D-EA8B06F4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73B-00C9-4CE6-BCB5-251ACE36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640-3045-423B-A7EF-D6548AA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B23-D5EB-4C8C-9F98-010F897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78C-358E-4727-89C3-927BD76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C9C-5889-4BBD-B874-2B156C9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538-055E-46CA-B375-6C4EBAD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7CB-B0ED-4E87-898A-BF7A66317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smiles.rc-mir.com/smile.98516.html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PE02278_"/>
          <p:cNvPicPr/>
          <p:nvPr/>
        </p:nvPicPr>
        <p:blipFill>
          <a:blip r:embed="rId1"/>
          <a:stretch/>
        </p:blipFill>
        <p:spPr>
          <a:xfrm>
            <a:off x="4714920" y="2637000"/>
            <a:ext cx="357192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0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ья как фактор риска отклоняющегося п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ндифферент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облемы воспитания не являются первостепенными, поскольку у них другие з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устанавливают для детей никаких ограничений, безразличны к собственны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общения с детьми, безразличие родителей сочетается с враждеб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Свои проблемы ребёнку приходится решать сам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ичто не удерживает от того, чтобы дать волю своим самым разрушительным импульсам и проявить склонность к правонарушающему пове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F:\Клипарты\J0279644.WMF"/>
          <p:cNvPicPr/>
          <p:nvPr/>
        </p:nvPicPr>
        <p:blipFill>
          <a:blip r:embed="rId1"/>
          <a:stretch/>
        </p:blipFill>
        <p:spPr>
          <a:xfrm>
            <a:off x="6643800" y="4572000"/>
            <a:ext cx="2103480" cy="19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Аспекты воспитания детей.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ушевная теп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ощ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оводство и ограни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жно чётко разде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еринские и отцовские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D:\Мои рисунки\3b830622416d[1].gif"/>
          <p:cNvPicPr/>
          <p:nvPr/>
        </p:nvPicPr>
        <p:blipFill>
          <a:blip r:embed="rId1"/>
          <a:stretch/>
        </p:blipFill>
        <p:spPr>
          <a:xfrm>
            <a:off x="5929200" y="185724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5840" y="285840"/>
            <a:ext cx="8400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ГРЕССИЯ 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это реа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срыв какой-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ятельности, план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ограни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р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ли неожи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Мои рисунки\12.jpeg"/>
          <p:cNvPicPr/>
          <p:nvPr/>
        </p:nvPicPr>
        <p:blipFill>
          <a:blip r:embed="rId1"/>
          <a:stretch/>
        </p:blipFill>
        <p:spPr>
          <a:xfrm>
            <a:off x="5500800" y="1714680"/>
            <a:ext cx="2995560" cy="2995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РИЧИНЫ ДЕТСКОЙ АГРЕСС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гативное само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ах (т.н. «защитная агрессия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акция на запрет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бование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 называемое «требование грани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циальное на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явление жажды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сновная причина детской агрессии – неудовлетворенная потребность в люб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D:\Мои рисунки\447.jpg"/>
          <p:cNvPicPr/>
          <p:nvPr/>
        </p:nvPicPr>
        <p:blipFill>
          <a:blip r:embed="rId1"/>
          <a:stretch/>
        </p:blipFill>
        <p:spPr>
          <a:xfrm>
            <a:off x="3500280" y="3714840"/>
            <a:ext cx="4361040" cy="290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ипы агрессии у детей и способы построения отнош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перактивно-агрессивн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о-обидчивый и истощаем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ый ребёнок с оппозиционно-вызывающ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о-боязлив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о-бесчувственн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ак нужно вести себя родителям в случае проявления их детьми 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920" y="1642680"/>
            <a:ext cx="6500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буется проявление со стороны родителей безусловной любви к ребёнку в люб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тели, если они не хотят, чтобы дети были драчунами и забияками, сами должны контролировать собственные агрессивные импуль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4" descr="0fe1ed4b43f9dfc73ae6573aa9b96f57.gif"/>
          <p:cNvPicPr/>
          <p:nvPr/>
        </p:nvPicPr>
        <p:blipFill>
          <a:blip r:embed="rId1"/>
          <a:stretch/>
        </p:blipFill>
        <p:spPr>
          <a:xfrm>
            <a:off x="6643800" y="2225520"/>
            <a:ext cx="2282760" cy="270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Нельзя подавлять проявление агрессии ребёнком, иначе подавленные агрессивные импульсы могут нанести серьёзный вред его здоровью. Научите его выражать свои враждебные чувства социально приемлем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Если ребёнок капризничает, злится, кричит, бросается на Вас с кулаками – обнимите его, прижмите к себе. Постепенно он успокоится, придёт 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Уважайте личность в вашем ребёнке, считайтесь с его мнением, воспринимайте всерьёз его чувства. Предоставляйте ребёнку достаточную свободу и независимость, за которую ребёнок будет сам нести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4200" y="285480"/>
            <a:ext cx="67867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. Покажите ребёнку конечную неэффективность агрессив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Необходимо устанавливать социальные правила поведения в доступной для ребёнка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. Не забывайте хвалить ребёнка за старательность. Когда дети реагируют должным образом, сделайте всё, чтобы закрепить эти у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. Беседовать с ребёнком о его проступке надо без свидетелей (класса, родственников, других детей и др.). В беседе стараться использовать меньше эмоциональных слов (стыдно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4" descr="77c0cec3d3d7abcdcfb6e5563c1fe3cc.gif"/>
          <p:cNvPicPr/>
          <p:nvPr/>
        </p:nvPicPr>
        <p:blipFill>
          <a:blip r:embed="rId1"/>
          <a:stretch/>
        </p:blipFill>
        <p:spPr>
          <a:xfrm>
            <a:off x="6143760" y="1285920"/>
            <a:ext cx="2776320" cy="24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3840" y="214200"/>
            <a:ext cx="6357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. Надо исключить ситуации, провоцирующие негативное поведени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1. Надо предоставлять возможность ребёнку получить эмоциональную разрядку в игре, спорт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4" descr="509558.jpg"/>
          <p:cNvPicPr/>
          <p:nvPr/>
        </p:nvPicPr>
        <p:blipFill>
          <a:blip r:embed="rId1"/>
          <a:stretch/>
        </p:blipFill>
        <p:spPr>
          <a:xfrm>
            <a:off x="4879800" y="3359160"/>
            <a:ext cx="3807000" cy="285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214200"/>
            <a:ext cx="5357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евиантное (отклоняющееся) поведени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 поведение, которое не согласуется с общественными но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виантное поведе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ет быт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зитив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гати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4" descr="crow1.gif"/>
          <p:cNvPicPr/>
          <p:nvPr/>
        </p:nvPicPr>
        <p:blipFill>
          <a:blip r:embed="rId1"/>
          <a:stretch/>
        </p:blipFill>
        <p:spPr>
          <a:xfrm>
            <a:off x="578628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4200" y="285480"/>
            <a:ext cx="5786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стоянные ссоры родителей, физическое насилие родителей по отношению друг к другу, грубость ежедневного общения, унижение, сарказм и  ирония, желание постоянно видеть друг в друге плохое и подчёркивать это – ежедневная школа агрессии, в которой ребёнок формируется и получает «уроки мастерст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4" descr="205556.jpg"/>
          <p:cNvPicPr/>
          <p:nvPr/>
        </p:nvPicPr>
        <p:blipFill>
          <a:blip r:embed="rId1"/>
          <a:stretch/>
        </p:blipFill>
        <p:spPr>
          <a:xfrm>
            <a:off x="5857920" y="1428840"/>
            <a:ext cx="3192480" cy="260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356760"/>
            <a:ext cx="45435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ребовательный по отношению к себе родитель никогда не будет ждать от своего ребёнка то, что им самим в ребёнке не залож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4" descr="685295.jpg"/>
          <p:cNvPicPr/>
          <p:nvPr/>
        </p:nvPicPr>
        <p:blipFill>
          <a:blip r:embed="rId1"/>
          <a:stretch/>
        </p:blipFill>
        <p:spPr>
          <a:xfrm>
            <a:off x="5214960" y="1738440"/>
            <a:ext cx="3471840" cy="3944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Девять способов, как изменить человека, не нанося ему обиды и не вызывая негодован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85840" y="85716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1. Начинайте с похвалы и искреннего признания достоинств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2. Обращая внимание людей на их ошибки, делайте это в косв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3. Прежде чем критиковать другого, скажите о своих собственных ошиб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4. Задавайте вопросы, вместо того чтобы отдавать при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5. Давайте возможность человеку спасти своё ли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6. Хвалите за каждый , даже скромный его успех и будьте при этом искренними в своём признании и щедры в похв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7. Создайте человеку доброе имя, чтобы он стал жить в соответствии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8. Пользуйтесь поощрением, сделайте так, чтобы недостаток, который вы хотите в человеке  исправить, выглядел легко исправимым, а дело, которым вы хотите его увлечь, легко выполни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9. Делайте так, чтобы людям было приятно исполнить то, что вы хо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. Карн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книга"/>
          <p:cNvPicPr/>
          <p:nvPr/>
        </p:nvPicPr>
        <p:blipFill>
          <a:blip r:embed="rId1"/>
          <a:stretch/>
        </p:blipFill>
        <p:spPr>
          <a:xfrm>
            <a:off x="5786280" y="6072120"/>
            <a:ext cx="1500480" cy="100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ОЗИТИВНОЕ ДЕВИАНТ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356840"/>
            <a:ext cx="5143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НАНОСИТ ВРЕДА ОБЩ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бычный дар или тал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чайшие умствен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тверженный геро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6" descr="crow1.gif"/>
          <p:cNvPicPr/>
          <p:nvPr/>
        </p:nvPicPr>
        <p:blipFill>
          <a:blip r:embed="rId1"/>
          <a:stretch/>
        </p:blipFill>
        <p:spPr>
          <a:xfrm>
            <a:off x="5786280" y="1857240"/>
            <a:ext cx="3152880" cy="247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ГАТИВНОЕ ДЕВИАНТ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1428840"/>
            <a:ext cx="4572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РУШАЕТ ОБЩЕСТВЕН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лког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ко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зарт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crow1.gif"/>
          <p:cNvPicPr/>
          <p:nvPr/>
        </p:nvPicPr>
        <p:blipFill>
          <a:blip r:embed="rId1"/>
          <a:stretch/>
        </p:blipFill>
        <p:spPr>
          <a:xfrm>
            <a:off x="4616280" y="2643120"/>
            <a:ext cx="3908520" cy="2419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лохими дети не рожд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Ребенок рождается, чтобы узнат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А не зли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Ш. Амонаш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IDS01"/>
          <p:cNvPicPr/>
          <p:nvPr/>
        </p:nvPicPr>
        <p:blipFill>
          <a:blip r:embed="rId1"/>
          <a:stretch/>
        </p:blipFill>
        <p:spPr>
          <a:xfrm>
            <a:off x="2362320" y="3214800"/>
            <a:ext cx="4678200" cy="323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4" descr=""/>
          <p:cNvPicPr/>
          <p:nvPr/>
        </p:nvPicPr>
        <p:blipFill>
          <a:blip r:embed="rId1"/>
          <a:stretch/>
        </p:blipFill>
        <p:spPr>
          <a:xfrm>
            <a:off x="573120" y="139680"/>
            <a:ext cx="29988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785520"/>
            <a:ext cx="5614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то сотрудничество, взаимодействие, взаимовлияние, взаимообогащение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9"/>
          <p:cNvSpPr/>
          <p:nvPr/>
        </p:nvSpPr>
        <p:spPr>
          <a:xfrm>
            <a:off x="428760" y="2786040"/>
            <a:ext cx="435744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ави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жде чем предъя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ребования к ребё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дъяви их к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Картинки 1\g0145630.WMF"/>
          <p:cNvPicPr/>
          <p:nvPr/>
        </p:nvPicPr>
        <p:blipFill>
          <a:blip r:embed="rId2"/>
          <a:stretch/>
        </p:blipFill>
        <p:spPr>
          <a:xfrm>
            <a:off x="5286240" y="2143080"/>
            <a:ext cx="3441960" cy="421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28760" y="1500120"/>
            <a:ext cx="4357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вторитет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осознают свою важную роль в становлении личности ребёнка, но и признают право на само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нимают, какие требования – диктовать, какие об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знают и поощряют автономию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и обсуждения с детьми правил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28520"/>
            <a:ext cx="41385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восходно адаптированы, уверены в себе, развит самоконтроль, социаль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Хорошо учатся в школе, обладают высокой самооц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j0356712"/>
          <p:cNvPicPr/>
          <p:nvPr/>
        </p:nvPicPr>
        <p:blipFill>
          <a:blip r:embed="rId2"/>
          <a:stretch/>
        </p:blipFill>
        <p:spPr>
          <a:xfrm>
            <a:off x="7286760" y="4786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356784"/>
          <p:cNvPicPr/>
          <p:nvPr/>
        </p:nvPicPr>
        <p:blipFill>
          <a:blip r:embed="rId3"/>
          <a:stretch/>
        </p:blipFill>
        <p:spPr>
          <a:xfrm>
            <a:off x="4000680" y="4643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336777"/>
          <p:cNvPicPr/>
          <p:nvPr/>
        </p:nvPicPr>
        <p:blipFill>
          <a:blip r:embed="rId4"/>
          <a:stretch/>
        </p:blipFill>
        <p:spPr>
          <a:xfrm>
            <a:off x="6195960" y="5214960"/>
            <a:ext cx="954000" cy="139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вторитарны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знают, каким должен вырасти их ребё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ни  категоричны, и неуступч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В общении с ребёнком отдают приказы, устанавливают жёсткие правила, не допускают их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постоянного общения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мкнуты, боязливы, угрюмы и зависимы, непритязательны и раздраж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вочки остаются пассивными и зависи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Мальчики могут стать неуправляемыми и агресси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17cf4c75a7617f6dc9951553ed8d0d2a"/>
          <p:cNvPicPr/>
          <p:nvPr/>
        </p:nvPicPr>
        <p:blipFill>
          <a:blip r:embed="rId1"/>
          <a:stretch/>
        </p:blipFill>
        <p:spPr>
          <a:xfrm>
            <a:off x="6858000" y="4389480"/>
            <a:ext cx="1914480" cy="226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942071130fbb857d792c087e7687d7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572000"/>
            <a:ext cx="1071360" cy="213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ибераль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слишком высоко ценят своего ребёнка, считают простительным его слаб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Легко общаются с ним, доверяют ему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склонны к запретам и огранич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с детьми, доминирующее направление коммуникации – от ребёнка к род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ти в такой семье слабо или совсем не регламентируют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доставлен избыток свободы или руководство родителей незнач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обладает безусловная родительская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Клипарты\FSPLAY.WMF"/>
          <p:cNvPicPr/>
          <p:nvPr/>
        </p:nvPicPr>
        <p:blipFill>
          <a:blip r:embed="rId1"/>
          <a:stretch/>
        </p:blipFill>
        <p:spPr>
          <a:xfrm>
            <a:off x="6286680" y="4379760"/>
            <a:ext cx="1977840" cy="22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52:25Z</dcterms:created>
  <dc:creator>Admin</dc:creator>
  <dc:description/>
  <dc:language>en-US</dc:language>
  <cp:lastModifiedBy>User</cp:lastModifiedBy>
  <dcterms:modified xsi:type="dcterms:W3CDTF">2023-02-06T07:27:17Z</dcterms:modified>
  <cp:revision>63</cp:revision>
  <dc:subject/>
  <dc:title>Различные типы воспитания детей</dc:title>
</cp:coreProperties>
</file>