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1.gif" ContentType="image/gif"/>
  <Override PartName="/ppt/media/image13.wmf" ContentType="image/x-wmf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6.jpeg" ContentType="image/jpeg"/>
  <Override PartName="/ppt/media/image21.jpeg" ContentType="image/jpeg"/>
  <Override PartName="/ppt/media/image17.gif" ContentType="image/gif"/>
  <Override PartName="/ppt/media/image1.wmf" ContentType="image/x-wmf"/>
  <Override PartName="/ppt/media/image2.png" ContentType="image/png"/>
  <Override PartName="/ppt/media/image22.gif" ContentType="image/gif"/>
  <Override PartName="/ppt/media/image5.wmf" ContentType="image/x-wmf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3D3-29FE-4A3A-A2BA-50A3C22E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01E-8677-4CF5-936F-B6818D9C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A670-256E-49F8-B645-E6FC16F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FB9-640F-44AE-81C4-3F948017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19E-47D6-4EEE-9454-FF350786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902-0717-4673-A79B-D032297A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1B9-2F0B-4ED5-B96F-0EDB067B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535-E880-412B-997E-BC2399B9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9D4-209D-4CC6-896D-D8A8A669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F0BE-1A08-4C78-84C8-D2921460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47F-8E6B-496A-9469-B96CAE17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93B-CB04-410F-8DB6-7E5059E5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9EC-CAF3-4B89-8BC2-6DC83DE5F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hyperlink" Target="http://smiles.rc-mir.com/smile.98516.html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PE02278_"/>
          <p:cNvPicPr/>
          <p:nvPr/>
        </p:nvPicPr>
        <p:blipFill>
          <a:blip r:embed="rId1"/>
          <a:stretch/>
        </p:blipFill>
        <p:spPr>
          <a:xfrm>
            <a:off x="4714920" y="2637000"/>
            <a:ext cx="3571920" cy="399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0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мья как фактор риска отклоняющегося п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ндифферент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облемы воспитания не являются первостепенными, поскольку у них другие з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устанавливают для детей никаких ограничений, безразличны к собственны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общения с детьми, безразличие родителей сочетается с враждеб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599840"/>
            <a:ext cx="4038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Свои проблемы ребёнку приходится решать сам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ичто не удерживает от того, чтобы дать волю своим самым разрушительным импульсам и проявить склонность к правонарушающему повед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F:\Клипарты\J0279644.WMF"/>
          <p:cNvPicPr/>
          <p:nvPr/>
        </p:nvPicPr>
        <p:blipFill>
          <a:blip r:embed="rId1"/>
          <a:stretch/>
        </p:blipFill>
        <p:spPr>
          <a:xfrm>
            <a:off x="6643800" y="4572000"/>
            <a:ext cx="2103480" cy="198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Аспекты воспитания детей.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его хотят сами де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420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сновной уход (еда, тепло, одежда и т.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еспечение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ушевная теп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ощ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ководство и ограни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б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жно чётко раздел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еринские и отцовские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D:\Мои рисунки\3b830622416d[1].gif"/>
          <p:cNvPicPr/>
          <p:nvPr/>
        </p:nvPicPr>
        <p:blipFill>
          <a:blip r:embed="rId1"/>
          <a:stretch/>
        </p:blipFill>
        <p:spPr>
          <a:xfrm>
            <a:off x="5929200" y="1857240"/>
            <a:ext cx="292896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85840" y="285840"/>
            <a:ext cx="8400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ГРЕССИЯ -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это реа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срыв какой-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ятельности, план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 ограни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пр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ли неожи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у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D:\Мои рисунки\12.jpeg"/>
          <p:cNvPicPr/>
          <p:nvPr/>
        </p:nvPicPr>
        <p:blipFill>
          <a:blip r:embed="rId1"/>
          <a:stretch/>
        </p:blipFill>
        <p:spPr>
          <a:xfrm>
            <a:off x="5500800" y="1714680"/>
            <a:ext cx="2995560" cy="2995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РИЧИНЫ ДЕТСКОЙ АГРЕССИВ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а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гативное само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рах (т.н. «защитная агрессия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акция на запрет взросл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бование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 называемое «требование грани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циальное на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явление жажды в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сновная причина детской агрессии – неудовлетворенная потребность в люб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D:\Мои рисунки\447.jpg"/>
          <p:cNvPicPr/>
          <p:nvPr/>
        </p:nvPicPr>
        <p:blipFill>
          <a:blip r:embed="rId1"/>
          <a:stretch/>
        </p:blipFill>
        <p:spPr>
          <a:xfrm>
            <a:off x="3500280" y="3714840"/>
            <a:ext cx="4361040" cy="2909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типы агрессии у детей и способы построения отнош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иперактивно-агрессивн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о-обидчивый и истощаем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ый ребёнок с оппозиционно-вызывающим повед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о-боязлив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вно-бесчувственный ребё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ак нужно вести себя родителям в случае проявления их детьми 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2920" y="1642680"/>
            <a:ext cx="6500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ебуется проявление со стороны родителей безусловной любви к ребёнку в любой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дители, если они не хотят, чтобы дети были драчунами и забияками, сами должны контролировать собственные агрессивные импуль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Содержимое 4" descr="0fe1ed4b43f9dfc73ae6573aa9b96f57.gif"/>
          <p:cNvPicPr/>
          <p:nvPr/>
        </p:nvPicPr>
        <p:blipFill>
          <a:blip r:embed="rId1"/>
          <a:stretch/>
        </p:blipFill>
        <p:spPr>
          <a:xfrm>
            <a:off x="6643800" y="2225520"/>
            <a:ext cx="2282760" cy="270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Нельзя подавлять проявление агрессии ребёнком, иначе подавленные агрессивные импульсы могут нанести серьёзный вред его здоровью. Научите его выражать свои враждебные чувства социально приемлем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 Если ребёнок капризничает, злится, кричит, бросается на Вас с кулаками – обнимите его, прижмите к себе. Постепенно он успокоится, придёт 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 Уважайте личность в вашем ребёнке, считайтесь с его мнением, воспринимайте всерьёз его чувства. Предоставляйте ребёнку достаточную свободу и независимость, за которую ребёнок будет сам нести ответст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14200" y="285480"/>
            <a:ext cx="67867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. Покажите ребёнку конечную неэффективность агрессивно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7. Необходимо устанавливать социальные правила поведения в доступной для ребёнка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8. Не забывайте хвалить ребёнка за старательность. Когда дети реагируют должным образом, сделайте всё, чтобы закрепить эти ус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. Беседовать с ребёнком о его проступке надо без свидетелей (класса, родственников, других детей и др.). В беседе стараться использовать меньше эмоциональных слов (стыдно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4" descr="77c0cec3d3d7abcdcfb6e5563c1fe3cc.gif"/>
          <p:cNvPicPr/>
          <p:nvPr/>
        </p:nvPicPr>
        <p:blipFill>
          <a:blip r:embed="rId1"/>
          <a:stretch/>
        </p:blipFill>
        <p:spPr>
          <a:xfrm>
            <a:off x="6143760" y="1285920"/>
            <a:ext cx="2776320" cy="241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13840" y="214200"/>
            <a:ext cx="6357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. Надо исключить ситуации, провоцирующие негативное поведение ребё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1. Надо предоставлять возможность ребёнку получить эмоциональную разрядку в игре, спорте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4" descr="509558.jpg"/>
          <p:cNvPicPr/>
          <p:nvPr/>
        </p:nvPicPr>
        <p:blipFill>
          <a:blip r:embed="rId1"/>
          <a:stretch/>
        </p:blipFill>
        <p:spPr>
          <a:xfrm>
            <a:off x="4879800" y="3359160"/>
            <a:ext cx="3807000" cy="2855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3840" y="214200"/>
            <a:ext cx="53578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Девиантное (отклоняющееся) поведение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о поведение, которое не согласуется с общественными норм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виантное поведение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жет быть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зитивны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гати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4" descr="crow1.gif"/>
          <p:cNvPicPr/>
          <p:nvPr/>
        </p:nvPicPr>
        <p:blipFill>
          <a:blip r:embed="rId1"/>
          <a:stretch/>
        </p:blipFill>
        <p:spPr>
          <a:xfrm>
            <a:off x="578628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4200" y="285480"/>
            <a:ext cx="5786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стоянные ссоры родителей, физическое насилие родителей по отношению друг к другу, грубость ежедневного общения, унижение, сарказм и  ирония, желание постоянно видеть друг в друге плохое и подчёркивать это – ежедневная школа агрессии, в которой ребёнок формируется и получает «уроки мастерств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4" descr="205556.jpg"/>
          <p:cNvPicPr/>
          <p:nvPr/>
        </p:nvPicPr>
        <p:blipFill>
          <a:blip r:embed="rId1"/>
          <a:stretch/>
        </p:blipFill>
        <p:spPr>
          <a:xfrm>
            <a:off x="5857920" y="1428840"/>
            <a:ext cx="3192480" cy="260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356760"/>
            <a:ext cx="45435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Требовательный по отношению к себе родитель никогда не будет ждать от своего ребёнка то, что им самим в ребёнке не заложе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Содержимое 4" descr="685295.jpg"/>
          <p:cNvPicPr/>
          <p:nvPr/>
        </p:nvPicPr>
        <p:blipFill>
          <a:blip r:embed="rId1"/>
          <a:stretch/>
        </p:blipFill>
        <p:spPr>
          <a:xfrm>
            <a:off x="5214960" y="1738440"/>
            <a:ext cx="3471840" cy="3944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Девять способов, как изменить человека, не нанося ему обиды и не вызывая негодования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85840" y="85716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1. Начинайте с похвалы и искреннего признания достоинств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2. Обращая внимание людей на их ошибки, делайте это в косвен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3. Прежде чем критиковать другого, скажите о своих собственных ошиб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4. Задавайте вопросы, вместо того чтобы отдавать при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5. Давайте возможность человеку спасти своё лиц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6. Хвалите за каждый , даже скромный его успех и будьте при этом искренними в своём признании и щедры в похвал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7. Создайте человеку доброе имя, чтобы он стал жить в соответствии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8. Пользуйтесь поощрением, сделайте так, чтобы недостаток, который вы хотите в человеке  исправить, выглядел легко исправимым, а дело, которым вы хотите его увлечь, легко выполним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9. Делайте так, чтобы людям было приятно исполнить то, что вы хо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. Карне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книга"/>
          <p:cNvPicPr/>
          <p:nvPr/>
        </p:nvPicPr>
        <p:blipFill>
          <a:blip r:embed="rId1"/>
          <a:stretch/>
        </p:blipFill>
        <p:spPr>
          <a:xfrm>
            <a:off x="5786280" y="6072120"/>
            <a:ext cx="1500480" cy="1000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ПОЗИТИВНОЕ ДЕВИАНТ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356840"/>
            <a:ext cx="5143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НАНОСИТ ВРЕДА ОБЩ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обычный дар или тал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чайшие умственны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тверженный геро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Содержимое 6" descr="crow1.gif"/>
          <p:cNvPicPr/>
          <p:nvPr/>
        </p:nvPicPr>
        <p:blipFill>
          <a:blip r:embed="rId1"/>
          <a:stretch/>
        </p:blipFill>
        <p:spPr>
          <a:xfrm>
            <a:off x="5786280" y="1857240"/>
            <a:ext cx="3152880" cy="247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НЕГАТИВНОЕ ДЕВИАНТНО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2920" y="1428840"/>
            <a:ext cx="4572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РУШАЕТ ОБЩЕСТВЕН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лкого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рко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гре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зарт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crow1.gif"/>
          <p:cNvPicPr/>
          <p:nvPr/>
        </p:nvPicPr>
        <p:blipFill>
          <a:blip r:embed="rId1"/>
          <a:stretch/>
        </p:blipFill>
        <p:spPr>
          <a:xfrm>
            <a:off x="4616280" y="2643120"/>
            <a:ext cx="3908520" cy="24195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лохими дети не рожда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Ребенок рождается, чтобы узнать ми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А не злить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Ш. Амонаш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IDS01"/>
          <p:cNvPicPr/>
          <p:nvPr/>
        </p:nvPicPr>
        <p:blipFill>
          <a:blip r:embed="rId1"/>
          <a:stretch/>
        </p:blipFill>
        <p:spPr>
          <a:xfrm>
            <a:off x="2362320" y="3214800"/>
            <a:ext cx="4678200" cy="3238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4" descr=""/>
          <p:cNvPicPr/>
          <p:nvPr/>
        </p:nvPicPr>
        <p:blipFill>
          <a:blip r:embed="rId1"/>
          <a:stretch/>
        </p:blipFill>
        <p:spPr>
          <a:xfrm>
            <a:off x="573120" y="139680"/>
            <a:ext cx="29988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785520"/>
            <a:ext cx="56149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Это сотрудничество, взаимодействие, взаимовлияние, взаимообогащение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ыноска-облако 9"/>
          <p:cNvSpPr/>
          <p:nvPr/>
        </p:nvSpPr>
        <p:spPr>
          <a:xfrm>
            <a:off x="428760" y="2786040"/>
            <a:ext cx="435744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ави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жде чем предъяв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требования к ребё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Предъяви их к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:\Картинки 1\g0145630.WMF"/>
          <p:cNvPicPr/>
          <p:nvPr/>
        </p:nvPicPr>
        <p:blipFill>
          <a:blip r:embed="rId2"/>
          <a:stretch/>
        </p:blipFill>
        <p:spPr>
          <a:xfrm>
            <a:off x="5286240" y="2143080"/>
            <a:ext cx="3441960" cy="4216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28760" y="1500120"/>
            <a:ext cx="43574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вторитет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осознают свою важную роль в становлении личности ребёнка, но и признают право на саморазви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нимают, какие требования – диктовать, какие обсу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ознают и поощряют автономию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и обсуждения с детьми правил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28520"/>
            <a:ext cx="413856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восходно адаптированы, уверены в себе, развит самоконтроль, социальные нав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Хорошо учатся в школе, обладают высокой самооцен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j0356712"/>
          <p:cNvPicPr/>
          <p:nvPr/>
        </p:nvPicPr>
        <p:blipFill>
          <a:blip r:embed="rId2"/>
          <a:stretch/>
        </p:blipFill>
        <p:spPr>
          <a:xfrm>
            <a:off x="7286760" y="4786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356784"/>
          <p:cNvPicPr/>
          <p:nvPr/>
        </p:nvPicPr>
        <p:blipFill>
          <a:blip r:embed="rId3"/>
          <a:stretch/>
        </p:blipFill>
        <p:spPr>
          <a:xfrm>
            <a:off x="4000680" y="4643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336777"/>
          <p:cNvPicPr/>
          <p:nvPr/>
        </p:nvPicPr>
        <p:blipFill>
          <a:blip r:embed="rId4"/>
          <a:stretch/>
        </p:blipFill>
        <p:spPr>
          <a:xfrm>
            <a:off x="6195960" y="5214960"/>
            <a:ext cx="954000" cy="1390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вторитарный ст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знают, каким должен вырасти их ребё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ни  категоричны, и неуступч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В общении с ребёнком отдают приказы, устанавливают жёсткие правила, не допускают их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крыты для постоянного общения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Дети </a:t>
            </a: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мкнуты, боязливы, угрюмы и зависимы, непритязательны и раздраж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вочки остаются пассивными и зависим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Мальчики могут стать неуправляемыми и агрессив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17cf4c75a7617f6dc9951553ed8d0d2a"/>
          <p:cNvPicPr/>
          <p:nvPr/>
        </p:nvPicPr>
        <p:blipFill>
          <a:blip r:embed="rId1"/>
          <a:stretch/>
        </p:blipFill>
        <p:spPr>
          <a:xfrm>
            <a:off x="6858000" y="4389480"/>
            <a:ext cx="1914480" cy="2263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942071130fbb857d792c087e7687d7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4572000"/>
            <a:ext cx="1071360" cy="213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иберальный сти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Родители слишком высоко ценят своего ребёнка, считают простительным его слаб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Легко общаются с ним, доверяют ему в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Не склонны к запретам и огранич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Открыты для общения с детьми, доминирующее направление коммуникации – от ребёнка к род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Дети в такой семье слабо или совсем не регламентируют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доставлен избыток свободы или руководство родителей незнач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Преобладает безусловная родительская люб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:\Клипарты\FSPLAY.WMF"/>
          <p:cNvPicPr/>
          <p:nvPr/>
        </p:nvPicPr>
        <p:blipFill>
          <a:blip r:embed="rId1"/>
          <a:stretch/>
        </p:blipFill>
        <p:spPr>
          <a:xfrm>
            <a:off x="6286680" y="4379760"/>
            <a:ext cx="1977840" cy="2252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1:52:25Z</dcterms:created>
  <dc:creator>Admin</dc:creator>
  <dc:description/>
  <dc:language>en-US</dc:language>
  <cp:lastModifiedBy>User</cp:lastModifiedBy>
  <dcterms:modified xsi:type="dcterms:W3CDTF">2023-02-06T07:27:17Z</dcterms:modified>
  <cp:revision>63</cp:revision>
  <dc:subject/>
  <dc:title>Различные типы воспитания детей</dc:title>
</cp:coreProperties>
</file>