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5BBA-B9D7-4EC8-BA44-674EEBD29B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D87-80A5-4C00-B57F-7171ED613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3291-2095-4AB7-9DB0-AE97AB9E3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нализ результатов. За каждый правильный ответ дается 1 балл, за неправильный - 0 баллов. Внутренняя позиция считается сформированной, если ребенок набрал 5 баллов и больше. Если в результате анализа результатов обнаружатся слабые, неточные представления ребенка о школе, то необходимо провести работу по формированию у ребенка мотивационной готовности к школе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C4F-7895-4085-B0AC-89D3F55C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38B-E91B-4350-8D90-E8E4D828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E28-75CA-4EFC-880B-6EB4F25C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322-4055-4AC9-B96D-FC2CE95A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4C17-5B51-44EF-BF6C-6D402CCC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7DAD-C573-490C-8F62-AF581193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3E79-4363-4D9E-A4B3-10D036D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DBCF-69C5-4E81-9BB0-ADA982A1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D7D4-CBEB-4361-97FC-0C215FD3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5A2C-4341-4337-A20D-28CC1953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BF5E-50E0-4F93-ACFC-DE75110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417-7F54-475D-BA3F-0A0A6BF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5937-579E-434F-9D12-64E240C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6B61-85EC-487C-A710-1350D7A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D146-2CCE-400E-86E5-B0F2B28C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54DC-7FBF-4077-8A51-C85E333E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DC87-DC99-4705-9B06-9106E7CB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08C-2D97-45D4-AD52-3AAB77EC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26F-0E98-4A39-A749-C3D81B2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741-F1F9-4942-9844-E33C2B6F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1F4-C4A8-419F-B699-CA4689CE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7FB-8BB2-4F07-9568-C5096C4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E8D-9F76-48B3-90EC-58219B4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08E-0E57-40F5-8BEB-836F337C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2A63-9E29-44EF-8231-0E9C2965D0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ED79-914D-4F5A-B5C5-58B18A8D9B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8-21/sos_1sentebrja/80063647_or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одительское собрание для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одителей будущих первоклассников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427640" y="306864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g_1" descr="80063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716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33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33"/>
                </a:solidFill>
                <a:latin typeface="Times New Roman"/>
              </a:rPr>
              <a:t>Завтра ты идешь в школу, давай  сложим в портфель те предметы, которые тебе понадобятся на уроке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3" descr="Edu003"/>
          <p:cNvPicPr/>
          <p:nvPr/>
        </p:nvPicPr>
        <p:blipFill>
          <a:blip r:embed="rId1"/>
          <a:stretch/>
        </p:blipFill>
        <p:spPr>
          <a:xfrm>
            <a:off x="6227640" y="162864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du005"/>
          <p:cNvPicPr/>
          <p:nvPr/>
        </p:nvPicPr>
        <p:blipFill>
          <a:blip r:embed="rId2"/>
          <a:stretch/>
        </p:blipFill>
        <p:spPr>
          <a:xfrm>
            <a:off x="7020000" y="3789360"/>
            <a:ext cx="182880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Edu008"/>
          <p:cNvPicPr/>
          <p:nvPr/>
        </p:nvPicPr>
        <p:blipFill>
          <a:blip r:embed="rId3"/>
          <a:stretch/>
        </p:blipFill>
        <p:spPr>
          <a:xfrm>
            <a:off x="7316640" y="503064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Edu007"/>
          <p:cNvPicPr/>
          <p:nvPr/>
        </p:nvPicPr>
        <p:blipFill>
          <a:blip r:embed="rId4"/>
          <a:stretch/>
        </p:blipFill>
        <p:spPr>
          <a:xfrm>
            <a:off x="4643280" y="566100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Edu023"/>
          <p:cNvPicPr/>
          <p:nvPr/>
        </p:nvPicPr>
        <p:blipFill>
          <a:blip r:embed="rId5"/>
          <a:stretch/>
        </p:blipFill>
        <p:spPr>
          <a:xfrm>
            <a:off x="2627280" y="162864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Edu006"/>
          <p:cNvPicPr/>
          <p:nvPr/>
        </p:nvPicPr>
        <p:blipFill>
          <a:blip r:embed="rId6"/>
          <a:stretch/>
        </p:blipFill>
        <p:spPr>
          <a:xfrm>
            <a:off x="395280" y="3429000"/>
            <a:ext cx="1828800" cy="109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Edctn120"/>
          <p:cNvPicPr/>
          <p:nvPr/>
        </p:nvPicPr>
        <p:blipFill>
          <a:blip r:embed="rId7"/>
          <a:stretch/>
        </p:blipFill>
        <p:spPr>
          <a:xfrm>
            <a:off x="179280" y="5013360"/>
            <a:ext cx="2403720" cy="1528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MCj04326380000[1]"/>
          <p:cNvPicPr/>
          <p:nvPr/>
        </p:nvPicPr>
        <p:blipFill>
          <a:blip r:embed="rId8"/>
          <a:stretch/>
        </p:blipFill>
        <p:spPr>
          <a:xfrm>
            <a:off x="5435640" y="4437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MCj02508620000[1]"/>
          <p:cNvPicPr/>
          <p:nvPr/>
        </p:nvPicPr>
        <p:blipFill>
          <a:blip r:embed="rId9"/>
          <a:stretch/>
        </p:blipFill>
        <p:spPr>
          <a:xfrm>
            <a:off x="2411280" y="4941720"/>
            <a:ext cx="2001960" cy="174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MCj04241880000[1]"/>
          <p:cNvPicPr/>
          <p:nvPr/>
        </p:nvPicPr>
        <p:blipFill>
          <a:blip r:embed="rId10"/>
          <a:stretch/>
        </p:blipFill>
        <p:spPr>
          <a:xfrm>
            <a:off x="684360" y="1628640"/>
            <a:ext cx="179388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олевая готов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наличие у ребе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ей ставить перед собой ц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ь решение о начале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етить план действ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ь его, проявив определенные усил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ть результат своей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акже умения длительно выполнять не очень привлекательную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MCj04357430000[1]"/>
          <p:cNvPicPr/>
          <p:nvPr/>
        </p:nvPicPr>
        <p:blipFill>
          <a:blip r:embed="rId1"/>
          <a:stretch/>
        </p:blipFill>
        <p:spPr>
          <a:xfrm>
            <a:off x="7524720" y="1628640"/>
            <a:ext cx="1171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Коммуникатив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MCj02921100000[1]"/>
          <p:cNvPicPr/>
          <p:nvPr/>
        </p:nvPicPr>
        <p:blipFill>
          <a:blip r:embed="rId1"/>
          <a:stretch/>
        </p:blipFill>
        <p:spPr>
          <a:xfrm>
            <a:off x="7164360" y="4365720"/>
            <a:ext cx="19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«Портрет» первоклассника, неготового к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ая игрив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ая самостояте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пульсивность, бесконтрольность поведения, гиперактив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общаться со сверстник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ность контактов с незнакомыми взрослыми (стойкое нежелание контактировать) или, наоборот, непонимание своего стату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сосредоточиться на задании, трудность восприятия словесной или иной инструк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знаний об окружающем мире, неумение сделать обобщение, классифицировать, выделить сходство, различ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хое развитие тонко координированных движений руки, зрительно-моторных координации (неумение выполнять различные графические задания, манипулировать мелкими предметами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ое развитие произвольной памя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ержка речевого развития (это может быть и неправильное произношение, и бедный словарный запас, и неумение выразить свои мысли и т. п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Cj04357450000[1]"/>
          <p:cNvPicPr/>
          <p:nvPr/>
        </p:nvPicPr>
        <p:blipFill>
          <a:blip r:embed="rId1"/>
          <a:stretch/>
        </p:blipFill>
        <p:spPr>
          <a:xfrm>
            <a:off x="7118280" y="260280"/>
            <a:ext cx="20257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ак помочь дошкольнику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ыбор шко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ёнок в детстве часто болел, если ему трудно долгое время удерживать внимание на чём-то одном, если вы видите, что он морально не готов стать первоклассником - посоветуйтесь с психологом. Возможно, ему было полезно бы полезно ещё один год посидеть дома или походить на подготовительные занятия. Или же вам нужно серьёзно подойти к выбору школы: нагрузка в первый год учёбы должна быть посильной для ребё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амосто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ребёнок быстрее смог адаптироваться в школе, он должен быть достаточно самостоятельным. Постарайтесь меньше опекать его, дайте ему возможность принимать самостоятельные решения и отвечать за них. Поручите ему какие-нибудь домашние дела, он научился выполнять свою работу без помощи взросл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Коллекти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ёнок никогда не ходил в детский сад, постарайтесь, чтобы оставшееся время перед школой он пообщался со сверстниками. Иначе одновременно привыкать и к урокам и к большому коллективу ему будет очень тяжело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ВЕТЫ РОДИТЕЛЯМ </a:t>
            </a:r>
            <a:br>
              <a:rPr sz="3800"/>
            </a:b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Как подготовить малыша к школ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чадо различать право-ле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жите, как правильно укладывать в портфель книжки и тетрад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ерите пенал. В нем должны лежать две простые шариковые синие ручки, одна красная, одна зеленая, два заточенных карандаша, набор из пяти цветных карандашей, линейка и ласти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учите с малышом ваш домашний адрес и телефон, объясните ему, как звонить, если он потеряе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будущего первоклассника писать мелом (можно даже купить маленькую доску и устроить тренировочный урок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часто боятся или стесняются просить у строгого учителя разрешения выйти во время урока, так что проговорите с чадом этот момен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у вашего ребенка есть логопедические проблемы, постарайтесь решить их до начала учеб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ьте расписание и попробуйте прорепетировать школьный день - 40 - 45 минут за чтением и азбукой, потом перемена 10 минут и следующий урок. Проследите, чтобы ребенок научился выдерживать утомительное сидение за стол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йте вашего первоклассника во всем. Хвалите за дело, говорите, как здорово у него получается выводить буквы (считать, рисовать и т. д.). Это придаст ему уверенности в се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ите ребенку, что он сам несет ответственность за свою учебу. Если мама и папа зарабатывают деньги на работе, то его работа - ходить в школу и "зарабатывать" хорошие отмет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ьте, умеет ли ваше чадо самостоятельно завязывать шнурки, застегивать пуговицы и молнии, переодеваться без вашей помощи в спортивный костюм, складывать аккуратно свои вещ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Готов ли ребенок к школе?</a:t>
            </a:r>
            <a:br>
              <a:rPr sz="3400"/>
            </a:b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для родителей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013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ет ли Ваш ребенок идти в школ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лекает ли Вашего ребенка в школе то, что в ней будет интересно учиться, и он многое узнает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заниматься самостоятельно каким-либо делом, требующим сосредоточенности в течение 30 минут (например, собирать конструктор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 ли, что Ваш ребенок в присутствии незнакомых нисколько не стесняетс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составлять рассказы по картинке не короче чем из 5 предлож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рассказать наизусть несколько стихотвор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он изменять существительные по числа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читать по слогам или, что еще лучше, целыми словам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считать до 10 и обратн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 ли, что Ваш ребенок имеет твердую рук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решать простые задачи на вычитание или прибавление единицы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т ли он рисовать и раскрашивать картин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пользоваться ножницами и клеем (например, делать аппликации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собрать разрезанную картинку из 5 частей за 1 минут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ет ли ребенок названия диких и домашних животных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понимать и точно выполнять словесные инструкц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обобщать понятия (например, назвать одним словом “овощи” помидоры, морковь, лук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т ли Ваш ребенок заниматься самостоятельно рисовать, собирать мозаику и т. д.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дсчитайте количество положительных ответов на вопросы теста. Если оно со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5-18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жно считать, что ребенок вполне готов к тому, чтобы идти в школу. Вы не напрасно много с ним занимались, а школьные трудности, если и возникнут, будут легко преодолимы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-14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Вы на правильном пути, ребенок многому научился, а содержание вопросов, на которые Вы ответили отрицанием, подскажет Вам точки приложения дальнейших ус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ньше 9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ебенку нужна ваша помощь, почитайте другую специальную литературу, постарайтесь уделять больше времени занятиям с ребенком и обратите особое внимание на то, чего он не умеет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MCBD07208_0000[1]"/>
          <p:cNvPicPr/>
          <p:nvPr/>
        </p:nvPicPr>
        <p:blipFill>
          <a:blip r:embed="rId1"/>
          <a:stretch/>
        </p:blipFill>
        <p:spPr>
          <a:xfrm>
            <a:off x="7329600" y="0"/>
            <a:ext cx="1814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“Готовы ли вы отдавать своего ребенка в школу?”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кажется, что мой ребенок будет учиться хуже других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Я опасаюсь, что мой ребенок часто будет обижать других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а мой взгляд, четыре урока — непомерная нагрузка для маленько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Трудно быть уверенным, что учителя младших классов хорошо понимают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Трудно представить, что первоклассник может быстро научиться читать, считать и писа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Мне кажется, что дети в этом возрасте еще не способны друж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Боюсь даже думать о том, как мой ребенок будет обходиться без дневного с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Мой ребенок часто плачет, когда к нему обращается незнакомый взрослый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Мой ребенок не ходит в детский сад и никогда не расстается с матер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. Начальная школа, по-моему, редко способна чему-либо научить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. Я опасаюсь, что дети будут дразнить мое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. Мой малыш, по-моему, значительно слабее своих сверстни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. Боюсь, что учительница не имеет возможности оценить успехи каждо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5. Мой ребенок часто говорит: “Мама, мы пойдем в школу вместе!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j03432970000[1]"/>
          <p:cNvPicPr/>
          <p:nvPr/>
        </p:nvPicPr>
        <p:blipFill>
          <a:blip r:embed="rId1"/>
          <a:stretch/>
        </p:blipFill>
        <p:spPr>
          <a:xfrm>
            <a:off x="7323120" y="5016600"/>
            <a:ext cx="18208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03280" y="2060640"/>
          <a:ext cx="6346800" cy="4525920"/>
        </p:xfrm>
        <a:graphic>
          <a:graphicData uri="http://schemas.openxmlformats.org/drawingml/2006/table">
            <a:tbl>
              <a:tblPr/>
              <a:tblGrid>
                <a:gridCol w="1270080"/>
                <a:gridCol w="1268280"/>
                <a:gridCol w="1270080"/>
                <a:gridCol w="1268280"/>
                <a:gridCol w="12700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зультаты тестир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4 б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-10 б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лучше подготовиться к возможным трудностям заран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баллов и больш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было бы неплохо посоветоваться детским психоло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А теперь обратим внимание на то, в каких столбц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олучено 2 или 3 кре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— необходимо больше заниматься играми и заданиями, развивающими память, внимание, тонкую мотор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— нужно обратить внимание на то, умеет ли Ваш ребенок общаться с другими деть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— есть опасения, что ребенок не найдет контакта с учительницей, надо обратить внимание на сюжетны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– ваш ребенок недостаточно самостоятелен, вероятно, он излишне привязан к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s_1sentebrja"/>
          <p:cNvPicPr/>
          <p:nvPr/>
        </p:nvPicPr>
        <p:blipFill>
          <a:blip r:embed="rId1"/>
          <a:stretch/>
        </p:blipFill>
        <p:spPr>
          <a:xfrm>
            <a:off x="7812000" y="333360"/>
            <a:ext cx="9241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помочь ребенку подготовиться к школе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обенно внимательно необходимо готовится к школе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менность и роды протекали с осложнен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перенёс родовую травму или родился недоношенны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страдает желудочно-кишечными заболеваниями, энурезом, подвержен частым простудам, есть нарушение с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с трудом находит контакт со сверстниками, эмоционально не устойч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замечаете двигательную заторможенность или гиперактив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Психологическая готовность </a:t>
            </a:r>
            <a:br>
              <a:rPr sz="3400"/>
            </a:b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к обучению в школе включает </a:t>
            </a:r>
            <a:br>
              <a:rPr sz="3400"/>
            </a:b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в себ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ивацион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ев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ую готов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MCj04357730000[1]"/>
          <p:cNvPicPr/>
          <p:nvPr/>
        </p:nvPicPr>
        <p:blipFill>
          <a:blip r:embed="rId1"/>
          <a:stretch/>
        </p:blipFill>
        <p:spPr>
          <a:xfrm>
            <a:off x="6659640" y="2997360"/>
            <a:ext cx="216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Интеллектуаль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 6–7-и годам ребенок должен зна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й адрес и название города, в котором он живе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страны и ее столиц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а и отчества своих родителей, информацию о местах их рабо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а года, их последовательность и основные призна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я месяцев, дней недел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виды деревьев и цв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му следует уметь различать домашних и диких животных, понимать, что бабушка — это мама отца или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ыми словами, он должен ориентироваться во времени, пространстве и своем ближайшем окру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CBD07205_0000[1]"/>
          <p:cNvPicPr/>
          <p:nvPr/>
        </p:nvPicPr>
        <p:blipFill>
          <a:blip r:embed="rId1"/>
          <a:stretch/>
        </p:blipFill>
        <p:spPr>
          <a:xfrm>
            <a:off x="7164360" y="189000"/>
            <a:ext cx="182088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Мотивацион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азумевает наличие у ребенка желания принять новую социальную 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школьн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этой целью родителям необходимо объяснить своему реб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то дети ходят учиться для получения знаний, которые необходимы каждому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давать ребенку только позитивную информацию о школе. Помните, что ваши оценки с легкостью заимствуются деть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ой нежелания идти в школу может быть и то, что ребенок “не наигрался”.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Тест «Мотивационная готовность»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бор вопросов, предлагающих ребенку выбор одного из вариантов повед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Если бы было две школы - одна с уроками русского языка, математики, чтения, пения, рисования и физкультуры, а другая - только с уроками пения, рисования и физкультуры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Если бы было две школы - одна с уроками и переменками, а другая только с переменками и никаких уроков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Если бы было две школы - в одной ставили бы за хорошие ответы пятерки и четверки, а в другой давали бы сладости и игрушки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Если бы было две школы - в одной можно вставать только с разрешения учительницы и поднимать руку, если ты хочешь что-то спросить, а в другой можно делать на уроке все, что хочешь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Если бы было две школы - в одной задавали бы уроки на дом, а в другой нет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Если бы у вас в классе заболела учительница и директор предложил ее заменить другой учительницей или мамой, то кого бы ты выбрал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 Если бы мама сказала: "Ты у меня еще маленький, тебе трудно вставать, делать уроки. Останься в детском саду, а в школу пойдешь на будущий год", то согласился бы ты с таким предложением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Если бы мама сказала: "Я договорилась с учительницей, что она будет ходить к нам домой и заниматься с тобой. Теперь тебе не придется ходить по утрам в школу", то согласился бы ты с таким предложением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. Если бы соседский мальчик спросил тебя: "Что тебе больше всего нравится в школе?", то что бы ты ответил 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4:05:29Z</dcterms:created>
  <dc:creator>Наталия</dc:creator>
  <dc:description/>
  <dc:language>en-US</dc:language>
  <cp:lastModifiedBy>user</cp:lastModifiedBy>
  <dcterms:modified xsi:type="dcterms:W3CDTF">2014-01-27T19:51:11Z</dcterms:modified>
  <cp:revision>79</cp:revision>
  <dc:subject/>
  <dc:title>Родительское собрание для родителей будущих первоклассников</dc:title>
</cp:coreProperties>
</file>