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11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99A3-5D63-4624-92A5-F26BC6AF9C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7471-5449-42AA-BF1B-472505A0C0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491A-CE5F-4690-BF7F-78DBB4BEA6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Анализ результатов. За каждый правильный ответ дается 1 балл, за неправильный - 0 баллов. Внутренняя позиция считается сформированной, если ребенок набрал 5 баллов и больше. Если в результате анализа результатов обнаружатся слабые, неточные представления ребенка о школе, то необходимо провести работу по формированию у ребенка мотивационной готовности к школе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2DDF-56EC-45B6-B9CC-FEE5ECC4C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432C-B6EB-4180-AF7B-9CF0BCEF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0753-579E-4249-AFCE-403C440C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5C26-4B98-44F7-8AE2-D572B3C70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6261-6976-4DEF-BFB6-8DAF52476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5B4E-C268-466A-94FE-F1B27C73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E052-05BB-4F8B-9FA3-4BAA855C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950F-4364-4371-9C5F-7E99A0EF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00B6-D0A9-437B-9671-E16FB571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9089-3118-425C-8055-9CA7A17D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28F1-2417-474F-B255-DE5A56BB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C6F5-2743-4146-B986-E1CFAB8D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40CF-FAD9-4D32-AE78-E6B627D9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1D58-3DCD-4484-A3BB-4A2FAD40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4FB0-17EF-4264-8AD1-C6501234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6776-2DFC-4F15-9B8F-047F80D21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77FD-FD29-46F6-8B3C-F46056278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C90B-1360-4C59-9BAD-2F3AC451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782F-6B14-4584-BE28-2ED2B7A1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47BE-191A-4458-AB0C-FBA54EA4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50CB-A929-4BAB-A187-D3C2EF00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07E9-3820-45B0-B3D5-E5EC3D5B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D081-23D8-4F30-BCF5-DE589EB4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6C60-98E9-42C9-BCE5-9E72786E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EB97-957C-4858-BE37-CE55B13455D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D83A-C3C8-4B4D-9C80-C636540AD3A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moikompas.ru/img/compas/2008-08-21/sos_1sentebrja/80063647_ori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png"/><Relationship Id="rId9" Type="http://schemas.openxmlformats.org/officeDocument/2006/relationships/image" Target="../media/image14.wmf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Родительское собрание для</a:t>
            </a:r>
            <a:br>
              <a:rPr sz="4400"/>
            </a:b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родителей будущих первоклассников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427640" y="3068640"/>
            <a:ext cx="417672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так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сихолог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тов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школ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img_1" descr="8006364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371628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3360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0033"/>
                </a:solidFill>
                <a:latin typeface="Times New Roman"/>
              </a:rPr>
              <a:t>Завтра ты идешь в школу, давай  сложим в портфель те предметы, которые тебе понадобятся на уроке: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8" name="Picture 3" descr="Edu003"/>
          <p:cNvPicPr/>
          <p:nvPr/>
        </p:nvPicPr>
        <p:blipFill>
          <a:blip r:embed="rId1"/>
          <a:stretch/>
        </p:blipFill>
        <p:spPr>
          <a:xfrm>
            <a:off x="6227640" y="1628640"/>
            <a:ext cx="1827360" cy="1827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Edu005"/>
          <p:cNvPicPr/>
          <p:nvPr/>
        </p:nvPicPr>
        <p:blipFill>
          <a:blip r:embed="rId2"/>
          <a:stretch/>
        </p:blipFill>
        <p:spPr>
          <a:xfrm>
            <a:off x="7020000" y="3789360"/>
            <a:ext cx="1828800" cy="109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Edu008"/>
          <p:cNvPicPr/>
          <p:nvPr/>
        </p:nvPicPr>
        <p:blipFill>
          <a:blip r:embed="rId3"/>
          <a:stretch/>
        </p:blipFill>
        <p:spPr>
          <a:xfrm>
            <a:off x="7316640" y="5030640"/>
            <a:ext cx="1827360" cy="1827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Edu007"/>
          <p:cNvPicPr/>
          <p:nvPr/>
        </p:nvPicPr>
        <p:blipFill>
          <a:blip r:embed="rId4"/>
          <a:stretch/>
        </p:blipFill>
        <p:spPr>
          <a:xfrm>
            <a:off x="4643280" y="5661000"/>
            <a:ext cx="1827360" cy="1411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Edu023"/>
          <p:cNvPicPr/>
          <p:nvPr/>
        </p:nvPicPr>
        <p:blipFill>
          <a:blip r:embed="rId5"/>
          <a:stretch/>
        </p:blipFill>
        <p:spPr>
          <a:xfrm>
            <a:off x="2627280" y="1628640"/>
            <a:ext cx="3313080" cy="3313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Edu006"/>
          <p:cNvPicPr/>
          <p:nvPr/>
        </p:nvPicPr>
        <p:blipFill>
          <a:blip r:embed="rId6"/>
          <a:stretch/>
        </p:blipFill>
        <p:spPr>
          <a:xfrm>
            <a:off x="395280" y="3429000"/>
            <a:ext cx="1828800" cy="1090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Edctn120"/>
          <p:cNvPicPr/>
          <p:nvPr/>
        </p:nvPicPr>
        <p:blipFill>
          <a:blip r:embed="rId7"/>
          <a:stretch/>
        </p:blipFill>
        <p:spPr>
          <a:xfrm>
            <a:off x="179280" y="5013360"/>
            <a:ext cx="2403720" cy="15285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MCj04326380000[1]"/>
          <p:cNvPicPr/>
          <p:nvPr/>
        </p:nvPicPr>
        <p:blipFill>
          <a:blip r:embed="rId8"/>
          <a:stretch/>
        </p:blipFill>
        <p:spPr>
          <a:xfrm>
            <a:off x="5435640" y="44370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MCj02508620000[1]"/>
          <p:cNvPicPr/>
          <p:nvPr/>
        </p:nvPicPr>
        <p:blipFill>
          <a:blip r:embed="rId9"/>
          <a:stretch/>
        </p:blipFill>
        <p:spPr>
          <a:xfrm>
            <a:off x="2411280" y="4941720"/>
            <a:ext cx="2001960" cy="1744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MCj04241880000[1]"/>
          <p:cNvPicPr/>
          <p:nvPr/>
        </p:nvPicPr>
        <p:blipFill>
          <a:blip r:embed="rId10"/>
          <a:stretch/>
        </p:blipFill>
        <p:spPr>
          <a:xfrm>
            <a:off x="684360" y="1628640"/>
            <a:ext cx="1793880" cy="130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330033"/>
                </a:solidFill>
                <a:latin typeface="Times New Roman"/>
              </a:rPr>
              <a:t>Волевая готовност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олагает наличие у ребен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ей ставить перед собой цел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ять решение о начале деятельно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метить план действ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ть его, проявив определенные усил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ить результат своей деятельно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также умения длительно выполнять не очень привлекательную рабо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ию волевой готовности к школе способствуют изобразительная деятельность и конструирование, поскольку они побуждают длительное время сосредоточиваться на постройке или рисовани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MCj04357430000[1]"/>
          <p:cNvPicPr/>
          <p:nvPr/>
        </p:nvPicPr>
        <p:blipFill>
          <a:blip r:embed="rId1"/>
          <a:stretch/>
        </p:blipFill>
        <p:spPr>
          <a:xfrm>
            <a:off x="7524720" y="1628640"/>
            <a:ext cx="117144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Коммуникативная готовность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яется в умении ребенка подчинять свое поведение законам детских групп и нормам поведения, установленным в класс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 предполагает способность включиться в детское сообщество, действовать совместно с другими ребятами, в случае необходимости уступать или отстаивать свою правоту, подчиняться или руководи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целях развития коммуникативной компетентности следует поддерживать доброжелательные отношения вашего сына или дочери с окружающими. Личный пример терпимости во взаимоотношениях с друзьями, родными, соседями также играет большую роль в формировании этого вида готовности к школ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MCj02921100000[1]"/>
          <p:cNvPicPr/>
          <p:nvPr/>
        </p:nvPicPr>
        <p:blipFill>
          <a:blip r:embed="rId1"/>
          <a:stretch/>
        </p:blipFill>
        <p:spPr>
          <a:xfrm>
            <a:off x="7164360" y="4365720"/>
            <a:ext cx="19796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«Портрет» первоклассника, неготового к школ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резмерная игривос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достаточная самостоятельнос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пульсивность, бесконтрольность поведения, гиперактивнос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умение общаться со сверстникам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удность контактов с незнакомыми взрослыми (стойкое нежелание контактировать) или, наоборот, непонимание своего статус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умение сосредоточиться на задании, трудность восприятия словесной или иной инструкци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зкий уровень знаний об окружающем мире, неумение сделать обобщение, классифицировать, выделить сходство, различи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охое развитие тонко координированных движений руки, зрительно-моторных координации (неумение выполнять различные графические задания, манипулировать мелкими предметами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достаточное развитие произвольной памят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ержка речевого развития (это может быть и неправильное произношение, и бедный словарный запас, и неумение выразить свои мысли и т. п.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MCj04357450000[1]"/>
          <p:cNvPicPr/>
          <p:nvPr/>
        </p:nvPicPr>
        <p:blipFill>
          <a:blip r:embed="rId1"/>
          <a:stretch/>
        </p:blipFill>
        <p:spPr>
          <a:xfrm>
            <a:off x="7118280" y="260280"/>
            <a:ext cx="202572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Как помочь дошкольнику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Выбор школ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ребёнок в детстве часто болел, если ему трудно долгое время удерживать внимание на чём-то одном, если вы видите, что он морально не готов стать первоклассником - посоветуйтесь с психологом. Возможно, ему было полезно бы полезно ещё один год посидеть дома или походить на подготовительные занятия. Или же вам нужно серьёзно подойти к выбору школы: нагрузка в первый год учёбы должна быть посильной для ребён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Самостоятель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тобы ребёнок быстрее смог адаптироваться в школе, он должен быть достаточно самостоятельным. Постарайтесь меньше опекать его, дайте ему возможность принимать самостоятельные решения и отвечать за них. Поручите ему какие-нибудь домашние дела, он научился выполнять свою работу без помощи взросл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Коллекти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ребёнок никогда не ходил в детский сад, постарайтесь, чтобы оставшееся время перед школой он пообщался со сверстниками. Иначе одновременно привыкать и к урокам и к большому коллективу ему будет очень тяжело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СОВЕТЫ РОДИТЕЛЯМ </a:t>
            </a:r>
            <a:br>
              <a:rPr sz="3800"/>
            </a:br>
            <a:r>
              <a:rPr b="1" lang="ru-RU" sz="3400" spc="-1" strike="noStrike">
                <a:solidFill>
                  <a:srgbClr val="330033"/>
                </a:solidFill>
                <a:latin typeface="Times New Roman"/>
              </a:rPr>
              <a:t>Как подготовить малыша к школе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учите чадо различать право-лев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жите, как правильно укладывать в портфель книжки и тетрад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берите пенал. В нем должны лежать две простые шариковые синие ручки, одна красная, одна зеленая, два заточенных карандаша, набор из пяти цветных карандашей, линейка и ласти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учите с малышом ваш домашний адрес и телефон, объясните ему, как звонить, если он потеряетс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учите будущего первоклассника писать мелом (можно даже купить маленькую доску и устроить тренировочный урок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ти часто боятся или стесняются просить у строгого учителя разрешения выйти во время урока, так что проговорите с чадом этот момен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у вашего ребенка есть логопедические проблемы, постарайтесь решить их до начала учеб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ставьте расписание и попробуйте прорепетировать школьный день - 40 - 45 минут за чтением и азбукой, потом перемена 10 минут и следующий урок. Проследите, чтобы ребенок научился выдерживать утомительное сидение за стол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держивайте вашего первоклассника во всем. Хвалите за дело, говорите, как здорово у него получается выводить буквы (считать, рисовать и т. д.). Это придаст ему уверенности в себ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ъясните ребенку, что он сам несет ответственность за свою учебу. Если мама и папа зарабатывают деньги на работе, то его работа - ходить в школу и "зарабатывать" хорошие отмет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ерьте, умеет ли ваше чадо самостоятельно завязывать шнурки, застегивать пуговицы и молнии, переодеваться без вашей помощи в спортивный костюм, складывать аккуратно свои вещ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330033"/>
                </a:solidFill>
                <a:latin typeface="Times New Roman"/>
              </a:rPr>
              <a:t>Готов ли ребенок к школе?</a:t>
            </a:r>
            <a:br>
              <a:rPr sz="3400"/>
            </a:br>
            <a:r>
              <a:rPr b="1" i="1" lang="ru-RU" sz="3400" spc="-1" strike="noStrike">
                <a:solidFill>
                  <a:srgbClr val="330033"/>
                </a:solidFill>
                <a:latin typeface="Times New Roman"/>
              </a:rPr>
              <a:t>Тест для родителей.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8013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очет ли Ваш ребенок идти в школу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влекает ли Вашего ребенка в школе то, что в ней будет интересно учиться, и он многое узнает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жет ли Ваш ребенок заниматься самостоятельно каким-либо делом, требующим сосредоточенности в течение 30 минут (например, собирать конструктор)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ерно ли, что Ваш ребенок в присутствии незнакомых нисколько не стесняется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меет ли Ваш ребенок составлять рассказы по картинке не короче чем из 5 предложений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меет ли Ваш ребенок рассказать наизусть несколько стихотворений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меет ли он изменять существительные по числам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меет ли Ваш ребенок читать по слогам или, что еще лучше, целыми словам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меет ли Ваш ребенок считать до 10 и обратно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ерно ли, что Ваш ребенок имеет твердую руку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жет ли он решать простые задачи на вычитание или прибавление единицы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юбит ли он рисовать и раскрашивать картинк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жет ли Ваш ребенок пользоваться ножницами и клеем (например, делать аппликации)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жет ли он собрать разрезанную картинку из 5 частей за 1 минуту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ет ли ребенок названия диких и домашних животных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жет ли Ваш ребенок понимать и точно выполнять словесные инструкци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жет ли он обобщать понятия (например, назвать одним словом “овощи” помидоры, морковь, лук)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юбит ли Ваш ребенок заниматься самостоятельно рисовать, собирать мозаику и т. д.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дсчитайте количество положительных ответов на вопросы теста. Если оно составля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5-18 бал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можно считать, что ребенок вполне готов к тому, чтобы идти в школу. Вы не напрасно много с ним занимались, а школьные трудности, если и возникнут, будут легко преодолимы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0-14 бал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Вы на правильном пути, ребенок многому научился, а содержание вопросов, на которые Вы ответили отрицанием, подскажет Вам точки приложения дальнейших усил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ньше 9 бал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ребенку нужна ваша помощь, почитайте другую специальную литературу, постарайтесь уделять больше времени занятиям с ребенком и обратите особое внимание на то, чего он не умеет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MCBD07208_0000[1]"/>
          <p:cNvPicPr/>
          <p:nvPr/>
        </p:nvPicPr>
        <p:blipFill>
          <a:blip r:embed="rId1"/>
          <a:stretch/>
        </p:blipFill>
        <p:spPr>
          <a:xfrm>
            <a:off x="7329600" y="0"/>
            <a:ext cx="181440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330033"/>
                </a:solidFill>
                <a:latin typeface="Times New Roman"/>
              </a:rPr>
              <a:t>Тест “Готовы ли вы отдавать своего ребенка в школу?”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не кажется, что мой ребенок будет учиться хуже других дет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Я опасаюсь, что мой ребенок часто будет обижать других дет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 На мой взгляд, четыре урока — непомерная нагрузка для маленького ребен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 Трудно быть уверенным, что учителя младших классов хорошо понимают дет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. Ребенок может спокойно учиться только в том случае, если учительница — его собственная мам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. Трудно представить, что первоклассник может быстро научиться читать, считать и писа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. Мне кажется, что дети в этом возрасте еще не способны дружи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8. Боюсь даже думать о том, как мой ребенок будет обходиться без дневного с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9. Мой ребенок часто плачет, когда к нему обращается незнакомый взрослый челове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. Мой ребенок не ходит в детский сад и никогда не расстается с матерь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1. Начальная школа, по-моему, редко способна чему-либо научить ребен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2. Я опасаюсь, что дети будут дразнить моего ребен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3. Мой малыш, по-моему, значительно слабее своих сверстник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4. Боюсь, что учительница не имеет возможности оценить успехи каждого ребен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5. Мой ребенок часто говорит: “Мама, мы пойдем в школу вместе!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MCj03432970000[1]"/>
          <p:cNvPicPr/>
          <p:nvPr/>
        </p:nvPicPr>
        <p:blipFill>
          <a:blip r:embed="rId1"/>
          <a:stretch/>
        </p:blipFill>
        <p:spPr>
          <a:xfrm>
            <a:off x="7323120" y="5016600"/>
            <a:ext cx="182088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Занесите свои ответы в табличку: </a:t>
            </a:r>
            <a:br>
              <a:rPr sz="2100"/>
            </a:b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если Вы согласны с утверждением, поставьте крестик после косой черты, если не согласны, оставьте клетку пустой. </a:t>
            </a: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403280" y="2060640"/>
          <a:ext cx="6346800" cy="4525920"/>
        </p:xfrm>
        <a:graphic>
          <a:graphicData uri="http://schemas.openxmlformats.org/drawingml/2006/table">
            <a:tbl>
              <a:tblPr/>
              <a:tblGrid>
                <a:gridCol w="1270080"/>
                <a:gridCol w="1268280"/>
                <a:gridCol w="1270080"/>
                <a:gridCol w="1268280"/>
                <a:gridCol w="127008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Результаты тестирования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 4 балл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это означает, что у Вас есть все основания оптимистично ждать первого сентября — по крайней мере, сами вполне готовы к школьной жизни Вашего реб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-10 балл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лучше подготовиться к возможным трудностям заране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0 баллов и больш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было бы неплохо посоветоваться детским психолог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А теперь обратим внимание на то, в каких столбца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получено 2 или 3 крест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— необходимо больше заниматься играми и заданиями, развивающими память, внимание, тонкую моторик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— нужно обратить внимание на то, умеет ли Ваш ребенок общаться с другими деть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— предвидятся сложности, связанные со здоровьем ребенка, но еще есть время заняться закаливанием и общеукрепляющими упражнен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 — есть опасения, что ребенок не найдет контакта с учительницей, надо обратить внимание на сюжетные иг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 – ваш ребенок недостаточно самостоятелен, вероятно, он излишне привязан к матер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sos_1sentebrja"/>
          <p:cNvPicPr/>
          <p:nvPr/>
        </p:nvPicPr>
        <p:blipFill>
          <a:blip r:embed="rId1"/>
          <a:stretch/>
        </p:blipFill>
        <p:spPr>
          <a:xfrm>
            <a:off x="7812000" y="333360"/>
            <a:ext cx="92412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Как помочь ребенку подготовиться к школе?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собенно внимательно необходимо готовится к школе, ес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ременность и роды протекали с осложнения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бёнок перенёс родовую травму или родился недоношенны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бёнок страдает желудочно-кишечными заболеваниями, энурезом, подвержен частым простудам, есть нарушение сн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бёнок с трудом находит контакт со сверстниками, эмоционально не устойчи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 замечаете двигательную заторможенность или гиперактивность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330033"/>
                </a:solidFill>
                <a:uFillTx/>
                <a:latin typeface="Times New Roman"/>
              </a:rPr>
              <a:t>Психологическая готовность </a:t>
            </a:r>
            <a:br>
              <a:rPr sz="3400"/>
            </a:br>
            <a:r>
              <a:rPr b="1" i="1" lang="ru-RU" sz="3400" spc="-1" strike="noStrike" u="sng">
                <a:solidFill>
                  <a:srgbClr val="330033"/>
                </a:solidFill>
                <a:uFillTx/>
                <a:latin typeface="Times New Roman"/>
              </a:rPr>
              <a:t>к обучению в школе включает </a:t>
            </a:r>
            <a:br>
              <a:rPr sz="3400"/>
            </a:br>
            <a:r>
              <a:rPr b="1" i="1" lang="ru-RU" sz="3400" spc="-1" strike="noStrike" u="sng">
                <a:solidFill>
                  <a:srgbClr val="330033"/>
                </a:solidFill>
                <a:uFillTx/>
                <a:latin typeface="Times New Roman"/>
              </a:rPr>
              <a:t>в себя: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теллектуальную готовност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тивационную готовност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левую готовност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муникативную готов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MCj04357730000[1]"/>
          <p:cNvPicPr/>
          <p:nvPr/>
        </p:nvPicPr>
        <p:blipFill>
          <a:blip r:embed="rId1"/>
          <a:stretch/>
        </p:blipFill>
        <p:spPr>
          <a:xfrm>
            <a:off x="6659640" y="2997360"/>
            <a:ext cx="2160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Интеллектуальная готовность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полагает развитие внимания, памяти, сформированные мыслительные операции анализа, синтеза, обобщения, умение устанавливать связи между явлениями и события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К 6–7-и годам ребенок должен знать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ой адрес и название города, в котором он живет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звание страны и ее столиц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ена и отчества своих родителей, информацию о местах их работ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мена года, их последовательность и основные признак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звания месяцев, дней недел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ые виды деревьев и цве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му следует уметь различать домашних и диких животных, понимать, что бабушка — это мама отца или матер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ыми словами, он должен ориентироваться во времени, пространстве и своем ближайшем окруж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MCBD07205_0000[1]"/>
          <p:cNvPicPr/>
          <p:nvPr/>
        </p:nvPicPr>
        <p:blipFill>
          <a:blip r:embed="rId1"/>
          <a:stretch/>
        </p:blipFill>
        <p:spPr>
          <a:xfrm>
            <a:off x="7164360" y="189000"/>
            <a:ext cx="1820880" cy="15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Мотивационная готовность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разумевает наличие у ребенка желания принять новую социальную ро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ль школьник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этой целью родителям необходимо объяснить своему ребенк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что дети ходят учиться для получения знаний, которые необходимы каждому челове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едует давать ребенку только позитивную информацию о школе. Помните, что ваши оценки с легкостью заимствуются деть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бенок должен видеть, что родители спокойно и уверенно смотрят на его предстоящее поступление в школ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чиной нежелания идти в школу может быть и то, что ребенок “не наигрался”. Но в возрасте 6–7 лет психическое развитие очень пластично, и дети, которые “не наигрались”, придя в класс, скоро начинают испытывать удовольствие от процесса учеб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м не обязательно до начала учебного года формировать любовь к школе, поскольку невозможно полюбить то, с чем еще не сталкивался. Достаточно дать понять ребенк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чт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чеба — это обязанность каждого человека и от того, насколько он будет успешен в учении, зависит отношение к нему многих из окружающих ребенка люд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30033"/>
                </a:solidFill>
                <a:latin typeface="Times New Roman"/>
              </a:rPr>
              <a:t>Тест «Мотивационная готовность»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абор вопросов, предлагающих ребенку выбор одного из вариантов поведен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Если бы было две школы - одна с уроками русского языка, математики, чтения, пения, рисования и физкультуры, а другая - только с уроками пения, рисования и физкультуры, то в какой из них ты бы хотел учиться?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Если бы было две школы - одна с уроками и переменками, а другая только с переменками и никаких уроков, то в какой из них ты бы хотел учиться?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Если бы было две школы - в одной ставили бы за хорошие ответы пятерки и четверки, а в другой давали бы сладости и игрушки, то в какой из них ты бы хотел учиться?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 Если бы было две школы - в одной можно вставать только с разрешения учительницы и поднимать руку, если ты хочешь что-то спросить, а в другой можно делать на уроке все, что хочешь, то в какой из них ты бы хотел учиться?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 Если бы было две школы - в одной задавали бы уроки на дом, а в другой нет, то в какой из них ты бы хотел учиться?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. Если бы у вас в классе заболела учительница и директор предложил ее заменить другой учительницей или мамой, то кого бы ты выбрал?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. Если бы мама сказала: "Ты у меня еще маленький, тебе трудно вставать, делать уроки. Останься в детском саду, а в школу пойдешь на будущий год", то согласился бы ты с таким предложением?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. Если бы мама сказала: "Я договорилась с учительницей, что она будет ходить к нам домой и заниматься с тобой. Теперь тебе не придется ходить по утрам в школу", то согласился бы ты с таким предложением?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9. Если бы соседский мальчик спросил тебя: "Что тебе больше всего нравится в школе?", то что бы ты ответил 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0T14:05:29Z</dcterms:created>
  <dc:creator>Наталия</dc:creator>
  <dc:description/>
  <dc:language>en-US</dc:language>
  <cp:lastModifiedBy>user</cp:lastModifiedBy>
  <dcterms:modified xsi:type="dcterms:W3CDTF">2014-01-27T19:51:11Z</dcterms:modified>
  <cp:revision>79</cp:revision>
  <dc:subject/>
  <dc:title>Родительское собрание для родителей будущих первоклассников</dc:title>
</cp:coreProperties>
</file>