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C2F-9C02-450D-A55B-29B132D4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124-747C-4D79-B753-2BC24FC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2F5-B37C-4313-BBC7-E3D7A57E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69C-633B-4567-85CC-325D0B72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89D-002E-43B6-9EE9-4A5E5AA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E1F-2A13-42FA-9555-2247EEA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548-D4D5-484F-AB70-97E41FD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C9E-2A4F-4219-9668-4206603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55C-DB72-4908-BB58-76202E0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070-0C08-4483-8028-3CBA8B4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F19-B64C-4C4A-A959-0B2E0BB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D17-258C-4691-A4A2-330A6A9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C7C-1672-4B76-AF9B-753069BB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2010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7199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000"/>
                </a:solidFill>
                <a:latin typeface="Times New Roman"/>
              </a:rPr>
              <a:t>«Моя педагогическая изюмин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Работу выполнила:</a:t>
            </a:r>
            <a:br>
              <a:rPr sz="1800"/>
            </a:b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Бурмистрова Мария Сергеевна</a:t>
            </a:r>
            <a:br>
              <a:rPr sz="1800"/>
            </a:b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воспитатель 2 гр. «Ручее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Собери пирамидку». 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ей развиваю  мелкую моторику рук, зрительное и сенсорное восприят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олжаю закреплять у детей геометрические фигуры, цвета, развиваю внимание, мелкую моторику р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3646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и дальше буду делать дидактические пособия, для развития умственных способностей особенных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рез дидактические игры у детей стала лучше память, внимания, мышления, мелкая моторика рук, сенсорное восприятие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етском – доме интернате, я работаю воспитателем 6 лет. Мне нравится моя работа. Тут у нас находятся детки, которые лишены родительской ласки, поэтому я стараюсь дать им частичку своего тепла. Уделяю им больше внимания, заботы.  Помимо этого я хочу, чтобы ребята развивались, знакомились с окружающим миром, познавали для себя много нового и интересн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работе своей отношусь творчески,   стараюсь деток увлечь играми, пособиями, которые изготавливаю собственными руками.   Задания подбираю соответствующие интеллектуальному развитию детей, их интересам. Все игры доступны и понятны детям. Я стараюсь делать  из яркого и прост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осади бабочку на цветок», «Подбери к горшку цветок» в этих играх продолжаю знакомить детей с цветами, развиваем мелкую мотори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774960" cy="285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378936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Закрой окошки в домике», «Найди нужную геометрическую фигуру». Закрепляю у  детей умения находить нужную геометрическую фигур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268440" cy="435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4267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Веселые прищепки» развиваю у детей мелкую моторику рук, творческое воображение, фантаз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80052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267440" cy="206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еселая рыбалка» закрепляю у детей цвета, ловкость, усидив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200400" cy="356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4267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йди рыбку которая отличается от других», «Собери рыбок по цвету», «Один и много». Развиваю зрительное восприятие, умения искать отличия, продолжаю знакомить с понятием один и мног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25640" y="14842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356000" y="2565360"/>
            <a:ext cx="426744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4267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нравятся пособия сделанные  мною из фетра. Они  очень привлекают детей.  Яркие, мягкие на ощупь, приятно держать в руках. В игре с ними, детям доставляют радость. Ребятки у нас, не так быстро вливаются в процесс занятия, их сначала нужно заинтересовать. Поэтому игры из фетра для них отличный вариан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565360" cy="34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56000" y="4013280"/>
            <a:ext cx="2133360" cy="28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524640" y="3213000"/>
            <a:ext cx="2619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Мария</cp:lastModifiedBy>
  <dcterms:modified xsi:type="dcterms:W3CDTF">2023-02-06T07:07:27Z</dcterms:modified>
  <cp:revision>24</cp:revision>
  <dc:subject/>
  <dc:title>Слайд 1</dc:title>
</cp:coreProperties>
</file>