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F41-B938-47B7-9BD8-9458BEA5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3EF-02CD-46E7-8346-DED97923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FE0-FA28-49C8-9DE0-21C3A6D1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972-F566-41C7-B533-D60D91B3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077-8181-4566-9BFD-5149D53F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954-F343-4BE6-83E8-69D55EA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AA3-BB1F-4E32-BED2-C6CA988A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942-F1E6-486E-B3FC-623CCF99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176-C821-4B9C-ADD3-66F56B9B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7216-09AA-44A9-8F71-69ADFBC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0BD-4625-4899-8E11-3D3C25A6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29D-78CE-4618-927E-CBB5B254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011A-44F6-4165-8B0B-CF00E4EDD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2010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7199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0000"/>
                </a:solidFill>
                <a:latin typeface="Times New Roman"/>
              </a:rPr>
              <a:t>«Моя педагогическая изюминк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20000"/>
                </a:solidFill>
                <a:latin typeface="Times New Roman"/>
              </a:rPr>
              <a:t>Работу выполнила:</a:t>
            </a:r>
            <a:br>
              <a:rPr sz="1800"/>
            </a:br>
            <a:r>
              <a:rPr b="0" lang="en-US" sz="1800" spc="-1" strike="noStrike">
                <a:solidFill>
                  <a:srgbClr val="820000"/>
                </a:solidFill>
                <a:latin typeface="Times New Roman"/>
              </a:rPr>
              <a:t>Бурмистрова Мария Сергеевна</a:t>
            </a:r>
            <a:br>
              <a:rPr sz="1800"/>
            </a:br>
            <a:r>
              <a:rPr b="0" lang="en-US" sz="1800" spc="-1" strike="noStrike">
                <a:solidFill>
                  <a:srgbClr val="820000"/>
                </a:solidFill>
                <a:latin typeface="Times New Roman"/>
              </a:rPr>
              <a:t>воспитатель 2 гр. «Ручее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Собери пирамидку». 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ей развиваю  мелкую моторику рук, зрительное и сенсорное восприят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3403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одолжаю закреплять у детей геометрические фигуры, цвета, развиваю внимание, мелкую моторику ру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364644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Я и дальше буду делать дидактические пособия, для развития умственных способностей особенных дет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ерез дидактические игры у детей стала лучше память, внимания, мышления, мелкая моторика рук, сенсорное восприятие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асибо за внимани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детском – доме интернате, я работаю воспитателем 6 лет. Мне нравится моя работа. Тут у нас находятся детки, которые лишены родительской ласки, поэтому я стараюсь дать им частичку своего тепла. Уделяю им больше внимания, заботы.  Помимо этого я хочу, чтобы ребята развивались, знакомились с окружающим миром, познавали для себя много нового и интересно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работе своей отношусь творчески,   стараюсь деток увлечь играми, пособиями, которые изготавливаю собственными руками.   Задания подбираю соответствующие интеллектуальному развитию детей, их интересам. Все игры доступны и понятны детям. Я стараюсь делать  из яркого и простого материал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Посади бабочку на цветок», «Подбери к горшку цветок» в этих играх продолжаю знакомить детей с цветами, развиваем мелкую моторик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774960" cy="2851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378936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Закрой окошки в домике», «Найди нужную геометрическую фигуру». Закрепляю у  детей умения находить нужную геометрическую фигур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268440" cy="4357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067280" y="2421000"/>
            <a:ext cx="4267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Веселые прищепки» развиваю у детей мелкую моторику рук, творческое воображение, фантази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80052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4267440" cy="2067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51280" y="378936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Веселая рыбалка» закрепляю у детей цвета, ловкость, усидив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19640" y="2708280"/>
            <a:ext cx="3200400" cy="3562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42670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Найди рыбку которая отличается от других», «Собери рыбок по цвету», «Один и много». Развиваю зрительное восприятие, умения искать отличия, продолжаю знакомить с понятием один и много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25640" y="1484280"/>
            <a:ext cx="426708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356000" y="2565360"/>
            <a:ext cx="426744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0920" y="4221000"/>
            <a:ext cx="4267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чень нравятся пособия сделанные  мною из фетра. Они  очень привлекают детей.  Яркие, мягкие на ощупь, приятно держать в руках. В игре с ними, детям доставляют радость. Ребятки у нас, не так быстро вливаются в процесс занятия, их сначала нужно заинтересовать. Поэтому игры из фетра для них отличный вариан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2565360" cy="342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556000" y="4013280"/>
            <a:ext cx="2133360" cy="284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6524640" y="3213000"/>
            <a:ext cx="26193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Мария</cp:lastModifiedBy>
  <dcterms:modified xsi:type="dcterms:W3CDTF">2023-02-06T07:07:27Z</dcterms:modified>
  <cp:revision>24</cp:revision>
  <dc:subject/>
  <dc:title>Слайд 1</dc:title>
</cp:coreProperties>
</file>