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5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7.wmf" ContentType="image/x-wmf"/>
  <Override PartName="/ppt/media/image16.jpeg" ContentType="image/jpeg"/>
  <Override PartName="/ppt/media/image35.wmf" ContentType="image/x-wmf"/>
  <Override PartName="/ppt/media/image15.wmf" ContentType="image/x-wmf"/>
  <Override PartName="/ppt/media/image14.jpeg" ContentType="image/jpeg"/>
  <Override PartName="/ppt/media/image1.png" ContentType="image/png"/>
  <Override PartName="/ppt/media/image29.wmf" ContentType="image/x-wmf"/>
  <Override PartName="/ppt/media/image24.jpeg" ContentType="image/jpeg"/>
  <Override PartName="/ppt/media/image3.jpeg" ContentType="image/jpeg"/>
  <Override PartName="/ppt/media/image31.wmf" ContentType="image/x-wmf"/>
  <Override PartName="/ppt/media/image19.jpeg" ContentType="image/jpeg"/>
  <Override PartName="/ppt/media/image12.jpeg" ContentType="image/jpeg"/>
  <Override PartName="/ppt/media/image33.wmf" ContentType="image/x-wmf"/>
  <Override PartName="/ppt/media/image34.wmf" ContentType="image/x-wmf"/>
  <Override PartName="/ppt/media/image37.png" ContentType="image/png"/>
  <Override PartName="/ppt/media/image40.wmf" ContentType="image/x-wmf"/>
  <Override PartName="/ppt/media/image13.wmf" ContentType="image/x-wmf"/>
  <Override PartName="/ppt/media/image10.jpeg" ContentType="image/jpeg"/>
  <Override PartName="/ppt/media/image39.jpeg" ContentType="image/jpeg"/>
  <Override PartName="/ppt/media/image41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0.jpeg" ContentType="image/jpeg"/>
  <Override PartName="/ppt/media/image7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9D5-1BCD-454B-B0DD-51DD8657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C26-2DA3-40F7-A9F7-26EAE5B3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324-A55F-4E7F-994F-5BBB982D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680-CBBA-405F-9FC0-6E576AFB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6E2B-9384-4B5A-B9D3-F4E7772E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6CF7-5714-4899-B74C-34CD83AE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100B-AA53-48A5-8724-D58F5DE9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4359-F3CD-4467-835A-F93CF742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D7AB-5730-47A9-BF3C-6F3BA30F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B7D8-5EAA-49C2-AD7E-BF98E0CA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62E2-B548-4EC4-BAB7-1C7D459A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CA7-2636-426A-A9D2-B6EA8DFB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63E9-DCE1-4FAA-885B-5399A658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8BA7-CD73-4BCD-8F2C-2EC92B3A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4BF2-E944-4889-B2B8-7C7E82D6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71E5-5516-43D0-A3C9-135C3C5B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30B1-9371-42B5-915B-436724F3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31A-34C3-4C8D-AE2D-C155F051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8CD-96FF-4E7E-8B9F-6F031E66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6D2-87E8-4018-8911-1B72A11C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213-21C4-4277-B9BD-E879EBE4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53C-BD55-457F-8BA1-09A8EAB8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1EF-F18E-4C91-BBC2-CBDD5625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177-524C-4457-B504-E2D0A2AC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EEF8-FCAC-4369-AF4D-0BAE8ED942FC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C8A1-3A01-4351-945B-EDC494A88A7F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6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10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267920"/>
            <a:ext cx="584208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Подготовка к ЕГЭ 2023</a:t>
            </a:r>
            <a:br>
              <a:rPr sz="3000"/>
            </a:b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0" i="1" lang="ru-RU" sz="2700" spc="-1" strike="noStrike">
                <a:solidFill>
                  <a:srgbClr val="c00000"/>
                </a:solidFill>
                <a:latin typeface="Calibri"/>
              </a:rPr>
              <a:t>задание  №3)</a:t>
            </a:r>
            <a:br>
              <a:rPr sz="2700"/>
            </a:br>
            <a:br>
              <a:rPr sz="27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ниметрия</a:t>
            </a:r>
            <a:br>
              <a:rPr sz="4000"/>
            </a:b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числение площадей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68000" y="4365360"/>
            <a:ext cx="4071960" cy="1314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Учитель математики МОАУ «СОШ№35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г. Оренбур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Мавринская Татьяна Павл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i[10]"/>
          <p:cNvPicPr/>
          <p:nvPr/>
        </p:nvPicPr>
        <p:blipFill>
          <a:blip r:embed="rId1"/>
          <a:stretch/>
        </p:blipFill>
        <p:spPr>
          <a:xfrm>
            <a:off x="7153200" y="1104840"/>
            <a:ext cx="140652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1258920" y="260280"/>
            <a:ext cx="63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- 18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Times New Roman - 18"/>
              </a:rPr>
              <a:t>Найдите площадь трапеции, изображённой на рисун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Рисунок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765000"/>
            <a:ext cx="2887560" cy="221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Объект 4"/>
          <p:cNvGraphicFramePr/>
          <p:nvPr/>
        </p:nvGraphicFramePr>
        <p:xfrm>
          <a:off x="3691080" y="961920"/>
          <a:ext cx="484164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1080" y="961920"/>
                    <a:ext cx="4841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Прямая соединительная линия 5"/>
          <p:cNvSpPr/>
          <p:nvPr/>
        </p:nvSpPr>
        <p:spPr>
          <a:xfrm>
            <a:off x="1908000" y="1197000"/>
            <a:ext cx="0" cy="674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3519360" y="1989000"/>
            <a:ext cx="681192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  <a:ea typeface="Times New Roman"/>
              </a:rPr>
              <a:t>Из рисунка видно, что первое основание a=10-4=6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  <a:ea typeface="Times New Roman"/>
              </a:rPr>
              <a:t>второе основание b=4-2=2 и высота h=6-3=3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  <a:ea typeface="Times New Roman"/>
              </a:rPr>
              <a:t>Подставим эти значения в формулу площади, получи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Объект 13"/>
          <p:cNvGraphicFramePr/>
          <p:nvPr/>
        </p:nvGraphicFramePr>
        <p:xfrm>
          <a:off x="1641600" y="2979720"/>
          <a:ext cx="4795560" cy="90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4" name="Объект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1600" y="2979720"/>
                    <a:ext cx="47955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Box 15"/>
          <p:cNvSpPr/>
          <p:nvPr/>
        </p:nvSpPr>
        <p:spPr>
          <a:xfrm>
            <a:off x="2843280" y="4152960"/>
            <a:ext cx="51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. 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5"/>
          <p:cNvSpPr/>
          <p:nvPr/>
        </p:nvSpPr>
        <p:spPr>
          <a:xfrm>
            <a:off x="500040" y="404640"/>
            <a:ext cx="866952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16"/>
                <a:ea typeface="Times New Roman"/>
              </a:rPr>
              <a:t>10.Найдите площадь трапеции, вершины которой имеют координаты (1; 1), (10; 1), (7; 8), (2; 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Рисунок 6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55640" y="1484280"/>
            <a:ext cx="2170080" cy="184140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ая соединительная линия 3"/>
          <p:cNvSpPr/>
          <p:nvPr/>
        </p:nvSpPr>
        <p:spPr>
          <a:xfrm>
            <a:off x="1258920" y="1700280"/>
            <a:ext cx="0" cy="12970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ая соединительная линия 5"/>
          <p:cNvSpPr/>
          <p:nvPr/>
        </p:nvSpPr>
        <p:spPr>
          <a:xfrm>
            <a:off x="1258920" y="170028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ая соединительная линия 8"/>
          <p:cNvSpPr/>
          <p:nvPr/>
        </p:nvSpPr>
        <p:spPr>
          <a:xfrm>
            <a:off x="1116000" y="299736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2455920" y="1484280"/>
            <a:ext cx="67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рисунка видно, что первое основание a=10-1=9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торое основание b=7-2=5 и высота h=8-1=7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ставим эти значения в формулу площади, получи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Объект 16"/>
          <p:cNvGraphicFramePr/>
          <p:nvPr/>
        </p:nvGraphicFramePr>
        <p:xfrm>
          <a:off x="3233880" y="2666880"/>
          <a:ext cx="479556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Объект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33880" y="2666880"/>
                    <a:ext cx="47955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Box 18"/>
          <p:cNvSpPr/>
          <p:nvPr/>
        </p:nvSpPr>
        <p:spPr>
          <a:xfrm>
            <a:off x="4284720" y="393372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. 4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3"/>
          <p:cNvSpPr/>
          <p:nvPr/>
        </p:nvSpPr>
        <p:spPr>
          <a:xfrm>
            <a:off x="611280" y="189000"/>
            <a:ext cx="76341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 - 16"/>
                <a:ea typeface="Times New Roman"/>
              </a:rPr>
              <a:t>11. Найдите площадь четырёхугольника, изображённого на клетчатой бумаге с размером клетки 1 см х 1 см (см. рисунок). Ответ дайте в квадратных сантиметр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1052640"/>
            <a:ext cx="1855800" cy="20160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"/>
          <p:cNvSpPr/>
          <p:nvPr/>
        </p:nvSpPr>
        <p:spPr>
          <a:xfrm>
            <a:off x="3106800" y="1052640"/>
            <a:ext cx="572616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 - 14"/>
                <a:ea typeface="Times New Roman"/>
              </a:rPr>
              <a:t>Решени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 - 14"/>
                <a:ea typeface="Times New Roman"/>
              </a:rPr>
              <a:t>Вычислим площадь фигуры путем вычитания из площади прямоугольника площадей четырех треугольник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ая соединительная линия 4"/>
          <p:cNvSpPr/>
          <p:nvPr/>
        </p:nvSpPr>
        <p:spPr>
          <a:xfrm>
            <a:off x="906480" y="1262160"/>
            <a:ext cx="1361880" cy="1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ая соединительная линия 6"/>
          <p:cNvSpPr/>
          <p:nvPr/>
        </p:nvSpPr>
        <p:spPr>
          <a:xfrm flipV="1">
            <a:off x="2268360" y="1262160"/>
            <a:ext cx="0" cy="1396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ая соединительная линия 9"/>
          <p:cNvSpPr/>
          <p:nvPr/>
        </p:nvSpPr>
        <p:spPr>
          <a:xfrm>
            <a:off x="900000" y="2652840"/>
            <a:ext cx="1368360" cy="6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ая соединительная линия 13"/>
          <p:cNvSpPr/>
          <p:nvPr/>
        </p:nvSpPr>
        <p:spPr>
          <a:xfrm flipV="1">
            <a:off x="882720" y="1261800"/>
            <a:ext cx="0" cy="1390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ая соединительная линия 16"/>
          <p:cNvSpPr/>
          <p:nvPr/>
        </p:nvSpPr>
        <p:spPr>
          <a:xfrm flipH="1" flipV="1">
            <a:off x="882720" y="1274760"/>
            <a:ext cx="412560" cy="425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20"/>
          <p:cNvSpPr/>
          <p:nvPr/>
        </p:nvSpPr>
        <p:spPr>
          <a:xfrm>
            <a:off x="3348000" y="1913040"/>
            <a:ext cx="4537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ощади малых треугольников вычислим по формуле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Объект 21"/>
          <p:cNvGraphicFramePr/>
          <p:nvPr/>
        </p:nvGraphicFramePr>
        <p:xfrm>
          <a:off x="2871720" y="2289240"/>
          <a:ext cx="296064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Объект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71720" y="2289240"/>
                    <a:ext cx="296064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Прямая соединительная линия 26"/>
          <p:cNvSpPr/>
          <p:nvPr/>
        </p:nvSpPr>
        <p:spPr>
          <a:xfrm>
            <a:off x="882720" y="1714680"/>
            <a:ext cx="43488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ая соединительная линия 42"/>
          <p:cNvSpPr/>
          <p:nvPr/>
        </p:nvSpPr>
        <p:spPr>
          <a:xfrm flipV="1">
            <a:off x="1341360" y="1261800"/>
            <a:ext cx="0" cy="438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Объект 45"/>
          <p:cNvGraphicFramePr/>
          <p:nvPr/>
        </p:nvGraphicFramePr>
        <p:xfrm>
          <a:off x="2666880" y="2948040"/>
          <a:ext cx="3810240" cy="70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" name="Объект 4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2948040"/>
                    <a:ext cx="38102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Объект 47"/>
          <p:cNvGraphicFramePr/>
          <p:nvPr/>
        </p:nvGraphicFramePr>
        <p:xfrm>
          <a:off x="2665440" y="3581280"/>
          <a:ext cx="3984480" cy="62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1" name="Объект 4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5440" y="3581280"/>
                    <a:ext cx="39844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Box 10"/>
          <p:cNvSpPr/>
          <p:nvPr/>
        </p:nvSpPr>
        <p:spPr>
          <a:xfrm>
            <a:off x="1716120" y="4268880"/>
            <a:ext cx="65293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 - 14"/>
                <a:ea typeface="Times New Roman"/>
              </a:rPr>
              <a:t>Площади больших треугольников найдем по формул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Объект 49"/>
          <p:cNvGraphicFramePr/>
          <p:nvPr/>
        </p:nvGraphicFramePr>
        <p:xfrm>
          <a:off x="6084720" y="4029120"/>
          <a:ext cx="1974960" cy="77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4" name="Объект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84720" y="4029120"/>
                    <a:ext cx="19749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Объект 50"/>
          <p:cNvGraphicFramePr/>
          <p:nvPr/>
        </p:nvGraphicFramePr>
        <p:xfrm>
          <a:off x="2633760" y="4645080"/>
          <a:ext cx="3238560" cy="777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6" name="Объект 5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33760" y="4645080"/>
                    <a:ext cx="32385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Объект 52"/>
          <p:cNvGraphicFramePr/>
          <p:nvPr/>
        </p:nvGraphicFramePr>
        <p:xfrm>
          <a:off x="2871720" y="5419800"/>
          <a:ext cx="5587920" cy="47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8" name="Объект 5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71720" y="5419800"/>
                    <a:ext cx="55879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Box 54"/>
          <p:cNvSpPr/>
          <p:nvPr/>
        </p:nvSpPr>
        <p:spPr>
          <a:xfrm>
            <a:off x="4572000" y="59785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Ответ: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"/>
          <p:cNvSpPr/>
          <p:nvPr/>
        </p:nvSpPr>
        <p:spPr>
          <a:xfrm>
            <a:off x="1116000" y="476280"/>
            <a:ext cx="712800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6"/>
                <a:ea typeface="Times New Roman"/>
              </a:rPr>
              <a:t>12.Найдите площадь параллелограмма, изображённого на клетчатой бумаге с размером клетки 1 см X 1 см (см. рис.). Ответ дайте в квадратных сантимет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495520" cy="21528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4"/>
          <p:cNvSpPr/>
          <p:nvPr/>
        </p:nvSpPr>
        <p:spPr>
          <a:xfrm>
            <a:off x="3203640" y="1397160"/>
            <a:ext cx="574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1</a:t>
            </a:r>
            <a:r>
              <a:rPr b="0" lang="ru-RU" sz="1800" spc="-1" strike="noStrike">
                <a:solidFill>
                  <a:srgbClr val="ff0000"/>
                </a:solidFill>
                <a:latin typeface="Times New Roman - 14"/>
              </a:rPr>
              <a:t> способ.</a:t>
            </a: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 Здесь можно рассуждать так. Площадь изображенного параллелограм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равна площади эквивалентного прямоугольника, если углы у данного параллелограм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выпрямить. Соответственно, получаем значение площад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3789360" y="3265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Ответ: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Объект 7"/>
          <p:cNvGraphicFramePr/>
          <p:nvPr/>
        </p:nvGraphicFramePr>
        <p:xfrm>
          <a:off x="4329000" y="2781360"/>
          <a:ext cx="2840040" cy="47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Объект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29000" y="2781360"/>
                    <a:ext cx="28400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Box 11"/>
          <p:cNvSpPr/>
          <p:nvPr/>
        </p:nvSpPr>
        <p:spPr>
          <a:xfrm>
            <a:off x="2987640" y="3635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2</a:t>
            </a:r>
            <a:r>
              <a:rPr b="0" lang="ru-RU" sz="1800" spc="-1" strike="noStrike">
                <a:solidFill>
                  <a:srgbClr val="ff0000"/>
                </a:solidFill>
                <a:latin typeface="Times New Roman - 14"/>
              </a:rPr>
              <a:t> способ. </a:t>
            </a: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Площадь параллелограмма равна произведению его основания на высот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S=a*h. Высота параллелограмма - перпендикуляр, проведённый из любой точки противоположной стороны к прямой, содержащей основа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Объект 12"/>
          <p:cNvGraphicFramePr/>
          <p:nvPr/>
        </p:nvGraphicFramePr>
        <p:xfrm>
          <a:off x="4211640" y="5632560"/>
          <a:ext cx="2840040" cy="477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Объект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5632560"/>
                    <a:ext cx="28400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1187280" y="476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6"/>
              </a:rPr>
              <a:t>13. На клетчатой бумаге нарисованы два круга. Площадь внутреннего круга равна 46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6"/>
              </a:rPr>
              <a:t>Найдите площадь заштрихованной фигур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449440" cy="2716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3772080" y="1484280"/>
            <a:ext cx="53719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щадь круга можно найти по формуле S=πr</a:t>
            </a:r>
            <a:r>
              <a:rPr b="0" lang="ru-RU" sz="1800" spc="-1" strike="noStrike" baseline="7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рисунка видно, что радиус большого круга, 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4, больше радиуса малого (не закрашенного) круга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м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, в 4 раза, следовательно, площадь большого круга будет больше площади малого круга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Объект 5"/>
          <p:cNvGraphicFramePr/>
          <p:nvPr/>
        </p:nvGraphicFramePr>
        <p:xfrm>
          <a:off x="4067280" y="3368520"/>
          <a:ext cx="287316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3368520"/>
                    <a:ext cx="2873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Объект 6"/>
          <p:cNvGraphicFramePr/>
          <p:nvPr/>
        </p:nvGraphicFramePr>
        <p:xfrm>
          <a:off x="4119480" y="4498920"/>
          <a:ext cx="2625840" cy="45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9480" y="4498920"/>
                    <a:ext cx="26258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Объект 7"/>
          <p:cNvGraphicFramePr/>
          <p:nvPr/>
        </p:nvGraphicFramePr>
        <p:xfrm>
          <a:off x="4311720" y="5164200"/>
          <a:ext cx="2382840" cy="477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7" name="Объект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11720" y="5164200"/>
                    <a:ext cx="23828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Box 9"/>
          <p:cNvSpPr/>
          <p:nvPr/>
        </p:nvSpPr>
        <p:spPr>
          <a:xfrm>
            <a:off x="4067280" y="5786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Ответ: 69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2"/>
          <p:cNvSpPr/>
          <p:nvPr/>
        </p:nvSpPr>
        <p:spPr>
          <a:xfrm>
            <a:off x="684360" y="189000"/>
            <a:ext cx="617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.Основания трапеции равны 18 и 6, боковая сторона, равная 7, образует с одним из оснований трапеции угол 150°. Найдите площадь трапе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Рисунок 3" descr=""/>
          <p:cNvPicPr/>
          <p:nvPr/>
        </p:nvPicPr>
        <p:blipFill>
          <a:blip r:embed="rId1"/>
          <a:stretch/>
        </p:blipFill>
        <p:spPr>
          <a:xfrm>
            <a:off x="539640" y="1293840"/>
            <a:ext cx="3148200" cy="9828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ая соединительная линия 5"/>
          <p:cNvSpPr/>
          <p:nvPr/>
        </p:nvSpPr>
        <p:spPr>
          <a:xfrm>
            <a:off x="1476360" y="1557360"/>
            <a:ext cx="0" cy="503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Объект 11"/>
          <p:cNvGraphicFramePr/>
          <p:nvPr/>
        </p:nvGraphicFramePr>
        <p:xfrm>
          <a:off x="4635360" y="1038240"/>
          <a:ext cx="210672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Объект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5360" y="1038240"/>
                    <a:ext cx="210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Объект 12"/>
          <p:cNvGraphicFramePr/>
          <p:nvPr/>
        </p:nvGraphicFramePr>
        <p:xfrm>
          <a:off x="2556000" y="2317680"/>
          <a:ext cx="5441760" cy="90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Объект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6000" y="2317680"/>
                    <a:ext cx="5441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Box 13"/>
          <p:cNvSpPr/>
          <p:nvPr/>
        </p:nvSpPr>
        <p:spPr>
          <a:xfrm>
            <a:off x="3132000" y="3692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Times New Roman - 14"/>
              </a:rPr>
              <a:t>42</a:t>
            </a: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27000" y="3333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летчатой бумаге с размером клетки 1x1 изображён треугольни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йдите его площад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764320" y="1413000"/>
            <a:ext cx="1714320" cy="169524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826920" y="2941560"/>
            <a:ext cx="66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орема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Площадь треугольника рав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половине произведения его основания на высоту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дну из сторон треугольника, к которой проведе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высота, называю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сновани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5745240" y="4098960"/>
            <a:ext cx="175248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Объект 7"/>
          <p:cNvGraphicFramePr/>
          <p:nvPr/>
        </p:nvGraphicFramePr>
        <p:xfrm>
          <a:off x="1403280" y="1174680"/>
          <a:ext cx="230508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174680"/>
                    <a:ext cx="23050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Объект 8"/>
          <p:cNvGraphicFramePr/>
          <p:nvPr/>
        </p:nvGraphicFramePr>
        <p:xfrm>
          <a:off x="2494080" y="4510080"/>
          <a:ext cx="271764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4080" y="4510080"/>
                    <a:ext cx="2717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Объект 9"/>
          <p:cNvGraphicFramePr/>
          <p:nvPr/>
        </p:nvGraphicFramePr>
        <p:xfrm>
          <a:off x="3255840" y="5522760"/>
          <a:ext cx="1749600" cy="52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5840" y="5522760"/>
                    <a:ext cx="17496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755640" y="260280"/>
            <a:ext cx="660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летчатой бумаге с размером клетки 1x1 изображён треугольни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1552680" cy="178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Объект 4"/>
          <p:cNvGraphicFramePr/>
          <p:nvPr/>
        </p:nvGraphicFramePr>
        <p:xfrm>
          <a:off x="3708360" y="1217520"/>
          <a:ext cx="230364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1217520"/>
                    <a:ext cx="2303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3" descr=""/>
          <p:cNvPicPr/>
          <p:nvPr/>
        </p:nvPicPr>
        <p:blipFill>
          <a:blip r:embed="rId4"/>
          <a:stretch/>
        </p:blipFill>
        <p:spPr>
          <a:xfrm>
            <a:off x="6443640" y="2212920"/>
            <a:ext cx="1590840" cy="18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Объект 7"/>
          <p:cNvGraphicFramePr/>
          <p:nvPr/>
        </p:nvGraphicFramePr>
        <p:xfrm>
          <a:off x="2987640" y="3068640"/>
          <a:ext cx="271800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3068640"/>
                    <a:ext cx="27180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Box 9"/>
          <p:cNvSpPr/>
          <p:nvPr/>
        </p:nvSpPr>
        <p:spPr>
          <a:xfrm>
            <a:off x="3726000" y="4375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вет: 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684360" y="1890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- 18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imes New Roman - 20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 - 18"/>
              </a:rPr>
              <a:t>На клетчатой бумаге с размером клетки 1x1 изображён треугольни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8"/>
              </a:rPr>
              <a:t>Найдите его площад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68160" y="1117440"/>
            <a:ext cx="1256040" cy="193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Объект 4"/>
          <p:cNvGraphicFramePr/>
          <p:nvPr/>
        </p:nvGraphicFramePr>
        <p:xfrm>
          <a:off x="3708360" y="1217520"/>
          <a:ext cx="230364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1217520"/>
                    <a:ext cx="2303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Прямая соединительная линия 6"/>
          <p:cNvSpPr/>
          <p:nvPr/>
        </p:nvSpPr>
        <p:spPr>
          <a:xfrm>
            <a:off x="1403280" y="1413000"/>
            <a:ext cx="0" cy="1368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Объект 8"/>
          <p:cNvGraphicFramePr/>
          <p:nvPr/>
        </p:nvGraphicFramePr>
        <p:xfrm>
          <a:off x="3213000" y="2166840"/>
          <a:ext cx="2718000" cy="90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Объект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13000" y="2166840"/>
                    <a:ext cx="27180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Box 10"/>
          <p:cNvSpPr/>
          <p:nvPr/>
        </p:nvSpPr>
        <p:spPr>
          <a:xfrm>
            <a:off x="4859280" y="3244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вет: 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900000" y="2602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- 18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Times New Roman - 18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 - 20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 - 18"/>
              </a:rPr>
              <a:t>На клетчатой бумаге с размером клетки 1x1 изображён треугольни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8"/>
              </a:rPr>
              <a:t>Найдите его площад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1962360" cy="14572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ая соединительная линия 4"/>
          <p:cNvSpPr/>
          <p:nvPr/>
        </p:nvSpPr>
        <p:spPr>
          <a:xfrm>
            <a:off x="1403280" y="1700280"/>
            <a:ext cx="0" cy="9367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Объект 7"/>
          <p:cNvGraphicFramePr/>
          <p:nvPr/>
        </p:nvGraphicFramePr>
        <p:xfrm>
          <a:off x="3564000" y="1628640"/>
          <a:ext cx="230328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Объект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1628640"/>
                    <a:ext cx="23032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Объект 8"/>
          <p:cNvGraphicFramePr/>
          <p:nvPr/>
        </p:nvGraphicFramePr>
        <p:xfrm>
          <a:off x="3564000" y="3068640"/>
          <a:ext cx="2717640" cy="90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Объект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3068640"/>
                    <a:ext cx="2717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Box 10"/>
          <p:cNvSpPr/>
          <p:nvPr/>
        </p:nvSpPr>
        <p:spPr>
          <a:xfrm>
            <a:off x="3562200" y="4653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971640" y="260280"/>
            <a:ext cx="61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клетчатой бумаге с размером клетки 1x1 изображён ромб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1542960" cy="196236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ая соединительная линия 4"/>
          <p:cNvSpPr/>
          <p:nvPr/>
        </p:nvSpPr>
        <p:spPr>
          <a:xfrm>
            <a:off x="1547640" y="1557360"/>
            <a:ext cx="0" cy="13669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ая соединительная линия 7"/>
          <p:cNvSpPr/>
          <p:nvPr/>
        </p:nvSpPr>
        <p:spPr>
          <a:xfrm>
            <a:off x="1042920" y="2276640"/>
            <a:ext cx="93672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3125880" y="1284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орема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лощадь ромба равна половине произведения его диагонале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Объект 12"/>
          <p:cNvGraphicFramePr/>
          <p:nvPr/>
        </p:nvGraphicFramePr>
        <p:xfrm>
          <a:off x="2989440" y="2062080"/>
          <a:ext cx="359712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Объект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9440" y="2062080"/>
                    <a:ext cx="35971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13"/>
          <p:cNvGraphicFramePr/>
          <p:nvPr/>
        </p:nvGraphicFramePr>
        <p:xfrm>
          <a:off x="3081240" y="3218040"/>
          <a:ext cx="3413160" cy="90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Объект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81240" y="3218040"/>
                    <a:ext cx="341316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Box 16"/>
          <p:cNvSpPr/>
          <p:nvPr/>
        </p:nvSpPr>
        <p:spPr>
          <a:xfrm>
            <a:off x="4075200" y="4950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1187280" y="333360"/>
            <a:ext cx="624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клетчатой бумаге с размером клетки 1x1 изображён ромб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157400" y="1484280"/>
            <a:ext cx="291456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Объект 4"/>
          <p:cNvGraphicFramePr/>
          <p:nvPr/>
        </p:nvGraphicFramePr>
        <p:xfrm>
          <a:off x="4788000" y="1236600"/>
          <a:ext cx="359712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236600"/>
                    <a:ext cx="35971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Прямая соединительная линия 5"/>
          <p:cNvSpPr/>
          <p:nvPr/>
        </p:nvSpPr>
        <p:spPr>
          <a:xfrm flipH="1">
            <a:off x="1403280" y="2146320"/>
            <a:ext cx="2448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ая соединительная линия 8"/>
          <p:cNvSpPr/>
          <p:nvPr/>
        </p:nvSpPr>
        <p:spPr>
          <a:xfrm>
            <a:off x="2627280" y="1773360"/>
            <a:ext cx="0" cy="792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Объект 11"/>
          <p:cNvGraphicFramePr/>
          <p:nvPr/>
        </p:nvGraphicFramePr>
        <p:xfrm>
          <a:off x="2967120" y="3218040"/>
          <a:ext cx="3643200" cy="90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Объект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67120" y="3218040"/>
                    <a:ext cx="364320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Box 13"/>
          <p:cNvSpPr/>
          <p:nvPr/>
        </p:nvSpPr>
        <p:spPr>
          <a:xfrm>
            <a:off x="3635280" y="4586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2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1116000" y="189000"/>
            <a:ext cx="64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клетчатой бумаге с размером клетки 1x1 изображёна трапец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ите её площад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2504880" cy="13525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3435480" y="12272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Теорем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щадь трапеции равна произведению полусуммы её оснований на высот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2286000" y="3246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ыс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3102120" y="3246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ерпендикуляр, проведённый из любой точки одного из оснований к прямой, содержащей другое основа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Объект 10"/>
          <p:cNvGraphicFramePr/>
          <p:nvPr/>
        </p:nvGraphicFramePr>
        <p:xfrm>
          <a:off x="3159000" y="1954080"/>
          <a:ext cx="484200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Объект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59000" y="1954080"/>
                    <a:ext cx="48420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Прямая соединительная линия 11"/>
          <p:cNvSpPr/>
          <p:nvPr/>
        </p:nvSpPr>
        <p:spPr>
          <a:xfrm>
            <a:off x="1835280" y="1484280"/>
            <a:ext cx="0" cy="792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Объект 15"/>
          <p:cNvGraphicFramePr/>
          <p:nvPr/>
        </p:nvGraphicFramePr>
        <p:xfrm>
          <a:off x="2749680" y="4530600"/>
          <a:ext cx="4933800" cy="90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Объект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4530600"/>
                    <a:ext cx="49338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Box 17"/>
          <p:cNvSpPr/>
          <p:nvPr/>
        </p:nvSpPr>
        <p:spPr>
          <a:xfrm>
            <a:off x="3174840" y="5630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16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116000" y="189000"/>
            <a:ext cx="64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клетчатой бумаге с размером клетки 1x1 изображёна трапец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ите её площад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1857600" cy="14479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ая соединительная линия 3"/>
          <p:cNvSpPr/>
          <p:nvPr/>
        </p:nvSpPr>
        <p:spPr>
          <a:xfrm>
            <a:off x="1547640" y="1557360"/>
            <a:ext cx="0" cy="863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Объект 5"/>
          <p:cNvGraphicFramePr/>
          <p:nvPr/>
        </p:nvGraphicFramePr>
        <p:xfrm>
          <a:off x="3378240" y="1341360"/>
          <a:ext cx="484200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78240" y="1341360"/>
                    <a:ext cx="48420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Объект 6"/>
          <p:cNvGraphicFramePr/>
          <p:nvPr/>
        </p:nvGraphicFramePr>
        <p:xfrm>
          <a:off x="2941560" y="2781360"/>
          <a:ext cx="5025960" cy="90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41560" y="2781360"/>
                    <a:ext cx="50259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Box 8"/>
          <p:cNvSpPr/>
          <p:nvPr/>
        </p:nvSpPr>
        <p:spPr>
          <a:xfrm>
            <a:off x="3646440" y="422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Николай Мавринский</cp:lastModifiedBy>
  <dcterms:modified xsi:type="dcterms:W3CDTF">2022-08-12T15:21:42Z</dcterms:modified>
  <cp:revision>104</cp:revision>
  <dc:subject/>
  <dc:title>задания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130000000000010243100207f6000400038000</vt:lpwstr>
  </property>
</Properties>
</file>