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wmf" ContentType="image/x-wmf"/>
  <Override PartName="/ppt/media/image25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7.wmf" ContentType="image/x-wmf"/>
  <Override PartName="/ppt/media/image16.jpeg" ContentType="image/jpeg"/>
  <Override PartName="/ppt/media/image35.wmf" ContentType="image/x-wmf"/>
  <Override PartName="/ppt/media/image15.wmf" ContentType="image/x-wmf"/>
  <Override PartName="/ppt/media/image14.jpeg" ContentType="image/jpeg"/>
  <Override PartName="/ppt/media/image1.png" ContentType="image/png"/>
  <Override PartName="/ppt/media/image29.wmf" ContentType="image/x-wmf"/>
  <Override PartName="/ppt/media/image24.jpeg" ContentType="image/jpeg"/>
  <Override PartName="/ppt/media/image3.jpeg" ContentType="image/jpeg"/>
  <Override PartName="/ppt/media/image31.wmf" ContentType="image/x-wmf"/>
  <Override PartName="/ppt/media/image19.jpeg" ContentType="image/jpeg"/>
  <Override PartName="/ppt/media/image12.jpeg" ContentType="image/jpeg"/>
  <Override PartName="/ppt/media/image33.wmf" ContentType="image/x-wmf"/>
  <Override PartName="/ppt/media/image34.wmf" ContentType="image/x-wmf"/>
  <Override PartName="/ppt/media/image37.png" ContentType="image/png"/>
  <Override PartName="/ppt/media/image40.wmf" ContentType="image/x-wmf"/>
  <Override PartName="/ppt/media/image13.wmf" ContentType="image/x-wmf"/>
  <Override PartName="/ppt/media/image10.jpeg" ContentType="image/jpeg"/>
  <Override PartName="/ppt/media/image39.jpeg" ContentType="image/jpeg"/>
  <Override PartName="/ppt/media/image41.wmf" ContentType="image/x-wmf"/>
  <Override PartName="/ppt/media/image42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0.jpeg" ContentType="image/jpeg"/>
  <Override PartName="/ppt/media/image7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250-7301-4917-BD3B-BCB90E96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CD3-BD4B-42DC-83FF-3C1F857A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8FD-5BB5-4CED-8FE3-A7DBF2A0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F274-3FB6-42C8-8751-88074E7D5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6F87-294C-4E99-B024-FFF42512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0486-C2FE-4790-9F86-512D0A84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A235-1390-4D08-B212-2DD59145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5206-A530-47B0-9BD3-98A1D400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74D1-8A5F-4B72-BE38-869C55AB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66A5-C4A8-4462-8003-E4994B98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66EE-A732-4176-849A-6A681EA8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3B9-A28B-43B1-8394-F986303E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5F86-C053-4D07-A342-D8719FAC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49AD-E7DC-404B-BB2D-1EE10789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598B-BDD7-48ED-A9C7-28548B68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F03C-C656-4A81-94FD-27C92817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7BC1-3538-4A21-B674-76E0E044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09A-FFF6-4E44-A0FD-A4690D93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5A61-28CC-49F0-B233-14D07D09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F97-0750-4A39-9FB1-6EBCFB68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199-8E4A-4E84-AC0F-E32717C4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844-6FDF-4697-AF27-2BF27741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E813-193E-4508-AF86-A75A71E9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7B9-5FC0-490A-8F80-DFDA998E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6028-5430-4193-9D85-6B4AB87A775B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8A0D-39C0-4909-9705-2A5CB3F814FB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6.wm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10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1267920"/>
            <a:ext cx="584208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libri"/>
              </a:rPr>
              <a:t>Подготовка к ЕГЭ 2023</a:t>
            </a:r>
            <a:br>
              <a:rPr sz="3000"/>
            </a:br>
            <a:r>
              <a:rPr b="0" lang="ru-RU" sz="2700" spc="-1" strike="noStrike">
                <a:solidFill>
                  <a:srgbClr val="c00000"/>
                </a:solidFill>
                <a:latin typeface="Calibri"/>
              </a:rPr>
              <a:t>(</a:t>
            </a:r>
            <a:r>
              <a:rPr b="0" i="1" lang="ru-RU" sz="2700" spc="-1" strike="noStrike">
                <a:solidFill>
                  <a:srgbClr val="c00000"/>
                </a:solidFill>
                <a:latin typeface="Calibri"/>
              </a:rPr>
              <a:t>задание  №3)</a:t>
            </a:r>
            <a:br>
              <a:rPr sz="2700"/>
            </a:br>
            <a:br>
              <a:rPr sz="27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аниметрия</a:t>
            </a:r>
            <a:br>
              <a:rPr sz="4000"/>
            </a:b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числение площадей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68000" y="4365360"/>
            <a:ext cx="4071960" cy="13143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Учитель математики МОАУ «СОШ№35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г. Оренбур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Мавринская Татьяна Павло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i[10]"/>
          <p:cNvPicPr/>
          <p:nvPr/>
        </p:nvPicPr>
        <p:blipFill>
          <a:blip r:embed="rId1"/>
          <a:stretch/>
        </p:blipFill>
        <p:spPr>
          <a:xfrm>
            <a:off x="7153200" y="1104840"/>
            <a:ext cx="140652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2"/>
          <p:cNvSpPr/>
          <p:nvPr/>
        </p:nvSpPr>
        <p:spPr>
          <a:xfrm>
            <a:off x="1258920" y="260280"/>
            <a:ext cx="63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- 18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Times New Roman - 18"/>
              </a:rPr>
              <a:t>Найдите площадь трапеции, изображённой на рисунк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Рисунок 2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765000"/>
            <a:ext cx="2887560" cy="221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Объект 4"/>
          <p:cNvGraphicFramePr/>
          <p:nvPr/>
        </p:nvGraphicFramePr>
        <p:xfrm>
          <a:off x="3691080" y="961920"/>
          <a:ext cx="4841640" cy="9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91080" y="961920"/>
                    <a:ext cx="48416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Прямая соединительная линия 5"/>
          <p:cNvSpPr/>
          <p:nvPr/>
        </p:nvSpPr>
        <p:spPr>
          <a:xfrm>
            <a:off x="1908000" y="1197000"/>
            <a:ext cx="0" cy="674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3519360" y="1989000"/>
            <a:ext cx="681192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  <a:ea typeface="Times New Roman"/>
              </a:rPr>
              <a:t>Из рисунка видно, что первое основание a=10-4=6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  <a:ea typeface="Times New Roman"/>
              </a:rPr>
              <a:t>второе основание b=4-2=2 и высота h=6-3=3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  <a:ea typeface="Times New Roman"/>
              </a:rPr>
              <a:t>Подставим эти значения в формулу площади, получи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Объект 13"/>
          <p:cNvGraphicFramePr/>
          <p:nvPr/>
        </p:nvGraphicFramePr>
        <p:xfrm>
          <a:off x="1641600" y="2979720"/>
          <a:ext cx="4795560" cy="90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4" name="Объект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1600" y="2979720"/>
                    <a:ext cx="47955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Box 15"/>
          <p:cNvSpPr/>
          <p:nvPr/>
        </p:nvSpPr>
        <p:spPr>
          <a:xfrm>
            <a:off x="2843280" y="4152960"/>
            <a:ext cx="51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. 1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5"/>
          <p:cNvSpPr/>
          <p:nvPr/>
        </p:nvSpPr>
        <p:spPr>
          <a:xfrm>
            <a:off x="500040" y="404640"/>
            <a:ext cx="8669520" cy="8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- 16"/>
                <a:ea typeface="Times New Roman"/>
              </a:rPr>
              <a:t>10.Найдите площадь трапеции, вершины которой имеют координаты (1; 1), (10; 1), (7; 8), (2; 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Рисунок 6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55640" y="1484280"/>
            <a:ext cx="2170080" cy="184140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ая соединительная линия 3"/>
          <p:cNvSpPr/>
          <p:nvPr/>
        </p:nvSpPr>
        <p:spPr>
          <a:xfrm>
            <a:off x="1258920" y="1700280"/>
            <a:ext cx="0" cy="12970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ая соединительная линия 5"/>
          <p:cNvSpPr/>
          <p:nvPr/>
        </p:nvSpPr>
        <p:spPr>
          <a:xfrm>
            <a:off x="1258920" y="1700280"/>
            <a:ext cx="93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ая соединительная линия 8"/>
          <p:cNvSpPr/>
          <p:nvPr/>
        </p:nvSpPr>
        <p:spPr>
          <a:xfrm>
            <a:off x="1116000" y="299736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2455920" y="1484280"/>
            <a:ext cx="67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рисунка видно, что первое основание a=10-1=9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торое основание b=7-2=5 и высота h=8-1=7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ставим эти значения в формулу площади, получи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Объект 16"/>
          <p:cNvGraphicFramePr/>
          <p:nvPr/>
        </p:nvGraphicFramePr>
        <p:xfrm>
          <a:off x="3233880" y="2666880"/>
          <a:ext cx="4795560" cy="9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Объект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33880" y="2666880"/>
                    <a:ext cx="47955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Box 18"/>
          <p:cNvSpPr/>
          <p:nvPr/>
        </p:nvSpPr>
        <p:spPr>
          <a:xfrm>
            <a:off x="4284720" y="393372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. 4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3"/>
          <p:cNvSpPr/>
          <p:nvPr/>
        </p:nvSpPr>
        <p:spPr>
          <a:xfrm>
            <a:off x="611280" y="189000"/>
            <a:ext cx="76341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 - 16"/>
                <a:ea typeface="Times New Roman"/>
              </a:rPr>
              <a:t>11. Найдите площадь четырёхугольника, изображённого на клетчатой бумаге с размером клетки 1 см х 1 см (см. рисунок). Ответ дайте в квадратных сантиметра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Рисунок 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1052640"/>
            <a:ext cx="1855800" cy="20160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"/>
          <p:cNvSpPr/>
          <p:nvPr/>
        </p:nvSpPr>
        <p:spPr>
          <a:xfrm>
            <a:off x="3106800" y="1052640"/>
            <a:ext cx="572616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 - 14"/>
                <a:ea typeface="Times New Roman"/>
              </a:rPr>
              <a:t>Решени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 - 14"/>
                <a:ea typeface="Times New Roman"/>
              </a:rPr>
              <a:t>Вычислим площадь фигуры путем вычитания из площади прямоугольника площадей четырех треугольник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ая соединительная линия 4"/>
          <p:cNvSpPr/>
          <p:nvPr/>
        </p:nvSpPr>
        <p:spPr>
          <a:xfrm>
            <a:off x="906480" y="1262160"/>
            <a:ext cx="1361880" cy="12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ая соединительная линия 6"/>
          <p:cNvSpPr/>
          <p:nvPr/>
        </p:nvSpPr>
        <p:spPr>
          <a:xfrm flipV="1">
            <a:off x="2268360" y="1262160"/>
            <a:ext cx="0" cy="1396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рямая соединительная линия 9"/>
          <p:cNvSpPr/>
          <p:nvPr/>
        </p:nvSpPr>
        <p:spPr>
          <a:xfrm>
            <a:off x="900000" y="2652840"/>
            <a:ext cx="1368360" cy="6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ая соединительная линия 13"/>
          <p:cNvSpPr/>
          <p:nvPr/>
        </p:nvSpPr>
        <p:spPr>
          <a:xfrm flipV="1">
            <a:off x="882720" y="1261800"/>
            <a:ext cx="0" cy="1390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рямая соединительная линия 16"/>
          <p:cNvSpPr/>
          <p:nvPr/>
        </p:nvSpPr>
        <p:spPr>
          <a:xfrm flipH="1" flipV="1">
            <a:off x="882720" y="1274760"/>
            <a:ext cx="412560" cy="425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20"/>
          <p:cNvSpPr/>
          <p:nvPr/>
        </p:nvSpPr>
        <p:spPr>
          <a:xfrm>
            <a:off x="3348000" y="1913040"/>
            <a:ext cx="45370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ощади малых треугольников вычислим по формуле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Объект 21"/>
          <p:cNvGraphicFramePr/>
          <p:nvPr/>
        </p:nvGraphicFramePr>
        <p:xfrm>
          <a:off x="2871720" y="2289240"/>
          <a:ext cx="296064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Объект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71720" y="2289240"/>
                    <a:ext cx="296064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Прямая соединительная линия 26"/>
          <p:cNvSpPr/>
          <p:nvPr/>
        </p:nvSpPr>
        <p:spPr>
          <a:xfrm>
            <a:off x="882720" y="1714680"/>
            <a:ext cx="43488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Прямая соединительная линия 42"/>
          <p:cNvSpPr/>
          <p:nvPr/>
        </p:nvSpPr>
        <p:spPr>
          <a:xfrm flipV="1">
            <a:off x="1341360" y="1261800"/>
            <a:ext cx="0" cy="4381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Объект 45"/>
          <p:cNvGraphicFramePr/>
          <p:nvPr/>
        </p:nvGraphicFramePr>
        <p:xfrm>
          <a:off x="2666880" y="2948040"/>
          <a:ext cx="3810240" cy="70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9" name="Объект 4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2948040"/>
                    <a:ext cx="38102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Объект 47"/>
          <p:cNvGraphicFramePr/>
          <p:nvPr/>
        </p:nvGraphicFramePr>
        <p:xfrm>
          <a:off x="2665440" y="3581280"/>
          <a:ext cx="3984480" cy="625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1" name="Объект 4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5440" y="3581280"/>
                    <a:ext cx="398448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Box 10"/>
          <p:cNvSpPr/>
          <p:nvPr/>
        </p:nvSpPr>
        <p:spPr>
          <a:xfrm>
            <a:off x="1716120" y="4268880"/>
            <a:ext cx="65293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 - 14"/>
                <a:ea typeface="Times New Roman"/>
              </a:rPr>
              <a:t>Площади больших треугольников найдем по формул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Объект 49"/>
          <p:cNvGraphicFramePr/>
          <p:nvPr/>
        </p:nvGraphicFramePr>
        <p:xfrm>
          <a:off x="6084720" y="4029120"/>
          <a:ext cx="1974960" cy="777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4" name="Объект 4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84720" y="4029120"/>
                    <a:ext cx="19749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Объект 50"/>
          <p:cNvGraphicFramePr/>
          <p:nvPr/>
        </p:nvGraphicFramePr>
        <p:xfrm>
          <a:off x="2633760" y="4645080"/>
          <a:ext cx="3238560" cy="777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6" name="Объект 5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33760" y="4645080"/>
                    <a:ext cx="32385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Объект 52"/>
          <p:cNvGraphicFramePr/>
          <p:nvPr/>
        </p:nvGraphicFramePr>
        <p:xfrm>
          <a:off x="2871720" y="5419800"/>
          <a:ext cx="5587920" cy="477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8" name="Объект 5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71720" y="5419800"/>
                    <a:ext cx="55879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Box 54"/>
          <p:cNvSpPr/>
          <p:nvPr/>
        </p:nvSpPr>
        <p:spPr>
          <a:xfrm>
            <a:off x="4572000" y="59785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Ответ: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2"/>
          <p:cNvSpPr/>
          <p:nvPr/>
        </p:nvSpPr>
        <p:spPr>
          <a:xfrm>
            <a:off x="1116000" y="476280"/>
            <a:ext cx="712800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6"/>
                <a:ea typeface="Times New Roman"/>
              </a:rPr>
              <a:t>12.Найдите площадь параллелограмма, изображённого на клетчатой бумаге с размером клетки 1 см X 1 см (см. рис.). Ответ дайте в квадратных сантимет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2495520" cy="21528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4"/>
          <p:cNvSpPr/>
          <p:nvPr/>
        </p:nvSpPr>
        <p:spPr>
          <a:xfrm>
            <a:off x="3203640" y="1397160"/>
            <a:ext cx="574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1</a:t>
            </a:r>
            <a:r>
              <a:rPr b="0" lang="ru-RU" sz="1800" spc="-1" strike="noStrike">
                <a:solidFill>
                  <a:srgbClr val="ff0000"/>
                </a:solidFill>
                <a:latin typeface="Times New Roman - 14"/>
              </a:rPr>
              <a:t> способ.</a:t>
            </a: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 Здесь можно рассуждать так. Площадь изображенного параллелограмм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равна площади эквивалентного прямоугольника, если углы у данного параллелограмм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выпрямить. Соответственно, получаем значение площад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3789360" y="32655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Ответ: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Объект 7"/>
          <p:cNvGraphicFramePr/>
          <p:nvPr/>
        </p:nvGraphicFramePr>
        <p:xfrm>
          <a:off x="4329000" y="2781360"/>
          <a:ext cx="2840040" cy="47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Объект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29000" y="2781360"/>
                    <a:ext cx="28400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Box 11"/>
          <p:cNvSpPr/>
          <p:nvPr/>
        </p:nvSpPr>
        <p:spPr>
          <a:xfrm>
            <a:off x="2987640" y="3635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2</a:t>
            </a:r>
            <a:r>
              <a:rPr b="0" lang="ru-RU" sz="1800" spc="-1" strike="noStrike">
                <a:solidFill>
                  <a:srgbClr val="ff0000"/>
                </a:solidFill>
                <a:latin typeface="Times New Roman - 14"/>
              </a:rPr>
              <a:t> способ. </a:t>
            </a: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Площадь параллелограмма равна произведению его основания на высот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S=a*h. Высота параллелограмма - перпендикуляр, проведённый из любой точки противоположной стороны к прямой, содержащей основа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Объект 12"/>
          <p:cNvGraphicFramePr/>
          <p:nvPr/>
        </p:nvGraphicFramePr>
        <p:xfrm>
          <a:off x="4211640" y="5632560"/>
          <a:ext cx="2840040" cy="477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Объект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11640" y="5632560"/>
                    <a:ext cx="28400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2"/>
          <p:cNvSpPr/>
          <p:nvPr/>
        </p:nvSpPr>
        <p:spPr>
          <a:xfrm>
            <a:off x="1187280" y="476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6"/>
              </a:rPr>
              <a:t>13. На клетчатой бумаге нарисованы два круга. Площадь внутреннего круга равна 46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6"/>
              </a:rPr>
              <a:t>Найдите площадь заштрихованной фигур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449440" cy="2716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4"/>
          <p:cNvSpPr/>
          <p:nvPr/>
        </p:nvSpPr>
        <p:spPr>
          <a:xfrm>
            <a:off x="3772080" y="1484280"/>
            <a:ext cx="537192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щадь круга можно найти по формуле S=πr</a:t>
            </a:r>
            <a:r>
              <a:rPr b="0" lang="ru-RU" sz="1800" spc="-1" strike="noStrike" baseline="7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рисунка видно, что радиус большого круга, 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4, больше радиуса малого (не закрашенного) круга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м=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, в 4 раза, следовательно, площадь большого круга будет больше площади малого круга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Объект 5"/>
          <p:cNvGraphicFramePr/>
          <p:nvPr/>
        </p:nvGraphicFramePr>
        <p:xfrm>
          <a:off x="4067280" y="3368520"/>
          <a:ext cx="2873160" cy="9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Объект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3368520"/>
                    <a:ext cx="2873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Объект 6"/>
          <p:cNvGraphicFramePr/>
          <p:nvPr/>
        </p:nvGraphicFramePr>
        <p:xfrm>
          <a:off x="4119480" y="4498920"/>
          <a:ext cx="2625840" cy="452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5" name="Объект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19480" y="4498920"/>
                    <a:ext cx="26258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Объект 7"/>
          <p:cNvGraphicFramePr/>
          <p:nvPr/>
        </p:nvGraphicFramePr>
        <p:xfrm>
          <a:off x="4311720" y="5164200"/>
          <a:ext cx="2382840" cy="477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7" name="Объект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11720" y="5164200"/>
                    <a:ext cx="23828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Box 9"/>
          <p:cNvSpPr/>
          <p:nvPr/>
        </p:nvSpPr>
        <p:spPr>
          <a:xfrm>
            <a:off x="4067280" y="5786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Ответ: 69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2"/>
          <p:cNvSpPr/>
          <p:nvPr/>
        </p:nvSpPr>
        <p:spPr>
          <a:xfrm>
            <a:off x="684360" y="189000"/>
            <a:ext cx="617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4.Основания трапеции равны 18 и 6, боковая сторона, равная 7, образует с одним из оснований трапеции угол 150°. Найдите площадь трапе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Рисунок 3" descr=""/>
          <p:cNvPicPr/>
          <p:nvPr/>
        </p:nvPicPr>
        <p:blipFill>
          <a:blip r:embed="rId1"/>
          <a:stretch/>
        </p:blipFill>
        <p:spPr>
          <a:xfrm>
            <a:off x="539640" y="1293840"/>
            <a:ext cx="3148200" cy="98280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ая соединительная линия 5"/>
          <p:cNvSpPr/>
          <p:nvPr/>
        </p:nvSpPr>
        <p:spPr>
          <a:xfrm>
            <a:off x="1476360" y="1557360"/>
            <a:ext cx="0" cy="503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Объект 11"/>
          <p:cNvGraphicFramePr/>
          <p:nvPr/>
        </p:nvGraphicFramePr>
        <p:xfrm>
          <a:off x="4635360" y="1038240"/>
          <a:ext cx="210672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Объект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35360" y="1038240"/>
                    <a:ext cx="2106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Объект 12"/>
          <p:cNvGraphicFramePr/>
          <p:nvPr/>
        </p:nvGraphicFramePr>
        <p:xfrm>
          <a:off x="2556000" y="2317680"/>
          <a:ext cx="5441760" cy="90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Объект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56000" y="2317680"/>
                    <a:ext cx="54417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Box 13"/>
          <p:cNvSpPr/>
          <p:nvPr/>
        </p:nvSpPr>
        <p:spPr>
          <a:xfrm>
            <a:off x="3132000" y="3692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Ответ: </a:t>
            </a:r>
            <a:r>
              <a:rPr b="0" lang="en-US" sz="1800" spc="-1" strike="noStrike">
                <a:solidFill>
                  <a:srgbClr val="000000"/>
                </a:solidFill>
                <a:latin typeface="Times New Roman - 14"/>
              </a:rPr>
              <a:t>42</a:t>
            </a:r>
            <a:r>
              <a:rPr b="0" lang="ru-RU" sz="1800" spc="-1" strike="noStrike">
                <a:solidFill>
                  <a:srgbClr val="000000"/>
                </a:solidFill>
                <a:latin typeface="Times New Roman - 14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2"/>
          <p:cNvSpPr/>
          <p:nvPr/>
        </p:nvSpPr>
        <p:spPr>
          <a:xfrm>
            <a:off x="27000" y="33336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летчатой бумаге с размером клетки 1x1 изображён треугольни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йдите его площад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5764320" y="1413000"/>
            <a:ext cx="1714320" cy="169524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826920" y="2941560"/>
            <a:ext cx="66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еорема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5e"/>
                </a:solidFill>
                <a:latin typeface="Times New Roman"/>
              </a:rPr>
              <a:t>Площадь треугольника рав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5e"/>
                </a:solidFill>
                <a:latin typeface="Times New Roman"/>
              </a:rPr>
              <a:t>половине произведения его основания на высоту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00005e"/>
                </a:solidFill>
                <a:latin typeface="Times New Roman"/>
              </a:rPr>
              <a:t>дну из сторон треугольника, к которой проведе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5e"/>
                </a:solidFill>
                <a:latin typeface="Times New Roman"/>
              </a:rPr>
              <a:t>высота, называю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снование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5745240" y="4098960"/>
            <a:ext cx="1752480" cy="173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Объект 7"/>
          <p:cNvGraphicFramePr/>
          <p:nvPr/>
        </p:nvGraphicFramePr>
        <p:xfrm>
          <a:off x="1403280" y="1174680"/>
          <a:ext cx="2305080" cy="9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1174680"/>
                    <a:ext cx="23050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Объект 8"/>
          <p:cNvGraphicFramePr/>
          <p:nvPr/>
        </p:nvGraphicFramePr>
        <p:xfrm>
          <a:off x="2494080" y="4510080"/>
          <a:ext cx="271764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94080" y="4510080"/>
                    <a:ext cx="27176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Объект 9"/>
          <p:cNvGraphicFramePr/>
          <p:nvPr/>
        </p:nvGraphicFramePr>
        <p:xfrm>
          <a:off x="3255840" y="5522760"/>
          <a:ext cx="1749600" cy="528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55840" y="5522760"/>
                    <a:ext cx="174960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755640" y="260280"/>
            <a:ext cx="660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летчатой бумаге с размером клетки 1x1 изображён треугольни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йдите его площад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1552680" cy="178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Объект 4"/>
          <p:cNvGraphicFramePr/>
          <p:nvPr/>
        </p:nvGraphicFramePr>
        <p:xfrm>
          <a:off x="3708360" y="1217520"/>
          <a:ext cx="2303640" cy="9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1217520"/>
                    <a:ext cx="23036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Picture 3" descr=""/>
          <p:cNvPicPr/>
          <p:nvPr/>
        </p:nvPicPr>
        <p:blipFill>
          <a:blip r:embed="rId4"/>
          <a:stretch/>
        </p:blipFill>
        <p:spPr>
          <a:xfrm>
            <a:off x="6443640" y="2212920"/>
            <a:ext cx="1590840" cy="181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Объект 7"/>
          <p:cNvGraphicFramePr/>
          <p:nvPr/>
        </p:nvGraphicFramePr>
        <p:xfrm>
          <a:off x="2987640" y="3068640"/>
          <a:ext cx="271800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3068640"/>
                    <a:ext cx="271800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Box 9"/>
          <p:cNvSpPr/>
          <p:nvPr/>
        </p:nvSpPr>
        <p:spPr>
          <a:xfrm>
            <a:off x="3726000" y="4375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вет: 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2"/>
          <p:cNvSpPr/>
          <p:nvPr/>
        </p:nvSpPr>
        <p:spPr>
          <a:xfrm>
            <a:off x="684360" y="1890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- 18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Times New Roman - 20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 - 18"/>
              </a:rPr>
              <a:t>На клетчатой бумаге с размером клетки 1x1 изображён треугольни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8"/>
              </a:rPr>
              <a:t>Найдите его площад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68160" y="1117440"/>
            <a:ext cx="1256040" cy="193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Объект 4"/>
          <p:cNvGraphicFramePr/>
          <p:nvPr/>
        </p:nvGraphicFramePr>
        <p:xfrm>
          <a:off x="3708360" y="1217520"/>
          <a:ext cx="2303640" cy="9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08360" y="1217520"/>
                    <a:ext cx="23036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Прямая соединительная линия 6"/>
          <p:cNvSpPr/>
          <p:nvPr/>
        </p:nvSpPr>
        <p:spPr>
          <a:xfrm>
            <a:off x="1403280" y="1413000"/>
            <a:ext cx="0" cy="13683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Объект 8"/>
          <p:cNvGraphicFramePr/>
          <p:nvPr/>
        </p:nvGraphicFramePr>
        <p:xfrm>
          <a:off x="3213000" y="2166840"/>
          <a:ext cx="2718000" cy="90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9" name="Объект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13000" y="2166840"/>
                    <a:ext cx="271800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Box 10"/>
          <p:cNvSpPr/>
          <p:nvPr/>
        </p:nvSpPr>
        <p:spPr>
          <a:xfrm>
            <a:off x="4859280" y="3244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вет: 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900000" y="2602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- 18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Times New Roman - 18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 - 20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 - 18"/>
              </a:rPr>
              <a:t>На клетчатой бумаге с размером клетки 1x1 изображён треугольни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- 18"/>
              </a:rPr>
              <a:t>Найдите его площад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1962360" cy="14572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ая соединительная линия 4"/>
          <p:cNvSpPr/>
          <p:nvPr/>
        </p:nvSpPr>
        <p:spPr>
          <a:xfrm>
            <a:off x="1403280" y="1700280"/>
            <a:ext cx="0" cy="9367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Объект 7"/>
          <p:cNvGraphicFramePr/>
          <p:nvPr/>
        </p:nvGraphicFramePr>
        <p:xfrm>
          <a:off x="3564000" y="1628640"/>
          <a:ext cx="2303280" cy="9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Объект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1628640"/>
                    <a:ext cx="23032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Объект 8"/>
          <p:cNvGraphicFramePr/>
          <p:nvPr/>
        </p:nvGraphicFramePr>
        <p:xfrm>
          <a:off x="3564000" y="3068640"/>
          <a:ext cx="2717640" cy="90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Объект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64000" y="3068640"/>
                    <a:ext cx="27176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Box 10"/>
          <p:cNvSpPr/>
          <p:nvPr/>
        </p:nvSpPr>
        <p:spPr>
          <a:xfrm>
            <a:off x="3562200" y="4653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: 1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971640" y="260280"/>
            <a:ext cx="617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клетчатой бумаге с размером клетки 1x1 изображён ромб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йдите его площад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1542960" cy="196236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ая соединительная линия 4"/>
          <p:cNvSpPr/>
          <p:nvPr/>
        </p:nvSpPr>
        <p:spPr>
          <a:xfrm>
            <a:off x="1547640" y="1557360"/>
            <a:ext cx="0" cy="13669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ая соединительная линия 7"/>
          <p:cNvSpPr/>
          <p:nvPr/>
        </p:nvSpPr>
        <p:spPr>
          <a:xfrm>
            <a:off x="1042920" y="2276640"/>
            <a:ext cx="93672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3125880" y="1284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еорема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5e"/>
                </a:solidFill>
                <a:latin typeface="Times New Roman"/>
              </a:rPr>
              <a:t>Площадь ромба равна половине произведения его диагоналей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Объект 12"/>
          <p:cNvGraphicFramePr/>
          <p:nvPr/>
        </p:nvGraphicFramePr>
        <p:xfrm>
          <a:off x="2989440" y="2062080"/>
          <a:ext cx="3597120" cy="9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Объект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9440" y="2062080"/>
                    <a:ext cx="359712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Объект 13"/>
          <p:cNvGraphicFramePr/>
          <p:nvPr/>
        </p:nvGraphicFramePr>
        <p:xfrm>
          <a:off x="3081240" y="3218040"/>
          <a:ext cx="3413160" cy="90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Объект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81240" y="3218040"/>
                    <a:ext cx="341316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Box 16"/>
          <p:cNvSpPr/>
          <p:nvPr/>
        </p:nvSpPr>
        <p:spPr>
          <a:xfrm>
            <a:off x="4075200" y="4950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1187280" y="333360"/>
            <a:ext cx="624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клетчатой бумаге с размером клетки 1x1 изображён ромб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йдите его площад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157400" y="1484280"/>
            <a:ext cx="2914560" cy="13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Объект 4"/>
          <p:cNvGraphicFramePr/>
          <p:nvPr/>
        </p:nvGraphicFramePr>
        <p:xfrm>
          <a:off x="4788000" y="1236600"/>
          <a:ext cx="3597120" cy="9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236600"/>
                    <a:ext cx="359712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Прямая соединительная линия 5"/>
          <p:cNvSpPr/>
          <p:nvPr/>
        </p:nvSpPr>
        <p:spPr>
          <a:xfrm flipH="1">
            <a:off x="1403280" y="2146320"/>
            <a:ext cx="2448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ая соединительная линия 8"/>
          <p:cNvSpPr/>
          <p:nvPr/>
        </p:nvSpPr>
        <p:spPr>
          <a:xfrm>
            <a:off x="2627280" y="1773360"/>
            <a:ext cx="0" cy="792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Объект 11"/>
          <p:cNvGraphicFramePr/>
          <p:nvPr/>
        </p:nvGraphicFramePr>
        <p:xfrm>
          <a:off x="2967120" y="3218040"/>
          <a:ext cx="3643200" cy="90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Объект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67120" y="3218040"/>
                    <a:ext cx="364320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Box 13"/>
          <p:cNvSpPr/>
          <p:nvPr/>
        </p:nvSpPr>
        <p:spPr>
          <a:xfrm>
            <a:off x="3635280" y="4586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: 2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1116000" y="189000"/>
            <a:ext cx="64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клетчатой бумаге с размером клетки 1x1 изображёна трапец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йдите её площад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2504880" cy="13525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3435480" y="122724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Теорем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лощадь трапеции равна произведению полусуммы её оснований на высот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2286000" y="3246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ыс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3102120" y="32464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перпендикуляр, проведённый из любой точки одного из оснований к прямой, содержащей другое основа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Объект 10"/>
          <p:cNvGraphicFramePr/>
          <p:nvPr/>
        </p:nvGraphicFramePr>
        <p:xfrm>
          <a:off x="3159000" y="1954080"/>
          <a:ext cx="4842000" cy="9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Объект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59000" y="1954080"/>
                    <a:ext cx="484200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Прямая соединительная линия 11"/>
          <p:cNvSpPr/>
          <p:nvPr/>
        </p:nvSpPr>
        <p:spPr>
          <a:xfrm>
            <a:off x="1835280" y="1484280"/>
            <a:ext cx="0" cy="7923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Объект 15"/>
          <p:cNvGraphicFramePr/>
          <p:nvPr/>
        </p:nvGraphicFramePr>
        <p:xfrm>
          <a:off x="2749680" y="4530600"/>
          <a:ext cx="4933800" cy="90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Объект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49680" y="4530600"/>
                    <a:ext cx="493380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Box 17"/>
          <p:cNvSpPr/>
          <p:nvPr/>
        </p:nvSpPr>
        <p:spPr>
          <a:xfrm>
            <a:off x="3174840" y="5630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: 16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1116000" y="189000"/>
            <a:ext cx="64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клетчатой бумаге с размером клетки 1x1 изображёна трапец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йдите её площад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1857600" cy="144792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ая соединительная линия 3"/>
          <p:cNvSpPr/>
          <p:nvPr/>
        </p:nvSpPr>
        <p:spPr>
          <a:xfrm>
            <a:off x="1547640" y="1557360"/>
            <a:ext cx="0" cy="863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Объект 5"/>
          <p:cNvGraphicFramePr/>
          <p:nvPr/>
        </p:nvGraphicFramePr>
        <p:xfrm>
          <a:off x="3378240" y="1341360"/>
          <a:ext cx="4842000" cy="9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Объект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78240" y="1341360"/>
                    <a:ext cx="484200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Объект 6"/>
          <p:cNvGraphicFramePr/>
          <p:nvPr/>
        </p:nvGraphicFramePr>
        <p:xfrm>
          <a:off x="2941560" y="2781360"/>
          <a:ext cx="5025960" cy="90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Объект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41560" y="2781360"/>
                    <a:ext cx="50259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Box 8"/>
          <p:cNvSpPr/>
          <p:nvPr/>
        </p:nvSpPr>
        <p:spPr>
          <a:xfrm>
            <a:off x="3646440" y="422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вет: 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Николай Мавринский</cp:lastModifiedBy>
  <dcterms:modified xsi:type="dcterms:W3CDTF">2022-08-12T15:21:42Z</dcterms:modified>
  <cp:revision>104</cp:revision>
  <dc:subject/>
  <dc:title>задания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130000000000010243100207f6000400038000</vt:lpwstr>
  </property>
</Properties>
</file>