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F17-CD44-4A86-813F-B59939FA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9D9-7C30-4CD0-B2F7-96EB978B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99E-6D65-406F-A1DA-5068CD1B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89E-AD49-4BDA-9A2A-C7356610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BF30-C515-4F84-A3E4-376B68C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578-C736-40BC-8830-38FF7C1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615-F862-4B2D-B009-AA2892C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CB74-648F-4355-BE30-2F524CF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45A-0DD0-46A2-88CC-82970BEF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B4-3328-4F52-89E9-159C9B3B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3FF-A5A2-4541-B717-ED82AC9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EF7-AA89-45DF-B669-BC6BB13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EB6-4660-4020-A0EA-E994E4AA5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5582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ихи о весне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этический ча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отворения о вес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Н.Плещеева., Ф.И.Тютчева., Н.А. Некрасова., А.А.Ф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syl.ru/misc/i/ai/186699/778379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esktop\Внекл чт\Ф.И.Тютчев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User\Desktop\Внекл чт\Некрасов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User\Desktop\slide_5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Внекл чт\Фет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User\Desktop\Внекл чт\физминутка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age.slidesharecdn.com/1-141102100042-conversion-gate02/95/-6-638.jpg?cb=1414922495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uslide.ru/images/16/22327/736/img5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fs1.ppt4web.ru/images/95377/129657/640/img12.jpg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fs1.ppt4web.ru/images/2810/75128/640/img10.jpg"/>
          <p:cNvPicPr/>
          <p:nvPr/>
        </p:nvPicPr>
        <p:blipFill>
          <a:blip r:embed="rId1"/>
          <a:stretch/>
        </p:blipFill>
        <p:spPr>
          <a:xfrm>
            <a:off x="0" y="214200"/>
            <a:ext cx="90010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User\Desktop\Внекл чт\приметы весн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8688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ages.myshared.ru/1012747/slide_2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fs1.ppt4web.ru/images/17412/101887/640/img8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User\Desktop\zpgBp6QnTWI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User\Desktop\Внекл чт\images.jpg"/>
          <p:cNvPicPr/>
          <p:nvPr/>
        </p:nvPicPr>
        <p:blipFill>
          <a:blip r:embed="rId1"/>
          <a:stretch/>
        </p:blipFill>
        <p:spPr>
          <a:xfrm>
            <a:off x="214200" y="357120"/>
            <a:ext cx="8715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User\Desktop\img17.jpg"/>
          <p:cNvPicPr/>
          <p:nvPr/>
        </p:nvPicPr>
        <p:blipFill>
          <a:blip r:embed="rId1"/>
          <a:stretch/>
        </p:blipFill>
        <p:spPr>
          <a:xfrm>
            <a:off x="-35712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User\Desktop\Внекл чт\ас к. 2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Внекл чт\поэты о весне.jpg"/>
          <p:cNvPicPr/>
          <p:nvPr/>
        </p:nvPicPr>
        <p:blipFill>
          <a:blip r:embed="rId1"/>
          <a:stretch/>
        </p:blipFill>
        <p:spPr>
          <a:xfrm>
            <a:off x="214200" y="285840"/>
            <a:ext cx="87156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User\Desktop\Внекл чт\Плещеев.jpg"/>
          <p:cNvPicPr/>
          <p:nvPr/>
        </p:nvPicPr>
        <p:blipFill>
          <a:blip r:embed="rId1"/>
          <a:stretch/>
        </p:blipFill>
        <p:spPr>
          <a:xfrm>
            <a:off x="142920" y="214200"/>
            <a:ext cx="86439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ages.myshared.ru/279765/slide_21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4:43:14Z</dcterms:created>
  <dc:creator>Анна</dc:creator>
  <dc:description/>
  <dc:language>en-US</dc:language>
  <cp:lastModifiedBy>User</cp:lastModifiedBy>
  <dcterms:modified xsi:type="dcterms:W3CDTF">2022-08-22T06:24:12Z</dcterms:modified>
  <cp:revision>28</cp:revision>
  <dc:subject/>
  <dc:title>Презентация  к  предмету «Литературное чтение» </dc:title>
</cp:coreProperties>
</file>