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D8E-0972-4FFF-96FD-19FA4D7E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531-B66B-4501-9E15-4E840655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56A-F464-4D34-A2CA-E2A63174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576-A074-462A-BF12-C5E64BA8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68F-50A8-4DAE-B4AB-EAC83DF2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1A2-42DE-4E57-93B3-C6B7B7A3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468-A081-4A1F-A5CB-9CCE8DD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392-BFF3-423B-AF12-257AEFB1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A9C-CDBD-4836-86A3-86EA8A53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A16-887E-4D38-AD87-84C177E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3C6-FD42-49B8-9258-8FE67719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23F-825D-4296-B6FB-6F7750C8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8164-FFB4-42CA-BC15-463560FCFA21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B732-77B8-4770-A270-2AE53A95B8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7200"/>
            </a:br>
            <a:r>
              <a:rPr b="1" lang="ru-RU" sz="72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72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6012000" y="5589720"/>
            <a:ext cx="266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дготовила воспитат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Шматько Татьяна Владимир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ДОУ № 24 «Колоб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A0C8-8862-4241-B0A2-829BD50F45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Можно выпекать хлеб дома в хлебопеч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372A-F664-4D4E-8938-DB29C1E2C5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8" descr="45.jpg"/>
          <p:cNvPicPr/>
          <p:nvPr/>
        </p:nvPicPr>
        <p:blipFill>
          <a:blip r:embed="rId1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9" descr="49.gif"/>
          <p:cNvPicPr/>
          <p:nvPr/>
        </p:nvPicPr>
        <p:blipFill>
          <a:blip r:embed="rId2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8941-D221-48B7-A95E-ED2AFF8193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48.png"/>
          <p:cNvPicPr/>
          <p:nvPr/>
        </p:nvPicPr>
        <p:blipFill>
          <a:blip r:embed="rId1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7" descr="54.jpg"/>
          <p:cNvPicPr/>
          <p:nvPr/>
        </p:nvPicPr>
        <p:blipFill>
          <a:blip r:embed="rId2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98A1-B664-4680-9239-912CF8A8A2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8" descr="52.jpg"/>
          <p:cNvPicPr/>
          <p:nvPr/>
        </p:nvPicPr>
        <p:blipFill>
          <a:blip r:embed="rId1"/>
          <a:stretch/>
        </p:blipFill>
        <p:spPr>
          <a:xfrm>
            <a:off x="971640" y="2421000"/>
            <a:ext cx="2546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9" descr="62.jpg"/>
          <p:cNvPicPr/>
          <p:nvPr/>
        </p:nvPicPr>
        <p:blipFill>
          <a:blip r:embed="rId2"/>
          <a:stretch/>
        </p:blipFill>
        <p:spPr>
          <a:xfrm>
            <a:off x="4859280" y="2421000"/>
            <a:ext cx="2882880" cy="38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11AE-8177-4D7D-A432-B94FEA53DA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FC8C-53E0-463C-9747-FF878A5734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DD16-05EE-422A-B20B-E00DF848B7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Выпек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8" descr="10.jpg"/>
          <p:cNvPicPr/>
          <p:nvPr/>
        </p:nvPicPr>
        <p:blipFill>
          <a:blip r:embed="rId1"/>
          <a:stretch/>
        </p:blipFill>
        <p:spPr>
          <a:xfrm>
            <a:off x="1819440" y="1630440"/>
            <a:ext cx="5505120" cy="44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BF29-E59A-499A-87CA-3E240E59C3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7C49-8696-44DE-B6A8-46013DF0D0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79280" y="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оложит в землю Человек зерно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рольётся Дождь- зерно орошено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рутая Борозда и мягкий Снег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Зерно укроют на зиму от всех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есною Солнце выплывет в зенит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новый колосок позолоти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олосьев много в урожайный год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человек их с поля уберё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золотые руки Пекарей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Румяный хлеб замесят поскорей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 женщина на краешке доски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Готовый хлеб разрежет на куски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сем, кто лелеял хлебный колосок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На совести достанется кусок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втор: Аким.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FA70-B0B7-4AF5-89A8-35CEFB0B1F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Книги о хл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4" descr="32.jpg"/>
          <p:cNvPicPr/>
          <p:nvPr/>
        </p:nvPicPr>
        <p:blipFill>
          <a:blip r:embed="rId1"/>
          <a:stretch/>
        </p:blipFill>
        <p:spPr>
          <a:xfrm>
            <a:off x="468360" y="1773360"/>
            <a:ext cx="4408560" cy="41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Содержимое 5" descr="30.jpg"/>
          <p:cNvPicPr/>
          <p:nvPr/>
        </p:nvPicPr>
        <p:blipFill>
          <a:blip r:embed="rId2"/>
          <a:stretch/>
        </p:blipFill>
        <p:spPr>
          <a:xfrm>
            <a:off x="5424480" y="1773360"/>
            <a:ext cx="27385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B19B-8BD3-4892-961B-AADD609B10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25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46c0a"/>
                </a:solidFill>
                <a:uFillTx/>
                <a:latin typeface="Georgia"/>
              </a:rPr>
              <a:t>Программное содержание: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Дать детям понятие, что хлеб является ежедневным продуктом. Рассказать откуда берётся хлеб, кто его растит и печёт. Воспитывать уважение к труду взрослых, бережное отношение к хлеб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621D-C0B8-45E7-A347-3DC62F5D79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Экскурсия на пище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4" descr="37.jpg"/>
          <p:cNvPicPr/>
          <p:nvPr/>
        </p:nvPicPr>
        <p:blipFill>
          <a:blip r:embed="rId1"/>
          <a:stretch/>
        </p:blipFill>
        <p:spPr>
          <a:xfrm>
            <a:off x="519120" y="2394000"/>
            <a:ext cx="391464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Содержимое 5" descr="38.jpg"/>
          <p:cNvPicPr/>
          <p:nvPr/>
        </p:nvPicPr>
        <p:blipFill>
          <a:blip r:embed="rId2"/>
          <a:stretch/>
        </p:blipFill>
        <p:spPr>
          <a:xfrm>
            <a:off x="4707000" y="2394000"/>
            <a:ext cx="392112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4D60-A220-472F-BC1D-29274E2E710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пробуем сам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6" descr="36.jpg"/>
          <p:cNvPicPr/>
          <p:nvPr/>
        </p:nvPicPr>
        <p:blipFill>
          <a:blip r:embed="rId1"/>
          <a:stretch/>
        </p:blipFill>
        <p:spPr>
          <a:xfrm>
            <a:off x="1662120" y="1600200"/>
            <a:ext cx="5819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4A2C-46D7-46C4-8612-82412A9E31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играем</a:t>
            </a:r>
            <a:r>
              <a:rPr b="1" lang="en-US" sz="44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6" descr="34.jpg"/>
          <p:cNvPicPr/>
          <p:nvPr/>
        </p:nvPicPr>
        <p:blipFill>
          <a:blip r:embed="rId1"/>
          <a:stretch/>
        </p:blipFill>
        <p:spPr>
          <a:xfrm>
            <a:off x="468360" y="2205000"/>
            <a:ext cx="3300480" cy="37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Содержимое 7" descr="33.jpg"/>
          <p:cNvPicPr/>
          <p:nvPr/>
        </p:nvPicPr>
        <p:blipFill>
          <a:blip r:embed="rId2"/>
          <a:stretch/>
        </p:blipFill>
        <p:spPr>
          <a:xfrm>
            <a:off x="4648320" y="2298600"/>
            <a:ext cx="4038480" cy="31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846F-A926-43C8-8213-7EE3786043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79280" y="260280"/>
            <a:ext cx="878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Хлебушек душистый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теплый, золотистый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каждый дом, на каждый стол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он пожаловал, пришел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здоровье наша, сила, в нем чудесное теп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колько рук его растило, охраняло, берег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- земли родимой соки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олнца свет веселый в нем..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Уплетай за обе щеки, вырастай богатыр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EEAC-8436-4505-9781-75666D01C2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B8B1-F603-4EF6-999A-7BFA0BF88A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774A-4AB2-4FD4-BF3B-5DE3BD86BDA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37A-3A4F-4217-B0DF-17C0EF37C9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A81A-5455-470B-92B3-8EB186A11F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738-7015-432A-BE35-A3E37B0CDD6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5D80-A8A1-4913-B254-A7DE8B665A9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A443-725A-4F02-9AF3-8527A3494E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1</cp:lastModifiedBy>
  <dcterms:modified xsi:type="dcterms:W3CDTF">2022-07-10T21:35:15Z</dcterms:modified>
  <cp:revision>28</cp:revision>
  <dc:subject/>
  <dc:title>Откуда к нам хлеб пришёл</dc:title>
</cp:coreProperties>
</file>