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E04-EA43-4B7E-BEBD-B759E0B7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CD98-4737-4370-8DE4-04443BCB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3F8-097A-4D5B-86FB-B80B3648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ED9-E454-4A13-9D89-6D72E11F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F13-B2A2-4108-B450-3954AA93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B8E-5995-460D-82F4-65F7F63B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905-E6A7-4884-87D5-1F868ED3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D79-B37F-4F34-AAC2-A915A94C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E19-94B4-45EC-B632-EF77508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B55-B66E-4AC8-951D-F46B8202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4A4-5CF9-4E15-B743-25D82CD1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25E-966E-4BCA-98FF-BD92698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A1E8-F0B7-4B21-96CC-AF4A6CA6BA9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C3E-C29D-4501-8A9B-82549A20B75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46c0a"/>
                </a:solidFill>
                <a:latin typeface="Georgia"/>
              </a:rPr>
              <a:t>Откуда  к  нам  </a:t>
            </a:r>
            <a:br>
              <a:rPr sz="7200"/>
            </a:br>
            <a:r>
              <a:rPr b="1" lang="ru-RU" sz="7200" spc="-1" strike="noStrike">
                <a:solidFill>
                  <a:srgbClr val="e46c0a"/>
                </a:solidFill>
                <a:latin typeface="Georgia"/>
              </a:rPr>
              <a:t>хлеб  пришёл </a:t>
            </a:r>
            <a:r>
              <a:rPr b="1" lang="en-US" sz="72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ижний колонтитул 3"/>
          <p:cNvSpPr/>
          <p:nvPr/>
        </p:nvSpPr>
        <p:spPr>
          <a:xfrm>
            <a:off x="6012000" y="5589720"/>
            <a:ext cx="266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одготовила воспитат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Шматько Татьяна Владимир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ДОУ № 24 «Колоб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AFC-A02D-4F75-8510-257FEFF6A7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6F92-973D-41F7-936F-F266A75BACF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8" descr="45.jpg"/>
          <p:cNvPicPr/>
          <p:nvPr/>
        </p:nvPicPr>
        <p:blipFill>
          <a:blip r:embed="rId1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9" descr="49.gif"/>
          <p:cNvPicPr/>
          <p:nvPr/>
        </p:nvPicPr>
        <p:blipFill>
          <a:blip r:embed="rId2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49C-9607-4F76-96F5-57F31BD1B1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48.png"/>
          <p:cNvPicPr/>
          <p:nvPr/>
        </p:nvPicPr>
        <p:blipFill>
          <a:blip r:embed="rId1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7" descr="54.jpg"/>
          <p:cNvPicPr/>
          <p:nvPr/>
        </p:nvPicPr>
        <p:blipFill>
          <a:blip r:embed="rId2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32C-4413-4D03-B8B3-6C7E7F2A99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8" descr="52.jpg"/>
          <p:cNvPicPr/>
          <p:nvPr/>
        </p:nvPicPr>
        <p:blipFill>
          <a:blip r:embed="rId1"/>
          <a:stretch/>
        </p:blipFill>
        <p:spPr>
          <a:xfrm>
            <a:off x="971640" y="242100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9" descr="62.jpg"/>
          <p:cNvPicPr/>
          <p:nvPr/>
        </p:nvPicPr>
        <p:blipFill>
          <a:blip r:embed="rId2"/>
          <a:stretch/>
        </p:blipFill>
        <p:spPr>
          <a:xfrm>
            <a:off x="4859280" y="2421000"/>
            <a:ext cx="2882880" cy="38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891-0F76-49FD-94D0-FDE0A4F41D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EEE4-0B0B-4C82-BAA2-E5D1828FC4C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4FCB-D3F3-4C99-8B0A-1ABF798067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8" descr="10.jpg"/>
          <p:cNvPicPr/>
          <p:nvPr/>
        </p:nvPicPr>
        <p:blipFill>
          <a:blip r:embed="rId1"/>
          <a:stretch/>
        </p:blipFill>
        <p:spPr>
          <a:xfrm>
            <a:off x="1819440" y="1630440"/>
            <a:ext cx="5505120" cy="44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063B-B899-4142-9933-AAB5083ED62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51A4-5123-4A93-8986-6EA9232046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79280" y="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оложит в землю Человек зерно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Прольётся Дождь- зерно орошено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рутая Борозда и мягкий Снег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Зерно укроют на зиму от всех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есною Солнце выплывет в зенит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новый колосок позолоти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Колосьев много в урожайный год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человек их с поля уберёт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И золотые руки Пекарей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Румяный хлеб замесят поскорей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 женщина на краешке доски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Готовый хлеб разрежет на куски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сем, кто лелеял хлебный колосок,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На совести достанется кусок.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Автор: Аким.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361B-A276-43C6-8380-F8C0206394D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Книги о хлеб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Содержимое 4" descr="32.jpg"/>
          <p:cNvPicPr/>
          <p:nvPr/>
        </p:nvPicPr>
        <p:blipFill>
          <a:blip r:embed="rId1"/>
          <a:stretch/>
        </p:blipFill>
        <p:spPr>
          <a:xfrm>
            <a:off x="468360" y="1773360"/>
            <a:ext cx="4408560" cy="412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Содержимое 5" descr="30.jpg"/>
          <p:cNvPicPr/>
          <p:nvPr/>
        </p:nvPicPr>
        <p:blipFill>
          <a:blip r:embed="rId2"/>
          <a:stretch/>
        </p:blipFill>
        <p:spPr>
          <a:xfrm>
            <a:off x="5424480" y="1773360"/>
            <a:ext cx="27385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3FBA-309B-4AEE-8263-F1E15495160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25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46c0a"/>
                </a:solidFill>
                <a:uFillTx/>
                <a:latin typeface="Georgia"/>
              </a:rPr>
              <a:t>Программное содержание: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Дать детям понятие, что хлеб является ежедневным продуктом. Рассказать откуда берётся хлеб, кто его растит и печёт. Воспитывать уважение к труду взрослых, бережное отношение к хлебу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1FA3-74EE-4F34-9CFF-F61085AAC46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Экскурсия на пищебл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4" descr="37.jpg"/>
          <p:cNvPicPr/>
          <p:nvPr/>
        </p:nvPicPr>
        <p:blipFill>
          <a:blip r:embed="rId1"/>
          <a:stretch/>
        </p:blipFill>
        <p:spPr>
          <a:xfrm>
            <a:off x="519120" y="2394000"/>
            <a:ext cx="391464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0" name="Содержимое 5" descr="38.jpg"/>
          <p:cNvPicPr/>
          <p:nvPr/>
        </p:nvPicPr>
        <p:blipFill>
          <a:blip r:embed="rId2"/>
          <a:stretch/>
        </p:blipFill>
        <p:spPr>
          <a:xfrm>
            <a:off x="4707000" y="2394000"/>
            <a:ext cx="3921120" cy="29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B27D-18B3-48EF-B394-517CC65DC7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пробуем сами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6" descr="36.jpg"/>
          <p:cNvPicPr/>
          <p:nvPr/>
        </p:nvPicPr>
        <p:blipFill>
          <a:blip r:embed="rId1"/>
          <a:stretch/>
        </p:blipFill>
        <p:spPr>
          <a:xfrm>
            <a:off x="1662120" y="1600200"/>
            <a:ext cx="5819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7017-B1AD-4B44-9920-1DAC001C9DF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Georgia"/>
              </a:rPr>
              <a:t>Поиграем</a:t>
            </a:r>
            <a:r>
              <a:rPr b="1" lang="en-US" sz="4400" spc="-1" strike="noStrike">
                <a:solidFill>
                  <a:srgbClr val="e46c0a"/>
                </a:solidFill>
                <a:latin typeface="Georgi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Содержимое 6" descr="34.jpg"/>
          <p:cNvPicPr/>
          <p:nvPr/>
        </p:nvPicPr>
        <p:blipFill>
          <a:blip r:embed="rId1"/>
          <a:stretch/>
        </p:blipFill>
        <p:spPr>
          <a:xfrm>
            <a:off x="468360" y="2205000"/>
            <a:ext cx="3300480" cy="3705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7" name="Содержимое 7" descr="33.jpg"/>
          <p:cNvPicPr/>
          <p:nvPr/>
        </p:nvPicPr>
        <p:blipFill>
          <a:blip r:embed="rId2"/>
          <a:stretch/>
        </p:blipFill>
        <p:spPr>
          <a:xfrm>
            <a:off x="4648320" y="2298600"/>
            <a:ext cx="4038480" cy="312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3F58-7F0E-434A-81E9-D062C28A1C7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179280" y="260280"/>
            <a:ext cx="8785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Уплетай за обе щеки, вырастай богатыр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DAB4-B6AF-44FD-B472-ABAA36DDBC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99C-F799-4DE5-BF14-EA6BFD74F15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245-62F3-4302-A218-038B6D5D01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421-D2E4-4B16-82F4-F50C102CB4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4AD-D99D-4E8A-B386-9EAF035D1F9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5FCF-077E-400D-8210-6AA8E7C169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26F7-7B68-41DC-8FE3-E276D178824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0BA9-9848-4985-9FCF-2AA1DB1AC8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1</cp:lastModifiedBy>
  <dcterms:modified xsi:type="dcterms:W3CDTF">2022-07-10T21:35:15Z</dcterms:modified>
  <cp:revision>28</cp:revision>
  <dc:subject/>
  <dc:title>Откуда к нам хлеб пришёл</dc:title>
</cp:coreProperties>
</file>