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5923-4E7B-4CC0-A9EB-C4DCEDA4B0DA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8.07.26</a:t>
            </a:fld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6904FF-9B69-4191-800C-B8249876D0E1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4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C7A0-FDE4-4812-8C76-A1FE2173CC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776C-F3B2-4321-BFE5-959C4BC3C142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59D-A82D-4152-8288-64781E3E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9FC-6D60-45FF-9326-85432C7D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AE2-D38F-4879-8C6C-651EA1C8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8F3-CCF6-42AC-9F4D-49B625C8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205-9533-46D0-838E-2A565B54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AC3-DBFF-4E36-8D67-B51A263B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744-ABE2-4F96-9B42-FCDD9C03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3830-B064-4942-89B9-75E50037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83B-E01F-4FFF-9F72-E14A92E6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691-0113-4F89-AE11-C5AE419C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7C0-47FD-437F-8D7D-897C1EC4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19F-5E73-47F9-84A6-394F6644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DE4D-9E3F-403A-BF02-5697AFC76D4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0EE3-9C61-49BA-8B27-7142C7CAF01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Горизонтальный свиток 1"/>
          <p:cNvSpPr/>
          <p:nvPr/>
        </p:nvSpPr>
        <p:spPr>
          <a:xfrm>
            <a:off x="3403440" y="765000"/>
            <a:ext cx="5183280" cy="324036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03320" y="1244160"/>
            <a:ext cx="4895640" cy="20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утешествие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творчеству С.Я.Маршака»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45A4-9F03-4D74-A0CA-9A5F7EA7C16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B69A-0CEB-44D4-93AD-BAF4E893BA1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4716360" y="4875120"/>
            <a:ext cx="427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Презентацию подготовили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Шматько Т.В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Шматько Л.М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3" name="Рисунок 8" descr=""/>
          <p:cNvPicPr/>
          <p:nvPr/>
        </p:nvPicPr>
        <p:blipFill>
          <a:blip r:embed="rId1"/>
          <a:stretch/>
        </p:blipFill>
        <p:spPr>
          <a:xfrm>
            <a:off x="179280" y="2003400"/>
            <a:ext cx="276408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МОЛОДЦЫ!!!</a:t>
            </a:r>
            <a:endParaRPr b="0" lang="en-US" sz="6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96" name="Рисунок 2" descr=""/>
          <p:cNvPicPr/>
          <p:nvPr/>
        </p:nvPicPr>
        <p:blipFill>
          <a:blip r:embed="rId1"/>
          <a:stretch/>
        </p:blipFill>
        <p:spPr>
          <a:xfrm>
            <a:off x="3995640" y="2824200"/>
            <a:ext cx="1838520" cy="2857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"/>
          <p:cNvPicPr/>
          <p:nvPr/>
        </p:nvPicPr>
        <p:blipFill>
          <a:blip r:embed="rId2"/>
          <a:stretch/>
        </p:blipFill>
        <p:spPr>
          <a:xfrm rot="571200">
            <a:off x="5563800" y="2676600"/>
            <a:ext cx="3533760" cy="8571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"/>
          <p:cNvPicPr/>
          <p:nvPr/>
        </p:nvPicPr>
        <p:blipFill>
          <a:blip r:embed="rId3"/>
          <a:stretch/>
        </p:blipFill>
        <p:spPr>
          <a:xfrm rot="20790600">
            <a:off x="519120" y="2676600"/>
            <a:ext cx="3533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572A-8300-4B92-A9D6-13AA42CE2AF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BB4B-F520-439F-B9DD-8E0F032A326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Расширять представление о жизни и творчестве известного писателя и переводчика С. Я. Маршака.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544500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С. Я. Маршак (1887 – 1964)</a:t>
            </a:r>
            <a:br>
              <a:rPr sz="4000"/>
            </a:b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135 лет со дня рождения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9" name="Picture 2" descr="H:\Documents and Settings\Aida\Рабочий стол\клипарты рамки фончики\kniga39.gif"/>
          <p:cNvPicPr/>
          <p:nvPr/>
        </p:nvPicPr>
        <p:blipFill>
          <a:blip r:embed="rId1"/>
          <a:stretch/>
        </p:blipFill>
        <p:spPr>
          <a:xfrm>
            <a:off x="2859120" y="1341360"/>
            <a:ext cx="3384360" cy="326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http://s-marshak.ru/photo/detstvo/detstvo01.jpg"/>
          <p:cNvPicPr/>
          <p:nvPr/>
        </p:nvPicPr>
        <p:blipFill>
          <a:blip r:embed="rId2"/>
          <a:stretch/>
        </p:blipFill>
        <p:spPr>
          <a:xfrm>
            <a:off x="2859120" y="863640"/>
            <a:ext cx="3384360" cy="4005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"/>
          <p:cNvPicPr/>
          <p:nvPr/>
        </p:nvPicPr>
        <p:blipFill>
          <a:blip r:embed="rId3"/>
          <a:stretch/>
        </p:blipFill>
        <p:spPr>
          <a:xfrm>
            <a:off x="2860560" y="863640"/>
            <a:ext cx="3384720" cy="4005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http://s-marshak.ru/photo/detstvo/detstvo08.jpg"/>
          <p:cNvPicPr/>
          <p:nvPr/>
        </p:nvPicPr>
        <p:blipFill>
          <a:blip r:embed="rId4"/>
          <a:stretch/>
        </p:blipFill>
        <p:spPr>
          <a:xfrm>
            <a:off x="2860560" y="868320"/>
            <a:ext cx="3382920" cy="4000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http://www.samisdat.com/picture/LJ/1250.JPG"/>
          <p:cNvPicPr/>
          <p:nvPr/>
        </p:nvPicPr>
        <p:blipFill>
          <a:blip r:embed="rId5"/>
          <a:stretch/>
        </p:blipFill>
        <p:spPr>
          <a:xfrm>
            <a:off x="2355840" y="885960"/>
            <a:ext cx="4392720" cy="398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http://nkozlov.ru/upload/images/0703/0703271401490.jpg"/>
          <p:cNvPicPr/>
          <p:nvPr/>
        </p:nvPicPr>
        <p:blipFill>
          <a:blip r:embed="rId6"/>
          <a:stretch/>
        </p:blipFill>
        <p:spPr>
          <a:xfrm>
            <a:off x="2147760" y="893880"/>
            <a:ext cx="4808520" cy="397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Татьяна\Рабочий стол\86206084.jpg"/>
          <p:cNvPicPr/>
          <p:nvPr/>
        </p:nvPicPr>
        <p:blipFill>
          <a:blip r:embed="rId7"/>
          <a:stretch/>
        </p:blipFill>
        <p:spPr>
          <a:xfrm>
            <a:off x="2008080" y="892080"/>
            <a:ext cx="5384880" cy="3976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" descr=""/>
          <p:cNvPicPr/>
          <p:nvPr/>
        </p:nvPicPr>
        <p:blipFill>
          <a:blip r:embed="rId8"/>
          <a:stretch/>
        </p:blipFill>
        <p:spPr>
          <a:xfrm>
            <a:off x="2008080" y="692280"/>
            <a:ext cx="5384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Встреча с библиотекарем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68" name="Содержимое 5" descr="IMG-20170406-WA0001.jpg"/>
          <p:cNvPicPr/>
          <p:nvPr/>
        </p:nvPicPr>
        <p:blipFill>
          <a:blip r:embed="rId1"/>
          <a:stretch/>
        </p:blipFill>
        <p:spPr>
          <a:xfrm>
            <a:off x="1206360" y="1600200"/>
            <a:ext cx="254016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7" descr="P1020925.JPG"/>
          <p:cNvPicPr/>
          <p:nvPr/>
        </p:nvPicPr>
        <p:blipFill>
          <a:blip r:embed="rId2"/>
          <a:stretch/>
        </p:blipFill>
        <p:spPr>
          <a:xfrm>
            <a:off x="4264200" y="2060640"/>
            <a:ext cx="4422600" cy="3316320"/>
          </a:xfrm>
          <a:prstGeom prst="rect">
            <a:avLst/>
          </a:prstGeom>
          <a:ln w="0">
            <a:noFill/>
          </a:ln>
        </p:spPr>
      </p:pic>
      <p:sp>
        <p:nvSpPr>
          <p:cNvPr id="7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7E52-CD20-4B9A-92F1-CD184D137E7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7C59-5B4B-461B-B4C0-2EC63BDE321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Реши кроссворд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73" name="Содержимое 8" descr="P102092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E16E-FD1F-4F3B-B451-044E6364355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A206-FBA6-4245-9283-C0FE9A374A3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Вертикальный свиток 1"/>
          <p:cNvSpPr/>
          <p:nvPr/>
        </p:nvSpPr>
        <p:spPr>
          <a:xfrm>
            <a:off x="119160" y="1628640"/>
            <a:ext cx="5389560" cy="3600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48800" y="2035080"/>
            <a:ext cx="46198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л он утром на кровать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л рубашку надевать,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укава просунул руки -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азалось, это брюки…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место шляпы на ходу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надел сковороду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8145-7514-4B9D-A4AF-7AD3A7CAAEF6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E6F3-98DB-44BD-8B3F-E9FC31CC83B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153040" y="2205000"/>
            <a:ext cx="3751200" cy="28130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1981800" y="633240"/>
            <a:ext cx="50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2" name="Рисунок 5" descr=""/>
          <p:cNvPicPr/>
          <p:nvPr/>
        </p:nvPicPr>
        <p:blipFill>
          <a:blip r:embed="rId2"/>
          <a:stretch/>
        </p:blipFill>
        <p:spPr>
          <a:xfrm>
            <a:off x="8101080" y="3729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Горизонтальный свиток 5"/>
          <p:cNvSpPr/>
          <p:nvPr/>
        </p:nvSpPr>
        <p:spPr>
          <a:xfrm>
            <a:off x="4114800" y="1844640"/>
            <a:ext cx="5003640" cy="31258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D82E-A918-422D-88FF-46A9BA09551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78EB-0703-4DC9-A573-4CBA4C79DEB3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97280" y="2435400"/>
            <a:ext cx="5346720" cy="15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Любите Маршака,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сь у него!»                               А.М. Горький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7" name="Рисунок 5" descr=""/>
          <p:cNvPicPr/>
          <p:nvPr/>
        </p:nvPicPr>
        <p:blipFill>
          <a:blip r:embed="rId1"/>
          <a:stretch/>
        </p:blipFill>
        <p:spPr>
          <a:xfrm>
            <a:off x="7451640" y="4665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http://s-marshak.ru/autographs/nadpis/nadpis15_1.jpg"/>
          <p:cNvPicPr/>
          <p:nvPr/>
        </p:nvPicPr>
        <p:blipFill>
          <a:blip r:embed="rId2"/>
          <a:stretch/>
        </p:blipFill>
        <p:spPr>
          <a:xfrm>
            <a:off x="168120" y="836640"/>
            <a:ext cx="3937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CE41-F3B0-43BD-AFD2-08B1FF5A8BB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E2CE-A62D-418F-8077-0029B6A18398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1" name="Содержимое 5" descr="P1020924.JPG"/>
          <p:cNvPicPr/>
          <p:nvPr/>
        </p:nvPicPr>
        <p:blipFill>
          <a:blip r:embed="rId1"/>
          <a:stretch/>
        </p:blipFill>
        <p:spPr>
          <a:xfrm>
            <a:off x="1403280" y="1052640"/>
            <a:ext cx="654048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BBE2-D905-4B5F-A101-903236E3E0A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60B5-415F-4865-8EB8-72973448E75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4" name="Содержимое 5" descr="P1020922.JPG"/>
          <p:cNvPicPr/>
          <p:nvPr/>
        </p:nvPicPr>
        <p:blipFill>
          <a:blip r:embed="rId1"/>
          <a:stretch/>
        </p:blipFill>
        <p:spPr>
          <a:xfrm>
            <a:off x="1187280" y="765000"/>
            <a:ext cx="6901200" cy="51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07:14:32Z</dcterms:created>
  <dc:creator>Елисеева Е.С.</dc:creator>
  <dc:description>http://aida.ucoz.ru</dc:description>
  <cp:keywords>Маршак</cp:keywords>
  <dc:language>en-US</dc:language>
  <cp:lastModifiedBy>1</cp:lastModifiedBy>
  <dcterms:modified xsi:type="dcterms:W3CDTF">2022-02-05T18:05:17Z</dcterms:modified>
  <cp:revision>149</cp:revision>
  <dc:subject/>
  <dc:title>литература 1</dc:title>
</cp:coreProperties>
</file>