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20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19.gif" ContentType="image/gif"/>
  <Override PartName="/ppt/media/image1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5.gif" ContentType="image/gif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777F5-1104-4F03-9BA1-363CAA364E6C}" type="datetime">
              <a:rPr b="0" lang="ru-RU" sz="1200" spc="-1" strike="noStrike">
                <a:solidFill>
                  <a:srgbClr val="000000"/>
                </a:solidFill>
                <a:latin typeface="Calibri"/>
              </a:rPr>
              <a:t>30.07.26</a:t>
            </a:fld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DEDC123-4D16-43F4-9721-E989288DCC00}" type="datetime12">
              <a:rPr b="0" lang="ru-RU" sz="1200" spc="-1" strike="noStrike">
                <a:solidFill>
                  <a:srgbClr val="000000"/>
                </a:solidFill>
                <a:latin typeface="Calibri"/>
              </a:rPr>
              <a:t>10:1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5D5C4-EDA7-4B94-A8C9-2147261EA5B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A2FB6-0195-4158-ACB7-4EE799D317FA}" type="slidenum">
              <a:rPr b="0" lang="ru-RU" sz="1200" spc="-1" strike="noStrike">
                <a:solidFill>
                  <a:srgbClr val="8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CAF6-3446-4E0D-A2F7-84D9A181A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3D5A-2209-439B-A764-F9C104F4C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0854-46D1-4188-9C96-0F2DB8CC1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6D5D-C437-4D3E-82C5-DFE3272B2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1860-0FF5-4C73-8B7E-D5A051C61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A9A4-B9F8-4308-BF11-BE800A0DA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A45E-A009-4DD9-AC69-067E3BF2F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4D3D-0D39-4A3D-BD94-193362493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77FC-C826-4F88-8893-5C0AEBCCE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2D8D-BD3F-46AD-895C-DA953E35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6E00-5E68-4397-98FB-9DAB1734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E3F6-62CA-4526-8ADA-7EA595A9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E4774-3145-4B0E-8893-3A1DE40D538D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EAF00-181E-4E42-9DFD-9577BD5AE29E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Горизонтальный свиток 1"/>
          <p:cNvSpPr/>
          <p:nvPr/>
        </p:nvSpPr>
        <p:spPr>
          <a:xfrm>
            <a:off x="3403440" y="765000"/>
            <a:ext cx="5183280" cy="3240360"/>
          </a:xfrm>
          <a:prstGeom prst="horizont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703320" y="1244160"/>
            <a:ext cx="4895640" cy="20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утешествие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 творчеству С.Я.Маршака»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67863-FB61-4FAA-A09E-7EA98EEA0061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CE873-C090-4CDE-B4D1-DC5B31236338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" name="Прямоугольник 7"/>
          <p:cNvSpPr/>
          <p:nvPr/>
        </p:nvSpPr>
        <p:spPr>
          <a:xfrm>
            <a:off x="4716360" y="4875120"/>
            <a:ext cx="427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0000"/>
                </a:solidFill>
                <a:latin typeface="Times New Roman"/>
                <a:ea typeface="Times New Roman"/>
              </a:rPr>
              <a:t>Презентацию подготовили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0000"/>
                </a:solidFill>
                <a:latin typeface="Times New Roman"/>
                <a:ea typeface="Times New Roman"/>
              </a:rPr>
              <a:t>Шматько Т.В.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0000"/>
                </a:solidFill>
                <a:latin typeface="Times New Roman"/>
                <a:ea typeface="Times New Roman"/>
              </a:rPr>
              <a:t>Шматько Л.М.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53" name="Рисунок 8" descr=""/>
          <p:cNvPicPr/>
          <p:nvPr/>
        </p:nvPicPr>
        <p:blipFill>
          <a:blip r:embed="rId1"/>
          <a:stretch/>
        </p:blipFill>
        <p:spPr>
          <a:xfrm>
            <a:off x="179280" y="2003400"/>
            <a:ext cx="276408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00000"/>
                </a:solidFill>
                <a:latin typeface="Times New Roman"/>
                <a:ea typeface="Times New Roman"/>
              </a:rPr>
              <a:t>МОЛОДЦЫ!!!</a:t>
            </a:r>
            <a:endParaRPr b="0" lang="en-US" sz="60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96" name="Рисунок 2" descr=""/>
          <p:cNvPicPr/>
          <p:nvPr/>
        </p:nvPicPr>
        <p:blipFill>
          <a:blip r:embed="rId1"/>
          <a:stretch/>
        </p:blipFill>
        <p:spPr>
          <a:xfrm>
            <a:off x="3995640" y="2824200"/>
            <a:ext cx="1838520" cy="285732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3" descr=""/>
          <p:cNvPicPr/>
          <p:nvPr/>
        </p:nvPicPr>
        <p:blipFill>
          <a:blip r:embed="rId2"/>
          <a:stretch/>
        </p:blipFill>
        <p:spPr>
          <a:xfrm rot="571200">
            <a:off x="5563800" y="2676600"/>
            <a:ext cx="3533760" cy="85716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4" descr=""/>
          <p:cNvPicPr/>
          <p:nvPr/>
        </p:nvPicPr>
        <p:blipFill>
          <a:blip r:embed="rId3"/>
          <a:stretch/>
        </p:blipFill>
        <p:spPr>
          <a:xfrm rot="20790600">
            <a:off x="519120" y="2676600"/>
            <a:ext cx="35337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733E4-04D4-4C69-BD3B-179C996A4F29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C0899-2660-4359-8405-6F499372B5DB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Calibri"/>
              </a:rPr>
              <a:t>Цель: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    </a:t>
            </a:r>
            <a:r>
              <a:rPr b="0" lang="ru-RU" sz="4400" spc="-1" strike="noStrike">
                <a:solidFill>
                  <a:srgbClr val="800000"/>
                </a:solidFill>
                <a:latin typeface="Calibri"/>
              </a:rPr>
              <a:t>Расширять представление о жизни и творчестве известного писателя и переводчика С. Я. Маршака.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5445000"/>
            <a:ext cx="77724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0000"/>
                </a:solidFill>
                <a:latin typeface="Times New Roman"/>
                <a:ea typeface="Times New Roman"/>
              </a:rPr>
              <a:t>С. Я. Маршак (1887 – 1964)</a:t>
            </a:r>
            <a:br>
              <a:rPr sz="4000"/>
            </a:br>
            <a:r>
              <a:rPr b="1" lang="ru-RU" sz="4000" spc="-1" strike="noStrike">
                <a:solidFill>
                  <a:srgbClr val="400000"/>
                </a:solidFill>
                <a:latin typeface="Times New Roman"/>
                <a:ea typeface="Times New Roman"/>
              </a:rPr>
              <a:t>135 лет со дня рождения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59" name="Picture 2" descr="H:\Documents and Settings\Aida\Рабочий стол\клипарты рамки фончики\kniga39.gif"/>
          <p:cNvPicPr/>
          <p:nvPr/>
        </p:nvPicPr>
        <p:blipFill>
          <a:blip r:embed="rId1"/>
          <a:stretch/>
        </p:blipFill>
        <p:spPr>
          <a:xfrm>
            <a:off x="2859120" y="1341360"/>
            <a:ext cx="3384360" cy="3262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http://s-marshak.ru/photo/detstvo/detstvo01.jpg"/>
          <p:cNvPicPr/>
          <p:nvPr/>
        </p:nvPicPr>
        <p:blipFill>
          <a:blip r:embed="rId2"/>
          <a:stretch/>
        </p:blipFill>
        <p:spPr>
          <a:xfrm>
            <a:off x="2859120" y="863640"/>
            <a:ext cx="3384360" cy="400536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6" descr=""/>
          <p:cNvPicPr/>
          <p:nvPr/>
        </p:nvPicPr>
        <p:blipFill>
          <a:blip r:embed="rId3"/>
          <a:stretch/>
        </p:blipFill>
        <p:spPr>
          <a:xfrm>
            <a:off x="2860560" y="863640"/>
            <a:ext cx="3384720" cy="4005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http://s-marshak.ru/photo/detstvo/detstvo08.jpg"/>
          <p:cNvPicPr/>
          <p:nvPr/>
        </p:nvPicPr>
        <p:blipFill>
          <a:blip r:embed="rId4"/>
          <a:stretch/>
        </p:blipFill>
        <p:spPr>
          <a:xfrm>
            <a:off x="2860560" y="868320"/>
            <a:ext cx="3382920" cy="4000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http://www.samisdat.com/picture/LJ/1250.JPG"/>
          <p:cNvPicPr/>
          <p:nvPr/>
        </p:nvPicPr>
        <p:blipFill>
          <a:blip r:embed="rId5"/>
          <a:stretch/>
        </p:blipFill>
        <p:spPr>
          <a:xfrm>
            <a:off x="2355840" y="885960"/>
            <a:ext cx="4392720" cy="3983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http://nkozlov.ru/upload/images/0703/0703271401490.jpg"/>
          <p:cNvPicPr/>
          <p:nvPr/>
        </p:nvPicPr>
        <p:blipFill>
          <a:blip r:embed="rId6"/>
          <a:stretch/>
        </p:blipFill>
        <p:spPr>
          <a:xfrm>
            <a:off x="2147760" y="893880"/>
            <a:ext cx="4808520" cy="3975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C:\Documents and Settings\Татьяна\Рабочий стол\86206084.jpg"/>
          <p:cNvPicPr/>
          <p:nvPr/>
        </p:nvPicPr>
        <p:blipFill>
          <a:blip r:embed="rId7"/>
          <a:stretch/>
        </p:blipFill>
        <p:spPr>
          <a:xfrm>
            <a:off x="2008080" y="892080"/>
            <a:ext cx="5384880" cy="39769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1" descr=""/>
          <p:cNvPicPr/>
          <p:nvPr/>
        </p:nvPicPr>
        <p:blipFill>
          <a:blip r:embed="rId8"/>
          <a:stretch/>
        </p:blipFill>
        <p:spPr>
          <a:xfrm>
            <a:off x="2008080" y="692280"/>
            <a:ext cx="53848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Calibri"/>
              </a:rPr>
              <a:t>Встреча с библиотекарем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68" name="Содержимое 5" descr="IMG-20170406-WA0001.jpg"/>
          <p:cNvPicPr/>
          <p:nvPr/>
        </p:nvPicPr>
        <p:blipFill>
          <a:blip r:embed="rId1"/>
          <a:stretch/>
        </p:blipFill>
        <p:spPr>
          <a:xfrm>
            <a:off x="1206360" y="1600200"/>
            <a:ext cx="2540160" cy="4525920"/>
          </a:xfrm>
          <a:prstGeom prst="rect">
            <a:avLst/>
          </a:prstGeom>
          <a:ln w="0">
            <a:noFill/>
          </a:ln>
        </p:spPr>
      </p:pic>
      <p:pic>
        <p:nvPicPr>
          <p:cNvPr id="69" name="Содержимое 7" descr="P1020925.JPG"/>
          <p:cNvPicPr/>
          <p:nvPr/>
        </p:nvPicPr>
        <p:blipFill>
          <a:blip r:embed="rId2"/>
          <a:stretch/>
        </p:blipFill>
        <p:spPr>
          <a:xfrm>
            <a:off x="4264200" y="2060640"/>
            <a:ext cx="4422600" cy="3316320"/>
          </a:xfrm>
          <a:prstGeom prst="rect">
            <a:avLst/>
          </a:prstGeom>
          <a:ln w="0">
            <a:noFill/>
          </a:ln>
        </p:spPr>
      </p:pic>
      <p:sp>
        <p:nvSpPr>
          <p:cNvPr id="7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F3A34-C0CE-4C5B-BDF4-A163F9BBAE45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B6382-8643-4C52-AC50-4E5182324811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Calibri"/>
              </a:rPr>
              <a:t>Реши кроссворд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73" name="Содержимое 8" descr="P1020926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sp>
        <p:nvSpPr>
          <p:cNvPr id="74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1BC3D-785D-4BB2-BA77-84E9476505C8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19215-ABF2-40F4-A36C-FD71F2B00A00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Вертикальный свиток 1"/>
          <p:cNvSpPr/>
          <p:nvPr/>
        </p:nvSpPr>
        <p:spPr>
          <a:xfrm>
            <a:off x="119160" y="1628640"/>
            <a:ext cx="5389560" cy="3600720"/>
          </a:xfrm>
          <a:prstGeom prst="vertic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748800" y="2035080"/>
            <a:ext cx="461988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ел он утром на кровать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ал рубашку надевать,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рукава просунул руки -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казалось, это брюки…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место шляпы на ходу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н надел сковороду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30492-FC3B-48DA-A02B-89F8261B91A7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36C90-6390-43DF-9227-575DA3FA3097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5153040" y="2205000"/>
            <a:ext cx="3751200" cy="281304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5"/>
          <p:cNvSpPr/>
          <p:nvPr/>
        </p:nvSpPr>
        <p:spPr>
          <a:xfrm>
            <a:off x="1981800" y="633240"/>
            <a:ext cx="508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0000"/>
                </a:solidFill>
                <a:latin typeface="Times New Roman"/>
                <a:ea typeface="Times New Roman"/>
              </a:rPr>
              <a:t>Угадай произведение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82" name="Рисунок 5" descr=""/>
          <p:cNvPicPr/>
          <p:nvPr/>
        </p:nvPicPr>
        <p:blipFill>
          <a:blip r:embed="rId2"/>
          <a:stretch/>
        </p:blipFill>
        <p:spPr>
          <a:xfrm>
            <a:off x="8101080" y="37296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Горизонтальный свиток 5"/>
          <p:cNvSpPr/>
          <p:nvPr/>
        </p:nvSpPr>
        <p:spPr>
          <a:xfrm>
            <a:off x="4114800" y="1844640"/>
            <a:ext cx="5003640" cy="3125880"/>
          </a:xfrm>
          <a:prstGeom prst="horizont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4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B5139-584C-4445-863F-FF16354EF295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D82BD-074E-4853-A1E3-E6DFCA6DB844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797280" y="2435400"/>
            <a:ext cx="5346720" cy="15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Любите Маршака, 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сь у него!»                               А.М. Горький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87" name="Рисунок 5" descr=""/>
          <p:cNvPicPr/>
          <p:nvPr/>
        </p:nvPicPr>
        <p:blipFill>
          <a:blip r:embed="rId1"/>
          <a:stretch/>
        </p:blipFill>
        <p:spPr>
          <a:xfrm>
            <a:off x="7451640" y="46656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http://s-marshak.ru/autographs/nadpis/nadpis15_1.jpg"/>
          <p:cNvPicPr/>
          <p:nvPr/>
        </p:nvPicPr>
        <p:blipFill>
          <a:blip r:embed="rId2"/>
          <a:stretch/>
        </p:blipFill>
        <p:spPr>
          <a:xfrm>
            <a:off x="168120" y="836640"/>
            <a:ext cx="39373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8E520-180B-4A77-8EF9-5E73B7B44A1A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0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1FCA1-09CC-414A-A1A0-19738283B8E7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91" name="Содержимое 5" descr="P1020924.JPG"/>
          <p:cNvPicPr/>
          <p:nvPr/>
        </p:nvPicPr>
        <p:blipFill>
          <a:blip r:embed="rId1"/>
          <a:stretch/>
        </p:blipFill>
        <p:spPr>
          <a:xfrm>
            <a:off x="1403280" y="1052640"/>
            <a:ext cx="6540480" cy="49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D6BE7-5CBC-4786-9099-CA6485B9D7A5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3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762E-7E1A-4269-B73A-ECCEB2BBA066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94" name="Содержимое 5" descr="P1020922.JPG"/>
          <p:cNvPicPr/>
          <p:nvPr/>
        </p:nvPicPr>
        <p:blipFill>
          <a:blip r:embed="rId1"/>
          <a:stretch/>
        </p:blipFill>
        <p:spPr>
          <a:xfrm>
            <a:off x="1187280" y="765000"/>
            <a:ext cx="6901200" cy="51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9T07:14:32Z</dcterms:created>
  <dc:creator>Елисеева Е.С.</dc:creator>
  <dc:description>http://aida.ucoz.ru</dc:description>
  <cp:keywords>Маршак</cp:keywords>
  <dc:language>en-US</dc:language>
  <cp:lastModifiedBy>1</cp:lastModifiedBy>
  <dcterms:modified xsi:type="dcterms:W3CDTF">2022-02-05T18:05:17Z</dcterms:modified>
  <cp:revision>149</cp:revision>
  <dc:subject/>
  <dc:title>литература 1</dc:title>
</cp:coreProperties>
</file>