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3588" cy="6858000"/>
  <p:notesSz cx="7102475" cy="10234613"/>
</p:presentation>
</file>

<file path=ppt/commentAuthors.xml><?xml version="1.0" encoding="utf-8"?>
<p:cmAuthorLst xmlns:p="http://schemas.openxmlformats.org/presentationml/2006/main">
  <p:cmAuthor id="0" name="мама" initials="м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22-03-13T17:12:20.353000000" idx="1">
    <p:pos x="6658" y="1092"/>
    <p:text>еуеуеуеуеу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087-B546-4B74-A618-C1ABCC30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A12-D456-45BC-97B3-04CF63DD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C2B-F2AC-4B15-8BB6-2C262D5A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3D1-CF6B-41F4-A50D-EF159626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E3D8-8AF7-4988-A1F7-3D81A30A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313-2E90-4DD3-835D-76F56B86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57A-D21F-4CE2-8A1D-8E08866C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C91-26CD-4ED2-AAEE-B8ED1628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2D0E-48BC-4BF3-BD0A-91B39D2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B6D6-C129-4D97-B3A5-7FF5BC4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B58F-823A-438D-85B0-0BE8EB1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0CE-3533-486D-BD4E-8FF849E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F14-EC08-498B-9990-52B8F43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BB57-190E-45EF-B4D8-3FCF60A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67BD-F2AA-405B-8DC2-0E65FAD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EBB9-9EC2-4699-87AF-6168CF7C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489-4C41-413F-B848-5736F616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440E-EF8C-40BD-BAAB-59F7E61F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56C8-8FD9-44D4-952E-A365871C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6415-3ED2-4B8A-9968-5001CCB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4AD7-DED8-4E0B-94DF-C611CE93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30A9-0F91-4DD3-8F2F-83E6A56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04E-B18E-4877-A223-B801F74A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A9DE-A86C-4F48-9B3A-FEE38B4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D606-0DEA-4109-A327-FA88DB7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25BE-9979-4AC2-A786-9A3820F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0F80-7C8D-42AB-AAC7-AEB4C11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F036-F340-49EB-819F-BDC81DEA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9AE9-7378-49EC-9536-FDDC8C85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BAA6-9043-4A89-9ACE-71EE57CC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71CB-A91A-46D8-BA97-B308A1B9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1AAC-72FF-46EF-9BEE-6EEF95DA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A84E-D4D6-4DA0-9968-1489930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AAC-4205-4674-8AB7-4AD2D8AD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1C9D-0CA5-454F-AEDD-0A90DD0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9FBF5-6642-4E59-ABDB-4B95A35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A5C2-6C4F-441B-96BC-4C353398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24FE-C8CC-40BF-9492-98495AB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B470-47D7-4B7E-8050-C7B6A59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3400-D201-4109-8420-11617F2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C205-28FF-43AA-BE6E-3F7D7A01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541E-0509-4B40-AD08-FAC0714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8D4C-1D81-4E0D-9B6E-06DB9063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AE6-08F7-4D74-B86E-8F63F8C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396-0AD1-4E4E-B08F-0DF40FD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A8B-606D-4C75-BC35-184BF8C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8A5-1DA2-4F1E-9F65-A0D240F5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FC5-55E6-466C-8383-5C84E90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7209-CA4B-41D8-8E5A-7369D1E7FC3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 Ligh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5513-D45E-497A-80AE-940442A75333}" type="slidenum">
              <a:rPr b="0" lang="en-US" sz="1400" spc="-1" strike="noStrike">
                <a:solidFill>
                  <a:srgbClr val="000000"/>
                </a:solidFill>
                <a:latin typeface="Calibri Ligh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2600" y="-3240"/>
            <a:ext cx="12204720" cy="686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6CF-9330-4A1E-855E-118AC60C030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 Ligh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9CB-C5DC-4B97-9ADB-FBC21F249FC2}" type="slidenum">
              <a:rPr b="0" lang="en-US" sz="1400" spc="-1" strike="noStrike">
                <a:solidFill>
                  <a:srgbClr val="000000"/>
                </a:solidFill>
                <a:latin typeface="Calibri Ligh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477-FB6B-4B4D-AB71-E00D677D0E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A27-297E-4E48-BA88-971E88BCF3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7680" y="-671760"/>
            <a:ext cx="86058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 Light"/>
              </a:rPr>
              <a:t>   </a:t>
            </a: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Научно- исследовательская работа по       немецкому языку « Немецкий- это класс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Замещающая рамка рисунка 3" descr="myhc_58854"/>
          <p:cNvPicPr/>
          <p:nvPr/>
        </p:nvPicPr>
        <p:blipFill>
          <a:blip r:embed="rId1"/>
          <a:stretch/>
        </p:blipFill>
        <p:spPr>
          <a:xfrm>
            <a:off x="3301920" y="1552680"/>
            <a:ext cx="5230800" cy="257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61400" y="4708080"/>
            <a:ext cx="35575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Выполнили: </a:t>
            </a:r>
            <a:r>
              <a:rPr b="1" i="1" lang="ru-RU" sz="2000" spc="-1" strike="noStrike">
                <a:solidFill>
                  <a:srgbClr val="000000"/>
                </a:solidFill>
                <a:latin typeface="Calibri Light"/>
              </a:rPr>
              <a:t>ученики 7 г класса Нейфельд И., Кох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Руководитель: </a:t>
            </a:r>
            <a:r>
              <a:rPr b="1" i="1" lang="ru-RU" sz="2000" spc="-1" strike="noStrike">
                <a:solidFill>
                  <a:srgbClr val="000000"/>
                </a:solidFill>
                <a:latin typeface="Calibri Light"/>
              </a:rPr>
              <a:t>Сердюк.О.Е. 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320" y="-360"/>
            <a:ext cx="10060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школьного опроса «Немецкий язык в нашей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ы выбрали немецкий язы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иться ли вам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о ли вам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жно ли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9776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результатов можно достичь, зная немецкий язы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036800"/>
            <a:ext cx="538488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ь книги немецких а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ть образование  в немецко- говорящ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атривать фильмы ннемец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ться с людьми в Г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ешествовать по Г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Изображение 13" descr="IMAG7564"/>
          <p:cNvPicPr/>
          <p:nvPr/>
        </p:nvPicPr>
        <p:blipFill>
          <a:blip r:embed="rId1"/>
          <a:stretch/>
        </p:blipFill>
        <p:spPr>
          <a:xfrm>
            <a:off x="6515280" y="1297080"/>
            <a:ext cx="4281480" cy="2528640"/>
          </a:xfrm>
          <a:prstGeom prst="rect">
            <a:avLst/>
          </a:prstGeom>
          <a:ln w="0">
            <a:noFill/>
          </a:ln>
        </p:spPr>
      </p:pic>
      <p:pic>
        <p:nvPicPr>
          <p:cNvPr id="212" name="Изображение 14" descr="IMAG7569"/>
          <p:cNvPicPr/>
          <p:nvPr/>
        </p:nvPicPr>
        <p:blipFill>
          <a:blip r:embed="rId2"/>
          <a:stretch/>
        </p:blipFill>
        <p:spPr>
          <a:xfrm>
            <a:off x="6505560" y="3952800"/>
            <a:ext cx="4299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зультат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174680"/>
            <a:ext cx="53848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 распостранен во все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немецкого языка очень популя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немецкому языку не очень с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- родной язык многих деятелей культуры и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ешествия- одна из причин учить немец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я немецкий язык, можно построить отличную карьеру: туризм, гостиничный бизнес, медицина,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72640" y="1174320"/>
            <a:ext cx="1034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 является часть мирового со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современной молодежи к изучению немец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ость немец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хотя многие хотели бы изучать английский язык, немецкий, в свою очередь , занимает свое почетное второ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6920" y="1098720"/>
            <a:ext cx="10899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6 причин учить немецкий язык!» // Vitamin DE – 2011 – №51; Dagmar Glück, „Autos aus Deutschlands“ // Vitamin DE – 2011 – №5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Торговый дом братьев Шмидт» // Яндекс. Словари. – URL: http://pugachev-sar.narod.ru/torgovyjdom.htm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енкель» // Википедия - URL: http://ru.wikipedia.org/wiki/Henkel_Group;  «Thomas» // Википедия - URL: http://ru.wikipedia.org/wiki/Thom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753720" y="6051600"/>
            <a:ext cx="2127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33400" y="9137160"/>
            <a:ext cx="159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н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56600" y="9433080"/>
            <a:ext cx="5818320" cy="3892320"/>
          </a:xfrm>
          <a:prstGeom prst="rect">
            <a:avLst/>
          </a:prstGeom>
          <a:ln w="0">
            <a:noFill/>
          </a:ln>
        </p:spPr>
      </p:pic>
      <p:pic>
        <p:nvPicPr>
          <p:cNvPr id="173" name="Text Placeholder 3" descr=""/>
          <p:cNvPicPr/>
          <p:nvPr/>
        </p:nvPicPr>
        <p:blipFill>
          <a:blip r:embed="rId2"/>
          <a:stretch/>
        </p:blipFill>
        <p:spPr>
          <a:xfrm>
            <a:off x="163440" y="0"/>
            <a:ext cx="1236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44640" y="1041120"/>
            <a:ext cx="621504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hat Klas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hat Sti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Romantik und Gefuh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ntent Placeholder 99" descr=""/>
          <p:cNvPicPr/>
          <p:nvPr/>
        </p:nvPicPr>
        <p:blipFill>
          <a:blip r:embed="rId1"/>
          <a:stretch/>
        </p:blipFill>
        <p:spPr>
          <a:xfrm>
            <a:off x="2343240" y="2873520"/>
            <a:ext cx="64674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07920" y="-4948920"/>
            <a:ext cx="174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Content Placeholder 2" descr=""/>
          <p:cNvPicPr/>
          <p:nvPr/>
        </p:nvPicPr>
        <p:blipFill>
          <a:blip r:embed="rId1"/>
          <a:stretch/>
        </p:blipFill>
        <p:spPr>
          <a:xfrm>
            <a:off x="609480" y="1174680"/>
            <a:ext cx="10006200" cy="4953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 rot="10800000">
            <a:off x="13998600" y="9676800"/>
            <a:ext cx="11779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190080"/>
            <a:ext cx="111870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ль и значимость немецкого языка в современном м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Content Placeholder 4" descr="a867bf5a6535c0646c4adc06004fc7dd"/>
          <p:cNvPicPr/>
          <p:nvPr/>
        </p:nvPicPr>
        <p:blipFill>
          <a:blip r:embed="rId1"/>
          <a:stretch/>
        </p:blipFill>
        <p:spPr>
          <a:xfrm>
            <a:off x="593640" y="1855800"/>
            <a:ext cx="4891320" cy="358920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germaniya-zakryta-dlya-turistov-blog"/>
          <p:cNvPicPr/>
          <p:nvPr/>
        </p:nvPicPr>
        <p:blipFill>
          <a:blip r:embed="rId2"/>
          <a:stretch/>
        </p:blipFill>
        <p:spPr>
          <a:xfrm>
            <a:off x="6197760" y="1855800"/>
            <a:ext cx="5384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тория развития немецкого язы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Content Placeholder 4" descr="Wagner_Der-Chronist"/>
          <p:cNvPicPr/>
          <p:nvPr/>
        </p:nvPicPr>
        <p:blipFill>
          <a:blip r:embed="rId1"/>
          <a:stretch/>
        </p:blipFill>
        <p:spPr>
          <a:xfrm>
            <a:off x="706320" y="1866960"/>
            <a:ext cx="5092920" cy="3836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197400" y="1106280"/>
            <a:ext cx="538452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ы истории немецк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0-1050 древне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50- 1350 средне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50-1650 ранненово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0 нововерхнемецкий,современн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800" y="190440"/>
            <a:ext cx="114901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немецкого языка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млн. изучают немецкий язык как иност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100 млн. во всем мире говорят на немец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немцев в России около 840 ты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Content Placeholder 4" descr="medium_6c39520c81ae348c3add491dd6382957"/>
          <p:cNvPicPr/>
          <p:nvPr/>
        </p:nvPicPr>
        <p:blipFill>
          <a:blip r:embed="rId1"/>
          <a:stretch/>
        </p:blipFill>
        <p:spPr>
          <a:xfrm>
            <a:off x="5821200" y="1593720"/>
            <a:ext cx="6062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85680"/>
            <a:ext cx="1158228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немецкий язык важен для современ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язык Гете, Кафки, Моцарта,Баха, Бетхо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мания крупнейшая в мире страна-экспор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омный вклад немецких ученых в сфере химии физики и медиц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Content Placeholder 6" descr="ehksport-germanii"/>
          <p:cNvPicPr/>
          <p:nvPr/>
        </p:nvPicPr>
        <p:blipFill>
          <a:blip r:embed="rId1"/>
          <a:stretch/>
        </p:blipFill>
        <p:spPr>
          <a:xfrm>
            <a:off x="8742240" y="977760"/>
            <a:ext cx="3175200" cy="2936880"/>
          </a:xfrm>
          <a:prstGeom prst="rect">
            <a:avLst/>
          </a:prstGeom>
          <a:ln w="0">
            <a:noFill/>
          </a:ln>
        </p:spPr>
      </p:pic>
      <p:pic>
        <p:nvPicPr>
          <p:cNvPr id="192" name="Content Placeholder 4" descr="250px-JSBach"/>
          <p:cNvPicPr/>
          <p:nvPr/>
        </p:nvPicPr>
        <p:blipFill>
          <a:blip r:embed="rId2"/>
          <a:stretch/>
        </p:blipFill>
        <p:spPr>
          <a:xfrm>
            <a:off x="5826240" y="976320"/>
            <a:ext cx="2787480" cy="2938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shutterstock_602956547"/>
          <p:cNvPicPr/>
          <p:nvPr/>
        </p:nvPicPr>
        <p:blipFill>
          <a:blip r:embed="rId3"/>
          <a:stretch/>
        </p:blipFill>
        <p:spPr>
          <a:xfrm>
            <a:off x="7218360" y="4095720"/>
            <a:ext cx="3633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немецкого языка в городе Барнау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2" descr=""/>
          <p:cNvPicPr/>
          <p:nvPr/>
        </p:nvPicPr>
        <p:blipFill>
          <a:blip r:embed="rId1"/>
          <a:stretch/>
        </p:blipFill>
        <p:spPr>
          <a:xfrm>
            <a:off x="609480" y="1174680"/>
            <a:ext cx="5384880" cy="657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3T12:52:16Z</dcterms:created>
  <dc:creator/>
  <dc:description/>
  <dc:language>en-US</dc:language>
  <cp:lastModifiedBy>мама</cp:lastModifiedBy>
  <dcterms:modified xsi:type="dcterms:W3CDTF">2022-03-13T17:08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FD53ABE9678430CAED1124F3F458697</vt:lpwstr>
  </property>
  <property fmtid="{D5CDD505-2E9C-101B-9397-08002B2CF9AE}" pid="3" name="KSOProductBuildVer">
    <vt:lpwstr>1033-11.2.0.10463</vt:lpwstr>
  </property>
</Properties>
</file>