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6.gif" ContentType="image/gif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2193588" cy="6858000"/>
  <p:notesSz cx="7102475" cy="10234613"/>
</p:presentation>
</file>

<file path=ppt/commentAuthors.xml><?xml version="1.0" encoding="utf-8"?>
<p:cmAuthorLst xmlns:p="http://schemas.openxmlformats.org/presentationml/2006/main">
  <p:cmAuthor id="0" name="мама" initials="м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22-03-13T17:12:20.353000000" idx="1">
    <p:pos x="6658" y="1092"/>
    <p:text>еуеуеуеуеу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FDD-AED3-4DCF-A775-DF3F52BB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D3B-0381-4641-BFAD-C92C4524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A46-E542-4DB1-AFE5-F7CC21DC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500-6815-48A9-B2DE-53FC10F1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ABF8-820C-475E-8462-94B68133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38AD-6725-422B-8180-4CD1F35C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942-CBB8-417A-8EA0-58FEAEB0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9ABE-A5BA-4880-9DD8-06E8FDB3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C341-B1C1-43D7-9800-E4972AD8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BED3-EEC3-415C-8C11-5DCB6534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4514-6E75-4382-9F0C-57247D1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26D-4A2B-4E9C-98B1-9261FCB5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D1E-987F-4C5F-9071-ED3B2D4B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612B-92B7-43AD-9DD7-D1D6EB20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1A4B-C252-428D-81E4-4C78017F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6952-19EC-42A0-A9F1-BDCF7CA0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F01B-43D7-4FDE-A3D0-F05321CB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B1A3-2656-42E6-A478-7361DCA6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7ABE3-59FB-4638-A03C-981D2101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05FD-7776-4147-8A84-29163E1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0DFA-50A0-4C3C-AC12-1772F3D0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A550-9100-4662-9757-E89456E7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C9C-449B-462B-91B4-4A6A5C0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F45B8-EDDF-4201-8A8F-79D03C5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AA09-4811-4ECB-A3F0-52537B1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B1CF-204F-4ECD-A90B-7FAB819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1A37-718C-46DB-9ED2-4191BCC6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A887F-6B0A-4743-AD32-971BFD6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30A4-7470-444A-A1A5-BEC2722A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5A4C-7D45-4A34-8C78-ADD6AD95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3CB9-7AFE-4446-85E2-C808B59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F7A3-60EB-4F78-951A-986594F0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2A4D3-A42F-4D1F-A4AE-CBE8A92C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612-FAE7-4A95-B8E6-84E3923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D9691-8EB8-4A30-83E2-1192B20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B7C88-58FF-428C-BC72-081469EE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CA7B-7E4C-4353-A34D-A30DEFE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BC407-29D8-4D50-B93E-8D86F80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5566-AC6C-4175-99B6-438034AE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BF6A-7671-4DEB-90B3-CB456E1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8CB0-B163-4A90-9E5B-174273B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22556-514E-44BC-8F70-A037F0DA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17432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762000"/>
            <a:ext cx="35330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9E1A-9FBF-41A7-8919-50688219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E87-B04F-4B41-A6BF-23DEBB0B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90080"/>
            <a:ext cx="109728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AEC-0E0F-480B-A01C-B499E67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E37-2C84-4477-9AE9-10A42FFE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376200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B75-103D-4948-9B50-C6B0712F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60200"/>
            <a:ext cx="10972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174320"/>
            <a:ext cx="53546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762000"/>
            <a:ext cx="10972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6ED-7062-48C8-B1F5-299606F4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17D4-AFBC-4AF7-BAB2-9E5429CB8B76}" type="datetime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 Ligh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9CF-F361-4A0D-9148-5BE2C3493F8C}" type="slidenum">
              <a:rPr b="0" lang="en-US" sz="1400" spc="-1" strike="noStrike">
                <a:solidFill>
                  <a:srgbClr val="000000"/>
                </a:solidFill>
                <a:latin typeface="Calibri Ligh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2600" y="-3240"/>
            <a:ext cx="12204720" cy="6861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4464-1E41-4A2A-BB02-A56CD92F9973}" type="datetime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 Light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6EAB-B617-47F0-A252-4C2B569BFC90}" type="slidenum">
              <a:rPr b="0" lang="en-US" sz="1400" spc="-1" strike="noStrike">
                <a:solidFill>
                  <a:srgbClr val="000000"/>
                </a:solidFill>
                <a:latin typeface="Calibri Light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B31-89CE-4EAA-B5DC-81E574824A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824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174320"/>
            <a:ext cx="10972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1E63-9AE0-4B31-889E-F8CB5C96DB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7680" y="-671760"/>
            <a:ext cx="86058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 Light"/>
              </a:rPr>
              <a:t>   </a:t>
            </a:r>
            <a:br>
              <a:rPr sz="4000"/>
            </a:br>
            <a:r>
              <a:rPr b="0" lang="ru-RU" sz="3600" spc="-1" strike="noStrike">
                <a:solidFill>
                  <a:srgbClr val="ffffff"/>
                </a:solidFill>
                <a:latin typeface="Calibri Light"/>
              </a:rPr>
              <a:t>Научно- исследовательская работа по       немецкому языку « Немецкий- это класс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Замещающая рамка рисунка 3" descr="myhc_58854"/>
          <p:cNvPicPr/>
          <p:nvPr/>
        </p:nvPicPr>
        <p:blipFill>
          <a:blip r:embed="rId1"/>
          <a:stretch/>
        </p:blipFill>
        <p:spPr>
          <a:xfrm>
            <a:off x="3301920" y="1552680"/>
            <a:ext cx="5230800" cy="2574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961400" y="4708080"/>
            <a:ext cx="35575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Выполнили: </a:t>
            </a:r>
            <a:r>
              <a:rPr b="1" i="1" lang="ru-RU" sz="2000" spc="-1" strike="noStrike">
                <a:solidFill>
                  <a:srgbClr val="000000"/>
                </a:solidFill>
                <a:latin typeface="Calibri Light"/>
              </a:rPr>
              <a:t>ученики 7 г класса Нейфельд И., Кох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 Light"/>
              </a:rPr>
              <a:t>Руководитель: </a:t>
            </a:r>
            <a:r>
              <a:rPr b="1" i="1" lang="ru-RU" sz="2000" spc="-1" strike="noStrike">
                <a:solidFill>
                  <a:srgbClr val="000000"/>
                </a:solidFill>
                <a:latin typeface="Calibri Light"/>
              </a:rPr>
              <a:t>Сердюк.О.Е. учитель немец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320" y="-360"/>
            <a:ext cx="10060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зультаты школьного опроса «Немецкий язык в нашей школ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вы выбрали немецкий язы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иться ли вам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о ли вам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ажно ли изучать немецкий язык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9776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результатов можно достичь, зная немецкий язы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036800"/>
            <a:ext cx="538488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ь книги немецких ав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ить образование  в немецко- говорящ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матривать фильмы ннемецком язы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ться с людьми в Г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ешествовать по Герм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Изображение 13" descr="IMAG7564"/>
          <p:cNvPicPr/>
          <p:nvPr/>
        </p:nvPicPr>
        <p:blipFill>
          <a:blip r:embed="rId1"/>
          <a:stretch/>
        </p:blipFill>
        <p:spPr>
          <a:xfrm>
            <a:off x="6515280" y="1297080"/>
            <a:ext cx="4281480" cy="2528640"/>
          </a:xfrm>
          <a:prstGeom prst="rect">
            <a:avLst/>
          </a:prstGeom>
          <a:ln w="0">
            <a:noFill/>
          </a:ln>
        </p:spPr>
      </p:pic>
      <p:pic>
        <p:nvPicPr>
          <p:cNvPr id="212" name="Изображение 14" descr="IMAG7569"/>
          <p:cNvPicPr/>
          <p:nvPr/>
        </p:nvPicPr>
        <p:blipFill>
          <a:blip r:embed="rId2"/>
          <a:stretch/>
        </p:blipFill>
        <p:spPr>
          <a:xfrm>
            <a:off x="6505560" y="3952800"/>
            <a:ext cx="42991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зультат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174680"/>
            <a:ext cx="53848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 распостранен во всем ми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немецкого языка очень популяр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немецкому языку не очень слож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- родной язык многих деятелей культуры и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тешествия- одна из причин учить немец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я немецкий язык, можно построить отличную карьеру: туризм, гостиничный бизнес, медицина, 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72640" y="1174320"/>
            <a:ext cx="1034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мецкий язык является часть мирового со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современной молодежи к изучению немец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рность немец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хотя многие хотели бы изучать английский язык, немецкий, в свою очередь , занимает свое почетное второ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6920" y="1098720"/>
            <a:ext cx="10899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6 причин учить немецкий язык!» // Vitamin DE – 2011 – №51; Dagmar Glück, „Autos aus Deutschlands“ // Vitamin DE – 2011 – №5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Торговый дом братьев Шмидт» // Яндекс. Словари. – URL: http://pugachev-sar.narod.ru/torgovyjdom.htm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Хенкель» // Википедия - URL: http://ru.wikipedia.org/wiki/Henkel_Group;  «Thomas» // Википедия - URL: http://ru.wikipedia.org/wiki/Thoma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753720" y="6051600"/>
            <a:ext cx="2127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33400" y="9137160"/>
            <a:ext cx="159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ани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56600" y="9433080"/>
            <a:ext cx="5818320" cy="3892320"/>
          </a:xfrm>
          <a:prstGeom prst="rect">
            <a:avLst/>
          </a:prstGeom>
          <a:ln w="0">
            <a:noFill/>
          </a:ln>
        </p:spPr>
      </p:pic>
      <p:pic>
        <p:nvPicPr>
          <p:cNvPr id="173" name="Text Placeholder 3" descr=""/>
          <p:cNvPicPr/>
          <p:nvPr/>
        </p:nvPicPr>
        <p:blipFill>
          <a:blip r:embed="rId2"/>
          <a:stretch/>
        </p:blipFill>
        <p:spPr>
          <a:xfrm>
            <a:off x="163440" y="0"/>
            <a:ext cx="1236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вед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744640" y="1041120"/>
            <a:ext cx="621504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hat Klass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hat Sti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Romantik und Gefuh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ntent Placeholder 99" descr=""/>
          <p:cNvPicPr/>
          <p:nvPr/>
        </p:nvPicPr>
        <p:blipFill>
          <a:blip r:embed="rId1"/>
          <a:stretch/>
        </p:blipFill>
        <p:spPr>
          <a:xfrm>
            <a:off x="2343240" y="2873520"/>
            <a:ext cx="646740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307920" y="-4948920"/>
            <a:ext cx="1746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Content Placeholder 2" descr=""/>
          <p:cNvPicPr/>
          <p:nvPr/>
        </p:nvPicPr>
        <p:blipFill>
          <a:blip r:embed="rId1"/>
          <a:stretch/>
        </p:blipFill>
        <p:spPr>
          <a:xfrm>
            <a:off x="609480" y="1174680"/>
            <a:ext cx="10006200" cy="4953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 rot="10800000">
            <a:off x="13998600" y="9676800"/>
            <a:ext cx="11779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190080"/>
            <a:ext cx="111870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ль и значимость немецкого языка в современном м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Content Placeholder 4" descr="a867bf5a6535c0646c4adc06004fc7dd"/>
          <p:cNvPicPr/>
          <p:nvPr/>
        </p:nvPicPr>
        <p:blipFill>
          <a:blip r:embed="rId1"/>
          <a:stretch/>
        </p:blipFill>
        <p:spPr>
          <a:xfrm>
            <a:off x="593640" y="1855800"/>
            <a:ext cx="4891320" cy="358920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7" descr="germaniya-zakryta-dlya-turistov-blog"/>
          <p:cNvPicPr/>
          <p:nvPr/>
        </p:nvPicPr>
        <p:blipFill>
          <a:blip r:embed="rId2"/>
          <a:stretch/>
        </p:blipFill>
        <p:spPr>
          <a:xfrm>
            <a:off x="6197760" y="1855800"/>
            <a:ext cx="53845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стория развития немецкого язы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Content Placeholder 4" descr="Wagner_Der-Chronist"/>
          <p:cNvPicPr/>
          <p:nvPr/>
        </p:nvPicPr>
        <p:blipFill>
          <a:blip r:embed="rId1"/>
          <a:stretch/>
        </p:blipFill>
        <p:spPr>
          <a:xfrm>
            <a:off x="706320" y="1866960"/>
            <a:ext cx="5092920" cy="3836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6197400" y="1106280"/>
            <a:ext cx="538452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ы истории немецк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0-1050 древне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50- 1350 средне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50-1650 ранненововерхнеме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50 нововерхнемецкий,современны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800" y="190440"/>
            <a:ext cx="114901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немецкого языка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млн. изучают немецкий язык как иностра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100 млн. во всем мире говорят на немец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енность немцев в России около 840 ты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Content Placeholder 4" descr="medium_6c39520c81ae348c3add491dd6382957"/>
          <p:cNvPicPr/>
          <p:nvPr/>
        </p:nvPicPr>
        <p:blipFill>
          <a:blip r:embed="rId1"/>
          <a:stretch/>
        </p:blipFill>
        <p:spPr>
          <a:xfrm>
            <a:off x="5821200" y="1593720"/>
            <a:ext cx="60627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85680"/>
            <a:ext cx="11582280" cy="10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ему немецкий язык важен для современ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ст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1174320"/>
            <a:ext cx="5384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язык Гете, Кафки, Моцарта,Баха, Бетхо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мания крупнейшая в мире страна-экспор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омный вклад немецких ученых в сфере химии физики и медиц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Content Placeholder 6" descr="ehksport-germanii"/>
          <p:cNvPicPr/>
          <p:nvPr/>
        </p:nvPicPr>
        <p:blipFill>
          <a:blip r:embed="rId1"/>
          <a:stretch/>
        </p:blipFill>
        <p:spPr>
          <a:xfrm>
            <a:off x="8742240" y="977760"/>
            <a:ext cx="3175200" cy="2936880"/>
          </a:xfrm>
          <a:prstGeom prst="rect">
            <a:avLst/>
          </a:prstGeom>
          <a:ln w="0">
            <a:noFill/>
          </a:ln>
        </p:spPr>
      </p:pic>
      <p:pic>
        <p:nvPicPr>
          <p:cNvPr id="192" name="Content Placeholder 4" descr="250px-JSBach"/>
          <p:cNvPicPr/>
          <p:nvPr/>
        </p:nvPicPr>
        <p:blipFill>
          <a:blip r:embed="rId2"/>
          <a:stretch/>
        </p:blipFill>
        <p:spPr>
          <a:xfrm>
            <a:off x="5826240" y="976320"/>
            <a:ext cx="2787480" cy="2938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shutterstock_602956547"/>
          <p:cNvPicPr/>
          <p:nvPr/>
        </p:nvPicPr>
        <p:blipFill>
          <a:blip r:embed="rId3"/>
          <a:stretch/>
        </p:blipFill>
        <p:spPr>
          <a:xfrm>
            <a:off x="7218360" y="4095720"/>
            <a:ext cx="3633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109728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немецкого языка в городе Барнау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2" descr=""/>
          <p:cNvPicPr/>
          <p:nvPr/>
        </p:nvPicPr>
        <p:blipFill>
          <a:blip r:embed="rId1"/>
          <a:stretch/>
        </p:blipFill>
        <p:spPr>
          <a:xfrm>
            <a:off x="609480" y="1174680"/>
            <a:ext cx="5384880" cy="6578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197400" y="1174320"/>
            <a:ext cx="538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13T12:52:16Z</dcterms:created>
  <dc:creator/>
  <dc:description/>
  <dc:language>en-US</dc:language>
  <cp:lastModifiedBy>мама</cp:lastModifiedBy>
  <dcterms:modified xsi:type="dcterms:W3CDTF">2022-03-13T17:08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FD53ABE9678430CAED1124F3F458697</vt:lpwstr>
  </property>
  <property fmtid="{D5CDD505-2E9C-101B-9397-08002B2CF9AE}" pid="3" name="KSOProductBuildVer">
    <vt:lpwstr>1033-11.2.0.10463</vt:lpwstr>
  </property>
</Properties>
</file>