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F2B-F335-4F4C-8E61-AD56BF48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964-8C01-4D94-9E63-F1A08140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9B2-F446-41B0-AF9D-AE3E726C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5542-0C47-4C6D-A1E9-EE31F320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F11-C2C6-4115-86C2-9CE6C59D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8648-AA88-415D-8042-B594F957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1B3F-B507-41E5-A85B-E22E9110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1D67-1E40-45E7-8E96-D7E2106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3D58-2C61-440C-BE3E-CFD662F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1B2-3DB4-43C4-8763-09A629EB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A09-04BF-4B8D-9FEA-013A8978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E1F-2492-4F05-B6DE-6316B366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014E-5569-46B7-8297-D90905E8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7D7-F0CE-4730-9DF4-0E8ABC9A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41CA-A815-4B03-8608-AF34B9F5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1003-B8F7-4154-ABF3-E6A3F553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F101-B143-4F1F-858D-D1A59850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800-AF61-4B8C-A642-680F8C74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10A7-F83E-4F21-9335-3BF1481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EE9-3838-42DF-8BDE-89891C6F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D03-2CC1-4FF7-8B39-33FED715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101-11A8-4520-AE23-5809118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B81-5412-4C5C-A8C3-6579A263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4E9-E73E-44CB-9B07-932D8479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C70-B291-4930-BA83-565803A90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F751-CC56-4EF3-BE2E-909F0FF24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682560" y="1468440"/>
            <a:ext cx="77850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6212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psj.ru/upload/iblock/2bb/ogssfbw-210.jpg"/>
          <p:cNvPicPr/>
          <p:nvPr/>
        </p:nvPicPr>
        <p:blipFill>
          <a:blip r:embed="rId2"/>
          <a:stretch/>
        </p:blipFill>
        <p:spPr>
          <a:xfrm>
            <a:off x="7491240" y="-6480"/>
            <a:ext cx="14209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817560" y="1828800"/>
            <a:ext cx="8035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"Родина...</a:t>
            </a:r>
            <a:br>
              <a:rPr sz="3600"/>
            </a:b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Мы ей обязаны нашими силами</a:t>
            </a:r>
            <a:br>
              <a:rPr sz="3600"/>
            </a:b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 и вдохнов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и радостями"</a:t>
            </a:r>
            <a:br>
              <a:rPr sz="3600"/>
            </a:br>
            <a:r>
              <a:rPr b="1" lang="ru-RU" sz="3600" spc="-1" strike="noStrike">
                <a:solidFill>
                  <a:srgbClr val="342256"/>
                </a:solidFill>
                <a:latin typeface="Georgia"/>
              </a:rPr>
              <a:t>А.Бло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235080" y="1184400"/>
            <a:ext cx="8729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из нас при слове «Родина» перед мысленным взором возникает вполне конкретный образ: родной дом, городская или сельская улица, что помнит наши детские и школьные годы, завод, стройка или ферма, откуда началась трудовая биография; родные просторы, по которым столько хожено-перехожено… Многолик и многоцветен этот образ, выхваченный, как правило, из нашего детства…(В.Степаненк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начинается с себя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49440" y="24174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на начинается с истории того места, где ты родился и проживаешь, с героического прошлого предыдущих покол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– это любовь…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юбовь к семье, к земл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1240" y="1600200"/>
            <a:ext cx="855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В семейном кругу мы с вами растем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Основа основ – родительский дом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В семейном кругу все корни твои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И в жизнь ты входишь из семьи.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В семейном кругу мы жизнь создаем, 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Meiryo"/>
                <a:ea typeface="Meiryo"/>
              </a:rPr>
              <a:t>Основа основ – родительск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7520" y="325440"/>
            <a:ext cx="49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ждая семья – это большой сложный мир, в котором свои традиции, отношения и привычки, даже свой взгляд на воспитание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Vertuoz\Рабочий стол\6653c370ff50.jpg"/>
          <p:cNvPicPr/>
          <p:nvPr/>
        </p:nvPicPr>
        <p:blipFill>
          <a:blip r:embed="rId1"/>
          <a:stretch/>
        </p:blipFill>
        <p:spPr>
          <a:xfrm rot="562800">
            <a:off x="5594400" y="387360"/>
            <a:ext cx="2367000" cy="4116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3214800" y="4611600"/>
            <a:ext cx="5929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я – это дом, это муж и жена, это дети, бабушки и дедушки. Это любовь и заботы, труды и радости, несчастья и печали, привычки и тра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Vertuoz\Рабочий стол\a5facbcc4284.jpg"/>
          <p:cNvPicPr/>
          <p:nvPr/>
        </p:nvPicPr>
        <p:blipFill>
          <a:blip r:embed="rId1"/>
          <a:stretch/>
        </p:blipFill>
        <p:spPr>
          <a:xfrm>
            <a:off x="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2480" y="5265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febf7"/>
                </a:solidFill>
                <a:latin typeface="Times New Roman"/>
                <a:ea typeface="Times New Roman"/>
              </a:rPr>
              <a:t>Семья есть у всех даже у животных и нам без неё будет очень труд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Documents and Settings\Vertuoz\Рабочий стол\птэсi.jpeg"/>
          <p:cNvPicPr/>
          <p:nvPr/>
        </p:nvPicPr>
        <p:blipFill>
          <a:blip r:embed="rId2"/>
          <a:stretch/>
        </p:blipFill>
        <p:spPr>
          <a:xfrm rot="20699400">
            <a:off x="492120" y="4567320"/>
            <a:ext cx="1854360" cy="183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dg57.odnoklassniki.ru/getImage?photoId=445516746228&amp;photoType=0"/>
          <p:cNvPicPr/>
          <p:nvPr/>
        </p:nvPicPr>
        <p:blipFill>
          <a:blip r:embed="rId1"/>
          <a:stretch/>
        </p:blipFill>
        <p:spPr>
          <a:xfrm>
            <a:off x="0" y="0"/>
            <a:ext cx="9144000" cy="245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66680" y="274320"/>
            <a:ext cx="706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дина начинается с отчего д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16200" y="1746360"/>
            <a:ext cx="5415120" cy="2146320"/>
          </a:xfrm>
          <a:prstGeom prst="rect">
            <a:avLst/>
          </a:prstGeom>
          <a:gradFill rotWithShape="0">
            <a:gsLst>
              <a:gs pos="0">
                <a:srgbClr val="f5efff"/>
              </a:gs>
              <a:gs pos="100000">
                <a:srgbClr val="fcfaff"/>
              </a:gs>
            </a:gsLst>
            <a:lin ang="16200000"/>
          </a:gradFill>
          <a:ln w="9360">
            <a:solidFill>
              <a:srgbClr val="eae5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64960" indent="-26496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У 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аждого из нас на свете есть мес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нам за далью лет все ближе, все дорож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Там дышится легко, там мира чисто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с делает на миг счастливее и молож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(И. Таль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dg57.odnoklassniki.ru/getImage?photoId=444766067700&amp;photoType=0"/>
          <p:cNvPicPr/>
          <p:nvPr/>
        </p:nvPicPr>
        <p:blipFill>
          <a:blip r:embed="rId2"/>
          <a:stretch/>
        </p:blipFill>
        <p:spPr>
          <a:xfrm rot="21045000">
            <a:off x="4382640" y="4275000"/>
            <a:ext cx="461160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cs309725.userapi.com/v309725932/5d8/Hf0VEqqtZm0.jpg"/>
          <p:cNvPicPr/>
          <p:nvPr/>
        </p:nvPicPr>
        <p:blipFill>
          <a:blip r:embed="rId3"/>
          <a:stretch/>
        </p:blipFill>
        <p:spPr>
          <a:xfrm rot="21036000">
            <a:off x="401760" y="3096720"/>
            <a:ext cx="4086000" cy="2708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bankgorodov.ru/coa/86457.png"/>
          <p:cNvPicPr/>
          <p:nvPr/>
        </p:nvPicPr>
        <p:blipFill>
          <a:blip r:embed="rId4"/>
          <a:stretch/>
        </p:blipFill>
        <p:spPr>
          <a:xfrm>
            <a:off x="331920" y="1108080"/>
            <a:ext cx="165708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77560" y="325440"/>
            <a:ext cx="863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на - это наша школа, которая подарила нам замечательных товарищей, друзей, наставников, учителей, которые стали по-настоящему родной семьё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а будто белый многопалубный корабль, всегда готовый к отплытию в страну знаний…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чего же начинается Родин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наших родных мест, с малой Родины, того уголка Земли, который всегда в нашем сердце, куда нас тянет, несмотря ни на какие препятствия и трудност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4:55:26Z</dcterms:created>
  <dc:creator>Geetesh Bajaj</dc:creator>
  <dc:description/>
  <dc:language>en-US</dc:language>
  <cp:lastModifiedBy>Teacher</cp:lastModifiedBy>
  <dcterms:modified xsi:type="dcterms:W3CDTF">2023-02-02T16:37:24Z</dcterms:modified>
  <cp:revision>18</cp:revision>
  <dc:subject/>
  <dc:title>Slide 1</dc:title>
</cp:coreProperties>
</file>