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939-43C0-49AA-AD47-EFC8178A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38B-79F6-412B-8C44-84399A8E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985-8C97-418E-A0ED-72277AD0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EEE-AD51-44A4-8BB7-69BDACAB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8258-80C9-4C18-BA44-CF73C83D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EBE8-9AAC-48B3-8FC0-7C955D17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B20C-8E11-47DD-A4A3-C25C83C0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9681-0A63-4172-B5CF-99850F19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DD75-809A-4F64-9414-2771D60B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5BF-F309-4873-909F-7E21F1EB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3CA4-9DD7-4875-8286-4B69D8C1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B98-EEED-4749-9438-11A2BCB6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9186-3B5E-43E1-A539-C2A97799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B263-5FF0-42EE-98FD-6A912284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4128-D456-43ED-B851-CFADD92F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C33C-087E-4E7A-9A65-09BBC7D8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3BDA-C061-4ABE-A3D2-168B165A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382-18FB-4701-BA2F-E6946D0C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87B-526B-4215-A784-E730380F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1AA-06DF-44F7-93F2-C722E245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68C-FD5E-4461-AD5B-112F3116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8C3-1BAB-46AB-B81E-23FDDF6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31A-9600-4B2C-BD12-44A107B7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CE7-0282-4FC4-AEF4-B93A8DA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AD14-A1DF-4B4D-A732-D36A879BA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C807-647E-4713-A83B-E11FF5B37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682560" y="1468440"/>
            <a:ext cx="778500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62120" y="3507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www.psj.ru/upload/iblock/2bb/ogssfbw-210.jpg"/>
          <p:cNvPicPr/>
          <p:nvPr/>
        </p:nvPicPr>
        <p:blipFill>
          <a:blip r:embed="rId2"/>
          <a:stretch/>
        </p:blipFill>
        <p:spPr>
          <a:xfrm>
            <a:off x="7491240" y="-6480"/>
            <a:ext cx="14209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817560" y="1828800"/>
            <a:ext cx="803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"Родина...</a:t>
            </a:r>
            <a:br>
              <a:rPr sz="3600"/>
            </a:b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Мы ей обязаны нашими силами</a:t>
            </a:r>
            <a:br>
              <a:rPr sz="3600"/>
            </a:b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 и вдохнов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и радостями"</a:t>
            </a:r>
            <a:br>
              <a:rPr sz="3600"/>
            </a:b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А.Блок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35080" y="1184400"/>
            <a:ext cx="8729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из нас при слове «Родина» перед мысленным взором возникает вполне конкретный образ: родной дом, городская или сельская улица, что помнит наши детские и школьные годы, завод, стройка или ферма, откуда началась трудовая биография; родные просторы, по которым столько хожено-перехожено… Многолик и многоцветен этот образ, выхваченный, как правило, из нашего детства…(В.Степаненк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на начинается с себя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49440" y="24174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на начинается с истории того места, где ты родился и проживаешь, с героического прошлого предыдущих поко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на – это любовь…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юбовь к семье, к земл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1240" y="1600200"/>
            <a:ext cx="855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В семейном кругу мы с вами растем.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Основа основ – родительский дом.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В семейном кругу все корни твои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И в жизнь ты входишь из семьи.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В семейном кругу мы жизнь создаем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Основа основ – родитель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7520" y="325440"/>
            <a:ext cx="49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ждая семья – это большой сложный мир, в котором свои традиции, отношения и привычки, даже свой взгляд на воспитание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Vertuoz\Рабочий стол\6653c370ff50.jpg"/>
          <p:cNvPicPr/>
          <p:nvPr/>
        </p:nvPicPr>
        <p:blipFill>
          <a:blip r:embed="rId1"/>
          <a:stretch/>
        </p:blipFill>
        <p:spPr>
          <a:xfrm rot="562800">
            <a:off x="5594400" y="387360"/>
            <a:ext cx="2367000" cy="4116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3214800" y="4611600"/>
            <a:ext cx="592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я – это дом, это муж и жена, это дети, бабушки и дедушки. Это любовь и заботы, труды и радости, несчастья и печали, привычки и тра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Vertuoz\Рабочий стол\a5facbcc4284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2480" y="5265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febf7"/>
                </a:solidFill>
                <a:latin typeface="Times New Roman"/>
                <a:ea typeface="Times New Roman"/>
              </a:rPr>
              <a:t>Семья есть у всех даже у животных и нам без неё будет очень труд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Documents and Settings\Vertuoz\Рабочий стол\птэсi.jpeg"/>
          <p:cNvPicPr/>
          <p:nvPr/>
        </p:nvPicPr>
        <p:blipFill>
          <a:blip r:embed="rId2"/>
          <a:stretch/>
        </p:blipFill>
        <p:spPr>
          <a:xfrm rot="20699400">
            <a:off x="492120" y="4567320"/>
            <a:ext cx="1854360" cy="183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dg57.odnoklassniki.ru/getImage?photoId=445516746228&amp;photoType=0"/>
          <p:cNvPicPr/>
          <p:nvPr/>
        </p:nvPicPr>
        <p:blipFill>
          <a:blip r:embed="rId1"/>
          <a:stretch/>
        </p:blipFill>
        <p:spPr>
          <a:xfrm>
            <a:off x="0" y="0"/>
            <a:ext cx="9144000" cy="2457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66680" y="274320"/>
            <a:ext cx="706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на начинается с отчего д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16200" y="1746360"/>
            <a:ext cx="5415120" cy="2146320"/>
          </a:xfrm>
          <a:prstGeom prst="rect">
            <a:avLst/>
          </a:prstGeom>
          <a:gradFill rotWithShape="0">
            <a:gsLst>
              <a:gs pos="0">
                <a:srgbClr val="f5efff"/>
              </a:gs>
              <a:gs pos="100000">
                <a:srgbClr val="fcfaff"/>
              </a:gs>
            </a:gsLst>
            <a:lin ang="16200000"/>
          </a:gradFill>
          <a:ln w="9360">
            <a:solidFill>
              <a:srgbClr val="eae5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64960" indent="-26496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ждого из нас на свете есть мес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нам за далью лет все ближе, все дорож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ам дышится легко, там мира чист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с делает на миг счастливее и моло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И. Таль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dg57.odnoklassniki.ru/getImage?photoId=444766067700&amp;photoType=0"/>
          <p:cNvPicPr/>
          <p:nvPr/>
        </p:nvPicPr>
        <p:blipFill>
          <a:blip r:embed="rId2"/>
          <a:stretch/>
        </p:blipFill>
        <p:spPr>
          <a:xfrm rot="21045000">
            <a:off x="4382640" y="4275000"/>
            <a:ext cx="461160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cs309725.userapi.com/v309725932/5d8/Hf0VEqqtZm0.jpg"/>
          <p:cNvPicPr/>
          <p:nvPr/>
        </p:nvPicPr>
        <p:blipFill>
          <a:blip r:embed="rId3"/>
          <a:stretch/>
        </p:blipFill>
        <p:spPr>
          <a:xfrm rot="21036000">
            <a:off x="401760" y="3096720"/>
            <a:ext cx="4086000" cy="270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bankgorodov.ru/coa/86457.png"/>
          <p:cNvPicPr/>
          <p:nvPr/>
        </p:nvPicPr>
        <p:blipFill>
          <a:blip r:embed="rId4"/>
          <a:stretch/>
        </p:blipFill>
        <p:spPr>
          <a:xfrm>
            <a:off x="331920" y="1108080"/>
            <a:ext cx="165708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77560" y="325440"/>
            <a:ext cx="863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на - это наша школа, которая подарила нам замечательных товарищей, друзей, наставников, учителей, которые стали по-настоящему родной семь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а будто белый многопалубный корабль, всегда готовый к отплытию в страну знаний…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 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чего же начинается Родин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наших родных мест, с малой Родины, того уголка Земли, который всегда в нашем сердце, куда нас тянет, несмотря ни на какие препятствия и трудност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4:55:26Z</dcterms:created>
  <dc:creator>Geetesh Bajaj</dc:creator>
  <dc:description/>
  <dc:language>en-US</dc:language>
  <cp:lastModifiedBy>Teacher</cp:lastModifiedBy>
  <dcterms:modified xsi:type="dcterms:W3CDTF">2023-02-02T16:37:24Z</dcterms:modified>
  <cp:revision>18</cp:revision>
  <dc:subject/>
  <dc:title>Slide 1</dc:title>
</cp:coreProperties>
</file>