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  <p:sldId id="289" r:id="rId66"/>
    <p:sldId id="290" r:id="rId67"/>
    <p:sldId id="291" r:id="rId68"/>
    <p:sldId id="292" r:id="rId69"/>
    <p:sldId id="293" r:id="rId70"/>
    <p:sldId id="294" r:id="rId71"/>
    <p:sldId id="295" r:id="rId72"/>
    <p:sldId id="296" r:id="rId73"/>
    <p:sldId id="297" r:id="rId74"/>
    <p:sldId id="298" r:id="rId75"/>
    <p:sldId id="299" r:id="rId76"/>
    <p:sldId id="300" r:id="rId77"/>
    <p:sldId id="301" r:id="rId78"/>
    <p:sldId id="302" r:id="rId79"/>
    <p:sldId id="303" r:id="rId80"/>
    <p:sldId id="304" r:id="rId81"/>
    <p:sldId id="305" r:id="rId82"/>
    <p:sldId id="306" r:id="rId83"/>
    <p:sldId id="307" r:id="rId84"/>
    <p:sldId id="308" r:id="rId85"/>
    <p:sldId id="309" r:id="rId86"/>
    <p:sldId id="310" r:id="rId87"/>
    <p:sldId id="311" r:id="rId88"/>
    <p:sldId id="312" r:id="rId89"/>
    <p:sldId id="313" r:id="rId90"/>
    <p:sldId id="314" r:id="rId91"/>
    <p:sldId id="315" r:id="rId92"/>
    <p:sldId id="316" r:id="rId93"/>
    <p:sldId id="317" r:id="rId94"/>
    <p:sldId id="318" r:id="rId95"/>
    <p:sldId id="319" r:id="rId96"/>
    <p:sldId id="320" r:id="rId97"/>
    <p:sldId id="321" r:id="rId98"/>
    <p:sldId id="322" r:id="rId99"/>
    <p:sldId id="323" r:id="rId100"/>
    <p:sldId id="324" r:id="rId101"/>
    <p:sldId id="325" r:id="rId102"/>
    <p:sldId id="326" r:id="rId103"/>
    <p:sldId id="327" r:id="rId104"/>
    <p:sldId id="328" r:id="rId105"/>
    <p:sldId id="329" r:id="rId106"/>
    <p:sldId id="330" r:id="rId107"/>
    <p:sldId id="331" r:id="rId108"/>
    <p:sldId id="332" r:id="rId109"/>
    <p:sldId id="333" r:id="rId110"/>
    <p:sldId id="334" r:id="rId111"/>
    <p:sldId id="335" r:id="rId112"/>
    <p:sldId id="336" r:id="rId113"/>
    <p:sldId id="337" r:id="rId114"/>
    <p:sldId id="338" r:id="rId115"/>
    <p:sldId id="339" r:id="rId116"/>
    <p:sldId id="340" r:id="rId117"/>
    <p:sldId id="341" r:id="rId118"/>
    <p:sldId id="342" r:id="rId119"/>
    <p:sldId id="343" r:id="rId120"/>
    <p:sldId id="344" r:id="rId121"/>
    <p:sldId id="345" r:id="rId122"/>
    <p:sldId id="346" r:id="rId123"/>
    <p:sldId id="347" r:id="rId124"/>
    <p:sldId id="348" r:id="rId125"/>
    <p:sldId id="349" r:id="rId126"/>
    <p:sldId id="350" r:id="rId127"/>
    <p:sldId id="351" r:id="rId128"/>
    <p:sldId id="352" r:id="rId129"/>
    <p:sldId id="353" r:id="rId130"/>
    <p:sldId id="354" r:id="rId131"/>
    <p:sldId id="355" r:id="rId132"/>
    <p:sldId id="356" r:id="rId133"/>
    <p:sldId id="357" r:id="rId134"/>
    <p:sldId id="358" r:id="rId135"/>
    <p:sldId id="359" r:id="rId136"/>
    <p:sldId id="360" r:id="rId137"/>
    <p:sldId id="361" r:id="rId138"/>
    <p:sldId id="362" r:id="rId139"/>
    <p:sldId id="363" r:id="rId140"/>
    <p:sldId id="364" r:id="rId141"/>
    <p:sldId id="365" r:id="rId142"/>
    <p:sldId id="366" r:id="rId143"/>
    <p:sldId id="367" r:id="rId144"/>
    <p:sldId id="368" r:id="rId145"/>
    <p:sldId id="369" r:id="rId146"/>
    <p:sldId id="370" r:id="rId147"/>
    <p:sldId id="371" r:id="rId148"/>
    <p:sldId id="372" r:id="rId149"/>
    <p:sldId id="373" r:id="rId150"/>
    <p:sldId id="374" r:id="rId151"/>
    <p:sldId id="375" r:id="rId152"/>
    <p:sldId id="376" r:id="rId153"/>
    <p:sldId id="377" r:id="rId154"/>
    <p:sldId id="378" r:id="rId155"/>
    <p:sldId id="379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slide" Target="slides/slide34.xml"/><Relationship Id="rId67" Type="http://schemas.openxmlformats.org/officeDocument/2006/relationships/slide" Target="slides/slide35.xml"/><Relationship Id="rId68" Type="http://schemas.openxmlformats.org/officeDocument/2006/relationships/slide" Target="slides/slide36.xml"/><Relationship Id="rId69" Type="http://schemas.openxmlformats.org/officeDocument/2006/relationships/slide" Target="slides/slide37.xml"/><Relationship Id="rId70" Type="http://schemas.openxmlformats.org/officeDocument/2006/relationships/slide" Target="slides/slide38.xml"/><Relationship Id="rId71" Type="http://schemas.openxmlformats.org/officeDocument/2006/relationships/slide" Target="slides/slide39.xml"/><Relationship Id="rId72" Type="http://schemas.openxmlformats.org/officeDocument/2006/relationships/slide" Target="slides/slide40.xml"/><Relationship Id="rId73" Type="http://schemas.openxmlformats.org/officeDocument/2006/relationships/slide" Target="slides/slide41.xml"/><Relationship Id="rId74" Type="http://schemas.openxmlformats.org/officeDocument/2006/relationships/slide" Target="slides/slide42.xml"/><Relationship Id="rId75" Type="http://schemas.openxmlformats.org/officeDocument/2006/relationships/slide" Target="slides/slide43.xml"/><Relationship Id="rId76" Type="http://schemas.openxmlformats.org/officeDocument/2006/relationships/slide" Target="slides/slide44.xml"/><Relationship Id="rId77" Type="http://schemas.openxmlformats.org/officeDocument/2006/relationships/slide" Target="slides/slide45.xml"/><Relationship Id="rId78" Type="http://schemas.openxmlformats.org/officeDocument/2006/relationships/slide" Target="slides/slide46.xml"/><Relationship Id="rId79" Type="http://schemas.openxmlformats.org/officeDocument/2006/relationships/slide" Target="slides/slide47.xml"/><Relationship Id="rId80" Type="http://schemas.openxmlformats.org/officeDocument/2006/relationships/slide" Target="slides/slide48.xml"/><Relationship Id="rId81" Type="http://schemas.openxmlformats.org/officeDocument/2006/relationships/slide" Target="slides/slide49.xml"/><Relationship Id="rId82" Type="http://schemas.openxmlformats.org/officeDocument/2006/relationships/slide" Target="slides/slide50.xml"/><Relationship Id="rId83" Type="http://schemas.openxmlformats.org/officeDocument/2006/relationships/slide" Target="slides/slide51.xml"/><Relationship Id="rId84" Type="http://schemas.openxmlformats.org/officeDocument/2006/relationships/slide" Target="slides/slide52.xml"/><Relationship Id="rId85" Type="http://schemas.openxmlformats.org/officeDocument/2006/relationships/slide" Target="slides/slide53.xml"/><Relationship Id="rId86" Type="http://schemas.openxmlformats.org/officeDocument/2006/relationships/slide" Target="slides/slide54.xml"/><Relationship Id="rId87" Type="http://schemas.openxmlformats.org/officeDocument/2006/relationships/slide" Target="slides/slide55.xml"/><Relationship Id="rId88" Type="http://schemas.openxmlformats.org/officeDocument/2006/relationships/slide" Target="slides/slide56.xml"/><Relationship Id="rId89" Type="http://schemas.openxmlformats.org/officeDocument/2006/relationships/slide" Target="slides/slide57.xml"/><Relationship Id="rId90" Type="http://schemas.openxmlformats.org/officeDocument/2006/relationships/slide" Target="slides/slide58.xml"/><Relationship Id="rId91" Type="http://schemas.openxmlformats.org/officeDocument/2006/relationships/slide" Target="slides/slide59.xml"/><Relationship Id="rId92" Type="http://schemas.openxmlformats.org/officeDocument/2006/relationships/slide" Target="slides/slide60.xml"/><Relationship Id="rId93" Type="http://schemas.openxmlformats.org/officeDocument/2006/relationships/slide" Target="slides/slide61.xml"/><Relationship Id="rId94" Type="http://schemas.openxmlformats.org/officeDocument/2006/relationships/slide" Target="slides/slide62.xml"/><Relationship Id="rId95" Type="http://schemas.openxmlformats.org/officeDocument/2006/relationships/slide" Target="slides/slide63.xml"/><Relationship Id="rId96" Type="http://schemas.openxmlformats.org/officeDocument/2006/relationships/slide" Target="slides/slide64.xml"/><Relationship Id="rId97" Type="http://schemas.openxmlformats.org/officeDocument/2006/relationships/slide" Target="slides/slide65.xml"/><Relationship Id="rId98" Type="http://schemas.openxmlformats.org/officeDocument/2006/relationships/slide" Target="slides/slide66.xml"/><Relationship Id="rId99" Type="http://schemas.openxmlformats.org/officeDocument/2006/relationships/slide" Target="slides/slide67.xml"/><Relationship Id="rId100" Type="http://schemas.openxmlformats.org/officeDocument/2006/relationships/slide" Target="slides/slide68.xml"/><Relationship Id="rId101" Type="http://schemas.openxmlformats.org/officeDocument/2006/relationships/slide" Target="slides/slide69.xml"/><Relationship Id="rId102" Type="http://schemas.openxmlformats.org/officeDocument/2006/relationships/slide" Target="slides/slide70.xml"/><Relationship Id="rId103" Type="http://schemas.openxmlformats.org/officeDocument/2006/relationships/slide" Target="slides/slide71.xml"/><Relationship Id="rId104" Type="http://schemas.openxmlformats.org/officeDocument/2006/relationships/slide" Target="slides/slide72.xml"/><Relationship Id="rId105" Type="http://schemas.openxmlformats.org/officeDocument/2006/relationships/slide" Target="slides/slide73.xml"/><Relationship Id="rId106" Type="http://schemas.openxmlformats.org/officeDocument/2006/relationships/slide" Target="slides/slide74.xml"/><Relationship Id="rId107" Type="http://schemas.openxmlformats.org/officeDocument/2006/relationships/slide" Target="slides/slide75.xml"/><Relationship Id="rId108" Type="http://schemas.openxmlformats.org/officeDocument/2006/relationships/slide" Target="slides/slide76.xml"/><Relationship Id="rId109" Type="http://schemas.openxmlformats.org/officeDocument/2006/relationships/slide" Target="slides/slide77.xml"/><Relationship Id="rId110" Type="http://schemas.openxmlformats.org/officeDocument/2006/relationships/slide" Target="slides/slide78.xml"/><Relationship Id="rId111" Type="http://schemas.openxmlformats.org/officeDocument/2006/relationships/slide" Target="slides/slide79.xml"/><Relationship Id="rId112" Type="http://schemas.openxmlformats.org/officeDocument/2006/relationships/slide" Target="slides/slide80.xml"/><Relationship Id="rId113" Type="http://schemas.openxmlformats.org/officeDocument/2006/relationships/slide" Target="slides/slide81.xml"/><Relationship Id="rId114" Type="http://schemas.openxmlformats.org/officeDocument/2006/relationships/slide" Target="slides/slide82.xml"/><Relationship Id="rId115" Type="http://schemas.openxmlformats.org/officeDocument/2006/relationships/slide" Target="slides/slide83.xml"/><Relationship Id="rId116" Type="http://schemas.openxmlformats.org/officeDocument/2006/relationships/slide" Target="slides/slide84.xml"/><Relationship Id="rId117" Type="http://schemas.openxmlformats.org/officeDocument/2006/relationships/slide" Target="slides/slide85.xml"/><Relationship Id="rId118" Type="http://schemas.openxmlformats.org/officeDocument/2006/relationships/slide" Target="slides/slide86.xml"/><Relationship Id="rId119" Type="http://schemas.openxmlformats.org/officeDocument/2006/relationships/slide" Target="slides/slide87.xml"/><Relationship Id="rId120" Type="http://schemas.openxmlformats.org/officeDocument/2006/relationships/slide" Target="slides/slide88.xml"/><Relationship Id="rId121" Type="http://schemas.openxmlformats.org/officeDocument/2006/relationships/slide" Target="slides/slide89.xml"/><Relationship Id="rId122" Type="http://schemas.openxmlformats.org/officeDocument/2006/relationships/slide" Target="slides/slide90.xml"/><Relationship Id="rId123" Type="http://schemas.openxmlformats.org/officeDocument/2006/relationships/slide" Target="slides/slide91.xml"/><Relationship Id="rId124" Type="http://schemas.openxmlformats.org/officeDocument/2006/relationships/slide" Target="slides/slide92.xml"/><Relationship Id="rId125" Type="http://schemas.openxmlformats.org/officeDocument/2006/relationships/slide" Target="slides/slide93.xml"/><Relationship Id="rId126" Type="http://schemas.openxmlformats.org/officeDocument/2006/relationships/slide" Target="slides/slide94.xml"/><Relationship Id="rId127" Type="http://schemas.openxmlformats.org/officeDocument/2006/relationships/slide" Target="slides/slide95.xml"/><Relationship Id="rId128" Type="http://schemas.openxmlformats.org/officeDocument/2006/relationships/slide" Target="slides/slide96.xml"/><Relationship Id="rId129" Type="http://schemas.openxmlformats.org/officeDocument/2006/relationships/slide" Target="slides/slide97.xml"/><Relationship Id="rId130" Type="http://schemas.openxmlformats.org/officeDocument/2006/relationships/slide" Target="slides/slide98.xml"/><Relationship Id="rId131" Type="http://schemas.openxmlformats.org/officeDocument/2006/relationships/slide" Target="slides/slide99.xml"/><Relationship Id="rId132" Type="http://schemas.openxmlformats.org/officeDocument/2006/relationships/slide" Target="slides/slide100.xml"/><Relationship Id="rId133" Type="http://schemas.openxmlformats.org/officeDocument/2006/relationships/slide" Target="slides/slide101.xml"/><Relationship Id="rId134" Type="http://schemas.openxmlformats.org/officeDocument/2006/relationships/slide" Target="slides/slide102.xml"/><Relationship Id="rId135" Type="http://schemas.openxmlformats.org/officeDocument/2006/relationships/slide" Target="slides/slide103.xml"/><Relationship Id="rId136" Type="http://schemas.openxmlformats.org/officeDocument/2006/relationships/slide" Target="slides/slide104.xml"/><Relationship Id="rId137" Type="http://schemas.openxmlformats.org/officeDocument/2006/relationships/slide" Target="slides/slide105.xml"/><Relationship Id="rId138" Type="http://schemas.openxmlformats.org/officeDocument/2006/relationships/slide" Target="slides/slide106.xml"/><Relationship Id="rId139" Type="http://schemas.openxmlformats.org/officeDocument/2006/relationships/slide" Target="slides/slide107.xml"/><Relationship Id="rId140" Type="http://schemas.openxmlformats.org/officeDocument/2006/relationships/slide" Target="slides/slide108.xml"/><Relationship Id="rId141" Type="http://schemas.openxmlformats.org/officeDocument/2006/relationships/slide" Target="slides/slide109.xml"/><Relationship Id="rId142" Type="http://schemas.openxmlformats.org/officeDocument/2006/relationships/slide" Target="slides/slide110.xml"/><Relationship Id="rId143" Type="http://schemas.openxmlformats.org/officeDocument/2006/relationships/slide" Target="slides/slide111.xml"/><Relationship Id="rId144" Type="http://schemas.openxmlformats.org/officeDocument/2006/relationships/slide" Target="slides/slide112.xml"/><Relationship Id="rId145" Type="http://schemas.openxmlformats.org/officeDocument/2006/relationships/slide" Target="slides/slide113.xml"/><Relationship Id="rId146" Type="http://schemas.openxmlformats.org/officeDocument/2006/relationships/slide" Target="slides/slide114.xml"/><Relationship Id="rId147" Type="http://schemas.openxmlformats.org/officeDocument/2006/relationships/slide" Target="slides/slide115.xml"/><Relationship Id="rId148" Type="http://schemas.openxmlformats.org/officeDocument/2006/relationships/slide" Target="slides/slide116.xml"/><Relationship Id="rId149" Type="http://schemas.openxmlformats.org/officeDocument/2006/relationships/slide" Target="slides/slide117.xml"/><Relationship Id="rId150" Type="http://schemas.openxmlformats.org/officeDocument/2006/relationships/slide" Target="slides/slide118.xml"/><Relationship Id="rId151" Type="http://schemas.openxmlformats.org/officeDocument/2006/relationships/slide" Target="slides/slide119.xml"/><Relationship Id="rId152" Type="http://schemas.openxmlformats.org/officeDocument/2006/relationships/slide" Target="slides/slide120.xml"/><Relationship Id="rId153" Type="http://schemas.openxmlformats.org/officeDocument/2006/relationships/slide" Target="slides/slide121.xml"/><Relationship Id="rId154" Type="http://schemas.openxmlformats.org/officeDocument/2006/relationships/slide" Target="slides/slide122.xml"/><Relationship Id="rId155" Type="http://schemas.openxmlformats.org/officeDocument/2006/relationships/slide" Target="slides/slide123.xml"/><Relationship Id="rId156" Type="http://schemas.openxmlformats.org/officeDocument/2006/relationships/slide" Target="slides/slide124.xml"/><Relationship Id="rId1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102-0EBC-42AF-B531-FAFDA12D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88C-16F9-4916-A739-1833C7DA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F94C4-EA30-4EB9-9483-3B1864D9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5E1DA-E641-4C40-8056-226CE689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BEEB8-6C5F-4AD8-8D29-97D182A2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049BA-BDB0-4352-A33B-817AD67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CCE3-1384-49F3-8260-E2BC91C0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CBDFD-4236-4DEB-B81F-380FC20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95C8-B2A2-4563-BADB-69625801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6173A-8428-4ED1-8655-23E84280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4FDE5-D6A3-4968-959D-063E0FB7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1E2D6-5B8A-4C49-A5BA-A87969E8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B0B-0595-4116-ABE0-FF20BD5D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71972-CE51-43C8-9734-CDE1CA82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43926-D21C-4845-A7D7-1C82B8F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F643F-C809-4E93-9205-2511A88D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CEB49-8B5A-45E9-B21D-70BF4D11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F3A63-E091-4CA2-9F92-166C9BB7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4E1BF-E6D4-428F-A3B6-F25F42A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2A42E-DC66-4193-B9BE-53C3F5C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28163-FF37-450F-991E-54FA1C8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C87BB-8795-4409-85E9-7FD558A8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EE91D-5DE6-496C-9CD5-A69F6469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9D8-A5B7-4514-A66B-38CF3E88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63E45-A6D3-47F7-8EC4-AA9ED6C2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E8204-2AC1-4F23-8B59-17E0DCB9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C9C2B-2F43-4E70-9B61-7706A0FF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40255-716B-4A07-8C01-11C64EDD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EC55-0D6F-4E6C-B2AF-0D1C557B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22230-F80E-4043-B0F4-FA78EE91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15BE-FEFF-4695-8B38-918A44BD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FCB9E-DDC6-4FB7-8C39-33B1A2F2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3A8C6-1F64-41E0-B23D-6161CD19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B9C06-512F-41A4-B77A-8E4E708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5F84-3D24-4339-A0A6-8988FB8D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9E8F6-9E97-4108-A58C-353EF27A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59017-B546-422C-BF55-76CFF621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87477-3D07-4AA6-A63E-2647EC38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5C1D3-A243-4693-A77A-90F707FF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E7E29-67A2-4841-9C67-0F9AE931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7074C-771D-4C64-86A8-F458A705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4C06F-9270-4D41-9348-1BC590B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16003-6D7F-457B-A56C-0A63A2B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9D55E-1E12-4380-A98A-4380A46C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C0BFB-483A-4FD1-A1EC-ED314CB4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254E-802E-41E5-8D43-B5FEC359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0FB7B-1892-4DEC-862B-F6A87139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2A2DE-8C92-4DC1-B97C-F41DB955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4F273-1551-4AE1-8064-095EE893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85EA2-8B66-4EDC-A4C9-293484E5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20D38-A1D5-4838-941C-6BED61A5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4D4FB-8C31-4A82-A72A-C16BC3CD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71E5B-1866-4700-8108-795E0AF7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20184-7DD5-4397-ACBD-670BA33B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4D730-9C36-4E9C-A887-6154B4A4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4D6B1C-0906-40CA-816C-A3892A2C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6346-BCB9-49C3-B78B-01ABC442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B7539-1FA6-4146-B381-A1E83E0D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78682-335E-4701-B394-78DD8722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63AE3-30DB-467B-B132-9832CA3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F10F8-4B36-4801-8C99-B94FE09A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19EF6-C3A5-4A0F-861A-47592F97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2568C-70A5-4DDC-8056-C1C0880E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9A586-C29D-494E-8635-0C0F9CD0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13544-2A42-4F7F-A1B6-6167365A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201BD-3AC7-4D23-B9E6-757D42DD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A06B4-7DFB-4358-84AE-AEEED4F9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4E01-6E8C-4CEA-8897-1DB3DE5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D21C7-083F-4DA8-958E-3741BF5D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17B05-490A-477C-BC1C-A89DC40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08200-C925-49E0-9AEF-D4BB6BAD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02D4C-4636-4061-87DE-923ED881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E0175-1423-469A-B28F-DCFA9E57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37FDB2-FE94-4F6D-80D3-DAE8A4C8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C6AB4-2140-41CA-82CD-A1441EE4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1DD0B-C067-424F-B15B-58195F60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7F074-96EB-4404-9AE9-E4934BCC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C4AA0-C17F-4639-8B7E-D07B0D5D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D2F6-83C9-456F-A167-D81980B8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4DB5F-1D49-435E-A754-7C34AE9B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0EB16-EDF1-447B-987E-D905289C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0FF43B-1759-4D90-87DB-9162B145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7BAE3-8F81-4562-AA32-D231FB26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876BE-0FDB-43E1-A54E-20FD4C7F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B06E17-4CF2-4263-8E33-7D080BAC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12EA0B-F4BA-4FBF-B116-CF92D66D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29685-0212-4AF1-AEF2-C2D3F2CF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5956B-9370-40D0-BCF0-61D6CD6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5229D-17F0-44C3-9C54-3A06A09B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3A46-5C86-4317-9E6B-4409AFE8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F55ED-0B0F-4415-8589-2E32F0AF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B7CED-2EE0-4CE8-AD27-1E0B20BC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2053B-655E-48CF-8548-A181500C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E7A10-4CCA-4B25-87DA-FF4A8014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B211A-B863-4542-9BB2-2B22FFDE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6F32F-1B26-4E10-AFFB-DC647A0A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7E12B-2165-4BFC-A4FE-29E998BF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4A526-9D42-4C70-BDA9-3F7F852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54A91-A8EF-417E-9D66-1341EE25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4B9EC-3CF3-47F0-906C-750833C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7C6B-9D11-4726-9C5A-04711D9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FD0C0-D6B5-4793-B8B4-A8F56DCD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8BD03-0901-48BA-AFD5-452AF4A7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E14B1-910E-4578-8B8D-65340606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AC3E02-D135-4C5C-B9F1-8B5A4A28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2C71E-F575-46B9-AFF8-9AF6495E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F12BF-326A-466C-9D8D-A6E7EC6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F5F7B8-ACA5-4194-BCC4-4AD03476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E63747-1C56-4D57-B298-801F5DBE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809EEA-D75D-442F-BB57-51CB1E0B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33E01-76B9-425F-AFE2-B444B7D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040-7B04-4B6C-AB65-9E643987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F981-BA85-4C07-8718-8EE2DBD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5422B-5FED-468D-AF69-685E40E2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CF08BB-464C-4F09-8659-5CFEB93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488DB-EC6C-4210-8913-DB56A200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E96CE-C7B3-4D40-ACC6-5EDD1562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8502B8-078A-41B4-8F31-E3E28409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561CAC8-7D86-4899-AC42-368D69D5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B1CCCF-B65F-4FE1-BACA-B67B22D1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BDE4E7-8E30-4B0E-BCA1-D3CDAE94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30EABE2-1B92-4464-9885-F67705BE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0225FD-605E-4A60-A947-426BF5CE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20A0-FC40-45DA-A69E-A285112A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2192B04-0914-44C2-93DE-A506AFA2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A9AF4BF-14C4-45D9-A2C3-5539D13B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195DAC5-54AF-400F-959A-C92D5F79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3E4BD1-963B-4C90-8FF1-A0A755D8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72747C2-3C92-44C5-B9D9-72903EC4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7FABC3-2D84-415D-91A2-39956B69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312648-82ED-4409-8B55-821B495B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E441679-237A-4091-9909-75BE1321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F27B7E-856E-46C1-BE7E-E4223A4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CFB77F-E6D4-4EFE-91DC-BBBE58F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D03E-41D1-4074-9C7B-A0A6460C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6938DD-1741-46A0-9BFF-9423E2C7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71D0F4-16B0-4D39-897B-51C24E0C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DFC960-AFC1-4874-8D92-C49B1B15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7B0B64-36C6-4C05-8018-7AD213FE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448297-2558-4A3B-964C-821F123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6F4B15-C8E5-49C0-BF39-8328839B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01B705-F9F8-4823-818E-AEC9001C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700E45-756C-4ECF-9A39-42EE1F1C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DA731D-25B7-488C-B5BD-869856D8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7686D62-EB4A-4F44-AAE0-AAC8A495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CB4A-F93A-42A1-B845-1298FDC9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E09D66-208E-4C65-9957-CBF4AA72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90E195-D4BA-4647-928C-4FE8394A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C30478-C4DD-41F7-BEAD-5F6FB6B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A884446-D913-4254-AB22-716BDA9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D099678-1DAC-430B-9C76-C6EB7A6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67D01E-2745-4F50-A4E2-8E7AD170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F077E7-78F9-4ABC-A453-E9D4CFA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E81CECC-20FF-4BC2-8DD7-59C1F331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1957A5-4341-4007-937A-9B2EB44D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6F2E7A-245D-49CA-8C04-57943FA4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CE2-CA3B-4ED5-B9A7-E6C56BAF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CA16C4-92E2-483A-88C5-BA0527AD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D69AE-9E74-48C5-8325-17B1AB09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0BC99-9BAA-4B7F-92E2-C58EFB79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3D30F-9494-4EE6-9575-1F602DAA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DD2BE4-13DF-4DDC-B50C-D5C9862D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B62D97-CE44-4856-88F7-94E6C831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BCE57-E22C-4D7A-B7A0-D15EF3BD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86D540-C74A-4CD8-8E95-A31AC232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12C9B-13A8-45A1-964D-52F36C93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DE89E-828C-4C4C-B857-796D8469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11C1-3D14-4FEB-A95D-B93F0E2C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C6BBB-CF93-48D2-9078-FFF13458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E085F-2647-47DD-AD4C-FDBDAC7E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FC5B1-830C-4FDE-95F5-0D30942E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93A050-1D3D-4043-9815-37D0C9DB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1DD24-0833-47F0-BC7D-C13D5731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337D0E-A63B-458A-9BD6-A449681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D56128-30E0-41AE-BED8-B4D8457D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452319-0B1B-4C7A-B7F0-5815C62C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F1055-062C-4D80-8511-1F3B7C10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6C1A8-6B24-4981-9345-246A4EF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0859-2BA2-4184-9769-CABBB950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FCDD77-C1A8-48A3-B1D0-69F8FAF0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F55433-1672-46CD-964B-B9800D3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CF1BAE-C724-4BE2-B514-1832BF7A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766E1F-C8EE-4DD3-8292-7C5FA2AD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749A3F-8DD0-406E-8C42-FB98245E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7CA5A-601B-458F-80F2-A41439F7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5777FC-1166-48A4-A67E-9BE639B3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3E1C6B-3A3D-49A4-A6BB-C8D74CA3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81440-70B3-4F1B-9170-3E795657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640DF2-087A-4046-8A19-0BF97A91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6056-7A48-4B37-A40B-C42A3FE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C8E2B8-D320-49C5-88E5-D8B987C9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FC3014-1906-4992-9FEB-9BBA2672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12A9D0-6284-45ED-B03C-B6DCDA5A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BA5C2-89BF-440B-8447-B2A4E390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620B2E-C86A-49EF-AF2C-7DF06CBA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A2C829-F30E-42D1-ADF6-6CCF5F23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822440-18CA-4B7B-A38D-1D9A45EF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97EB06-500C-44DE-92BB-985AAD64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346D59-6D98-4EAC-945B-8001561C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93AC61-0B1E-4A12-A9C9-544C96F1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6834-7EB6-4E94-BA7C-79276966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6D6458-D3B9-486F-9FE9-D59C6CA6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F1AF32-387B-448D-95B6-357D5BBA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15C8F1-DECA-49AE-B4BD-978ACAB8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5E426-F81A-4004-A724-C74D1664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062ACB-C869-4E37-A617-BFFB795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E51654-2A3F-4171-90BF-DEDE39BA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5A84CF-4410-471B-8940-CFECD786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5EBD42-5065-4352-B3D0-7AE5FC48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9D03C7-60DB-4F91-8A7E-5337E1E0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8DC93B-F59C-4CBA-A440-7CECA223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3666-F2BD-459C-A76B-E91965B3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7D203E-9925-49FC-A57A-49225BB6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B08F9C-17A3-4237-883B-94A67BAA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6CFC3E-E4EE-42C2-B53D-15E607A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AB1FA4-655D-4356-95A1-835BE7C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7C50E4-6E82-448A-A13D-CEF98C5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0C21E1-56C8-4C1E-AF21-5F7348F6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B34CD9-2935-4C14-A879-17BE191D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BDB800-62BB-4D89-8B9C-4CCB39B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E0FCAF-6AA4-4C94-8095-0C94D28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1510E-FE31-483F-A1F7-EE55561A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496-4B8B-47EB-A467-B077BF59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0316-396E-47AE-8BBE-D5E3CD97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4AA657-E0B7-443A-A2F3-A8B7B3CE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16180A-D4FC-4029-9BDF-2BDA576F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C2E7F0-E8E3-4AA6-9C77-67213F98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22D712-2688-404B-B712-79706DA0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9763D8-55C8-4555-82F5-034DF51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7C7427-0019-4E14-82A8-2AAD70A6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173D05-CB63-47A2-97C2-EAEBCD7B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D32DAD-FB93-4AEB-84B4-48827A4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C59508-DCBB-45B2-8BAA-AA27BB7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B5C9E9-125D-41CD-A58A-50D3DB7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1F90-5F35-4F52-8B0C-3883E63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98801D-3691-4E0F-8C69-D3D2419D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39A3C6-D542-43C4-9996-3B61CEC6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EC07D7-9D50-4FEB-8054-7643C409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D08B80-4D1C-4DCE-8E2F-EA11A35B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FC128F-5A9C-4B21-9CA7-B3FFE254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0EF749-DB53-4674-8616-CD71AD44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EAB5AC-48BF-4D92-A3EB-11AC174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CCEF6E-1D15-4094-AA96-2D80E492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1ADB97-890B-40A1-A36C-8B36138D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ABF7EA-A195-4F00-8DC4-7147BDBA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7B88-0398-43A9-9D9D-3664280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5CFD72-AD6C-42F2-A8F5-35F02295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64D539-9C92-43CB-8DB5-F51E9A55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8DFE5A-D177-4CA2-A6B0-128F4CD8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09B8D7-738B-4174-8F9D-80061EAC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DD47FE-4BDD-47C1-9B3A-761EEDEA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D2992A-1002-4D1A-9026-3B5A3F67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6E0888-CC40-4BFE-ADDF-0EA2215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91C908-FEC3-4B62-AC94-A54AA22C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DD6886-FA7D-496F-B1F5-96F3B53D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977F19-9A64-4D5F-B013-D0EE1098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D4DE-5691-4CCE-A4C5-19E7173C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1B9E9D-1506-49CE-9513-B73CE45C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264C38-4F6B-44CE-8FF6-42306D6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38B6B1-5365-48AB-B3FD-5BC41C9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8E63F9-9C49-4D41-9BB4-F3CC057A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19302A-1BFE-4C80-8C04-E796FC0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BF7F66-EA32-4E8E-9A10-02A26CF9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80753B-3165-48E6-AD4B-0023B138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1921E1B-6906-4480-BEF7-FE2FF2EC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C9A02CD-E00E-4866-8AB4-208E3EE1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67C77A0-382D-4299-9766-F6AB5385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55CC7-10B4-4256-92BF-5E5CBF74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C21E554-8ED4-4E6C-B104-FC2F32C6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38234E4-CA79-47D9-887E-7716BDC7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A3A731-3C23-4280-9F16-F75F57D5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C0BBFBF-761B-4562-A718-9403FFB5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B46FB5-392A-41CF-B8A7-86BF1CFE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F94F549-8DE7-4D95-8ED4-3FD2559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F48EBCB-8173-4CFC-93F5-84FBC1F1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B5B67AA-2BAF-4D69-87F0-215D5255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8A63617-7781-4FF4-ABF0-E7A92216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317D96-9AAA-44F9-B97A-9179793A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C399-CCA5-446B-A01C-2E85E807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B1841A-CA5C-467A-A78E-C0818514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43D462-111D-45EA-928B-4AC4AB33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6F68BC-2228-4B51-8F2C-F2617487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A09264-25CD-4096-99A9-C933E112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F43F36-9954-4C45-9C53-B71D9A2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03A45D-693D-4A03-8C7D-9C48864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EF727F-A804-465E-874A-BF168939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006E75-7F20-4392-86C3-5D22B47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A01BB1-CF20-489C-90B7-C3BBA5AA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93331F-309C-48BE-BE57-A27EFD92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6569-CC85-4AA6-B820-195246A1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02A7DB-21FA-4B50-891B-6EC533C8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D189A5-8111-4594-AFF8-4973D768B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EAE315-757D-451A-B70B-BE61018B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9D508A-08B7-45D6-A931-5C9CB652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538D1D-C2C4-46FD-9608-9803E46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A2F404-BF70-4D82-9279-0E3C5E02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ADD8ED-57E9-43A9-84A5-C04D9200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A88E46-56F5-4EEA-94F4-4A48D0D4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0D03E0-4061-40F5-B25E-AAAAB53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4452F7-8F33-47D8-ADE0-FC9B1A3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6F4AB-40FD-4F27-872E-E088F11B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E973C8-A731-4846-B518-416A8666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EF0502-1534-4565-856A-3AE65BBD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AA54950-EA3F-4585-A2B2-83A522FE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5926-2874-415A-AD8F-05D61CE0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CCF7-7A29-49B9-9135-FB91DFF9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C4A-6FF0-4EC5-96E6-75D5042E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6E4C-8877-402A-A561-FDD2C50F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91EE-C296-45AF-8B16-6351E6FA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0BBBA-C4B5-494B-B563-D8F7D484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760C9-BA08-4257-BEC7-4A83152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0B27-44F2-4442-9D86-4FBF8306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05F5-173F-47D5-A8A2-5C4630FA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5A1B-CA92-4E74-827B-548C649C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6D8F-CCD0-42A9-8D22-8A8819C0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F80D-5408-445F-B7AE-25D47EB4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6AE58-41B3-4DD9-9AD1-172B1705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0FA-98D8-4FC9-9B18-3A4272EA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F2FC1-FCD2-4782-9B68-596D8700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B126-104B-42BC-9C0E-D4FC68E3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C1987-749E-429E-8687-1928C815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AC113-9052-4FEF-9C8A-C87E7EAC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2A9D2-5CA6-4D85-BA20-BF6EA78A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EC3D6-7150-4C14-A518-8A73F410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05AF2-7288-46B7-9E11-431C0CA1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7B361-0B49-483B-94C0-AF6D560B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561D-FC34-4777-9B25-2D32DAEC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0CEA-2467-471F-98ED-4C44EC02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B62-EF19-430C-A0E6-7A9C3DAC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6261-3916-4709-9925-E5B6F3CC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16D5-F731-4643-8F84-F66F5739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01777-F3A0-4809-B279-7CD45B10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FCCC-B9C4-476C-AB00-4FD70FE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AB9DD-F849-4E98-B185-69AE71E9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FA234-9AED-47D1-AE13-EEA1FE20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10A20-9C67-4C01-B5B6-B0ECF800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53237-BD95-4CEC-BED1-48C41B4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A1730-E6C0-4752-B70A-7C7BBBDC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2AEFB-96FC-4A4D-BE64-0071F469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39C-C038-4041-8099-203AF0F5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70F23-9217-4B88-BF17-2D8536E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B239F-6C67-47C6-B2CD-19BCF218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83BB1-E96D-4262-924A-DBB0EACB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498CB-D392-402A-BD87-41EFF128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50A2-45E8-40B9-B6CD-2D0850A0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6C98-4A2B-4E47-9AF3-2988FA9F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5C2DF-59F6-47CE-80E4-4FB6AEA5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1998D-1C20-4E1F-8642-D69F57B8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B1E7D-D8E2-46B2-AF33-62F5DC1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AE2E-203A-41FB-A35D-D579BCCB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349-500D-4B05-B2E4-F308306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9AD5-E172-4D01-9282-69FC1A39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5A674-9CF2-45FB-B431-38F2B1A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D08E-5E53-4643-A8A5-C9876CB6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1EA3B-9156-4413-AA6D-9406F2A2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18519-5BFA-4DE4-A64D-8D646F7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CBFA4-2232-45B1-904D-9045175E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BB5A1-EFE8-4B8D-BBD8-C28DAB60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9D5B1-7F8C-4843-BFA5-F1B605E0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6624F-F693-4677-BA22-C502405D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D811-0DF5-4CC6-A3B7-1ADE4B56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234-DA4E-4AB1-B7A4-06E81E97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83113-0F67-4D4E-ACE3-92227A6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990A6-94F8-4D91-B86E-5BC2A316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6C1C-C0D0-4D0F-9F9E-2541C6DF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999BB-0707-4284-B67C-209D5D23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092DF-04E3-49DC-BB46-3E63B645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E9AC1-F4E4-4425-A7C9-5F7D9866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5E635-83CC-4089-BBA8-DFD180D3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6561B-9DA9-4564-84F0-CD1917C8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98716-407F-4631-A33A-FDBFBF6A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869D7-6A3D-4C4C-B95B-60E66E0E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D5D9-3A5C-480F-A454-6A9312D7A42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grpSp>
        <p:nvGrpSpPr>
          <p:cNvPr id="401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grpSp>
        <p:nvGrpSpPr>
          <p:cNvPr id="404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CD62-1A44-47AA-8153-0D18FE50951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44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E398-FFB1-4130-8430-212D77ECE9A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9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89D2-2DDE-4F83-B237-8958A09C552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8069-3722-4BC8-82A9-703D2FBEC3C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7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404A-8BED-425B-9B85-166E71A6056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2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grpSp>
        <p:nvGrpSpPr>
          <p:cNvPr id="62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2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2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  <p:grpSp>
          <p:nvGrpSpPr>
            <p:cNvPr id="62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6F81-AFDF-4EFC-A786-343307D4B22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806A-4F8A-4290-8A07-7E36BB66A22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17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18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19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0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1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2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3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4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5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6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7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8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29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0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1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49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50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51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D918-5E39-49EB-A9BE-AF4024538C9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4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5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6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7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8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5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C062-9194-4C21-887A-BA99E312AE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5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1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2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3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4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5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6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5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sldNum" idx="5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A936-2C2A-428A-9C11-4A7586F33A6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ftr" idx="5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C044-B1B6-4DC6-825D-DA8B3874753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ivaldiD C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69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0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1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2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3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4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sldNum" idx="5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F265-3F55-4570-BED0-7D15928D8B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6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17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18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19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20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7BC4-7F0D-48C7-B3F7-334C938CC5FE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grpSp>
        <p:nvGrpSpPr>
          <p:cNvPr id="963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6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96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67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68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6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6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6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2501-BC60-4346-81B6-D0AD78C4800F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3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F27C-71CE-49D8-83BB-9545D843ACC6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6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7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8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9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7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7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7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8E5F-33BF-4A1A-89A9-3C160E02A8E8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Прямоугольник 6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102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1104" name="Прямая соединительная линия 7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73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74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75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F93-8BDA-4C52-A7E0-7111CF3A3FB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Прямоугольник 6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147" name="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6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7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8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7059-B923-47F7-9B15-B8E97D017EC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6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91" name="Прямоугольник 7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413E-BA06-4BEE-8E73-1279779B5F9F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Прямоугольник 6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4" name="Прямоугольник 7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5" name="Прямоугольник 8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6" name="Прямоугольник 9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7" name="Прямоугольник 10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8" name="Скругленный прямоугольник 11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39" name="Скругленный прямоугольник 12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0" name="Прямоугольник 13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1" name="Прямоугольник 14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2" name="Прямоугольник 15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3" name="Прямоугольник 16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dt" idx="82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ftr" idx="83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 type="sldNum" idx="84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73D5-771B-476D-ACE7-40FB716D46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6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7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8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89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0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1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2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3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4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5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6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7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8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sldNum" idx="8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445-212B-40D0-B51B-9C683BE10A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ftr" idx="8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EFFF-17B6-43F7-8568-9164C3A7478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88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8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429F-2D6A-43CA-AA13-770DDDCBD1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9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9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9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0D74-3A80-4FD5-A172-552A9DA778C9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4DE0-0B03-400D-ABB7-78323879FC57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F4CA-EB47-4721-AFE5-CCC462519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7492-62C4-4C92-9151-C28B29A890F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875B-74B2-461F-ADD8-24075B5FC6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85FC-431B-4121-8CDB-86663CD9DFE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35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72CF-F3E4-4824-A154-3FFC6C60302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9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4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0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0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2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022560" y="2205000"/>
            <a:ext cx="6121440" cy="223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ivaldiD CL"/>
              </a:rPr>
              <a:t>Интеллектуальная одарённость: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ivaldiD CL"/>
              </a:rPr>
              <a:t>реалии, проблемы, перспективы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5" name="Picture 3" descr="ребёнок"/>
          <p:cNvPicPr/>
          <p:nvPr/>
        </p:nvPicPr>
        <p:blipFill>
          <a:blip r:embed="rId2"/>
          <a:stretch/>
        </p:blipFill>
        <p:spPr>
          <a:xfrm>
            <a:off x="611280" y="1700280"/>
            <a:ext cx="3203640" cy="3038400"/>
          </a:xfrm>
          <a:prstGeom prst="rect">
            <a:avLst/>
          </a:prstGeom>
          <a:ln w="76320">
            <a:solidFill>
              <a:srgbClr val="b13f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250920" y="169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Georgia"/>
              </a:rPr>
              <a:t>Инструментальный аспект поведения одаренного ребенка может быть охарактеризован следующими признаками: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личие специфических стратегий деятель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даже комплексный подход не исключает диагностических ошибок. В психодиагностике одаренности выделяются типичные ошибки двух видов. Первый заключается в том, что в одаренные зачисляется ребенок, который таковым не является, второй – в том, что одаренность ребенка остается не выявленной. Если ошибки первого вида уменьшаются применением более жестких критериев отбора, то ошибки второго вида, напротив, становятся реже при более гибких, вариативных способах диагно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/>
          </p:nvPr>
        </p:nvSpPr>
        <p:spPr>
          <a:xfrm>
            <a:off x="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рганизации поиска и отбора одаренных детей в больших выборках используется поэтапная, или ступенчатая стратегия диагностики. Последовательная процедура принятия решения в этом случае позволяет снизить опасность ошибок обоих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м этапе отбор осуществляется на основе широкого спектра характеристик одаренности с помощью опросников, организованного наблюдения, различных оценочных процедур, которые должны максимально полно отражать все стороны и проявления одаренности. При этом преднамеренно допускаются ошибки первого вида, и минимизируется, хотя и не исключается, риск ошибок второго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/>
          </p:nvPr>
        </p:nvSpPr>
        <p:spPr>
          <a:xfrm>
            <a:off x="0" y="0"/>
            <a:ext cx="806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втором этапе, а иногда и на последующих, используются все более точные и более специфические диагностические процедуры (в том числе и тесты), соответствующие целям отбора подходящих кандидатов для специальных программ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ка ребенка как одаренного не должна являться самоцелью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явление одаренных детей необходимо связывать с задачами их обучения и воспитания, а также с оказанием им психологической помощи и поддержки, с созданием условий для интеллектуального и личностного роста детей в общеобразовательных школах и учреждениях дополнительного образования с тем, чтобы выявить как можно больше детей с признаками одаренности и обеспечить им благоприятные условия для совершенствования присущих им видов одар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72388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жим психолого-педагогического сопровождения образовательного процесса должен не только отслеживать актуальный психолого-педагогический статус каждого ребенка школы в самые сложные, критические возрастные периоды, но и прогнозировать зону ближайшего развития у детей «скрытых», нереализованных пока возможностей и способ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6" dur="8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7" dur="8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2"/>
          <p:cNvSpPr/>
          <p:nvPr/>
        </p:nvSpPr>
        <p:spPr>
          <a:xfrm>
            <a:off x="539640" y="758160"/>
            <a:ext cx="748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Оценка ребенка как одаренного </a:t>
            </a:r>
            <a:r>
              <a:rPr b="0" i="1" lang="en-US" sz="3600" spc="-1" strike="noStrike">
                <a:solidFill>
                  <a:srgbClr val="000000"/>
                </a:solidFill>
                <a:latin typeface="Georgia"/>
              </a:rPr>
              <a:t>не должна являться самоцелью.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Выявление одаренных детей необходимо связывать с задачами их обучения и воспитания, а также с оказанием им психологической помощи и поддержки. 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0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5" dur="8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8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4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1" dur="80"/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2" dur="80"/>
                                        <p:tgtEl>
                                          <p:spTgt spid="1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475128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Программы обуч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для интеллектуаль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одаренных дете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valdiD CL"/>
              </a:rPr>
              <a:t>должн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nodeType="clickEffect" fill="hold">
                      <p:stCondLst>
                        <p:cond delay="0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9" dur="8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80"/>
                                        <p:tgtEl>
                                          <p:spTgt spid="1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1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5" dur="80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6" dur="80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80"/>
                                        <p:tgtEl>
                                          <p:spTgt spid="1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14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1" dur="80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80"/>
                                        <p:tgtEl>
                                          <p:spTgt spid="1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14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8" dur="80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80"/>
                                        <p:tgtEl>
                                          <p:spTgt spid="1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72388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) включать изучение широких (глобальных) тем и проблем, что позволяет учитывать интерес одаренных детей к универсальному и общему, их повышенное стремление к обобщению, теоретическую ориентацию и интерес к будущем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) использовать в обучении междисциплинарный подход на основе интеграции тем и проблем, относящихся к различным областям знания. Это позволит стимулировать стремление одаренных детей к расширению и углублению своих знаний, а также развивать их способности к соотнесению разнородных явлений и поиску решений на “стыке” разных типов зн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nodeType="clickEffect" fill="hold">
                      <p:stCondLst>
                        <p:cond delay="0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6" dur="8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7" dur="8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8" dur="80"/>
                                        <p:tgtEl>
                                          <p:spTgt spid="1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7560"/>
                            </p:stCondLst>
                            <p:childTnLst>
                              <p:par>
                                <p:cTn id="1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2" dur="80"/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3" dur="80"/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4" dur="80"/>
                                        <p:tgtEl>
                                          <p:spTgt spid="1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57080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) предполагать изучение проблем “открытого типа”, позволяющих учитывать склонность детей к исследовательскому типу поведения, проблемности обучения и т.д., а также формировать навыки и методы исследовательской рабо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4) в максимальной мере учитывать интересы одаренного ребенка и поощрять углубленное изучение тем, выбранных самим ребенк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5) поддерживать и развивать самостоятельность в учен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nodeType="clickEffect" fill="hold">
                      <p:stCondLst>
                        <p:cond delay="0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14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8" dur="80"/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9" dur="80"/>
                                        <p:tgtEl>
                                          <p:spTgt spid="1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nodeType="afterEffect" fill="hold">
                            <p:stCondLst>
                              <p:cond delay="12120"/>
                            </p:stCondLst>
                            <p:childTnLst>
                              <p:par>
                                <p:cTn id="1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3" dur="80"/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5" dur="80"/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238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6)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обеспечивать гибкость и вариативность учебного процесса с точки зрения содержания, форм и методов обучения, вплоть до возможности их корректировки самими детьми с учетом характера их меняющихся потребностей и специфики их индивидуальных способов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) предусматривать наличие и свободное использование разнообразных источников и способов получения информации (в том числе через компьютерные сет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nodeType="clickEffect" fill="hold">
                      <p:stCondLst>
                        <p:cond delay="0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2" dur="8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3" dur="8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4" dur="80"/>
                                        <p:tgtEl>
                                          <p:spTgt spid="1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8" dur="80"/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9" dur="80"/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0" dur="80"/>
                                        <p:tgtEl>
                                          <p:spTgt spid="1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формированность качественно своеобразного индивидуального стиля деятельности, выражающегося в склонности </a:t>
            </a: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“все делать по-своему”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связанного с присущей одаренному ребенку самодостаточной системой саморегуляц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723888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8) включать качественное изменение самой учебной ситуации и учебного материала вплоть до создания специальных учебных комнат с необходимым оборудованием, подготовки специальных учебных пособий, организации полевых исследований, создания “рабочих мест” при лабораториях, музеях и т.п.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9) обучать детей оценивать результаты своей работы с помощью содержательных критериев, формировать у них навыки публичного обсуждения и отстаивания своих идей и результатов художественного творче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0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7" dur="80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8" dur="80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9" dur="80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3" dur="80"/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4" dur="80"/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5" dur="80"/>
                                        <p:tgtEl>
                                          <p:spTgt spid="1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7238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) способствовать развитию самопознания, а также пониманию индивидуальных особенностей других люд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1) включать элементы индивидуализированной психологической поддержки и помощи с учетом индивидуального своеобразия личности каждого одаренного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nodeType="clickEffect" fill="hold">
                      <p:stCondLst>
                        <p:cond delay="0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2" dur="8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8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5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8" dur="8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9" dur="8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0" dur="80"/>
                                        <p:tgtEl>
                                          <p:spTgt spid="1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7238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ним из важнейших условий эффективного обучения детей с разными типами одаренности является разработка таких учебных программ, которые бы в максимальной мере соответствовали качественной специфике конкретного типа одаренности и учитывали внутренние психологические закономерности его форм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nodeType="clickEffect" fill="hold">
                      <p:stCondLst>
                        <p:cond delay="0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188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10b8"/>
                </a:solidFill>
                <a:latin typeface="VivaldiD CL"/>
              </a:rPr>
              <a:t>Какие условия необходимо создать </a:t>
            </a:r>
            <a:br>
              <a:rPr sz="3200"/>
            </a:br>
            <a:r>
              <a:rPr b="1" lang="en-US" sz="3200" spc="-1" strike="noStrike">
                <a:solidFill>
                  <a:srgbClr val="e010b8"/>
                </a:solidFill>
                <a:latin typeface="VivaldiD CL"/>
              </a:rPr>
              <a:t>для учения одарённого ребёнка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676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 таким условия мы относим в первую очередь реализацию индивидуальности личности обучаю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nodeType="clickEffect" fill="hold">
                      <p:stCondLst>
                        <p:cond delay="0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6" dur="80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7" dur="80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8" dur="80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15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3" dur="8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4" dur="8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WordArt 5"/>
          <p:cNvSpPr txBox="1"/>
          <p:nvPr/>
        </p:nvSpPr>
        <p:spPr>
          <a:xfrm>
            <a:off x="611280" y="1700280"/>
            <a:ext cx="4176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8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Перспекти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/>
          </p:nvPr>
        </p:nvSpPr>
        <p:spPr>
          <a:xfrm>
            <a:off x="2700360" y="692280"/>
            <a:ext cx="619272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ivaldiD CL"/>
              </a:rPr>
              <a:t>Проведение целенаправленных наблюдений за учебой и внеурочной деятельностью учащихся для выявления детей, имеющих склонность и показывающих высокую результативность в различных областях деятельности, путем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nodeType="clickEffect" fill="hold">
                      <p:stCondLst>
                        <p:cond delay="0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1" dur="8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2" dur="8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3" dur="8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24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суждения критериев, позволяющих судить о наличии одаренно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накомство с приемами целенаправленного педагогического наблюдени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явление мнения родителей о склонностях, круге интересов, особенностях личностного развития их ребенк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иодический сбор сведений среди учителей – предметников и классных руководителей о наличии одаренных учеников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бор материалов и проведение специальных тестов, позволяющих определить наличие одаренно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ительное наблюдение за корреляцией между результативностью по итогам тестирования и успехами в реальной деятельност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ведение различных внеурочных конкурсов, олимпиад, позволяющих ребенку проявить свои способ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0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0" dur="8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1" dur="8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2" dur="8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1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4840"/>
                            </p:stCondLst>
                            <p:childTnLst>
                              <p:par>
                                <p:cTn id="16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3" dur="80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4" dur="80"/>
                                        <p:tgtEl>
                                          <p:spTgt spid="1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nodeType="afterEffect" fill="hold">
                            <p:stCondLst>
                              <p:cond delay="8600"/>
                            </p:stCondLst>
                            <p:childTnLst>
                              <p:par>
                                <p:cTn id="16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8" dur="80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9" dur="80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0" dur="80"/>
                                        <p:tgtEl>
                                          <p:spTgt spid="1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4" dur="80"/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80"/>
                                        <p:tgtEl>
                                          <p:spTgt spid="1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6040"/>
                            </p:stCondLst>
                            <p:childTnLst>
                              <p:par>
                                <p:cTn id="16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0" dur="80"/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2" dur="80"/>
                                        <p:tgtEl>
                                          <p:spTgt spid="1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nodeType="afterEffect" fill="hold">
                            <p:stCondLst>
                              <p:cond delay="20320"/>
                            </p:stCondLst>
                            <p:childTnLst>
                              <p:par>
                                <p:cTn id="16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8" dur="80"/>
                                        <p:tgtEl>
                                          <p:spTgt spid="1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Picture 2" descr=""/>
          <p:cNvPicPr/>
          <p:nvPr/>
        </p:nvPicPr>
        <p:blipFill>
          <a:blip r:embed="rId1"/>
          <a:stretch/>
        </p:blipFill>
        <p:spPr>
          <a:xfrm>
            <a:off x="3635280" y="404640"/>
            <a:ext cx="3362400" cy="4149720"/>
          </a:xfrm>
          <a:prstGeom prst="rect">
            <a:avLst/>
          </a:prstGeom>
          <a:ln w="57240">
            <a:solidFill>
              <a:srgbClr val="fe8637"/>
            </a:solidFill>
            <a:miter/>
          </a:ln>
        </p:spPr>
      </p:pic>
      <p:sp>
        <p:nvSpPr>
          <p:cNvPr id="1646" name="Rectangle 3"/>
          <p:cNvSpPr/>
          <p:nvPr/>
        </p:nvSpPr>
        <p:spPr>
          <a:xfrm>
            <a:off x="2340000" y="4698000"/>
            <a:ext cx="635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К любому ребёнку следует относиться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с надеждой и ожиданием...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0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2" dur="80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3" dur="80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4" dur="80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780"/>
                            </p:stCondLst>
                            <p:childTnLst>
                              <p:par>
                                <p:cTn id="1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8" dur="80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9" dur="80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0" dur="80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410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VivaldiD CL"/>
              </a:rPr>
              <a:t>Решение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VivaldiD CL"/>
              </a:rPr>
              <a:t> </a:t>
            </a:r>
            <a:br>
              <a:rPr sz="4900"/>
            </a:br>
            <a:endParaRPr b="1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nodeType="clickEffect" fill="hold">
                      <p:stCondLst>
                        <p:cond delay="0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/>
          </p:nvPr>
        </p:nvSpPr>
        <p:spPr>
          <a:xfrm>
            <a:off x="2484000" y="907920"/>
            <a:ext cx="6048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Развивать одаренность обучающихся через оптимальное сочетание основного, дополнительного и индивидуального образования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80"/>
                                        <p:tgtEl>
                                          <p:spTgt spid="1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137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ысокая структурированность знаний, умение видеть изучаемый предмет в системе, свернутость способов действий в соответствующей предметной области. Иными словами, своеобразие способов деятельности одаренного ребенка проявляется в его способности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видеть в сложном простое, а в простом - сложно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1. Продолжать внедрять в образовательное пространство школы альтернативный вариант оценивания обучающихся в форме «портфолио»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nodeType="clickEffect" fill="hold">
                      <p:stCondLst>
                        <p:cond delay="0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5" dur="80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6" dur="80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80"/>
                                        <p:tgtEl>
                                          <p:spTgt spid="1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/>
          </p:nvPr>
        </p:nvSpPr>
        <p:spPr>
          <a:xfrm>
            <a:off x="2626920" y="981000"/>
            <a:ext cx="604836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2.    Стимулировать творческую деятельность педагогического коллектива и создать условия для удовлетворения потребности педагогов в продуктивном  самовыражени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nodeType="clickEffect" fill="hold">
                      <p:stCondLst>
                        <p:cond delay="0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4" dur="8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6" dur="8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/>
          </p:nvPr>
        </p:nvSpPr>
        <p:spPr>
          <a:xfrm>
            <a:off x="2771640" y="1600200"/>
            <a:ext cx="59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3. Совершенствовать здоровьесберегающие и здоровьеразвивающие компоненты образовательного пространства школы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nodeType="clickEffect" fill="hold">
                      <p:stCondLst>
                        <p:cond delay="0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3" dur="8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4" dur="8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8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/>
          </p:nvPr>
        </p:nvSpPr>
        <p:spPr>
          <a:xfrm>
            <a:off x="2771640" y="1600200"/>
            <a:ext cx="59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4. Создать базу данных способностей и результатов деятельности одарённых детей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nodeType="clickEffect" fill="hold">
                      <p:stCondLst>
                        <p:cond delay="0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3" dur="8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4" dur="8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/>
          </p:nvPr>
        </p:nvSpPr>
        <p:spPr>
          <a:xfrm>
            <a:off x="2843280" y="1197000"/>
            <a:ext cx="590544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5. Повышать уровень и качество школьного образования через идеи гуманной и личностно- ориентированной педагогики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nodeType="clickEffect" fill="hold">
                      <p:stCondLst>
                        <p:cond delay="0"/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1" dur="8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2" dur="8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8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137440" cy="5853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обый тип обучаемости. Он может проявляться как в высокой скорости и легкости обучения, так и в замедленном темпе обучения, но с последующим резким изменением структуры знаний, представлений и умений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777708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0000"/>
                </a:solidFill>
                <a:latin typeface="Georgia"/>
              </a:rPr>
              <a:t>Мотивационный аспект поведения одаренного ребенка может быть охарактеризован следующими признаками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</a:rPr>
              <a:t>:</a:t>
            </a:r>
            <a:br>
              <a:rPr sz="22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250920" y="1960560"/>
            <a:ext cx="824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ышенная, избирательная чувствительность к определенным сторонам предметной действительности либо к определенным формам собственной активности, сопровождающаяся, как правило, переживанием чувства удовольствия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рко выраженный интерес к тем или иным занятиям или сферам деятельности, чрезвычайно высокая увлеченность каким-либо предметом. Наличие столь интенсивной склонности к определенному виду деятельности имеет своим следствием поразительное упорство и трудолюбие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/>
          </p:nvPr>
        </p:nvSpPr>
        <p:spPr>
          <a:xfrm>
            <a:off x="394920" y="83628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вышенная познавательная потребность, которая проявляется в ненасытной любознательности, а также готовности по собственной инициативе выходить за пределы исходных требований деятель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едпочтение парадоксальной, противоречивой и неопределенной информации, неприятие стандартных, типичных заданий и готовых ответов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78598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сокая критичность к результатам собственного труда, склонность ставить сверхтрудные цели, стремление к совершенству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AutoShape 5"/>
          <p:cNvSpPr/>
          <p:nvPr/>
        </p:nvSpPr>
        <p:spPr>
          <a:xfrm>
            <a:off x="2771640" y="333360"/>
            <a:ext cx="468000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итерии, положенные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 основу классификации 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идов одаренност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68" name="AutoShape 6"/>
          <p:cNvSpPr/>
          <p:nvPr/>
        </p:nvSpPr>
        <p:spPr>
          <a:xfrm flipV="1">
            <a:off x="0" y="1267920"/>
            <a:ext cx="2484360" cy="1656000"/>
          </a:xfrm>
          <a:prstGeom prst="wedgeRoundRectCallout">
            <a:avLst>
              <a:gd name="adj1" fmla="val 61689"/>
              <a:gd name="adj2" fmla="val 40601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 деятельности и обеспечивающие ее сферы психики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69" name="AutoShape 7"/>
          <p:cNvSpPr/>
          <p:nvPr/>
        </p:nvSpPr>
        <p:spPr>
          <a:xfrm flipV="1">
            <a:off x="539640" y="3572640"/>
            <a:ext cx="2089440" cy="1513080"/>
          </a:xfrm>
          <a:prstGeom prst="wedgeRoundRectCallout">
            <a:avLst>
              <a:gd name="adj1" fmla="val 75226"/>
              <a:gd name="adj2" fmla="val 159546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сформирован-ности одаренности”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0" name="AutoShape 8"/>
          <p:cNvSpPr/>
          <p:nvPr/>
        </p:nvSpPr>
        <p:spPr>
          <a:xfrm flipV="1">
            <a:off x="2700360" y="4437000"/>
            <a:ext cx="1922400" cy="1441440"/>
          </a:xfrm>
          <a:prstGeom prst="wedgeRoundRectCallout">
            <a:avLst>
              <a:gd name="adj1" fmla="val -5162"/>
              <a:gd name="adj2" fmla="val 215194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а проявления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1" name="AutoShape 9"/>
          <p:cNvSpPr/>
          <p:nvPr/>
        </p:nvSpPr>
        <p:spPr>
          <a:xfrm flipV="1">
            <a:off x="4932360" y="4220280"/>
            <a:ext cx="2089080" cy="1584360"/>
          </a:xfrm>
          <a:prstGeom prst="wedgeRoundRectCallout">
            <a:avLst>
              <a:gd name="adj1" fmla="val -62541"/>
              <a:gd name="adj2" fmla="val 189277"/>
              <a:gd name="adj3" fmla="val 16667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широта проявлений в различных видах деятельности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2" name="AutoShape 10"/>
          <p:cNvSpPr/>
          <p:nvPr/>
        </p:nvSpPr>
        <p:spPr>
          <a:xfrm flipV="1">
            <a:off x="7128000" y="3715560"/>
            <a:ext cx="2016000" cy="1584360"/>
          </a:xfrm>
          <a:prstGeom prst="wedgeRoundRectCallout">
            <a:avLst>
              <a:gd name="adj1" fmla="val -112601"/>
              <a:gd name="adj2" fmla="val 147393"/>
              <a:gd name="adj3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обенности возрастного развития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73" name="AutoShape 11"/>
          <p:cNvSpPr/>
          <p:nvPr/>
        </p:nvSpPr>
        <p:spPr>
          <a:xfrm flipV="1">
            <a:off x="7164360" y="1843920"/>
            <a:ext cx="1979640" cy="1368360"/>
          </a:xfrm>
          <a:prstGeom prst="wedgeRoundRectCallout">
            <a:avLst>
              <a:gd name="adj1" fmla="val -105976"/>
              <a:gd name="adj2" fmla="val 57652"/>
              <a:gd name="adj3" fmla="val 16667"/>
            </a:avLst>
          </a:prstGeom>
          <a:gradFill rotWithShape="0">
            <a:gsLst>
              <a:gs pos="0">
                <a:srgbClr val="9900ff"/>
              </a:gs>
              <a:gs pos="50000">
                <a:srgbClr val="ffffff"/>
              </a:gs>
              <a:gs pos="100000">
                <a:srgbClr val="99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уровень достижений»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163680" y="404280"/>
            <a:ext cx="5979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195280" y="1609200"/>
            <a:ext cx="655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Понятия «одарённость», «одарённый ребёно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Виды классификаций одарённост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Интеллектуальная одарё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Реа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Экспери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Перспекти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916000" y="321264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VivaldiD CL"/>
              </a:rPr>
              <a:t>Основные виды деятельности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VivaldiD CL"/>
              </a:rPr>
              <a:t>дете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5" name="Diagram 7"/>
          <p:cNvGrpSpPr/>
          <p:nvPr/>
        </p:nvGrpSpPr>
        <p:grpSpPr>
          <a:xfrm>
            <a:off x="344160" y="279720"/>
            <a:ext cx="8457480" cy="6010920"/>
            <a:chOff x="344160" y="279720"/>
            <a:chExt cx="8457480" cy="6010920"/>
          </a:xfrm>
        </p:grpSpPr>
        <p:sp>
          <p:nvSpPr>
            <p:cNvPr id="1476" name="_s1028"/>
            <p:cNvSpPr/>
            <p:nvPr/>
          </p:nvSpPr>
          <p:spPr>
            <a:xfrm flipH="1" flipV="1">
              <a:off x="2481840" y="3018960"/>
              <a:ext cx="1050120" cy="24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77" name="_s1029"/>
            <p:cNvSpPr/>
            <p:nvPr/>
          </p:nvSpPr>
          <p:spPr>
            <a:xfrm>
              <a:off x="344160" y="1955160"/>
              <a:ext cx="2196360" cy="16185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Духовно-</a:t>
              </a:r>
              <a:endParaRPr b="0" lang="en-US" sz="24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ценностная</a:t>
              </a:r>
              <a:endParaRPr b="0" lang="en-US" sz="24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78" name="_s1030"/>
            <p:cNvSpPr/>
            <p:nvPr/>
          </p:nvSpPr>
          <p:spPr>
            <a:xfrm flipH="1">
              <a:off x="3283200" y="4169520"/>
              <a:ext cx="645840" cy="65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79" name="_s1031"/>
            <p:cNvSpPr/>
            <p:nvPr/>
          </p:nvSpPr>
          <p:spPr>
            <a:xfrm>
              <a:off x="1536120" y="4668840"/>
              <a:ext cx="2195640" cy="16185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оммуникативная</a:t>
              </a:r>
              <a:endParaRPr b="0" lang="en-US" sz="20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0" name="_s1032"/>
            <p:cNvSpPr/>
            <p:nvPr/>
          </p:nvSpPr>
          <p:spPr>
            <a:xfrm>
              <a:off x="5217840" y="4169520"/>
              <a:ext cx="645120" cy="65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1" name="_s1033"/>
            <p:cNvSpPr/>
            <p:nvPr/>
          </p:nvSpPr>
          <p:spPr>
            <a:xfrm>
              <a:off x="5407200" y="4671360"/>
              <a:ext cx="2196360" cy="161928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ffffff"/>
                </a:gs>
                <a:gs pos="100000">
                  <a:srgbClr val="00cc00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Теоретическая </a:t>
              </a:r>
              <a:endParaRPr b="0" lang="en-US" sz="20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интеллектуальная)</a:t>
              </a:r>
              <a:endParaRPr b="0" lang="en-US" sz="20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2" name="_s1034"/>
            <p:cNvSpPr/>
            <p:nvPr/>
          </p:nvSpPr>
          <p:spPr>
            <a:xfrm flipV="1">
              <a:off x="5614560" y="3016800"/>
              <a:ext cx="1042200" cy="24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3" name="_s1035"/>
            <p:cNvSpPr/>
            <p:nvPr/>
          </p:nvSpPr>
          <p:spPr>
            <a:xfrm>
              <a:off x="6605280" y="1957320"/>
              <a:ext cx="2196360" cy="1619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Художественно-</a:t>
              </a:r>
              <a:endParaRPr b="0" lang="en-US" sz="2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эстетическая</a:t>
              </a:r>
              <a:endParaRPr b="0" lang="en-US" sz="2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4" name="_s1036"/>
            <p:cNvSpPr/>
            <p:nvPr/>
          </p:nvSpPr>
          <p:spPr>
            <a:xfrm flipV="1">
              <a:off x="4571640" y="1899000"/>
              <a:ext cx="0" cy="80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5" name="_s1037"/>
            <p:cNvSpPr/>
            <p:nvPr/>
          </p:nvSpPr>
          <p:spPr>
            <a:xfrm>
              <a:off x="3473640" y="279720"/>
              <a:ext cx="2195640" cy="1619280"/>
            </a:xfrm>
            <a:prstGeom prst="ellipse">
              <a:avLst/>
            </a:prstGeom>
            <a:gradFill rotWithShape="0">
              <a:gsLst>
                <a:gs pos="0">
                  <a:srgbClr val="d34817"/>
                </a:gs>
                <a:gs pos="50000">
                  <a:srgbClr val="ffffff"/>
                </a:gs>
                <a:gs pos="100000">
                  <a:srgbClr val="d3481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рактическая</a:t>
              </a:r>
              <a:endParaRPr b="0" lang="en-US" sz="24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486" name="_s1038"/>
            <p:cNvSpPr/>
            <p:nvPr/>
          </p:nvSpPr>
          <p:spPr>
            <a:xfrm>
              <a:off x="3473640" y="2708280"/>
              <a:ext cx="2195640" cy="16192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О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дарённость</a:t>
              </a:r>
              <a:endParaRPr b="0" lang="en-US" sz="2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7" name=""/>
          <p:cNvGraphicFramePr/>
          <p:nvPr/>
        </p:nvGraphicFramePr>
        <p:xfrm>
          <a:off x="179280" y="2205000"/>
          <a:ext cx="8713800" cy="4173480"/>
        </p:xfrm>
        <a:graphic>
          <a:graphicData uri="http://schemas.openxmlformats.org/drawingml/2006/table">
            <a:tbl>
              <a:tblPr/>
              <a:tblGrid>
                <a:gridCol w="1800360"/>
                <a:gridCol w="1728720"/>
                <a:gridCol w="1727280"/>
                <a:gridCol w="1728720"/>
                <a:gridCol w="17287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Практиче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Познаватель-ная  деятельность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Художествен-но-эстетическ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Коммуникатив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</a:rPr>
                        <a:t>Духовно-ценностная деятельност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аренность в ремесла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пор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рганизацион-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теллек-туальная одаренность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хореограф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цен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тературно-поэт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образитель-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узык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идер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ттрактив-на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аренность в создании новых духовных ценностей и смыс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buClr>
                          <a:srgbClr val="d34817"/>
                        </a:buClr>
                        <a:buSzPct val="85000"/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даренность в служении люд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ivaldiD C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ivaldiD CL"/>
              </a:rPr>
              <a:t>Виды одарённости по критерию «Виды деятельности и обеспечивающие её сферы»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/>
          </p:nvPr>
        </p:nvSpPr>
        <p:spPr>
          <a:xfrm>
            <a:off x="0" y="1935000"/>
            <a:ext cx="418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Актуальная одаренность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–</a:t>
            </a:r>
            <a:r>
              <a:rPr b="0" lang="en-US" sz="1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психологическая характеристика ребенка с такими наличными (уже достигнутыми) показателями психического развития, которые проявляются в более высоком уровне выполнения деятельности в конкретной предметной области по сравнению с возрастной и социальной нормой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Потенциальная одаренность </a:t>
            </a: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1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это психологическая характеристика ребенка, который имеет лишь определенные психические возможности (потенциал) для высоких достижений в том или ином виде деятельности, но не может реализовать свои возможности в данный момент времени в силу их функциональной недостаточност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1" name="Rectangle 6"/>
          <p:cNvSpPr/>
          <p:nvPr/>
        </p:nvSpPr>
        <p:spPr>
          <a:xfrm>
            <a:off x="611280" y="260280"/>
            <a:ext cx="7921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ivaldiD CL"/>
              </a:rPr>
              <a:t>Виды одарённости по</a:t>
            </a:r>
            <a:r>
              <a:rPr b="1" lang="ru-RU" sz="4000" spc="-1" strike="noStrike">
                <a:solidFill>
                  <a:srgbClr val="ff0000"/>
                </a:solidFill>
                <a:latin typeface="VivaldiD C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VivaldiD CL"/>
              </a:rPr>
              <a:t>критерию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ivaldiD CL"/>
              </a:rPr>
              <a:t>«степень сформированности одарённости»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264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368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 txBox="1"/>
          <p:nvPr/>
        </p:nvSpPr>
        <p:spPr>
          <a:xfrm>
            <a:off x="457200" y="2871720"/>
            <a:ext cx="36640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проявляется в деятельности ребенка достаточно ярко и отчетливо (как бы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сама по себе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), в том числе и при неблагоприятных условиях. Достижения ребенка столь очевидны, что его одаренность не вызывает сомнения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4260600" y="2871720"/>
            <a:ext cx="366372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проявляется в деятельности ребенка в менее выраженной, замаскированной форм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33116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Явная одаренность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284360" y="1915920"/>
            <a:ext cx="370044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Скрытая одаренность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6" name="Rectangle 8"/>
          <p:cNvSpPr/>
          <p:nvPr/>
        </p:nvSpPr>
        <p:spPr>
          <a:xfrm>
            <a:off x="68436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ivaldiD CL"/>
              </a:rPr>
              <a:t>Виды одарённости по критерию «форма проявления»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AutoShape 5"/>
          <p:cNvSpPr/>
          <p:nvPr/>
        </p:nvSpPr>
        <p:spPr>
          <a:xfrm>
            <a:off x="971640" y="404640"/>
            <a:ext cx="698508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Виды одаренности по критерию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широта проявлений в различных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видах деятельности”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98" name="AutoShape 6"/>
          <p:cNvSpPr/>
          <p:nvPr/>
        </p:nvSpPr>
        <p:spPr>
          <a:xfrm flipV="1">
            <a:off x="755640" y="3284640"/>
            <a:ext cx="3240000" cy="2232000"/>
          </a:xfrm>
          <a:prstGeom prst="wedgeRoundRectCallout">
            <a:avLst>
              <a:gd name="adj1" fmla="val 26870"/>
              <a:gd name="adj2" fmla="val 99643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ivaldiD C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бщая (или интеллектуальная) одаренность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99" name="AutoShape 7"/>
          <p:cNvSpPr/>
          <p:nvPr/>
        </p:nvSpPr>
        <p:spPr>
          <a:xfrm flipV="1">
            <a:off x="5435640" y="3716280"/>
            <a:ext cx="2665440" cy="1944720"/>
          </a:xfrm>
          <a:prstGeom prst="wedgeRoundRectCallout">
            <a:avLst>
              <a:gd name="adj1" fmla="val -54467"/>
              <a:gd name="adj2" fmla="val 127305"/>
              <a:gd name="adj3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ivaldiD C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специальная одаренность </a:t>
            </a:r>
            <a:endParaRPr b="0" lang="en-US" sz="2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3"/>
          <p:cNvSpPr/>
          <p:nvPr/>
        </p:nvSpPr>
        <p:spPr>
          <a:xfrm>
            <a:off x="179280" y="620640"/>
            <a:ext cx="8425080" cy="2087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86756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Общая одаренность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роявляется по отношению к различным видам деятельности и выступает в качестве основы их продуктив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Психологическим ядром общей одаренности являются интеллектуальные способности (или общие познавательные способности), вокруг которых выстраиваются эмоциональные, мотивационные и волевые качества лич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3"/>
          <p:cNvSpPr/>
          <p:nvPr/>
        </p:nvSpPr>
        <p:spPr>
          <a:xfrm>
            <a:off x="468360" y="620640"/>
            <a:ext cx="7920000" cy="37450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06436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i="1" lang="en-US" sz="3600" spc="-1" strike="noStrike">
                <a:solidFill>
                  <a:srgbClr val="ff0000"/>
                </a:solidFill>
                <a:latin typeface="Garamond"/>
              </a:rPr>
              <a:t>Специальная одаренность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наруживает себя в конкретных видах деятельности и может быть определена лишь в отношении отдельных областей деятельности (музыка, живопись, спорт и т. д.)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AutoShape 6"/>
          <p:cNvSpPr/>
          <p:nvPr/>
        </p:nvSpPr>
        <p:spPr>
          <a:xfrm rot="10800000">
            <a:off x="5435640" y="3716280"/>
            <a:ext cx="2952720" cy="2076480"/>
          </a:xfrm>
          <a:prstGeom prst="wedgeRoundRectCallout">
            <a:avLst>
              <a:gd name="adj1" fmla="val 50106"/>
              <a:gd name="adj2" fmla="val 121708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162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оздняя одар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5" name="AutoShape 7"/>
          <p:cNvSpPr/>
          <p:nvPr/>
        </p:nvSpPr>
        <p:spPr>
          <a:xfrm rot="10800000">
            <a:off x="610920" y="3428640"/>
            <a:ext cx="3097080" cy="2087640"/>
          </a:xfrm>
          <a:prstGeom prst="wedgeRoundRectCallout">
            <a:avLst>
              <a:gd name="adj1" fmla="val -42518"/>
              <a:gd name="adj2" fmla="val 107870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6200000"/>
          </a:gra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анняя одаренность 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06" name="Rectangle 8"/>
          <p:cNvSpPr/>
          <p:nvPr/>
        </p:nvSpPr>
        <p:spPr>
          <a:xfrm>
            <a:off x="684360" y="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Виды одаренности по критерию 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особенности возрастного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развития”: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/>
          </p:nvPr>
        </p:nvSpPr>
        <p:spPr>
          <a:xfrm>
            <a:off x="394920" y="2491920"/>
            <a:ext cx="83026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Способности, превышающие средний уровен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способностей их сверстников, в незначительной мере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днако дети с такой одаренностью имеют, тем не менее, основные отличительные признаки одаренности и должны соответственно оцениваться учителями и школьными психолога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8" name="Text Box 4"/>
          <p:cNvSpPr/>
          <p:nvPr/>
        </p:nvSpPr>
        <p:spPr>
          <a:xfrm>
            <a:off x="755640" y="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ivaldiD CL"/>
              </a:rPr>
              <a:t>Виды одарённости по критерию «уровень достижений ребёнка»</a:t>
            </a:r>
            <a:endParaRPr b="0" lang="en-US" sz="36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/>
          </p:nvPr>
        </p:nvSpPr>
        <p:spPr>
          <a:xfrm>
            <a:off x="-360" y="3141360"/>
            <a:ext cx="8893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mbria"/>
              </a:rPr>
              <a:t>это системное, развивающееся в течение жизни качество психики, которое определяет возможность достижения человеком более высоких (необычных, незаурядных) результатов в одном или нескольких видах деятельности по сравнению с другими людьми.</a:t>
            </a:r>
            <a:endParaRPr b="0" lang="en-US" sz="3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9" name="Rectangle 4"/>
          <p:cNvSpPr/>
          <p:nvPr/>
        </p:nvSpPr>
        <p:spPr>
          <a:xfrm>
            <a:off x="611280" y="1628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VivaldiD CL"/>
              </a:rPr>
              <a:t>Одарённость -</a:t>
            </a:r>
            <a:endParaRPr b="0" lang="en-US" sz="7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есьма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яркие интеллектуальные, художественные, коммуникативные или какие-то другие способности и склонности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х одаренность, как правило, является очевидной для окружающих, за исключением случаев так называемой скрытой одаренност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837396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Способности, настолько превосходящие среднюю возрастную норм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что это позволяет говорить о таких детях, как о детях с исключительной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особой одаренностью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спешность выполняемой ими деятельности может быть необычно высокой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6553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Любой индивидуальный случай детской одаренности может быть оценен с точки зрения всех вышеперечисленных критериев классификации видов одар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Таким образом, </a:t>
            </a: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одаренность оказывается многомерным по своему характеру явлением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512" name="Picture 3" descr="00019084"/>
          <p:cNvPicPr/>
          <p:nvPr/>
        </p:nvPicPr>
        <p:blipFill>
          <a:blip r:embed="rId1"/>
          <a:stretch/>
        </p:blipFill>
        <p:spPr>
          <a:xfrm>
            <a:off x="6443640" y="1844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1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WordArt 2"/>
          <p:cNvSpPr txBox="1"/>
          <p:nvPr/>
        </p:nvSpPr>
        <p:spPr>
          <a:xfrm>
            <a:off x="2916360" y="1700280"/>
            <a:ext cx="5545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Реалии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205092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Цели и задачи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школы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в работе с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интеллектуальной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VivaldiD CL"/>
              </a:rPr>
              <a:t> одарённостью</a:t>
            </a:r>
            <a:r>
              <a:rPr b="0" lang="en-US" sz="4600" spc="-1" strike="noStrike">
                <a:solidFill>
                  <a:srgbClr val="04617b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тратегическая цель школ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ереход системы педагогического содействия развитию одаренности из режима управления в режим самоуправле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1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спитательная цель 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спитание личности, обладающей интерактивными, коммуникативными навыками и высокими адаптивными возможностями на фоне высоконравственных убеждений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Образовательная цель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сширение единого образовательного пространства школы для социально- значимой реализации индивидуальной образовательной стратегии одаренных детей.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Развивающая цель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витие способности одаренных детей к включению в любую духовно-практическую деятельность в зависимости от реальных потребностей нашего региона, нашей страны и самой лич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35164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Целями работы учителей с одаренными детьми являются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явление одаренных детей;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условий, способствующих их оптимальному развитию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это ребенок, который выделяется яркими, очевидными, иногда выдающимися достижениями (или имеет внутренние предпосылки для таких достижений) в том или ином виде деятель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1" name="Picture 4" descr="00036097"/>
          <p:cNvPicPr/>
          <p:nvPr/>
        </p:nvPicPr>
        <p:blipFill>
          <a:blip r:embed="rId1"/>
          <a:stretch/>
        </p:blipFill>
        <p:spPr>
          <a:xfrm>
            <a:off x="468360" y="333360"/>
            <a:ext cx="2522520" cy="25131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442" name="Rectangle 5"/>
          <p:cNvSpPr/>
          <p:nvPr/>
        </p:nvSpPr>
        <p:spPr>
          <a:xfrm>
            <a:off x="3132000" y="134136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VivaldiD CL"/>
              </a:rPr>
              <a:t>Одарённый ребенок - </a:t>
            </a:r>
            <a:endParaRPr b="0" lang="en-US" sz="60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/>
          </p:nvPr>
        </p:nvSpPr>
        <p:spPr>
          <a:xfrm>
            <a:off x="2555640" y="907560"/>
            <a:ext cx="63370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Работа с одарёнными детьми в  школе включает в себя ряд подпрограмм  и мероприятий, призванных всесторонне раскрывать весь спектр природного потенциала детей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боты с одарёнными деть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звития школ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боты информатизации школ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работы ИнфоЦентра: сайт школы, газета «Первое приближени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грамма «Здоровь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итательная программа школ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курс «Портфолио» для 9-х класс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/>
          </p:nvPr>
        </p:nvSpPr>
        <p:spPr>
          <a:xfrm>
            <a:off x="2411280" y="907920"/>
            <a:ext cx="627552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VivaldiD CL"/>
              </a:rPr>
              <a:t>Не только учебный план, но и психологическая атмосфера, воспитательное пространство школы организовано с учетом потребностей детей к самореализации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/>
          </p:nvPr>
        </p:nvSpPr>
        <p:spPr>
          <a:xfrm>
            <a:off x="2268000" y="404280"/>
            <a:ext cx="6551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 в школе-лицее № 1 г. Ростова-на - До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одаются  8 предметных спецкурсов и 10 ориентационных, 31 элективный курс, работают 10 секций НОУ, осуществляется кружковая деятельность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ализации познавательных возможностей учащихся предусматривается обновление содержания образования и использование инновационных технологий, предоставляющих возможности развития одарен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1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8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8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8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80"/>
                                        <p:tgtEl>
                                          <p:spTgt spid="1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059280" y="335736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ivaldiD CL"/>
              </a:rPr>
              <a:t>Научно – методические основы обновления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ivaldiD CL"/>
              </a:rPr>
              <a:t>содержания работы с одаренными детьм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66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Самовоспитание способностей, самораскрытие природных задатков является важным условием реализации индивидуальности одаренного ребенка.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В реализации своей индивидуальности ребенок должен быть главным, рассматриваться как самый заинтересованный участник этого процесса, как деятель самореализации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0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 этих педагогических позиций в школе  рассматривается  проблема развития способностей одаренных детей - как реализация их  индивидуальност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Принцип педагогики индивидуализаци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тал концептуальным обоснованием работы с одарёнными детьми. Исходя из этого, одним из приоритетных направлений работы  школы является совершенствование уровня компетентности педагогов, который позволяет приспосабливать массовое обучение к индивидуальным свойствам каждого ребенка, предварительно изучив особенности его поведе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4920"/>
                            </p:stCondLst>
                            <p:childTnLst>
                              <p:par>
                                <p:cTn id="8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7" dur="8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8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ее популярной современной концепцией одаренности является теория известного американского специалиста в области обучения одаренных детей Джозефа Рензулл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считает, что поведение одаренного человека отражает взаимодействие между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3 основными группами каче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ие или специальные способности выше среднего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окий уровень включенности в задачу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сокий уровень креативност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0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8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1" dur="8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80"/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9560"/>
                            </p:stCondLst>
                            <p:childTnLst>
                              <p:par>
                                <p:cTn id="8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320"/>
                            </p:stCondLst>
                            <p:childTnLst>
                              <p:par>
                                <p:cTn id="8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80"/>
                                        <p:tgtEl>
                                          <p:spTgt spid="1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2720"/>
                            </p:stCondLst>
                            <p:childTnLst>
                              <p:par>
                                <p:cTn id="8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9" dur="8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0" dur="8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80"/>
                                        <p:tgtEl>
                                          <p:spTgt spid="1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9" name="Diagram 5"/>
          <p:cNvGrpSpPr/>
          <p:nvPr/>
        </p:nvGrpSpPr>
        <p:grpSpPr>
          <a:xfrm>
            <a:off x="916920" y="336240"/>
            <a:ext cx="7020360" cy="5029200"/>
            <a:chOff x="916920" y="336240"/>
            <a:chExt cx="7020360" cy="5029200"/>
          </a:xfrm>
        </p:grpSpPr>
        <p:sp>
          <p:nvSpPr>
            <p:cNvPr id="1530" name="_s2052"/>
            <p:cNvSpPr/>
            <p:nvPr/>
          </p:nvSpPr>
          <p:spPr>
            <a:xfrm>
              <a:off x="3150360" y="1229400"/>
              <a:ext cx="2552400" cy="2552400"/>
            </a:xfrm>
            <a:prstGeom prst="ellipse">
              <a:avLst/>
            </a:prstGeom>
            <a:solidFill>
              <a:srgbClr val="7598d9">
                <a:alpha val="50000"/>
              </a:srgbClr>
            </a:solidFill>
            <a:ln w="4680">
              <a:solidFill>
                <a:srgbClr val="7598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1" name="_s2053"/>
            <p:cNvSpPr/>
            <p:nvPr/>
          </p:nvSpPr>
          <p:spPr>
            <a:xfrm>
              <a:off x="3755160" y="336240"/>
              <a:ext cx="1342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ключённости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2" name="_s2054"/>
            <p:cNvSpPr/>
            <p:nvPr/>
          </p:nvSpPr>
          <p:spPr>
            <a:xfrm>
              <a:off x="3991320" y="2686320"/>
              <a:ext cx="2552400" cy="2553120"/>
            </a:xfrm>
            <a:prstGeom prst="ellipse">
              <a:avLst/>
            </a:prstGeom>
            <a:solidFill>
              <a:srgbClr val="d2611c">
                <a:alpha val="50000"/>
              </a:srgbClr>
            </a:solidFill>
            <a:ln w="4680">
              <a:solidFill>
                <a:srgbClr val="d261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3" name="_s2055"/>
            <p:cNvSpPr/>
            <p:nvPr/>
          </p:nvSpPr>
          <p:spPr>
            <a:xfrm>
              <a:off x="6593760" y="4727160"/>
              <a:ext cx="13435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соки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ровень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реативности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4" name="_s2056"/>
            <p:cNvSpPr/>
            <p:nvPr/>
          </p:nvSpPr>
          <p:spPr>
            <a:xfrm>
              <a:off x="2307240" y="2684160"/>
              <a:ext cx="2552400" cy="2552400"/>
            </a:xfrm>
            <a:prstGeom prst="ellipse">
              <a:avLst/>
            </a:prstGeom>
            <a:solidFill>
              <a:srgbClr val="3b435b">
                <a:alpha val="50000"/>
              </a:srgbClr>
            </a:solidFill>
            <a:ln w="4680">
              <a:solidFill>
                <a:srgbClr val="3b4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35" name="_s2057"/>
            <p:cNvSpPr/>
            <p:nvPr/>
          </p:nvSpPr>
          <p:spPr>
            <a:xfrm>
              <a:off x="916920" y="4727160"/>
              <a:ext cx="13428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Общие или 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пециальные 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пособности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  <p:sp>
        <p:nvSpPr>
          <p:cNvPr id="1536" name="WordArt 13"/>
          <p:cNvSpPr txBox="1"/>
          <p:nvPr/>
        </p:nvSpPr>
        <p:spPr>
          <a:xfrm rot="5400000">
            <a:off x="3612960" y="3813120"/>
            <a:ext cx="1655640" cy="312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дарённос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7786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 важно то, что Д. Рензулли предлагает считать одаренным не только того, кто по всем трем основным параметрам превосходит сверстников, но и того, кто демонстрирует высокий уровень хотя бы по одному из них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контингент одаренных существенно расширяется, по сравнению с тем небольшим процентом детей, которых обычно выявляют при помощи тестов интеллекта, креативности или по тестам достиж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9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58338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 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Признаки одаренности</a:t>
            </a:r>
            <a:r>
              <a:rPr b="0" i="1" lang="en-US" sz="4400" spc="-1" strike="noStrike">
                <a:solidFill>
                  <a:srgbClr val="000000"/>
                </a:solidFill>
                <a:latin typeface="VivaldiD CL"/>
              </a:rPr>
              <a:t>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это те особенности одаренного ребенка, которые проявляются в его реальной деятельности и могут быть оценены на уровне наблюдения за характером его действий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444" name="Picture 8" descr="00019084"/>
          <p:cNvPicPr/>
          <p:nvPr/>
        </p:nvPicPr>
        <p:blipFill>
          <a:blip r:embed="rId1"/>
          <a:stretch/>
        </p:blipFill>
        <p:spPr>
          <a:xfrm>
            <a:off x="6443640" y="184464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771516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актовка одаренности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нцепции «обогащенного обучения»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Д. Рензулли соответствует  специфическим условиям функционирования образовательной модели современной школы,  поэтому выделенные им факторы одаренности, легли в основу и нашей  программы работы с одарёнными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7151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при составлении учебных программ для одаренных детей трактовки одаренности Д.Рензулли, позволяет обучающимся посвящать большую часть времени тем видам деятельности, которые представляют для них наибольший интерес – это обучение в РРЦПО учащихся 9 – 11-х классов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1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сновная задача учителя при этом  состоит в том, чтобы помочь каждому обучающемуся ставить перед собой посильные задачи, отвечающие его интересам, и овладевать исследовательскими навыками, необходимыми для решения этих задач. Эта и работа педагогов, например в секциях НОУ «Сигм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3" dur="8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Д. Рензулли охарактеризовал занятия, построенные в соответствии с принципами концепции «обогащенного обучения», как «выходящие за рамки установленной учебной программы и опережающие её»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86040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Во всех случаях, когда происходит развитие способностей ребенка, их реализация, оно в значительной мере становится возможным лишь благодаря самовоспитанию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0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1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778680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нципы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онцепции  свобо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(О. Газман) дают возможность одаренному ребенку свободы выбора собственной образовательной траектории (маршрута). Учебный план РРЦПО открывает одаренным детям перспективу перехода от индивидуального образовательного маршрута к индивидуальному образованию, через реализацию индивидуального учебного плана (ИУП), который составляется учащимся ещё до начала учёбы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0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2410920" y="1557360"/>
            <a:ext cx="604692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VivaldiD CL"/>
              </a:rPr>
              <a:t>Принципы обучения</a:t>
            </a:r>
            <a:br>
              <a:rPr sz="5400"/>
            </a:br>
            <a:r>
              <a:rPr b="1" lang="en-US" sz="5400" spc="-1" strike="noStrike">
                <a:solidFill>
                  <a:srgbClr val="ff3300"/>
                </a:solidFill>
                <a:latin typeface="VivaldiD CL"/>
              </a:rPr>
              <a:t> одаренных детей</a:t>
            </a:r>
            <a:r>
              <a:rPr b="1" lang="en-US" sz="4300" spc="-1" strike="noStrike">
                <a:solidFill>
                  <a:srgbClr val="ff3300"/>
                </a:solidFill>
                <a:latin typeface="VivaldiD CL"/>
              </a:rPr>
              <a:t> 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64388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менение междисциплинарного подход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лубленное изучение тех проблем, которые выбраны самими учащимися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ыщенность учебного материала заданиями открытого тип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ощрение результатов, которые бросают вызов существующим взглядам и содержат новые иде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ощрение использования разнообразных форм предъявления и внедрения в жизнь результатов работы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785988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ение движения к пониманию самих себя, сходства и различия с другими, признанию своих способностей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ка результатов работы на основе критериев, связанных с конкретной областью интересов,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ка на самоценность познавательной деятельности при изучении научных дисциплин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ка на готовность к риску в неординарных ситуациях жизни, возможности сохранения приоритета духовных, идеальных ценностей при любых обстоятельства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/>
          </p:nvPr>
        </p:nvSpPr>
        <p:spPr>
          <a:xfrm>
            <a:off x="2340000" y="259920"/>
            <a:ext cx="6346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Система образовательного процесса школы, предназначена  для удовлетворения постоянно изменяющихся индивидуальных социокультурных и образовательных потребностей одаренных детей, позволяющая  обеспечить выявление, поддержку и развитие их способностей в рамках школьной и внешкольной деятельности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8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/>
          </p:nvPr>
        </p:nvSpPr>
        <p:spPr>
          <a:xfrm>
            <a:off x="2050920" y="907560"/>
            <a:ext cx="6718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дним из наиболее дискуссионных вопросов, касающихся проблемы одаренных детей, является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вопрос о частоте проявления детской одаренности</a:t>
            </a: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45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6" name="WordArt 4"/>
          <p:cNvSpPr txBox="1"/>
          <p:nvPr/>
        </p:nvSpPr>
        <p:spPr>
          <a:xfrm>
            <a:off x="1042920" y="765000"/>
            <a:ext cx="7192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В школе создаются условия для индивидуализации обучения одаренных детей: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49" name="Oval 3"/>
          <p:cNvSpPr/>
          <p:nvPr/>
        </p:nvSpPr>
        <p:spPr>
          <a:xfrm>
            <a:off x="3059280" y="2637000"/>
            <a:ext cx="2665080" cy="1296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2700360" y="1268280"/>
            <a:ext cx="1800360" cy="1152720"/>
          </a:xfrm>
          <a:prstGeom prst="wedgeRoundRectCallout">
            <a:avLst>
              <a:gd name="adj1" fmla="val 43740"/>
              <a:gd name="adj2" fmla="val 67495"/>
              <a:gd name="adj3" fmla="val 1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форумы,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олимпиад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1" name="AutoShape 5"/>
          <p:cNvSpPr/>
          <p:nvPr/>
        </p:nvSpPr>
        <p:spPr>
          <a:xfrm>
            <a:off x="6012000" y="4797360"/>
            <a:ext cx="2881080" cy="1800360"/>
          </a:xfrm>
          <a:prstGeom prst="wedgeRoundRectCallout">
            <a:avLst>
              <a:gd name="adj1" fmla="val -83611"/>
              <a:gd name="adj2" fmla="val -102643"/>
              <a:gd name="adj3" fmla="val 16667"/>
            </a:avLst>
          </a:prstGeom>
          <a:gradFill rotWithShape="0">
            <a:gsLst>
              <a:gs pos="0">
                <a:srgbClr val="e010b8"/>
              </a:gs>
              <a:gs pos="50000">
                <a:srgbClr val="ffffff"/>
              </a:gs>
              <a:gs pos="100000">
                <a:srgbClr val="e010b8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ссийские, региональные, школьные олимпиад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2" name="AutoShape 7"/>
          <p:cNvSpPr/>
          <p:nvPr/>
        </p:nvSpPr>
        <p:spPr>
          <a:xfrm>
            <a:off x="7020000" y="1844640"/>
            <a:ext cx="1800000" cy="1152720"/>
          </a:xfrm>
          <a:prstGeom prst="wedgeRoundRectCallout">
            <a:avLst>
              <a:gd name="adj1" fmla="val -125134"/>
              <a:gd name="adj2" fmla="val 58814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истема творческих конкурсов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3" name="AutoShape 8"/>
          <p:cNvSpPr/>
          <p:nvPr/>
        </p:nvSpPr>
        <p:spPr>
          <a:xfrm>
            <a:off x="3564000" y="5013360"/>
            <a:ext cx="2232000" cy="1368360"/>
          </a:xfrm>
          <a:prstGeom prst="wedgeRoundRectCallout">
            <a:avLst>
              <a:gd name="adj1" fmla="val -143"/>
              <a:gd name="adj2" fmla="val -130509"/>
              <a:gd name="adj3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етские научно-практические конференции и семинары</a:t>
            </a:r>
            <a:endParaRPr b="0" lang="en-US" sz="16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4" name="AutoShape 9"/>
          <p:cNvSpPr/>
          <p:nvPr/>
        </p:nvSpPr>
        <p:spPr>
          <a:xfrm>
            <a:off x="324000" y="2349360"/>
            <a:ext cx="1800000" cy="1152720"/>
          </a:xfrm>
          <a:prstGeom prst="wedgeRoundRectCallout">
            <a:avLst>
              <a:gd name="adj1" fmla="val 106615"/>
              <a:gd name="adj2" fmla="val 17907"/>
              <a:gd name="adj3" fmla="val 16667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ворческие проект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5" name="AutoShape 10"/>
          <p:cNvSpPr/>
          <p:nvPr/>
        </p:nvSpPr>
        <p:spPr>
          <a:xfrm>
            <a:off x="6877080" y="3213000"/>
            <a:ext cx="1800360" cy="1440000"/>
          </a:xfrm>
          <a:prstGeom prst="wedgeRoundRectCallout">
            <a:avLst>
              <a:gd name="adj1" fmla="val -121958"/>
              <a:gd name="adj2" fmla="val -31699"/>
              <a:gd name="adj3" fmla="val 16667"/>
            </a:avLst>
          </a:prstGeom>
          <a:gradFill rotWithShape="0">
            <a:gsLst>
              <a:gs pos="0">
                <a:srgbClr val="f2f735"/>
              </a:gs>
              <a:gs pos="50000">
                <a:srgbClr val="ffffff"/>
              </a:gs>
              <a:gs pos="100000">
                <a:srgbClr val="f2f73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очные 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лимпиады, проекты, конкурс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6" name="AutoShape 11"/>
          <p:cNvSpPr/>
          <p:nvPr/>
        </p:nvSpPr>
        <p:spPr>
          <a:xfrm>
            <a:off x="179280" y="4653000"/>
            <a:ext cx="3059280" cy="1512720"/>
          </a:xfrm>
          <a:prstGeom prst="wedgeRoundRectCallout">
            <a:avLst>
              <a:gd name="adj1" fmla="val 59810"/>
              <a:gd name="adj2" fmla="val -100995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фо-Центр: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азета «Первое приближение»,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йт школы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557" name="AutoShape 12"/>
          <p:cNvSpPr/>
          <p:nvPr/>
        </p:nvSpPr>
        <p:spPr>
          <a:xfrm>
            <a:off x="5076720" y="1197000"/>
            <a:ext cx="1800360" cy="1152360"/>
          </a:xfrm>
          <a:prstGeom prst="wedgeRoundRectCallout">
            <a:avLst>
              <a:gd name="adj1" fmla="val -53439"/>
              <a:gd name="adj2" fmla="val 83611"/>
              <a:gd name="adj3" fmla="val 16667"/>
            </a:avLst>
          </a:prstGeom>
          <a:gradFill rotWithShape="0">
            <a:gsLst>
              <a:gs pos="0">
                <a:srgbClr val="00cc00"/>
              </a:gs>
              <a:gs pos="50000">
                <a:srgbClr val="ffffff"/>
              </a:gs>
              <a:gs pos="100000">
                <a:srgbClr val="00cc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ОУ «Сигма»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8" name="Object 4"/>
          <p:cNvGraphicFramePr/>
          <p:nvPr/>
        </p:nvGraphicFramePr>
        <p:xfrm>
          <a:off x="0" y="907920"/>
          <a:ext cx="8244000" cy="595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2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0" name="Text Box 5"/>
          <p:cNvSpPr/>
          <p:nvPr/>
        </p:nvSpPr>
        <p:spPr>
          <a:xfrm>
            <a:off x="250920" y="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ivaldiD CL"/>
              </a:rPr>
              <a:t>Динамика роста результатов детей, участвующих в районных олимпиадах за 4 учебных года на примере школы –лицея №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1" name="Object 4"/>
          <p:cNvGraphicFramePr/>
          <p:nvPr/>
        </p:nvGraphicFramePr>
        <p:xfrm>
          <a:off x="0" y="773280"/>
          <a:ext cx="91440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73280"/>
                    <a:ext cx="9144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Franklin Gothic Medium"/>
              </a:rPr>
              <a:t>Олимпиада 2006-2007 учебного года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916360" y="1844280"/>
            <a:ext cx="575928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Стратегии ускорения обучения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одаренных детей  через обогащение содержания образования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0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Group 4"/>
          <p:cNvGrpSpPr/>
          <p:nvPr/>
        </p:nvGrpSpPr>
        <p:grpSpPr>
          <a:xfrm>
            <a:off x="250920" y="333360"/>
            <a:ext cx="8604000" cy="5838840"/>
            <a:chOff x="250920" y="333360"/>
            <a:chExt cx="8604000" cy="5838840"/>
          </a:xfrm>
        </p:grpSpPr>
        <p:sp>
          <p:nvSpPr>
            <p:cNvPr id="1566" name="AutoShape 5"/>
            <p:cNvSpPr/>
            <p:nvPr/>
          </p:nvSpPr>
          <p:spPr>
            <a:xfrm>
              <a:off x="250920" y="333360"/>
              <a:ext cx="8604000" cy="58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67" name="Line 6"/>
            <p:cNvSpPr/>
            <p:nvPr/>
          </p:nvSpPr>
          <p:spPr>
            <a:xfrm>
              <a:off x="1019520" y="6017040"/>
              <a:ext cx="6760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68" name="Line 7"/>
            <p:cNvSpPr/>
            <p:nvPr/>
          </p:nvSpPr>
          <p:spPr>
            <a:xfrm flipV="1">
              <a:off x="1019520" y="1408320"/>
              <a:ext cx="5837400" cy="4608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69" name="Line 8"/>
            <p:cNvSpPr/>
            <p:nvPr/>
          </p:nvSpPr>
          <p:spPr>
            <a:xfrm flipH="1" flipV="1">
              <a:off x="1019160" y="486720"/>
              <a:ext cx="1080" cy="552996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70" name="Text Box 9"/>
            <p:cNvSpPr/>
            <p:nvPr/>
          </p:nvSpPr>
          <p:spPr>
            <a:xfrm>
              <a:off x="2094480" y="5249520"/>
              <a:ext cx="6760080" cy="61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оризонтальное обогащение через дополнительны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атериал в рамках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традиционных курсов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71" name="WordArt 10"/>
            <p:cNvSpPr txBox="1"/>
            <p:nvPr/>
          </p:nvSpPr>
          <p:spPr>
            <a:xfrm rot="19361400">
              <a:off x="1040760" y="2569320"/>
              <a:ext cx="6096960" cy="46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3300"/>
                  </a:solidFill>
                  <a:latin typeface="Times New Roman"/>
                </a:rPr>
                <a:t>Индивидуальная стратегия ускорения обучения </a:t>
              </a:r>
              <a:endPara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572" name="Rectangle 11"/>
          <p:cNvSpPr/>
          <p:nvPr/>
        </p:nvSpPr>
        <p:spPr>
          <a:xfrm rot="16200000">
            <a:off x="-2124000" y="3428640"/>
            <a:ext cx="5472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ртикальное обогащение по ступеням обучения в рамках выбранного предмета</a:t>
            </a:r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778680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entury Schoolbook"/>
              </a:rPr>
              <a:t>Вертикальное обогащ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едполагает более быстрое продвижение к познавательным высшим уровням в области избранного предмет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entury Schoolbook"/>
              </a:rPr>
              <a:t>Горизонтальное обогащ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направлено на расширение изучаемой области знан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чего одаренный ребенок не продвигается быстрее, а получает дополнительный материал к традиционным курсам, большие возможности развития мышления  и креативности, развивает умение работать самостоятельно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7" dur="8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8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1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1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002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3600" spc="-1" strike="noStrike">
                <a:solidFill>
                  <a:srgbClr val="ff3300"/>
                </a:solidFill>
                <a:latin typeface="Century Schoolbook"/>
              </a:rPr>
              <a:t>Стратегия обогащения включает несколько направлений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расширение кругозора знаний об окружающем мире и самопознание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углубление этих знаний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развитие инструментария получения знаний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0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7859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богащение обучения специально направлено на развитие творческого мышл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юда входят занятия по решению проблем с применением таких известных техник как мозговой штурм, занятия ориентированные на использование метода проектов, осуществления исследовательской деятельности, развитие личностных характеристик, упражнения на релаксацию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8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1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784836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ое значение придается корректирующим, развивающим и интегративным программам.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азвива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ются для улучшения состояния эмоциональной сферы, в них используются такие виды упражнений как ролевой тренинг, обсуждения в малых группа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нтеграт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граммы соединяют познавательные и эмоциональные компоненты. Их можно разделить на направленные на обсуждение жизненных ценностей и связанные с исследованием проблемы самоактуализац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0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9" dur="8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80"/>
                                        <p:tgtEl>
                                          <p:spTgt spid="1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8480"/>
                            </p:stCondLst>
                            <p:childTnLst>
                              <p:par>
                                <p:cTn id="1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1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74674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Century Schoolbook"/>
              </a:rPr>
              <a:t>Учебный материал, </a:t>
            </a:r>
            <a:r>
              <a:rPr b="0" lang="en-US" sz="3600" spc="-1" strike="noStrike">
                <a:solidFill>
                  <a:srgbClr val="ff3300"/>
                </a:solidFill>
                <a:latin typeface="Century Schoolbook"/>
              </a:rPr>
              <a:t>применяемый педагогами школы в работе с одаренными детьми,  соответствует следующим требованиям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nodeType="clickEffect" fill="hold">
                      <p:stCondLst>
                        <p:cond delay="0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Существуют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VivaldiD CL"/>
              </a:rPr>
              <a:t> две крайние точки зрения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8" name="AutoShape 18"/>
          <p:cNvSpPr/>
          <p:nvPr/>
        </p:nvSpPr>
        <p:spPr>
          <a:xfrm>
            <a:off x="1908000" y="2349360"/>
            <a:ext cx="3456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е дети являются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аренными”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49" name="AutoShape 19"/>
          <p:cNvSpPr/>
          <p:nvPr/>
        </p:nvSpPr>
        <p:spPr>
          <a:xfrm>
            <a:off x="5219640" y="4221000"/>
            <a:ext cx="3456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5400000"/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аренные дети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стречаются 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райне редко”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0" name="Line 20"/>
          <p:cNvSpPr/>
          <p:nvPr/>
        </p:nvSpPr>
        <p:spPr>
          <a:xfrm flipH="1">
            <a:off x="3492360" y="1628640"/>
            <a:ext cx="1224000" cy="720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1" name="Line 21"/>
          <p:cNvSpPr/>
          <p:nvPr/>
        </p:nvSpPr>
        <p:spPr>
          <a:xfrm>
            <a:off x="5651640" y="1628640"/>
            <a:ext cx="1368360" cy="2592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8" name="Organization Chart 5"/>
          <p:cNvGrpSpPr/>
          <p:nvPr/>
        </p:nvGrpSpPr>
        <p:grpSpPr>
          <a:xfrm>
            <a:off x="179280" y="404640"/>
            <a:ext cx="8640360" cy="6067440"/>
            <a:chOff x="179280" y="404640"/>
            <a:chExt cx="8640360" cy="6067440"/>
          </a:xfrm>
        </p:grpSpPr>
        <p:cxnSp>
          <p:nvCxnSpPr>
            <p:cNvPr id="1579" name="_s3076"/>
            <p:cNvCxnSpPr>
              <a:stCxn id="1580" idx="0"/>
              <a:endCxn id="1581" idx="2"/>
            </p:cNvCxnSpPr>
            <p:nvPr/>
          </p:nvCxnSpPr>
          <p:spPr>
            <a:xfrm flipV="1" rot="16200000">
              <a:off x="5739480" y="1593360"/>
              <a:ext cx="1207440" cy="368892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2" name="_s3077"/>
            <p:cNvCxnSpPr>
              <a:stCxn id="1583" idx="0"/>
              <a:endCxn id="1581" idx="2"/>
            </p:cNvCxnSpPr>
            <p:nvPr/>
          </p:nvCxnSpPr>
          <p:spPr>
            <a:xfrm flipV="1" rot="16200000">
              <a:off x="5003640" y="2331000"/>
              <a:ext cx="1207440" cy="221328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4" name="_s3078"/>
            <p:cNvCxnSpPr>
              <a:stCxn id="1585" idx="0"/>
              <a:endCxn id="1581" idx="2"/>
            </p:cNvCxnSpPr>
            <p:nvPr/>
          </p:nvCxnSpPr>
          <p:spPr>
            <a:xfrm flipV="1" rot="16200000">
              <a:off x="4265280" y="3069360"/>
              <a:ext cx="1207440" cy="73656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6" name="_s3079"/>
            <p:cNvCxnSpPr>
              <a:stCxn id="1587" idx="0"/>
              <a:endCxn id="1581" idx="2"/>
            </p:cNvCxnSpPr>
            <p:nvPr/>
          </p:nvCxnSpPr>
          <p:spPr>
            <a:xfrm flipH="1" flipV="1" rot="5400000">
              <a:off x="3527640" y="3067920"/>
              <a:ext cx="1207440" cy="73980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8" name="_s3080"/>
            <p:cNvCxnSpPr>
              <a:stCxn id="1589" idx="0"/>
              <a:endCxn id="1581" idx="2"/>
            </p:cNvCxnSpPr>
            <p:nvPr/>
          </p:nvCxnSpPr>
          <p:spPr>
            <a:xfrm flipH="1" flipV="1" rot="5400000">
              <a:off x="2789640" y="2332080"/>
              <a:ext cx="1207440" cy="221148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0" name="_s3081"/>
            <p:cNvCxnSpPr>
              <a:stCxn id="1591" idx="0"/>
              <a:endCxn id="1581" idx="2"/>
            </p:cNvCxnSpPr>
            <p:nvPr/>
          </p:nvCxnSpPr>
          <p:spPr>
            <a:xfrm flipH="1" flipV="1" rot="5400000">
              <a:off x="2052720" y="1593360"/>
              <a:ext cx="1207440" cy="3688920"/>
            </a:xfrm>
            <a:prstGeom prst="bentConnector3">
              <a:avLst>
                <a:gd name="adj1" fmla="val 945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1" name="_s3082"/>
            <p:cNvSpPr/>
            <p:nvPr/>
          </p:nvSpPr>
          <p:spPr>
            <a:xfrm>
              <a:off x="3867120" y="404640"/>
              <a:ext cx="1266120" cy="2430000"/>
            </a:xfrm>
            <a:custGeom>
              <a:avLst/>
              <a:gdLst>
                <a:gd name="textAreaLeft" fmla="*/ 61560 w 1266120"/>
                <a:gd name="textAreaRight" fmla="*/ 1204560 w 12661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450">
                  <a:moveTo>
                    <a:pt x="3600" y="0"/>
                  </a:moveTo>
                  <a:arcTo wR="3600" hR="3600" stAng="16200000" swAng="-5400000"/>
                  <a:lnTo>
                    <a:pt x="0" y="37850"/>
                  </a:lnTo>
                  <a:arcTo wR="3600" hR="3600" stAng="10800000" swAng="-5400000"/>
                  <a:lnTo>
                    <a:pt x="18000" y="414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Учебный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материал</a:t>
              </a:r>
              <a:endParaRPr b="0" lang="en-US" sz="18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91" name="_s3083"/>
            <p:cNvSpPr/>
            <p:nvPr/>
          </p:nvSpPr>
          <p:spPr>
            <a:xfrm>
              <a:off x="17928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учность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9" name="_s3084"/>
            <p:cNvSpPr/>
            <p:nvPr/>
          </p:nvSpPr>
          <p:spPr>
            <a:xfrm>
              <a:off x="165420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5000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Расширенный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объём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7" name="_s3085"/>
            <p:cNvSpPr/>
            <p:nvPr/>
          </p:nvSpPr>
          <p:spPr>
            <a:xfrm>
              <a:off x="312948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e010b8"/>
                </a:gs>
                <a:gs pos="50000">
                  <a:srgbClr val="ffffff"/>
                </a:gs>
                <a:gs pos="100000">
                  <a:srgbClr val="e010b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Междисципли-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рный 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контекст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5" name="_s3086"/>
            <p:cNvSpPr/>
            <p:nvPr/>
          </p:nvSpPr>
          <p:spPr>
            <a:xfrm>
              <a:off x="460476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Практическая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направленность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3" name="_s3087"/>
            <p:cNvSpPr/>
            <p:nvPr/>
          </p:nvSpPr>
          <p:spPr>
            <a:xfrm>
              <a:off x="608004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Соответствие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разнообразию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интересов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учащихся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  <p:sp>
          <p:nvSpPr>
            <p:cNvPr id="1580" name="_s3088"/>
            <p:cNvSpPr/>
            <p:nvPr/>
          </p:nvSpPr>
          <p:spPr>
            <a:xfrm>
              <a:off x="7555320" y="4042080"/>
              <a:ext cx="1264320" cy="2430000"/>
            </a:xfrm>
            <a:custGeom>
              <a:avLst/>
              <a:gdLst>
                <a:gd name="textAreaLeft" fmla="*/ 61560 w 1264320"/>
                <a:gd name="textAreaRight" fmla="*/ 1202760 w 1264320"/>
                <a:gd name="textAreaTop" fmla="*/ 61560 h 2430000"/>
                <a:gd name="textAreaBottom" fmla="*/ 2368440 h 2430000"/>
              </a:gdLst>
              <a:ahLst/>
              <a:rect l="textAreaLeft" t="textAreaTop" r="textAreaRight" b="textAreaBottom"/>
              <a:pathLst>
                <a:path w="21600" h="41509">
                  <a:moveTo>
                    <a:pt x="3600" y="0"/>
                  </a:moveTo>
                  <a:arcTo wR="3600" hR="3600" stAng="16200000" swAng="-5400000"/>
                  <a:lnTo>
                    <a:pt x="0" y="37909"/>
                  </a:lnTo>
                  <a:arcTo wR="3600" hR="3600" stAng="10800000" swAng="-5400000"/>
                  <a:lnTo>
                    <a:pt x="18000" y="41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34817"/>
                </a:gs>
                <a:gs pos="50000">
                  <a:srgbClr val="ffffff"/>
                </a:gs>
                <a:gs pos="100000">
                  <a:srgbClr val="d348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Дискуссионное 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содержание</a:t>
              </a:r>
              <a:endParaRPr b="0" lang="en-US" sz="1300" spc="-1" strike="noStrike">
                <a:solidFill>
                  <a:srgbClr val="000000"/>
                </a:solidFill>
                <a:latin typeface="VivaldiD C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3" descr="00019084"/>
          <p:cNvPicPr/>
          <p:nvPr/>
        </p:nvPicPr>
        <p:blipFill>
          <a:blip r:embed="rId1"/>
          <a:stretch/>
        </p:blipFill>
        <p:spPr>
          <a:xfrm>
            <a:off x="6443640" y="184464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593" name="WordArt 5"/>
          <p:cNvSpPr txBox="1"/>
          <p:nvPr/>
        </p:nvSpPr>
        <p:spPr>
          <a:xfrm>
            <a:off x="324000" y="1773360"/>
            <a:ext cx="56163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Эксперимент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467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Ниже перечислены личностные черты и деловые качества, которые учитель встречает у своих уче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Отметьте знаком «+» те свойства, которые Вам нравятся в учениках, а знаком «-» те, что не нравя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74674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Дисциплин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ровно успе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Организ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Выбивающийся из общего темп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Эрудирован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транный в поведении, непоня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Умеющий поддержать общее дел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Выскакивающий на уроке с нелепыми замечани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Стабильно успевающий (всегда хорошо учится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Занятый своими делами (индивидуалист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Быстро, «на лету» схватывающи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 умеющий общаться, конфликтны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Общающийся легко, приятный в общен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Иногда тугодум, иногда не может понять очевидног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Ясно,  понятно для всех выражающий свои мысл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Не всегда желающий подчиняться большинству или официальному руководителю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ivaldiD CL"/>
              </a:rPr>
              <a:t>Каких «+» у Вас больше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Если чётных «+» больше, то Вы – нестандартный учитель, умеющий обнаружить, выявить, разглядеть скрытую незаурядную одарённость. На практике такие учителя встречаются редко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nodeType="clickEffect" fill="hold">
                      <p:stCondLst>
                        <p:cond delay="0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80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80"/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WordArt 2"/>
          <p:cNvSpPr txBox="1"/>
          <p:nvPr/>
        </p:nvSpPr>
        <p:spPr>
          <a:xfrm>
            <a:off x="755640" y="2060640"/>
            <a:ext cx="3887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Проблемы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092720" cy="323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VivaldiD CL"/>
              </a:rPr>
              <a:t>Проблема одаренности представляет собой комплексную проблему, в которой пересекаются интересы разных научных дисциплин.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 Основными из них являются проблемы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nodeType="clickEffect" fill="hold">
                      <p:stCondLst>
                        <p:cond delay="0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8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2987280" y="320400"/>
            <a:ext cx="4708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ivaldiD CL"/>
              </a:rPr>
              <a:t>Проблем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2195640" y="1628280"/>
            <a:ext cx="6192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Особенности, присущие  одарённому ребён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Методы, способы выявления и обнаружения одарённых де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Разработка программ обучения для интеллектуально одарённых дет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Какие условия необходимо создать для учения одарённого ребё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-4654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Формы и методы  работы с одарёнными деть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0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8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9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0" dur="80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1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8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12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7" dur="8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8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12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3" dur="8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8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1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8" dur="8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8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78920" y="3933720"/>
            <a:ext cx="496908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Особенности,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присущие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 одаренным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VivaldiD CL"/>
              </a:rPr>
              <a:t>детям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nodeType="clickEffect" fill="hold">
                      <p:stCondLst>
                        <p:cond delay="0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7" dur="80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8" dur="80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9" dur="80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238880" cy="135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ivaldiD CL"/>
              </a:rPr>
              <a:t>К группе одаренных детей могут быть отнесены учащиеся, которые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-360" y="1609200"/>
            <a:ext cx="81010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меют более высокие по сравнению с большинством остальных учащихся – сверстников интеллектуальные способности, восприимчивость к умению, творческие возможности и проявления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Имеют доминирующую, активную, не насыщаемую познавательную потребность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Испытывают радость от умственного труда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Высокая скорость развития интеллектуальной и творческой сфер, глубина и не традиционность мыш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0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6" dur="80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80"/>
                                        <p:tgtEl>
                                          <p:spTgt spid="1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2" dur="8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80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7848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казанная альтернатива снимается в рамках следующей позиции: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потенциальная одаренност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по отношению к разным видам деятельности присуща многим детям, тогда как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актуальную одаренность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демонстрирует незначительная часть детей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7707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VivaldiD CL"/>
              </a:rPr>
              <a:t>После выявления одаренности детей работа с ними должна вестись 2 группами педагогов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учителями – предметниками, создающими атмосферу эмоциональной включенности, возбуждающими интерес к предмету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наставник (руководитель секции НОУ, учитель – предметник, классный руководитель, психолог, …) – помогает в научно – исследовательской работе по выбранной теме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лассный руководитель координирует индивидуальную работу всех лиц, заинтересованных в судьбе одаренного учащегося, обеспечивает необходимое общение, связь с родите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nodeType="clickEffect" fill="hold">
                      <p:stCondLst>
                        <p:cond delay="0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1" dur="8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2" dur="8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80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1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8" dur="80"/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9" dur="80"/>
                                        <p:tgtEl>
                                          <p:spTgt spid="1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1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3" dur="80"/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4" dur="80"/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5" dur="80"/>
                                        <p:tgtEl>
                                          <p:spTgt spid="1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12560"/>
                            </p:stCondLst>
                            <p:childTnLst>
                              <p:par>
                                <p:cTn id="1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9" dur="80"/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0" dur="80"/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1" dur="80"/>
                                        <p:tgtEl>
                                          <p:spTgt spid="1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72388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 работе с одаренными детьми нужно избегать 2-х край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озведение ребенка на пьедестал, подчеркивания его особых прав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с другой стороны – публичного принижения достоинства или игнорирования интеллектуальных успехов во время борьбы со «звездностью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8" dur="8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8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1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4" dur="8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5" dur="8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8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1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0" dur="8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1" dur="8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8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/>
          </p:nvPr>
        </p:nvSpPr>
        <p:spPr>
          <a:xfrm>
            <a:off x="456840" y="764640"/>
            <a:ext cx="74278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едь это в первую очередь дети, которые не обязательно имеют столь же высокую эмоциональную и социальную зрелость (плохо адаптируются, не имеют развитого самоконтроля, не всегда способны заниматься самостоятельно, нуждаются в индивидуальном обучении и помощи). Они могут иметь некоторое отставание в физическом развитии (плохая координация движений и корявый почерк), застенчивость, отсутствие внешнего интеллекта, блеска. Им присущи высокая мотивация к достижениям, стремление быть лучшими, сознательные усилия в уч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0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8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496872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Методы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выявления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 одаренных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VivaldiD CL"/>
              </a:rPr>
              <a:t>детей</a:t>
            </a:r>
            <a:r>
              <a:rPr b="1" lang="en-US" sz="31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9" dur="8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8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Rectangle 2"/>
          <p:cNvSpPr/>
          <p:nvPr/>
        </p:nvSpPr>
        <p:spPr>
          <a:xfrm>
            <a:off x="324000" y="713160"/>
            <a:ext cx="770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зличные варианты метода наблюдения за детьми (в лабораторных условиях, в школе, во внешкольной деятельности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иальные психодиагностические тренинги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спертное оценивание поведения детей учителями, родителями, одноклассниками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ведение “пробных” уроков по специальным программам, а также включение детей в специальные игровые и предметно-ориентированные занятия;</a:t>
            </a: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nodeType="clickEffect" fill="hold">
                      <p:stCondLst>
                        <p:cond delay="0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80"/>
                                        <p:tgtEl>
                                          <p:spTgt spid="1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1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3" dur="8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80"/>
                                        <p:tgtEl>
                                          <p:spTgt spid="1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5560"/>
                            </p:stCondLst>
                            <p:childTnLst>
                              <p:par>
                                <p:cTn id="1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9" dur="80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1" dur="80"/>
                                        <p:tgtEl>
                                          <p:spTgt spid="1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nodeType="afterEffect" fill="hold">
                            <p:stCondLst>
                              <p:cond delay="8440"/>
                            </p:stCondLst>
                            <p:childTnLst>
                              <p:par>
                                <p:cTn id="1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6" dur="80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7" dur="80"/>
                                        <p:tgtEl>
                                          <p:spTgt spid="1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7238880" cy="59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кспертное оценивание конкретных продуктов творческой деятельности детей (рисунков, стихов, технических моделей) профессионала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организация различных интеллектуальных и предметных олимпиад, конференций, спортивных соревнований, творческих конкурсов, фестивалей, смотров и т. п.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роведение психодиагностического исследования с использованием различных психометрических методик в зависимости от задачи анализа конкретного случая одаренности. Это позволяет осуществить переход от методов «диагностики отбора» к методам «диагностики развития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0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4" dur="8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5" dur="8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8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1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0" dur="8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1" dur="8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2" dur="80"/>
                                        <p:tgtEl>
                                          <p:spTgt spid="1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6" dur="80"/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7" dur="80"/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80"/>
                                        <p:tgtEl>
                                          <p:spTgt spid="1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813800" cy="208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писок требований, приведенный ниже, в значительной степени перекликается с точкой зрения авторов концепции, но имеет ряд уточнений и дополнени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7372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Комплексный характер оценивания разных сторон поведения и деятельности ребенка, что позволит использовать различные источники информации и охватить как можно более широкий спектр его способ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юда следуют два выв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метрические тесты более целесообразно применять после процедуры идентификации ребенка как одаренного (не для и не до принятия решения) в целях организации необходимой ему психолого-педагогическ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метрические тесты полезны для отслеживания динамики проявлений одаренности конкретны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, психометрические тесты – лишь один из множества других источник информации в процессе идентификации одаренного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Длительность процесса идентификации одаренности. Необходимо развернутое во времени наблюдение за поведением данного ребенка в разных ситуациях, поэтапный поиск одаренных детей в процессе их обучения по специальным программам (в системе дополнительного образования) либо в процессе индивидуализированного образования (в условиях школ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Многократность и многоэтапность обследования с использованием множества психодиагностических процедур, отбираемых в соответствии с предполагаемым видом одаренности и индивидуальностью ребенка. Эффективная идентифик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аренности посредством какой-либо одноразовой процедуры тестирования невозмож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AutoShape 6"/>
          <p:cNvSpPr/>
          <p:nvPr/>
        </p:nvSpPr>
        <p:spPr>
          <a:xfrm rot="10800000">
            <a:off x="4859280" y="3284280"/>
            <a:ext cx="3672000" cy="2160360"/>
          </a:xfrm>
          <a:prstGeom prst="wedgeRoundRectCallout">
            <a:avLst>
              <a:gd name="adj1" fmla="val 41134"/>
              <a:gd name="adj2" fmla="val 101722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нструментальны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характеризует способы его деятельн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4" name="AutoShape 7"/>
          <p:cNvSpPr/>
          <p:nvPr/>
        </p:nvSpPr>
        <p:spPr>
          <a:xfrm rot="10800000">
            <a:off x="395280" y="2997360"/>
            <a:ext cx="3743280" cy="3024000"/>
          </a:xfrm>
          <a:prstGeom prst="wedgeRoundRectCallout">
            <a:avLst>
              <a:gd name="adj1" fmla="val -43384"/>
              <a:gd name="adj2" fmla="val 80129"/>
              <a:gd name="adj3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fff"/>
              </a:gs>
              <a:gs pos="100000">
                <a:srgbClr val="ff9999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характеризует отношение ребенка к той или иной стороне действительности, а также к своей деятельности)</a:t>
            </a:r>
            <a:endParaRPr b="0" lang="en-US" sz="2400" spc="-1" strike="noStrike">
              <a:solidFill>
                <a:srgbClr val="000000"/>
              </a:solidFill>
              <a:latin typeface="VivaldiD CL"/>
            </a:endParaRPr>
          </a:p>
        </p:txBody>
      </p:sp>
      <p:sp>
        <p:nvSpPr>
          <p:cNvPr id="1455" name="WordArt 8"/>
          <p:cNvSpPr txBox="1"/>
          <p:nvPr/>
        </p:nvSpPr>
        <p:spPr>
          <a:xfrm>
            <a:off x="900000" y="260280"/>
            <a:ext cx="712944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знаки одаренности охватывают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два аспекта поведения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даренного ребенка: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Диагностика детской одаренности должна быть ориентирована не на результат, а на процесс: от диагностики отбора (по уровню достижений) перейти к диагностике прогноза и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/>
          </p:nvPr>
        </p:nvSpPr>
        <p:spPr>
          <a:xfrm>
            <a:off x="0" y="0"/>
            <a:ext cx="8282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Анализ поведения ребенка в тех сферах деятельности, которые в максимальной мере соответствуют его склонностям и интересам (включение ребенка в специально организованные предметно-игровые занятия, вовлечение его в различные формы соответствующей предметной деятельности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64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Экспертная оценка продуктов деятельности детей (рисунков, стихотворений, технических моделей, способов решения математических задач и пр.) с привлечением экспертов – специалистов в соответствующей предметной области деятельности (математиков, филологов, шахматистов, инженеров и т.д.). При этом полезно привлекать к диагностическому обследо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ю разных специалистов, поскольку сопоставление различных данных даст более полную картину. Для каждой категории участников диагностического процесса необходим свой, специально разработанный методический инструментар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/>
          </p:nvPr>
        </p:nvSpPr>
        <p:spPr>
          <a:xfrm>
            <a:off x="0" y="0"/>
            <a:ext cx="82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Использование тренинговых методов и заданий. Обычно диагностические методики, ориентированные на разовое обследование, требуют решения ребенком серий специальных стандартизированных задач. По результатам решения производится оценка. Целесообразно проведение проблемных уроков по особой программе; в рамках которых можно организовывать определенные развивающие влияния, долговременную диагностику и снимать типичные для данного ребенка психологические «преграды», неизбежно возникающие при разовых обследованиях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Учет при диагностике детской одаренности потенциальных возможностей ребенка. Необходимо выявление признаков одаренности ребенка не только по отношению к актуальному уровню его психического развития, но и с учетом зоны ближайшего развития (в частности, в условиях обогащенной предметной и образовательной среды при разработке индивидуализированной стратегии обучения данного ребенк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Диагностическое обследование желательно проводить в ситуации реальной жизнедеятельности, приближая его по форме организации к естественному эксперименту (метод проектов, предметных, профессиональных и социальных проб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 Использование таких предметных ситуаций, которые моделируют исследовательскую деятельность и позволяют ребенку проявить максимум самостоятельности в овладении и развитии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Анализ реальных достижений детей и подростков в различных предметных олимпиадах, конференциях, спортивных соревнованиях, творческих конкурсах, фестивалях, смотрах  и т.п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Сочетание экологически валидных и традиционных методов диагностики. Экологически валидные методы диагностики имеют дело с оценкой реального поведения ребенка в реальной ситуации, – анализ продуктов деятельности, наблюдение, беседа, экспертные оценки учителей и родител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39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радиционным методам диагностики относятся психометрические тесты. Задачи в тестах мало напоминают то, что предстоит делать в будущем научному работнику, при этом, например тесты интеллекта более прогностичны, чем экологически валидные методы, в плане предсказания будущих научных успе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 а. К приведенным выше требованиям необходимо добавить участие детей в оценке собственной одаренности. Обычно дети участвуют в психодиагностической работе в роли обследуемых. Однако опрос детей не только возможен, но и необход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/>
          </p:nvPr>
        </p:nvSpPr>
        <p:spPr>
          <a:xfrm>
            <a:off x="0" y="0"/>
            <a:ext cx="806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им образом, отечественными учеными признается комплексный подход к выявлению одаренных детей, суть которого состоит в использовании разнообразия метод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блюдение за поведением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ециальные психодиагностические тренинг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спертное оценивание поведен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ение «пробных» занятий по специальным программ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оектов, предметных, профессиональных и социальных про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1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едметных ситуаций, в которых моделируется исследователь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ивание продуктов твор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интеллектуальных, творческих и спортивных мероприятий (предметных олимпиад, конференций, соревнований, конкурсов, смотров, фестивалей и т.п.) с последующей оценкой достижений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дение психодиагностического обследования с использованием вариативных методик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7:31:17Z</dcterms:created>
  <dc:creator>Alexander</dc:creator>
  <dc:description/>
  <dc:language>en-US</dc:language>
  <cp:lastModifiedBy>Элла</cp:lastModifiedBy>
  <dcterms:modified xsi:type="dcterms:W3CDTF">2013-02-27T17:49:00Z</dcterms:modified>
  <cp:revision>56</cp:revision>
  <dc:subject/>
  <dc:title>Слайд 1</dc:title>
</cp:coreProperties>
</file>