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  <p:sldId id="314" r:id="rId91"/>
    <p:sldId id="315" r:id="rId92"/>
    <p:sldId id="316" r:id="rId93"/>
    <p:sldId id="317" r:id="rId94"/>
    <p:sldId id="318" r:id="rId95"/>
    <p:sldId id="319" r:id="rId96"/>
    <p:sldId id="320" r:id="rId97"/>
    <p:sldId id="321" r:id="rId98"/>
    <p:sldId id="322" r:id="rId99"/>
    <p:sldId id="323" r:id="rId100"/>
    <p:sldId id="324" r:id="rId101"/>
    <p:sldId id="325" r:id="rId102"/>
    <p:sldId id="326" r:id="rId103"/>
    <p:sldId id="327" r:id="rId104"/>
    <p:sldId id="328" r:id="rId105"/>
    <p:sldId id="329" r:id="rId106"/>
    <p:sldId id="330" r:id="rId107"/>
    <p:sldId id="331" r:id="rId108"/>
    <p:sldId id="332" r:id="rId109"/>
    <p:sldId id="333" r:id="rId110"/>
    <p:sldId id="334" r:id="rId111"/>
    <p:sldId id="335" r:id="rId112"/>
    <p:sldId id="336" r:id="rId113"/>
    <p:sldId id="337" r:id="rId114"/>
    <p:sldId id="338" r:id="rId115"/>
    <p:sldId id="339" r:id="rId116"/>
    <p:sldId id="340" r:id="rId117"/>
    <p:sldId id="341" r:id="rId118"/>
    <p:sldId id="342" r:id="rId119"/>
    <p:sldId id="343" r:id="rId120"/>
    <p:sldId id="344" r:id="rId121"/>
    <p:sldId id="345" r:id="rId122"/>
    <p:sldId id="346" r:id="rId123"/>
    <p:sldId id="347" r:id="rId124"/>
    <p:sldId id="348" r:id="rId125"/>
    <p:sldId id="349" r:id="rId126"/>
    <p:sldId id="350" r:id="rId127"/>
    <p:sldId id="351" r:id="rId128"/>
    <p:sldId id="352" r:id="rId129"/>
    <p:sldId id="353" r:id="rId130"/>
    <p:sldId id="354" r:id="rId131"/>
    <p:sldId id="355" r:id="rId132"/>
    <p:sldId id="356" r:id="rId133"/>
    <p:sldId id="357" r:id="rId134"/>
    <p:sldId id="358" r:id="rId135"/>
    <p:sldId id="359" r:id="rId136"/>
    <p:sldId id="360" r:id="rId137"/>
    <p:sldId id="361" r:id="rId138"/>
    <p:sldId id="362" r:id="rId139"/>
    <p:sldId id="363" r:id="rId140"/>
    <p:sldId id="364" r:id="rId141"/>
    <p:sldId id="365" r:id="rId142"/>
    <p:sldId id="366" r:id="rId143"/>
    <p:sldId id="367" r:id="rId144"/>
    <p:sldId id="368" r:id="rId145"/>
    <p:sldId id="369" r:id="rId146"/>
    <p:sldId id="370" r:id="rId147"/>
    <p:sldId id="371" r:id="rId148"/>
    <p:sldId id="372" r:id="rId149"/>
    <p:sldId id="373" r:id="rId150"/>
    <p:sldId id="374" r:id="rId151"/>
    <p:sldId id="375" r:id="rId152"/>
    <p:sldId id="376" r:id="rId153"/>
    <p:sldId id="377" r:id="rId154"/>
    <p:sldId id="378" r:id="rId155"/>
    <p:sldId id="379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slide" Target="slides/slide59.xml"/><Relationship Id="rId92" Type="http://schemas.openxmlformats.org/officeDocument/2006/relationships/slide" Target="slides/slide60.xml"/><Relationship Id="rId93" Type="http://schemas.openxmlformats.org/officeDocument/2006/relationships/slide" Target="slides/slide61.xml"/><Relationship Id="rId94" Type="http://schemas.openxmlformats.org/officeDocument/2006/relationships/slide" Target="slides/slide62.xml"/><Relationship Id="rId95" Type="http://schemas.openxmlformats.org/officeDocument/2006/relationships/slide" Target="slides/slide63.xml"/><Relationship Id="rId96" Type="http://schemas.openxmlformats.org/officeDocument/2006/relationships/slide" Target="slides/slide64.xml"/><Relationship Id="rId97" Type="http://schemas.openxmlformats.org/officeDocument/2006/relationships/slide" Target="slides/slide65.xml"/><Relationship Id="rId98" Type="http://schemas.openxmlformats.org/officeDocument/2006/relationships/slide" Target="slides/slide66.xml"/><Relationship Id="rId99" Type="http://schemas.openxmlformats.org/officeDocument/2006/relationships/slide" Target="slides/slide67.xml"/><Relationship Id="rId100" Type="http://schemas.openxmlformats.org/officeDocument/2006/relationships/slide" Target="slides/slide68.xml"/><Relationship Id="rId101" Type="http://schemas.openxmlformats.org/officeDocument/2006/relationships/slide" Target="slides/slide69.xml"/><Relationship Id="rId102" Type="http://schemas.openxmlformats.org/officeDocument/2006/relationships/slide" Target="slides/slide70.xml"/><Relationship Id="rId103" Type="http://schemas.openxmlformats.org/officeDocument/2006/relationships/slide" Target="slides/slide71.xml"/><Relationship Id="rId104" Type="http://schemas.openxmlformats.org/officeDocument/2006/relationships/slide" Target="slides/slide72.xml"/><Relationship Id="rId105" Type="http://schemas.openxmlformats.org/officeDocument/2006/relationships/slide" Target="slides/slide73.xml"/><Relationship Id="rId106" Type="http://schemas.openxmlformats.org/officeDocument/2006/relationships/slide" Target="slides/slide74.xml"/><Relationship Id="rId107" Type="http://schemas.openxmlformats.org/officeDocument/2006/relationships/slide" Target="slides/slide75.xml"/><Relationship Id="rId108" Type="http://schemas.openxmlformats.org/officeDocument/2006/relationships/slide" Target="slides/slide76.xml"/><Relationship Id="rId109" Type="http://schemas.openxmlformats.org/officeDocument/2006/relationships/slide" Target="slides/slide77.xml"/><Relationship Id="rId110" Type="http://schemas.openxmlformats.org/officeDocument/2006/relationships/slide" Target="slides/slide78.xml"/><Relationship Id="rId111" Type="http://schemas.openxmlformats.org/officeDocument/2006/relationships/slide" Target="slides/slide79.xml"/><Relationship Id="rId112" Type="http://schemas.openxmlformats.org/officeDocument/2006/relationships/slide" Target="slides/slide80.xml"/><Relationship Id="rId113" Type="http://schemas.openxmlformats.org/officeDocument/2006/relationships/slide" Target="slides/slide81.xml"/><Relationship Id="rId114" Type="http://schemas.openxmlformats.org/officeDocument/2006/relationships/slide" Target="slides/slide82.xml"/><Relationship Id="rId115" Type="http://schemas.openxmlformats.org/officeDocument/2006/relationships/slide" Target="slides/slide83.xml"/><Relationship Id="rId116" Type="http://schemas.openxmlformats.org/officeDocument/2006/relationships/slide" Target="slides/slide84.xml"/><Relationship Id="rId117" Type="http://schemas.openxmlformats.org/officeDocument/2006/relationships/slide" Target="slides/slide85.xml"/><Relationship Id="rId118" Type="http://schemas.openxmlformats.org/officeDocument/2006/relationships/slide" Target="slides/slide86.xml"/><Relationship Id="rId119" Type="http://schemas.openxmlformats.org/officeDocument/2006/relationships/slide" Target="slides/slide87.xml"/><Relationship Id="rId120" Type="http://schemas.openxmlformats.org/officeDocument/2006/relationships/slide" Target="slides/slide88.xml"/><Relationship Id="rId121" Type="http://schemas.openxmlformats.org/officeDocument/2006/relationships/slide" Target="slides/slide89.xml"/><Relationship Id="rId122" Type="http://schemas.openxmlformats.org/officeDocument/2006/relationships/slide" Target="slides/slide90.xml"/><Relationship Id="rId123" Type="http://schemas.openxmlformats.org/officeDocument/2006/relationships/slide" Target="slides/slide91.xml"/><Relationship Id="rId124" Type="http://schemas.openxmlformats.org/officeDocument/2006/relationships/slide" Target="slides/slide92.xml"/><Relationship Id="rId125" Type="http://schemas.openxmlformats.org/officeDocument/2006/relationships/slide" Target="slides/slide93.xml"/><Relationship Id="rId126" Type="http://schemas.openxmlformats.org/officeDocument/2006/relationships/slide" Target="slides/slide94.xml"/><Relationship Id="rId127" Type="http://schemas.openxmlformats.org/officeDocument/2006/relationships/slide" Target="slides/slide95.xml"/><Relationship Id="rId128" Type="http://schemas.openxmlformats.org/officeDocument/2006/relationships/slide" Target="slides/slide96.xml"/><Relationship Id="rId129" Type="http://schemas.openxmlformats.org/officeDocument/2006/relationships/slide" Target="slides/slide97.xml"/><Relationship Id="rId130" Type="http://schemas.openxmlformats.org/officeDocument/2006/relationships/slide" Target="slides/slide98.xml"/><Relationship Id="rId131" Type="http://schemas.openxmlformats.org/officeDocument/2006/relationships/slide" Target="slides/slide99.xml"/><Relationship Id="rId132" Type="http://schemas.openxmlformats.org/officeDocument/2006/relationships/slide" Target="slides/slide100.xml"/><Relationship Id="rId133" Type="http://schemas.openxmlformats.org/officeDocument/2006/relationships/slide" Target="slides/slide101.xml"/><Relationship Id="rId134" Type="http://schemas.openxmlformats.org/officeDocument/2006/relationships/slide" Target="slides/slide102.xml"/><Relationship Id="rId135" Type="http://schemas.openxmlformats.org/officeDocument/2006/relationships/slide" Target="slides/slide103.xml"/><Relationship Id="rId136" Type="http://schemas.openxmlformats.org/officeDocument/2006/relationships/slide" Target="slides/slide104.xml"/><Relationship Id="rId137" Type="http://schemas.openxmlformats.org/officeDocument/2006/relationships/slide" Target="slides/slide105.xml"/><Relationship Id="rId138" Type="http://schemas.openxmlformats.org/officeDocument/2006/relationships/slide" Target="slides/slide106.xml"/><Relationship Id="rId139" Type="http://schemas.openxmlformats.org/officeDocument/2006/relationships/slide" Target="slides/slide107.xml"/><Relationship Id="rId140" Type="http://schemas.openxmlformats.org/officeDocument/2006/relationships/slide" Target="slides/slide108.xml"/><Relationship Id="rId141" Type="http://schemas.openxmlformats.org/officeDocument/2006/relationships/slide" Target="slides/slide109.xml"/><Relationship Id="rId142" Type="http://schemas.openxmlformats.org/officeDocument/2006/relationships/slide" Target="slides/slide110.xml"/><Relationship Id="rId143" Type="http://schemas.openxmlformats.org/officeDocument/2006/relationships/slide" Target="slides/slide111.xml"/><Relationship Id="rId144" Type="http://schemas.openxmlformats.org/officeDocument/2006/relationships/slide" Target="slides/slide112.xml"/><Relationship Id="rId145" Type="http://schemas.openxmlformats.org/officeDocument/2006/relationships/slide" Target="slides/slide113.xml"/><Relationship Id="rId146" Type="http://schemas.openxmlformats.org/officeDocument/2006/relationships/slide" Target="slides/slide114.xml"/><Relationship Id="rId147" Type="http://schemas.openxmlformats.org/officeDocument/2006/relationships/slide" Target="slides/slide115.xml"/><Relationship Id="rId148" Type="http://schemas.openxmlformats.org/officeDocument/2006/relationships/slide" Target="slides/slide116.xml"/><Relationship Id="rId149" Type="http://schemas.openxmlformats.org/officeDocument/2006/relationships/slide" Target="slides/slide117.xml"/><Relationship Id="rId150" Type="http://schemas.openxmlformats.org/officeDocument/2006/relationships/slide" Target="slides/slide118.xml"/><Relationship Id="rId151" Type="http://schemas.openxmlformats.org/officeDocument/2006/relationships/slide" Target="slides/slide119.xml"/><Relationship Id="rId152" Type="http://schemas.openxmlformats.org/officeDocument/2006/relationships/slide" Target="slides/slide120.xml"/><Relationship Id="rId153" Type="http://schemas.openxmlformats.org/officeDocument/2006/relationships/slide" Target="slides/slide121.xml"/><Relationship Id="rId154" Type="http://schemas.openxmlformats.org/officeDocument/2006/relationships/slide" Target="slides/slide122.xml"/><Relationship Id="rId155" Type="http://schemas.openxmlformats.org/officeDocument/2006/relationships/slide" Target="slides/slide123.xml"/><Relationship Id="rId156" Type="http://schemas.openxmlformats.org/officeDocument/2006/relationships/slide" Target="slides/slide124.xml"/><Relationship Id="rId1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5F6-5E39-4AE6-944A-25211599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859-951A-4446-AF4E-7C507DB7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1C17F-D06F-422C-BAE4-AD061781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D7883-EC09-44F8-ABFB-46C033A8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2722A-932A-4B13-9A12-BC273D8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1A5B4-4508-475B-AAB9-0FA69A2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1EA6-7997-44F0-93FF-3E7CED6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F8AB0-BF07-4C24-B125-B0A6828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CBFC-E03C-40A0-B54E-18D9992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3CD0-B7C2-4C17-942B-DA0CAC89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EA9D-0AF6-4CF1-A2BB-5C67E4F0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BCED-35F5-4296-A009-93BAC032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5F6-B5D7-4658-BB2F-AEB126F9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8EBB1-42D6-4D39-9328-7DF98102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ACE2-C34F-48DA-8ED0-1408CC52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0F8DB-B6D5-416C-9FC4-F6F034C3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3F202-9381-412E-AB76-A4549B94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A912F-081B-4B8F-A583-44D5885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FFC28-AB9A-41DF-B636-3B73FCF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2F10-DCCF-444E-B81D-D4B64A5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DF846-5CA1-495E-9608-98C94CC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D5AB2-1A86-413F-AD5C-DB0D56D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BCC76-58A9-4F8E-A724-F0C995B7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1E1-2146-4008-804F-BE53B0B3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097EC-42DE-45D8-AB45-6D8A62EC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4E82-A28F-4DE1-9EB0-F6F6CECC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C673E-A075-4A2B-9E74-3E57A0E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597C4-0C53-464A-A76E-95B90530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84F8A-798E-4BC6-891E-7FF6E02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9C010-C6AE-464B-8B6E-793BF84F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146A1-651A-4EFB-AB24-EC6023B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529A5-6BBF-4966-A131-D8E23BB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C2EC-8F04-458A-B2C7-BC12EEE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7220-0B05-4259-9E98-019E951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D8B-3813-4368-9BEE-BCD75FCB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D82E2-5B78-4274-B5CE-693B6E7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FDE9-62A9-4552-8C10-1C8B1A6D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65FBC-7AF7-4B24-85B7-760A967D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9D562-097B-4DF4-A535-06C3EFF9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9F61A-B514-4034-B210-41293676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C7FC7-D5CE-4E80-8FF2-FD0BB914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F6FC8-49BA-4C86-8A74-1C3D98C0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EF884-1629-475F-9547-AC80162C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2735B-F420-4243-A843-68367C1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CF656-17B7-4F35-B095-8E8A11E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C2D-1BA6-405A-BA37-E565BAC3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FA00B-CB82-42A7-9771-8E5C8435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2B648-5480-4ED3-A840-A082C0A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4976D-845C-44D6-96D7-2189588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0A28C-EBB7-448C-9793-9F712AA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7509C-4F8C-4F0C-B7B0-9DD761D7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A313D-DB4C-43BE-802D-850C3828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13CBE-3126-446E-ABA6-032CD06B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3D284-701F-4EAD-ADA0-2D4D912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5225A-19BF-4AB5-B6F4-85FDDD4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F3F7A-0F50-4841-9C31-1A53D997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5115-FE55-49CD-B48A-82FA3F3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2DE92-31E0-42B4-AF7C-24B43C3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E3EF3-7F2B-4D9F-9724-1B91B02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3ABD1-4B31-45D0-B5DC-80E6319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8A142-885C-49F2-970E-2FF37C0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75328-A697-48CA-A195-B9F849A3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2CD01-4682-49B8-A6A8-C33F1B08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C15D5-2710-4E4C-8A29-59DA3EB2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0BD77-57ED-4095-987F-EC14BEED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BF5FC-CE0D-4310-B088-854BE941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D6731-A547-4B84-B80C-25DF59B0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B35-66AC-49F4-AA8D-F832B56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645D0-C368-4197-B873-40E7B1C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9B6E3-FCC4-4C5B-A018-D79BCF4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B925C-8C0B-421D-BECF-F187A3A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8F729-66A9-4F27-A578-D9370B7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4F4EC-FCFE-462A-BD29-6814B4C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1F8D4-DDAE-4B93-B0C4-85EECAD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FFEFF-C987-4041-9E0A-040FBA9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C9D0F-A45E-4BA3-B5B7-F0475DB2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56CF6-6D0A-4BAB-9687-EE8846BC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482CA-91CE-4F45-BFF2-C509C8CB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C43-49F2-469D-B9EE-162AAD7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DF585-3201-4747-9212-289BF1E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D3A0F-6DCD-4B1D-A5F3-26EFC02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DAEA0-6D5B-4864-9D97-1C75883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370C7-451E-41D7-ADC0-D873E03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BD3CD-CA4A-4049-82EE-D215F56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F44EC-F266-48EC-AB10-46E0274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C2759-BB0F-44CC-A22D-1246721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A68C9-1CC7-449A-8724-1E2CB49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DA389-F96D-4A06-9C6B-8F7B171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A9568-779B-4785-90AD-2A5F60A9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C5D9-90A0-4934-936B-0E6AC0A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FEEB2-1697-4DBE-A669-374DCEA8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CF701-78FC-4138-8DB0-EF0A0C6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8C98E-91FA-4525-862C-1C40C85F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001AA-6DA0-4C85-9670-9B0643B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8BD10-67B2-462D-B4FC-25B45F92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12328-7EB8-4A94-93A8-E1CFF70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0850A-92BA-4207-BAEB-A8BE37DE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B46D5-CBA9-42F4-B4DE-419DD41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97352-B5CC-4FFB-B505-7B42A74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684B3-B202-4FA9-B1E1-4D5F790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D00-D126-40BE-8236-AC23EB1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2ADBF-9382-4791-911C-A1075E4C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9E798-D043-471B-8023-838F0CAF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DE2DC-58B1-4B94-B9AD-64362DEF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B589E-13D8-4544-A152-90EA850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BD13A-01FD-4B1F-880D-63346F05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2A22D-A142-4932-B836-2F40648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2E50F-18CE-4112-B937-08BDE37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A080B-2FFD-4E12-86D2-D90CD7BC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28A2C-8C4F-47F8-94F4-2220C440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8F499-87B5-498D-A3FE-50955D4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11C-B5CE-459E-8BA2-2849669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603-70ED-4CDE-9A3E-1952CAE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25255-8387-453E-A26F-EC9C5DF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71ED4-DB21-4885-BCDC-4DAA7B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DF228-C438-4B17-9EFB-C0CF735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A97F1-7338-4274-AF55-7474743E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73705-3F8F-4F6E-9555-A8FE58C1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FD3240-8B89-4950-A098-2D7A0421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DE6E22-F7BE-42A0-B722-D942C5B9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618804-171A-426A-8F31-096B8CA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5968B6-89F0-4CF3-8B4F-CFE6B0F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AB310F-9BF3-42C4-BBB0-B0D1C5CA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0B1-71CC-4FD2-A3BE-39EB900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AF2320-A57A-4690-9707-C8EA115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A13678-56AD-42EA-8001-A0C9732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D520F0-DCC8-494B-974D-9892EEFB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7CB9BA-67FB-4C1F-8E82-CA9B138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E8580C-82A2-404D-BCCC-3AF351F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077566-765D-4C99-A21E-E9DEFA8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BE9376-6712-4E51-B19D-C7775C17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1D96AA-E3E2-44A1-A236-2C7A5BD7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97352D-7A13-4AA6-B6E7-B1F611F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FF0E62-9DFE-4B99-9B13-92188F35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4770-AACB-45AD-95B4-CB3977E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3B70D9-8548-46DF-90AC-677FA207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8F67B4-2D90-42B6-B5B8-BE75D7CC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56C0F2-80D7-4427-B698-B2FF776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ED59E9-E48C-4E1F-8BA3-7372148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37FC02-C638-4C5A-B669-FED71AD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01CE31-FE9A-459C-9057-BB9D6BE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14459F-84F2-47BE-968B-7FC883DE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710879-5F73-4600-A507-C2272434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442B79-3F63-4011-AE4E-7F84EA6C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34401C-C44F-4E61-86D8-61E50CA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0757-C744-4C2F-A81E-B22CCAA2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B1AAFA-EE84-41B8-BEED-FB39ECFF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1CA1D1-F8C5-4D88-9C7E-4BE7FE90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F2DF19-BFC5-475B-8C9F-B1E7A627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4F2965-1D05-4D23-9D8A-4D98B41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F6843B-3493-4398-8FB4-CE3F40BC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8859CC-CEE9-4D9D-9FD4-7628E35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0AD1CF-857A-4AF5-8FB4-184A70A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DECF90-9CED-41C4-922A-A93AE536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BECE70-589B-4489-97DF-0B0225F1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2E3FC6-BF2D-4647-8307-6A9E186D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DFA4-14E0-4279-B0B9-03E49FAD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C5CE67-C4E2-44B8-9C30-8E223A3B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035F6-89C5-42DA-AEB0-780C65C6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CD721-1D71-433A-8E60-A8BB6DF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3B728-DBF3-4C83-AA67-A3F013C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EA349-BB42-4EA0-B79C-A9DFE796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341D7-1356-44BC-B9DD-68919F21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A1156-B067-4F58-A4DB-A06455C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65780-B324-40BF-B2F3-535CB86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A580C-1CC4-4E3E-A565-650184A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7FA49-E93D-4204-B4D1-1C990FF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3916-910D-4457-8F68-03CCC712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A6FF1-1C33-4DFA-9AF9-64FC9FD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C6D9B-BCBF-4A1A-B41D-C4ED4622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38F68-8E49-4899-AE22-FEB79BD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E6AA2-ECD2-4CF5-A35C-4D8EB03F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2F62E-BCE2-474D-9F0B-27ED4E1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B9CA50-C02F-4AFD-9690-CD0455A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DC373-4A04-46F7-8257-8BCF7814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44A570-AE4D-4025-97E4-34800C8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BBAAC-F451-4C1C-9856-AEAE9B0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CB46D-32D7-435B-8D70-84B67E7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0281-92BF-4475-8E3F-10B19CFF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92797A-BBBC-494E-A2E4-508128E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0BAC8-1D6A-43B8-B427-0267555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22E742-E4FD-486D-9647-E1B86A9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9F6A0-091C-499D-9585-8D36C7C2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0EE1FF-B216-43A8-AFED-B61082E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422379-8673-468D-867E-C8B40EB6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20A791-2698-4935-9F8A-4A48082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D2ED20-9DB9-4109-86D4-CAA0CB1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D51636-7733-4A9A-B1A4-862C31D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09810-7C4A-4C53-BB7E-F796ACA2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353C-F76C-4F27-AA65-418A9E9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66652-0E95-4527-B571-598FE670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DBA2A6-C44B-43C0-913E-D3A7975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630D9C-A12D-4F1E-9359-26FC28BA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51980-366D-44B8-884A-B5166D9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C1ADCA-ABC5-42B8-A818-A21D9EB8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7450D5-7314-46B2-AE33-0379BBBC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27D58-C5C0-4581-8C96-0C5F6D35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C017B7-42D0-4C1F-8E8A-8C57F9E5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51F23-CD82-4186-9913-A16B3A7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1D4D60-68B5-41E8-9EF6-16B6227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8F53-8D23-406A-BEA4-0A593C0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EC5EB1-D854-46C3-96AD-6C15BF7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05696A-EDB7-4441-8D40-AC16B1C9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0B100B-770D-4003-9202-EE9F86D6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952607-39E0-41D5-A7F1-4F2EF26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1D5F5-D104-44F7-A2F2-3200CB7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C98B5C-C48F-4C9E-8C7F-18FB44B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E3D46E-1E70-475A-81C5-50EF99E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DF8E3-C393-4C38-B2ED-5D449559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6D61E-D4AD-47E7-8003-64356AD8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0687D3-AB08-429E-ABAF-B6FE8FC2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A6BF-7907-406D-9893-E904D1A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439DBC-EA08-4193-96CF-6E8728F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6AB818-A764-432E-B640-62B33A10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81DB95-3610-434C-B10A-956C6189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C399B-901E-4B42-90A6-0E2B138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9A6284-99E0-4794-AC41-B008B40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6AF160-9B75-428E-AA47-E109B0A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1777C4-997C-46D0-9A8C-C36E94A4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53D4D-9339-4CBD-A3D5-33120B4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4B135-1CC8-4F4E-9146-D575E2D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7CE9BA-88BD-4F7E-9F33-A2922E68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670-EDB0-42C4-B0D4-C9D9F4F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95ED-A9A9-4B92-ACD5-72AA923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A8656-2EE9-456F-AD56-C7F9DDF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D129BC-A5D3-44D9-AC69-5CA0AE7A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9D29C2-9347-4B30-88FC-875B4F1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460B68-AA36-4E29-9B00-5CE346E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75CE93-83FB-432B-AE37-C83A39E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A23B12-8CB0-49EB-95BC-D33A0F7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7986AA-3892-4DC7-B351-891D9DD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C887DC-B16B-438C-9F15-9D0C656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1BB88-DA23-440E-B9A6-B195E0B2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44EBC-01FC-4FCC-99E2-EADB2880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D673-C167-49DC-A8DC-30A70E1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118B88-ED42-4444-B903-6FB3999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7E5CD9-5BF9-44BA-B7A5-1A5AD55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00CE45-3342-487B-AAFF-7FF2BA73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E263E-EE94-4037-BCDB-EE5BA334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6CA3DE-618C-4E70-8C21-60E4E35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91540E-267B-46B8-ABC9-868C4C8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66927B-3F18-469C-B689-66BA637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E1D96-BA12-4694-AB30-B9275A1C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5E1EB8-A35C-4DEA-A8DC-233ED4D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E2062E-7986-4BE4-93BF-D194203B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CBF5-56AF-4A6E-A828-1135774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BFBA5-34E6-402F-A529-CA7B188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6E5339-5FB7-4F86-8777-9EC96CE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15D00-47F8-4CBE-AFBF-66C76B53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234D81-0794-4DC1-A66E-59C4F9BE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2404A-4DCE-4125-930A-B14ACF33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7C7BC3-3118-48F2-948E-FCD46429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7D1EFA-1D48-41F3-A845-B8F3A64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256D31-9DFC-4B15-AC51-9441F50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14F7B-EC6D-42F4-B242-5348AFB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D2A80-224C-4FCA-AECC-8FA58B9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A0D8-C52B-41D5-96C9-C896872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BE380F-CAAE-4B20-95E6-D591431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52B075-3DBB-4CA8-B053-500FBBA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AC59D6-E5D4-443C-8848-2E0A1B9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8502FE-76F9-42B3-BA92-D58FF75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54AA55-104F-498B-9F10-6203E82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8D7B55-1CD3-4EF3-9256-B57E5375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FCBE2D-4C09-41B9-BCCA-E4647401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88526A-41CB-4219-8D9B-4BC2EC79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96192C-70F9-41AA-A683-D3BDEEC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870E9F-128E-4C96-8324-848D93AF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E8D3-8DC8-4F17-B592-3FCE35A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7187602-B968-456C-83BE-A1C1826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4DEE0E-E55F-482F-B98F-478D1BE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08184A-2744-4751-B733-B0C081A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C2EC67F-C61D-4CA8-B779-DE96D9E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C23BE6-BB9C-4F49-A098-2131235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AADA384-4577-4ACE-8462-5A32FC3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7F212C-515F-43BD-93E1-F136C87D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A14ABD-1733-4F70-BE5D-EAAF6AF9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BF24242-0E6D-4D7A-A39B-EC1B64A4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177EE6-207A-487A-8915-DF0AAB1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C207-EB89-4F68-ABC9-EC7F883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F9B3E4-5DC4-4863-9D31-086F45E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CB9A79-16D0-4953-A748-77957B65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0D8178-B096-420A-BB09-C64047CD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A667FD-EC5D-43BF-BEA7-6D59DD5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A89D31-4E0D-43BD-9620-0F50266B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E2EEB8-3738-4776-B5DD-D126860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03DF72-B012-4AF9-B240-28F53C6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E37B5E-7C30-4FE4-A842-AF5D1B0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C0EA7F-3821-4B7A-8B87-041589A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244AC8-3296-436A-B051-2B488D6A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E574-491A-416D-A486-ED730E8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531EC6-4F00-4F2C-8E7C-7EF29EC6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E3B157-CBBE-4C81-BD28-2187A425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30F94C-FF26-4B10-86A9-4313FB8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61FC8D-F9B3-4800-B461-8A2B01B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D78F87-61BD-480A-8593-ACDA6C6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009573-A313-437A-BB74-84A3C07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EDBB81-94AB-477B-917B-376C372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DDB17E-3C5D-4C34-BBBE-20342857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78A2E-E47A-43C2-9333-B604748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E7709D-AA1E-4E83-B3BF-75F2B27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F51B-82EB-4891-857F-24258B8C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F0001B-72D2-4242-A0F4-949A200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07620A-2FF5-43E9-95E3-D27814EC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D34999-A44E-4736-B529-6717EB18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B27B-4BCA-4FB6-B947-B4380776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C654-CB7B-4142-BE15-D91DAEB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B71-335D-44DD-8BCC-FC405F3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F9B0-C097-4D87-80C4-454E873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104C-1407-48F7-8BDE-DCE8B3F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6035-6D90-4857-A057-F20422E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A412-7FB9-4B0F-8434-6612141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B7AF-AEB1-4104-A50B-1146177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3EE0-5982-4ECB-BA36-C24044D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4946-4BD5-4DE3-BB9A-E03DC002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67A6-5FF9-4CC9-BEA3-0FD9DDB6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98EC-CC40-4F94-9F0B-B82F3898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C901-F8D3-4D34-B1CF-54DC09E0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A34-A568-4266-866B-211BD89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1AFE-A2B0-48A8-876E-D4B693E6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5175-94C0-4903-BD96-78E6113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C8C9-E2BD-4CD2-9C58-908A49F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65A6-AE8A-41B4-A720-A016A4F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8424-D2BF-4813-9B5B-DB103ED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352A-616F-403F-8336-826422D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F808-AA99-4A5B-B947-AA9FFEE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BFC6-8A47-4696-8659-6FC3DF6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7AF5-9B5B-4D08-858F-17DB81A2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1809-6B5E-4D9C-9B48-C699EBE0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151-65E7-4DA8-852B-09B19203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08CD-BA56-4F01-83C7-AFF183B3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678B-A33B-4375-B92A-60ADDB35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CC6EC-C83C-4D24-A22B-C1DB18A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2B30-1472-4C1D-8170-CB38FC2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E286-0A54-447A-8BE6-72CFA3C7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4E303-0BCB-4CAA-AD75-49CD360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AE60-2F89-4CAB-BCBD-F313771F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335E8-3B66-4C6A-8A4D-ED6AC521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8D63-8B8A-465E-BFEB-D9D699B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C5EA5-93A8-4A64-9441-1BCC756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235-F02C-4FD0-A8C5-0FB1CA1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660F-ECA5-41DB-A590-8988887C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8FA77-17C0-499E-85FE-3823F42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88B0-AEA2-49C0-AF6E-BFB4A49D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FE26-7538-458E-9818-0F03D06D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7BA1-8013-4712-9FF6-C11AB30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56E0-7098-4755-86DC-516E8540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6F75-5494-402D-BAA5-0A756585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862A4-807A-4D97-AE74-A52E464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423D-DE1C-42ED-BE8B-690F1B4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DAE2-A38B-4E8D-8F83-FCE065B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B5E-9027-4552-8F76-66DDF69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7020-3C12-4161-A66E-A62A8A1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A42A-CD65-4BAC-A564-2687247B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0E436-F3E2-4C09-BD92-AEE3CDE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621EB-5AD1-4F32-BEA1-E9CE0041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615E8-4F09-48C7-A0C1-2000775F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F8F6-BF3E-4F53-B9E9-2D7B4E13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679D-0024-4FC5-8790-BA7D7CFA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A3587-EDA1-4995-BBAE-0600D3F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7C8A2-B0B3-45DB-BC7E-51F62824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F569-E1FC-4566-817A-E3330602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992-09EA-47A4-A77B-583151C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A81F-B91E-4CCE-97C1-A710A9AF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76BE-3370-4A9B-AD2C-372FF2A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AF70-5B87-47F5-89D3-1C6F5A0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F62E-E477-40B8-9284-83F5E4C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9D27-A256-4012-801A-44F898EA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3E3FD-DFF4-43EF-B6B8-0A0F48E8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1387-93DE-4FAA-97E1-C020772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1353E-A2FE-46E3-BA09-5FF15867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F5E98-E741-4E15-8D63-8D670C8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AA5C9-CFD6-4EDC-BB1C-47EED77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62AF-6E3E-4E46-B596-B3B891BCEAD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401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404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2B95-613C-4F69-86FA-BD9FFE7C9F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44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4F69-6339-4BB9-988B-081ACDF4F0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9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6FC-109B-4D39-9099-7E11D246876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5001-4AAE-411D-A65F-BEAE3B8834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7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739-1736-4721-9EBF-61FC9BCE1E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2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grpSp>
        <p:nvGrpSpPr>
          <p:cNvPr id="62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2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  <p:grpSp>
          <p:nvGrpSpPr>
            <p:cNvPr id="62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03C-B185-40AF-94F5-B143908921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05E-F054-47B8-858F-A80947C31A5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5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5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133-FE94-48E5-A635-61947FFE5A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B1D3-CB1A-4389-B02A-81AAB82451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1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2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3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4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5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6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1D21-3ACD-4143-A5A2-3BF658B10C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1BBE-D67C-4398-A7CC-AB161A6DA5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69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3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4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A15-FDB2-4675-9343-453879D2D0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4FD-3501-4CE8-BAA9-BEB93E8B164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grpSp>
        <p:nvGrpSpPr>
          <p:cNvPr id="96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6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96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6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4079-6C12-4E38-85ED-DF524D7E976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3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B8EA-8735-4D79-A684-5D9B7D58084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7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8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9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7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69E-FC2E-473D-83BA-875431BF546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Прямоугольник 6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10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104" name="Прямая соединительная линия 7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3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4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5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22B5-99B7-446A-AFD2-7178BE1CD6E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14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7FA-8FF2-4E14-ADF7-EF92050C571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1" name="Прямоугольник 7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FACA-F8DA-47AE-93A0-1C7C27E12CA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Прямоугольник 6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4" name="Прямоугольник 7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5" name="Прямоугольник 8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6" name="Прямоугольник 9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7" name="Прямоугольник 10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8" name="Скругленный прямоугольник 11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9" name="Скругленный прямоугольник 12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0" name="Прямоугольник 13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1" name="Прямоугольник 14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2" name="Прямоугольник 15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3" name="Прямоугольник 16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82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83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84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20A-B997-4EE5-9228-5972BEEA4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6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7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8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9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0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1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2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3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4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5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6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7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8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sldNum" idx="8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54C3-46E4-4C1C-B590-63CEFE7D2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ftr" idx="8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F28-D7A3-4142-AB1C-AA0FAE9F01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8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F13-D39A-487A-9663-9A5ADB220B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9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9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02F-20AE-47C9-A784-DB903DCD406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D99E-58A6-4BF0-B721-A525D402ADC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60AC-A76F-4932-BA22-5813EA6E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A2C-8A0F-44B7-9C89-5000C27BE8D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D74-483B-494E-9D9C-FF999C9BFB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8C3-ECAB-4747-838C-26E2F994370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35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F8E-0B92-455B-816D-F683DDD1B0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4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0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0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2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22560" y="2205000"/>
            <a:ext cx="61214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ivaldiD CL"/>
              </a:rPr>
              <a:t>Интеллектуальная одарённость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ivaldiD CL"/>
              </a:rPr>
              <a:t>реалии, проблемы, перспектив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Picture 3" descr="ребёнок"/>
          <p:cNvPicPr/>
          <p:nvPr/>
        </p:nvPicPr>
        <p:blipFill>
          <a:blip r:embed="rId2"/>
          <a:stretch/>
        </p:blipFill>
        <p:spPr>
          <a:xfrm>
            <a:off x="611280" y="1700280"/>
            <a:ext cx="3203640" cy="3038400"/>
          </a:xfrm>
          <a:prstGeom prst="rect">
            <a:avLst/>
          </a:prstGeom>
          <a:ln w="76320">
            <a:solidFill>
              <a:srgbClr val="b13f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Georgia"/>
              </a:rPr>
              <a:t>Инструментальный аспект поведения одаренного ребенка может быть охарактеризован следующими признаками: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личие специфических стратегий деятель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даже комплексный подход не исключает диагностических ошибок. В психодиагностике одаренности выделяются типичные ошибки двух видов. Первый заключается в том, что в одаренные зачисляется ребенок, который таковым не является, второй – в том, что одаренность ребенка остается не выявленной. Если ошибки первого вида уменьшаются применением более жестких критериев отбора, то ошибки второго вида, напротив, становятся реже при более гибких, вариативных способах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рганизации поиска и отбора одаренных детей в больших выборках используется поэтапная, или ступенчатая стратегия диагностики. Последовательная процедура принятия решения в этом случае позволяет снизить опасность ошибок обоих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м этапе отбор осуществляется на основе широкого спектра характеристик одаренности с помощью опросников, организованного наблюдения, различных оценочных процедур, которые должны максимально полно отражать все стороны и проявления одаренности. При этом преднамеренно допускаются ошибки первого вида, и минимизируется, хотя и не исключается, риск ошибок второ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/>
          </p:nvPr>
        </p:nvSpPr>
        <p:spPr>
          <a:xfrm>
            <a:off x="0" y="0"/>
            <a:ext cx="806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тором этапе, а иногда и на последующих, используются все более точные и более специфические диагностические процедуры (в том числе и тесты), соответствующие целям отбора подходящих кандидатов для специальных программ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ребенка как одаренного не должна являться самоцелью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, с созданием условий для интеллектуального и личностного роста детей в общеобразовательных школах и учреждениях дополнительного образования с тем, чтобы выявить как можно больше детей с признаками одаренности и обеспечить им благоприятные условия для совершенствования присущих им видов одар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жим психолого-педагогического сопровождения образовательного процесса должен не только отслеживать актуальный психолого-педагогический статус каждого ребенка школы в самые сложные, критические возрастные периоды, но и прогнозировать зону ближайшего развития у детей «скрытых», нереализованных пока возможностей и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2"/>
          <p:cNvSpPr/>
          <p:nvPr/>
        </p:nvSpPr>
        <p:spPr>
          <a:xfrm>
            <a:off x="539640" y="758160"/>
            <a:ext cx="74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ценка ребенка как одаренного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не должна являться самоцелью.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.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75128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Программы обуч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для интеллектуаль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одаренных дет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долж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0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6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1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) включать изучение широких (глобальных) тем и проблем, что позволяет учитывать интерес одаренных детей к универсальному и общему, их повышенное стремление к обобщению, теоретическую ориентацию и интерес к будуще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) использовать в обучении междисциплинарный подход на основе интеграции тем и проблем, относящихся к различным областям знания. Это позволит стимулировать стремление одаренных детей к расширению и углублению своих знаний, а также развивать их способности к соотнесению разнородных явлений и поиску решений на “стыке” разных типов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0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6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7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1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2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3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4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5708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предполагать изучение проблем “открытого типа”, позволяющих учитывать склонность детей к исследовательскому типу поведения, проблемности обучения и т.д., а также формировать навыки и методы исследовательской рабо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в максимальной мере учитывать интересы одаренного ребенка и поощрять углубленное изучение тем, выбранных самим ребенк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) поддерживать и развивать самостоятельность в учен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nodeType="clickEffect" fill="hold">
                      <p:stCondLst>
                        <p:cond delay="0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1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1212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)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беспечивать гибкость и вариативность учебного процесса с точки зрения содержания, форм и методов обучения, вплоть до возможности их корректировки самими детьми с учетом характера их меняющихся потребностей и специфики их индивидуальных способов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) предусматривать наличие и свободное использование разнообразных источников и способов получения информации (в том числе через компьютерные се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0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3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0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формированность качественно своеобразного индивидуального стиля деятельности, выражающегося в склонности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“все делать по-своему”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вязанного с присущей одаренному ребенку самодостаточной системой саморегуля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23888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) включать качественное изменение самой учебной ситуации и учебного материала вплоть до создания специальных учебных комнат с необходимым оборудованием, подготовки специальных учебных пособий, организации полевых исследований, создания “рабочих мест” при лабораториях, музеях и т.п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) обучать детей оценивать результаты своей работы с помощью содержательных критериев, формировать у них навыки публичного обсуждения и отстаивания своих идей и результатов художественного твор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0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8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9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3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4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5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) способствовать развитию самопознания, а также пониманию индивидуальных особенностей други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) включать элементы индивидуализированной психологической поддержки и помощи с учетом индивидуального своеобразия личности каждого одаренно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0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м из важнейших условий эффективного обучения детей с разными типами одаренности является разработка таких учебных программ, которые бы в максимальной мере соответствовали качественной специфике конкретного типа одаренности и учитывали внутренние психологические закономерности его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0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88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10b8"/>
                </a:solidFill>
                <a:latin typeface="VivaldiD CL"/>
              </a:rPr>
              <a:t>Какие условия необходимо создать </a:t>
            </a:r>
            <a:br>
              <a:rPr sz="3200"/>
            </a:br>
            <a:r>
              <a:rPr b="1" lang="en-US" sz="3200" spc="-1" strike="noStrike">
                <a:solidFill>
                  <a:srgbClr val="e010b8"/>
                </a:solidFill>
                <a:latin typeface="VivaldiD CL"/>
              </a:rPr>
              <a:t>для учения одарённого ребён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676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 таким условия мы относим в первую очередь реализацию индивидуальности личности обучаю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nodeType="clickEffect" fill="hold">
                      <p:stCondLst>
                        <p:cond delay="0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1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WordArt 5"/>
          <p:cNvSpPr txBox="1"/>
          <p:nvPr/>
        </p:nvSpPr>
        <p:spPr>
          <a:xfrm>
            <a:off x="611280" y="1700280"/>
            <a:ext cx="4176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ерспекти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/>
          </p:nvPr>
        </p:nvSpPr>
        <p:spPr>
          <a:xfrm>
            <a:off x="2700360" y="692280"/>
            <a:ext cx="619272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ivaldiD CL"/>
              </a:rPr>
              <a:t>Проведение целенаправленных наблюдений за учебой и внеурочной деятельностью учащихся для выявления детей, имеющих склонность и показывающих высокую результативность в различных областях деятельности, путем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nodeType="clickEffect" fill="hold">
                      <p:stCondLst>
                        <p:cond delay="0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3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суждения критериев, позволяющих судить о наличии одарен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комство с приемами целенаправленного педагогического наблюд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явление мнения родителей о склонностях, круге интересов, особенностях личностного развития их ребен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иодический сбор сведений среди учителей – предметников и классных руководителей о наличии одаренных ученик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бор материалов и проведение специальных тестов, позволяющих определить наличие одарен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ительное наблюдение за корреляцией между результативностью по итогам тестирования и успехами в ре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дение различных внеурочных конкурсов, олимпиад, позволяющих ребенку проявить свои способ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0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1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2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1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8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0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1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2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320"/>
                            </p:stCondLst>
                            <p:childTnLst>
                              <p:par>
                                <p:cTn id="1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Picture 2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362400" cy="4149720"/>
          </a:xfrm>
          <a:prstGeom prst="rect">
            <a:avLst/>
          </a:prstGeom>
          <a:ln w="57240">
            <a:solidFill>
              <a:srgbClr val="fe8637"/>
            </a:solidFill>
            <a:miter/>
          </a:ln>
        </p:spPr>
      </p:pic>
      <p:sp>
        <p:nvSpPr>
          <p:cNvPr id="1646" name="Rectangle 3"/>
          <p:cNvSpPr/>
          <p:nvPr/>
        </p:nvSpPr>
        <p:spPr>
          <a:xfrm>
            <a:off x="2340000" y="469800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К любому ребёнку следует относить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с надеждой и ожиданием...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0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2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3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4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780"/>
                            </p:stCondLst>
                            <p:childTnLst>
                              <p:par>
                                <p:cTn id="1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8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9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0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410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VivaldiD CL"/>
              </a:rPr>
              <a:t>Решение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VivaldiD CL"/>
              </a:rPr>
              <a:t> </a:t>
            </a:r>
            <a:br>
              <a:rPr sz="4900"/>
            </a:br>
            <a:endParaRPr b="1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nodeType="clickEffect" fill="hold">
                      <p:stCondLst>
                        <p:cond delay="0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/>
          </p:nvPr>
        </p:nvSpPr>
        <p:spPr>
          <a:xfrm>
            <a:off x="2484000" y="907920"/>
            <a:ext cx="6048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Развивать одаренность обучающихся через оптимальное сочетание основного, дополнительного и индивидуального образования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137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сокая структурированность знаний, умение видеть изучаемый предмет в системе, свернутость способов действий в соответствующей предметной области. Иными словами, своеобразие способов деятельности одаренного ребенка проявляется в его способности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видеть в сложном простое, а в простом - сложно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1. Продолжать внедрять в образовательное пространство школы альтернативный вариант оценивания обучающихся в форме «портфолио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0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/>
          </p:nvPr>
        </p:nvSpPr>
        <p:spPr>
          <a:xfrm>
            <a:off x="2626920" y="981000"/>
            <a:ext cx="604836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2.    Стимулировать творческую деятельность педагогического коллектива и создать условия для удовлетворения потребности педагогов в продуктивном  самовыражен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nodeType="clickEffect" fill="hold">
                      <p:stCondLst>
                        <p:cond delay="0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4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/>
          </p:nvPr>
        </p:nvSpPr>
        <p:spPr>
          <a:xfrm>
            <a:off x="2771640" y="1600200"/>
            <a:ext cx="59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. Совершенствовать здоровьесберегающие и здоровьеразвивающие компоненты образовательного пространства школы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3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4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/>
          </p:nvPr>
        </p:nvSpPr>
        <p:spPr>
          <a:xfrm>
            <a:off x="2771640" y="1600200"/>
            <a:ext cx="59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4. Создать базу данных способностей и результатов деятельности одарённых дете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nodeType="clickEffect" fill="hold">
                      <p:stCondLst>
                        <p:cond delay="0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/>
          </p:nvPr>
        </p:nvSpPr>
        <p:spPr>
          <a:xfrm>
            <a:off x="2843280" y="1197000"/>
            <a:ext cx="590544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5. Повышать уровень и качество школьного образования через идеи гуманной и личностно- ориентированной педагоги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nodeType="clickEffect" fill="hold">
                      <p:stCondLst>
                        <p:cond delay="0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137440" cy="5853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обый тип обучаемости. Он может проявляться как в высокой скорости и легкости обучения, так и в замедленном темпе обучения, но с последующим резким изменением структуры знаний, представлений и умен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777708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Georgia"/>
              </a:rPr>
              <a:t>Мотивационный аспект поведения одаренного ребенка может быть охарактеризован следующими признаками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br>
              <a:rPr sz="22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24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ышенная, избирательная чувствительность к определенным сторонам предметной действительности либо к определенным формам собственной активности, сопровождающаяся, как правило, переживанием чувства удовольств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рко выраженный интерес к тем или иным занятиям или сферам деятельности, чрезвычайно высокая увлеченность каким-либо предметом. Наличие столь интенсивной склонности к определенному виду деятельности имеет своим следствием поразительное упорство и трудолюби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ышенная познавательная потребность, которая проявляется в ненасытной любознательности, а также готовности по собственной инициативе выходить за пределы исходных требований деятель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едпочтение парадоксальной, противоречивой и неопределенной информации, неприятие стандартных, типичных заданий и готовых ответов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78598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окая критичность к результатам собственного труда, склонность ставить сверхтрудные цели, стремление к совершенству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AutoShape 5"/>
          <p:cNvSpPr/>
          <p:nvPr/>
        </p:nvSpPr>
        <p:spPr>
          <a:xfrm>
            <a:off x="2771640" y="333360"/>
            <a:ext cx="46800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итерии, положенные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основу классификации 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дов одаренност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68" name="AutoShape 6"/>
          <p:cNvSpPr/>
          <p:nvPr/>
        </p:nvSpPr>
        <p:spPr>
          <a:xfrm flipV="1">
            <a:off x="0" y="1267920"/>
            <a:ext cx="2484360" cy="1656000"/>
          </a:xfrm>
          <a:prstGeom prst="wedgeRoundRectCallout">
            <a:avLst>
              <a:gd name="adj1" fmla="val 61689"/>
              <a:gd name="adj2" fmla="val 4060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 деятельности и обеспечивающие ее сферы психики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69" name="AutoShape 7"/>
          <p:cNvSpPr/>
          <p:nvPr/>
        </p:nvSpPr>
        <p:spPr>
          <a:xfrm flipV="1">
            <a:off x="539640" y="3572640"/>
            <a:ext cx="2089440" cy="1513080"/>
          </a:xfrm>
          <a:prstGeom prst="wedgeRoundRectCallout">
            <a:avLst>
              <a:gd name="adj1" fmla="val 75226"/>
              <a:gd name="adj2" fmla="val 159546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сформирован-ности одаренности”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0" name="AutoShape 8"/>
          <p:cNvSpPr/>
          <p:nvPr/>
        </p:nvSpPr>
        <p:spPr>
          <a:xfrm flipV="1">
            <a:off x="2700360" y="4437000"/>
            <a:ext cx="1922400" cy="1441440"/>
          </a:xfrm>
          <a:prstGeom prst="wedgeRoundRectCallout">
            <a:avLst>
              <a:gd name="adj1" fmla="val -5162"/>
              <a:gd name="adj2" fmla="val 215194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 проявления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1" name="AutoShape 9"/>
          <p:cNvSpPr/>
          <p:nvPr/>
        </p:nvSpPr>
        <p:spPr>
          <a:xfrm flipV="1">
            <a:off x="4932360" y="4220280"/>
            <a:ext cx="2089080" cy="1584360"/>
          </a:xfrm>
          <a:prstGeom prst="wedgeRoundRectCallout">
            <a:avLst>
              <a:gd name="adj1" fmla="val -62541"/>
              <a:gd name="adj2" fmla="val 189277"/>
              <a:gd name="adj3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та проявлений в различных видах деятельности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2" name="AutoShape 10"/>
          <p:cNvSpPr/>
          <p:nvPr/>
        </p:nvSpPr>
        <p:spPr>
          <a:xfrm flipV="1">
            <a:off x="7128000" y="3715560"/>
            <a:ext cx="2016000" cy="1584360"/>
          </a:xfrm>
          <a:prstGeom prst="wedgeRoundRectCallout">
            <a:avLst>
              <a:gd name="adj1" fmla="val -112601"/>
              <a:gd name="adj2" fmla="val 147393"/>
              <a:gd name="adj3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 возрастного развития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3" name="AutoShape 11"/>
          <p:cNvSpPr/>
          <p:nvPr/>
        </p:nvSpPr>
        <p:spPr>
          <a:xfrm flipV="1">
            <a:off x="7164360" y="1843920"/>
            <a:ext cx="1979640" cy="1368360"/>
          </a:xfrm>
          <a:prstGeom prst="wedgeRoundRectCallout">
            <a:avLst>
              <a:gd name="adj1" fmla="val -105976"/>
              <a:gd name="adj2" fmla="val 57652"/>
              <a:gd name="adj3" fmla="val 16667"/>
            </a:avLst>
          </a:prstGeom>
          <a:gradFill rotWithShape="0">
            <a:gsLst>
              <a:gs pos="0">
                <a:srgbClr val="9900ff"/>
              </a:gs>
              <a:gs pos="50000">
                <a:srgbClr val="ffffff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уровень достижений»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163680" y="404280"/>
            <a:ext cx="5979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195280" y="1609200"/>
            <a:ext cx="655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онятия «одарённость», «одарённый ребё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Виды классификаций одарён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Интеллектуальная одарё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Ре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Экспери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ерспек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916000" y="32126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ivaldiD CL"/>
              </a:rPr>
              <a:t>Основные виды деятельности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VivaldiD CL"/>
              </a:rPr>
              <a:t>дете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5" name="Diagram 7"/>
          <p:cNvGrpSpPr/>
          <p:nvPr/>
        </p:nvGrpSpPr>
        <p:grpSpPr>
          <a:xfrm>
            <a:off x="344160" y="279720"/>
            <a:ext cx="8457480" cy="6010920"/>
            <a:chOff x="344160" y="279720"/>
            <a:chExt cx="8457480" cy="6010920"/>
          </a:xfrm>
        </p:grpSpPr>
        <p:sp>
          <p:nvSpPr>
            <p:cNvPr id="1476" name="_s1028"/>
            <p:cNvSpPr/>
            <p:nvPr/>
          </p:nvSpPr>
          <p:spPr>
            <a:xfrm flipH="1" flipV="1">
              <a:off x="2481840" y="3018960"/>
              <a:ext cx="105012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7" name="_s1029"/>
            <p:cNvSpPr/>
            <p:nvPr/>
          </p:nvSpPr>
          <p:spPr>
            <a:xfrm>
              <a:off x="344160" y="1955160"/>
              <a:ext cx="2196360" cy="16185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уховно-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ценностная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8" name="_s1030"/>
            <p:cNvSpPr/>
            <p:nvPr/>
          </p:nvSpPr>
          <p:spPr>
            <a:xfrm flipH="1">
              <a:off x="3283200" y="4169520"/>
              <a:ext cx="645840" cy="65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9" name="_s1031"/>
            <p:cNvSpPr/>
            <p:nvPr/>
          </p:nvSpPr>
          <p:spPr>
            <a:xfrm>
              <a:off x="1536120" y="4668840"/>
              <a:ext cx="2195640" cy="1618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оммуникативная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0" name="_s1032"/>
            <p:cNvSpPr/>
            <p:nvPr/>
          </p:nvSpPr>
          <p:spPr>
            <a:xfrm>
              <a:off x="5217840" y="4169520"/>
              <a:ext cx="64512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1" name="_s1033"/>
            <p:cNvSpPr/>
            <p:nvPr/>
          </p:nvSpPr>
          <p:spPr>
            <a:xfrm>
              <a:off x="5407200" y="4671360"/>
              <a:ext cx="2196360" cy="161928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ffffff"/>
                </a:gs>
                <a:gs pos="100000">
                  <a:srgbClr val="00cc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еоретическая 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интеллектуальная)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2" name="_s1034"/>
            <p:cNvSpPr/>
            <p:nvPr/>
          </p:nvSpPr>
          <p:spPr>
            <a:xfrm flipV="1">
              <a:off x="5614560" y="3016800"/>
              <a:ext cx="104220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3" name="_s1035"/>
            <p:cNvSpPr/>
            <p:nvPr/>
          </p:nvSpPr>
          <p:spPr>
            <a:xfrm>
              <a:off x="6605280" y="1957320"/>
              <a:ext cx="2196360" cy="16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Художественно-</a:t>
              </a:r>
              <a:endParaRPr b="0" lang="en-US" sz="2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эстетическая</a:t>
              </a:r>
              <a:endParaRPr b="0" lang="en-US" sz="2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4" name="_s1036"/>
            <p:cNvSpPr/>
            <p:nvPr/>
          </p:nvSpPr>
          <p:spPr>
            <a:xfrm flipV="1">
              <a:off x="4571640" y="1899000"/>
              <a:ext cx="0" cy="8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5" name="_s1037"/>
            <p:cNvSpPr/>
            <p:nvPr/>
          </p:nvSpPr>
          <p:spPr>
            <a:xfrm>
              <a:off x="3473640" y="279720"/>
              <a:ext cx="2195640" cy="1619280"/>
            </a:xfrm>
            <a:prstGeom prst="ellipse">
              <a:avLst/>
            </a:prstGeom>
            <a:gradFill rotWithShape="0">
              <a:gsLst>
                <a:gs pos="0">
                  <a:srgbClr val="d34817"/>
                </a:gs>
                <a:gs pos="50000">
                  <a:srgbClr val="ffffff"/>
                </a:gs>
                <a:gs pos="100000">
                  <a:srgbClr val="d3481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актическая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6" name="_s1038"/>
            <p:cNvSpPr/>
            <p:nvPr/>
          </p:nvSpPr>
          <p:spPr>
            <a:xfrm>
              <a:off x="3473640" y="2708280"/>
              <a:ext cx="2195640" cy="1619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дарённость</a:t>
              </a:r>
              <a:endParaRPr b="0" lang="en-US" sz="2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7" name=""/>
          <p:cNvGraphicFramePr/>
          <p:nvPr/>
        </p:nvGraphicFramePr>
        <p:xfrm>
          <a:off x="179280" y="2205000"/>
          <a:ext cx="8713800" cy="4173480"/>
        </p:xfrm>
        <a:graphic>
          <a:graphicData uri="http://schemas.openxmlformats.org/drawingml/2006/table">
            <a:tbl>
              <a:tblPr/>
              <a:tblGrid>
                <a:gridCol w="1800360"/>
                <a:gridCol w="1728720"/>
                <a:gridCol w="1727280"/>
                <a:gridCol w="1728720"/>
                <a:gridCol w="17287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Практиче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Познаватель-ная  деятельнос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Художествен-но-эстетиче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Коммуникатив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Духовно-ценностная деятельност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ремесла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ор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теллек-туальная одаренност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ореограф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цен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тературно-поэт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образитель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зык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д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ттрактив-н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создании новых духовных ценностей и смыс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служении люд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Виды деятельности и обеспечивающие её сферы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/>
          </p:nvPr>
        </p:nvSpPr>
        <p:spPr>
          <a:xfrm>
            <a:off x="0" y="1935000"/>
            <a:ext cx="418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Актуальная одаренность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сихологическая характеристика ребенка с такими наличными (уже достигнутыми) показателями психического развития, которые проявляются в более высоком уровне выполнения деятельности в конкретной предметной области по сравнению с возрастной и социальной нормо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Потенциальная одаренность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это психологическая характеристика ребенка, который имеет лишь определенные психические возможности (потенциал) для высоких достижений в том или ином виде деятельности, но не может реализовать свои возможности в данный момент времени в силу их функциональной недостаточност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1" name="Rectangle 6"/>
          <p:cNvSpPr/>
          <p:nvPr/>
        </p:nvSpPr>
        <p:spPr>
          <a:xfrm>
            <a:off x="611280" y="260280"/>
            <a:ext cx="7921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Виды одарённости по</a:t>
            </a:r>
            <a:r>
              <a:rPr b="1" lang="ru-RU" sz="4000" spc="-1" strike="noStrike">
                <a:solidFill>
                  <a:srgbClr val="ff0000"/>
                </a:solidFill>
                <a:latin typeface="VivaldiD C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критерию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«степень сформированности одарённости»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264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36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 txBox="1"/>
          <p:nvPr/>
        </p:nvSpPr>
        <p:spPr>
          <a:xfrm>
            <a:off x="457200" y="2871720"/>
            <a:ext cx="36640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проявляется в деятельности ребенка достаточно ярко и отчетливо (как бы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сама по себе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),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260600" y="2871720"/>
            <a:ext cx="366372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проявляется в деятельности ребенка в менее выраженной, замаскированной форм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3311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Явная одаренност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284360" y="1915920"/>
            <a:ext cx="370044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Скрытая одаренност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6" name="Rectangle 8"/>
          <p:cNvSpPr/>
          <p:nvPr/>
        </p:nvSpPr>
        <p:spPr>
          <a:xfrm>
            <a:off x="68436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форма проявления»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AutoShape 5"/>
          <p:cNvSpPr/>
          <p:nvPr/>
        </p:nvSpPr>
        <p:spPr>
          <a:xfrm>
            <a:off x="971640" y="404640"/>
            <a:ext cx="698508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Виды одаренности по критерию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широта проявлений в различных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идах деятельности”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8" name="AutoShape 6"/>
          <p:cNvSpPr/>
          <p:nvPr/>
        </p:nvSpPr>
        <p:spPr>
          <a:xfrm flipV="1">
            <a:off x="755640" y="3284640"/>
            <a:ext cx="3240000" cy="2232000"/>
          </a:xfrm>
          <a:prstGeom prst="wedgeRoundRectCallout">
            <a:avLst>
              <a:gd name="adj1" fmla="val 26870"/>
              <a:gd name="adj2" fmla="val 99643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бщая (или интеллектуальная) 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9" name="AutoShape 7"/>
          <p:cNvSpPr/>
          <p:nvPr/>
        </p:nvSpPr>
        <p:spPr>
          <a:xfrm flipV="1">
            <a:off x="5435640" y="3716280"/>
            <a:ext cx="2665440" cy="1944720"/>
          </a:xfrm>
          <a:prstGeom prst="wedgeRoundRectCallout">
            <a:avLst>
              <a:gd name="adj1" fmla="val -54467"/>
              <a:gd name="adj2" fmla="val 127305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специальная одаренность </a:t>
            </a:r>
            <a:endParaRPr b="0" lang="en-US" sz="2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3"/>
          <p:cNvSpPr/>
          <p:nvPr/>
        </p:nvSpPr>
        <p:spPr>
          <a:xfrm>
            <a:off x="179280" y="620640"/>
            <a:ext cx="8425080" cy="208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6756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Общая одаренность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роявляется по отношению к различным видам деятельности и выступает в качестве основы их продуктив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сихологическим ядром общей одаренности являются интеллектуальные способности (или общие познавательные способности), вокруг которых выстраиваются эмоциональные, мотивационные и волевые качества лич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3"/>
          <p:cNvSpPr/>
          <p:nvPr/>
        </p:nvSpPr>
        <p:spPr>
          <a:xfrm>
            <a:off x="468360" y="620640"/>
            <a:ext cx="7920000" cy="3745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643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Специальная одаренность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наруживает себя в конкретных видах деятельности и может быть определена лишь в отношении отдельных областей деятельности (музыка, живопись, спорт и т. д.)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AutoShape 6"/>
          <p:cNvSpPr/>
          <p:nvPr/>
        </p:nvSpPr>
        <p:spPr>
          <a:xfrm rot="10800000">
            <a:off x="5435640" y="3716280"/>
            <a:ext cx="2952720" cy="2076480"/>
          </a:xfrm>
          <a:prstGeom prst="wedgeRoundRectCallout">
            <a:avLst>
              <a:gd name="adj1" fmla="val 50106"/>
              <a:gd name="adj2" fmla="val 121708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62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здняя одар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5" name="AutoShape 7"/>
          <p:cNvSpPr/>
          <p:nvPr/>
        </p:nvSpPr>
        <p:spPr>
          <a:xfrm rot="10800000">
            <a:off x="610920" y="3428640"/>
            <a:ext cx="3097080" cy="2087640"/>
          </a:xfrm>
          <a:prstGeom prst="wedgeRoundRectCallout">
            <a:avLst>
              <a:gd name="adj1" fmla="val -42518"/>
              <a:gd name="adj2" fmla="val 10787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62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нняя одаренность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6" name="Rectangle 8"/>
          <p:cNvSpPr/>
          <p:nvPr/>
        </p:nvSpPr>
        <p:spPr>
          <a:xfrm>
            <a:off x="684360" y="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Виды одаренности по критерию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особенности возрастного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развития”: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/>
          </p:nvPr>
        </p:nvSpPr>
        <p:spPr>
          <a:xfrm>
            <a:off x="394920" y="2491920"/>
            <a:ext cx="83026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собности, превышающие средний уровен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способностей их сверстников, в незначительной мере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днако дети с такой одаренностью имеют, тем не менее, основные отличительные признаки одаренности и должны соответственно оцениваться учителями и школьными психолог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8" name="Text Box 4"/>
          <p:cNvSpPr/>
          <p:nvPr/>
        </p:nvSpPr>
        <p:spPr>
          <a:xfrm>
            <a:off x="755640" y="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уровень достижений ребёнка»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/>
          </p:nvPr>
        </p:nvSpPr>
        <p:spPr>
          <a:xfrm>
            <a:off x="-360" y="3141360"/>
            <a:ext cx="8893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mbria"/>
              </a:rPr>
              <a:t>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611280" y="162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ivaldiD CL"/>
              </a:rPr>
              <a:t>Одарённость -</a:t>
            </a:r>
            <a:endParaRPr b="0" lang="en-US" sz="7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есьма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яркие интеллектуальные, художественные, коммуникативные или какие-то другие способности и склонности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х одаренность, как правило, является очевидной для окружающих, за исключением случаев так называемой скрытой одарен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3739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собности, настолько превосходящие среднюю возрастную норм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что это позволяет говорить о таких детях, как о детях с исключительной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особой одаренностью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спешность выполняемой ими деятельности может быть необычно высоко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6553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Любой индивидуальный случай детской одаренности может быть оценен с точки зрения всех вышеперечисленных критериев классификации видов одар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Таким образом, </a:t>
            </a: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одаренность оказывается многомерным по своему характеру явлением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12" name="Picture 3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WordArt 2"/>
          <p:cNvSpPr txBox="1"/>
          <p:nvPr/>
        </p:nvSpPr>
        <p:spPr>
          <a:xfrm>
            <a:off x="2916360" y="1700280"/>
            <a:ext cx="554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Реалии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Цели и задачи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школы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в работе с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интеллектуальной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 одарённостью</a:t>
            </a: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тратегическая цель школ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ход системы педагогического содействия развитию одаренности из режима управления в режим самоуправле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спитательная цель 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питание личности, обладающей интерактивными, коммуникативными навыками и высокими адаптивными возможностями на фоне высоконравственных убеждений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бразовательная цель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ширение единого образовательного пространства школы для социально- значимой реализации индивидуальной образовательной стратегии одаренных детей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звивающая цель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способности одаренных детей к включению в любую духовно-практическую деятельность в зависимости от реальных потребностей нашего региона, нашей страны и самой лич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Целями работы учителей с одаренными детьми являютс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явление одаренных детей;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условий, способствующих их оптимальному развити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1" name="Picture 4" descr="00036097"/>
          <p:cNvPicPr/>
          <p:nvPr/>
        </p:nvPicPr>
        <p:blipFill>
          <a:blip r:embed="rId1"/>
          <a:stretch/>
        </p:blipFill>
        <p:spPr>
          <a:xfrm>
            <a:off x="468360" y="333360"/>
            <a:ext cx="2522520" cy="2513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442" name="Rectangle 5"/>
          <p:cNvSpPr/>
          <p:nvPr/>
        </p:nvSpPr>
        <p:spPr>
          <a:xfrm>
            <a:off x="3132000" y="134136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ivaldiD CL"/>
              </a:rPr>
              <a:t>Одарённый ребенок - </a:t>
            </a:r>
            <a:endParaRPr b="0" lang="en-US" sz="60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/>
          </p:nvPr>
        </p:nvSpPr>
        <p:spPr>
          <a:xfrm>
            <a:off x="2555640" y="907560"/>
            <a:ext cx="63370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Работа с одарёнными детьми в  школе включает в себя ряд подпрограмм  и мероприятий, призванных всесторонне раскрывать весь спектр природного потенциала детей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с одарёнными деть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звития шко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информатизации шко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ИнфоЦентра: сайт школы, газета «Первое приближени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«Здоровь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тельная программа школ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курс «Портфолио» для 9-х клас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/>
          </p:nvPr>
        </p:nvSpPr>
        <p:spPr>
          <a:xfrm>
            <a:off x="2411280" y="907920"/>
            <a:ext cx="62755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VivaldiD CL"/>
              </a:rPr>
              <a:t>Не только учебный план, но и психологическая атмосфера, воспитательное пространство школы организовано с учетом потребностей детей к самореализаци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2268000" y="404280"/>
            <a:ext cx="6551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 в школе-лицее № 1 г. Ростова-на - До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ются  8 предметных спецкурсов и 10 ориентационных, 31 элективный курс, работают 10 секций НОУ, осуществляется кружковая деятельность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ализации познавательных возможностей учащихся предусматривается обновление содержания образования и использование инновационных технологий, предоставляющих возможности развития одар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059280" y="335736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ivaldiD CL"/>
              </a:rPr>
              <a:t>Научно – методические основы обновления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ivaldiD CL"/>
              </a:rPr>
              <a:t>содержания работы с одаренными деть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66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Самовоспитание способностей, самораскрытие природных задатков является важным условием реализации индивидуальности одаренного ребенка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В реализации своей индивидуальности ребенок должен быть главным, рассматриваться как самый заинтересованный участник этого процесса, как деятель самореализации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этих педагогических позиций в школе  рассматривается  проблема развития способностей одаренных детей - как реализация их  индивидуаль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ринцип педагогики индивидуализ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тал концептуальным обоснованием работы с одарёнными детьми. Исходя из этого, одним из приоритетных направлений работы  школы является совершенствование уровня компетентности педагогов, который позволяет приспосабливать массовое обучение к индивидуальным свойствам каждого ребенка, предварительно изучив особенности его поведе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популярной современной концепцией одаренности является теория известного американского специалиста в области обучения одаренных детей Джозефа Рензулл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считает, что поведение одаренного человека отражает взаимодействие между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 основными группами каче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ие или специальные способности выше среднего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включенности в задачу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креатив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956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8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2720"/>
                            </p:stCondLst>
                            <p:childTnLst>
                              <p:par>
                                <p:cTn id="8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Diagram 5"/>
          <p:cNvGrpSpPr/>
          <p:nvPr/>
        </p:nvGrpSpPr>
        <p:grpSpPr>
          <a:xfrm>
            <a:off x="916920" y="336240"/>
            <a:ext cx="7020360" cy="5029200"/>
            <a:chOff x="916920" y="336240"/>
            <a:chExt cx="7020360" cy="5029200"/>
          </a:xfrm>
        </p:grpSpPr>
        <p:sp>
          <p:nvSpPr>
            <p:cNvPr id="1530" name="_s2052"/>
            <p:cNvSpPr/>
            <p:nvPr/>
          </p:nvSpPr>
          <p:spPr>
            <a:xfrm>
              <a:off x="3150360" y="1229400"/>
              <a:ext cx="2552400" cy="2552400"/>
            </a:xfrm>
            <a:prstGeom prst="ellipse">
              <a:avLst/>
            </a:prstGeom>
            <a:solidFill>
              <a:srgbClr val="7598d9">
                <a:alpha val="50000"/>
              </a:srgbClr>
            </a:solidFill>
            <a:ln w="46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1" name="_s2053"/>
            <p:cNvSpPr/>
            <p:nvPr/>
          </p:nvSpPr>
          <p:spPr>
            <a:xfrm>
              <a:off x="3755160" y="336240"/>
              <a:ext cx="13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ключён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2" name="_s2054"/>
            <p:cNvSpPr/>
            <p:nvPr/>
          </p:nvSpPr>
          <p:spPr>
            <a:xfrm>
              <a:off x="3991320" y="2686320"/>
              <a:ext cx="2552400" cy="2553120"/>
            </a:xfrm>
            <a:prstGeom prst="ellipse">
              <a:avLst/>
            </a:prstGeom>
            <a:solidFill>
              <a:srgbClr val="d2611c">
                <a:alpha val="50000"/>
              </a:srgbClr>
            </a:solidFill>
            <a:ln w="4680">
              <a:solidFill>
                <a:srgbClr val="d26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3" name="_s2055"/>
            <p:cNvSpPr/>
            <p:nvPr/>
          </p:nvSpPr>
          <p:spPr>
            <a:xfrm>
              <a:off x="6593760" y="4727160"/>
              <a:ext cx="1343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реатив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4" name="_s2056"/>
            <p:cNvSpPr/>
            <p:nvPr/>
          </p:nvSpPr>
          <p:spPr>
            <a:xfrm>
              <a:off x="2307240" y="2684160"/>
              <a:ext cx="2552400" cy="2552400"/>
            </a:xfrm>
            <a:prstGeom prst="ellipse">
              <a:avLst/>
            </a:prstGeom>
            <a:solidFill>
              <a:srgbClr val="3b435b">
                <a:alpha val="50000"/>
              </a:srgbClr>
            </a:solidFill>
            <a:ln w="4680">
              <a:solidFill>
                <a:srgbClr val="3b4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5" name="_s2057"/>
            <p:cNvSpPr/>
            <p:nvPr/>
          </p:nvSpPr>
          <p:spPr>
            <a:xfrm>
              <a:off x="916920" y="4727160"/>
              <a:ext cx="13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бщие или 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пециальные 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пособ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536" name="WordArt 13"/>
          <p:cNvSpPr txBox="1"/>
          <p:nvPr/>
        </p:nvSpPr>
        <p:spPr>
          <a:xfrm rot="5400000">
            <a:off x="3612960" y="3813120"/>
            <a:ext cx="1655640" cy="31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дарён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 важно то, что Д. Рензулли предлагает считать одаренным не только того, кто по всем трем основным параметрам превосходит сверстников, но и того, кто демонстрирует высокий уровень хотя бы по одному из ни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контингент одаренных существенно расширяется, по сравнению с тем небольшим процентом детей, которых обычно выявляют при помощи тестов интеллекта, креативности или по тестам достиж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9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58338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Признаки одаренности</a:t>
            </a:r>
            <a:r>
              <a:rPr b="0" i="1" lang="en-US" sz="4400" spc="-1" strike="noStrike">
                <a:solidFill>
                  <a:srgbClr val="000000"/>
                </a:solidFill>
                <a:latin typeface="VivaldiD CL"/>
              </a:rPr>
              <a:t>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это те особенности одаренного ребенка, которые проявляются в его реальной деятельности и могут быть оценены на уровне наблюдения за характером его действий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4" name="Picture 8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771516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актовка одаренности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цепции «обогащенного обучения»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Д. Рензулли соответствует  специфическим условиям функционирования образовательной модели современной школы,  поэтому выделенные им факторы одаренности, легли в основу и нашей  программы работы с одарёнными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715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при составлении учебных программ для одаренных детей трактовки одаренности Д.Рензулли, позволяет обучающимся посвящать большую часть времени тем видам деятельности, которые представляют для них наибольший интерес – это обучение в РРЦПО учащихся 9 – 11-х класс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новная задача учителя при этом  состоит в том, чтобы помочь каждому обучающемуся ставить перед собой посильные задачи, отвечающие его интересам, и овладевать исследовательскими навыками, необходимыми для решения этих задач. Эта и работа педагогов, например в секциях НОУ «Сигм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. Рензулли охарактеризовал занятия, построенные в соответствии с принципами концепции «обогащенного обучения», как «выходящие за рамки установленной учебной программы и опережающие её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86040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Во всех случаях, когда происходит развитие способностей ребенка, их реализация, оно в значительной мере становится возможным лишь благодаря самовоспитанию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0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77868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ы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цепции  свобо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О. Газман) дают возможность одаренному ребенку свободы выбора собственной образовательной траектории (маршрута). Учебный план РРЦПО открывает одаренным детям перспективу перехода от индивидуального образовательного маршрута к индивидуальному образованию, через реализацию индивидуального учебного плана (ИУП), который составляется учащимся ещё до начала учёбы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410920" y="1557360"/>
            <a:ext cx="604692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VivaldiD CL"/>
              </a:rPr>
              <a:t>Принципы обучения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VivaldiD CL"/>
              </a:rPr>
              <a:t> одаренных детей</a:t>
            </a:r>
            <a:r>
              <a:rPr b="1" lang="en-US" sz="4300" spc="-1" strike="noStrike">
                <a:solidFill>
                  <a:srgbClr val="ff3300"/>
                </a:solidFill>
                <a:latin typeface="VivaldiD CL"/>
              </a:rPr>
              <a:t> 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64388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ение междисциплинарного подход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лубленное изучение тех проблем, которые выбраны самими учащимис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ыщенность учебного материала заданиями открытого тип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ощрение результатов, которые бросают вызов существующим взглядам и содержат новые иде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ощрение использования разнообразных форм предъявления и внедрения в жизнь результатов работы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85988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ение движения к пониманию самих себя, сходства и различия с другими, признанию своих способностей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результатов работы на основе критериев, связанных с конкретной областью интерес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ка на самоценность познавательной деятельности при изучении научных дисциплин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ка на готовность к риску в неординарных ситуациях жизни, возможности сохранения приоритета духовных, идеальных ценностей при любых обстоятельства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/>
          </p:nvPr>
        </p:nvSpPr>
        <p:spPr>
          <a:xfrm>
            <a:off x="2340000" y="259920"/>
            <a:ext cx="634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Система образовательного процесса школы, предназначена  для удовлетворения постоянно изменяющихся индивидуальных социокультурных и образовательных потребностей одаренных детей, позволяющая  обеспечить выявление, поддержку и развитие их способностей в рамках школьной и внешкольной деятельности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2050920" y="907560"/>
            <a:ext cx="671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дним из наиболее дискуссионных вопросов, касающихся проблемы одаренных детей, является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вопрос о частоте проявления детской одаренности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6" name="WordArt 4"/>
          <p:cNvSpPr txBox="1"/>
          <p:nvPr/>
        </p:nvSpPr>
        <p:spPr>
          <a:xfrm>
            <a:off x="1042920" y="765000"/>
            <a:ext cx="7192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школе создаются условия для индивидуализации обучения одаренных детей: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9" name="Oval 3"/>
          <p:cNvSpPr/>
          <p:nvPr/>
        </p:nvSpPr>
        <p:spPr>
          <a:xfrm>
            <a:off x="3059280" y="2637000"/>
            <a:ext cx="2665080" cy="1296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2700360" y="1268280"/>
            <a:ext cx="1800360" cy="1152720"/>
          </a:xfrm>
          <a:prstGeom prst="wedgeRoundRectCallout">
            <a:avLst>
              <a:gd name="adj1" fmla="val 43740"/>
              <a:gd name="adj2" fmla="val 6749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форумы,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олимпиад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1" name="AutoShape 5"/>
          <p:cNvSpPr/>
          <p:nvPr/>
        </p:nvSpPr>
        <p:spPr>
          <a:xfrm>
            <a:off x="6012000" y="4797360"/>
            <a:ext cx="2881080" cy="1800360"/>
          </a:xfrm>
          <a:prstGeom prst="wedgeRoundRectCallout">
            <a:avLst>
              <a:gd name="adj1" fmla="val -83611"/>
              <a:gd name="adj2" fmla="val -102643"/>
              <a:gd name="adj3" fmla="val 16667"/>
            </a:avLst>
          </a:prstGeom>
          <a:gradFill rotWithShape="0">
            <a:gsLst>
              <a:gs pos="0">
                <a:srgbClr val="e010b8"/>
              </a:gs>
              <a:gs pos="50000">
                <a:srgbClr val="ffffff"/>
              </a:gs>
              <a:gs pos="100000">
                <a:srgbClr val="e010b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йские, региональные, школьные олимпиад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2" name="AutoShape 7"/>
          <p:cNvSpPr/>
          <p:nvPr/>
        </p:nvSpPr>
        <p:spPr>
          <a:xfrm>
            <a:off x="7020000" y="1844640"/>
            <a:ext cx="1800000" cy="1152720"/>
          </a:xfrm>
          <a:prstGeom prst="wedgeRoundRectCallout">
            <a:avLst>
              <a:gd name="adj1" fmla="val -125134"/>
              <a:gd name="adj2" fmla="val 58814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истема творческих конкурсов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3" name="AutoShape 8"/>
          <p:cNvSpPr/>
          <p:nvPr/>
        </p:nvSpPr>
        <p:spPr>
          <a:xfrm>
            <a:off x="3564000" y="5013360"/>
            <a:ext cx="2232000" cy="1368360"/>
          </a:xfrm>
          <a:prstGeom prst="wedgeRoundRectCallout">
            <a:avLst>
              <a:gd name="adj1" fmla="val -143"/>
              <a:gd name="adj2" fmla="val -130509"/>
              <a:gd name="adj3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тские научно-практические конференции и семинары</a:t>
            </a:r>
            <a:endParaRPr b="0" lang="en-US" sz="16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4" name="AutoShape 9"/>
          <p:cNvSpPr/>
          <p:nvPr/>
        </p:nvSpPr>
        <p:spPr>
          <a:xfrm>
            <a:off x="324000" y="2349360"/>
            <a:ext cx="1800000" cy="1152720"/>
          </a:xfrm>
          <a:prstGeom prst="wedgeRoundRectCallout">
            <a:avLst>
              <a:gd name="adj1" fmla="val 106615"/>
              <a:gd name="adj2" fmla="val 17907"/>
              <a:gd name="adj3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ворческие проект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5" name="AutoShape 10"/>
          <p:cNvSpPr/>
          <p:nvPr/>
        </p:nvSpPr>
        <p:spPr>
          <a:xfrm>
            <a:off x="6877080" y="3213000"/>
            <a:ext cx="1800360" cy="1440000"/>
          </a:xfrm>
          <a:prstGeom prst="wedgeRoundRectCallout">
            <a:avLst>
              <a:gd name="adj1" fmla="val -121958"/>
              <a:gd name="adj2" fmla="val -31699"/>
              <a:gd name="adj3" fmla="val 16667"/>
            </a:avLst>
          </a:prstGeom>
          <a:gradFill rotWithShape="0">
            <a:gsLst>
              <a:gs pos="0">
                <a:srgbClr val="f2f735"/>
              </a:gs>
              <a:gs pos="50000">
                <a:srgbClr val="ffffff"/>
              </a:gs>
              <a:gs pos="100000">
                <a:srgbClr val="f2f73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ые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импиады, проекты, конкурс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6" name="AutoShape 11"/>
          <p:cNvSpPr/>
          <p:nvPr/>
        </p:nvSpPr>
        <p:spPr>
          <a:xfrm>
            <a:off x="179280" y="4653000"/>
            <a:ext cx="3059280" cy="1512720"/>
          </a:xfrm>
          <a:prstGeom prst="wedgeRoundRectCallout">
            <a:avLst>
              <a:gd name="adj1" fmla="val 59810"/>
              <a:gd name="adj2" fmla="val -100995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-Центр: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зета «Первое приближение»,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йт школ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7" name="AutoShape 12"/>
          <p:cNvSpPr/>
          <p:nvPr/>
        </p:nvSpPr>
        <p:spPr>
          <a:xfrm>
            <a:off x="5076720" y="1197000"/>
            <a:ext cx="1800360" cy="1152360"/>
          </a:xfrm>
          <a:prstGeom prst="wedgeRoundRectCallout">
            <a:avLst>
              <a:gd name="adj1" fmla="val -53439"/>
              <a:gd name="adj2" fmla="val 8361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У «Сигма»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8" name="Object 4"/>
          <p:cNvGraphicFramePr/>
          <p:nvPr/>
        </p:nvGraphicFramePr>
        <p:xfrm>
          <a:off x="0" y="907920"/>
          <a:ext cx="824400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2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Text Box 5"/>
          <p:cNvSpPr/>
          <p:nvPr/>
        </p:nvSpPr>
        <p:spPr>
          <a:xfrm>
            <a:off x="250920" y="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ivaldiD CL"/>
              </a:rPr>
              <a:t>Динамика роста результатов детей, участвующих в районных олимпиадах за 4 учебных года на примере школы –лицея №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1" name="Object 4"/>
          <p:cNvGraphicFramePr/>
          <p:nvPr/>
        </p:nvGraphicFramePr>
        <p:xfrm>
          <a:off x="0" y="773280"/>
          <a:ext cx="91440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7328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Franklin Gothic Medium"/>
              </a:rPr>
              <a:t>Олимпиада 2006-2007 учебного год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916360" y="1844280"/>
            <a:ext cx="575928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Стратегии ускорения обучения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одаренных детей  через обогащение содержания образования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Group 4"/>
          <p:cNvGrpSpPr/>
          <p:nvPr/>
        </p:nvGrpSpPr>
        <p:grpSpPr>
          <a:xfrm>
            <a:off x="250920" y="333360"/>
            <a:ext cx="8604000" cy="5838840"/>
            <a:chOff x="250920" y="333360"/>
            <a:chExt cx="8604000" cy="5838840"/>
          </a:xfrm>
        </p:grpSpPr>
        <p:sp>
          <p:nvSpPr>
            <p:cNvPr id="1566" name="AutoShape 5"/>
            <p:cNvSpPr/>
            <p:nvPr/>
          </p:nvSpPr>
          <p:spPr>
            <a:xfrm>
              <a:off x="250920" y="333360"/>
              <a:ext cx="8604000" cy="58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7" name="Line 6"/>
            <p:cNvSpPr/>
            <p:nvPr/>
          </p:nvSpPr>
          <p:spPr>
            <a:xfrm>
              <a:off x="1019520" y="6017040"/>
              <a:ext cx="6760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8" name="Line 7"/>
            <p:cNvSpPr/>
            <p:nvPr/>
          </p:nvSpPr>
          <p:spPr>
            <a:xfrm flipV="1">
              <a:off x="1019520" y="1408320"/>
              <a:ext cx="5837400" cy="4608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9" name="Line 8"/>
            <p:cNvSpPr/>
            <p:nvPr/>
          </p:nvSpPr>
          <p:spPr>
            <a:xfrm flipH="1" flipV="1">
              <a:off x="1019160" y="486720"/>
              <a:ext cx="1080" cy="55299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70" name="Text Box 9"/>
            <p:cNvSpPr/>
            <p:nvPr/>
          </p:nvSpPr>
          <p:spPr>
            <a:xfrm>
              <a:off x="2094480" y="5249520"/>
              <a:ext cx="6760080" cy="6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ризонтальное обогащение через дополнительны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атериал в рамках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радиционных курсов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71" name="WordArt 10"/>
            <p:cNvSpPr txBox="1"/>
            <p:nvPr/>
          </p:nvSpPr>
          <p:spPr>
            <a:xfrm rot="19361400">
              <a:off x="1040760" y="2569320"/>
              <a:ext cx="6096960" cy="46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Индивидуальная стратегия ускорения обучения 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72" name="Rectangle 11"/>
          <p:cNvSpPr/>
          <p:nvPr/>
        </p:nvSpPr>
        <p:spPr>
          <a:xfrm rot="16200000">
            <a:off x="-2124000" y="3428640"/>
            <a:ext cx="547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ртикальное обогащение по ступеням обучения в рамках выбранного предмета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7868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entury Schoolbook"/>
              </a:rPr>
              <a:t>Вертикальное обогащ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едполагает более быстрое продвижение к познавательным высшим уровням в области избранного предме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entury Schoolbook"/>
              </a:rPr>
              <a:t>Горизонтальное обогащ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правлено на расширение изучаемой области зна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чего одаренный ребенок не продвигается быстрее, а получает дополнительный материал к традиционным курсам, большие возможности развития мышления  и креативности, развивает умение работать самостоятельно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1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002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Century Schoolbook"/>
              </a:rPr>
              <a:t>Стратегия обогащения включает несколько направлений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расширение кругозора знаний об окружающем мире и самопознание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углубление этих знаний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развитие инструментария получения знаний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0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7859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богащение обучения специально направлено на развитие творческого мыш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юда входят занятия по решению проблем с применением таких известных техник как мозговой штурм, занятия ориентированные на использование метода проектов, осуществления исследовательской деятельности, развитие личностных характеристик, упражнения на релаксацию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784836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ое значение придается корректирующим, развивающим и интегративным программам.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звива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для улучшения состояния эмоциональной сферы, в них используются такие виды упражнений как ролевой тренинг, обсуждения в малых групп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нтеграт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раммы соединяют познавательные и эмоциональные компоненты. Их можно разделить на направленные на обсуждение жизненных ценностей и связанные с исследованием проблемы самоактуализац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8480"/>
                            </p:stCondLst>
                            <p:childTnLst>
                              <p:par>
                                <p:cTn id="1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Century Schoolbook"/>
              </a:rPr>
              <a:t>Учебный материал, </a:t>
            </a:r>
            <a:r>
              <a:rPr b="0" lang="en-US" sz="3600" spc="-1" strike="noStrike">
                <a:solidFill>
                  <a:srgbClr val="ff3300"/>
                </a:solidFill>
                <a:latin typeface="Century Schoolbook"/>
              </a:rPr>
              <a:t>применяемый педагогами школы в работе с одаренными детьми,  соответствует следующим требованиям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0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Существую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 две крайние точки зрения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8" name="AutoShape 18"/>
          <p:cNvSpPr/>
          <p:nvPr/>
        </p:nvSpPr>
        <p:spPr>
          <a:xfrm>
            <a:off x="1908000" y="2349360"/>
            <a:ext cx="3456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дети являют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аренными”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49" name="AutoShape 19"/>
          <p:cNvSpPr/>
          <p:nvPr/>
        </p:nvSpPr>
        <p:spPr>
          <a:xfrm>
            <a:off x="5219640" y="4221000"/>
            <a:ext cx="3456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аренные дети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речают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йне редко”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0" name="Line 20"/>
          <p:cNvSpPr/>
          <p:nvPr/>
        </p:nvSpPr>
        <p:spPr>
          <a:xfrm flipH="1">
            <a:off x="3492360" y="1628640"/>
            <a:ext cx="1224000" cy="72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1" name="Line 21"/>
          <p:cNvSpPr/>
          <p:nvPr/>
        </p:nvSpPr>
        <p:spPr>
          <a:xfrm>
            <a:off x="5651640" y="1628640"/>
            <a:ext cx="1368360" cy="259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Organization Chart 5"/>
          <p:cNvGrpSpPr/>
          <p:nvPr/>
        </p:nvGrpSpPr>
        <p:grpSpPr>
          <a:xfrm>
            <a:off x="179280" y="404640"/>
            <a:ext cx="8640360" cy="6067440"/>
            <a:chOff x="179280" y="404640"/>
            <a:chExt cx="8640360" cy="6067440"/>
          </a:xfrm>
        </p:grpSpPr>
        <p:cxnSp>
          <p:nvCxnSpPr>
            <p:cNvPr id="1579" name="_s3076"/>
            <p:cNvCxnSpPr>
              <a:stCxn id="1580" idx="0"/>
              <a:endCxn id="1581" idx="2"/>
            </p:cNvCxnSpPr>
            <p:nvPr/>
          </p:nvCxnSpPr>
          <p:spPr>
            <a:xfrm flipV="1" rot="16200000">
              <a:off x="5739480" y="1593360"/>
              <a:ext cx="1207440" cy="368892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2" name="_s3077"/>
            <p:cNvCxnSpPr>
              <a:stCxn id="1583" idx="0"/>
              <a:endCxn id="1581" idx="2"/>
            </p:cNvCxnSpPr>
            <p:nvPr/>
          </p:nvCxnSpPr>
          <p:spPr>
            <a:xfrm flipV="1" rot="16200000">
              <a:off x="5003640" y="2331000"/>
              <a:ext cx="1207440" cy="221328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4" name="_s3078"/>
            <p:cNvCxnSpPr>
              <a:stCxn id="1585" idx="0"/>
              <a:endCxn id="1581" idx="2"/>
            </p:cNvCxnSpPr>
            <p:nvPr/>
          </p:nvCxnSpPr>
          <p:spPr>
            <a:xfrm flipV="1" rot="16200000">
              <a:off x="4265280" y="3069360"/>
              <a:ext cx="1207440" cy="73656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6" name="_s3079"/>
            <p:cNvCxnSpPr>
              <a:stCxn id="1587" idx="0"/>
              <a:endCxn id="1581" idx="2"/>
            </p:cNvCxnSpPr>
            <p:nvPr/>
          </p:nvCxnSpPr>
          <p:spPr>
            <a:xfrm flipH="1" flipV="1" rot="5400000">
              <a:off x="3527640" y="3067920"/>
              <a:ext cx="1207440" cy="73980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8" name="_s3080"/>
            <p:cNvCxnSpPr>
              <a:stCxn id="1589" idx="0"/>
              <a:endCxn id="1581" idx="2"/>
            </p:cNvCxnSpPr>
            <p:nvPr/>
          </p:nvCxnSpPr>
          <p:spPr>
            <a:xfrm flipH="1" flipV="1" rot="5400000">
              <a:off x="2789640" y="2332080"/>
              <a:ext cx="1207440" cy="221148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0" name="_s3081"/>
            <p:cNvCxnSpPr>
              <a:stCxn id="1591" idx="0"/>
              <a:endCxn id="1581" idx="2"/>
            </p:cNvCxnSpPr>
            <p:nvPr/>
          </p:nvCxnSpPr>
          <p:spPr>
            <a:xfrm flipH="1" flipV="1" rot="5400000">
              <a:off x="2052720" y="1593360"/>
              <a:ext cx="1207440" cy="368892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1" name="_s3082"/>
            <p:cNvSpPr/>
            <p:nvPr/>
          </p:nvSpPr>
          <p:spPr>
            <a:xfrm>
              <a:off x="3867120" y="404640"/>
              <a:ext cx="1266120" cy="2430000"/>
            </a:xfrm>
            <a:custGeom>
              <a:avLst/>
              <a:gdLst>
                <a:gd name="textAreaLeft" fmla="*/ 61560 w 1266120"/>
                <a:gd name="textAreaRight" fmla="*/ 1204560 w 12661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450">
                  <a:moveTo>
                    <a:pt x="3600" y="0"/>
                  </a:moveTo>
                  <a:arcTo wR="3600" hR="3600" stAng="16200000" swAng="-5400000"/>
                  <a:lnTo>
                    <a:pt x="0" y="37850"/>
                  </a:lnTo>
                  <a:arcTo wR="3600" hR="3600" stAng="10800000" swAng="-5400000"/>
                  <a:lnTo>
                    <a:pt x="18000" y="41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чебны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атериал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91" name="_s3083"/>
            <p:cNvSpPr/>
            <p:nvPr/>
          </p:nvSpPr>
          <p:spPr>
            <a:xfrm>
              <a:off x="17928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учность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9" name="_s3084"/>
            <p:cNvSpPr/>
            <p:nvPr/>
          </p:nvSpPr>
          <p:spPr>
            <a:xfrm>
              <a:off x="165420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Расширенный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объём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7" name="_s3085"/>
            <p:cNvSpPr/>
            <p:nvPr/>
          </p:nvSpPr>
          <p:spPr>
            <a:xfrm>
              <a:off x="312948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e010b8"/>
                </a:gs>
                <a:gs pos="50000">
                  <a:srgbClr val="ffffff"/>
                </a:gs>
                <a:gs pos="100000">
                  <a:srgbClr val="e010b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Междисципли-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рный 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контекст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5" name="_s3086"/>
            <p:cNvSpPr/>
            <p:nvPr/>
          </p:nvSpPr>
          <p:spPr>
            <a:xfrm>
              <a:off x="460476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Практическая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правленность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3" name="_s3087"/>
            <p:cNvSpPr/>
            <p:nvPr/>
          </p:nvSpPr>
          <p:spPr>
            <a:xfrm>
              <a:off x="608004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Соответствие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разнообразию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интересов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учащихся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0" name="_s3088"/>
            <p:cNvSpPr/>
            <p:nvPr/>
          </p:nvSpPr>
          <p:spPr>
            <a:xfrm>
              <a:off x="755532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34817"/>
                </a:gs>
                <a:gs pos="50000">
                  <a:srgbClr val="ffffff"/>
                </a:gs>
                <a:gs pos="100000">
                  <a:srgbClr val="d348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Дискуссионное 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содержание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3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593" name="WordArt 5"/>
          <p:cNvSpPr txBox="1"/>
          <p:nvPr/>
        </p:nvSpPr>
        <p:spPr>
          <a:xfrm>
            <a:off x="324000" y="1773360"/>
            <a:ext cx="5616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Эксперимент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6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Ниже перечислены личностные черты и деловые качества, которые учитель встречает у своих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тметьте знаком «+» те свойства, которые Вам нравятся в учениках, а знаком «-» те, что не нравя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6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 всегда желающий подчиняться большинству или официальному руководителю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ivaldiD CL"/>
              </a:rPr>
              <a:t>Каких «+» у Вас больше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Если чётных «+» больше, то Вы – нестандартный учитель, умеющий обнаружить, выявить, разглядеть скрытую незаурядную одарённость. На практике такие учителя встречаются редко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WordArt 2"/>
          <p:cNvSpPr txBox="1"/>
          <p:nvPr/>
        </p:nvSpPr>
        <p:spPr>
          <a:xfrm>
            <a:off x="755640" y="2060640"/>
            <a:ext cx="388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роблем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092720" cy="323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VivaldiD CL"/>
              </a:rPr>
              <a:t>Проблема одаренности представляет собой комплексную проблему, в которой пересекаются интересы разных научных дисциплин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Основными из них являются проблемы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0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2987280" y="320400"/>
            <a:ext cx="470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ivaldiD CL"/>
              </a:rPr>
              <a:t>Проблем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2195640" y="1628280"/>
            <a:ext cx="6192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Особенности, присущие  одарённому ребён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Методы, способы выявления и обнаружения одарённых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Разработка программ обучения для интеллектуально одарённых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Какие условия необходимо создать для учения одарённого ребё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Формы и методы  работы с одарёнными деть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0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9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1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1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78920" y="3933720"/>
            <a:ext cx="496908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Особенности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присущи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 одаренным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детям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nodeType="clickEffect" fill="hold">
                      <p:stCondLst>
                        <p:cond delay="0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8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9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38880" cy="13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ivaldiD CL"/>
              </a:rPr>
              <a:t>К группе одаренных детей могут быть отнесены учащиеся, которые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-360" y="1609200"/>
            <a:ext cx="81010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меют более высокие по сравнению с большинством остальных учащихся – сверстников интеллектуальные способности, восприимчивость к умению, творческие возможности и проявления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Имеют доминирующую, активную, не насыщаемую познавательную потребность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Испытывают радость от умственного труда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ысокая скорость развития интеллектуальной и творческой сфер, глубина и не традиционность мыш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0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8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казанная альтернатива снимается в рамках следующей позиции: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потенциальная одареннос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по отношению к разным видам деятельности присуща многим детям, тогда как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актуальную одареннос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емонстрирует незначительная часть детей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07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VivaldiD CL"/>
              </a:rPr>
              <a:t>После выявления одаренности детей работа с ними должна вестись 2 группами педагогов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чителями – предметниками, создающими атмосферу эмоциональной включенности, возбуждающими интерес к предмету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ставник (руководитель секции НОУ, учитель – предметник, классный руководитель, психолог, …) – помогает в научно – исследовательской работе по выбранной тем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ассный руководитель координирует индивидуальную работу всех лиц, заинтересованных в судьбе одаренного учащегося, обеспечивает необходимое общение, связь с родит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nodeType="clickEffect" fill="hold">
                      <p:stCondLst>
                        <p:cond delay="0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1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4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1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0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работе с одаренными детьми нужно избегать 2-х край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озведение ребенка на пьедестал, подчеркивания его особых пра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 другой стороны – публичного принижения достоинства или игнорирования интеллектуальных успехов во время борьбы со «звездностью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1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1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7427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едь это в первую очередь дети, которые не обязательно имеют столь же высокую эмоциональную и социальную зрелость (плохо адаптируются, не имеют развитого самоконтроля, не всегда способны заниматься самостоятельно, нуждаются в индивидуальном обучении и помощи). Они могут иметь некоторое отставание в физическом развитии (плохая координация движений и корявый почерк), застенчивость, отсутствие внешнего интеллекта, блеска. Им присущи высокая мотивация к достижениям, стремление быть лучшими, сознательные усилия в уч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0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49687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Методы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выявления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 одаренных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детей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2"/>
          <p:cNvSpPr/>
          <p:nvPr/>
        </p:nvSpPr>
        <p:spPr>
          <a:xfrm>
            <a:off x="324000" y="713160"/>
            <a:ext cx="77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ичные варианты метода наблюдения за детьми (в лабораторных условиях, в школе, во внешкольной деятельност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ые психодиагностические тренинг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тное оценивание поведения детей учителями, родителями, одноклассникам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едение “пробных” уроков по специальным программам, а также включение детей в специальные игровые и предметно-ориентированные занятия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0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1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кспертное оценивание конкретных продуктов творческой деятельности детей (рисунков, стихов, технических моделей) профессионал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ация различных интеллектуальных и предметных олимпиад, конференций, спортивных соревнований, творческих конкурсов, фестивалей, смотров и т. 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ведение психодиагностического исследования с использованием различных психометрических методик в зависимости от задачи анализа конкретного случая одаренности. Это позволяет осуществить переход от методов «диагностики отбора» к методам «диагностики развития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0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6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7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813800" cy="20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исок требований, приведенный ниже, в значительной степени перекликается с точкой зрения авторов концепции, но имеет ряд уточнений и дополнени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7372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Комплексный характер оценивания разных сторон поведения и деятельности ребенка, что позволит использовать различные источники информации и охватить как можно более широкий спектр его спосо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юда следуют два выв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метрические тесты более целесообразно применять после процедуры идентификации ребенка как одаренного (не для и не до принятия решения) в целях организации необходимой ему психолого-педагогическ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метрические тесты полезны для отслеживания динамики проявлений одаренности конкрет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психометрические тесты – лишь один из множества других источник информации в процессе идентификации одаренно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Длительность процесса идентификации одаренности. Необходимо развернутое во времени наблюдение за поведением данного ребенка в разных ситуациях, поэтапный поиск одаренных детей в процессе их обучения по специальным программам (в системе дополнительного образования) либо в процессе индивидуализированного образования (в условиях школ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Многократность и многоэтапность обследования с использованием множества психодиагностических процедур, отбираемых в соответствии с предполагаемым видом одаренности и индивидуальностью ребенка. Эффективная идент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аренности посредством какой-либо одноразовой процедуры тестирования невозмож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AutoShape 6"/>
          <p:cNvSpPr/>
          <p:nvPr/>
        </p:nvSpPr>
        <p:spPr>
          <a:xfrm rot="10800000">
            <a:off x="4859280" y="3284280"/>
            <a:ext cx="3672000" cy="2160360"/>
          </a:xfrm>
          <a:prstGeom prst="wedgeRoundRectCallout">
            <a:avLst>
              <a:gd name="adj1" fmla="val 41134"/>
              <a:gd name="adj2" fmla="val 101722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струментальны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характеризует способы его деятельн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4" name="AutoShape 7"/>
          <p:cNvSpPr/>
          <p:nvPr/>
        </p:nvSpPr>
        <p:spPr>
          <a:xfrm rot="10800000">
            <a:off x="395280" y="2997360"/>
            <a:ext cx="3743280" cy="3024000"/>
          </a:xfrm>
          <a:prstGeom prst="wedgeRoundRectCallout">
            <a:avLst>
              <a:gd name="adj1" fmla="val -43384"/>
              <a:gd name="adj2" fmla="val 80129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характеризует отношение ребенка к той или иной стороне действительности, а также к своей деятельности)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5" name="WordArt 8"/>
          <p:cNvSpPr txBox="1"/>
          <p:nvPr/>
        </p:nvSpPr>
        <p:spPr>
          <a:xfrm>
            <a:off x="900000" y="260280"/>
            <a:ext cx="7129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знаки одаренности охватывают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ва аспекта поведения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даренного ребенка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Диагностика детской одаренности должна быть ориентирована не на результат, а на процесс: от диагностики отбора (по уровню достижений) перейти к диагностике прогноза и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/>
          </p:nvPr>
        </p:nvSpPr>
        <p:spPr>
          <a:xfrm>
            <a:off x="0" y="0"/>
            <a:ext cx="828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Анализ поведения ребенка в тех сферах деятельности, которые в максимальной мере соответствуют его склонностям и интересам (включение ребенка в специально организованные предметно-игровые занятия, вовлечение его в различные формы соответствующей предметной деятельности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64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Экспертная оценка продуктов деятельности детей (рисунков, стихотворений, технических моделей, способов решения математических задач и пр.) с привлечением экспертов – специалистов в соответствующей предметной области деятельности (математиков, филологов, шахматистов, инженеров и т.д.). При этом полезно привлекать к диагностическому обследо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ю разных специалистов, поскольку сопоставление различных данных даст более полную картину. Для каждой категории участников диагностического процесса необходим свой, специально разработанный метод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Использование тренинговых методов и заданий. Обычно диагностические методики, ориентированные на разовое обследование, требуют решения ребенком серий специальных стандартизированных задач. По результатам решения производится оценка. Целесообразно проведение проблемных уроков по особой программе; в рамках которых можно организовывать определенные развивающие влияния, долговременную диагностику и снимать типичные для данного ребенка психологические «преграды», неизбежно возникающие при разовых обследованиях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Учет при диагностике детской одаренности потенциальных возможностей ребенка. Необходимо выявление признаков одаренности ребенка не только по отношению к актуальному уровню его психического развития, но и с учетом зоны ближайшего развития (в частности, в условиях обогащенной предметной и образовательной среды при разработке индивидуализированной стратегии обучения данного ребен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Диагностическое обследование желательно проводить в ситуации реальной жизнедеятельности, приближая его по форме организации к естественному эксперименту (метод проектов, предметных, профессиональных и социальных проб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Использование таких предметных ситуаций, которые моделируют исследовательскую деятельность и позволяют ребенку проявить максимум самостоятельности в овладении и развитии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Анализ реальных достижений детей и подростков в различных предметных олимпиадах, конференциях, спортивных соревнованиях, творческих конкурсах, фестивалях, смотрах  и т.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Сочетание экологически валидных и традиционных методов диагностики. Экологически валидные методы диагностики имеют дело с оценкой реального поведения ребенка в реальной ситуации, – анализ продуктов деятельности, наблюдение, беседа, экспертные оценки учителей и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39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радиционным методам диагностики относятся психометрические тесты. Задачи в тестах мало напоминают то, что предстоит делать в будущем научному работнику, при этом, например тесты интеллекта более прогностичны, чем экологически валидные методы, в плане предсказания будущих научных успе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а. К приведенным выше требованиям необходимо добавить участие детей в оценке собственной одаренности. Обычно дети участвуют в психодиагностической работе в роли обследуемых. Однако опрос детей не только возможен, но и необх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/>
          </p:nvPr>
        </p:nvSpPr>
        <p:spPr>
          <a:xfrm>
            <a:off x="0" y="0"/>
            <a:ext cx="806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отечественными учеными признается комплексный подход к выявлению одаренных детей, суть которого состоит в использовании разнообразия мето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людение за поведением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ые психодиагностические тренинг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тное оценивание поведен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«пробных» занятий по специальным программ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оектов, предметных, профессиональных и социальных пр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едметных ситуаций, в которых моделируется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ние продуктов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нтеллектуальных, творческих и спортивных мероприятий (предметных олимпиад, конференций, соревнований, конкурсов, смотров, фестивалей и т.п.) с последующей оценкой достижений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дение психодиагностического обследования с использованием вариативных методик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7:31:17Z</dcterms:created>
  <dc:creator>Alexander</dc:creator>
  <dc:description/>
  <dc:language>en-US</dc:language>
  <cp:lastModifiedBy>Элла</cp:lastModifiedBy>
  <dcterms:modified xsi:type="dcterms:W3CDTF">2013-02-27T17:49:00Z</dcterms:modified>
  <cp:revision>56</cp:revision>
  <dc:subject/>
  <dc:title>Слайд 1</dc:title>
</cp:coreProperties>
</file>