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5579-7D1B-4C6E-9F72-8EA9665E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0F90-D99D-49AD-8EE4-AC1215BD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D11-6F73-4958-B257-6B761B94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D850-4F11-47C1-A758-DC040C42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90D-B9CD-4A11-90CC-EFCED8C4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A50A-86F2-4012-80F0-11C69131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1E4-BDCA-408C-8CE7-709C8588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9C2-896F-4A6C-995A-C8780624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E262-3C59-4F0C-A90D-653D4A41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FAD-BAD9-463F-9336-5C2844E3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E9F5-B189-43C5-A856-6963B518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584-292B-4839-9083-A8E44821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6559-3B7D-4EAC-8CA2-DDABDA421E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асписание уроков. Дни недели. Распорядок дня. Необходимый лексический минимум и зад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резентация -памя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25092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Матешина Татьяна Александров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МКОУ «КСОШ №1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es jours de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a semaine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(дни недели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143000"/>
          <a:ext cx="9144000" cy="54291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d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ландИ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недельн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d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мардИ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орн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cred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меркредИ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ud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жёдИ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вер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dred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вандредИ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н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ed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амдИ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бо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manch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димАнш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кресень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Прямоугольник 4"/>
          <p:cNvSpPr/>
          <p:nvPr/>
        </p:nvSpPr>
        <p:spPr>
          <a:xfrm>
            <a:off x="-17640" y="6524640"/>
            <a:ext cx="91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тешина Татьяна Александровна, МКОУ «КСОШ №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14400"/>
          <a:ext cx="9144000" cy="68436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lle heure est-il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елЁр этИ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торый час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э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верть (15 мину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овина (полча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д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u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ю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coup de tem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ку дё т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ног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u de tem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ё дё т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nc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манс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и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re toilet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эр туа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водить себя в поряд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er au l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лЕ о 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дти сп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leçons sont fin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 лесОн сон фи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ки закончили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ыст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Прямоугольник 4"/>
          <p:cNvSpPr/>
          <p:nvPr/>
        </p:nvSpPr>
        <p:spPr>
          <a:xfrm>
            <a:off x="-17640" y="6672240"/>
            <a:ext cx="916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шина Татьяна Александровна, МКОУ «КСОШ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14400"/>
          <a:ext cx="9144000" cy="67467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’Hora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ёрЭ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пис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ю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era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Ю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hématique (math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эмат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éograph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ограф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огра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sto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у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lo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лож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gl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лий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ç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ранс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ранцуз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asti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мнаст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куль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ail manu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вАй манюЭ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к тру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si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юз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эсс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Прямоугольник 4"/>
          <p:cNvSpPr/>
          <p:nvPr/>
        </p:nvSpPr>
        <p:spPr>
          <a:xfrm>
            <a:off x="-17640" y="6649920"/>
            <a:ext cx="91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шина Татьяна Александровна, МКОУ «КСОШ №1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асписание уроков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 французском язы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2920" y="1600200"/>
            <a:ext cx="88581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ша задача написать о своем расписании. По дням недели вы указываете количество уроков и перечисляете, какие предметы у вас бы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бразец: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e lundi j’ai six leçons: Russe, Anglais, maths, literature, dessin, gymnastique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(По понедельникам у меня шесть уроков: русский, английский, математика, литература, ИЗО, физкультур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И так далее, по пятниц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-17640" y="6524640"/>
            <a:ext cx="91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тешина Татьяна Александровна, МКОУ «КСОШ №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8-22T07:48:53Z</dcterms:created>
  <dc:creator>М</dc:creator>
  <dc:description/>
  <dc:language>en-US</dc:language>
  <cp:lastModifiedBy>М</cp:lastModifiedBy>
  <dcterms:modified xsi:type="dcterms:W3CDTF">2022-08-22T07:57:43Z</dcterms:modified>
  <cp:revision>3</cp:revision>
  <dc:subject/>
  <dc:title>Расписание уроков. Дни недели. Распорядок дня. Необходимый лексический минимум и задание</dc:title>
</cp:coreProperties>
</file>