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D210-C342-40EA-B37D-8AFB8DBB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30B-266D-4FE7-8123-8D8FA346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846-DFC1-4570-8563-879040A3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F90-F4DC-4891-87AC-7245E7C1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E4C-60AD-4B39-BEAC-C949A033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371-1E9B-419B-9044-AC4A5D49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087-FD18-4358-85B5-E725C578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BC9-75D8-4C61-A599-838B64D2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791-AAB9-4F6F-9B84-568F204E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0CC-6AB4-47B5-B906-9515EB8C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379-09AA-45F2-82F7-EBC2285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8D0-9D44-478A-95FF-AF94222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7330-816F-4578-B47F-04ED67590A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списание уроков. Дни недели. Распорядок дня. Необходимый лексический минимум и зад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резентация -памя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5092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атешина Татьяна Александро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МКОУ «КСОШ №1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es jours de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la semaine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(дни недел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143000"/>
          <a:ext cx="9144000" cy="54291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лан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едель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ар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cre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меркре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u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жё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вер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dre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андре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ниц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ed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амдИ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бо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manc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имАнш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кресень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Прямоугольник 4"/>
          <p:cNvSpPr/>
          <p:nvPr/>
        </p:nvSpPr>
        <p:spPr>
          <a:xfrm>
            <a:off x="-17640" y="6524640"/>
            <a:ext cx="91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шина Татьяна Александровна, МКОУ «КСОШ №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14400"/>
          <a:ext cx="9144000" cy="6843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elle heure est-il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лЁр этИ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торый час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э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тверть (15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вина (полча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u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ю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но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ucoup de tem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ку дё т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u de tem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ё дё т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л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c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анс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и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ire toilet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эр туа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водить себя в поряд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er au l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лЕ о 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дти сп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leçons sont fin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 лесОн сон ф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и закончили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ст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4"/>
          <p:cNvSpPr/>
          <p:nvPr/>
        </p:nvSpPr>
        <p:spPr>
          <a:xfrm>
            <a:off x="-17640" y="6672240"/>
            <a:ext cx="91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шина Татьяна Александровна, МКОУ «КСОШ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4400"/>
          <a:ext cx="9144000" cy="67467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’Hora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рЭ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ис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ю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era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Ю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hématique (math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эма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éograph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ограф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у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лож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l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й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ç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с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цуз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mnast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мнас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ail manu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вАй манюЭ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 тру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s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юз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эсс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Прямоугольник 4"/>
          <p:cNvSpPr/>
          <p:nvPr/>
        </p:nvSpPr>
        <p:spPr>
          <a:xfrm>
            <a:off x="-17640" y="6649920"/>
            <a:ext cx="91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шина Татьяна Александровна, МКОУ «КСОШ №1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списание уроков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 французском язы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42920" y="1600200"/>
            <a:ext cx="88581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ша задача написать о своем расписании. По дням недели вы указываете количество уроков и перечисляете, какие предметы у вас бы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бразец: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e lundi j’ai six leçons: Russe, Anglais, maths, literature, dessin, gymnastique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По понедельникам у меня шесть уроков: русский, английский, математика, литература, ИЗО, физкульту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 так далее, по пятн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-17640" y="6524640"/>
            <a:ext cx="91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шина Татьяна Александровна, МКОУ «КСОШ №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22T07:48:53Z</dcterms:created>
  <dc:creator>М</dc:creator>
  <dc:description/>
  <dc:language>en-US</dc:language>
  <cp:lastModifiedBy>М</cp:lastModifiedBy>
  <dcterms:modified xsi:type="dcterms:W3CDTF">2022-08-22T07:57:43Z</dcterms:modified>
  <cp:revision>3</cp:revision>
  <dc:subject/>
  <dc:title>Расписание уроков. Дни недели. Распорядок дня. Необходимый лексический минимум и задание</dc:title>
</cp:coreProperties>
</file>