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30.jpeg" ContentType="image/jpeg"/>
  <Override PartName="/ppt/media/image43.png" ContentType="image/png"/>
  <Override PartName="/ppt/media/image44.gif" ContentType="image/gif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3A4F-37AE-41FD-A2E5-019F0B024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7B28-E8D8-4C62-9001-6F4CBCF11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4792-68D0-4E7A-A232-D43265B9E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7D28-20E1-4B8C-AD0B-3EEAF2D5E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396ED-474E-4A52-824A-D18D0985C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FF914-533B-4F58-85DC-56D35C53D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80EDC-181F-4666-92BB-788489318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A2DCC-0847-41F5-99AE-EF9B4D0C9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0F55D-4FF8-4857-B9A2-D5AEB5501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CFAB5-7C50-4CE4-A97B-94C5C5E5B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60BDF-2665-441F-BDA0-30D0B7F6F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40D8-88DD-4972-85F3-577260688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F911E-BED2-4F62-A6DE-7A6110E0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B2DEB-F4B5-40BE-90DF-E5F5DA22C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3DB38-ACCF-41E0-91A7-146CA4BD7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DD0CE-50CD-4466-83F4-37B460C5D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8F724-2195-4DBF-B7A3-873967675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94F9-4BBD-4C6C-B27A-74D482971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215A-F82C-4C5A-96D3-70D4448AA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595A-139D-4EA6-9772-C698E5B4F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6C8C-38BB-4E82-9934-5EA7C2ED4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34EC-FD25-428F-86DE-5C23C087C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B476-D506-4913-BA90-1E201BFF8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EF62-EB53-4F1A-8A15-8F99D7220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slideLayout" Target="../slideLayouts/slideLayout1.xml"/><Relationship Id="rId25" Type="http://schemas.openxmlformats.org/officeDocument/2006/relationships/slideLayout" Target="../slideLayouts/slideLayout2.xml"/><Relationship Id="rId26" Type="http://schemas.openxmlformats.org/officeDocument/2006/relationships/slideLayout" Target="../slideLayouts/slideLayout3.xml"/><Relationship Id="rId27" Type="http://schemas.openxmlformats.org/officeDocument/2006/relationships/slideLayout" Target="../slideLayouts/slideLayout4.xml"/><Relationship Id="rId28" Type="http://schemas.openxmlformats.org/officeDocument/2006/relationships/slideLayout" Target="../slideLayouts/slideLayout5.xml"/><Relationship Id="rId29" Type="http://schemas.openxmlformats.org/officeDocument/2006/relationships/slideLayout" Target="../slideLayouts/slideLayout6.xml"/><Relationship Id="rId30" Type="http://schemas.openxmlformats.org/officeDocument/2006/relationships/slideLayout" Target="../slideLayouts/slideLayout7.xml"/><Relationship Id="rId31" Type="http://schemas.openxmlformats.org/officeDocument/2006/relationships/slideLayout" Target="../slideLayouts/slideLayout8.xml"/><Relationship Id="rId32" Type="http://schemas.openxmlformats.org/officeDocument/2006/relationships/slideLayout" Target="../slideLayouts/slideLayout9.xml"/><Relationship Id="rId33" Type="http://schemas.openxmlformats.org/officeDocument/2006/relationships/slideLayout" Target="../slideLayouts/slideLayout10.xml"/><Relationship Id="rId34" Type="http://schemas.openxmlformats.org/officeDocument/2006/relationships/slideLayout" Target="../slideLayouts/slideLayout11.xml"/><Relationship Id="rId3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7.png"/><Relationship Id="rId30" Type="http://schemas.openxmlformats.org/officeDocument/2006/relationships/image" Target="../media/image28.png"/><Relationship Id="rId31" Type="http://schemas.openxmlformats.org/officeDocument/2006/relationships/image" Target="../media/image29.png"/><Relationship Id="rId32" Type="http://schemas.openxmlformats.org/officeDocument/2006/relationships/slideLayout" Target="../slideLayouts/slideLayout13.xml"/><Relationship Id="rId33" Type="http://schemas.openxmlformats.org/officeDocument/2006/relationships/slideLayout" Target="../slideLayouts/slideLayout14.xml"/><Relationship Id="rId34" Type="http://schemas.openxmlformats.org/officeDocument/2006/relationships/slideLayout" Target="../slideLayouts/slideLayout15.xml"/><Relationship Id="rId35" Type="http://schemas.openxmlformats.org/officeDocument/2006/relationships/slideLayout" Target="../slideLayouts/slideLayout16.xml"/><Relationship Id="rId36" Type="http://schemas.openxmlformats.org/officeDocument/2006/relationships/slideLayout" Target="../slideLayouts/slideLayout17.xml"/><Relationship Id="rId37" Type="http://schemas.openxmlformats.org/officeDocument/2006/relationships/slideLayout" Target="../slideLayouts/slideLayout18.xml"/><Relationship Id="rId38" Type="http://schemas.openxmlformats.org/officeDocument/2006/relationships/slideLayout" Target="../slideLayouts/slideLayout19.xml"/><Relationship Id="rId39" Type="http://schemas.openxmlformats.org/officeDocument/2006/relationships/slideLayout" Target="../slideLayouts/slideLayout20.xml"/><Relationship Id="rId40" Type="http://schemas.openxmlformats.org/officeDocument/2006/relationships/slideLayout" Target="../slideLayouts/slideLayout21.xml"/><Relationship Id="rId41" Type="http://schemas.openxmlformats.org/officeDocument/2006/relationships/slideLayout" Target="../slideLayouts/slideLayout22.xml"/><Relationship Id="rId42" Type="http://schemas.openxmlformats.org/officeDocument/2006/relationships/slideLayout" Target="../slideLayouts/slideLayout23.xml"/><Relationship Id="rId4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1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2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1440"/>
                <a:ext cx="1523880" cy="1375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0840" y="1588680"/>
                <a:ext cx="1434600" cy="131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960" y="4139640"/>
                <a:ext cx="1523880" cy="142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65520" y="419040"/>
                <a:ext cx="1815840" cy="169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76240" y="3408480"/>
                <a:ext cx="1881360" cy="168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78920" y="4833000"/>
                <a:ext cx="1649160" cy="150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9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19880" y="241920"/>
                <a:ext cx="1644840" cy="16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03040" y="620640"/>
                <a:ext cx="1146600" cy="116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Freeform 73"/>
              <p:cNvSpPr/>
              <p:nvPr/>
            </p:nvSpPr>
            <p:spPr>
              <a:xfrm rot="1542000">
                <a:off x="7035120" y="3759840"/>
                <a:ext cx="1440" cy="14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57280" y="4217400"/>
                <a:ext cx="1212840" cy="1183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37640"/>
                <a:ext cx="1338840" cy="162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59120"/>
                <a:ext cx="1086480" cy="140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03120" y="5593320"/>
                <a:ext cx="1891080" cy="126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57280" y="1623240"/>
                <a:ext cx="1386720" cy="171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43160" y="5849640"/>
                <a:ext cx="1368720" cy="97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19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30640" y="2735280"/>
                <a:ext cx="1465920" cy="34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78960" y="5717520"/>
                <a:ext cx="1151640" cy="1069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03480" y="985680"/>
                <a:ext cx="1712160" cy="162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17360" y="3697200"/>
                <a:ext cx="973080" cy="84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79320"/>
                <a:ext cx="1336680" cy="1496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14520"/>
                <a:ext cx="1219680" cy="135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41200" y="0"/>
                <a:ext cx="1293480" cy="98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08160" y="973800"/>
                <a:ext cx="843840" cy="1064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40404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91E89-73B1-4C05-B89E-AFCFEC624516}" type="slidenum">
              <a:rPr b="0" lang="ru-RU" sz="18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4"/>
    <p:sldLayoutId id="2147483650" r:id="rId25"/>
    <p:sldLayoutId id="2147483651" r:id="rId26"/>
    <p:sldLayoutId id="2147483652" r:id="rId27"/>
    <p:sldLayoutId id="2147483653" r:id="rId28"/>
    <p:sldLayoutId id="2147483654" r:id="rId29"/>
    <p:sldLayoutId id="2147483655" r:id="rId30"/>
    <p:sldLayoutId id="2147483656" r:id="rId31"/>
    <p:sldLayoutId id="2147483657" r:id="rId32"/>
    <p:sldLayoutId id="2147483658" r:id="rId33"/>
    <p:sldLayoutId id="2147483659" r:id="rId34"/>
    <p:sldLayoutId id="2147483660" r:id="rId3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69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70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1440"/>
                <a:ext cx="1523880" cy="1375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0840" y="1588680"/>
                <a:ext cx="1434600" cy="131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960" y="4139640"/>
                <a:ext cx="1523880" cy="142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65520" y="419040"/>
                <a:ext cx="1815840" cy="169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76240" y="3408480"/>
                <a:ext cx="1881360" cy="168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78920" y="4833000"/>
                <a:ext cx="1649160" cy="150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6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77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19880" y="241920"/>
                <a:ext cx="1644840" cy="16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03040" y="620640"/>
                <a:ext cx="1146600" cy="116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Freeform 73"/>
              <p:cNvSpPr/>
              <p:nvPr/>
            </p:nvSpPr>
            <p:spPr>
              <a:xfrm rot="1542000">
                <a:off x="7035120" y="3759840"/>
                <a:ext cx="1440" cy="14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0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57280" y="4217400"/>
                <a:ext cx="1212840" cy="1183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37640"/>
                <a:ext cx="1338840" cy="162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59120"/>
                <a:ext cx="1086480" cy="140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03120" y="5593320"/>
                <a:ext cx="1891080" cy="126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57280" y="1623240"/>
                <a:ext cx="1386720" cy="171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43160" y="5849640"/>
                <a:ext cx="1368720" cy="97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6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87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30640" y="2735280"/>
                <a:ext cx="1465920" cy="34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78960" y="5717520"/>
                <a:ext cx="1151640" cy="1069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03480" y="985680"/>
                <a:ext cx="1712160" cy="162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17360" y="3697200"/>
                <a:ext cx="973080" cy="84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79320"/>
                <a:ext cx="1336680" cy="1496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14520"/>
                <a:ext cx="1219680" cy="135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41200" y="0"/>
                <a:ext cx="1293480" cy="98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08160" y="973800"/>
                <a:ext cx="843840" cy="1064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95" name="Group 16"/>
          <p:cNvGrpSpPr/>
          <p:nvPr/>
        </p:nvGrpSpPr>
        <p:grpSpPr>
          <a:xfrm>
            <a:off x="4718160" y="993600"/>
            <a:ext cx="1847880" cy="1530360"/>
            <a:chOff x="4718160" y="993600"/>
            <a:chExt cx="1847880" cy="1530360"/>
          </a:xfrm>
        </p:grpSpPr>
        <p:grpSp>
          <p:nvGrpSpPr>
            <p:cNvPr id="96" name="Oval 31"/>
            <p:cNvGrpSpPr/>
            <p:nvPr/>
          </p:nvGrpSpPr>
          <p:grpSpPr>
            <a:xfrm>
              <a:off x="5463360" y="1426680"/>
              <a:ext cx="1102680" cy="1097280"/>
              <a:chOff x="5463360" y="1426680"/>
              <a:chExt cx="1102680" cy="1097280"/>
            </a:xfrm>
          </p:grpSpPr>
          <p:pic>
            <p:nvPicPr>
              <p:cNvPr id="97" name="Oval 31" descr=""/>
              <p:cNvPicPr/>
              <p:nvPr/>
            </p:nvPicPr>
            <p:blipFill>
              <a:blip r:embed="rId24"/>
              <a:stretch/>
            </p:blipFill>
            <p:spPr>
              <a:xfrm>
                <a:off x="5463360" y="1426680"/>
                <a:ext cx="1102680" cy="109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"/>
              <p:cNvSpPr/>
              <p:nvPr/>
            </p:nvSpPr>
            <p:spPr>
              <a:xfrm>
                <a:off x="5641200" y="1604160"/>
                <a:ext cx="751680" cy="74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Oval 32"/>
            <p:cNvGrpSpPr/>
            <p:nvPr/>
          </p:nvGrpSpPr>
          <p:grpSpPr>
            <a:xfrm>
              <a:off x="5630040" y="1402920"/>
              <a:ext cx="852480" cy="848160"/>
              <a:chOff x="5630040" y="1402920"/>
              <a:chExt cx="852480" cy="848160"/>
            </a:xfrm>
          </p:grpSpPr>
          <p:pic>
            <p:nvPicPr>
              <p:cNvPr id="100" name="Oval 32" descr=""/>
              <p:cNvPicPr/>
              <p:nvPr/>
            </p:nvPicPr>
            <p:blipFill>
              <a:blip r:embed="rId25"/>
              <a:stretch/>
            </p:blipFill>
            <p:spPr>
              <a:xfrm>
                <a:off x="5630040" y="1402920"/>
                <a:ext cx="852480" cy="84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"/>
              <p:cNvSpPr/>
              <p:nvPr/>
            </p:nvSpPr>
            <p:spPr>
              <a:xfrm>
                <a:off x="5771880" y="1542960"/>
                <a:ext cx="574560" cy="57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Oval 28"/>
            <p:cNvGrpSpPr/>
            <p:nvPr/>
          </p:nvGrpSpPr>
          <p:grpSpPr>
            <a:xfrm>
              <a:off x="5242680" y="1871640"/>
              <a:ext cx="631800" cy="628560"/>
              <a:chOff x="5242680" y="1871640"/>
              <a:chExt cx="631800" cy="628560"/>
            </a:xfrm>
          </p:grpSpPr>
          <p:pic>
            <p:nvPicPr>
              <p:cNvPr id="103" name="Oval 28" descr=""/>
              <p:cNvPicPr/>
              <p:nvPr/>
            </p:nvPicPr>
            <p:blipFill>
              <a:blip r:embed="rId26"/>
              <a:stretch/>
            </p:blipFill>
            <p:spPr>
              <a:xfrm>
                <a:off x="5242680" y="1871640"/>
                <a:ext cx="631800" cy="62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"/>
              <p:cNvSpPr/>
              <p:nvPr/>
            </p:nvSpPr>
            <p:spPr>
              <a:xfrm>
                <a:off x="5353560" y="1980360"/>
                <a:ext cx="416520" cy="41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Oval 30"/>
            <p:cNvGrpSpPr/>
            <p:nvPr/>
          </p:nvGrpSpPr>
          <p:grpSpPr>
            <a:xfrm>
              <a:off x="5409720" y="1788480"/>
              <a:ext cx="518400" cy="522000"/>
              <a:chOff x="5409720" y="1788480"/>
              <a:chExt cx="518400" cy="522000"/>
            </a:xfrm>
          </p:grpSpPr>
          <p:pic>
            <p:nvPicPr>
              <p:cNvPr id="106" name="Oval 30" descr=""/>
              <p:cNvPicPr/>
              <p:nvPr/>
            </p:nvPicPr>
            <p:blipFill>
              <a:blip r:embed="rId27"/>
              <a:stretch/>
            </p:blipFill>
            <p:spPr>
              <a:xfrm>
                <a:off x="5409720" y="1788480"/>
                <a:ext cx="518400" cy="52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>
                <a:off x="5501880" y="1883160"/>
                <a:ext cx="338400" cy="33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Oval 27"/>
            <p:cNvGrpSpPr/>
            <p:nvPr/>
          </p:nvGrpSpPr>
          <p:grpSpPr>
            <a:xfrm>
              <a:off x="4718160" y="2055600"/>
              <a:ext cx="291960" cy="290520"/>
              <a:chOff x="4718160" y="2055600"/>
              <a:chExt cx="291960" cy="290520"/>
            </a:xfrm>
          </p:grpSpPr>
          <p:pic>
            <p:nvPicPr>
              <p:cNvPr id="109" name="Oval 27" descr=""/>
              <p:cNvPicPr/>
              <p:nvPr/>
            </p:nvPicPr>
            <p:blipFill>
              <a:blip r:embed="rId28"/>
              <a:stretch/>
            </p:blipFill>
            <p:spPr>
              <a:xfrm>
                <a:off x="4718160" y="2055600"/>
                <a:ext cx="291960" cy="29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>
                <a:off x="4778280" y="2115000"/>
                <a:ext cx="177480" cy="17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Oval 29"/>
            <p:cNvGrpSpPr/>
            <p:nvPr/>
          </p:nvGrpSpPr>
          <p:grpSpPr>
            <a:xfrm>
              <a:off x="6101280" y="993600"/>
              <a:ext cx="291960" cy="290520"/>
              <a:chOff x="6101280" y="993600"/>
              <a:chExt cx="291960" cy="290520"/>
            </a:xfrm>
          </p:grpSpPr>
          <p:pic>
            <p:nvPicPr>
              <p:cNvPr id="112" name="Oval 29" descr=""/>
              <p:cNvPicPr/>
              <p:nvPr/>
            </p:nvPicPr>
            <p:blipFill>
              <a:blip r:embed="rId29"/>
              <a:stretch/>
            </p:blipFill>
            <p:spPr>
              <a:xfrm>
                <a:off x="6101280" y="993600"/>
                <a:ext cx="291960" cy="29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6161040" y="1053720"/>
                <a:ext cx="177480" cy="17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Oval 33"/>
            <p:cNvGrpSpPr/>
            <p:nvPr/>
          </p:nvGrpSpPr>
          <p:grpSpPr>
            <a:xfrm>
              <a:off x="5051880" y="1871640"/>
              <a:ext cx="232200" cy="231120"/>
              <a:chOff x="5051880" y="1871640"/>
              <a:chExt cx="232200" cy="231120"/>
            </a:xfrm>
          </p:grpSpPr>
          <p:pic>
            <p:nvPicPr>
              <p:cNvPr id="115" name="Oval 33" descr=""/>
              <p:cNvPicPr/>
              <p:nvPr/>
            </p:nvPicPr>
            <p:blipFill>
              <a:blip r:embed="rId30"/>
              <a:stretch/>
            </p:blipFill>
            <p:spPr>
              <a:xfrm>
                <a:off x="5051880" y="1871640"/>
                <a:ext cx="232200" cy="231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5103360" y="1922760"/>
                <a:ext cx="136440" cy="13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Oval 34"/>
            <p:cNvGrpSpPr/>
            <p:nvPr/>
          </p:nvGrpSpPr>
          <p:grpSpPr>
            <a:xfrm>
              <a:off x="6118920" y="1058760"/>
              <a:ext cx="232200" cy="237240"/>
              <a:chOff x="6118920" y="1058760"/>
              <a:chExt cx="232200" cy="237240"/>
            </a:xfrm>
          </p:grpSpPr>
          <p:pic>
            <p:nvPicPr>
              <p:cNvPr id="118" name="Oval 34" descr=""/>
              <p:cNvPicPr/>
              <p:nvPr/>
            </p:nvPicPr>
            <p:blipFill>
              <a:blip r:embed="rId31"/>
              <a:stretch/>
            </p:blipFill>
            <p:spPr>
              <a:xfrm>
                <a:off x="6118920" y="1058760"/>
                <a:ext cx="232200" cy="237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6168600" y="1110960"/>
                <a:ext cx="136440" cy="13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40404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CCDFB-91C2-40A6-89FD-4709C0338F66}" type="slidenum">
              <a:rPr b="0" lang="ru-RU" sz="18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2"/>
    <p:sldLayoutId id="2147483663" r:id="rId33"/>
    <p:sldLayoutId id="2147483664" r:id="rId34"/>
    <p:sldLayoutId id="2147483665" r:id="rId35"/>
    <p:sldLayoutId id="2147483666" r:id="rId36"/>
    <p:sldLayoutId id="2147483667" r:id="rId37"/>
    <p:sldLayoutId id="2147483668" r:id="rId38"/>
    <p:sldLayoutId id="2147483669" r:id="rId39"/>
    <p:sldLayoutId id="2147483670" r:id="rId40"/>
    <p:sldLayoutId id="2147483671" r:id="rId41"/>
    <p:sldLayoutId id="2147483672" r:id="rId42"/>
    <p:sldLayoutId id="2147483673" r:id="rId4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4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0040" y="2057400"/>
            <a:ext cx="807264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404040"/>
                </a:solidFill>
                <a:latin typeface="Comic Sans MS"/>
              </a:rPr>
              <a:t>10 правил </a:t>
            </a:r>
            <a:br>
              <a:rPr sz="5400"/>
            </a:br>
            <a:r>
              <a:rPr b="1" lang="ru-RU" sz="5400" spc="-1" strike="noStrike">
                <a:solidFill>
                  <a:srgbClr val="404040"/>
                </a:solidFill>
                <a:latin typeface="Comic Sans MS"/>
              </a:rPr>
              <a:t>здорового образа жизни</a:t>
            </a:r>
            <a:endParaRPr b="0" lang="en-US" sz="54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62" name="Picture 5" descr=""/>
          <p:cNvPicPr/>
          <p:nvPr/>
        </p:nvPicPr>
        <p:blipFill>
          <a:blip r:embed="rId1"/>
          <a:stretch/>
        </p:blipFill>
        <p:spPr>
          <a:xfrm>
            <a:off x="2700360" y="3500280"/>
            <a:ext cx="3959280" cy="2506680"/>
          </a:xfrm>
          <a:prstGeom prst="rect">
            <a:avLst/>
          </a:prstGeom>
          <a:ln w="9360">
            <a:solidFill>
              <a:srgbClr val="c1ec76"/>
            </a:solidFill>
            <a:miter/>
          </a:ln>
        </p:spPr>
      </p:pic>
    </p:spTree>
  </p:cSld>
  <p:transition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642960" y="357120"/>
            <a:ext cx="7772400" cy="341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dc5754"/>
                </a:solidFill>
                <a:latin typeface="Comic Sans MS"/>
              </a:rPr>
              <a:t>  </a:t>
            </a:r>
            <a:r>
              <a:rPr b="1" lang="ru-RU" sz="3600" spc="-1" strike="noStrike">
                <a:solidFill>
                  <a:srgbClr val="dc5754"/>
                </a:solidFill>
                <a:latin typeface="Comic Sans MS"/>
              </a:rPr>
              <a:t>И конечно не кури, не злоупотребляй алкоголем и другими вредными привычками. Ведь это основные факторы, ухудшающие здоровье. </a:t>
            </a:r>
            <a:endParaRPr b="0" lang="en-US" sz="36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3" name="Прямоугольник 7"/>
          <p:cNvSpPr/>
          <p:nvPr/>
        </p:nvSpPr>
        <p:spPr>
          <a:xfrm>
            <a:off x="2193840" y="5786280"/>
            <a:ext cx="483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БУДЬТЕ ЗДОРОВЫ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Рисунок 8" descr="atlet01.gif"/>
          <p:cNvPicPr/>
          <p:nvPr/>
        </p:nvPicPr>
        <p:blipFill>
          <a:blip r:embed="rId1"/>
          <a:stretch/>
        </p:blipFill>
        <p:spPr>
          <a:xfrm>
            <a:off x="3429000" y="3786120"/>
            <a:ext cx="2373480" cy="1981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heel spokes="1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714240" y="1334880"/>
            <a:ext cx="7772400" cy="376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Ведь на добро отвечают добром. Оно обязательно к вам   вернется в виде хорошего самочувствия и настроения.</a:t>
            </a: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6" name="Прямоугольник 5"/>
          <p:cNvSpPr/>
          <p:nvPr/>
        </p:nvSpPr>
        <p:spPr>
          <a:xfrm>
            <a:off x="2833560" y="714240"/>
            <a:ext cx="397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c5754"/>
                </a:solidFill>
                <a:latin typeface="Comic Sans MS"/>
              </a:rPr>
              <a:t>Творите добро!</a:t>
            </a:r>
            <a:r>
              <a:rPr b="0" lang="ru-RU" sz="3600" spc="-1" strike="noStrike">
                <a:solidFill>
                  <a:srgbClr val="dc5754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42960" y="1928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dc5754"/>
                </a:solidFill>
                <a:latin typeface="Comic Sans MS"/>
              </a:rPr>
              <a:t>Даже если у тебя «тройка» по физкультуре, ты любишь «чипсы» и «Кока-колу», тебе с трудом удаётся встать ранним утром и ты до поздней ночи «висишь» «в контакте», ещё не поздно начать здоровый образ жизни…  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14240" y="1428480"/>
            <a:ext cx="77724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5" name="Прямоугольник 6"/>
          <p:cNvSpPr/>
          <p:nvPr/>
        </p:nvSpPr>
        <p:spPr>
          <a:xfrm>
            <a:off x="785880" y="364320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Вот 10 правил,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которые тебе в этом помогут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dc5754"/>
                </a:solidFill>
                <a:latin typeface="Comic Sans MS"/>
              </a:rPr>
              <a:t>Движение - жизнь!</a:t>
            </a:r>
            <a:endParaRPr b="0" lang="en-US" sz="36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11280" y="1196640"/>
            <a:ext cx="7415280" cy="319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тарайся двигаться как можно больше.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Занимайся  физической культурой, хотя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бы 30 мин в день. А если у тебя и на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это нет времени, то совершай пешие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огулки зимой и больше плавай летом.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68" name="Рисунок 9" descr="delf11.png"/>
          <p:cNvPicPr/>
          <p:nvPr/>
        </p:nvPicPr>
        <p:blipFill>
          <a:blip r:embed="rId1"/>
          <a:stretch/>
        </p:blipFill>
        <p:spPr>
          <a:xfrm>
            <a:off x="4929120" y="3929040"/>
            <a:ext cx="2643120" cy="255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69" name="Рисунок 10" descr="delf11.png"/>
          <p:cNvPicPr/>
          <p:nvPr/>
        </p:nvPicPr>
        <p:blipFill>
          <a:blip r:embed="rId2"/>
          <a:stretch/>
        </p:blipFill>
        <p:spPr>
          <a:xfrm>
            <a:off x="1928880" y="3929040"/>
            <a:ext cx="2643120" cy="255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heel spokes="1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714240" y="64260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dc5754"/>
                </a:solidFill>
                <a:latin typeface="Comic Sans MS"/>
              </a:rPr>
              <a:t>Соблюдай режим дня!</a:t>
            </a:r>
            <a:endParaRPr b="0" lang="en-US" sz="36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1" name="Прямоугольник 3"/>
          <p:cNvSpPr/>
          <p:nvPr/>
        </p:nvSpPr>
        <p:spPr>
          <a:xfrm>
            <a:off x="642960" y="1285920"/>
            <a:ext cx="8215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Ложись и вставай в одно и то же время. Это самый простой совет выглядеть красивым, здоровым и отдохнувши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Рисунок 5" descr="7f1f5f717d06.png"/>
          <p:cNvPicPr/>
          <p:nvPr/>
        </p:nvPicPr>
        <p:blipFill>
          <a:blip r:embed="rId1"/>
          <a:stretch/>
        </p:blipFill>
        <p:spPr>
          <a:xfrm>
            <a:off x="2571840" y="2571840"/>
            <a:ext cx="4071960" cy="3960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heel spokes="1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5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785880" y="191520"/>
            <a:ext cx="7772400" cy="192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dc5754"/>
                </a:solidFill>
                <a:latin typeface="Comic Sans MS"/>
              </a:rPr>
              <a:t>Нормальный сон для человека – </a:t>
            </a:r>
            <a:endParaRPr b="0" lang="en-US" sz="36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dc5754"/>
                </a:solidFill>
                <a:latin typeface="Comic Sans MS"/>
              </a:rPr>
              <a:t>7-8 часов.</a:t>
            </a:r>
            <a:r>
              <a:rPr b="0" lang="ru-RU" sz="3600" spc="-1" strike="noStrike">
                <a:solidFill>
                  <a:srgbClr val="dc5754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4" name="Прямоугольник 4"/>
          <p:cNvSpPr/>
          <p:nvPr/>
        </p:nvSpPr>
        <p:spPr>
          <a:xfrm>
            <a:off x="428760" y="1714680"/>
            <a:ext cx="8429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Если ты спишь меньше, возникает хроническая усталость, которая приводит к снижению настроения и работоспособности. Чрезмерный сон и неактивный образ жизни приводят к понижению общего тонуса организма и увеличению ве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Рисунок 3" descr="8403610125e5.png"/>
          <p:cNvPicPr/>
          <p:nvPr/>
        </p:nvPicPr>
        <p:blipFill>
          <a:blip r:embed="rId1"/>
          <a:stretch/>
        </p:blipFill>
        <p:spPr>
          <a:xfrm>
            <a:off x="3571920" y="4286160"/>
            <a:ext cx="2363760" cy="2428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heel spokes="1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714240" y="642600"/>
            <a:ext cx="7772400" cy="10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dc5754"/>
                </a:solidFill>
                <a:latin typeface="Comic Sans MS"/>
              </a:rPr>
              <a:t>Закаливай свой организм.</a:t>
            </a:r>
            <a:r>
              <a:rPr b="0" lang="ru-RU" sz="3600" spc="-1" strike="noStrike">
                <a:solidFill>
                  <a:srgbClr val="dc5754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7" name="Прямоугольник 5"/>
          <p:cNvSpPr/>
          <p:nvPr/>
        </p:nvSpPr>
        <p:spPr>
          <a:xfrm>
            <a:off x="357120" y="2071800"/>
            <a:ext cx="51436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Лучше всего помогает контрастный душ – теплая и прохладная водичка. Не только полезн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но и помогает просну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Рисунок 7" descr="860ea5f4ce4a.png"/>
          <p:cNvPicPr/>
          <p:nvPr/>
        </p:nvPicPr>
        <p:blipFill>
          <a:blip r:embed="rId1"/>
          <a:stretch/>
        </p:blipFill>
        <p:spPr>
          <a:xfrm>
            <a:off x="5643720" y="1357200"/>
            <a:ext cx="2908080" cy="4862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heel spokes="1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285840" y="1143000"/>
            <a:ext cx="8215200" cy="485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Ешь больше пищи, содержащей клетчатку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и цельные зерна, и меньше – пищу,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одержащую сахар и приготовленную 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из пшеничной муки. Чистая вода - источник здоровья! Старайся  пить чистую воду, зелёный чай и другие натуральные напитки. Не забывай об овощах и фруктах.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0" name="Прямоугольник 8"/>
          <p:cNvSpPr/>
          <p:nvPr/>
        </p:nvSpPr>
        <p:spPr>
          <a:xfrm>
            <a:off x="2286000" y="57168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c5754"/>
                </a:solidFill>
                <a:latin typeface="Comic Sans MS"/>
              </a:rPr>
              <a:t>Ты  то, что ты ешь.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Рисунок 10" descr="7a35eabfa298.png"/>
          <p:cNvPicPr/>
          <p:nvPr/>
        </p:nvPicPr>
        <p:blipFill>
          <a:blip r:embed="rId1"/>
          <a:stretch/>
        </p:blipFill>
        <p:spPr>
          <a:xfrm>
            <a:off x="611280" y="5013360"/>
            <a:ext cx="2214360" cy="1482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82" name="Рисунок 11" descr="b5b1b994db64.png"/>
          <p:cNvPicPr/>
          <p:nvPr/>
        </p:nvPicPr>
        <p:blipFill>
          <a:blip r:embed="rId2"/>
          <a:stretch/>
        </p:blipFill>
        <p:spPr>
          <a:xfrm>
            <a:off x="7596360" y="4500720"/>
            <a:ext cx="1433520" cy="2071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heel spokes="1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" dur="1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10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Рисунок 5" descr="7e97d621fc1e.png"/>
          <p:cNvPicPr/>
          <p:nvPr/>
        </p:nvPicPr>
        <p:blipFill>
          <a:blip r:embed="rId1"/>
          <a:stretch/>
        </p:blipFill>
        <p:spPr>
          <a:xfrm>
            <a:off x="2928960" y="2786040"/>
            <a:ext cx="3643200" cy="3768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84" name="Рисунок 7" descr="607815457.gif"/>
          <p:cNvPicPr/>
          <p:nvPr/>
        </p:nvPicPr>
        <p:blipFill>
          <a:blip r:embed="rId2"/>
          <a:stretch/>
        </p:blipFill>
        <p:spPr>
          <a:xfrm>
            <a:off x="142920" y="1785960"/>
            <a:ext cx="3071880" cy="251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85" name=""/>
          <p:cNvSpPr txBox="1"/>
          <p:nvPr/>
        </p:nvSpPr>
        <p:spPr>
          <a:xfrm>
            <a:off x="1142640" y="642960"/>
            <a:ext cx="8001000" cy="230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dc5754"/>
                </a:solidFill>
                <a:latin typeface="Comic Sans MS"/>
              </a:rPr>
              <a:t>Почаще гуляй в парке, на свежем воздухе, подальше от автомобилей и других загрязнителей воздуха</a:t>
            </a:r>
            <a:r>
              <a:rPr b="1" lang="ru-RU" sz="1800" spc="-1" strike="noStrike">
                <a:solidFill>
                  <a:srgbClr val="dc5754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86" name="Рисунок 6" descr="strek13.png"/>
          <p:cNvPicPr/>
          <p:nvPr/>
        </p:nvPicPr>
        <p:blipFill>
          <a:blip r:embed="rId3"/>
          <a:stretch/>
        </p:blipFill>
        <p:spPr>
          <a:xfrm>
            <a:off x="6000840" y="3143160"/>
            <a:ext cx="1428840" cy="668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heel spokes="1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714240" y="642600"/>
            <a:ext cx="7772400" cy="10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dc5754"/>
                </a:solidFill>
                <a:latin typeface="Comic Sans MS"/>
              </a:rPr>
              <a:t>Старайся чаще слушать любимую весёлую музыку -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8" name="Прямоугольник 4"/>
          <p:cNvSpPr/>
          <p:nvPr/>
        </p:nvSpPr>
        <p:spPr>
          <a:xfrm>
            <a:off x="642960" y="192888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это лучшее лекарств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т плохого настроени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Рисунок 3" descr="16328f65414e.png"/>
          <p:cNvPicPr/>
          <p:nvPr/>
        </p:nvPicPr>
        <p:blipFill>
          <a:blip r:embed="rId1"/>
          <a:stretch/>
        </p:blipFill>
        <p:spPr>
          <a:xfrm>
            <a:off x="571680" y="1500120"/>
            <a:ext cx="1971360" cy="1739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90" name="Рисунок 4" descr="d2b5d50a52c4.png"/>
          <p:cNvPicPr/>
          <p:nvPr/>
        </p:nvPicPr>
        <p:blipFill>
          <a:blip r:embed="rId2"/>
          <a:stretch/>
        </p:blipFill>
        <p:spPr>
          <a:xfrm>
            <a:off x="6786720" y="1428840"/>
            <a:ext cx="2081160" cy="2095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91" name="Рисунок 8" descr="1c4a6049c8cb.png"/>
          <p:cNvPicPr/>
          <p:nvPr/>
        </p:nvPicPr>
        <p:blipFill>
          <a:blip r:embed="rId3"/>
          <a:stretch/>
        </p:blipFill>
        <p:spPr>
          <a:xfrm>
            <a:off x="2143080" y="2979720"/>
            <a:ext cx="4772160" cy="3664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heel spokes="1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9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2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9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15:36:12Z</dcterms:created>
  <dc:creator>User</dc:creator>
  <dc:description/>
  <dc:language>en-US</dc:language>
  <cp:lastModifiedBy>Андрей</cp:lastModifiedBy>
  <dcterms:modified xsi:type="dcterms:W3CDTF">2022-08-22T11:29:53Z</dcterms:modified>
  <cp:revision>66</cp:revision>
  <dc:subject/>
  <dc:title>Решение задач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22c0000000000010250300207f7000400038000</vt:lpwstr>
  </property>
</Properties>
</file>