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C5B-57C1-4545-A37E-4B54AB97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7D6-3031-4DED-8C84-F961CC43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CC1-48C5-4848-B020-9FD45558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DA7-C0C9-4D88-A26D-03B311D3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902-65E3-4E39-A22D-74561C03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62B3-49C8-4F7A-92F9-755881A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FBCA-DB2E-4FBD-9466-2D32316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EC23-6C59-4F72-9375-08A33F7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8B1-254E-48FD-8D20-798AD76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D79-C7F4-4B01-B634-3C775CD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1886-7CC4-4F5D-A28C-26BE0A2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80E-C439-4528-BC43-2BF62C1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A3A2-DC52-4A35-BED4-61EC246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B2A1-8556-47EF-98F9-38AAEC2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BC0B-6165-4008-AC8B-3F9D02D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2DA5-707E-4DAF-88C0-036CE232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E42-1B3F-4CB9-BBB7-5613EA41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FBB-ED83-48F2-8516-7F5F92EA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A81-BE76-4B0A-987E-EEF8A4C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BDB-2077-4E1B-AEBB-30BC8B6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25F-2261-460F-9F13-44D2957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182-09E8-4A42-B4AC-F6D7E480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B82-3686-4471-9087-7A67648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973-5BAA-4243-A736-3C0CA92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255-2463-4C12-B188-8549405FCAE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2FE-44EB-4933-9F7F-CB9DC8B0E3B8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057400"/>
            <a:ext cx="80726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5400"/>
            </a:b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Андрей</cp:lastModifiedBy>
  <dcterms:modified xsi:type="dcterms:W3CDTF">2022-08-22T11:29:53Z</dcterms:modified>
  <cp:revision>66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