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16F6-DD40-4544-B37F-B3735199B0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5D0E-1C49-4C39-8DE1-149362321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7B9-FE60-4946-B0B5-B89CDDA4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608-8BC3-4D94-8E3D-551C8DA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564-B1F2-42A1-A220-C9150BF9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DF0-63DB-41C1-A1DD-95D1229E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D9A4-8441-4EF2-A912-13048E7A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787E-AF40-4859-A081-EF26C961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B896-54DF-4C24-9849-2D7AE172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CA50-2B61-4B06-9627-6603EBC3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59A7-59BB-4786-B1FC-4779CD7A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B2BE-10BE-4E4C-9AFF-32541D33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B49E-76E9-4F9A-903E-93AADAC8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362-6FEA-4E6D-B955-48F80500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AC19-EC18-414F-8238-0CE133B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BFBF-5374-4089-8E28-EDE73EA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C5F9-A4F4-4544-B980-496EDAEA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AA56-AB0E-4B97-A1A3-70D44C40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35C1-913E-44CE-88BD-47E4B9EF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923-1E18-4F1C-A9C0-9F2F789F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00F-2A0D-45E5-9235-FAFC5CFD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26E-8774-413E-B558-BB92C2EA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4BC-D83C-4864-90ED-C92116B2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FC8-ABF2-49C9-A9FA-664E9B8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B93-8F2E-4296-9BB0-3D9BB01E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A641-6199-42FE-8411-D4AB5317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EBB3-5333-4E8F-9E7D-D836596B0F0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D451-BD70-46C4-A9EB-4EF2676809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1835280" y="620640"/>
            <a:ext cx="54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http://r16.imgfast.net/users/1611/14/69/36/smiles/102521.gif"/>
          <p:cNvPicPr/>
          <p:nvPr/>
        </p:nvPicPr>
        <p:blipFill>
          <a:blip r:embed="rId3"/>
          <a:stretch/>
        </p:blipFill>
        <p:spPr>
          <a:xfrm>
            <a:off x="2592360" y="4186080"/>
            <a:ext cx="4356000" cy="24670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https://ds04.infourok.ru/uploads/ex/127f/000d0ace-5188176f/hello_html_m74579288.jpg"/>
          <p:cNvPicPr/>
          <p:nvPr/>
        </p:nvPicPr>
        <p:blipFill>
          <a:blip r:embed="rId4"/>
          <a:stretch/>
        </p:blipFill>
        <p:spPr>
          <a:xfrm>
            <a:off x="1889280" y="150840"/>
            <a:ext cx="5760720" cy="440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1692360" y="62064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 Black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484360" y="191628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6 (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8 (б,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49 (б,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0 (б,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№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1 (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6"/>
          <p:cNvSpPr/>
          <p:nvPr/>
        </p:nvSpPr>
        <p:spPr>
          <a:xfrm>
            <a:off x="1835280" y="62064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1692360" y="1844640"/>
            <a:ext cx="54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№</a:t>
            </a: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268 (ж-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№</a:t>
            </a: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271 (а-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83528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971640" y="773280"/>
            <a:ext cx="7561080" cy="41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Определите степень многочл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х⁴-5х+7х⁵-8х³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Представить многочлен в стандартном ви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 х² + х⁵ + 3х² - 4 + 8х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) х + 2 + (3х-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10х - (х+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6"/>
          <p:cNvSpPr/>
          <p:nvPr/>
        </p:nvSpPr>
        <p:spPr>
          <a:xfrm>
            <a:off x="183528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971640" y="1125360"/>
            <a:ext cx="7200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Найди ошиб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) (2х+3) + (4х-8) = 2х+3 +4х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) (3х+4) - (4х-3) = 3х+4+4х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) -(1-2х) + (1-х) = -1+2х+1-х = 2+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) (6х+2) - (3х-1) = 6х+2-3х-1 = 9х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)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3х³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2х²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+7 +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2х³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+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5х²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8 = 8х²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C:\Documents and Settings\home\Мои документы\Загрузки\TS101908700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826920" y="11253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 Black"/>
              </a:rPr>
              <a:t>Сложение и вычитание многочле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197964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Проверь у сос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1116000" y="1535400"/>
            <a:ext cx="266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)  - а +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) –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) 2а + 2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373720" y="161316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вари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)  6х – 3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)   3х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) 3а + 3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425600" y="3619440"/>
          <a:ext cx="6292800" cy="490680"/>
        </p:xfrm>
        <a:graphic>
          <a:graphicData uri="http://schemas.openxmlformats.org/drawingml/2006/table">
            <a:tbl>
              <a:tblPr/>
              <a:tblGrid>
                <a:gridCol w="571320"/>
                <a:gridCol w="573120"/>
                <a:gridCol w="571680"/>
                <a:gridCol w="571320"/>
                <a:gridCol w="571680"/>
                <a:gridCol w="573120"/>
                <a:gridCol w="571320"/>
                <a:gridCol w="573120"/>
                <a:gridCol w="571680"/>
                <a:gridCol w="571320"/>
                <a:gridCol w="573120"/>
              </a:tblGrid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6160" y="6926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183528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Работа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046160" y="198972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1046160" y="34293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40000" y="4003560"/>
          <a:ext cx="5773680" cy="53352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160"/>
                <a:gridCol w="641520"/>
                <a:gridCol w="641160"/>
                <a:gridCol w="641520"/>
                <a:gridCol w="642960"/>
              </a:tblGrid>
              <a:tr h="5335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654200" y="1397160"/>
          <a:ext cx="5130720" cy="53316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520"/>
                <a:gridCol w="641160"/>
                <a:gridCol w="641520"/>
                <a:gridCol w="641160"/>
              </a:tblGrid>
              <a:tr h="5331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654200" y="2644920"/>
          <a:ext cx="5130720" cy="53316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520"/>
                <a:gridCol w="641160"/>
                <a:gridCol w="641520"/>
                <a:gridCol w="641160"/>
              </a:tblGrid>
              <a:tr h="5331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25600" y="3619440"/>
          <a:ext cx="6292800" cy="490680"/>
        </p:xfrm>
        <a:graphic>
          <a:graphicData uri="http://schemas.openxmlformats.org/drawingml/2006/table">
            <a:tbl>
              <a:tblPr/>
              <a:tblGrid>
                <a:gridCol w="571320"/>
                <a:gridCol w="573120"/>
                <a:gridCol w="571680"/>
                <a:gridCol w="571320"/>
                <a:gridCol w="571680"/>
                <a:gridCol w="573120"/>
                <a:gridCol w="571320"/>
                <a:gridCol w="573120"/>
                <a:gridCol w="571680"/>
                <a:gridCol w="571320"/>
                <a:gridCol w="573120"/>
              </a:tblGrid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1046160" y="6926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183528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Работа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1046160" y="198972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046160" y="342936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групп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16000" y="4005360"/>
          <a:ext cx="5773680" cy="53316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520"/>
                <a:gridCol w="641160"/>
                <a:gridCol w="641520"/>
                <a:gridCol w="641160"/>
                <a:gridCol w="642960"/>
              </a:tblGrid>
              <a:tr h="5331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401840" y="1346040"/>
          <a:ext cx="5130720" cy="53352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160"/>
                <a:gridCol w="641520"/>
                <a:gridCol w="641160"/>
                <a:gridCol w="641520"/>
              </a:tblGrid>
              <a:tr h="5335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36760" y="2643120"/>
          <a:ext cx="5130720" cy="533520"/>
        </p:xfrm>
        <a:graphic>
          <a:graphicData uri="http://schemas.openxmlformats.org/drawingml/2006/table">
            <a:tbl>
              <a:tblPr/>
              <a:tblGrid>
                <a:gridCol w="639720"/>
                <a:gridCol w="642960"/>
                <a:gridCol w="639720"/>
                <a:gridCol w="642960"/>
                <a:gridCol w="641160"/>
                <a:gridCol w="641520"/>
                <a:gridCol w="641160"/>
                <a:gridCol w="641520"/>
              </a:tblGrid>
              <a:tr h="5335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792520" y="3252960"/>
          <a:ext cx="3558960" cy="1226880"/>
        </p:xfrm>
        <a:graphic>
          <a:graphicData uri="http://schemas.openxmlformats.org/drawingml/2006/table">
            <a:tbl>
              <a:tblPr/>
              <a:tblGrid>
                <a:gridCol w="1689120"/>
                <a:gridCol w="1869840"/>
              </a:tblGrid>
              <a:tr h="24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зад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28" descr="C:\Documents and Settings\home\Мои документы\Загрузки\Итоги работы школы за 2009\Итоги работы школы за 2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1835280" y="189000"/>
            <a:ext cx="54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C:\Documents and Settings\home\Мои документы\Мои рисунки\Организатор клипов (Microsoft)\j0428071.wmf"/>
          <p:cNvPicPr/>
          <p:nvPr/>
        </p:nvPicPr>
        <p:blipFill>
          <a:blip r:embed="rId2"/>
          <a:stretch/>
        </p:blipFill>
        <p:spPr>
          <a:xfrm>
            <a:off x="1763640" y="5157720"/>
            <a:ext cx="1800360" cy="1436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C:\Documents and Settings\home\Мои документы\Мои рисунки\Организатор клипов (Microsoft)\j0434411.wmf"/>
          <p:cNvPicPr/>
          <p:nvPr/>
        </p:nvPicPr>
        <p:blipFill>
          <a:blip r:embed="rId3"/>
          <a:stretch/>
        </p:blipFill>
        <p:spPr>
          <a:xfrm>
            <a:off x="6227640" y="5589720"/>
            <a:ext cx="1073160" cy="101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116000" y="1628640"/>
          <a:ext cx="2879640" cy="2806920"/>
        </p:xfrm>
        <a:graphic>
          <a:graphicData uri="http://schemas.openxmlformats.org/drawingml/2006/table">
            <a:tbl>
              <a:tblPr/>
              <a:tblGrid>
                <a:gridCol w="1366920"/>
                <a:gridCol w="1512720"/>
              </a:tblGrid>
              <a:tr h="703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2"/>
          <p:cNvSpPr/>
          <p:nvPr/>
        </p:nvSpPr>
        <p:spPr>
          <a:xfrm>
            <a:off x="1911600" y="10530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6664320" y="105300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1628640"/>
          <a:ext cx="2880000" cy="2803680"/>
        </p:xfrm>
        <a:graphic>
          <a:graphicData uri="http://schemas.openxmlformats.org/drawingml/2006/table">
            <a:tbl>
              <a:tblPr/>
              <a:tblGrid>
                <a:gridCol w="1366920"/>
                <a:gridCol w="1513080"/>
              </a:tblGrid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6" name="Picture 10" descr="http://r16.imgfast.net/users/1611/14/69/36/smiles/102521.gif"/>
          <p:cNvPicPr/>
          <p:nvPr/>
        </p:nvPicPr>
        <p:blipFill>
          <a:blip r:embed="rId4"/>
          <a:stretch/>
        </p:blipFill>
        <p:spPr>
          <a:xfrm>
            <a:off x="4356000" y="5157720"/>
            <a:ext cx="1224000" cy="135432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4124160" y="47419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5:49:21Z</dcterms:created>
  <dc:creator>206-792-232</dc:creator>
  <dc:description/>
  <dc:language>en-US</dc:language>
  <cp:lastModifiedBy>Пользователь</cp:lastModifiedBy>
  <dcterms:modified xsi:type="dcterms:W3CDTF">2020-11-22T12:23:58Z</dcterms:modified>
  <cp:revision>195</cp:revision>
  <dc:subject>Презентация 1</dc:subject>
  <dc:title>Фестиваль педагогических идей  «Открытый урок» </dc:title>
</cp:coreProperties>
</file>