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F0BA-E908-4EC8-B82A-F6B60F8E49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FC7E-AB02-4F04-A8EE-81CF32FAB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701-5C66-4048-86FB-5D285C2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996-723F-4D3C-B5E3-BA0BF484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881-3CFB-4C80-86AB-B99F3586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68F-FE1E-4028-A6BB-367D3CF7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C41B-B1F6-4A1E-8597-6EA73F24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1DD-D310-4439-9AD6-304DDBD9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1288-F45A-4DA6-9E89-13BF54D6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0C1F-F4C7-4B88-B9DF-9CC1E06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56DB-9A74-4F6D-AA85-124335B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BD6A-481D-4B4A-B4E5-C526E3A7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9AD4-AB53-4FFB-8F4A-3512E0FF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300-C87C-4B04-A9D8-EA744DC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7C38-0142-4997-9077-48911BA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196D-0CB7-4195-88E3-2CF2B8B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2862-E6B8-46DA-A30B-3F7549B6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E4D7-4CC7-4FAA-A902-F2EE0A67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1F1F-8DEA-4B4B-9A29-FB52E946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014-AFDC-4E92-8312-B46DBEAB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928-2B19-46AB-8208-7C6E3872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B40-C43D-4962-8D1B-D4B5FE68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6E6-3D74-4A71-AB8B-230142E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440-FECE-4B02-AC9E-CE75F5B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A2D-544F-4471-A1C0-9C416CC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EA7-61B0-4C9A-89B5-A4AACF75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8A42-1FC0-4604-801C-1388EB93D1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56C4-92F8-459A-B860-48178A48F4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1835280" y="620640"/>
            <a:ext cx="54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http://r16.imgfast.net/users/1611/14/69/36/smiles/102521.gif"/>
          <p:cNvPicPr/>
          <p:nvPr/>
        </p:nvPicPr>
        <p:blipFill>
          <a:blip r:embed="rId3"/>
          <a:stretch/>
        </p:blipFill>
        <p:spPr>
          <a:xfrm>
            <a:off x="2592360" y="4186080"/>
            <a:ext cx="4356000" cy="24670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https://ds04.infourok.ru/uploads/ex/127f/000d0ace-5188176f/hello_html_m74579288.jpg"/>
          <p:cNvPicPr/>
          <p:nvPr/>
        </p:nvPicPr>
        <p:blipFill>
          <a:blip r:embed="rId4"/>
          <a:stretch/>
        </p:blipFill>
        <p:spPr>
          <a:xfrm>
            <a:off x="1889280" y="150840"/>
            <a:ext cx="5760720" cy="440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1692360" y="62064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 Black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484360" y="1916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6 (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8 (б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9 (б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0 (б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1 (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835280" y="62064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692360" y="1844640"/>
            <a:ext cx="54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№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268 (ж-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№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271 (а-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971640" y="773280"/>
            <a:ext cx="7561080" cy="41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Определите степень многочл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⁴-5х+7х⁵-8х³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редставить многочлен в стандартном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х² + х⁵ + 3х² - 4 + 8х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 х + 2 + (3х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10х - (х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971640" y="1125360"/>
            <a:ext cx="7200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(2х+3) + (4х-8) = 2х+3 +4х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 (3х+4) - (4х-3) = 3х+4+4х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-(1-2х) + (1-х) = -1+2х+1-х = 2+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(6х+2) - (3х-1) = 6х+2-3х-1 = 9х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х³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х²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7 +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х³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5х²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8 = 8х²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826920" y="1125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ожение и вычитание многочле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197964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роверь у со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116000" y="1535400"/>
            <a:ext cx="26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 - а +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–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) 2а + 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73720" y="161316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 6х – 3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)   3х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) 3а + 3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25600" y="3619440"/>
          <a:ext cx="6292800" cy="490680"/>
        </p:xfrm>
        <a:graphic>
          <a:graphicData uri="http://schemas.openxmlformats.org/drawingml/2006/table">
            <a:tbl>
              <a:tblPr/>
              <a:tblGrid>
                <a:gridCol w="571320"/>
                <a:gridCol w="573120"/>
                <a:gridCol w="571680"/>
                <a:gridCol w="571320"/>
                <a:gridCol w="571680"/>
                <a:gridCol w="573120"/>
                <a:gridCol w="571320"/>
                <a:gridCol w="573120"/>
                <a:gridCol w="571680"/>
                <a:gridCol w="571320"/>
                <a:gridCol w="57312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6160" y="6926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046160" y="19897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046160" y="34293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0000" y="4003560"/>
          <a:ext cx="5773680" cy="53352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160"/>
                <a:gridCol w="641520"/>
                <a:gridCol w="641160"/>
                <a:gridCol w="641520"/>
                <a:gridCol w="642960"/>
              </a:tblGrid>
              <a:tr h="5335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54200" y="1397160"/>
          <a:ext cx="5130720" cy="53316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520"/>
                <a:gridCol w="641160"/>
                <a:gridCol w="641520"/>
                <a:gridCol w="641160"/>
              </a:tblGrid>
              <a:tr h="533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654200" y="2644920"/>
          <a:ext cx="5130720" cy="53316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520"/>
                <a:gridCol w="641160"/>
                <a:gridCol w="641520"/>
                <a:gridCol w="641160"/>
              </a:tblGrid>
              <a:tr h="533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25600" y="3619440"/>
          <a:ext cx="6292800" cy="490680"/>
        </p:xfrm>
        <a:graphic>
          <a:graphicData uri="http://schemas.openxmlformats.org/drawingml/2006/table">
            <a:tbl>
              <a:tblPr/>
              <a:tblGrid>
                <a:gridCol w="571320"/>
                <a:gridCol w="573120"/>
                <a:gridCol w="571680"/>
                <a:gridCol w="571320"/>
                <a:gridCol w="571680"/>
                <a:gridCol w="573120"/>
                <a:gridCol w="571320"/>
                <a:gridCol w="573120"/>
                <a:gridCol w="571680"/>
                <a:gridCol w="571320"/>
                <a:gridCol w="57312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046160" y="6926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046160" y="19897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046160" y="34293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4005360"/>
          <a:ext cx="5773680" cy="53316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520"/>
                <a:gridCol w="641160"/>
                <a:gridCol w="641520"/>
                <a:gridCol w="641160"/>
                <a:gridCol w="642960"/>
              </a:tblGrid>
              <a:tr h="533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01840" y="1346040"/>
          <a:ext cx="5130720" cy="53352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160"/>
                <a:gridCol w="641520"/>
                <a:gridCol w="641160"/>
                <a:gridCol w="641520"/>
              </a:tblGrid>
              <a:tr h="5335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36760" y="2643120"/>
          <a:ext cx="5130720" cy="53352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160"/>
                <a:gridCol w="641520"/>
                <a:gridCol w="641160"/>
                <a:gridCol w="641520"/>
              </a:tblGrid>
              <a:tr h="5335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92520" y="3252960"/>
          <a:ext cx="3558960" cy="1226880"/>
        </p:xfrm>
        <a:graphic>
          <a:graphicData uri="http://schemas.openxmlformats.org/drawingml/2006/table">
            <a:tbl>
              <a:tblPr/>
              <a:tblGrid>
                <a:gridCol w="1689120"/>
                <a:gridCol w="186984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C:\Documents and Settings\home\Мои документы\Мои рисунки\Организатор клипов (Microsoft)\j0428071.wmf"/>
          <p:cNvPicPr/>
          <p:nvPr/>
        </p:nvPicPr>
        <p:blipFill>
          <a:blip r:embed="rId2"/>
          <a:stretch/>
        </p:blipFill>
        <p:spPr>
          <a:xfrm>
            <a:off x="1763640" y="5157720"/>
            <a:ext cx="1800360" cy="1436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C:\Documents and Settings\home\Мои документы\Мои рисунки\Организатор клипов (Microsoft)\j0434411.wmf"/>
          <p:cNvPicPr/>
          <p:nvPr/>
        </p:nvPicPr>
        <p:blipFill>
          <a:blip r:embed="rId3"/>
          <a:stretch/>
        </p:blipFill>
        <p:spPr>
          <a:xfrm>
            <a:off x="6227640" y="5589720"/>
            <a:ext cx="1073160" cy="101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116000" y="1628640"/>
          <a:ext cx="2879640" cy="2806920"/>
        </p:xfrm>
        <a:graphic>
          <a:graphicData uri="http://schemas.openxmlformats.org/drawingml/2006/table">
            <a:tbl>
              <a:tblPr/>
              <a:tblGrid>
                <a:gridCol w="1366920"/>
                <a:gridCol w="1512720"/>
              </a:tblGrid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2"/>
          <p:cNvSpPr/>
          <p:nvPr/>
        </p:nvSpPr>
        <p:spPr>
          <a:xfrm>
            <a:off x="1911600" y="10530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6664320" y="10530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1628640"/>
          <a:ext cx="2880000" cy="280368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10" descr="http://r16.imgfast.net/users/1611/14/69/36/smiles/102521.gif"/>
          <p:cNvPicPr/>
          <p:nvPr/>
        </p:nvPicPr>
        <p:blipFill>
          <a:blip r:embed="rId4"/>
          <a:stretch/>
        </p:blipFill>
        <p:spPr>
          <a:xfrm>
            <a:off x="4356000" y="5157720"/>
            <a:ext cx="1224000" cy="1354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4124160" y="47419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5:49:21Z</dcterms:created>
  <dc:creator>206-792-232</dc:creator>
  <dc:description/>
  <dc:language>en-US</dc:language>
  <cp:lastModifiedBy>Пользователь</cp:lastModifiedBy>
  <dcterms:modified xsi:type="dcterms:W3CDTF">2020-11-22T12:23:58Z</dcterms:modified>
  <cp:revision>195</cp:revision>
  <dc:subject>Презентация 1</dc:subject>
  <dc:title>Фестиваль педагогических идей  «Открытый урок» </dc:title>
</cp:coreProperties>
</file>