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8.gif" ContentType="image/gif"/>
  <Override PartName="/ppt/media/image18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FAD-7A8F-4081-B3C3-8D5C4935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215-537B-469F-8E6F-C47405AF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22D-B603-460D-9F3E-1C04649E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805-14EB-4127-B3C7-2BCAEDC7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EBA8-7E10-48DC-9E17-4C33FDB1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26A9-08C7-4761-8C95-887C3BAE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3D00-DD1C-4507-B017-FB5AF77E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E611-5F77-48D8-B476-C22AE36F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4757-1A83-44A9-B2EE-9DA6B5EB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0B24-54E9-4509-95B6-F0A31FAF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D22B-11C0-450C-A9F2-78203190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A77-E365-4C6B-834D-A6231B60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886E-0EA2-4F97-A22F-F62C9B59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6233-BCB2-4D1C-B4CA-2E6A3155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B226-04A6-4051-81E1-F2230B6D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C479-C629-443F-A01E-2D62AB07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CDC9-0241-4921-A123-0A869C90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E2F1E-5621-4B61-B514-B3F18A13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65DE7-8A2D-4C1A-8A2B-16FC7350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1EFE6-D2C4-43D3-BA9E-D2DDBC05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6F178-786C-4A8B-87AB-2DBCFC90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2809-4707-49B5-97D9-13EB344C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ABC-09D3-436F-BDC9-8B590EA9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ED6C-631B-4738-9FFE-B0317274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F7956-2AA9-4F50-ABC1-38AC0266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4233-8684-4AED-BA60-DA218097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FD6F1-B894-488D-99BB-64C94CFE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33EDC-B676-4E58-B9D7-39EB8BA0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FD096-BF7E-4454-9077-13B7681D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BE96-1BFC-4485-9E38-9622C059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99D-5C1B-4CB9-A430-BE69C777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4E5-E9A5-4E61-902D-8EB34CAF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808-3098-44FC-95EB-F13FE6E9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06E-7FE2-4068-9646-4B56BBAB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124-1BED-4C03-ACF2-F37D7380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B740-ED05-4D1A-9CAD-6B9FC606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39B4C8E-B535-4081-A20A-4EF7BB3D84D3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8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40E2D77-2D76-4E35-9050-3C7084FBCD05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62F731B-2B75-444C-905C-CD2A48145754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51640" y="1266120"/>
            <a:ext cx="8799480" cy="2802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ПРОГРАМ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ПО ПРОФИЛАКТИКЕ СУИЦИДАЛЬНОГО ПОВЕДЕНИЯ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2" descr="10-28"/>
          <p:cNvPicPr/>
          <p:nvPr/>
        </p:nvPicPr>
        <p:blipFill>
          <a:blip r:embed="rId1"/>
          <a:stretch/>
        </p:blipFill>
        <p:spPr>
          <a:xfrm>
            <a:off x="755640" y="4005000"/>
            <a:ext cx="3795120" cy="226188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5004000" y="4539240"/>
            <a:ext cx="345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114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Никитина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4572000" y="3213000"/>
            <a:ext cx="457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539640" y="941400"/>
            <a:ext cx="8028000" cy="3502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 програм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щи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ическое сообще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альные партнеры – ЦРБ, ЦВР, Соц.защ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0" y="536040"/>
            <a:ext cx="8964000" cy="520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учителя и классного руководите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ор адекватных средств и методов обучения и восп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дивидуальный подход к обучению и воспита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эффективного психологического климата в кла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ияние на микросоциум (коллектив класса, учебной групп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вещение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тивация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заимодействие с семьё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4" descr="Факторы суицидального риска"/>
          <p:cNvPicPr/>
          <p:nvPr/>
        </p:nvPicPr>
        <p:blipFill>
          <a:blip r:embed="rId1"/>
          <a:stretch/>
        </p:blipFill>
        <p:spPr>
          <a:xfrm>
            <a:off x="0" y="0"/>
            <a:ext cx="9143640" cy="6741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467640" y="276840"/>
            <a:ext cx="8496720" cy="594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необходимых условий для занятий ребё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условий для оздоровления ребё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морали, социальных установ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мотив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дача культурной тради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заимодействие с учителями в проблемных ситуа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ияние на психологические внутришкольные фак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323640" y="32760"/>
            <a:ext cx="7632360" cy="667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в сохранении и укреплении собственного здоровья у самих учащих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собственной мотивации к здоровью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привычки соблюдать гигиенические правила и норм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учебного материала и соотнесение его с собственным опыто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целенность на поиск позитивного выхода в проблемных ситуац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323640" y="260640"/>
            <a:ext cx="83527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а включает в себ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Внутренние суицидальные проя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Внешним формы суицидного п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Какие черты имеет суицид подрос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Синдромы поведения подростков, указывающие на готовность к суиц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Внешние обстоятельства суицидального подрос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Содержание основных понят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.Учащиеся и выпускники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олжны знать; должны уметь;  должны им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. Система программных мероприятий (для педагогов, родителей, корре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icture 4"/>
          <p:cNvSpPr/>
          <p:nvPr/>
        </p:nvSpPr>
        <p:spPr>
          <a:xfrm>
            <a:off x="179280" y="1916280"/>
            <a:ext cx="3024000" cy="35287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28575">
            <a:solidFill>
              <a:srgbClr val="c00000"/>
            </a:solidFill>
            <a:round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14200" y="0"/>
            <a:ext cx="3357360" cy="2923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Жизнь прекрас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            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3204000" y="357120"/>
            <a:ext cx="6082560" cy="557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Жизнь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–это шан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 упусти   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Жизнь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– это меч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осуществи её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Жизнь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–это любов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к люб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Жизнь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–это дол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исполни 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Жизнь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–это счасть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сотвори его с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334440" y="5572080"/>
            <a:ext cx="4500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Не уничтожай её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5"/>
          <p:cNvSpPr/>
          <p:nvPr/>
        </p:nvSpPr>
        <p:spPr>
          <a:xfrm>
            <a:off x="4546800" y="357120"/>
            <a:ext cx="18432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214200" y="142920"/>
            <a:ext cx="86436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212745"/>
                </a:solidFill>
                <a:latin typeface="Trebuchet MS"/>
              </a:rPr>
              <a:t>Суици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ru-RU" sz="6000" spc="-1" strike="noStrike">
                <a:solidFill>
                  <a:srgbClr val="212745"/>
                </a:solidFill>
                <a:latin typeface="Trebuchet MS"/>
              </a:rPr>
              <a:t>в подростковой сред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Рисунок 7"/>
          <p:cNvSpPr/>
          <p:nvPr/>
        </p:nvSpPr>
        <p:spPr>
          <a:xfrm>
            <a:off x="1453320" y="3141000"/>
            <a:ext cx="5803200" cy="3384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19050">
            <a:solidFill>
              <a:srgbClr val="4e67c8">
                <a:lumMod val="75000"/>
              </a:srgbClr>
            </a:solidFill>
            <a:round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214200" y="142920"/>
            <a:ext cx="8357760" cy="289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уицид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умышленное лишение себя жизни, совершаемое человеком в состоянии сильного душевного расстройства, когда  собственная жизнь утрачивает для человека смы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Рисунок 4"/>
          <p:cNvSpPr/>
          <p:nvPr/>
        </p:nvSpPr>
        <p:spPr>
          <a:xfrm>
            <a:off x="1727280" y="2133000"/>
            <a:ext cx="5689080" cy="3960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icture 5"/>
          <p:cNvSpPr/>
          <p:nvPr/>
        </p:nvSpPr>
        <p:spPr>
          <a:xfrm>
            <a:off x="250920" y="1268280"/>
            <a:ext cx="3938400" cy="33112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002060"/>
            </a:solidFill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356000" y="333360"/>
            <a:ext cx="4679640" cy="572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 официальной статистике, каждый год совершают самоуби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1 100 000 человек 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реди ни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350 тысяч китайце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10 тысяч индус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55 тысяч рус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31 тысяча американ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30 тысяч япон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2 тысяч украин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0 тысяч французов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467640" y="154080"/>
            <a:ext cx="8208720" cy="654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ание для создания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 программы по профилактике суицида в школе, является актуальной для  общеобразовательных учреждений, так как в последнее время участились суицидальные случаи со школь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граммы направл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явление подростков с суицидальным поведение, отношения их к своему здоровью и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000" spc="-1" strike="noStrike">
                <a:solidFill>
                  <a:srgbClr val="7030a0"/>
                </a:solidFill>
                <a:latin typeface="Georgia"/>
              </a:rPr>
              <a:t>Чаще подвержены: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13440" cy="56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88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подростки, которые по тем или иным причинам считают себя виновными в проблемах близких людей;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девочки – подростки, имеющие межличностные любовные конфликты;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подростки, страдающие тяжелыми соматическими или психическими заболеваниями;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подростки с повышенной тревожностью, зацикленные на негативных эмоциях.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3"/>
          <p:cNvSpPr/>
          <p:nvPr/>
        </p:nvSpPr>
        <p:spPr>
          <a:xfrm>
            <a:off x="395640" y="404640"/>
            <a:ext cx="78498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и для кого не секрет, что поведением отдельного человека можно управлять. Чем выше интеллект и моральные принципы, воспитанные с детства, тем устойчивее он к подобному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действ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D:\Анимашки\мужчина (3).gif"/>
          <p:cNvPicPr/>
          <p:nvPr/>
        </p:nvPicPr>
        <p:blipFill>
          <a:blip r:embed="rId1"/>
          <a:stretch/>
        </p:blipFill>
        <p:spPr>
          <a:xfrm>
            <a:off x="0" y="3754440"/>
            <a:ext cx="3275640" cy="3103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D:\КАРТИНЫ!\ЛЮД\МУЖЧИНЫ\КАРТ,МУЖ\126546323147662.jpg"/>
          <p:cNvPicPr/>
          <p:nvPr/>
        </p:nvPicPr>
        <p:blipFill>
          <a:blip r:embed="rId2"/>
          <a:stretch/>
        </p:blipFill>
        <p:spPr>
          <a:xfrm>
            <a:off x="6300360" y="3534120"/>
            <a:ext cx="2843280" cy="332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251640" y="764640"/>
            <a:ext cx="81568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которые болезненные суицид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ояния у молодых обостряются п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ем достижений цивилиза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телевидение, компьюте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оянные стрессы, связанные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яжелой учебой, работой, контакт с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й техникой, отравления сол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яжелых металлов, радиацио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ражения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323640" y="260640"/>
            <a:ext cx="882000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мочь же таким людям выжить могут прежде всего те, кто их окружает. Человек, который пошел на самоубийств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сомненн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здор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нимание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р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кружающих могу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асти ему жиз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 этом след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мнить всем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D:\КАРТИНЫ!\природа\животные\Рисунок5.jpg"/>
          <p:cNvPicPr/>
          <p:nvPr/>
        </p:nvPicPr>
        <p:blipFill>
          <a:blip r:embed="rId1"/>
          <a:stretch/>
        </p:blipFill>
        <p:spPr>
          <a:xfrm>
            <a:off x="5076000" y="2125080"/>
            <a:ext cx="309600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4"/>
          <p:cNvSpPr/>
          <p:nvPr/>
        </p:nvSpPr>
        <p:spPr>
          <a:xfrm>
            <a:off x="2714760" y="428760"/>
            <a:ext cx="3239640" cy="1079280"/>
          </a:xfrm>
          <a:prstGeom prst="ellipse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492360" y="765000"/>
            <a:ext cx="17935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cc3300"/>
                </a:solidFill>
                <a:latin typeface="Georgia"/>
              </a:rPr>
              <a:t>Суиц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 rot="2100600">
            <a:off x="2050920" y="1636560"/>
            <a:ext cx="274320" cy="2015640"/>
          </a:xfrm>
          <a:prstGeom prst="downArrow">
            <a:avLst>
              <a:gd name="adj1" fmla="val 50000"/>
              <a:gd name="adj2" fmla="val 32423"/>
            </a:avLst>
          </a:prstGeom>
          <a:solidFill>
            <a:schemeClr val="accent1">
              <a:lumMod val="40000"/>
              <a:lumOff val="6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4357800" y="1714680"/>
            <a:ext cx="285480" cy="1714320"/>
          </a:xfrm>
          <a:prstGeom prst="downArrow">
            <a:avLst>
              <a:gd name="adj1" fmla="val 50000"/>
              <a:gd name="adj2" fmla="val 27611"/>
            </a:avLst>
          </a:prstGeom>
          <a:solidFill>
            <a:schemeClr val="accent1">
              <a:lumMod val="40000"/>
              <a:lumOff val="6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AutoShape 8"/>
          <p:cNvSpPr/>
          <p:nvPr/>
        </p:nvSpPr>
        <p:spPr>
          <a:xfrm rot="19812000">
            <a:off x="6364080" y="1579680"/>
            <a:ext cx="221760" cy="1947600"/>
          </a:xfrm>
          <a:prstGeom prst="downArrow">
            <a:avLst>
              <a:gd name="adj1" fmla="val 65750"/>
              <a:gd name="adj2" fmla="val 29052"/>
            </a:avLst>
          </a:prstGeom>
          <a:solidFill>
            <a:schemeClr val="accent1">
              <a:lumMod val="40000"/>
              <a:lumOff val="6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142920" y="3571920"/>
            <a:ext cx="2160360" cy="1800000"/>
          </a:xfrm>
          <a:prstGeom prst="ellipse">
            <a:avLst/>
          </a:prstGeom>
          <a:solidFill>
            <a:schemeClr val="accent1">
              <a:lumMod val="40000"/>
              <a:lumOff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3492360" y="3500280"/>
            <a:ext cx="2158560" cy="1944360"/>
          </a:xfrm>
          <a:prstGeom prst="ellipse">
            <a:avLst/>
          </a:prstGeom>
          <a:solidFill>
            <a:schemeClr val="accent1">
              <a:lumMod val="40000"/>
              <a:lumOff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6715080" y="3571920"/>
            <a:ext cx="2160360" cy="1871280"/>
          </a:xfrm>
          <a:prstGeom prst="ellipse">
            <a:avLst/>
          </a:prstGeom>
          <a:solidFill>
            <a:schemeClr val="accent1">
              <a:lumMod val="40000"/>
              <a:lumOff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79280" y="4076640"/>
            <a:ext cx="2177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Исти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492360" y="4149720"/>
            <a:ext cx="223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Скры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6156360" y="4149720"/>
            <a:ext cx="298728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Демонс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601164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Истинный суицид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7238520" cy="43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29320" indent="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</a:rPr>
              <a:t>Никогда не бывает </a:t>
            </a:r>
            <a:endParaRPr b="0" lang="ru-RU" sz="4000" spc="-1" strike="noStrike">
              <a:solidFill>
                <a:srgbClr val="404040"/>
              </a:solidFill>
              <a:latin typeface="Trebuchet MS"/>
            </a:endParaRPr>
          </a:p>
          <a:p>
            <a:pPr marL="229320" indent="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</a:rPr>
              <a:t>спонтанным. Такому суициду всегда предшествуют угнетенное настроение, депрессивное состояние или просто мысли об уходе из жизни. Причем окружающие, даже самые близкие люди, нередко такого состояния человека не замечают. </a:t>
            </a:r>
            <a:endParaRPr b="0" lang="ru-RU" sz="4000" spc="-1" strike="noStrike">
              <a:solidFill>
                <a:srgbClr val="404040"/>
              </a:solidFill>
              <a:latin typeface="Trebuchet MS"/>
            </a:endParaRPr>
          </a:p>
          <a:p>
            <a:pPr marL="229320" indent="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86" name="Picture 3" descr="D:\КАРТИНЫ!\ЛЮД\МУЖЧИНЫ\КАРТ,МУЖ\avatar988.jpg"/>
          <p:cNvPicPr/>
          <p:nvPr/>
        </p:nvPicPr>
        <p:blipFill>
          <a:blip r:embed="rId1"/>
          <a:stretch/>
        </p:blipFill>
        <p:spPr>
          <a:xfrm>
            <a:off x="6291000" y="0"/>
            <a:ext cx="2852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Скрытый суицид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19640" cy="55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just">
              <a:lnSpc>
                <a:spcPct val="9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Georgia"/>
              </a:rPr>
              <a:t>  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авуалированное самоубийство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погибает от внешних сил, по большей части им же спровоцированных. Например,  рискованная езда на автомобиле,  занятия экстремальными видами спорта и даже алкогольная или наркотическая зависимость.  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сколько угодно можно твердить человеку о том, что все это опасно для жизни, как правило, именно этой опасности они жаждут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28584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Демонстративный суицид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340640"/>
            <a:ext cx="864216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0" algn="just">
              <a:lnSpc>
                <a:spcPct val="9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884eb8"/>
                </a:solidFill>
                <a:latin typeface="Trebuchet MS"/>
              </a:rPr>
              <a:t>   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84eb8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убийство, как способ привлечь внимание к своей личности, оказание давления на окружающих лиц с целью изменения конфликтной ситуации в благоприятную сторон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является в виде порезов вен, отравлении лекарствами, изображения повешания. 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ьшинство самоубийц, как правило, хотели вовсе не умереть - а только достучаться до кого-то, обратить внимание на свои проблемы, позвать на помощь. 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0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84040" indent="-284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Причины суицида среди подростков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607240" cy="52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Georgia"/>
              <a:buChar char="*"/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Проблемы и конфликты в семье (развод, насилие в семье, нарушения общения с близкими, семьей)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Georgia"/>
              <a:buChar char="*"/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Конфликты с друзьями, проблемы в  школе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Georgia"/>
              <a:buChar char="*"/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счастная любовь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Georgia"/>
              <a:buChar char="*"/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Страх перед будущим, одиночество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Georgia"/>
              <a:buChar char="*"/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Потеря смысла жизни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Georgia"/>
              <a:buChar char="*"/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Подражание кумирам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323640" y="1357200"/>
            <a:ext cx="8248680" cy="3929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изыв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 попросить помощ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ход от проблем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ерял надежду изменит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знь к лучш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Месть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пытка сделать больно другом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ку: «Они еще пожалею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амонаказание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енок решает, что он не заслуживает права жить. Желание облегчит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знь своей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Бегство от наказ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3000240" y="571680"/>
            <a:ext cx="3357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Моти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713160" y="991800"/>
            <a:ext cx="666540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ссия программ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ь “безопасному плаван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жизни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627640" y="3319560"/>
            <a:ext cx="5430600" cy="30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500040" y="1428840"/>
            <a:ext cx="7714800" cy="502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ловесные призна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о говорит о своем душевном          состоя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утит на тему самоубийства. Проявляет нездоровую заинтересованность вопросами смер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веденческие призна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884eb8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дение дел в поря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щ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монстрируют радикальные  перем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итуационные призна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884eb8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о изолиров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ет в нестабильном состоя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щущает себя жертвой насил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нес тяжелую потер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 flipV="1" rot="10800000">
            <a:off x="500400" y="212400"/>
            <a:ext cx="83577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Признаки готовящегося самоуби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выход всегда есть.jpg"/>
          <p:cNvPicPr/>
          <p:nvPr/>
        </p:nvPicPr>
        <p:blipFill>
          <a:blip r:embed="rId1"/>
          <a:stretch/>
        </p:blipFill>
        <p:spPr>
          <a:xfrm>
            <a:off x="1643040" y="1285920"/>
            <a:ext cx="5643360" cy="3928680"/>
          </a:xfrm>
          <a:prstGeom prst="rect">
            <a:avLst/>
          </a:prstGeom>
          <a:ln w="0">
            <a:solidFill>
              <a:srgbClr val="002060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98" name="TextBox 2"/>
          <p:cNvSpPr/>
          <p:nvPr/>
        </p:nvSpPr>
        <p:spPr>
          <a:xfrm>
            <a:off x="428760" y="5429160"/>
            <a:ext cx="82864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Сформировать у подростка четкую установ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«Из любой трудной жизненной ситуации можно найти вых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5"/>
          <p:cNvSpPr/>
          <p:nvPr/>
        </p:nvSpPr>
        <p:spPr>
          <a:xfrm>
            <a:off x="357120" y="214200"/>
            <a:ext cx="79293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5400" spc="-1" strike="noStrike">
              <a:solidFill>
                <a:srgbClr val="a3afff"/>
              </a:solidFill>
              <a:latin typeface="Trebuchet MS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500040" y="357120"/>
            <a:ext cx="7857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Как предотвратить суици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Рисунок 1"/>
          <p:cNvSpPr/>
          <p:nvPr/>
        </p:nvSpPr>
        <p:spPr>
          <a:xfrm>
            <a:off x="4500720" y="571680"/>
            <a:ext cx="4071600" cy="53575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28575">
            <a:solidFill>
              <a:srgbClr val="cc3300"/>
            </a:solidFill>
            <a:round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497880" y="1276200"/>
            <a:ext cx="3714480" cy="4111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спитывать у подростков позитивный взгляд на все аспекты жизни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2000160" y="1643040"/>
            <a:ext cx="450036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Вовлекать  подрост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в полезные виды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2" descr="пара.jpg"/>
          <p:cNvPicPr/>
          <p:nvPr/>
        </p:nvPicPr>
        <p:blipFill>
          <a:blip r:embed="rId1"/>
          <a:stretch/>
        </p:blipFill>
        <p:spPr>
          <a:xfrm>
            <a:off x="5572080" y="3286080"/>
            <a:ext cx="2928600" cy="3142800"/>
          </a:xfrm>
          <a:prstGeom prst="rect">
            <a:avLst/>
          </a:prstGeom>
          <a:ln cap="sq" w="88900">
            <a:solidFill>
              <a:srgbClr val="c0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05" name="Рисунок 4" descr="спорт.jpg"/>
          <p:cNvPicPr/>
          <p:nvPr/>
        </p:nvPicPr>
        <p:blipFill>
          <a:blip r:embed="rId2"/>
          <a:stretch/>
        </p:blipFill>
        <p:spPr>
          <a:xfrm>
            <a:off x="428760" y="3286080"/>
            <a:ext cx="3357360" cy="3142800"/>
          </a:xfrm>
          <a:prstGeom prst="rect">
            <a:avLst/>
          </a:prstGeom>
          <a:ln cap="sq" w="88900">
            <a:solidFill>
              <a:srgbClr val="92d05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06" name="Рисунок 5" descr="скрип ключ.jpeg"/>
          <p:cNvPicPr/>
          <p:nvPr/>
        </p:nvPicPr>
        <p:blipFill>
          <a:blip r:embed="rId3"/>
          <a:stretch/>
        </p:blipFill>
        <p:spPr>
          <a:xfrm>
            <a:off x="6286680" y="285840"/>
            <a:ext cx="2428560" cy="1999800"/>
          </a:xfrm>
          <a:prstGeom prst="rect">
            <a:avLst/>
          </a:prstGeom>
          <a:ln cap="sq" w="88900">
            <a:solidFill>
              <a:srgbClr val="ffff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07" name="Рисунок 6" descr="вышивка крестом.jpg"/>
          <p:cNvPicPr/>
          <p:nvPr/>
        </p:nvPicPr>
        <p:blipFill>
          <a:blip r:embed="rId4"/>
          <a:stretch/>
        </p:blipFill>
        <p:spPr>
          <a:xfrm>
            <a:off x="3500280" y="285840"/>
            <a:ext cx="1452240" cy="1428480"/>
          </a:xfrm>
          <a:prstGeom prst="rect">
            <a:avLst/>
          </a:prstGeom>
          <a:ln cap="sq" w="88900">
            <a:solidFill>
              <a:srgbClr val="c0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08" name="Рисунок 7" descr="иск жив.jpg"/>
          <p:cNvPicPr/>
          <p:nvPr/>
        </p:nvPicPr>
        <p:blipFill>
          <a:blip r:embed="rId5"/>
          <a:stretch/>
        </p:blipFill>
        <p:spPr>
          <a:xfrm>
            <a:off x="500040" y="285840"/>
            <a:ext cx="1642680" cy="2071440"/>
          </a:xfrm>
          <a:prstGeom prst="rect">
            <a:avLst/>
          </a:prstGeom>
          <a:ln cap="sq" w="88900">
            <a:solidFill>
              <a:srgbClr val="0070c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285840" y="714240"/>
            <a:ext cx="4214520" cy="478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Подросток должен помнить о  том, что в трудной жизненной ситуации он 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обратиться к людям, которым доверя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родителям, классному руководителю, психоло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3" descr="я выбир жизнь.jpg"/>
          <p:cNvPicPr/>
          <p:nvPr/>
        </p:nvPicPr>
        <p:blipFill>
          <a:blip r:embed="rId1"/>
          <a:stretch/>
        </p:blipFill>
        <p:spPr>
          <a:xfrm>
            <a:off x="4643280" y="1000080"/>
            <a:ext cx="3642840" cy="3857400"/>
          </a:xfrm>
          <a:prstGeom prst="rect">
            <a:avLst/>
          </a:prstGeom>
          <a:ln w="28575">
            <a:solidFill>
              <a:srgbClr val="00b050"/>
            </a:solidFill>
            <a:round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Админ\Pictures\2011-03-19\005.jpe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Рисунок 1"/>
          <p:cNvSpPr/>
          <p:nvPr/>
        </p:nvSpPr>
        <p:spPr>
          <a:xfrm>
            <a:off x="785880" y="1928880"/>
            <a:ext cx="2425320" cy="36572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19050">
            <a:solidFill>
              <a:srgbClr val="0000ff"/>
            </a:solidFill>
            <a:round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3492000" y="2928960"/>
            <a:ext cx="5294520" cy="338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262626"/>
                </a:solidFill>
                <a:latin typeface="Georgia"/>
              </a:rPr>
              <a:t>Гармоничные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262626"/>
                </a:solidFill>
                <a:latin typeface="Georgia"/>
              </a:rPr>
              <a:t>в семье, предполагающие создание и сохранение теплых и доверительных отношений с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Пра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«Глаза в  глаз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«Чудо прикосновения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«Безраздельное внима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3" descr="семья.jpg"/>
          <p:cNvPicPr/>
          <p:nvPr/>
        </p:nvPicPr>
        <p:blipFill>
          <a:blip r:embed="rId2"/>
          <a:stretch/>
        </p:blipFill>
        <p:spPr>
          <a:xfrm>
            <a:off x="4140000" y="0"/>
            <a:ext cx="4000320" cy="2714400"/>
          </a:xfrm>
          <a:prstGeom prst="rect">
            <a:avLst/>
          </a:prstGeom>
          <a:ln w="0">
            <a:solidFill>
              <a:srgbClr val="7030a0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15" name="TextBox 4"/>
          <p:cNvSpPr/>
          <p:nvPr/>
        </p:nvSpPr>
        <p:spPr>
          <a:xfrm>
            <a:off x="142920" y="500040"/>
            <a:ext cx="371448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Гармония в       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Users\Админ\Pictures\2011-03-19\003.jpeg"/>
          <p:cNvPicPr/>
          <p:nvPr/>
        </p:nvPicPr>
        <p:blipFill>
          <a:blip r:embed="rId1"/>
          <a:stretch/>
        </p:blipFill>
        <p:spPr>
          <a:xfrm>
            <a:off x="721080" y="-11520"/>
            <a:ext cx="70909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428760" y="2357280"/>
            <a:ext cx="792936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Работа по просвещ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2" descr="пон р.jpg"/>
          <p:cNvPicPr/>
          <p:nvPr/>
        </p:nvPicPr>
        <p:blipFill>
          <a:blip r:embed="rId1"/>
          <a:stretch/>
        </p:blipFill>
        <p:spPr>
          <a:xfrm>
            <a:off x="611640" y="214200"/>
            <a:ext cx="1602720" cy="2245680"/>
          </a:xfrm>
          <a:prstGeom prst="rect">
            <a:avLst/>
          </a:prstGeom>
          <a:ln w="0">
            <a:solidFill>
              <a:srgbClr val="00b050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19" name="Рисунок 3" descr="понять реб.jpg"/>
          <p:cNvPicPr/>
          <p:nvPr/>
        </p:nvPicPr>
        <p:blipFill>
          <a:blip r:embed="rId2"/>
          <a:stretch/>
        </p:blipFill>
        <p:spPr>
          <a:xfrm>
            <a:off x="6500880" y="3357000"/>
            <a:ext cx="2286000" cy="3048120"/>
          </a:xfrm>
          <a:prstGeom prst="rect">
            <a:avLst/>
          </a:prstGeom>
          <a:ln w="0">
            <a:solidFill>
              <a:srgbClr val="002060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20" name="Рисунок 4" descr="понять.jpg"/>
          <p:cNvPicPr/>
          <p:nvPr/>
        </p:nvPicPr>
        <p:blipFill>
          <a:blip r:embed="rId3"/>
          <a:stretch/>
        </p:blipFill>
        <p:spPr>
          <a:xfrm>
            <a:off x="428760" y="3368520"/>
            <a:ext cx="2342880" cy="2989080"/>
          </a:xfrm>
          <a:prstGeom prst="rect">
            <a:avLst/>
          </a:prstGeom>
          <a:ln w="0">
            <a:solidFill>
              <a:srgbClr val="0000ff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21" name="Рисунок 5" descr="пон реб.jpg"/>
          <p:cNvPicPr/>
          <p:nvPr/>
        </p:nvPicPr>
        <p:blipFill>
          <a:blip r:embed="rId4"/>
          <a:stretch/>
        </p:blipFill>
        <p:spPr>
          <a:xfrm>
            <a:off x="6274800" y="214200"/>
            <a:ext cx="1654560" cy="2206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22" name="Рисунок 6" descr="общ.jpg"/>
          <p:cNvPicPr/>
          <p:nvPr/>
        </p:nvPicPr>
        <p:blipFill>
          <a:blip r:embed="rId5"/>
          <a:stretch/>
        </p:blipFill>
        <p:spPr>
          <a:xfrm>
            <a:off x="3643200" y="174600"/>
            <a:ext cx="1576440" cy="2323440"/>
          </a:xfrm>
          <a:prstGeom prst="rect">
            <a:avLst/>
          </a:prstGeom>
          <a:ln w="19050">
            <a:solidFill>
              <a:srgbClr val="0070c0"/>
            </a:solidFill>
            <a:round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23" name="Рисунок 7" descr="подр.jpg"/>
          <p:cNvPicPr/>
          <p:nvPr/>
        </p:nvPicPr>
        <p:blipFill>
          <a:blip r:embed="rId6"/>
          <a:stretch/>
        </p:blipFill>
        <p:spPr>
          <a:xfrm>
            <a:off x="3492000" y="3429000"/>
            <a:ext cx="2399040" cy="2999160"/>
          </a:xfrm>
          <a:prstGeom prst="rect">
            <a:avLst/>
          </a:prstGeom>
          <a:ln w="0">
            <a:solidFill>
              <a:srgbClr val="0000ff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2"/>
          <p:cNvSpPr/>
          <p:nvPr/>
        </p:nvSpPr>
        <p:spPr>
          <a:xfrm>
            <a:off x="1187640" y="836640"/>
            <a:ext cx="6624360" cy="3382920"/>
          </a:xfrm>
          <a:prstGeom prst="rect">
            <a:avLst/>
          </a:prstGeom>
          <a:noFill/>
          <a:ln w="0">
            <a:noFill/>
          </a:ln>
          <a:effectLst>
            <a:glow rad="228600">
              <a:srgbClr val="ff3716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 cap="all">
                <a:solidFill>
                  <a:schemeClr val="accent4"/>
                </a:solidFill>
                <a:latin typeface="Trebuchet MS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7200" spc="-1" strike="noStrike" cap="all">
                <a:solidFill>
                  <a:schemeClr val="accent4"/>
                </a:solidFill>
                <a:latin typeface="Trebuchet MS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23640" y="548640"/>
            <a:ext cx="8568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сновные цели программы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формировании у школьников позитивной адаптации к жизни, как процесса сознательного построения и достижения человеком относительно устойчивых равновесий отношений между собой, другими людьми и миром в це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550080"/>
            <a:ext cx="8964000" cy="5912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програм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ленная цель достигается за счёт последовательного решения следующих задач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теоретических аспектов проблемы с позиции различных наук (философии, физиологии, психологии, социологии, педагогики) и использование информации в работе с педагогами и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детей, нуждающихся в незамедлительной помощи и защите и оказание экстренной первой помощи, обеспечение безопасности ребенка, снятие стрессового состо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особенностей психолого-педагогического статуса каждого учащегося с целью своевременной профилактики и эффективного решения проблем, возникающих в психическом состоянии, общении, развитии и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767520"/>
            <a:ext cx="9143640" cy="5394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здание системы психолого-педагогической поддержки учащихся разных возрастных групп в воспитательно-образовательном процессе школы так и в период трудной жизнен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ивлечение различных государственных органов и общественных объединений для оказания помощи и защиты законных прав и интересов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ивитие существующих в обществе социальных норм поведения, формирование детского милосердия, развитие ценностных отношений в социу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Формирование позитивного образа Я, уникальности и неповторимости не только собственной личности, но и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0" y="946080"/>
            <a:ext cx="9143640" cy="496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таким образом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ит осуществлять социальную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ую защиту детей, сниз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детей с девиант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м и избежать суицидаль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ок. Также позволит организо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по оптимизации взаимоотнош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о-родительской ср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0" y="1244520"/>
            <a:ext cx="8892000" cy="3777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детьми, ставшими на путь социальной дезадаптации, но имеющими ближайшие перспективы её преодо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детьми, нуждающимися в срочной психоэмоциональной поддерж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неблагополучными семь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251640" y="257760"/>
            <a:ext cx="8712720" cy="591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реализации програм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и лич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ключающийся в самоценности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ости лич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стоящий в признании индивидуальности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а личностного разви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гда обучение выступает не как самоцель, а как средство развития личности каждого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и на зону ближнего развития каждого учени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-ценностных ориентац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о-воспитатель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563</TotalTime>
  <Application>LibreOffice/7.4.7.2$Linux_X86_64 LibreOffice_project/40$Build-2</Application>
  <AppVersion>15.0000</AppVersion>
  <Words>1312</Words>
  <Paragraphs>2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7:24:49Z</dcterms:created>
  <dc:creator>Админ</dc:creator>
  <dc:description/>
  <dc:language>en-US</dc:language>
  <cp:lastModifiedBy>VASILISA</cp:lastModifiedBy>
  <dcterms:modified xsi:type="dcterms:W3CDTF">2022-06-10T07:26:42Z</dcterms:modified>
  <cp:revision>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9</vt:r8>
  </property>
</Properties>
</file>