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8.gif" ContentType="image/gif"/>
  <Override PartName="/ppt/media/image18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4BB-2923-4DD1-A1DD-472B6D12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145-941B-41EC-8133-741693BA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1A4-D0AB-420E-9EF4-2DE7FC78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2E6-DB8C-42DF-ABD6-566F48FD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3701-106A-4697-8CD5-55189281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691E-BE09-4F88-B968-B557997A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725-A2AF-4772-B596-5F1CB499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31CE-E1FD-4051-B7A4-7FD2CF93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2804-BB78-4542-B4B6-D16BE66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4539-C7B6-42F5-933C-5EF1DB86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538E-AB4E-4536-9BE6-151A87E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CC1-1546-4B6C-8DBF-4FD83924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07E6-EA63-4302-AA1A-126B761F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700F-7353-4195-972A-1F711CA7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5C7-AAAE-419C-B78F-AECBAF23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983B-5948-4A18-85D8-B92EC129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0E8E-4893-4E8B-85B5-0FF4A8BB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62A6-A5B1-4C60-AC08-1B9AC818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4FF8D-044B-4981-9BF0-5A4DEF12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607F-7E15-486F-98DF-7257DB92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3C1F7-51B1-4FAA-9FD0-62BE5F91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1B4F-D40F-44CA-8ADB-C5A4FEB2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3E6-2C42-4B23-A719-7CF9B09B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3EB8-B9F9-4FEB-B478-4B01DA0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D0ED-A4AA-4788-B1D4-09CF6505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7464-309D-4216-9B28-190E126E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3475-427A-49D7-9E77-B7572DA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31FEA-3676-41D7-BE70-1791ADCC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7D3F3-BEDE-4E88-AA88-C3DCA26A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FAF8A-5533-4ACA-9C6C-EBAA2E8C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582-547B-4230-BBF7-A212A65C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E41-D9B6-44B3-8CF5-FDE0A6EB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C5B2-B5D2-4824-B41D-04B11F68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196-D74C-4215-A79E-E236C23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46B-6D2C-41C2-A6C9-C7D7F56F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D6E-A9D4-4B03-9B1B-634C3CD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109144-8373-49E6-96FC-6516A709DC6F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8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0C5EDD-28F6-419A-B2B1-AB88153ECA79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44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8640" indent="-18288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822960" indent="-182880">
              <a:lnSpc>
                <a:spcPct val="100000"/>
              </a:lnSpc>
              <a:spcBef>
                <a:spcPts val="36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4" marL="1389960" indent="-182880">
              <a:lnSpc>
                <a:spcPct val="100000"/>
              </a:lnSpc>
              <a:spcBef>
                <a:spcPts val="28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3160" y="4372200"/>
            <a:ext cx="65120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D78325E-8DA4-4359-81F2-5B2DC9F38366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51640" y="1266120"/>
            <a:ext cx="8799480" cy="2802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РОГРАМ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4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О ПРОФИЛАКТИКЕ СУИЦИДАЛЬНОГО ПОВЕДЕ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10-28"/>
          <p:cNvPicPr/>
          <p:nvPr/>
        </p:nvPicPr>
        <p:blipFill>
          <a:blip r:embed="rId1"/>
          <a:stretch/>
        </p:blipFill>
        <p:spPr>
          <a:xfrm>
            <a:off x="755640" y="4005000"/>
            <a:ext cx="3795120" cy="226188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5004000" y="4539240"/>
            <a:ext cx="345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114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Никитина И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4572000" y="321300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539640" y="941400"/>
            <a:ext cx="8028000" cy="3502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дагогическое сообщ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ые партнеры – ЦРБ, ЦВР, Соц.защ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536040"/>
            <a:ext cx="8964000" cy="520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учителя и классного руководите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адекватных средств и методов обучения и вос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ый подход к обучению и воспит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эффективного психологического климата в клас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на микросоциум (коллектив класса, учебной групп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вещение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тивация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имодействие с семь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Факторы суицидального риска"/>
          <p:cNvPicPr/>
          <p:nvPr/>
        </p:nvPicPr>
        <p:blipFill>
          <a:blip r:embed="rId1"/>
          <a:stretch/>
        </p:blipFill>
        <p:spPr>
          <a:xfrm>
            <a:off x="0" y="0"/>
            <a:ext cx="9143640" cy="6741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467640" y="276840"/>
            <a:ext cx="8496720" cy="594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роди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необходимых условий для занятий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оздоровления ребён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морали, социальных установ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мотив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ача культурной тради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заимодействие с учителями в проблемных ситуа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ияние на психологические внутришкольные факт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23640" y="32760"/>
            <a:ext cx="7632360" cy="667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в сохранении и укреплении собственного здоровья у самих учащих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собственной мотивации к здоровью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ивычки соблюдать гигиенические правила и норм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ение учебного материала и соотнесение его с собственным опыт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еленность на поиск позитивного выхода в проблемных ситуац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323640" y="260640"/>
            <a:ext cx="83527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а включает в себ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Внутренние суицидальные проя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Внешним формы суицидного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Какие черты имеет суицид подрост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Синдромы поведения подростков, указывающие на готовность к суиц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Внешние обстоятельства суицидального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. Содержание основных понят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.Учащиеся и выпускники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лжны знать; должны уметь;  должны им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. Система программных мероприятий (для педагогов, родителей, корре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icture 4"/>
          <p:cNvSpPr/>
          <p:nvPr/>
        </p:nvSpPr>
        <p:spPr>
          <a:xfrm>
            <a:off x="179280" y="1916280"/>
            <a:ext cx="3024000" cy="35287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28575">
            <a:solidFill>
              <a:srgbClr val="c00000"/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14200" y="0"/>
            <a:ext cx="3357360" cy="292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Жизнь прекрасн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           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3204000" y="357120"/>
            <a:ext cx="608256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это шан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не упусти  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 это м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существи её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это любов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к люб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–это дол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исполни ег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Жизнь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это счасть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сотвори его са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334440" y="5572080"/>
            <a:ext cx="4500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Не уничтожай её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5"/>
          <p:cNvSpPr/>
          <p:nvPr/>
        </p:nvSpPr>
        <p:spPr>
          <a:xfrm>
            <a:off x="4546800" y="357120"/>
            <a:ext cx="1843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214200" y="142920"/>
            <a:ext cx="8643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212745"/>
                </a:solidFill>
                <a:latin typeface="Trebuchet MS"/>
              </a:rPr>
              <a:t>Суици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ru-RU" sz="6000" spc="-1" strike="noStrike">
                <a:solidFill>
                  <a:srgbClr val="212745"/>
                </a:solidFill>
                <a:latin typeface="Trebuchet MS"/>
              </a:rPr>
              <a:t>в подростковой сре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исунок 7"/>
          <p:cNvSpPr/>
          <p:nvPr/>
        </p:nvSpPr>
        <p:spPr>
          <a:xfrm>
            <a:off x="1453320" y="3141000"/>
            <a:ext cx="5803200" cy="3384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19050">
            <a:solidFill>
              <a:srgbClr val="4e67c8">
                <a:lumMod val="75000"/>
              </a:srgbClr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214200" y="142920"/>
            <a:ext cx="8357760" cy="2893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уицид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умышленное лишение себя жизни, совершаемое человеком в состоянии сильного душевного расстройства, когда  собственная жизнь утрачивает для человека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Рисунок 4"/>
          <p:cNvSpPr/>
          <p:nvPr/>
        </p:nvSpPr>
        <p:spPr>
          <a:xfrm>
            <a:off x="1727280" y="2133000"/>
            <a:ext cx="5689080" cy="3960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icture 5"/>
          <p:cNvSpPr/>
          <p:nvPr/>
        </p:nvSpPr>
        <p:spPr>
          <a:xfrm>
            <a:off x="250920" y="1268280"/>
            <a:ext cx="3938400" cy="33112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002060"/>
            </a:solidFill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356000" y="333360"/>
            <a:ext cx="4679640" cy="5727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 официальной статистике, каждый год совершают самоубий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1 100 000 человек 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реди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50 тысяч китайце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10 тысяч индус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55 тысяч рус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1 тысяча америка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0 тысяч япо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2 тысяч украи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0 тысяч французов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467640" y="154080"/>
            <a:ext cx="8208720" cy="654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ание для создани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 программы по профилактике суицида в школе, является актуальной для  общеобразовательных учреждений, так как в последнее время участились суицидальные случаи со школь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направл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явление подростков с суицидальным поведение, отношения их к своему здоровью и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7030a0"/>
                </a:solidFill>
                <a:latin typeface="Georgia"/>
              </a:rPr>
              <a:t>Чаще подвержены: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13440" cy="56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дростки, которые по тем или иным причинам считают себя виновными в проблемах близких людей;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девочки – подростки, имеющие межличностные любовные конфликты;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дростки, страдающие тяжелыми соматическими или психическими заболеваниями;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56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Wingdings" charset="2"/>
              <a:buChar char=""/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подростки с повышенной тревожностью, зацикленные на негативных эмоциях.</a:t>
            </a:r>
            <a:endParaRPr b="0" lang="ru-RU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395640" y="404640"/>
            <a:ext cx="78498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поведением отдельного человека можно управлять. Чем выше интеллект и моральные принципы, воспитанные с детства, тем устойчивее он к подобному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действ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D:\Анимашки\мужчина (3).gif"/>
          <p:cNvPicPr/>
          <p:nvPr/>
        </p:nvPicPr>
        <p:blipFill>
          <a:blip r:embed="rId1"/>
          <a:stretch/>
        </p:blipFill>
        <p:spPr>
          <a:xfrm>
            <a:off x="0" y="3754440"/>
            <a:ext cx="3275640" cy="310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D:\КАРТИНЫ!\ЛЮД\МУЖЧИНЫ\КАРТ,МУЖ\126546323147662.jpg"/>
          <p:cNvPicPr/>
          <p:nvPr/>
        </p:nvPicPr>
        <p:blipFill>
          <a:blip r:embed="rId2"/>
          <a:stretch/>
        </p:blipFill>
        <p:spPr>
          <a:xfrm>
            <a:off x="6300360" y="3534120"/>
            <a:ext cx="2843280" cy="332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51640" y="764640"/>
            <a:ext cx="81568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оторые болезненные суицид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у молодых обостряются п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ем достижений цивилизац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левидение, компьют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оянные стрессы, связанные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яжелой учебой, работой, контакт 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й техникой, отравления сол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яжелых металлов, радиацио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ажения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323640" y="260640"/>
            <a:ext cx="8820000" cy="61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чь же таким людям выжить могут прежде всего те, кто их окружает. Человек, который пошел на самоубийств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сомненн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здор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има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р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кружающих могу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пасти ему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 этом следу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нить всем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D:\КАРТИНЫ!\природа\животные\Рисунок5.jpg"/>
          <p:cNvPicPr/>
          <p:nvPr/>
        </p:nvPicPr>
        <p:blipFill>
          <a:blip r:embed="rId1"/>
          <a:stretch/>
        </p:blipFill>
        <p:spPr>
          <a:xfrm>
            <a:off x="5076000" y="2125080"/>
            <a:ext cx="30960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4"/>
          <p:cNvSpPr/>
          <p:nvPr/>
        </p:nvSpPr>
        <p:spPr>
          <a:xfrm>
            <a:off x="2714760" y="428760"/>
            <a:ext cx="3239640" cy="1079280"/>
          </a:xfrm>
          <a:prstGeom prst="ellipse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492360" y="765000"/>
            <a:ext cx="1793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cc3300"/>
                </a:solidFill>
                <a:latin typeface="Georgia"/>
              </a:rPr>
              <a:t>Суиц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rot="2100600">
            <a:off x="2050920" y="1636560"/>
            <a:ext cx="274320" cy="2015640"/>
          </a:xfrm>
          <a:prstGeom prst="downArrow">
            <a:avLst>
              <a:gd name="adj1" fmla="val 50000"/>
              <a:gd name="adj2" fmla="val 32423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4357800" y="1714680"/>
            <a:ext cx="285480" cy="1714320"/>
          </a:xfrm>
          <a:prstGeom prst="downArrow">
            <a:avLst>
              <a:gd name="adj1" fmla="val 50000"/>
              <a:gd name="adj2" fmla="val 27611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AutoShape 8"/>
          <p:cNvSpPr/>
          <p:nvPr/>
        </p:nvSpPr>
        <p:spPr>
          <a:xfrm rot="19812000">
            <a:off x="6364080" y="1579680"/>
            <a:ext cx="221760" cy="1947600"/>
          </a:xfrm>
          <a:prstGeom prst="downArrow">
            <a:avLst>
              <a:gd name="adj1" fmla="val 65750"/>
              <a:gd name="adj2" fmla="val 29052"/>
            </a:avLst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142920" y="3571920"/>
            <a:ext cx="2160360" cy="180000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3492360" y="3500280"/>
            <a:ext cx="2158560" cy="194436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6715080" y="3571920"/>
            <a:ext cx="2160360" cy="1871280"/>
          </a:xfrm>
          <a:prstGeom prst="ellipse">
            <a:avLst/>
          </a:pr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179280" y="4076640"/>
            <a:ext cx="2177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Исти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492360" y="4149720"/>
            <a:ext cx="2231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крыт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156360" y="4149720"/>
            <a:ext cx="2987280" cy="973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Демонс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601164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Истинный суицид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238520" cy="43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293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Times New Roman"/>
              </a:rPr>
              <a:t>Никогда не бывает 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2293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</a:rPr>
              <a:t>спонтанным. Такому суициду всегда предшествуют угнетенное настроение, депрессивное состояние или просто мысли об уходе из жизни. Причем окружающие, даже самые близкие люди, нередко такого состояния человека не замечают. </a:t>
            </a: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  <a:p>
            <a:pPr marL="229320" indent="0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86" name="Picture 3" descr="D:\КАРТИНЫ!\ЛЮД\МУЖЧИНЫ\КАРТ,МУЖ\avatar988.jpg"/>
          <p:cNvPicPr/>
          <p:nvPr/>
        </p:nvPicPr>
        <p:blipFill>
          <a:blip r:embed="rId1"/>
          <a:stretch/>
        </p:blipFill>
        <p:spPr>
          <a:xfrm>
            <a:off x="6291000" y="0"/>
            <a:ext cx="2852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Скрытый суицид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819640" cy="55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just">
              <a:lnSpc>
                <a:spcPct val="9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Georgia"/>
              </a:rPr>
              <a:t>  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вуалированное самоубийство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погибает от внешних сил, по большей части им же спровоцированных. Например,  рискованная езда на автомобиле,  занятия экстремальными видами спорта и даже алкогольная или наркотическая зависимость. 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сколько угодно можно твердить человеку о том, что все это опасно для жизни, как правило, именно этой опасности они жаждут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285840"/>
            <a:ext cx="822924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040" indent="-320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Демонстративный суицид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864216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 algn="just">
              <a:lnSpc>
                <a:spcPct val="90000"/>
              </a:lnSpc>
              <a:spcBef>
                <a:spcPts val="479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884eb8"/>
                </a:solidFill>
                <a:latin typeface="Trebuchet MS"/>
              </a:rPr>
              <a:t>    </a:t>
            </a:r>
            <a:endParaRPr b="0" lang="ru-RU" sz="24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884eb8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убийство, как способ привлечь внимание к своей личности, оказание давления на окружающих лиц с целью изменения конфликтной ситуации в благоприятную сторон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оявляется в виде порезов вен, отравлении лекарствами, изображения повешания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0">
              <a:lnSpc>
                <a:spcPct val="90000"/>
              </a:lnSpc>
              <a:spcBef>
                <a:spcPts val="641"/>
              </a:spcBef>
              <a:spcAft>
                <a:spcPts val="300"/>
              </a:spcAft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ьшинство самоубийц, как правило, хотели вовсе не умереть - а только достучаться до кого-то, обратить внимание на свои проблемы, позвать на помощь. 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0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84040" indent="-28404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Причины суицида среди подростков</a:t>
            </a:r>
            <a:endParaRPr b="0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607240" cy="52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роблемы и конфликты в семье (развод, насилие в семье, нарушения общения с близкими, семьей)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онфликты с друзьями, проблемы в  школе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счастная любовь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Страх перед будущим, одиночество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отеря смысла жизни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880">
              <a:lnSpc>
                <a:spcPct val="100000"/>
              </a:lnSpc>
              <a:spcBef>
                <a:spcPts val="641"/>
              </a:spcBef>
              <a:spcAft>
                <a:spcPts val="300"/>
              </a:spcAft>
              <a:buClr>
                <a:srgbClr val="cc3300"/>
              </a:buClr>
              <a:buSzPct val="130000"/>
              <a:buFont typeface="Georgia"/>
              <a:buChar char="*"/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Подражание кумирам.</a:t>
            </a:r>
            <a:endParaRPr b="0" lang="ru-RU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439"/>
              </a:spcBef>
              <a:spcAft>
                <a:spcPts val="300"/>
              </a:spcAft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323640" y="1357200"/>
            <a:ext cx="8248680" cy="3929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ризы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 попросить помощ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ход от проблем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ерял надежду измен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знь к лучш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Месть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ытка сделать больно другом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у: «Они еще пожалею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монаказани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ок решает, что он не заслуживает права жить. Желание облегчит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знь своей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Бегство от наказ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"/>
          <p:cNvSpPr/>
          <p:nvPr/>
        </p:nvSpPr>
        <p:spPr>
          <a:xfrm>
            <a:off x="3000240" y="571680"/>
            <a:ext cx="3357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Мот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713160" y="991800"/>
            <a:ext cx="666540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ссия программы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ить “безопасному плавани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жизн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627640" y="3319560"/>
            <a:ext cx="5430600" cy="30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500040" y="1428840"/>
            <a:ext cx="7714800" cy="50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ловесные призна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асто говорит о своем душевном          состоя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утит на тему самоубийства. Проявляет нездоровую заинтересованность вопросами смер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веденческие призна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884eb8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дение дел в поря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щ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монстрируют радикальные  перем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итуационные призна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884eb8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 изолиров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ет в нестабильном состоя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щущает себя жертвой наси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нес тяжелую потер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 flipV="1" rot="10800000">
            <a:off x="500400" y="212400"/>
            <a:ext cx="83577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ff"/>
                </a:solidFill>
                <a:latin typeface="Georgia"/>
              </a:rPr>
              <a:t>Признаки готовящегося самоуби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выход всегда есть.jpg"/>
          <p:cNvPicPr/>
          <p:nvPr/>
        </p:nvPicPr>
        <p:blipFill>
          <a:blip r:embed="rId1"/>
          <a:stretch/>
        </p:blipFill>
        <p:spPr>
          <a:xfrm>
            <a:off x="1643040" y="1285920"/>
            <a:ext cx="5643360" cy="3928680"/>
          </a:xfrm>
          <a:prstGeom prst="rect">
            <a:avLst/>
          </a:prstGeom>
          <a:ln w="0">
            <a:solidFill>
              <a:srgbClr val="00206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98" name="TextBox 2"/>
          <p:cNvSpPr/>
          <p:nvPr/>
        </p:nvSpPr>
        <p:spPr>
          <a:xfrm>
            <a:off x="428760" y="5429160"/>
            <a:ext cx="82864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Сформировать у подростка четкую установ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«Из любой трудной жизненной ситуации можно найти вых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357120" y="214200"/>
            <a:ext cx="7929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5400" spc="-1" strike="noStrike">
              <a:solidFill>
                <a:srgbClr val="a3afff"/>
              </a:solidFill>
              <a:latin typeface="Trebuchet MS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500040" y="357120"/>
            <a:ext cx="7857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Как предотвратить суици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Рисунок 1"/>
          <p:cNvSpPr/>
          <p:nvPr/>
        </p:nvSpPr>
        <p:spPr>
          <a:xfrm>
            <a:off x="4500720" y="571680"/>
            <a:ext cx="4071600" cy="53575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28575">
            <a:solidFill>
              <a:srgbClr val="cc3300"/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497880" y="1276200"/>
            <a:ext cx="3714480" cy="4111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оспитывать у подростков позитивный взгляд на все аспекты жизни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2000160" y="1643040"/>
            <a:ext cx="450036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овлекать  подрост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в полезн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2" descr="пара.jpg"/>
          <p:cNvPicPr/>
          <p:nvPr/>
        </p:nvPicPr>
        <p:blipFill>
          <a:blip r:embed="rId1"/>
          <a:stretch/>
        </p:blipFill>
        <p:spPr>
          <a:xfrm>
            <a:off x="5572080" y="3286080"/>
            <a:ext cx="2928600" cy="314280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5" name="Рисунок 4" descr="спорт.jpg"/>
          <p:cNvPicPr/>
          <p:nvPr/>
        </p:nvPicPr>
        <p:blipFill>
          <a:blip r:embed="rId2"/>
          <a:stretch/>
        </p:blipFill>
        <p:spPr>
          <a:xfrm>
            <a:off x="428760" y="3286080"/>
            <a:ext cx="3357360" cy="31428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6" name="Рисунок 5" descr="скрип ключ.jpeg"/>
          <p:cNvPicPr/>
          <p:nvPr/>
        </p:nvPicPr>
        <p:blipFill>
          <a:blip r:embed="rId3"/>
          <a:stretch/>
        </p:blipFill>
        <p:spPr>
          <a:xfrm>
            <a:off x="6286680" y="285840"/>
            <a:ext cx="2428560" cy="199980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7" name="Рисунок 6" descr="вышивка крестом.jpg"/>
          <p:cNvPicPr/>
          <p:nvPr/>
        </p:nvPicPr>
        <p:blipFill>
          <a:blip r:embed="rId4"/>
          <a:stretch/>
        </p:blipFill>
        <p:spPr>
          <a:xfrm>
            <a:off x="3500280" y="285840"/>
            <a:ext cx="1452240" cy="142848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08" name="Рисунок 7" descr="иск жив.jpg"/>
          <p:cNvPicPr/>
          <p:nvPr/>
        </p:nvPicPr>
        <p:blipFill>
          <a:blip r:embed="rId5"/>
          <a:stretch/>
        </p:blipFill>
        <p:spPr>
          <a:xfrm>
            <a:off x="500040" y="285840"/>
            <a:ext cx="1642680" cy="2071440"/>
          </a:xfrm>
          <a:prstGeom prst="rect">
            <a:avLst/>
          </a:prstGeom>
          <a:ln cap="sq" w="88900">
            <a:solidFill>
              <a:srgbClr val="0070c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285840" y="714240"/>
            <a:ext cx="4214520" cy="478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Подросток должен помнить о  том, что в трудной жизненной ситуации он мож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обратиться к людям, которым довер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родителям, классному руководителю, психол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3" descr="я выбир жизнь.jpg"/>
          <p:cNvPicPr/>
          <p:nvPr/>
        </p:nvPicPr>
        <p:blipFill>
          <a:blip r:embed="rId1"/>
          <a:stretch/>
        </p:blipFill>
        <p:spPr>
          <a:xfrm>
            <a:off x="4643280" y="1000080"/>
            <a:ext cx="3642840" cy="3857400"/>
          </a:xfrm>
          <a:prstGeom prst="rect">
            <a:avLst/>
          </a:prstGeom>
          <a:ln w="28575">
            <a:solidFill>
              <a:srgbClr val="00b050"/>
            </a:solidFill>
            <a:round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Админ\Pictures\2011-03-19\005.jpe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Рисунок 1"/>
          <p:cNvSpPr/>
          <p:nvPr/>
        </p:nvSpPr>
        <p:spPr>
          <a:xfrm>
            <a:off x="785880" y="1928880"/>
            <a:ext cx="2425320" cy="36572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19050">
            <a:solidFill>
              <a:srgbClr val="0000ff"/>
            </a:solidFill>
            <a:round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3492000" y="2928960"/>
            <a:ext cx="5294520" cy="3381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Georgia"/>
              </a:rPr>
              <a:t>Гармоничны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262626"/>
                </a:solidFill>
                <a:latin typeface="Georgia"/>
              </a:rPr>
              <a:t>в семье, предполагающие создание и сохранение теплых и доверительных отношений с ребен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7030a0"/>
                </a:solidFill>
                <a:latin typeface="Georgia"/>
              </a:rPr>
              <a:t>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Прави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Глаза в  глаз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Чудо прикосновения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«Безраздельное внима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3" descr="семья.jpg"/>
          <p:cNvPicPr/>
          <p:nvPr/>
        </p:nvPicPr>
        <p:blipFill>
          <a:blip r:embed="rId2"/>
          <a:stretch/>
        </p:blipFill>
        <p:spPr>
          <a:xfrm>
            <a:off x="4140000" y="0"/>
            <a:ext cx="4000320" cy="2714400"/>
          </a:xfrm>
          <a:prstGeom prst="rect">
            <a:avLst/>
          </a:prstGeom>
          <a:ln w="0">
            <a:solidFill>
              <a:srgbClr val="7030a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15" name="TextBox 4"/>
          <p:cNvSpPr/>
          <p:nvPr/>
        </p:nvSpPr>
        <p:spPr>
          <a:xfrm>
            <a:off x="142920" y="500040"/>
            <a:ext cx="371448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Гармония в       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Users\Админ\Pictures\2011-03-19\003.jpeg"/>
          <p:cNvPicPr/>
          <p:nvPr/>
        </p:nvPicPr>
        <p:blipFill>
          <a:blip r:embed="rId1"/>
          <a:stretch/>
        </p:blipFill>
        <p:spPr>
          <a:xfrm>
            <a:off x="721080" y="-11520"/>
            <a:ext cx="70909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428760" y="2357280"/>
            <a:ext cx="79293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Работа по просвещ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2" descr="пон р.jpg"/>
          <p:cNvPicPr/>
          <p:nvPr/>
        </p:nvPicPr>
        <p:blipFill>
          <a:blip r:embed="rId1"/>
          <a:stretch/>
        </p:blipFill>
        <p:spPr>
          <a:xfrm>
            <a:off x="611640" y="214200"/>
            <a:ext cx="1602720" cy="2245680"/>
          </a:xfrm>
          <a:prstGeom prst="rect">
            <a:avLst/>
          </a:prstGeom>
          <a:ln w="0">
            <a:solidFill>
              <a:srgbClr val="00b05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19" name="Рисунок 3" descr="понять реб.jpg"/>
          <p:cNvPicPr/>
          <p:nvPr/>
        </p:nvPicPr>
        <p:blipFill>
          <a:blip r:embed="rId2"/>
          <a:stretch/>
        </p:blipFill>
        <p:spPr>
          <a:xfrm>
            <a:off x="6500880" y="3357000"/>
            <a:ext cx="2286000" cy="3048120"/>
          </a:xfrm>
          <a:prstGeom prst="rect">
            <a:avLst/>
          </a:prstGeom>
          <a:ln w="0">
            <a:solidFill>
              <a:srgbClr val="00206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0" name="Рисунок 4" descr="понять.jpg"/>
          <p:cNvPicPr/>
          <p:nvPr/>
        </p:nvPicPr>
        <p:blipFill>
          <a:blip r:embed="rId3"/>
          <a:stretch/>
        </p:blipFill>
        <p:spPr>
          <a:xfrm>
            <a:off x="428760" y="3368520"/>
            <a:ext cx="2342880" cy="2989080"/>
          </a:xfrm>
          <a:prstGeom prst="rect">
            <a:avLst/>
          </a:prstGeom>
          <a:ln w="0">
            <a:solidFill>
              <a:srgbClr val="0000ff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1" name="Рисунок 5" descr="пон реб.jpg"/>
          <p:cNvPicPr/>
          <p:nvPr/>
        </p:nvPicPr>
        <p:blipFill>
          <a:blip r:embed="rId4"/>
          <a:stretch/>
        </p:blipFill>
        <p:spPr>
          <a:xfrm>
            <a:off x="6274800" y="214200"/>
            <a:ext cx="1654560" cy="2206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2" name="Рисунок 6" descr="общ.jpg"/>
          <p:cNvPicPr/>
          <p:nvPr/>
        </p:nvPicPr>
        <p:blipFill>
          <a:blip r:embed="rId5"/>
          <a:stretch/>
        </p:blipFill>
        <p:spPr>
          <a:xfrm>
            <a:off x="3643200" y="174600"/>
            <a:ext cx="1576440" cy="2323440"/>
          </a:xfrm>
          <a:prstGeom prst="rect">
            <a:avLst/>
          </a:prstGeom>
          <a:ln w="19050">
            <a:solidFill>
              <a:srgbClr val="0070c0"/>
            </a:solidFill>
            <a:round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23" name="Рисунок 7" descr="подр.jpg"/>
          <p:cNvPicPr/>
          <p:nvPr/>
        </p:nvPicPr>
        <p:blipFill>
          <a:blip r:embed="rId6"/>
          <a:stretch/>
        </p:blipFill>
        <p:spPr>
          <a:xfrm>
            <a:off x="3492000" y="3429000"/>
            <a:ext cx="2399040" cy="2999160"/>
          </a:xfrm>
          <a:prstGeom prst="rect">
            <a:avLst/>
          </a:prstGeom>
          <a:ln w="0">
            <a:solidFill>
              <a:srgbClr val="0000ff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2"/>
          <p:cNvSpPr/>
          <p:nvPr/>
        </p:nvSpPr>
        <p:spPr>
          <a:xfrm>
            <a:off x="1187640" y="836640"/>
            <a:ext cx="6624360" cy="3382920"/>
          </a:xfrm>
          <a:prstGeom prst="rect">
            <a:avLst/>
          </a:prstGeom>
          <a:noFill/>
          <a:ln w="0">
            <a:noFill/>
          </a:ln>
          <a:effectLst>
            <a:glow rad="228600">
              <a:srgbClr val="ff3716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Trebuchet MS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7200" spc="-1" strike="noStrike" cap="all">
                <a:solidFill>
                  <a:schemeClr val="accent4"/>
                </a:solidFill>
                <a:latin typeface="Trebuchet MS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323640" y="548640"/>
            <a:ext cx="8568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новные цели программ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формировании у школьников позитивной адаптации к жизни, как процесса сознательного построения и достижения человеком относительно устойчивых равновесий отношений между собой, другими людьми и миром в цел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550080"/>
            <a:ext cx="8964000" cy="5912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ленная цель достигается за счёт последовательного решения следующих задач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теоретических аспектов проблемы с позиции различных наук (философии, физиологии, психологии, социологии, педагогики) и использование информации в работе с педагогами и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детей, нуждающихся в незамедлительной помощи и защите и оказание экстренной первой помощи, обеспечение безопасности ребенка, снятие стрессового состоя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собенностей психолого-педагогического статуса каждого учащегося с целью своевременной профилактики и эффективного решения проблем, возникающих в психическом состоянии, общении, развитии и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767520"/>
            <a:ext cx="9143640" cy="539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системы психолого-педагогической поддержки учащихся разных возрастных групп в воспитательно-образовательном процессе школы так и в период трудной жизнен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влечение различных государственных органов и общественных объединений для оказания помощи и защиты законных прав и интересов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витие существующих в обществе социальных норм поведения, формирование детского милосердия, развитие ценностных отношений в социу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Формирование позитивного образа Я, уникальности и неповторимости не только собственной личности, но и друг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0" y="946080"/>
            <a:ext cx="9143640" cy="496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аким образом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ит осуществлять социальную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ую защиту детей, сниз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с девиант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м и избежать суицида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ок. Также позволит организ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 по оптимизации взаимоотнош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-родительской ср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1244520"/>
            <a:ext cx="8892000" cy="377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, ставшими на путь социальной дезадаптации, но имеющими ближайшие перспективы её преодо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детьми, нуждающимися в срочной психоэмоциональной поддерж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неблагополучными семь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251640" y="257760"/>
            <a:ext cx="8712720" cy="591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реализации програм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 ли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лючающийся в самоцен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кальности ли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стоящий в признании индивидуальности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а личностного разви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гда обучение выступает не как самоцель, а как средство развития личности каждого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и на зону ближнего развития каждого учени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ценностных ориента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о-воспитатель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563</TotalTime>
  <Application>LibreOffice/7.4.7.2$Linux_X86_64 LibreOffice_project/40$Build-2</Application>
  <AppVersion>15.0000</AppVersion>
  <Words>1312</Words>
  <Paragraphs>2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7:24:49Z</dcterms:created>
  <dc:creator>Админ</dc:creator>
  <dc:description/>
  <dc:language>en-US</dc:language>
  <cp:lastModifiedBy>VASILISA</cp:lastModifiedBy>
  <dcterms:modified xsi:type="dcterms:W3CDTF">2022-06-10T07:26:42Z</dcterms:modified>
  <cp:revision>5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9</vt:r8>
  </property>
</Properties>
</file>