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05BB-BD8A-46B1-99CC-5E8883B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A3FC-A74B-4883-8513-C7CAE06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D778-910B-4B3E-8400-F6937D6D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CF2F-73F7-453A-B2DE-61FAD5AF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AB2-FAE4-4BF6-B9A5-11589522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23C-6541-450E-9001-4A36919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C53-30D4-431C-A70C-7288E08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36B0-3787-40CD-8C16-3CCF1BF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F80C-6758-4FCE-BD0C-983A04C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CFAB-BBAE-4DF1-8FCC-592C2357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354D-B16F-4B91-A2F1-45B67E0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8B26-7CE3-4B55-997D-B16ECF2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DF1-DDF1-43A6-AC7F-6440141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7E0E-D2BB-4417-A6C0-C28249F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000-E2E8-43E0-A88D-2C1ACDB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122-6669-4EF3-BE9E-347AEB57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065-94C7-4739-A88E-1360DD59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2972-A3E1-4917-8DBD-1B29E3FB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954B-A447-45CA-8A91-960708B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04DA-522A-4BEB-89E2-F7D5DCF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D347-F43D-4BCB-B99B-9B6FEDF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2319-48A1-4329-BDDE-795BDC7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749B-93FD-4D6F-AD41-D661CAE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AFE2-92B8-434B-AFD7-394ACA5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3B5-E1A2-41BB-B44A-35EE494072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0E50-CF5D-4423-81F3-0C6C74520C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Классификация местоимени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0292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Кудряшова И.М. учитель английского языка ГБОУ школа №115 Выборг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657600" y="594360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02040" y="1599120"/>
            <a:ext cx="3876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bod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on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whe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e o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large_140250"/>
          <p:cNvPicPr/>
          <p:nvPr/>
        </p:nvPicPr>
        <p:blipFill>
          <a:blip r:embed="rId1"/>
          <a:stretch/>
        </p:blipFill>
        <p:spPr>
          <a:xfrm>
            <a:off x="4572000" y="152388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3515400" y="59436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Bradley Hand ITC"/>
              </a:rPr>
              <a:t>There i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no </a:t>
            </a:r>
            <a:r>
              <a:rPr b="1" lang="en-US" sz="2800" spc="-1" strike="noStrike">
                <a:solidFill>
                  <a:srgbClr val="00ff00"/>
                </a:solidFill>
                <a:latin typeface="Bradley Hand ITC"/>
              </a:rPr>
              <a:t>milk in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0224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tnc-J0w6-Do"/>
          <p:cNvPicPr/>
          <p:nvPr/>
        </p:nvPicPr>
        <p:blipFill>
          <a:blip r:embed="rId1"/>
          <a:stretch/>
        </p:blipFill>
        <p:spPr>
          <a:xfrm>
            <a:off x="3352680" y="3733920"/>
            <a:ext cx="2643480" cy="2705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личествен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57200" y="974520"/>
            <a:ext cx="8489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litt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ног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c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n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69520" y="5873760"/>
            <a:ext cx="62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lot of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enty of </a:t>
            </a: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book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x_693fb53b"/>
          <p:cNvPicPr/>
          <p:nvPr/>
        </p:nvPicPr>
        <p:blipFill>
          <a:blip r:embed="rId2"/>
          <a:stretch/>
        </p:blipFill>
        <p:spPr>
          <a:xfrm>
            <a:off x="228600" y="3048120"/>
            <a:ext cx="2666880" cy="19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226848933_fe50cb4cda95"/>
          <p:cNvPicPr/>
          <p:nvPr/>
        </p:nvPicPr>
        <p:blipFill>
          <a:blip r:embed="rId3"/>
          <a:stretch/>
        </p:blipFill>
        <p:spPr>
          <a:xfrm>
            <a:off x="7086600" y="3048120"/>
            <a:ext cx="1884240" cy="2819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067840" y="32004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much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ch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378040" y="32004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few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Ли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828800"/>
          <a:ext cx="8229600" cy="47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8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Номинативный 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бъектный 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еодуш. предме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e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мне, меня, м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тебе, то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m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ему, его, о 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r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ей, ее, о 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ему, его, ее 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s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нас, нам, 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вам, вас, 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m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, их, и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1"/>
          <p:cNvSpPr/>
          <p:nvPr/>
        </p:nvSpPr>
        <p:spPr>
          <a:xfrm rot="559800">
            <a:off x="6781680" y="3352680"/>
            <a:ext cx="2362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 rot="20952600">
            <a:off x="380880" y="3657240"/>
            <a:ext cx="15242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итяжа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0" y="1676520"/>
          <a:ext cx="4648320" cy="4022640"/>
        </p:xfrm>
        <a:graphic>
          <a:graphicData uri="http://schemas.openxmlformats.org/drawingml/2006/table">
            <a:tbl>
              <a:tblPr/>
              <a:tblGrid>
                <a:gridCol w="2243160"/>
                <a:gridCol w="2405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бсолютная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его,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н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i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in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i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49" descr="girl_book"/>
          <p:cNvPicPr/>
          <p:nvPr/>
        </p:nvPicPr>
        <p:blipFill>
          <a:blip r:embed="rId1"/>
          <a:stretch/>
        </p:blipFill>
        <p:spPr>
          <a:xfrm>
            <a:off x="7391520" y="1371600"/>
            <a:ext cx="135252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MCj03825760000%5b1%5d"/>
          <p:cNvPicPr/>
          <p:nvPr/>
        </p:nvPicPr>
        <p:blipFill>
          <a:blip r:embed="rId2"/>
          <a:stretch/>
        </p:blipFill>
        <p:spPr>
          <a:xfrm>
            <a:off x="15228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7"/>
          <p:cNvSpPr/>
          <p:nvPr/>
        </p:nvSpPr>
        <p:spPr>
          <a:xfrm rot="20904000">
            <a:off x="362160" y="3778200"/>
            <a:ext cx="14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my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Bradley Hand ITC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 rot="549000">
            <a:off x="6681240" y="3503160"/>
            <a:ext cx="26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Bradley Hand ITC"/>
              </a:rPr>
              <a:t>These books are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dley Hand ITC"/>
              </a:rPr>
              <a:t>m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2159830"/>
          <p:cNvPicPr/>
          <p:nvPr/>
        </p:nvPicPr>
        <p:blipFill>
          <a:blip r:embed="rId1"/>
          <a:stretch/>
        </p:blipFill>
        <p:spPr>
          <a:xfrm rot="376800">
            <a:off x="6172200" y="1828800"/>
            <a:ext cx="2608200" cy="3476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зврат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9960" y="1524240"/>
            <a:ext cx="6220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y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я сам, собой,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your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ты сам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im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он сам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er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она сама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tself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– он(она) сам(сама)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urselve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мы сами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yourselve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вы сами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mselv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– они сами, себ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057400" y="5638680"/>
            <a:ext cx="69343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Bradley Hand ITC"/>
              </a:rPr>
              <a:t>Ann stood in front of the mirror and looked at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he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заим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6840" y="1751760"/>
            <a:ext cx="55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ch oth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 дру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 anoth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друг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Ross-and-Rachel-ross-and-rachel-516723_1920_1384"/>
          <p:cNvPicPr/>
          <p:nvPr/>
        </p:nvPicPr>
        <p:blipFill>
          <a:blip r:embed="rId1"/>
          <a:stretch/>
        </p:blipFill>
        <p:spPr>
          <a:xfrm>
            <a:off x="457200" y="3048120"/>
            <a:ext cx="4800600" cy="3460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5562720" y="3505320"/>
            <a:ext cx="312408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Courtne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Dav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look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152280" y="1523880"/>
            <a:ext cx="4343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Thos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roses are beautiful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648320" y="6400800"/>
            <a:ext cx="3733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Указательны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374480" y="5409720"/>
            <a:ext cx="275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от, э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032440" y="1981080"/>
            <a:ext cx="238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т,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0_76941_76dd91ca_XL"/>
          <p:cNvPicPr/>
          <p:nvPr/>
        </p:nvPicPr>
        <p:blipFill>
          <a:blip r:embed="rId1"/>
          <a:stretch/>
        </p:blipFill>
        <p:spPr>
          <a:xfrm>
            <a:off x="4648320" y="35812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5105520" y="6400800"/>
            <a:ext cx="30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radley Hand ITC"/>
              </a:rPr>
              <a:t>This</a:t>
            </a:r>
            <a:r>
              <a:rPr b="1" i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en-US" sz="2400" spc="-1" strike="noStrike">
                <a:solidFill>
                  <a:srgbClr val="00ffcc"/>
                </a:solidFill>
                <a:latin typeface="Bradley Hand ITC"/>
              </a:rPr>
              <a:t>rose is beauti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0_6b40a_e1c56188_XL"/>
          <p:cNvPicPr/>
          <p:nvPr/>
        </p:nvPicPr>
        <p:blipFill>
          <a:blip r:embed="rId2"/>
          <a:stretch/>
        </p:blipFill>
        <p:spPr>
          <a:xfrm>
            <a:off x="380880" y="2133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1219320" y="4876920"/>
            <a:ext cx="46479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проситель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8720" y="1827720"/>
            <a:ext cx="344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8013e0b7b8"/>
          <p:cNvPicPr/>
          <p:nvPr/>
        </p:nvPicPr>
        <p:blipFill>
          <a:blip r:embed="rId1"/>
          <a:stretch/>
        </p:blipFill>
        <p:spPr>
          <a:xfrm>
            <a:off x="5715000" y="1447920"/>
            <a:ext cx="2800440" cy="4190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7527960" y="1459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m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295280" y="4952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is he? – He is Tom W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What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is he? – He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тноситель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9000" y="1373040"/>
            <a:ext cx="848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m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se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ich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, кого, чей, что, который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определенн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ого кол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d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ng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неограниченного коли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ther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, другая,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o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 как один из некотор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 как конкретный дру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динственный из оставш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543800" y="68580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 DELANEY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4191120" y="6172200"/>
            <a:ext cx="4800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Неопределенные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480" y="1373040"/>
            <a:ext cx="918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-то, какое-то количе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ий, какой-нибудь, какие-нибу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bod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bod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нибудь, лю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нибудь, лю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th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th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-либо, что уг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-либо, где уг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ho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-либо образ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h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бы то ни было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исьменной, формальной речи в качестве подлежащего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весь, вся, 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а, обе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оди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ин из двух, тот или другой, любой из дв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тот, ни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s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иал.речи для выражения согл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согласия, в качестве ответных реп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agda_07_riverina_milk%2012"/>
          <p:cNvPicPr/>
          <p:nvPr/>
        </p:nvPicPr>
        <p:blipFill>
          <a:blip r:embed="rId1"/>
          <a:stretch/>
        </p:blipFill>
        <p:spPr>
          <a:xfrm>
            <a:off x="6172200" y="4038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236840" y="620712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Bradley Hand ITC"/>
              </a:rPr>
              <a:t>Would you like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Bradley Hand ITC"/>
              </a:rPr>
              <a:t>some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Bradley Hand ITC"/>
              </a:rPr>
              <a:t>milk? – Yes,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1:14:02Z</dcterms:created>
  <dc:creator>123</dc:creator>
  <dc:description/>
  <dc:language>en-US</dc:language>
  <cp:lastModifiedBy>Пользователь Windows</cp:lastModifiedBy>
  <dcterms:modified xsi:type="dcterms:W3CDTF">2022-05-26T13:02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