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A99B-3EB2-46B9-9559-F38B582D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AE82-DA80-4843-B077-3CB337BE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816D-2CAE-4AAB-B6BF-6182055A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196D-5AC1-4AEE-891A-92903EB5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EC0E-9199-46EF-9977-6D3A3802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2F31-6F6C-415A-9CD5-BF9C84B9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F50B-996B-4875-BA79-923B552D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2E5E-1FA3-433A-B480-26BAFF48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1AC0-F6F4-4514-AB26-489487CA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C46E-0477-44AD-A902-F3CDB0B1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490B-03A2-4638-9031-3DDC2B33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36D8D-A6F1-4BB3-AA77-49DF3B2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09BC-2CF8-4F0E-A2C6-DAC64F9D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68F2-444F-4858-A708-CA5E4A25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266E-4506-4FD1-8B87-F4442D98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7ACF-7F26-456F-A360-EF20AB51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660E-E95B-4CEC-A5ED-CFF655DD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85CA-581F-44CF-9420-F837533D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B2A0F-6A9C-46AD-AE1A-0D794178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C5F4-F7A0-4FEA-9FBB-0270E835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5A8A-C51E-44DD-80D0-4E811B82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8852-A78E-46F3-90E6-4569AD95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F914-E473-411E-8306-7639A85A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7842A-2ECC-4478-B372-DCC5B117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3DAD-A68E-45DD-8222-BA9DAA5D24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7FC7-B94D-456C-A9C5-998153CBFD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Классификация местоимени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50292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Кудряшова И.М. учитель английского языка ГБОУ школа №115 Выборгского района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"/>
          <p:cNvSpPr/>
          <p:nvPr/>
        </p:nvSpPr>
        <p:spPr>
          <a:xfrm>
            <a:off x="3657600" y="594360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трицательны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302040" y="1599120"/>
            <a:ext cx="38764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bod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 on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hin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wher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e o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кт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large_140250"/>
          <p:cNvPicPr/>
          <p:nvPr/>
        </p:nvPicPr>
        <p:blipFill>
          <a:blip r:embed="rId1"/>
          <a:stretch/>
        </p:blipFill>
        <p:spPr>
          <a:xfrm>
            <a:off x="4572000" y="152388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3515400" y="594360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Bradley Hand ITC"/>
              </a:rPr>
              <a:t>There is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no </a:t>
            </a:r>
            <a:r>
              <a:rPr b="1" lang="en-US" sz="2800" spc="-1" strike="noStrike">
                <a:solidFill>
                  <a:srgbClr val="00ff00"/>
                </a:solidFill>
                <a:latin typeface="Bradley Hand ITC"/>
              </a:rPr>
              <a:t>milk in the f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0224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4" descr="tnc-J0w6-Do"/>
          <p:cNvPicPr/>
          <p:nvPr/>
        </p:nvPicPr>
        <p:blipFill>
          <a:blip r:embed="rId1"/>
          <a:stretch/>
        </p:blipFill>
        <p:spPr>
          <a:xfrm>
            <a:off x="3352680" y="3733920"/>
            <a:ext cx="2643480" cy="2705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личествен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57200" y="974520"/>
            <a:ext cx="848988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tt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ew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litt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мног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fe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м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ch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n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469520" y="5873760"/>
            <a:ext cx="62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lot of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enty of </a:t>
            </a:r>
            <a:r>
              <a:rPr b="1" i="1" lang="en-US" sz="3200" spc="-1" strike="noStrike">
                <a:solidFill>
                  <a:srgbClr val="ff0000"/>
                </a:solidFill>
                <a:latin typeface="Arial Unicode MS"/>
              </a:rPr>
              <a:t>book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x_693fb53b"/>
          <p:cNvPicPr/>
          <p:nvPr/>
        </p:nvPicPr>
        <p:blipFill>
          <a:blip r:embed="rId2"/>
          <a:stretch/>
        </p:blipFill>
        <p:spPr>
          <a:xfrm>
            <a:off x="228600" y="3048120"/>
            <a:ext cx="2666880" cy="19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1226848933_fe50cb4cda95"/>
          <p:cNvPicPr/>
          <p:nvPr/>
        </p:nvPicPr>
        <p:blipFill>
          <a:blip r:embed="rId3"/>
          <a:stretch/>
        </p:blipFill>
        <p:spPr>
          <a:xfrm>
            <a:off x="7086600" y="3048120"/>
            <a:ext cx="1884240" cy="2819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067840" y="320040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much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che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378040" y="320040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few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Лич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828800"/>
          <a:ext cx="8229600" cy="47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08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Номинативный 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Объектный 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h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неодуш. предмет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e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y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e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мне, меня, мн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тебе, тоб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im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ему, его, о н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er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ей, ее, о 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ему, его, ее 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us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нас, нам, н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you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вам, вас, ва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hem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, их, и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1"/>
          <p:cNvSpPr/>
          <p:nvPr/>
        </p:nvSpPr>
        <p:spPr>
          <a:xfrm rot="559800">
            <a:off x="6781680" y="3352680"/>
            <a:ext cx="2362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0"/>
          <p:cNvSpPr/>
          <p:nvPr/>
        </p:nvSpPr>
        <p:spPr>
          <a:xfrm rot="20952600">
            <a:off x="380880" y="3657240"/>
            <a:ext cx="15242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ритяжате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0" y="1676520"/>
          <a:ext cx="4648320" cy="4022640"/>
        </p:xfrm>
        <a:graphic>
          <a:graphicData uri="http://schemas.openxmlformats.org/drawingml/2006/table">
            <a:tbl>
              <a:tblPr/>
              <a:tblGrid>
                <a:gridCol w="2243160"/>
                <a:gridCol w="2405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Абсолютная</a:t>
                      </a: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ff00"/>
                          </a:solidFill>
                          <a:latin typeface="Times New Roman"/>
                          <a:ea typeface="Times New Roman"/>
                        </a:rPr>
                        <a:t>фор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y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r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t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его, 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r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н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r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i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in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r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u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you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hei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49" descr="girl_book"/>
          <p:cNvPicPr/>
          <p:nvPr/>
        </p:nvPicPr>
        <p:blipFill>
          <a:blip r:embed="rId1"/>
          <a:stretch/>
        </p:blipFill>
        <p:spPr>
          <a:xfrm>
            <a:off x="7391520" y="1371600"/>
            <a:ext cx="1352520" cy="180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1" descr="MCj03825760000%5b1%5d"/>
          <p:cNvPicPr/>
          <p:nvPr/>
        </p:nvPicPr>
        <p:blipFill>
          <a:blip r:embed="rId2"/>
          <a:stretch/>
        </p:blipFill>
        <p:spPr>
          <a:xfrm>
            <a:off x="152280" y="1523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7"/>
          <p:cNvSpPr/>
          <p:nvPr/>
        </p:nvSpPr>
        <p:spPr>
          <a:xfrm rot="20904000">
            <a:off x="362160" y="3778200"/>
            <a:ext cx="14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my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cc"/>
                </a:solidFill>
                <a:latin typeface="Bradley Hand ITC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 rot="549000">
            <a:off x="6681240" y="3503160"/>
            <a:ext cx="262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Bradley Hand ITC"/>
              </a:rPr>
              <a:t>These books are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Bradley Hand ITC"/>
              </a:rPr>
              <a:t>m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2159830"/>
          <p:cNvPicPr/>
          <p:nvPr/>
        </p:nvPicPr>
        <p:blipFill>
          <a:blip r:embed="rId1"/>
          <a:stretch/>
        </p:blipFill>
        <p:spPr>
          <a:xfrm rot="376800">
            <a:off x="6172200" y="1828800"/>
            <a:ext cx="2608200" cy="34765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зврат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09960" y="1524240"/>
            <a:ext cx="6220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yself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я сам, собой, се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yourself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ты сам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imself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он сам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herself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она сама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itself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– он(она) сам(сама)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urselves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мы сами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yourselves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вы сами, соб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mselv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– они сами, себ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057400" y="5638680"/>
            <a:ext cx="69343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Bradley Hand ITC"/>
              </a:rPr>
              <a:t>Ann stood in front of the mirror and looked at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he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заим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6840" y="1751760"/>
            <a:ext cx="55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ach othe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 дру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e another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друг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Ross-and-Rachel-ross-and-rachel-516723_1920_1384"/>
          <p:cNvPicPr/>
          <p:nvPr/>
        </p:nvPicPr>
        <p:blipFill>
          <a:blip r:embed="rId1"/>
          <a:stretch/>
        </p:blipFill>
        <p:spPr>
          <a:xfrm>
            <a:off x="457200" y="3048120"/>
            <a:ext cx="4800600" cy="34606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5562720" y="3505320"/>
            <a:ext cx="312408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Bradley Hand ITC"/>
              </a:rPr>
              <a:t>Courtney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Bradley Hand ITC"/>
              </a:rPr>
              <a:t>Dav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Bradley Hand ITC"/>
              </a:rPr>
              <a:t>looke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152280" y="1523880"/>
            <a:ext cx="43434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radley Hand ITC"/>
              </a:rPr>
              <a:t>Those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00ffcc"/>
                </a:solidFill>
                <a:latin typeface="Bradley Hand ITC"/>
              </a:rPr>
              <a:t>roses are beautiful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648320" y="6400800"/>
            <a:ext cx="373356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Указательные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374480" y="5409720"/>
            <a:ext cx="275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этот, э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э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5032440" y="1981080"/>
            <a:ext cx="238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от, 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o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0_76941_76dd91ca_XL"/>
          <p:cNvPicPr/>
          <p:nvPr/>
        </p:nvPicPr>
        <p:blipFill>
          <a:blip r:embed="rId1"/>
          <a:stretch/>
        </p:blipFill>
        <p:spPr>
          <a:xfrm>
            <a:off x="4648320" y="35812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5105520" y="6400800"/>
            <a:ext cx="30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Bradley Hand ITC"/>
              </a:rPr>
              <a:t>This</a:t>
            </a:r>
            <a:r>
              <a:rPr b="1" i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i="1" lang="en-US" sz="2400" spc="-1" strike="noStrike">
                <a:solidFill>
                  <a:srgbClr val="00ffcc"/>
                </a:solidFill>
                <a:latin typeface="Bradley Hand ITC"/>
              </a:rPr>
              <a:t>rose is beauti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0_6b40a_e1c56188_XL"/>
          <p:cNvPicPr/>
          <p:nvPr/>
        </p:nvPicPr>
        <p:blipFill>
          <a:blip r:embed="rId2"/>
          <a:stretch/>
        </p:blipFill>
        <p:spPr>
          <a:xfrm>
            <a:off x="380880" y="2133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1219320" y="4876920"/>
            <a:ext cx="464796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Вопроситель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78720" y="1827720"/>
            <a:ext cx="3440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o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о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8013e0b7b8"/>
          <p:cNvPicPr/>
          <p:nvPr/>
        </p:nvPicPr>
        <p:blipFill>
          <a:blip r:embed="rId1"/>
          <a:stretch/>
        </p:blipFill>
        <p:spPr>
          <a:xfrm>
            <a:off x="5715000" y="1447920"/>
            <a:ext cx="2800440" cy="4190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7527960" y="14590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m W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295280" y="49528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Who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is he? – He is Tom W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What</a:t>
            </a: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Bradley Hand ITC"/>
              </a:rPr>
              <a:t>is he? – He is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тносительны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99000" y="1373040"/>
            <a:ext cx="84823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m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se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at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ich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, кого, чей, что, который,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из определенног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ого кол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ody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ng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из неограниченного колич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ther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й, другая, друг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ot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й как один из некотор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ot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ой как конкретный друг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единственный из оставш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7543800" y="685800"/>
            <a:ext cx="1371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 DELANEY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4191120" y="6172200"/>
            <a:ext cx="48006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Неопределенные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480" y="1373040"/>
            <a:ext cx="9181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-то, какое-то количеств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ий, какой-нибудь, какие-нибу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bod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-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bod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-нибудь, лю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o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-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o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то-нибудь, лю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thin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-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thin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-либо, что уго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whe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-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whe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-либо, где угод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meho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м-либо образ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yho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м бы то ни было образ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исьменной, формальной речи в качестве подлежащего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, весь, вся, вс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а, обе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i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 один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ith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ин из двух, тот или другой, любой из дв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ith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 тот, ни д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ither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ither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o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so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иал.речи для выражения согл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несогласия, в качестве ответных реп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agda_07_riverina_milk%2012"/>
          <p:cNvPicPr/>
          <p:nvPr/>
        </p:nvPicPr>
        <p:blipFill>
          <a:blip r:embed="rId1"/>
          <a:stretch/>
        </p:blipFill>
        <p:spPr>
          <a:xfrm>
            <a:off x="6172200" y="40384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4236840" y="620712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Bradley Hand ITC"/>
              </a:rPr>
              <a:t>Would you like</a:t>
            </a: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Bradley Hand ITC"/>
              </a:rPr>
              <a:t>some</a:t>
            </a: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Bradley Hand ITC"/>
              </a:rPr>
              <a:t>milk? – Yes, pl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11:14:02Z</dcterms:created>
  <dc:creator>123</dc:creator>
  <dc:description/>
  <dc:language>en-US</dc:language>
  <cp:lastModifiedBy>Пользователь Windows</cp:lastModifiedBy>
  <dcterms:modified xsi:type="dcterms:W3CDTF">2022-05-26T13:02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