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jpeg" ContentType="image/jpeg"/>
  <Override PartName="/ppt/media/image8.jpeg" ContentType="image/jpeg"/>
  <Override PartName="/ppt/media/image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D8B-0865-485B-B1E3-FE578F8F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2FB-A01C-4DC6-82A6-1572804F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33B-8C19-46B0-B002-253969F2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F52-F57D-460E-AB31-137212EA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8E4-F9B8-48FB-AF0A-4C702F98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410-F52E-4EF3-A4DC-2783AB41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B41-0725-46D2-9BFB-D92DE53B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0A2-954A-4FFE-984C-F8AD843E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179-BAC9-4C92-BE30-CC14EC4A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D65-3919-4E73-AFBD-0B1E8C56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3E7-1EF2-4FF2-911A-C677CDBB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6BA-27BE-4597-A801-A16655E5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7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76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76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4433-D2D2-4E8F-8E38-66649FC29AAC}" type="datetime">
              <a:rPr b="0" lang="ru-RU" sz="1200" spc="-1" strike="noStrike">
                <a:solidFill>
                  <a:srgbClr val="a78989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898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8989"/>
                </a:solidFill>
                <a:latin typeface="Constantia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7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D82C-C15D-4416-8AC7-393F575E23EB}" type="slidenum">
              <a:rPr b="0" lang="ru-RU" sz="1200" spc="-1" strike="noStrike">
                <a:solidFill>
                  <a:srgbClr val="a7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82501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700" spc="-1" strike="noStrike">
                <a:solidFill>
                  <a:srgbClr val="760000"/>
                </a:solidFill>
                <a:latin typeface="Constantia"/>
              </a:rPr>
              <a:t>Духовно-нравственное воспитание школьников во внеурочной деятельности ГПД</a:t>
            </a:r>
            <a:r>
              <a:rPr b="0" lang="ru-RU" sz="2700" spc="-1" strike="noStrike">
                <a:solidFill>
                  <a:srgbClr val="760000"/>
                </a:solidFill>
                <a:latin typeface="Constantia"/>
              </a:rPr>
              <a:t> </a:t>
            </a:r>
            <a:br>
              <a:rPr sz="2700"/>
            </a:br>
            <a:r>
              <a:rPr b="1" i="1" lang="ru-RU" sz="2500" spc="-1" strike="noStrike">
                <a:solidFill>
                  <a:srgbClr val="760000"/>
                </a:solidFill>
                <a:latin typeface="Constantia"/>
              </a:rPr>
              <a:t>«Духовно-нравственное  воспитание</a:t>
            </a:r>
            <a:r>
              <a:rPr b="1" i="1" lang="ru-RU" sz="2500" spc="-1" strike="noStrike">
                <a:solidFill>
                  <a:srgbClr val="760000"/>
                </a:solidFill>
                <a:latin typeface="Arial"/>
              </a:rPr>
              <a:t>  </a:t>
            </a:r>
            <a:r>
              <a:rPr b="1" i="1" lang="ru-RU" sz="2500" spc="-1" strike="noStrike">
                <a:solidFill>
                  <a:srgbClr val="760000"/>
                </a:solidFill>
                <a:latin typeface="Constantia"/>
              </a:rPr>
              <a:t>-приоритетное  направление современного процесса образования»</a:t>
            </a:r>
            <a:br>
              <a:rPr sz="25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760000"/>
                </a:solidFill>
                <a:latin typeface="Constantia"/>
              </a:rPr>
              <a:t>           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760000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760000"/>
              </a:solidFill>
              <a:latin typeface="Constantia"/>
            </a:endParaRPr>
          </a:p>
        </p:txBody>
      </p:sp>
      <p:pic>
        <p:nvPicPr>
          <p:cNvPr id="42" name="Picture 6" descr="pic_full_08"/>
          <p:cNvPicPr/>
          <p:nvPr/>
        </p:nvPicPr>
        <p:blipFill>
          <a:blip r:embed="rId2"/>
          <a:stretch/>
        </p:blipFill>
        <p:spPr>
          <a:xfrm>
            <a:off x="2286000" y="3071880"/>
            <a:ext cx="4214880" cy="321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F:\рисунки\1661965[1].jpg"/>
          <p:cNvPicPr/>
          <p:nvPr/>
        </p:nvPicPr>
        <p:blipFill>
          <a:blip r:embed="rId3"/>
          <a:stretch/>
        </p:blipFill>
        <p:spPr>
          <a:xfrm>
            <a:off x="971640" y="2421000"/>
            <a:ext cx="7429320" cy="4143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2"/>
          <p:cNvSpPr/>
          <p:nvPr/>
        </p:nvSpPr>
        <p:spPr>
          <a:xfrm>
            <a:off x="2143080" y="2500200"/>
            <a:ext cx="564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«Сделать себя нравственнее, добрее, чище – значит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сделать таким мир вокруг себя»</a:t>
            </a:r>
            <a:endParaRPr b="0" lang="en-US" sz="28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395280" y="55368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обходимо воспитывать в детях милосердие, сострадание, умение прощать обиды, желание помогать, быть терпимыми.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Учить быть примером для других не на словах, а на деле, избегать зла, зависти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довольствоваться тем, что имеешь. Уметь просить прощения, поступать честно, никогда не делать другим того, чего не желаешь 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себе.</a:t>
            </a:r>
            <a:endParaRPr b="0" lang="en-US" sz="24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85" name="Picture 10" descr="21795"/>
          <p:cNvPicPr/>
          <p:nvPr/>
        </p:nvPicPr>
        <p:blipFill>
          <a:blip r:embed="rId1"/>
          <a:stretch/>
        </p:blipFill>
        <p:spPr>
          <a:xfrm>
            <a:off x="5867280" y="3587760"/>
            <a:ext cx="2560680" cy="2693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0593c0ddb34e"/>
          <p:cNvPicPr/>
          <p:nvPr/>
        </p:nvPicPr>
        <p:blipFill>
          <a:blip r:embed="rId1"/>
          <a:stretch/>
        </p:blipFill>
        <p:spPr>
          <a:xfrm>
            <a:off x="500040" y="428760"/>
            <a:ext cx="8072640" cy="587664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712800" y="5645160"/>
            <a:ext cx="7840800" cy="920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5"/>
          <p:cNvSpPr/>
          <p:nvPr/>
        </p:nvSpPr>
        <p:spPr>
          <a:xfrm>
            <a:off x="857160" y="54936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6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50920" y="7506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 воспитание подрастающего поколения – важнейшее направление воспитания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тинного воспитания – пробудить в детях стремление ко всему духовно-нравственному, помочь им выработать чистоту нравов, уважение во взаимоотношениях, оградить их от зла,  сформировать        систему нравственных ориентиров. 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47" name="Picture 10" descr="21795"/>
          <p:cNvPicPr/>
          <p:nvPr/>
        </p:nvPicPr>
        <p:blipFill>
          <a:blip r:embed="rId1"/>
          <a:stretch/>
        </p:blipFill>
        <p:spPr>
          <a:xfrm>
            <a:off x="5076720" y="3259080"/>
            <a:ext cx="3781440" cy="3241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0480" y="188640"/>
            <a:ext cx="83293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onstantia"/>
              </a:rPr>
              <a:t>Направления духовно-нравственного воспитания обучающихся в группах продленного дня</a:t>
            </a:r>
            <a:endParaRPr b="0" lang="en-US" sz="3200" spc="-1" strike="noStrike">
              <a:solidFill>
                <a:srgbClr val="760000"/>
              </a:solidFill>
              <a:latin typeface="Constantia"/>
            </a:endParaRPr>
          </a:p>
        </p:txBody>
      </p:sp>
      <p:cxnSp>
        <p:nvCxnSpPr>
          <p:cNvPr id="49" name="Прямая со стрелкой 7"/>
          <p:cNvCxnSpPr/>
          <p:nvPr/>
        </p:nvCxnSpPr>
        <p:spPr>
          <a:xfrm>
            <a:off x="6372000" y="1484280"/>
            <a:ext cx="115272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Прямая со стрелкой 9"/>
          <p:cNvCxnSpPr/>
          <p:nvPr/>
        </p:nvCxnSpPr>
        <p:spPr>
          <a:xfrm>
            <a:off x="5291640" y="1628280"/>
            <a:ext cx="432360" cy="129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13"/>
          <p:cNvCxnSpPr>
            <a:stCxn id="48" idx="2"/>
          </p:cNvCxnSpPr>
          <p:nvPr/>
        </p:nvCxnSpPr>
        <p:spPr>
          <a:xfrm>
            <a:off x="4583520" y="1628280"/>
            <a:ext cx="96120" cy="3731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5"/>
          <p:cNvCxnSpPr/>
          <p:nvPr/>
        </p:nvCxnSpPr>
        <p:spPr>
          <a:xfrm flipH="1">
            <a:off x="1042560" y="1125360"/>
            <a:ext cx="50544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7"/>
          <p:cNvCxnSpPr/>
          <p:nvPr/>
        </p:nvCxnSpPr>
        <p:spPr>
          <a:xfrm flipH="1">
            <a:off x="1691640" y="1123560"/>
            <a:ext cx="935640" cy="302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9"/>
          <p:cNvCxnSpPr/>
          <p:nvPr/>
        </p:nvCxnSpPr>
        <p:spPr>
          <a:xfrm flipH="1">
            <a:off x="3131640" y="1628640"/>
            <a:ext cx="432720" cy="21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TextBox 20"/>
          <p:cNvSpPr/>
          <p:nvPr/>
        </p:nvSpPr>
        <p:spPr>
          <a:xfrm>
            <a:off x="395280" y="2565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Ознакомление с природой 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395280" y="429264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Патриотизм и гражданственность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403236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Традиционные народные праздники 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7056360" y="278136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Искусство и литература  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59" name="TextBox 27"/>
          <p:cNvSpPr/>
          <p:nvPr/>
        </p:nvSpPr>
        <p:spPr>
          <a:xfrm>
            <a:off x="5292720" y="3141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Труд и творчество 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2700360" y="393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Моя семья</a:t>
            </a:r>
            <a:endParaRPr b="0" lang="en-US" sz="1600" spc="-1" strike="noStrike">
              <a:solidFill>
                <a:srgbClr val="76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857160" y="428760"/>
            <a:ext cx="184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15800" y="1285920"/>
            <a:ext cx="84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45a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684360" y="765000"/>
            <a:ext cx="37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Ознакомление с  природой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повышает  познавательный интерес к природо-экологическому циклу. Для этого проводятся развивающие игры, экскурсии и целевые прогулки «По следам пернатых», «Зимний сон», «Город, в котором я живу», а также работа с энциклопедиями. 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64" name="Picture 11" descr="C:\Users\сергей\Desktop\iCAQKXDP5.jpg"/>
          <p:cNvPicPr/>
          <p:nvPr/>
        </p:nvPicPr>
        <p:blipFill>
          <a:blip r:embed="rId3"/>
          <a:stretch/>
        </p:blipFill>
        <p:spPr>
          <a:xfrm>
            <a:off x="4500720" y="3789360"/>
            <a:ext cx="3995640" cy="267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C:\Users\сергей\Desktop\iCAE65P66.jpg"/>
          <p:cNvPicPr/>
          <p:nvPr/>
        </p:nvPicPr>
        <p:blipFill>
          <a:blip r:embed="rId4"/>
          <a:stretch/>
        </p:blipFill>
        <p:spPr>
          <a:xfrm>
            <a:off x="539640" y="3716280"/>
            <a:ext cx="3882960" cy="2749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C:\Users\сергей\Desktop\iCA4X4J0B.jpg"/>
          <p:cNvPicPr/>
          <p:nvPr/>
        </p:nvPicPr>
        <p:blipFill>
          <a:blip r:embed="rId5"/>
          <a:stretch/>
        </p:blipFill>
        <p:spPr>
          <a:xfrm>
            <a:off x="4427640" y="836640"/>
            <a:ext cx="4168800" cy="2779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0"/>
          <p:cNvSpPr/>
          <p:nvPr/>
        </p:nvSpPr>
        <p:spPr>
          <a:xfrm>
            <a:off x="4788000" y="333360"/>
            <a:ext cx="3960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" action="ppaction://hlinksldjump"/>
              </a:rPr>
              <a:t>Патриотизм и гражданственность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 action="ppaction://hlinksldjump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 action="ppaction://hlinksldjump"/>
              </a:rPr>
              <a:t>- </a:t>
            </a:r>
            <a:r>
              <a:rPr b="0" lang="ru-RU" sz="1800" spc="-1" strike="noStrike">
                <a:solidFill>
                  <a:srgbClr val="1e1c11"/>
                </a:solidFill>
                <a:latin typeface="Calibri"/>
                <a:ea typeface="Times New Roman"/>
              </a:rPr>
              <a:t>любовь к Родине, своему краю, своему народу, служение Отечеству. Занятия на эти темы проводятся на коррекционных и клубных часах  (экскурсии, встречи с интересными людьми, смотр песни и строя, тематические выставки детских работ, совместные праздники с родителями, выполнение поздравительных открыток)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68" name="Picture 9" descr="C:\Users\сергей\Desktop\смотр песни и строя\IMG_3555.JPG"/>
          <p:cNvPicPr/>
          <p:nvPr/>
        </p:nvPicPr>
        <p:blipFill>
          <a:blip r:embed="rId4"/>
          <a:stretch/>
        </p:blipFill>
        <p:spPr>
          <a:xfrm>
            <a:off x="324000" y="620640"/>
            <a:ext cx="4103640" cy="309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:\Users\сергей\Desktop\смотр песни и строя\IMG_3584.JPG"/>
          <p:cNvPicPr/>
          <p:nvPr/>
        </p:nvPicPr>
        <p:blipFill>
          <a:blip r:embed="rId5"/>
          <a:stretch/>
        </p:blipFill>
        <p:spPr>
          <a:xfrm>
            <a:off x="4714920" y="3471840"/>
            <a:ext cx="4105080" cy="2976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47203"/>
          <p:cNvPicPr/>
          <p:nvPr/>
        </p:nvPicPr>
        <p:blipFill>
          <a:blip r:embed="rId6"/>
          <a:stretch/>
        </p:blipFill>
        <p:spPr>
          <a:xfrm>
            <a:off x="684360" y="3716280"/>
            <a:ext cx="2788920" cy="2789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Изображение 447.jpg"/>
          <p:cNvPicPr/>
          <p:nvPr/>
        </p:nvPicPr>
        <p:blipFill>
          <a:blip r:embed="rId1"/>
          <a:stretch/>
        </p:blipFill>
        <p:spPr>
          <a:xfrm>
            <a:off x="4427640" y="3789360"/>
            <a:ext cx="3673440" cy="2592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611280" y="824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 action="ppaction://hlinksldjump"/>
              </a:rPr>
              <a:t>Традиционные народные праздники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 action="ppaction://hlinksldjump"/>
              </a:rPr>
              <a:t> –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особая форма воспитательной работы, включающая различные виды деятельности детей: Масленица, рождественские посиделки, День матери, День пожилого человека. При подготовке к этим праздникам ребенок чувствует свою значимость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73" name="Picture 10" descr="C:\Users\сергей\Desktop\iCAWXYY8P.jpg"/>
          <p:cNvPicPr/>
          <p:nvPr/>
        </p:nvPicPr>
        <p:blipFill>
          <a:blip r:embed="rId4"/>
          <a:stretch/>
        </p:blipFill>
        <p:spPr>
          <a:xfrm>
            <a:off x="5508720" y="620640"/>
            <a:ext cx="3240000" cy="287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C:\Users\сергей\Desktop\iCAMX6UHR.jpg"/>
          <p:cNvPicPr/>
          <p:nvPr/>
        </p:nvPicPr>
        <p:blipFill>
          <a:blip r:embed="rId5"/>
          <a:stretch/>
        </p:blipFill>
        <p:spPr>
          <a:xfrm>
            <a:off x="592200" y="3500280"/>
            <a:ext cx="3390840" cy="2665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5"/>
          <p:cNvSpPr/>
          <p:nvPr/>
        </p:nvSpPr>
        <p:spPr>
          <a:xfrm>
            <a:off x="1692360" y="54936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6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e1c11"/>
                </a:solidFill>
                <a:latin typeface="Arial"/>
              </a:rPr>
              <a:t>Искусство и литература.</a:t>
            </a:r>
            <a:r>
              <a:rPr b="1" lang="ru-RU" sz="1800" spc="-1" strike="noStrike">
                <a:solidFill>
                  <a:srgbClr val="2d6cb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1e1c11"/>
                </a:solidFill>
                <a:latin typeface="Arial"/>
              </a:rPr>
              <a:t>Данные темы раскрываются  на коррекционных занятиях, воспитание сказкой, на библиотечных занятиях и занятиях по интересам  в кружках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76" name="Picture 9" descr="D:\Мама\фото 2\P1250131.JPG"/>
          <p:cNvPicPr/>
          <p:nvPr/>
        </p:nvPicPr>
        <p:blipFill>
          <a:blip r:embed="rId1"/>
          <a:stretch/>
        </p:blipFill>
        <p:spPr>
          <a:xfrm>
            <a:off x="4140360" y="2492280"/>
            <a:ext cx="4640040" cy="3743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D:\Мама\фото 2\P1250144.JPG"/>
          <p:cNvPicPr/>
          <p:nvPr/>
        </p:nvPicPr>
        <p:blipFill>
          <a:blip r:embed="rId2"/>
          <a:stretch/>
        </p:blipFill>
        <p:spPr>
          <a:xfrm>
            <a:off x="324000" y="2997360"/>
            <a:ext cx="3743280" cy="3247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Изображение 693.jpg"/>
          <p:cNvPicPr/>
          <p:nvPr/>
        </p:nvPicPr>
        <p:blipFill>
          <a:blip r:embed="rId1"/>
          <a:stretch/>
        </p:blipFill>
        <p:spPr>
          <a:xfrm>
            <a:off x="324000" y="3357720"/>
            <a:ext cx="4205160" cy="31543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"/>
          <p:cNvSpPr/>
          <p:nvPr/>
        </p:nvSpPr>
        <p:spPr>
          <a:xfrm>
            <a:off x="611280" y="1125360"/>
            <a:ext cx="3744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Труд и творчество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333333"/>
                </a:solidFill>
                <a:latin typeface="Calibri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Дети начинают понимать и уважать свой труд,   появляется созидание, настойчивость, целеустремленность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80" name="Рисунок 6" descr="P3070179.JPG"/>
          <p:cNvPicPr/>
          <p:nvPr/>
        </p:nvPicPr>
        <p:blipFill>
          <a:blip r:embed="rId2"/>
          <a:stretch/>
        </p:blipFill>
        <p:spPr>
          <a:xfrm>
            <a:off x="4572000" y="404640"/>
            <a:ext cx="4422600" cy="3316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47203"/>
          <p:cNvPicPr/>
          <p:nvPr/>
        </p:nvPicPr>
        <p:blipFill>
          <a:blip r:embed="rId3"/>
          <a:stretch/>
        </p:blipFill>
        <p:spPr>
          <a:xfrm>
            <a:off x="6300720" y="393372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7"/>
          <p:cNvSpPr/>
          <p:nvPr/>
        </p:nvSpPr>
        <p:spPr>
          <a:xfrm>
            <a:off x="826920" y="549360"/>
            <a:ext cx="72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Моя семья.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  Любовь и верность, уважение к родителям, забота о старших и младших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достигается через совместную деятельность (праздники, труд, игры, знакомство с семейными альбомами, экскурсии).</a:t>
            </a:r>
            <a:endParaRPr b="0" lang="en-US" sz="1800" spc="-1" strike="noStrike">
              <a:solidFill>
                <a:srgbClr val="760000"/>
              </a:solidFill>
              <a:latin typeface="Arial"/>
            </a:endParaRPr>
          </a:p>
        </p:txBody>
      </p:sp>
      <p:pic>
        <p:nvPicPr>
          <p:cNvPr id="83" name="Рисунок 8" descr="P3070187.JPG"/>
          <p:cNvPicPr/>
          <p:nvPr/>
        </p:nvPicPr>
        <p:blipFill>
          <a:blip r:embed="rId1"/>
          <a:stretch/>
        </p:blipFill>
        <p:spPr>
          <a:xfrm>
            <a:off x="1960560" y="2060640"/>
            <a:ext cx="5491080" cy="4252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6:27:03Z</dcterms:created>
  <dc:creator>Admin</dc:creator>
  <dc:description>http://aida.ucoz.ru</dc:description>
  <dc:language>en-US</dc:language>
  <cp:lastModifiedBy>Никита Зайцев</cp:lastModifiedBy>
  <dcterms:modified xsi:type="dcterms:W3CDTF">2022-08-22T13:53:49Z</dcterms:modified>
  <cp:revision>240</cp:revision>
  <dc:subject/>
  <dc:title>Слайд 1</dc:title>
</cp:coreProperties>
</file>