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05B-8753-42B9-B51B-829ECC54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5AC-6AAA-4034-8007-5D6D94C6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61B8-57CE-49C5-9045-308A223E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9A0A-A3CA-49E6-9D4F-7FA26319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8A77-7C49-4085-8FF8-225605A4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BE12-41E1-4214-8121-8F7E2C05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5DC3-B188-4AD4-8267-5F05E643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1995-A446-4BDC-ABE6-85CD13B5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5D39-1864-4BDC-913E-A6361209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B6CB-53E8-439A-8D17-BF8027AF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E28B-C005-4FC6-8E1F-FEEECAAD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48F-BDBF-4259-A3FC-1187D5C9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E3CB-06ED-4491-BFB7-81847400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09F8-5C35-4D81-A91A-91ED8BFA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2E0F-9965-4BB1-A236-A399DA9D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CA1E-11DA-4FB0-8CCC-946D1134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E208-56F2-4516-B804-541DEFC3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1CEE-6CB3-43B4-BA34-F6959290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46F-E1BE-4891-BB5A-7B9B4C64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859-9989-4744-A4B6-8EF6E4EC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640-B1D6-4407-83FB-332E3875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A79B-D3FA-4A12-8B0D-302C961C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8B10-CCC5-4AC7-AAE9-8F73FB24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D63-F429-436E-810D-0AF8A840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4126-5D99-4FDC-8622-FC9FB9CB9F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D32C-8F8D-45EB-A15F-2289430708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4" descr=""/>
          <p:cNvPicPr/>
          <p:nvPr/>
        </p:nvPicPr>
        <p:blipFill>
          <a:blip r:embed="rId1"/>
          <a:stretch/>
        </p:blipFill>
        <p:spPr>
          <a:xfrm>
            <a:off x="901800" y="907920"/>
            <a:ext cx="7596000" cy="212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468360" y="1028880"/>
            <a:ext cx="8675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драз-нить-с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дразнить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о-про-бо-ва-л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попробовал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зав-тра-ка-л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завтракал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за-сме-я-лас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засмеялась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дро-жа-щим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дрожащи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о-го-во-рил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проговори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о-прав-ляй-с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поправляй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схли-пы-ва-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всхлипыва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-би-жа-лас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обижала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971280" y="333360"/>
            <a:ext cx="3999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итай слова к тек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611280" y="404640"/>
            <a:ext cx="820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 называется произведение?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Кто автор рассказа?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Рассмотрите  иллюстрации  и  назовите  героев  рассказа  «Саша-дразнил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http://www.bookin.org.ru/book/75464.jpg"/>
          <p:cNvPicPr/>
          <p:nvPr/>
        </p:nvPicPr>
        <p:blipFill>
          <a:blip r:embed="rId1"/>
          <a:stretch/>
        </p:blipFill>
        <p:spPr>
          <a:xfrm>
            <a:off x="3276720" y="2781360"/>
            <a:ext cx="2388960" cy="373860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polinka.net/wp-content/uploads/2013/01/117.jpg"/>
          <p:cNvPicPr/>
          <p:nvPr/>
        </p:nvPicPr>
        <p:blipFill>
          <a:blip r:embed="rId1"/>
          <a:stretch/>
        </p:blipFill>
        <p:spPr>
          <a:xfrm>
            <a:off x="6095880" y="3068640"/>
            <a:ext cx="2733840" cy="345600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5" name="Прямоугольник 2"/>
          <p:cNvSpPr/>
          <p:nvPr/>
        </p:nvSpPr>
        <p:spPr>
          <a:xfrm>
            <a:off x="611280" y="260280"/>
            <a:ext cx="8064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чему Ляля обижалась и плакала?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К кому обратилась за помощью девочка?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Стал ли папа ругать Сашу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спользовалась ли Ляля советом папы?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Как Саша отреагиров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на изменение пове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сестры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чему Саша заплакал?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Прочтите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посоветовал Ляле пап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"/>
          <p:cNvSpPr/>
          <p:nvPr/>
        </p:nvSpPr>
        <p:spPr>
          <a:xfrm>
            <a:off x="611280" y="260280"/>
            <a:ext cx="806436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чтите тот отрывок из рассказа, в котором описывается перемена отношения девочки к обидам брата.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Прочтите отрывок, в котором описывается, как Саша обидел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и заплака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Arial"/>
              </a:rPr>
              <a:t>Как вы думаете, отучится ли теперь Саша дразнить сестрёнку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539640" y="3789360"/>
            <a:ext cx="82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аз, два - встать пора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Три, четыре - руки шире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ять, шесть - тихо сесть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емь, восемь - лень отброс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Прямоугольник 2" descr=""/>
          <p:cNvPicPr/>
          <p:nvPr/>
        </p:nvPicPr>
        <p:blipFill>
          <a:blip r:embed="rId1"/>
          <a:stretch/>
        </p:blipFill>
        <p:spPr>
          <a:xfrm>
            <a:off x="1176480" y="189000"/>
            <a:ext cx="6430680" cy="920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D:\клипарты\Дети\0_947cd_f37c8d03_S.png"/>
          <p:cNvPicPr/>
          <p:nvPr/>
        </p:nvPicPr>
        <p:blipFill>
          <a:blip r:embed="rId2"/>
          <a:stretch/>
        </p:blipFill>
        <p:spPr>
          <a:xfrm>
            <a:off x="6300720" y="1177920"/>
            <a:ext cx="2413080" cy="3127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royallib.com/zip_emu/br/253/253598/i_011.jpg"/>
          <p:cNvPicPr/>
          <p:nvPr/>
        </p:nvPicPr>
        <p:blipFill>
          <a:blip r:embed="rId1"/>
          <a:stretch/>
        </p:blipFill>
        <p:spPr>
          <a:xfrm>
            <a:off x="1619280" y="1052640"/>
            <a:ext cx="5667480" cy="547200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1" name="TextBox 2"/>
          <p:cNvSpPr/>
          <p:nvPr/>
        </p:nvSpPr>
        <p:spPr>
          <a:xfrm>
            <a:off x="561240" y="260280"/>
            <a:ext cx="6852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бери отрывки из текста к иллюст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images.mreadz.com/130/129827/12.jpg"/>
          <p:cNvPicPr/>
          <p:nvPr/>
        </p:nvPicPr>
        <p:blipFill>
          <a:blip r:embed="rId1"/>
          <a:stretch/>
        </p:blipFill>
        <p:spPr>
          <a:xfrm>
            <a:off x="701640" y="291960"/>
            <a:ext cx="7902720" cy="630576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468360" y="1844640"/>
            <a:ext cx="82803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частей в рассказе?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Как он начин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 можно озаглавить первую часть?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Как озаглавить вторую часть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 озаглавить третью часть рассказа?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Рассмотрите иллюстр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 какой части рассказа она подходит?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036880" y="260280"/>
            <a:ext cx="5095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готовка к переск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395280" y="1989000"/>
            <a:ext cx="842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1. Совет папы.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2. За столом.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3. Саша обиделс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ямоугольник 2" descr=""/>
          <p:cNvPicPr/>
          <p:nvPr/>
        </p:nvPicPr>
        <p:blipFill>
          <a:blip r:embed="rId1"/>
          <a:stretch/>
        </p:blipFill>
        <p:spPr>
          <a:xfrm>
            <a:off x="1500120" y="249120"/>
            <a:ext cx="5778720" cy="94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395280" y="1441440"/>
            <a:ext cx="87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 каждой шутке есть доля правды.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Кто не любит шуток, над тем не шути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юбишь шутить над Фомой, так люби и над собой.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Не смейся чужой беде, своя на гряде.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Arial"/>
                <a:ea typeface="Arial"/>
              </a:rPr>
              <a:t>И рад бы заплакать, да смех одоле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л</a:t>
            </a:r>
            <a:r>
              <a:rPr b="0" i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.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856080" y="404640"/>
            <a:ext cx="62506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пословицы подойдут к рассказ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611280" y="333360"/>
            <a:ext cx="45720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тите слова по слог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29-03-023.jpg"/>
          <p:cNvPicPr/>
          <p:nvPr/>
        </p:nvPicPr>
        <p:blipFill>
          <a:blip r:embed="rId1"/>
          <a:stretch/>
        </p:blipFill>
        <p:spPr>
          <a:xfrm>
            <a:off x="468360" y="1052640"/>
            <a:ext cx="7427880" cy="55591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3"/>
          <p:cNvSpPr/>
          <p:nvPr/>
        </p:nvSpPr>
        <p:spPr>
          <a:xfrm>
            <a:off x="4067280" y="5732640"/>
            <a:ext cx="4572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ы считаете, это плохо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как хорош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468360" y="1989000"/>
            <a:ext cx="626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С каким произведением мы познакомились на уроке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 автор этого рассказа?</a:t>
            </a:r>
            <a:br>
              <a:rPr sz="3200"/>
            </a:b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Кто его главные геро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Чему учит это произвед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и свою работу на урок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684360" y="692280"/>
            <a:ext cx="6697440" cy="545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цени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Зелёный цвет- мне всё интересно, я работаю на уро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Жёлтый цвет- мне не всё понятно на уро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расный цвет-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оп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не не 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2"/>
          <p:cNvSpPr/>
          <p:nvPr/>
        </p:nvSpPr>
        <p:spPr>
          <a:xfrm>
            <a:off x="7667640" y="260280"/>
            <a:ext cx="1152360" cy="1081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3"/>
          <p:cNvSpPr/>
          <p:nvPr/>
        </p:nvSpPr>
        <p:spPr>
          <a:xfrm>
            <a:off x="7812000" y="2708280"/>
            <a:ext cx="1152720" cy="1081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4"/>
          <p:cNvSpPr/>
          <p:nvPr/>
        </p:nvSpPr>
        <p:spPr>
          <a:xfrm>
            <a:off x="7740720" y="1484280"/>
            <a:ext cx="1152360" cy="1081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29-03-024.jpg"/>
          <p:cNvPicPr/>
          <p:nvPr/>
        </p:nvPicPr>
        <p:blipFill>
          <a:blip r:embed="rId1"/>
          <a:stretch/>
        </p:blipFill>
        <p:spPr>
          <a:xfrm>
            <a:off x="468360" y="189000"/>
            <a:ext cx="8466120" cy="6335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468360" y="2421000"/>
            <a:ext cx="867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Ба-бу-бы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– на дворе стоя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толбы,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Бу-бы-б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из окна торчит труба,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До-ду-д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гудят провода,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Уж-жу-жу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– молока дадим уж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695520" y="260280"/>
            <a:ext cx="52862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итайте чётко, ясно и вес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publ.lib.ru/ARCHIVES/A/ARTYUHOVA_Nina_Mihaylovna/.Online/Artyuhova_N.M.-P001..jpg"/>
          <p:cNvPicPr/>
          <p:nvPr/>
        </p:nvPicPr>
        <p:blipFill>
          <a:blip r:embed="rId1"/>
          <a:stretch/>
        </p:blipFill>
        <p:spPr>
          <a:xfrm>
            <a:off x="2700360" y="1844640"/>
            <a:ext cx="3527280" cy="470556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0" name="TextBox 2"/>
          <p:cNvSpPr/>
          <p:nvPr/>
        </p:nvSpPr>
        <p:spPr>
          <a:xfrm>
            <a:off x="1129680" y="333360"/>
            <a:ext cx="6698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ина Михайловна Артюх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(1901-199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www.e-reading.club/cover/3/3131.jpg"/>
          <p:cNvPicPr/>
          <p:nvPr/>
        </p:nvPicPr>
        <p:blipFill>
          <a:blip r:embed="rId1"/>
          <a:stretch/>
        </p:blipFill>
        <p:spPr>
          <a:xfrm>
            <a:off x="611280" y="333360"/>
            <a:ext cx="1807920" cy="2808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www.rulit.me/data/programs/images/marinka_381332.jpg"/>
          <p:cNvPicPr/>
          <p:nvPr/>
        </p:nvPicPr>
        <p:blipFill>
          <a:blip r:embed="rId2"/>
          <a:stretch/>
        </p:blipFill>
        <p:spPr>
          <a:xfrm>
            <a:off x="6156360" y="260280"/>
            <a:ext cx="2619360" cy="374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bookin.org.ru/book/75464.jpg"/>
          <p:cNvPicPr/>
          <p:nvPr/>
        </p:nvPicPr>
        <p:blipFill>
          <a:blip r:embed="rId3"/>
          <a:stretch/>
        </p:blipFill>
        <p:spPr>
          <a:xfrm>
            <a:off x="2771640" y="3610080"/>
            <a:ext cx="1871640" cy="292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www.litmir.co/BookBinary/45960/1333242976/CoverNormal.jpg"/>
          <p:cNvPicPr/>
          <p:nvPr/>
        </p:nvPicPr>
        <p:blipFill>
          <a:blip r:embed="rId4"/>
          <a:stretch/>
        </p:blipFill>
        <p:spPr>
          <a:xfrm>
            <a:off x="611280" y="3429000"/>
            <a:ext cx="1800000" cy="3144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http://cdn5.imgbb.ru/user/97/972869/201504/8d03e82a96e283cc2a374331ad843015.jpg"/>
          <p:cNvPicPr/>
          <p:nvPr/>
        </p:nvPicPr>
        <p:blipFill>
          <a:blip r:embed="rId5"/>
          <a:stretch/>
        </p:blipFill>
        <p:spPr>
          <a:xfrm>
            <a:off x="3203640" y="260280"/>
            <a:ext cx="2262240" cy="295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http://www.litmir.co/data/Book/0/207000/207957/BC2_1402086465.jpg"/>
          <p:cNvPicPr/>
          <p:nvPr/>
        </p:nvPicPr>
        <p:blipFill>
          <a:blip r:embed="rId6"/>
          <a:stretch/>
        </p:blipFill>
        <p:spPr>
          <a:xfrm>
            <a:off x="5219640" y="3716280"/>
            <a:ext cx="1782720" cy="2735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684360" y="189000"/>
            <a:ext cx="8135640" cy="265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годня на уроке мы прочитаем рассказ Н. Артюховой «Саша-дразнилка»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вы думаете, дразнить – это хорошо или плохо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us.cdn2.123rf.com/168nwm/yayayoy/yayayoy1208/yayayoy120800008/14799452-%D0%9C%D0%B0%D0%BB%D1%8B%D1%88-%D0%B4%D0%B5%D0%BB%D0%B0%D0%B5%D1%82-%D0%BB%D0%B8%D1%86%D0%BE-%D0%B8-%D0%BF%D0%BE%D0%BA%D0%B0%D0%B7%D1%8B%D0%B2%D0%B0%D1%82%D1%8C-%D0%B5%D0%B3%D0%BE-%D1%8F%D0%B7%D1%8B%D0%BA.jpg"/>
          <p:cNvPicPr/>
          <p:nvPr/>
        </p:nvPicPr>
        <p:blipFill>
          <a:blip r:embed="rId1"/>
          <a:stretch/>
        </p:blipFill>
        <p:spPr>
          <a:xfrm>
            <a:off x="5867280" y="2565360"/>
            <a:ext cx="3076560" cy="385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stihidetyam.ru/upload/image/draznilki.jpg"/>
          <p:cNvPicPr/>
          <p:nvPr/>
        </p:nvPicPr>
        <p:blipFill>
          <a:blip r:embed="rId2"/>
          <a:stretch/>
        </p:blipFill>
        <p:spPr>
          <a:xfrm>
            <a:off x="468360" y="2852640"/>
            <a:ext cx="4653000" cy="349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9:15:11Z</dcterms:created>
  <dc:creator>Samsung</dc:creator>
  <dc:description/>
  <dc:language>en-US</dc:language>
  <cp:lastModifiedBy>Татьяна Гунькина</cp:lastModifiedBy>
  <dcterms:modified xsi:type="dcterms:W3CDTF">2022-04-12T14:58:08Z</dcterms:modified>
  <cp:revision>15</cp:revision>
  <dc:subject/>
  <dc:title>Слайд 1</dc:title>
</cp:coreProperties>
</file>