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2C5-66C9-48FE-8A42-341BEA1C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E6F-794A-4DCF-882B-F0B683AC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AB5-810B-4136-8806-34794E72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C37-550A-4917-9290-D9D9F380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B8F5-E94C-48B4-80F2-21E466D8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241E-1E0D-4BB0-B861-C150795E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81BA-EEC8-4F22-B923-46EA4D45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3780-EE76-4655-8EC5-7C9F42E2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D820-17A3-4C3A-9268-5E83508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32EC-CF0E-48C7-9954-409A99B2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EE90-B095-443A-B09B-BCAF82E0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5B5A-47EF-496C-8A6C-1C3E098E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EFAC-8432-4871-93E0-7036CD89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6B9E-1093-4A5D-B1D9-7604C576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B576-0F7E-4550-9521-E782C720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76E2-057E-460E-8A67-8E25CBEC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5C8B-5994-4417-91EF-BBAA9B60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260-B79F-4A31-BE5C-9047BF4F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936-4B55-4C98-950A-4BE5A8B2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50D-1264-4E57-9CBD-E021E54F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629-1D46-47A5-A453-56F6EE0E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B08-B2FF-45F8-A09A-C6F00D6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F70-E44F-410A-86BA-F47A0986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2C1-CCDE-4EA0-8072-51A9813E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8D31-9A91-4E63-8F1D-CF7305275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2891-D617-4E31-9203-C7A1F08F9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901800" y="907920"/>
            <a:ext cx="7596000" cy="212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468360" y="1028880"/>
            <a:ext cx="8675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раз-нить-с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дразнить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-про-бо-ва-л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попробовал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в-тра-ка-л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завтракал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-сме-я-лас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засмеялас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ро-жа-щим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дрожащим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о-го-во-рил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проговори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о-прав-ляй-с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поправляй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схли-пы-ва-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всхлипыва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о-би-жа-лас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обижала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971280" y="333360"/>
            <a:ext cx="3999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тай слова к тек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11280" y="404640"/>
            <a:ext cx="82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ется произведение?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Кто автор рассказа?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Рассмотрите  иллюстрации  и  назовите  героев  рассказа  «Саша-дразнил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www.bookin.org.ru/book/75464.jpg"/>
          <p:cNvPicPr/>
          <p:nvPr/>
        </p:nvPicPr>
        <p:blipFill>
          <a:blip r:embed="rId1"/>
          <a:stretch/>
        </p:blipFill>
        <p:spPr>
          <a:xfrm>
            <a:off x="3276720" y="2781360"/>
            <a:ext cx="2388960" cy="37386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polinka.net/wp-content/uploads/2013/01/117.jpg"/>
          <p:cNvPicPr/>
          <p:nvPr/>
        </p:nvPicPr>
        <p:blipFill>
          <a:blip r:embed="rId1"/>
          <a:stretch/>
        </p:blipFill>
        <p:spPr>
          <a:xfrm>
            <a:off x="6095880" y="3068640"/>
            <a:ext cx="2733840" cy="34560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5" name="Прямоугольник 2"/>
          <p:cNvSpPr/>
          <p:nvPr/>
        </p:nvSpPr>
        <p:spPr>
          <a:xfrm>
            <a:off x="611280" y="260280"/>
            <a:ext cx="806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чему Ляля обижалась и плакала?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К кому обратилась за помощью девочка?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Стал ли папа ругать Сашу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спользовалась ли Ляля советом папы?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ак Саша отреагир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на изменение пове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сестры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чему Саша заплакал?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Прочтите, ч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посоветовал Ляле пап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611280" y="260280"/>
            <a:ext cx="806436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чтите тот отрывок из рассказа, в котором описывается перемена отношения девочки к обидам брата.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Прочтите отрывок, в котором описывается, как Саша обиде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и заплак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Как вы думаете, отучится ли теперь Саша дразнить сестрёнку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539640" y="37893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аз, два - встать пора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Три, четыре - руки шире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ять, шесть - тихо сесть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емь, восемь - лень отброс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Прямоугольник 2" descr=""/>
          <p:cNvPicPr/>
          <p:nvPr/>
        </p:nvPicPr>
        <p:blipFill>
          <a:blip r:embed="rId1"/>
          <a:stretch/>
        </p:blipFill>
        <p:spPr>
          <a:xfrm>
            <a:off x="1176480" y="189000"/>
            <a:ext cx="6430680" cy="92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D:\клипарты\Дети\0_947cd_f37c8d03_S.png"/>
          <p:cNvPicPr/>
          <p:nvPr/>
        </p:nvPicPr>
        <p:blipFill>
          <a:blip r:embed="rId2"/>
          <a:stretch/>
        </p:blipFill>
        <p:spPr>
          <a:xfrm>
            <a:off x="6300720" y="1177920"/>
            <a:ext cx="2413080" cy="312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royallib.com/zip_emu/br/253/253598/i_011.jpg"/>
          <p:cNvPicPr/>
          <p:nvPr/>
        </p:nvPicPr>
        <p:blipFill>
          <a:blip r:embed="rId1"/>
          <a:stretch/>
        </p:blipFill>
        <p:spPr>
          <a:xfrm>
            <a:off x="1619280" y="1052640"/>
            <a:ext cx="5667480" cy="54720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1" name="TextBox 2"/>
          <p:cNvSpPr/>
          <p:nvPr/>
        </p:nvSpPr>
        <p:spPr>
          <a:xfrm>
            <a:off x="561240" y="260280"/>
            <a:ext cx="6852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ери отрывки из текста к иллю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images.mreadz.com/130/129827/12.jpg"/>
          <p:cNvPicPr/>
          <p:nvPr/>
        </p:nvPicPr>
        <p:blipFill>
          <a:blip r:embed="rId1"/>
          <a:stretch/>
        </p:blipFill>
        <p:spPr>
          <a:xfrm>
            <a:off x="701640" y="291960"/>
            <a:ext cx="7902720" cy="630576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468360" y="1844640"/>
            <a:ext cx="828036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частей в рассказе?</a:t>
            </a:r>
            <a:br>
              <a:rPr sz="3200"/>
            </a:b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Как он начин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можно озаглавить первую часть?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ак озаглавить вторую часть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ак озаглавить третью часть рассказа?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Рассмотрите иллюстр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 какой части рассказа она подходит?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036880" y="260280"/>
            <a:ext cx="5095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готовка к переск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95280" y="1989000"/>
            <a:ext cx="84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1. Совет папы.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2. За столом.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3. Саша обиделс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2" descr=""/>
          <p:cNvPicPr/>
          <p:nvPr/>
        </p:nvPicPr>
        <p:blipFill>
          <a:blip r:embed="rId1"/>
          <a:stretch/>
        </p:blipFill>
        <p:spPr>
          <a:xfrm>
            <a:off x="1500120" y="249120"/>
            <a:ext cx="5778720" cy="94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395280" y="1441440"/>
            <a:ext cx="87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 каждой шутке есть доля правды.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Кто не любит шуток, над тем не шути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юбишь шутить над Фомой, так люби и над собой.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Не смейся чужой беде, своя на гряде.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Arial"/>
                <a:ea typeface="Arial"/>
              </a:rPr>
              <a:t>И рад бы заплакать, да смех одоле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л</a:t>
            </a:r>
            <a:r>
              <a:rPr b="0" i="1" lang="ru-RU" sz="4000" spc="-1" strike="noStrike">
                <a:solidFill>
                  <a:srgbClr val="00b050"/>
                </a:solidFill>
                <a:latin typeface="Arial"/>
                <a:ea typeface="Arial"/>
              </a:rPr>
              <a:t>.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856080" y="404640"/>
            <a:ext cx="62506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пословицы подойдут к рассказ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11280" y="333360"/>
            <a:ext cx="45720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тите слова по слог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29-03-023.jpg"/>
          <p:cNvPicPr/>
          <p:nvPr/>
        </p:nvPicPr>
        <p:blipFill>
          <a:blip r:embed="rId1"/>
          <a:stretch/>
        </p:blipFill>
        <p:spPr>
          <a:xfrm>
            <a:off x="468360" y="1052640"/>
            <a:ext cx="7427880" cy="55591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3"/>
          <p:cNvSpPr/>
          <p:nvPr/>
        </p:nvSpPr>
        <p:spPr>
          <a:xfrm>
            <a:off x="4067280" y="5732640"/>
            <a:ext cx="4572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 считаете, это плохо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как хорош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468360" y="1989000"/>
            <a:ext cx="62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С каким произведением мы познакомились на уроке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автор этого рассказа?</a:t>
            </a:r>
            <a:br>
              <a:rPr sz="3200"/>
            </a:br>
            <a:r>
              <a:rPr b="1" lang="ru-RU" sz="3200" spc="-1" strike="noStrike">
                <a:solidFill>
                  <a:srgbClr val="953735"/>
                </a:solidFill>
                <a:latin typeface="Arial"/>
              </a:rPr>
              <a:t>Кто его главные геро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Чему учит это произве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 свою работу на урок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684360" y="692280"/>
            <a:ext cx="6697440" cy="545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цените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Зелёный цвет- мне всё интересно, я работаю на уро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Arial"/>
              </a:rPr>
              <a:t>Жёлтый цвет- мне не всё понятно на уро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расный цвет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оп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не не 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2"/>
          <p:cNvSpPr/>
          <p:nvPr/>
        </p:nvSpPr>
        <p:spPr>
          <a:xfrm>
            <a:off x="7667640" y="260280"/>
            <a:ext cx="1152360" cy="1081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3"/>
          <p:cNvSpPr/>
          <p:nvPr/>
        </p:nvSpPr>
        <p:spPr>
          <a:xfrm>
            <a:off x="7812000" y="2708280"/>
            <a:ext cx="1152720" cy="1081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4"/>
          <p:cNvSpPr/>
          <p:nvPr/>
        </p:nvSpPr>
        <p:spPr>
          <a:xfrm>
            <a:off x="7740720" y="1484280"/>
            <a:ext cx="1152360" cy="1081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29-03-024.jpg"/>
          <p:cNvPicPr/>
          <p:nvPr/>
        </p:nvPicPr>
        <p:blipFill>
          <a:blip r:embed="rId1"/>
          <a:stretch/>
        </p:blipFill>
        <p:spPr>
          <a:xfrm>
            <a:off x="468360" y="189000"/>
            <a:ext cx="8466120" cy="633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468360" y="2421000"/>
            <a:ext cx="867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Ба-бу-бы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– на дворе стоя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толбы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Бу-бы-б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из окна торчит труба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До-ду-д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– гудят провода,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Уж-жу-жу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– молока дадим уж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695520" y="260280"/>
            <a:ext cx="52862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тайте чётко, ясно и ве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publ.lib.ru/ARCHIVES/A/ARTYUHOVA_Nina_Mihaylovna/.Online/Artyuhova_N.M.-P001..jpg"/>
          <p:cNvPicPr/>
          <p:nvPr/>
        </p:nvPicPr>
        <p:blipFill>
          <a:blip r:embed="rId1"/>
          <a:stretch/>
        </p:blipFill>
        <p:spPr>
          <a:xfrm>
            <a:off x="2700360" y="1844640"/>
            <a:ext cx="3527280" cy="470556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0" name="TextBox 2"/>
          <p:cNvSpPr/>
          <p:nvPr/>
        </p:nvSpPr>
        <p:spPr>
          <a:xfrm>
            <a:off x="1129680" y="333360"/>
            <a:ext cx="66988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ина Михайловна Артюх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(1901-199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www.e-reading.club/cover/3/3131.jpg"/>
          <p:cNvPicPr/>
          <p:nvPr/>
        </p:nvPicPr>
        <p:blipFill>
          <a:blip r:embed="rId1"/>
          <a:stretch/>
        </p:blipFill>
        <p:spPr>
          <a:xfrm>
            <a:off x="611280" y="333360"/>
            <a:ext cx="1807920" cy="28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rulit.me/data/programs/images/marinka_381332.jpg"/>
          <p:cNvPicPr/>
          <p:nvPr/>
        </p:nvPicPr>
        <p:blipFill>
          <a:blip r:embed="rId2"/>
          <a:stretch/>
        </p:blipFill>
        <p:spPr>
          <a:xfrm>
            <a:off x="6156360" y="260280"/>
            <a:ext cx="2619360" cy="3743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bookin.org.ru/book/75464.jpg"/>
          <p:cNvPicPr/>
          <p:nvPr/>
        </p:nvPicPr>
        <p:blipFill>
          <a:blip r:embed="rId3"/>
          <a:stretch/>
        </p:blipFill>
        <p:spPr>
          <a:xfrm>
            <a:off x="2771640" y="3610080"/>
            <a:ext cx="187164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www.litmir.co/BookBinary/45960/1333242976/CoverNormal.jpg"/>
          <p:cNvPicPr/>
          <p:nvPr/>
        </p:nvPicPr>
        <p:blipFill>
          <a:blip r:embed="rId4"/>
          <a:stretch/>
        </p:blipFill>
        <p:spPr>
          <a:xfrm>
            <a:off x="611280" y="3429000"/>
            <a:ext cx="1800000" cy="314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cdn5.imgbb.ru/user/97/972869/201504/8d03e82a96e283cc2a374331ad843015.jpg"/>
          <p:cNvPicPr/>
          <p:nvPr/>
        </p:nvPicPr>
        <p:blipFill>
          <a:blip r:embed="rId5"/>
          <a:stretch/>
        </p:blipFill>
        <p:spPr>
          <a:xfrm>
            <a:off x="3203640" y="260280"/>
            <a:ext cx="2262240" cy="2952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http://www.litmir.co/data/Book/0/207000/207957/BC2_1402086465.jpg"/>
          <p:cNvPicPr/>
          <p:nvPr/>
        </p:nvPicPr>
        <p:blipFill>
          <a:blip r:embed="rId6"/>
          <a:stretch/>
        </p:blipFill>
        <p:spPr>
          <a:xfrm>
            <a:off x="5219640" y="3716280"/>
            <a:ext cx="178272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684360" y="189000"/>
            <a:ext cx="8135640" cy="265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на уроке мы прочитаем рассказ Н. Артюховой «Саша-дразнилка»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ы думаете, дразнить – это хорошо или плохо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us.cdn2.123rf.com/168nwm/yayayoy/yayayoy1208/yayayoy120800008/14799452-%D0%9C%D0%B0%D0%BB%D1%8B%D1%88-%D0%B4%D0%B5%D0%BB%D0%B0%D0%B5%D1%82-%D0%BB%D0%B8%D1%86%D0%BE-%D0%B8-%D0%BF%D0%BE%D0%BA%D0%B0%D0%B7%D1%8B%D0%B2%D0%B0%D1%82%D1%8C-%D0%B5%D0%B3%D0%BE-%D1%8F%D0%B7%D1%8B%D0%BA.jpg"/>
          <p:cNvPicPr/>
          <p:nvPr/>
        </p:nvPicPr>
        <p:blipFill>
          <a:blip r:embed="rId1"/>
          <a:stretch/>
        </p:blipFill>
        <p:spPr>
          <a:xfrm>
            <a:off x="5867280" y="2565360"/>
            <a:ext cx="3076560" cy="385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stihidetyam.ru/upload/image/draznilki.jpg"/>
          <p:cNvPicPr/>
          <p:nvPr/>
        </p:nvPicPr>
        <p:blipFill>
          <a:blip r:embed="rId2"/>
          <a:stretch/>
        </p:blipFill>
        <p:spPr>
          <a:xfrm>
            <a:off x="468360" y="2852640"/>
            <a:ext cx="4653000" cy="349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9:15:11Z</dcterms:created>
  <dc:creator>Samsung</dc:creator>
  <dc:description/>
  <dc:language>en-US</dc:language>
  <cp:lastModifiedBy>Татьяна Гунькина</cp:lastModifiedBy>
  <dcterms:modified xsi:type="dcterms:W3CDTF">2022-04-12T14:58:08Z</dcterms:modified>
  <cp:revision>15</cp:revision>
  <dc:subject/>
  <dc:title>Слайд 1</dc:title>
</cp:coreProperties>
</file>