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D336-AB12-43FE-B2B2-A19CF87A7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E7E0-2E8B-463D-978D-AE3B82B54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DB48-5B0F-4E20-9FD6-48D263A92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602-80BB-4AEB-8448-A815C308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EEC-F9AE-44DC-9091-27C0E368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F47-11A8-45FB-9A94-4F6DD8D5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DF6-61B5-476C-8AF3-293D6A73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563-7F5F-4799-BB0E-E8034FDE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752-B2F1-4022-A4F5-E4C1D0D5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6C8-A6EB-42E6-A574-CCFBB3B4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C48-42BB-49C6-8CC0-84718265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87F-D488-4A41-B8F0-4706D79B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1FF-2DA4-499F-BD8B-D77812A1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949-96C0-418B-BAF1-90D410E2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532-74E4-46E8-935A-F9D5A7A6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6FA9-B5EC-43BF-BEBB-5BEB1209E72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s://ds03.infourok.ru/uploads/ex/091c/00049cfb-a919f171/img4.jpg"/>
          <p:cNvPicPr/>
          <p:nvPr/>
        </p:nvPicPr>
        <p:blipFill>
          <a:blip r:embed="rId1"/>
          <a:srcRect l="0" t="0" r="0" b="123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68360" y="333360"/>
          <a:ext cx="8567640" cy="582948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ямоугольным параллелепипед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уб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333360"/>
          <a:ext cx="8567640" cy="582948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ногогранник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это фигура, поверхность которой состоит из многоугольников.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000000"/>
                </a:solidFill>
                <a:latin typeface="Calibri"/>
              </a:rPr>
              <a:t>грани      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000000"/>
                </a:solidFill>
                <a:latin typeface="Calibri"/>
              </a:rPr>
              <a:t>рёбра    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000000"/>
                </a:solidFill>
                <a:latin typeface="Calibri"/>
              </a:rPr>
              <a:t>вершины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68360" y="333360"/>
          <a:ext cx="8567640" cy="593100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68360" y="333360"/>
          <a:ext cx="8567640" cy="593100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68360" y="333360"/>
          <a:ext cx="8567640" cy="593100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68360" y="333360"/>
          <a:ext cx="8567640" cy="593100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ямоугольным параллелепипед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68360" y="333360"/>
          <a:ext cx="8567640" cy="593100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ямоугольным параллелепипед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уб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ите свою рабо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4005360"/>
            <a:ext cx="217152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олнили таблицу правильно, сделали верно хотя бы 1 вы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7408" t="40266" r="8290" b="12878"/>
          <a:stretch/>
        </p:blipFill>
        <p:spPr>
          <a:xfrm>
            <a:off x="339840" y="620640"/>
            <a:ext cx="8218440" cy="3384720"/>
          </a:xfrm>
          <a:prstGeom prst="rect">
            <a:avLst/>
          </a:prstGeom>
          <a:ln w="0">
            <a:noFill/>
          </a:ln>
        </p:spPr>
      </p:pic>
      <p:sp>
        <p:nvSpPr>
          <p:cNvPr id="96" name="Объект 2"/>
          <p:cNvSpPr/>
          <p:nvPr/>
        </p:nvSpPr>
        <p:spPr>
          <a:xfrm>
            <a:off x="3708360" y="4005360"/>
            <a:ext cx="2170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блице есть 1-2 ошибки, сделали верно хотя бы 1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ъект 2"/>
          <p:cNvSpPr/>
          <p:nvPr/>
        </p:nvSpPr>
        <p:spPr>
          <a:xfrm>
            <a:off x="6397560" y="4005360"/>
            <a:ext cx="2170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блице много ошибок,  выводы не сделаны, или сделаны 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-126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120 №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692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те один из предложенных вариан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1341360"/>
          <a:ext cx="7921440" cy="3389400"/>
        </p:xfrm>
        <a:graphic>
          <a:graphicData uri="http://schemas.openxmlformats.org/drawingml/2006/table">
            <a:tbl>
              <a:tblPr/>
              <a:tblGrid>
                <a:gridCol w="792144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Решить все пример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ые значения выражений (ответы) умножить на любые числа с нулями: 1 000, 10 000 и т.д. Записать выражения и вычисли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Решить сначала лёгкие примеры, затем постараться решить трудны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Решить только лёгкие приме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Прямоугольник 1"/>
          <p:cNvSpPr/>
          <p:nvPr/>
        </p:nvSpPr>
        <p:spPr>
          <a:xfrm>
            <a:off x="611280" y="4797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ьно: с.120 №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-126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120 №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692280"/>
            <a:ext cx="89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50 х 2 = 900     700 – 1 = 699        250 + 250 =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30 : 3 = 210      12 х 100=1200     9000 – 5000 =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70 : 90 = 3         500 : 100 = 5        6000+4000=10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250 х 1=3250    925+175=1100    16240 : 1 = 162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, 1 ошибка –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, 3 ошибки –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, 5 ошибок -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 и более ошибок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372360" y="5300640"/>
            <a:ext cx="6649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120 №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620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75480" indent="-37548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0 : 10 = 5 промах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5480" indent="-375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 50 – 5 = 45 раз спортсмен попал в ц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5480" indent="-375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 45 ра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5480" indent="-37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ите свою работ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5480" indent="-375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15458" t="31395" r="23981" b="22400"/>
          <a:stretch/>
        </p:blipFill>
        <p:spPr>
          <a:xfrm>
            <a:off x="2700360" y="3144960"/>
            <a:ext cx="3903480" cy="1796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"/>
          <p:cNvSpPr/>
          <p:nvPr/>
        </p:nvSpPr>
        <p:spPr>
          <a:xfrm>
            <a:off x="5724360" y="4943520"/>
            <a:ext cx="11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решена 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140360" y="494172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решена с ошиб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340000" y="4950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решена неверно (не реш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тересная информ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точка № 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56000" y="980640"/>
            <a:ext cx="478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бометр*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ь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весит 917 кг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бометр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ноплас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ит 7 к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бометр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еле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ит 7860 к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Кубометр – это 1 кубический метр (м3) — это куб, имеющий размеры: длина - 1м, ширина - 1м, высота - 1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11938" t="10138" r="7856" b="6228"/>
          <a:stretch/>
        </p:blipFill>
        <p:spPr>
          <a:xfrm>
            <a:off x="2556000" y="1995480"/>
            <a:ext cx="168264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F:\Учитель года 2022\Урок Параллелепипед. Куб\лёд.jpg"/>
          <p:cNvPicPr/>
          <p:nvPr/>
        </p:nvPicPr>
        <p:blipFill>
          <a:blip r:embed="rId2"/>
          <a:srcRect l="13220" t="10064" r="12488" b="16245"/>
          <a:stretch/>
        </p:blipFill>
        <p:spPr>
          <a:xfrm>
            <a:off x="717480" y="1154160"/>
            <a:ext cx="1643040" cy="16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rcRect l="28729" t="18081" r="26771" b="16546"/>
          <a:stretch/>
        </p:blipFill>
        <p:spPr>
          <a:xfrm>
            <a:off x="638280" y="3068640"/>
            <a:ext cx="18018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смотрите изображения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ерите многогранники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каж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599160" y="3933720"/>
            <a:ext cx="1900440" cy="728640"/>
          </a:xfrm>
          <a:prstGeom prst="rect">
            <a:avLst/>
          </a:prstGeom>
          <a:solidFill>
            <a:srgbClr val="fba3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243080" y="1700280"/>
            <a:ext cx="1214280" cy="1214280"/>
          </a:xfrm>
          <a:prstGeom prst="cube">
            <a:avLst>
              <a:gd name="adj" fmla="val 25000"/>
            </a:avLst>
          </a:prstGeom>
          <a:solidFill>
            <a:srgbClr val="fba3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710160" y="1766880"/>
            <a:ext cx="1441440" cy="1081080"/>
          </a:xfrm>
          <a:prstGeom prst="rect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1116000" y="3500280"/>
            <a:ext cx="1440000" cy="1587600"/>
          </a:xfrm>
          <a:prstGeom prst="diamond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696680" y="30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5"/>
          <p:cNvSpPr/>
          <p:nvPr/>
        </p:nvSpPr>
        <p:spPr>
          <a:xfrm>
            <a:off x="4277880" y="304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7238520" y="318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153936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4333320" y="5295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7552080" y="538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https://ru-static.z-dn.net/files/d55/ff4547ab086915103c144f000db4bd91.jpg"/>
          <p:cNvPicPr/>
          <p:nvPr/>
        </p:nvPicPr>
        <p:blipFill>
          <a:blip r:embed="rId1"/>
          <a:stretch/>
        </p:blipFill>
        <p:spPr>
          <a:xfrm>
            <a:off x="6504120" y="1447920"/>
            <a:ext cx="1778040" cy="1776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https://i.pinimg.com/736x/ae/45/8e/ae458e41b31f2049a632e16b2a633cbe.jpg"/>
          <p:cNvPicPr/>
          <p:nvPr/>
        </p:nvPicPr>
        <p:blipFill>
          <a:blip r:embed="rId2"/>
          <a:stretch/>
        </p:blipFill>
        <p:spPr>
          <a:xfrm>
            <a:off x="3862440" y="3798720"/>
            <a:ext cx="1289160" cy="12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тересная информ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точка № 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F:\Учитель года 2022\Урок Параллелепипед. Куб\Кубик рубика 1.jpg"/>
          <p:cNvPicPr/>
          <p:nvPr/>
        </p:nvPicPr>
        <p:blipFill>
          <a:blip r:embed="rId1"/>
          <a:srcRect l="5035" t="16486" r="39276" b="7023"/>
          <a:stretch/>
        </p:blipFill>
        <p:spPr>
          <a:xfrm>
            <a:off x="4545000" y="1057320"/>
            <a:ext cx="4586400" cy="472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F:\Учитель года 2022\Урок Параллелепипед. Куб\Кубик рубика 2.jpg"/>
          <p:cNvPicPr/>
          <p:nvPr/>
        </p:nvPicPr>
        <p:blipFill>
          <a:blip r:embed="rId2"/>
          <a:srcRect l="54488" t="24425" r="5047" b="6168"/>
          <a:stretch/>
        </p:blipFill>
        <p:spPr>
          <a:xfrm>
            <a:off x="108000" y="1057320"/>
            <a:ext cx="4253040" cy="547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Учитель года 2022\Урок Параллелепипед. Куб\Кубик рубика 1.jpg"/>
          <p:cNvPicPr/>
          <p:nvPr/>
        </p:nvPicPr>
        <p:blipFill>
          <a:blip r:embed="rId3"/>
          <a:srcRect l="64995" t="10876" r="4953" b="71654"/>
          <a:stretch/>
        </p:blipFill>
        <p:spPr>
          <a:xfrm>
            <a:off x="5651640" y="5707080"/>
            <a:ext cx="26208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Учитель года 2022\Урок Параллелепипед. Куб\Кубик рубика 1.jpg"/>
          <p:cNvPicPr/>
          <p:nvPr/>
        </p:nvPicPr>
        <p:blipFill>
          <a:blip r:embed="rId4"/>
          <a:srcRect l="64995" t="24262" r="5581" b="71654"/>
          <a:stretch/>
        </p:blipFill>
        <p:spPr>
          <a:xfrm>
            <a:off x="4179960" y="476280"/>
            <a:ext cx="4835520" cy="5047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106200" y="3670200"/>
            <a:ext cx="9037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милл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2"/>
          <p:cNvSpPr/>
          <p:nvPr/>
        </p:nvSpPr>
        <p:spPr>
          <a:xfrm>
            <a:off x="114480" y="1560600"/>
            <a:ext cx="9036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квинтилл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108000" y="4226040"/>
            <a:ext cx="9036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тыс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114480" y="4753080"/>
            <a:ext cx="9036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3 квинтиллиона 252 квадриллиона 3 триллиона 274 миллиарда 485 миллионов 856 тыс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5"/>
          <p:cNvSpPr/>
          <p:nvPr/>
        </p:nvSpPr>
        <p:spPr>
          <a:xfrm>
            <a:off x="108000" y="3147840"/>
            <a:ext cx="9036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миллиар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"/>
          <p:cNvSpPr/>
          <p:nvPr/>
        </p:nvSpPr>
        <p:spPr>
          <a:xfrm>
            <a:off x="108000" y="2608200"/>
            <a:ext cx="9036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трилл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7"/>
          <p:cNvSpPr/>
          <p:nvPr/>
        </p:nvSpPr>
        <p:spPr>
          <a:xfrm>
            <a:off x="108000" y="2085840"/>
            <a:ext cx="9036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квадрилл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.И.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Учиться распознавать прямоугольный параллелепип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Находить и показывать рёбра, грани и вершины прямоугольного параллелепипе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Сравнить и установить связь между прямоугольным параллелепипедом и куб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всё получ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получ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стались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380360" y="1773360"/>
            <a:ext cx="647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8215200" y="2781360"/>
            <a:ext cx="647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7520040" y="3754440"/>
            <a:ext cx="649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орческое задание по желанию: найти интересную информацию, связанную с темой сегодняшнего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120 № 11 додела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выбору с.120 № 12, № 13, № 14 всё точно по заданию, написанному в учебни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омнить информацию о прямоугольном параллелепипеде и кубе (на листочках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ести на следующий урок клей и ножницы, будем делать модели  прямоугольного параллелепипеда из развёр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390920" y="3284640"/>
            <a:ext cx="4753080" cy="356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https://ds03.infourok.ru/uploads/ex/091c/00049cfb-a919f171/img4.jpg"/>
          <p:cNvPicPr/>
          <p:nvPr/>
        </p:nvPicPr>
        <p:blipFill>
          <a:blip r:embed="rId2"/>
          <a:srcRect l="0" t="0" r="0" b="12399"/>
          <a:stretch/>
        </p:blipFill>
        <p:spPr>
          <a:xfrm>
            <a:off x="0" y="-20520"/>
            <a:ext cx="44067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ямоугольный параллелепипе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63640" y="1916280"/>
            <a:ext cx="4321080" cy="1492200"/>
          </a:xfrm>
          <a:prstGeom prst="rect">
            <a:avLst/>
          </a:prstGeom>
          <a:solidFill>
            <a:srgbClr val="fba3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"/>
          <p:cNvSpPr/>
          <p:nvPr/>
        </p:nvSpPr>
        <p:spPr>
          <a:xfrm>
            <a:off x="5508720" y="1130400"/>
            <a:ext cx="43164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ямоугольный параллелепипед. Ку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333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ся распознавать прямоугольный параллелепипед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дить и показывать рёбра, грани и вершины прямоугольного параллелепипе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ь и установить связь между прямоугольным параллелепипедом и куб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117 №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F:\Учитель года 2022\Урок Параллелепипед. Куб\с.117.png"/>
          <p:cNvPicPr/>
          <p:nvPr/>
        </p:nvPicPr>
        <p:blipFill>
          <a:blip r:embed="rId1"/>
          <a:srcRect l="0" t="1745" r="0" b="50005"/>
          <a:stretch/>
        </p:blipFill>
        <p:spPr>
          <a:xfrm>
            <a:off x="611280" y="982800"/>
            <a:ext cx="795636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01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117 №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сравнить и установить связь между прямоугольным параллелепипедом и куб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рочитать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Записать данные в таб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становить связь между прямоугольным параллелепипедом и кубом, записать вы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олнительно с.118 № 5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парах: по очереди прочитать и ответить на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26:07Z</dcterms:created>
  <dc:creator>Valentina</dc:creator>
  <dc:description/>
  <dc:language>en-US</dc:language>
  <cp:lastModifiedBy>admin</cp:lastModifiedBy>
  <dcterms:modified xsi:type="dcterms:W3CDTF">2022-03-02T20:48:35Z</dcterms:modified>
  <cp:revision>55</cp:revision>
  <dc:subject/>
  <dc:title>Прямоугольный параллелепиде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20000000000010243100207f6000400038000</vt:lpwstr>
  </property>
</Properties>
</file>