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F89-96D4-4F5D-80DA-2E3B44469F6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6B3-DDD4-4FD3-976A-68D7BFF7F84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8D4-E83D-4B81-9FF1-B66B0EC5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9F9-4130-4235-8064-D92D7F5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FC0-0F89-4510-802C-B3052D64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96B-8CA8-44EC-A46E-82D9F71F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D21-CD4B-4FF9-9C0C-8FDC9FB9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F5B-82CB-4C74-8A35-B04FF54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4F8-E132-436E-84BF-D22C92EF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F92-6A87-4D1B-8D42-8A000347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6C5-7D0E-4B85-BF36-8FB7EDF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AFA-A175-491E-8B58-D350FC4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706-8199-4AA7-8DE9-6D19D59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1C-6070-4A80-8707-1D102B9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DA23-2AAD-46C5-B710-3259DEA0D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Однолетние цветков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flower_beds_and_borders_01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657600" y="5638680"/>
            <a:ext cx="4708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колеус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838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4268880" y="60199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леу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Вь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96202_html_m344f1986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73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813840" y="60199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стур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днолетние цветковые растения размножаются в основном семе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Semena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96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myslide.ru/documents_7/1eea0d88446389b56188f5140dfab7d2/img26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Bahnschrift"/>
              </a:rPr>
              <a:t>Какие цветы называются однолет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Цветковые растения которые      растут и цветут всего одно ле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lafa.ru/upload/iblock/30b/121115--.jpg"/>
          <p:cNvPicPr/>
          <p:nvPr/>
        </p:nvPicPr>
        <p:blipFill>
          <a:blip r:embed="rId1"/>
          <a:srcRect l="0" t="12499" r="0" b="12499"/>
          <a:stretch/>
        </p:blipFill>
        <p:spPr>
          <a:xfrm>
            <a:off x="1792440" y="1371600"/>
            <a:ext cx="5599080" cy="335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Среди однолетников можно выдели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расивоцветущ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декоративнолиств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ьющие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0_66aca_5839123b_L"/>
          <p:cNvPicPr/>
          <p:nvPr/>
        </p:nvPicPr>
        <p:blipFill>
          <a:blip r:embed="rId1"/>
          <a:stretch/>
        </p:blipFill>
        <p:spPr>
          <a:xfrm>
            <a:off x="3733920" y="2819520"/>
            <a:ext cx="4800600" cy="350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cvet60"/>
          <p:cNvPicPr/>
          <p:nvPr/>
        </p:nvPicPr>
        <p:blipFill>
          <a:blip r:embed="rId2"/>
          <a:stretch/>
        </p:blipFill>
        <p:spPr>
          <a:xfrm>
            <a:off x="838080" y="4572000"/>
            <a:ext cx="2362320" cy="185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65400" y="6172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ту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Petunya çiçeği resmi - Petunia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50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zinnia-big"/>
          <p:cNvPicPr/>
          <p:nvPr/>
        </p:nvPicPr>
        <p:blipFill>
          <a:blip r:embed="rId1"/>
          <a:stretch/>
        </p:blipFill>
        <p:spPr>
          <a:xfrm>
            <a:off x="609480" y="1371600"/>
            <a:ext cx="38037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FLSZIN14596_3"/>
          <p:cNvPicPr/>
          <p:nvPr/>
        </p:nvPicPr>
        <p:blipFill>
          <a:blip r:embed="rId2"/>
          <a:stretch/>
        </p:blipFill>
        <p:spPr>
          <a:xfrm>
            <a:off x="4572000" y="13716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3795120" y="5979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Аст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Астра однолетняя"/>
          <p:cNvPicPr/>
          <p:nvPr/>
        </p:nvPicPr>
        <p:blipFill>
          <a:blip r:embed="rId1"/>
          <a:stretch/>
        </p:blipFill>
        <p:spPr>
          <a:xfrm>
            <a:off x="1143000" y="1523880"/>
            <a:ext cx="66420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marigold"/>
          <p:cNvPicPr/>
          <p:nvPr/>
        </p:nvPicPr>
        <p:blipFill>
          <a:blip r:embed="rId1"/>
          <a:stretch/>
        </p:blipFill>
        <p:spPr>
          <a:xfrm>
            <a:off x="1371600" y="1295280"/>
            <a:ext cx="6781680" cy="4629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966120" y="59436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архат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цинерармия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63960" y="5943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ера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кохия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492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4100400" y="5904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х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6:09:47Z</dcterms:created>
  <dc:creator>Irina May</dc:creator>
  <dc:description/>
  <dc:language>en-US</dc:language>
  <cp:lastModifiedBy>gskou</cp:lastModifiedBy>
  <dcterms:modified xsi:type="dcterms:W3CDTF">2022-02-24T14:14:5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