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9A47-2523-4D3B-B8E2-501922D17B82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4061-E3CE-48B2-A5A5-4FDAD40F40CD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807-1CDB-40BE-90E2-8AA4EC91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E2D5-31D0-4B66-8A54-9C05A271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E94-A7CE-4116-AFBA-5FAC760C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690-BE19-4F86-B197-D68B3CEC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B7C-A552-4752-8088-10961E92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019-E3E0-4AA4-892D-5873E535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072-BC2D-4070-A714-ED1AB257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298-EB3E-46FA-8ADC-5F4D87D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44A-18F2-4FD7-A3A1-4512DEE8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DF6-1984-4608-BD4F-1D35D00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743-C334-4AFA-A92B-A9E4A83D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E34-6044-4B38-9E05-BE1844E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0D07-F23E-4B11-897E-80555E522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Однолетние цветков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flower_beds_and_borders_01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657600" y="5638680"/>
            <a:ext cx="47084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колеус"/>
          <p:cNvPicPr/>
          <p:nvPr/>
        </p:nvPicPr>
        <p:blipFill>
          <a:blip r:embed="rId1"/>
          <a:stretch/>
        </p:blipFill>
        <p:spPr>
          <a:xfrm>
            <a:off x="685800" y="1219320"/>
            <a:ext cx="7696080" cy="4838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426888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леу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Вьющие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96202_html_m344f1986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4732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3813840" y="60199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Настур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Однолетние цветковые растения размножаются в основном семен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Semena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9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https://myslide.ru/documents_7/1eea0d88446389b56188f5140dfab7d2/img26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Bahnschrift"/>
              </a:rPr>
              <a:t>Какие цветы называются однолет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6600ff"/>
                </a:solidFill>
                <a:latin typeface="Calibri"/>
              </a:rPr>
              <a:t>Цветковые растения которые      растут и цветут всего одно ле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s://lafa.ru/upload/iblock/30b/121115--.jpg"/>
          <p:cNvPicPr/>
          <p:nvPr/>
        </p:nvPicPr>
        <p:blipFill>
          <a:blip r:embed="rId1"/>
          <a:srcRect l="0" t="12499" r="0" b="12499"/>
          <a:stretch/>
        </p:blipFill>
        <p:spPr>
          <a:xfrm>
            <a:off x="1792440" y="1371600"/>
            <a:ext cx="5599080" cy="3355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Среди однолетников можно выделит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красивоцветущ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декоративнолистве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Arial"/>
              </a:rPr>
              <a:t>вьющие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0_66aca_5839123b_L"/>
          <p:cNvPicPr/>
          <p:nvPr/>
        </p:nvPicPr>
        <p:blipFill>
          <a:blip r:embed="rId1"/>
          <a:stretch/>
        </p:blipFill>
        <p:spPr>
          <a:xfrm>
            <a:off x="3733920" y="2819520"/>
            <a:ext cx="4800600" cy="350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cvet60"/>
          <p:cNvPicPr/>
          <p:nvPr/>
        </p:nvPicPr>
        <p:blipFill>
          <a:blip r:embed="rId2"/>
          <a:stretch/>
        </p:blipFill>
        <p:spPr>
          <a:xfrm>
            <a:off x="838080" y="4572000"/>
            <a:ext cx="2362320" cy="185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65400" y="6172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Пету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Petunya çiçeği resmi - Petunia image"/>
          <p:cNvPicPr/>
          <p:nvPr/>
        </p:nvPicPr>
        <p:blipFill>
          <a:blip r:embed="rId1"/>
          <a:stretch/>
        </p:blipFill>
        <p:spPr>
          <a:xfrm>
            <a:off x="1143000" y="1143000"/>
            <a:ext cx="6934320" cy="50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zinnia-big"/>
          <p:cNvPicPr/>
          <p:nvPr/>
        </p:nvPicPr>
        <p:blipFill>
          <a:blip r:embed="rId1"/>
          <a:stretch/>
        </p:blipFill>
        <p:spPr>
          <a:xfrm>
            <a:off x="609480" y="1371600"/>
            <a:ext cx="380376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FLSZIN14596_3"/>
          <p:cNvPicPr/>
          <p:nvPr/>
        </p:nvPicPr>
        <p:blipFill>
          <a:blip r:embed="rId2"/>
          <a:stretch/>
        </p:blipFill>
        <p:spPr>
          <a:xfrm>
            <a:off x="4572000" y="13716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3795120" y="597996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6600ff"/>
                </a:solidFill>
                <a:latin typeface="Calibri"/>
              </a:rPr>
              <a:t>Аст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Астра однолетняя"/>
          <p:cNvPicPr/>
          <p:nvPr/>
        </p:nvPicPr>
        <p:blipFill>
          <a:blip r:embed="rId1"/>
          <a:stretch/>
        </p:blipFill>
        <p:spPr>
          <a:xfrm>
            <a:off x="1143000" y="1523880"/>
            <a:ext cx="6642000" cy="42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Красивоцветущ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marigold"/>
          <p:cNvPicPr/>
          <p:nvPr/>
        </p:nvPicPr>
        <p:blipFill>
          <a:blip r:embed="rId1"/>
          <a:stretch/>
        </p:blipFill>
        <p:spPr>
          <a:xfrm>
            <a:off x="1371600" y="1295280"/>
            <a:ext cx="6781680" cy="4629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3966120" y="5943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Бархатц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цинерармия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63960" y="59436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Цинера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alibri"/>
              </a:rPr>
              <a:t>Декоративнолистве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кохия"/>
          <p:cNvPicPr/>
          <p:nvPr/>
        </p:nvPicPr>
        <p:blipFill>
          <a:blip r:embed="rId1"/>
          <a:stretch/>
        </p:blipFill>
        <p:spPr>
          <a:xfrm>
            <a:off x="914400" y="1371600"/>
            <a:ext cx="7620120" cy="4492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4100400" y="59040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Arial"/>
              </a:rPr>
              <a:t>Кох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9:47Z</dcterms:created>
  <dc:creator>Irina May</dc:creator>
  <dc:description/>
  <dc:language>en-US</dc:language>
  <cp:lastModifiedBy>gskou</cp:lastModifiedBy>
  <dcterms:modified xsi:type="dcterms:W3CDTF">2022-02-24T14:14:53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