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FA4E-56A4-4E59-8BF1-36BBEAE4B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091F-1DA6-4FE8-AB1E-669CEC9AC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8FC7-B6CE-401D-AB2B-2C5430773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AC10-5A53-4505-B135-32F7D0C81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62AE-5A9E-4F37-92AE-5A9FA76895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CF43-66F0-4E8D-8514-6D389D406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A7CB-4A8E-4E4A-8707-367DE7F2D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E913-8FA8-43CC-BC0B-83791B217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6299-38DE-40C7-976D-7D01E8BB4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9FF5-CAE1-4FAD-9525-167693CBC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3EA0-2385-469C-AC0F-6C6C7B76C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5C08-429D-48FB-B0C4-652EB9816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B8AAFA-5CC1-448F-A78E-1E75636E95B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680000" y="3021120"/>
            <a:ext cx="41148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58920" y="7920"/>
            <a:ext cx="864072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ип членистоногие. Класс ракообразные.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 flipV="1" rot="10800000">
            <a:off x="4500720" y="2348280"/>
            <a:ext cx="4643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ыполнил:  ученик 3«Б» класса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ленкин Илья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итель: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улюсева Татьяна Ивановна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ОУ СОШ №3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. Калининград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4159440" cy="26636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4340160" y="3079800"/>
            <a:ext cx="41148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3040" y="115560"/>
            <a:ext cx="82137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иклопы, в отличие от дафний, передвигаются при помощи первой пары усиков и грудных ножек. У них имеется только один глазок ("одноглазый циклоп"). Питаются они в основном одноклеточными живот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857160" y="3139920"/>
            <a:ext cx="3240000" cy="34801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4765680" y="3110040"/>
            <a:ext cx="3263760" cy="34891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1116000" y="262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5120" y="262080"/>
            <a:ext cx="821376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, serif"/>
              </a:rPr>
              <a:t>Мелкие пресноводные ракообразные служат кормом взрослых рыб, морские ракообразные  — основная пища даже таких крупных животных, как усатые ки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, serif"/>
              </a:rPr>
              <a:t> Многие ракообразные очищают воду, поглощая органические остатк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, serif"/>
              </a:rPr>
              <a:t>Некоторые ракообразные, в частности циклопы, служат промежуточными хозяевами паразитических червей. Крупные раки используются в пищу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916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нашей стране у западных берегов Камчатки развит промысел камчатского краба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https://s0.rbk.ru/v6_top_pics/media/img/7/03/755223244267037.jpg"/>
          <p:cNvPicPr/>
          <p:nvPr/>
        </p:nvPicPr>
        <p:blipFill>
          <a:blip r:embed="rId1"/>
          <a:stretch/>
        </p:blipFill>
        <p:spPr>
          <a:xfrm>
            <a:off x="1692360" y="3500280"/>
            <a:ext cx="5003640" cy="3097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8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" name="Picture 13" descr="https://manrule.ru/images/article/orig/2020/10/gde-i-kak-mozhno-lovit-krabov.jpg"/>
          <p:cNvPicPr/>
          <p:nvPr/>
        </p:nvPicPr>
        <p:blipFill>
          <a:blip r:embed="rId2"/>
          <a:stretch/>
        </p:blipFill>
        <p:spPr>
          <a:xfrm>
            <a:off x="4788000" y="1557360"/>
            <a:ext cx="3700440" cy="18003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92" name="Picture 15" descr="https://infovostok.ru/media/rss-28792bd3d86e0bb7093e3e38c6de1f0e/rssimg-b448865367eb6d092605166295bee045.jpeg"/>
          <p:cNvPicPr/>
          <p:nvPr/>
        </p:nvPicPr>
        <p:blipFill>
          <a:blip r:embed="rId3"/>
          <a:stretch/>
        </p:blipFill>
        <p:spPr>
          <a:xfrm>
            <a:off x="250920" y="1557360"/>
            <a:ext cx="3457440" cy="17272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648320" y="2332080"/>
            <a:ext cx="41148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530280" y="1270080"/>
            <a:ext cx="82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морях Дальнего Востока разводят травяную креветку.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6" name="Рисунок 2" descr=""/>
          <p:cNvPicPr/>
          <p:nvPr/>
        </p:nvPicPr>
        <p:blipFill>
          <a:blip r:embed="rId1"/>
          <a:stretch/>
        </p:blipFill>
        <p:spPr>
          <a:xfrm>
            <a:off x="139680" y="2768760"/>
            <a:ext cx="4503600" cy="30225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97" name="Рисунок 5" descr=""/>
          <p:cNvPicPr/>
          <p:nvPr/>
        </p:nvPicPr>
        <p:blipFill>
          <a:blip r:embed="rId2"/>
          <a:stretch/>
        </p:blipFill>
        <p:spPr>
          <a:xfrm>
            <a:off x="4757760" y="2755800"/>
            <a:ext cx="3989520" cy="30495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4136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648320" y="2332080"/>
            <a:ext cx="41148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457200" y="274680"/>
            <a:ext cx="821376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ерном и Азовском морях разводят черноморскую креветку.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1" name="Рисунок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429000" cy="2376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02" name="Рисунок 4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970440" cy="25210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03" name="Рисунок 6" descr=""/>
          <p:cNvPicPr/>
          <p:nvPr/>
        </p:nvPicPr>
        <p:blipFill>
          <a:blip r:embed="rId3"/>
          <a:stretch/>
        </p:blipFill>
        <p:spPr>
          <a:xfrm>
            <a:off x="2556000" y="4149720"/>
            <a:ext cx="3794040" cy="24606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648320" y="2332080"/>
            <a:ext cx="41148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2120" y="846000"/>
            <a:ext cx="82137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мысловых раков ценят за вкусное и питательное мясо клешней и брюш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4299120" cy="28861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0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9" name="Picture 10" descr="https://grilisibiri.ru/wp-content/uploads/varenye-raki.jpg"/>
          <p:cNvPicPr/>
          <p:nvPr/>
        </p:nvPicPr>
        <p:blipFill>
          <a:blip r:embed="rId2"/>
          <a:stretch/>
        </p:blipFill>
        <p:spPr>
          <a:xfrm>
            <a:off x="179280" y="2781360"/>
            <a:ext cx="4356360" cy="29019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5120" y="2865600"/>
            <a:ext cx="82137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250920" y="119700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yandex.ru/images/search?text=%D0%BF%D1%80%D0%BE%D0%BC%D1%8B%D1%81%D0%B5%D0%BB%20%D0%BA%D0%B0%D0%BC%D1%87%D0%B0%D1%82%D1%81%D0%BA%D0%BE%D0%B3%D0%BE%20%D0%BA%D1%80%D0%B0%D0%B1%D0%B0&amp;from=tabbar&amp;pos=12&amp;img_url=http%3A%2F%2Finfovostok.ru%2Fmedia%2Frss-28792bd3d86e0bb7093e3e38c6de1f0e%2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.wikipedia.org/wiki/%D0%94%D0%B5%D1%81%D1%8F%D1%82%D0%B8%D0%BD%D0%BE%D0%B3%D0%B8%D0%B5_%D1%80%D0%B0%D0%BA%D0%BE%D0%BE%D0%B1%D1%80%D0%B0%D0%B7%D0%BD%D1%8B%D0%B5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.wikipedia.org/wiki/%D0%92%D1%8B%D1%81%D1%88%D0%B8%D0%B5_%D1%80%D0%B0%D0%BA%D0%B8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.wikipedia.org/wiki/%D0%9C%D0%BE%D0%BA%D1%80%D0%B8%D1%86%D1%8B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кообраз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 пресноводные и морские членистоногие. К ним относ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сятиногие раки (речные раки, креветки, крабы, омары, лангусты)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равноногие раки (мокрицы)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веслоногие рачки (циклопы)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ветвистоусые рачки (дафнии) и д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 около 20 тыс. видов ракообраз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s://www.seekpng.com/png/full/33-338261_this-free-icons-png-design-of-crab-cartoon.png"/>
          <p:cNvPicPr/>
          <p:nvPr/>
        </p:nvPicPr>
        <p:blipFill>
          <a:blip r:embed="rId1"/>
          <a:stretch/>
        </p:blipFill>
        <p:spPr>
          <a:xfrm>
            <a:off x="6516720" y="5084640"/>
            <a:ext cx="21398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5120" y="259920"/>
            <a:ext cx="4611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ело десятиногих раков состоит из слитной головогруди и брюшка. На головогруди находятся сложные глаза, пара длинных и пара коротких усиков, ротовые органы, пять пар ходильных ног. На передней паре у большинства видов имеются клешн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5100480" y="366840"/>
            <a:ext cx="3969000" cy="26636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5100480" y="3449520"/>
            <a:ext cx="3910320" cy="25923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648320" y="2332080"/>
            <a:ext cx="41148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274680"/>
            <a:ext cx="40752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сятиногие раки питаются в основном водными беспозвоночными животными, водорослями и другими растениями, органическими остатками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" name="Picture 10" descr="https://i2.wp.com/aquariumguide.ru/wp-content/uploads/2019/01/ExternalLink_shutterstock_1043583214.jpg"/>
          <p:cNvPicPr/>
          <p:nvPr/>
        </p:nvPicPr>
        <p:blipFill>
          <a:blip r:embed="rId1"/>
          <a:stretch/>
        </p:blipFill>
        <p:spPr>
          <a:xfrm>
            <a:off x="4284720" y="549360"/>
            <a:ext cx="4535280" cy="30258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5" name="Picture 12" descr="https://mbfinance.ru/wp-content/uploads/2017/07/4-min-3.jpg"/>
          <p:cNvPicPr/>
          <p:nvPr/>
        </p:nvPicPr>
        <p:blipFill>
          <a:blip r:embed="rId2"/>
          <a:stretch/>
        </p:blipFill>
        <p:spPr>
          <a:xfrm>
            <a:off x="3419640" y="4005360"/>
            <a:ext cx="5489280" cy="25923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648320" y="2332080"/>
            <a:ext cx="41148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Text Box 1"/>
          <p:cNvSpPr/>
          <p:nvPr/>
        </p:nvSpPr>
        <p:spPr>
          <a:xfrm>
            <a:off x="250920" y="404640"/>
            <a:ext cx="42480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сятиногие раки — раздельнополы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многих раков развитие прямое, т.е. из яиц вылупляются маленькие рачки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1"/>
          <a:stretch/>
        </p:blipFill>
        <p:spPr>
          <a:xfrm>
            <a:off x="4643280" y="476280"/>
            <a:ext cx="4248360" cy="28224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0" name="Рисунок 2" descr=""/>
          <p:cNvPicPr/>
          <p:nvPr/>
        </p:nvPicPr>
        <p:blipFill>
          <a:blip r:embed="rId2"/>
          <a:stretch/>
        </p:blipFill>
        <p:spPr>
          <a:xfrm>
            <a:off x="4648320" y="3645000"/>
            <a:ext cx="4340160" cy="30556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549360"/>
            <a:ext cx="36352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равноногих раков наиболее известна обыкновенная мокрица, встречающаяся во влажной почве на огородах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3851280" cy="28861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6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5" name="Picture 9" descr="https://grizun-off.ru/wp-content/uploads/5/b/0/5b05c3bd1b0f285cd9e02c69d6f1fe8b.jpeg"/>
          <p:cNvPicPr/>
          <p:nvPr/>
        </p:nvPicPr>
        <p:blipFill>
          <a:blip r:embed="rId2"/>
          <a:stretch/>
        </p:blipFill>
        <p:spPr>
          <a:xfrm>
            <a:off x="395280" y="3860640"/>
            <a:ext cx="3957480" cy="2592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6" name="Picture 11" descr="https://i.pinimg.com/originals/6c/b6/6d/6cb66d0b33470bd33745d7a739b2b965.png"/>
          <p:cNvPicPr/>
          <p:nvPr/>
        </p:nvPicPr>
        <p:blipFill>
          <a:blip r:embed="rId3"/>
          <a:stretch/>
        </p:blipFill>
        <p:spPr>
          <a:xfrm>
            <a:off x="5651640" y="5373720"/>
            <a:ext cx="335592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8744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43000" y="274680"/>
            <a:ext cx="43290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ло мокриц уплощено сверху вниз, на груди и брюшке имеется 14 ходильных ног.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брюшных ножках имеются глубокие впячивания кожи — воздушные камеры. Мокрицы активны ночью. Питаются в основном различными растительными остатками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4410000" y="1617840"/>
            <a:ext cx="4533840" cy="37558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5494320"/>
            <a:ext cx="82296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77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афнии из ветвистоусых и циклопы из веслоногих раков — обычные обитатели пресных водоем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108000" y="3265560"/>
            <a:ext cx="4800600" cy="2844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3" name="Рисунок 4" descr=""/>
          <p:cNvPicPr/>
          <p:nvPr/>
        </p:nvPicPr>
        <p:blipFill>
          <a:blip r:embed="rId2"/>
          <a:stretch/>
        </p:blipFill>
        <p:spPr>
          <a:xfrm>
            <a:off x="4927680" y="3265560"/>
            <a:ext cx="3797280" cy="2844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648320" y="2924280"/>
            <a:ext cx="366876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960" y="411120"/>
            <a:ext cx="41907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афнии словно толкутся в воде, постоянно взмахивая ветвистой парой усиков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итаются бактериями, одноклеточными водорослями взвешенными в воде органическими остатк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4341960" y="3274920"/>
            <a:ext cx="4659120" cy="34941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8" name="Рисунок 4" descr=""/>
          <p:cNvPicPr/>
          <p:nvPr/>
        </p:nvPicPr>
        <p:blipFill>
          <a:blip r:embed="rId2"/>
          <a:stretch/>
        </p:blipFill>
        <p:spPr>
          <a:xfrm>
            <a:off x="4334040" y="396720"/>
            <a:ext cx="4773600" cy="27036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6T20:49:25Z</dcterms:created>
  <dc:creator>Windows</dc:creator>
  <dc:description/>
  <dc:language>en-US</dc:language>
  <cp:lastModifiedBy>Пользователь</cp:lastModifiedBy>
  <dcterms:modified xsi:type="dcterms:W3CDTF">2022-08-22T17:24:09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