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2641-7322-4112-9E5D-0107BC247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8853-CD4D-4165-94BF-721D74A21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E026-9C66-4C30-A379-9AFF9F0C8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6C4-9CC3-4C18-A291-27E5B3862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47A9-5313-4062-9FBD-127650997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8AAC-04F4-466B-9AA3-9D9AABBA1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B942-BC05-43CA-A70F-E94AB270F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CA9B-A9FE-4A42-A96C-A6799B8B7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1D52-8855-4D90-97C4-B9770F32A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8362-C909-48B4-A408-10C4CA566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7C47-785B-4C69-B35D-64F2FB5D9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7E24-7833-4A02-B3D9-57F733E4F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7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9E71A8-E931-4315-92D4-D329B39B9C1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0000" y="3021120"/>
            <a:ext cx="4114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58920" y="7920"/>
            <a:ext cx="864072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ип членистоногие. Класс ракообразные.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flipV="1" rot="10800000">
            <a:off x="4500720" y="2348280"/>
            <a:ext cx="4643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ыполнил:  ученик 3«Б» класса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ленкин Илья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уководитель: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улюсева Татьяна Ивановна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ОУ СОШ №3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г. Калининград</a:t>
            </a:r>
            <a:endParaRPr b="0" lang="en-US" sz="25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4159440" cy="2663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4340160" y="307980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3040" y="115560"/>
            <a:ext cx="821376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Циклопы, в отличие от дафний, передвигаются при помощи первой пары усиков и грудных ножек. У них имеется только один глазок ("одноглазый циклоп"). Питаются они в основном одноклеточными живот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857160" y="3139920"/>
            <a:ext cx="3240000" cy="3480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3" name="Рисунок 4" descr=""/>
          <p:cNvPicPr/>
          <p:nvPr/>
        </p:nvPicPr>
        <p:blipFill>
          <a:blip r:embed="rId2"/>
          <a:stretch/>
        </p:blipFill>
        <p:spPr>
          <a:xfrm>
            <a:off x="4765680" y="3110040"/>
            <a:ext cx="3263760" cy="3489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1116000" y="262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5120" y="262080"/>
            <a:ext cx="8213760" cy="65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Мелкие пресноводные ракообразные служат кормом взрослых рыб, морские ракообразные  — основная пища даже таких крупных животных, как усатые ки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 Многие ракообразные очищают воду, поглощая органические остатк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, serif"/>
              </a:rPr>
              <a:t>Некоторые ракообразные, в частности циклопы, служат промежуточными хозяевами паразитических червей. Крупные раки используются в пищу челове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916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нашей стране у западных берегов Камчатки развит промысел камчатского краб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https://s0.rbk.ru/v6_top_pics/media/img/7/03/755223244267037.jpg"/>
          <p:cNvPicPr/>
          <p:nvPr/>
        </p:nvPicPr>
        <p:blipFill>
          <a:blip r:embed="rId1"/>
          <a:stretch/>
        </p:blipFill>
        <p:spPr>
          <a:xfrm>
            <a:off x="1692360" y="3500280"/>
            <a:ext cx="5003640" cy="3097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8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1" name="Picture 13" descr="https://manrule.ru/images/article/orig/2020/10/gde-i-kak-mozhno-lovit-krabov.jpg"/>
          <p:cNvPicPr/>
          <p:nvPr/>
        </p:nvPicPr>
        <p:blipFill>
          <a:blip r:embed="rId2"/>
          <a:stretch/>
        </p:blipFill>
        <p:spPr>
          <a:xfrm>
            <a:off x="4788000" y="1557360"/>
            <a:ext cx="3700440" cy="1800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92" name="Picture 15" descr="https://infovostok.ru/media/rss-28792bd3d86e0bb7093e3e38c6de1f0e/rssimg-b448865367eb6d092605166295bee045.jpeg"/>
          <p:cNvPicPr/>
          <p:nvPr/>
        </p:nvPicPr>
        <p:blipFill>
          <a:blip r:embed="rId3"/>
          <a:stretch/>
        </p:blipFill>
        <p:spPr>
          <a:xfrm>
            <a:off x="250920" y="1557360"/>
            <a:ext cx="3457440" cy="17272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530280" y="1270080"/>
            <a:ext cx="82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 морях Дальнего Востока разводят травяную креветку.</a:t>
            </a:r>
            <a:endParaRPr b="0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139680" y="2768760"/>
            <a:ext cx="4503600" cy="3022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97" name="Рисунок 5" descr=""/>
          <p:cNvPicPr/>
          <p:nvPr/>
        </p:nvPicPr>
        <p:blipFill>
          <a:blip r:embed="rId2"/>
          <a:stretch/>
        </p:blipFill>
        <p:spPr>
          <a:xfrm>
            <a:off x="4757760" y="2755800"/>
            <a:ext cx="3989520" cy="30495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4136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57200" y="274680"/>
            <a:ext cx="821376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рном и Азовском морях разводят черноморскую креветку.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429000" cy="2376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02" name="Рисунок 4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970440" cy="2521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03" name="Рисунок 6" descr=""/>
          <p:cNvPicPr/>
          <p:nvPr/>
        </p:nvPicPr>
        <p:blipFill>
          <a:blip r:embed="rId3"/>
          <a:stretch/>
        </p:blipFill>
        <p:spPr>
          <a:xfrm>
            <a:off x="2556000" y="4149720"/>
            <a:ext cx="3794040" cy="2460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2120" y="846000"/>
            <a:ext cx="821376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мысловых раков ценят за вкусное и питательное мясо клешней и брюш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4299120" cy="2886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0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9" name="Picture 10" descr="https://grilisibiri.ru/wp-content/uploads/varenye-raki.jpg"/>
          <p:cNvPicPr/>
          <p:nvPr/>
        </p:nvPicPr>
        <p:blipFill>
          <a:blip r:embed="rId2"/>
          <a:stretch/>
        </p:blipFill>
        <p:spPr>
          <a:xfrm>
            <a:off x="179280" y="2781360"/>
            <a:ext cx="4356360" cy="29019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5120" y="2865600"/>
            <a:ext cx="82137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250920" y="119700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/search?text=%D0%BF%D1%80%D0%BE%D0%BC%D1%8B%D1%81%D0%B5%D0%BB%20%D0%BA%D0%B0%D0%BC%D1%87%D0%B0%D1%82%D1%81%D0%BA%D0%BE%D0%B3%D0%BE%20%D0%BA%D1%80%D0%B0%D0%B1%D0%B0&amp;from=tabbar&amp;pos=12&amp;img_url=http%3A%2F%2Finfovostok.ru%2Fmedia%2Frss-28792bd3d86e0bb7093e3e38c6de1f0e%2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4%D0%B5%D1%81%D1%8F%D1%82%D0%B8%D0%BD%D0%BE%D0%B3%D0%B8%D0%B5_%D1%80%D0%B0%D0%BA%D0%BE%D0%BE%D0%B1%D1%80%D0%B0%D0%B7%D0%BD%D1%8B%D0%B5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2%D1%8B%D1%81%D1%88%D0%B8%D0%B5_%D1%80%D0%B0%D0%BA%D0%B8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ru.wikipedia.org/wiki/%D0%9C%D0%BE%D0%BA%D1%80%D0%B8%D1%86%D1%8B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кообраз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 пресноводные и морские членистоногие. К ним относ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сятиногие раки (речные раки, креветки, крабы, омары, лангуст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равноногие раки (мокриц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еслоногие рачки (циклопы)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етвистоусые рачки (дафнии) и др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 около 20 тыс. видов ракообраз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s://www.seekpng.com/png/full/33-338261_this-free-icons-png-design-of-crab-cartoon.png"/>
          <p:cNvPicPr/>
          <p:nvPr/>
        </p:nvPicPr>
        <p:blipFill>
          <a:blip r:embed="rId1"/>
          <a:stretch/>
        </p:blipFill>
        <p:spPr>
          <a:xfrm>
            <a:off x="6516720" y="5084640"/>
            <a:ext cx="21398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259920"/>
            <a:ext cx="4611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Тело десятиногих раков состоит из слитной головогруди и брюшка. На головогруди находятся сложные глаза, пара длинных и пара коротких усиков, ротовые органы, пять пар ходильных ног. На передней паре у большинства видов имеются клешни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5100480" y="366840"/>
            <a:ext cx="3969000" cy="2663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0" name="Рисунок 5" descr=""/>
          <p:cNvPicPr/>
          <p:nvPr/>
        </p:nvPicPr>
        <p:blipFill>
          <a:blip r:embed="rId2"/>
          <a:stretch/>
        </p:blipFill>
        <p:spPr>
          <a:xfrm>
            <a:off x="5100480" y="3449520"/>
            <a:ext cx="3910320" cy="2592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274680"/>
            <a:ext cx="40752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ятиногие раки питаются в основном водными беспозвоночными животными, водорослями и другими растениями, органическими остатками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216000" indent="-212760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4" name="Picture 10" descr="https://i2.wp.com/aquariumguide.ru/wp-content/uploads/2019/01/ExternalLink_shutterstock_1043583214.jpg"/>
          <p:cNvPicPr/>
          <p:nvPr/>
        </p:nvPicPr>
        <p:blipFill>
          <a:blip r:embed="rId1"/>
          <a:stretch/>
        </p:blipFill>
        <p:spPr>
          <a:xfrm>
            <a:off x="4284720" y="549360"/>
            <a:ext cx="4535280" cy="30258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5" name="Picture 12" descr="https://mbfinance.ru/wp-content/uploads/2017/07/4-min-3.jpg"/>
          <p:cNvPicPr/>
          <p:nvPr/>
        </p:nvPicPr>
        <p:blipFill>
          <a:blip r:embed="rId2"/>
          <a:stretch/>
        </p:blipFill>
        <p:spPr>
          <a:xfrm>
            <a:off x="3419640" y="4005360"/>
            <a:ext cx="5489280" cy="2592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648320" y="2332080"/>
            <a:ext cx="411480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 Box 1"/>
          <p:cNvSpPr/>
          <p:nvPr/>
        </p:nvSpPr>
        <p:spPr>
          <a:xfrm>
            <a:off x="250920" y="404640"/>
            <a:ext cx="42480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сятиногие раки — раздельнополы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многих раков развитие прямое, т.е. из яиц вылупляются маленькие рачки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Рисунок 6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248360" cy="28224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0" name="Рисунок 2" descr=""/>
          <p:cNvPicPr/>
          <p:nvPr/>
        </p:nvPicPr>
        <p:blipFill>
          <a:blip r:embed="rId2"/>
          <a:stretch/>
        </p:blipFill>
        <p:spPr>
          <a:xfrm>
            <a:off x="4648320" y="3645000"/>
            <a:ext cx="4340160" cy="30556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0" y="549360"/>
            <a:ext cx="36352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равноногих раков наиболее известна обыкновенная мокрица, встречающаяся во влажной почве на огородах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3851280" cy="28861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64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5" name="Picture 9" descr="https://grizun-off.ru/wp-content/uploads/5/b/0/5b05c3bd1b0f285cd9e02c69d6f1fe8b.jpeg"/>
          <p:cNvPicPr/>
          <p:nvPr/>
        </p:nvPicPr>
        <p:blipFill>
          <a:blip r:embed="rId2"/>
          <a:stretch/>
        </p:blipFill>
        <p:spPr>
          <a:xfrm>
            <a:off x="395280" y="3860640"/>
            <a:ext cx="3957480" cy="2592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6" name="Picture 11" descr="https://i.pinimg.com/originals/6c/b6/6d/6cb66d0b33470bd33745d7a739b2b965.png"/>
          <p:cNvPicPr/>
          <p:nvPr/>
        </p:nvPicPr>
        <p:blipFill>
          <a:blip r:embed="rId3"/>
          <a:stretch/>
        </p:blipFill>
        <p:spPr>
          <a:xfrm>
            <a:off x="5651640" y="5373720"/>
            <a:ext cx="33559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8744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243000" y="274680"/>
            <a:ext cx="43290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ло мокриц уплощено сверху вниз, на груди и брюшке имеется 14 ходильных ног.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брюшных ножках имеются глубокие впячивания кожи — воздушные камеры. Мокрицы активны ночью. Питаются в основном различными растительными остатками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4410000" y="1617840"/>
            <a:ext cx="4533840" cy="37558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57200" y="5494320"/>
            <a:ext cx="822960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7786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фнии из ветвистоусых и циклопы из веслоногих раков — обычные обитатели пресных водоем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"/>
          <p:cNvPicPr/>
          <p:nvPr/>
        </p:nvPicPr>
        <p:blipFill>
          <a:blip r:embed="rId1"/>
          <a:stretch/>
        </p:blipFill>
        <p:spPr>
          <a:xfrm>
            <a:off x="108000" y="3265560"/>
            <a:ext cx="4800600" cy="284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3" name="Рисунок 4" descr=""/>
          <p:cNvPicPr/>
          <p:nvPr/>
        </p:nvPicPr>
        <p:blipFill>
          <a:blip r:embed="rId2"/>
          <a:stretch/>
        </p:blipFill>
        <p:spPr>
          <a:xfrm>
            <a:off x="4927680" y="3265560"/>
            <a:ext cx="3797280" cy="284472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48320" y="2924280"/>
            <a:ext cx="36687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72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960" y="411120"/>
            <a:ext cx="41907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афнии словно толкутся в воде, постоянно взмахивая ветвистой парой усиков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итаются бактериями, одноклеточными водорослями взвешенными в воде органическими остатк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" descr=""/>
          <p:cNvPicPr/>
          <p:nvPr/>
        </p:nvPicPr>
        <p:blipFill>
          <a:blip r:embed="rId1"/>
          <a:stretch/>
        </p:blipFill>
        <p:spPr>
          <a:xfrm>
            <a:off x="4341960" y="3274920"/>
            <a:ext cx="4659120" cy="3494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8" name="Рисунок 4" descr=""/>
          <p:cNvPicPr/>
          <p:nvPr/>
        </p:nvPicPr>
        <p:blipFill>
          <a:blip r:embed="rId2"/>
          <a:stretch/>
        </p:blipFill>
        <p:spPr>
          <a:xfrm>
            <a:off x="4334040" y="396720"/>
            <a:ext cx="4773600" cy="27036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20:49:25Z</dcterms:created>
  <dc:creator>Windows</dc:creator>
  <dc:description/>
  <dc:language>en-US</dc:language>
  <cp:lastModifiedBy>Пользователь</cp:lastModifiedBy>
  <dcterms:modified xsi:type="dcterms:W3CDTF">2022-08-22T17:24:09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