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6EE-3CFA-4D2D-BA04-0EDA9FD6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582-F8CE-41D1-A0BB-1E08EB2A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5E0-B272-447F-8D8B-EE6CB9EA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937-F824-4D1C-8D98-F7CA03D7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1935-CA49-4849-BF13-01D3B1D8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448D-678F-4DCA-904C-81EDAE5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1692-CCD3-43D9-9D05-BECA333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3D11-8147-404D-BAFF-F6FC1BDC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276-4FC2-43F5-B074-FBE804C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BB1-AA6C-4945-BE34-277E505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582-F3F5-477E-8496-F1C5C96D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C07-37FF-449E-9507-4EEAF5C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471C-B96C-4F4B-B1D2-57BDC25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1A79-4602-4D44-B961-9B906F4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9E77-DBE2-4FC3-B47B-B213B86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3522-6FA0-487D-A0D8-810E486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A6EF-464B-4453-8D00-BB9886E3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2C2-5896-4BB2-922D-FA80B49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7B3-B4B6-4EFA-84C7-E07DB96C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378-3BEE-4765-B16A-29DD0B8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7F7-27C1-4DEF-889D-E70BBE3B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D39-6F54-478F-9DBA-AF855EF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712-21C5-478F-9503-30B0A7E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9AE-CBEE-42FC-A4D7-F0B9532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FAA-EB82-47B7-A7F4-C0A7847C2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A73-5AB7-4AB6-8268-68C86305FA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33"/>
                </a:solidFill>
                <a:latin typeface="Arial"/>
              </a:rPr>
              <a:t>МИР БЕЗ ТЕРРО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9" descr="i"/>
          <p:cNvPicPr/>
          <p:nvPr/>
        </p:nvPicPr>
        <p:blipFill>
          <a:blip r:embed="rId1"/>
          <a:stretch/>
        </p:blipFill>
        <p:spPr>
          <a:xfrm>
            <a:off x="1905120" y="2819520"/>
            <a:ext cx="5486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0033"/>
                </a:solidFill>
                <a:uFillTx/>
                <a:latin typeface="Arial"/>
              </a:rPr>
              <a:t>3 сентября</a:t>
            </a:r>
            <a:r>
              <a:rPr b="0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 - День солидарности в борьбе с терроризмом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175eb28dbbcf80037d424f9c5c5f230e"/>
          <p:cNvPicPr/>
          <p:nvPr/>
        </p:nvPicPr>
        <p:blipFill>
          <a:blip r:embed="rId1"/>
          <a:stretch/>
        </p:blipFill>
        <p:spPr>
          <a:xfrm>
            <a:off x="1447920" y="2085840"/>
            <a:ext cx="62863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ffff"/>
                </a:solidFill>
                <a:uFillTx/>
                <a:latin typeface="Arial"/>
              </a:rPr>
              <a:t>Что такое террориз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– совершение взрыва, поджога или иных действий, создающих опасность гибели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320720" y="31082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Wikinews_tag_terrorism"/>
          <p:cNvPicPr/>
          <p:nvPr/>
        </p:nvPicPr>
        <p:blipFill>
          <a:blip r:embed="rId1"/>
          <a:stretch/>
        </p:blipFill>
        <p:spPr>
          <a:xfrm>
            <a:off x="5973840" y="4870440"/>
            <a:ext cx="317016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 сентября 2004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гда дети с родителями пришли в школу на День знаний, не ожидая беды и радуясь новому учебному году боевики проникли в школу № 1 Беслана и захватили в заложники учеников, их родителей и учителей. Террористы отказались от переговоров, заминировали несколько помещений захваченной школы, а также выставили на крыше здания снайпера. С целью предотвращения возможного штурма боевики выставили в окнах детей, захваченных в заложники, начали угрожать расстреливать заложников за каждого убитого и раненого бандита. Федеральные спецподразделения и местные жители стали защищать детей и начали боевые действия против террор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дании школы преступники целых три дня удерживали 1.128 человек. 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Итогом этого террористического акта стал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ель  343 человек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, что составило около 1% населения города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700 были ранены.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 Среди погибших были не только заложники и мирные жители, но также и военнослужащие. Половина погибших являлись несовершеннолетними лицами. Особая трагичность этого теракта заключается в том, что погибли в основном дети и женщ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i4"/>
          <p:cNvPicPr/>
          <p:nvPr/>
        </p:nvPicPr>
        <p:blipFill>
          <a:blip r:embed="rId1"/>
          <a:stretch/>
        </p:blipFill>
        <p:spPr>
          <a:xfrm>
            <a:off x="6095880" y="4191120"/>
            <a:ext cx="2907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страшное сл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оль, отчаянье, стр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роризм- это гибель живо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крики на детских губ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мерть ни в чём не повинных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иков, женщин, дет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подлое злое дея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веревших, жестоких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i3"/>
          <p:cNvPicPr/>
          <p:nvPr/>
        </p:nvPicPr>
        <p:blipFill>
          <a:blip r:embed="rId1"/>
          <a:stretch/>
        </p:blipFill>
        <p:spPr>
          <a:xfrm>
            <a:off x="6019920" y="3200400"/>
            <a:ext cx="3124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715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Зажжём поминальные свечи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На минуту друзья замолч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х души с небес нас увидя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Мы память о них сохран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i"/>
          <p:cNvPicPr/>
          <p:nvPr/>
        </p:nvPicPr>
        <p:blipFill>
          <a:blip r:embed="rId1"/>
          <a:stretch/>
        </p:blipFill>
        <p:spPr>
          <a:xfrm>
            <a:off x="6019920" y="1828800"/>
            <a:ext cx="297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66ffff"/>
                </a:solidFill>
                <a:uFillTx/>
                <a:latin typeface="Arial"/>
              </a:rPr>
              <a:t>Общие рекомендации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ложники лучше не попад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принимайте от незнакомцев пакеты и сумки, не оставляйте свои вещи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щайте внимание на подозрительных людей, предметы, на любые подозрительные мело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да узнавайте, где находятся резервные выходы из поме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роизошел взрыв, пожар, землетрясение, никогда не пользуйтесь лифт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райтесь не поддаваться панике, что бы ни произ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i2"/>
          <p:cNvPicPr/>
          <p:nvPr/>
        </p:nvPicPr>
        <p:blipFill>
          <a:blip r:embed="rId1"/>
          <a:stretch/>
        </p:blipFill>
        <p:spPr>
          <a:xfrm>
            <a:off x="6595920" y="4952880"/>
            <a:ext cx="2514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ВСЕМ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НУЖЕН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МИР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8-30T11:57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