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327-520F-4161-8A5A-8BE1954F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AD56-A275-40DD-9C00-0991D2D7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188-E002-4DCD-8924-5BB1ABD2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945-B404-4669-93CD-24E65198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CD16-05A5-414D-9A5F-FD121EB0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2A78-7129-439F-8E2C-A8C16206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367B-D9D1-4932-8BD2-216D671B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786D-BFCE-4A99-8570-C8AF7385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C092-6C36-4BE0-B061-9BDC54C1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EF68-CDE3-4D2D-B7D0-D87E6CCE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A447-BD9B-41F6-BCBF-7B4A2C26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215-C6DD-43C4-A91B-2837BE8D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C2A1-0695-463A-91CD-4589FD68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88E6-0F01-49C5-998D-1D73927B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FABE-599B-47AD-9B73-B8EA8FED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D94C-3E8E-406E-A780-25552D17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9982-1B40-4254-B305-7F9C647C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582-4A8F-46F5-90D4-B7C1A4DF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8DC-57CF-417A-8898-82E0203B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8E2-6292-4D94-8074-A183E446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10A-7F38-403A-9AE2-64BB7067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385-DC7C-4C69-9F3B-C23945FF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FBF7-1807-4237-8D99-8500F90E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2BF-F4F6-4ED1-884B-AA4F3287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B593-3961-4BB8-8BB3-DAF69EEE14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C2A2-B4B1-413C-A1D3-63BB7020EF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33"/>
                </a:solidFill>
                <a:latin typeface="Arial"/>
              </a:rPr>
              <a:t>МИР БЕЗ ТЕРРОР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9" descr="i"/>
          <p:cNvPicPr/>
          <p:nvPr/>
        </p:nvPicPr>
        <p:blipFill>
          <a:blip r:embed="rId1"/>
          <a:stretch/>
        </p:blipFill>
        <p:spPr>
          <a:xfrm>
            <a:off x="1905120" y="2819520"/>
            <a:ext cx="5486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990033"/>
                </a:solidFill>
                <a:uFillTx/>
                <a:latin typeface="Arial"/>
              </a:rPr>
              <a:t>3 сентября</a:t>
            </a:r>
            <a:r>
              <a:rPr b="0" lang="ru-RU" sz="4800" spc="-1" strike="noStrike" u="sng">
                <a:solidFill>
                  <a:srgbClr val="ccecff"/>
                </a:solidFill>
                <a:uFillTx/>
                <a:latin typeface="Arial"/>
              </a:rPr>
              <a:t> - День солидарности в борьбе с терроризмом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175eb28dbbcf80037d424f9c5c5f230e"/>
          <p:cNvPicPr/>
          <p:nvPr/>
        </p:nvPicPr>
        <p:blipFill>
          <a:blip r:embed="rId1"/>
          <a:stretch/>
        </p:blipFill>
        <p:spPr>
          <a:xfrm>
            <a:off x="1447920" y="2085840"/>
            <a:ext cx="628632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ffff"/>
                </a:solidFill>
                <a:uFillTx/>
                <a:latin typeface="Arial"/>
              </a:rPr>
              <a:t>Что такое терроризм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470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еррориз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– совершение взрыва, поджога или иных действий, создающих опасность гибели лю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4320720" y="310824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Wikinews_tag_terrorism"/>
          <p:cNvPicPr/>
          <p:nvPr/>
        </p:nvPicPr>
        <p:blipFill>
          <a:blip r:embed="rId1"/>
          <a:stretch/>
        </p:blipFill>
        <p:spPr>
          <a:xfrm>
            <a:off x="5973840" y="4870440"/>
            <a:ext cx="317016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1 сентября 2004 год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огда дети с родителями пришли в школу на День знаний, не ожидая беды и радуясь новому учебному году боевики проникли в школу № 1 Беслана и захватили в заложники учеников, их родителей и учителей. Террористы отказались от переговоров, заминировали несколько помещений захваченной школы, а также выставили на крыше здания снайпера. С целью предотвращения возможного штурма боевики выставили в окнах детей, захваченных в заложники, начали угрожать расстреливать заложников за каждого убитого и раненого бандита. Федеральные спецподразделения и местные жители стали защищать детей и начали боевые действия против террорис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6629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здании школы преступники целых три дня удерживали 1.128 человек. </a:t>
            </a:r>
            <a:r>
              <a:rPr b="0" lang="ru-RU" sz="2800" spc="-1" strike="noStrike">
                <a:solidFill>
                  <a:srgbClr val="66ffff"/>
                </a:solidFill>
                <a:latin typeface="Arial"/>
              </a:rPr>
              <a:t>Итогом этого террористического акта стал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бель  343 человек</a:t>
            </a:r>
            <a:r>
              <a:rPr b="0" lang="ru-RU" sz="2800" spc="-1" strike="noStrike">
                <a:solidFill>
                  <a:srgbClr val="66ffff"/>
                </a:solidFill>
                <a:latin typeface="Arial"/>
              </a:rPr>
              <a:t>, что составило около 1% населения города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ее 700 были ранены.</a:t>
            </a:r>
            <a:r>
              <a:rPr b="0" lang="ru-RU" sz="2800" spc="-1" strike="noStrike">
                <a:solidFill>
                  <a:srgbClr val="66ffff"/>
                </a:solidFill>
                <a:latin typeface="Arial"/>
              </a:rPr>
              <a:t> Среди погибших были не только заложники и мирные жители, но также и военнослужащие. Половина погибших являлись несовершеннолетними лицами. Особая трагичность этого теракта заключается в том, что погибли в основном дети и женщи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i4"/>
          <p:cNvPicPr/>
          <p:nvPr/>
        </p:nvPicPr>
        <p:blipFill>
          <a:blip r:embed="rId1"/>
          <a:stretch/>
        </p:blipFill>
        <p:spPr>
          <a:xfrm>
            <a:off x="6095880" y="4191120"/>
            <a:ext cx="29070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еррориз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это страшное сл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боль, отчаянье, стра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рроризм- это гибель живог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крики на детских губ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смерть ни в чём не повинных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риков, женщин, дете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подлое злое деян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веревших, жестоких люд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i3"/>
          <p:cNvPicPr/>
          <p:nvPr/>
        </p:nvPicPr>
        <p:blipFill>
          <a:blip r:embed="rId1"/>
          <a:stretch/>
        </p:blipFill>
        <p:spPr>
          <a:xfrm>
            <a:off x="6019920" y="3200400"/>
            <a:ext cx="31240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5715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Зажжём поминальные свечи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На минуту друзья замолчи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Их души с небес нас увидят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Мы память о них сохрани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4" descr="i"/>
          <p:cNvPicPr/>
          <p:nvPr/>
        </p:nvPicPr>
        <p:blipFill>
          <a:blip r:embed="rId1"/>
          <a:stretch/>
        </p:blipFill>
        <p:spPr>
          <a:xfrm>
            <a:off x="6019920" y="1828800"/>
            <a:ext cx="2971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 u="sng">
                <a:solidFill>
                  <a:srgbClr val="66ffff"/>
                </a:solidFill>
                <a:uFillTx/>
                <a:latin typeface="Arial"/>
              </a:rPr>
              <a:t>Общие рекомендации: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заложники лучше не попада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когда не принимайте от незнакомцев пакеты и сумки, не оставляйте свои вещи без присмот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щайте внимание на подозрительных людей, предметы, на любые подозрительные мелоч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гда узнавайте, где находятся резервные выходы из помещ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произошел взрыв, пожар, землетрясение, никогда не пользуйтесь лифт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райтесь не поддаваться панике, что бы ни произош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4" descr="i2"/>
          <p:cNvPicPr/>
          <p:nvPr/>
        </p:nvPicPr>
        <p:blipFill>
          <a:blip r:embed="rId1"/>
          <a:stretch/>
        </p:blipFill>
        <p:spPr>
          <a:xfrm>
            <a:off x="6595920" y="4952880"/>
            <a:ext cx="2514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8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00"/>
                </a:solidFill>
                <a:latin typeface="Arial"/>
              </a:rPr>
              <a:t>ВСЕМ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8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00"/>
                </a:solidFill>
                <a:latin typeface="Arial"/>
              </a:rPr>
              <a:t>НУЖЕН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287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00"/>
                </a:solidFill>
                <a:latin typeface="Arial"/>
              </a:rPr>
              <a:t>МИР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9-08-30T11:57:1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