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3.png" ContentType="image/png"/>
  <Override PartName="/ppt/media/image11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gif" ContentType="image/gif"/>
  <Override PartName="/ppt/media/image1.jpeg" ContentType="image/jpeg"/>
  <Override PartName="/ppt/media/image2.jpeg" ContentType="image/jpeg"/>
  <Override PartName="/ppt/media/image9.png" ContentType="image/png"/>
  <Override PartName="/ppt/media/image6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5C1-F228-4059-B165-5BB20E25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90B-E757-4E75-A4A6-EA5F0C7C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981-68A3-4DA4-B3B2-D4BB7B1A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F20-CE09-421A-B74A-814648DE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375E9-600A-43D9-99D3-C21BB352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21989-FA9F-4F04-A4A8-109C8FDB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94293-7F5E-4A7E-9570-F5E18FA3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F59DB-E197-49A2-9DB2-BA439B77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4D2EA-1ADF-4193-A89C-4BC63EB0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5F446-CBFD-493E-8F76-DC4A5740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1611E-B8BC-4625-8F59-6A2C43C3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A58-F25A-4217-9934-63E0046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DD5FE-18E6-4859-9B41-84231DF8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1D037-F85C-486D-A76D-E4DBA13C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6ACDC-9101-45AE-80E1-B6A70068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6184A-D6CC-4B26-9777-1E67D415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E16D7-7DA3-4026-B919-67E415A8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BAC-7FC0-4F5D-B362-7FB7A2A6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CAA-148C-4A39-BC49-DB36BAFC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E5A-0240-47BA-A67F-0F8C5C20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C48-71E4-4B4F-9E60-CA46A419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329-9A85-4E7A-B3F9-AC555014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609-6788-4506-B99F-2D8660AC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E32-572C-4AA1-ADB1-1E7B00A1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A503-F900-416E-8640-B53C66718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8AF6-C557-4B44-A2B1-D808DDA2A9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неклассное мероприятие по русскому язык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«Язык мой- друг мой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 Веревкина Р.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ловообразовательная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Союз- мой первый сло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торой мой слог- предлог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целое- у молод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ередине лиц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Мой первый слог – предло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о втором мы прожили все лет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целое от нас и в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но уж ждет отве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Из писка птиц мой первый слог возьмит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торой- с бараньей голов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ойте печь и там найдет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, что не раз едали в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В нем приставка, как в слове  подруга. Корень – как в слове  игрушка. Суффиксы  такие же, как в слове  чита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5" descr="girlread1"/>
          <p:cNvPicPr/>
          <p:nvPr/>
        </p:nvPicPr>
        <p:blipFill>
          <a:blip r:embed="rId1"/>
          <a:stretch/>
        </p:blipFill>
        <p:spPr>
          <a:xfrm>
            <a:off x="5724360" y="1916280"/>
            <a:ext cx="21481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актическа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Определите часть р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садила мама в печь пироги с капустой пе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нежное покрывало  все поле покрыв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Почему по- разному пишутся сло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ревенский старож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д колхозный сторо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Назовите слова, начинающиеся с четырех соглас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ABOOK"/>
          <p:cNvPicPr/>
          <p:nvPr/>
        </p:nvPicPr>
        <p:blipFill>
          <a:blip r:embed="rId1"/>
          <a:stretch/>
        </p:blipFill>
        <p:spPr>
          <a:xfrm>
            <a:off x="5472000" y="3789360"/>
            <a:ext cx="3672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Picture 3" descr="закат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264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2290680" y="1735200"/>
            <a:ext cx="45626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поставить запят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чень, очень странный 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ечка за окном го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ей-то дом хвостом ви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есик из ружья стре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льчик чуть не слопал мыш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т в очках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тает книж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тарый дед влетел в ок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робей схватил з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а как крикнет уле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т что значит запят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97964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Корабль «Мария» во время шторм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0" y="189000"/>
            <a:ext cx="62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290680" y="911160"/>
            <a:ext cx="45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290680" y="620640"/>
            <a:ext cx="456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чень, очень странный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ечка за окн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ей-то дом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востом ви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ес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з ружья стре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льч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уть не слопал мыш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очках читает книж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тарый де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летел в ок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робей, схватил зер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а как крикнет, улета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Вот что значит запятая.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48080"/>
            <a:ext cx="82296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образительная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О каких словах идет реч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Я- травянистое раст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цветком сиреневого цве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о переставьте ударени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 превращаюсь я в конф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Меня вы в сказке отыщит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Я в сказке Пушкина –гер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о л на н лишь замени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бирской стану я ре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С к я в школе на стен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ры , реки есть на м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п, от вас не ута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же в школе я стою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Содержимое 18" descr="sova.png"/>
          <p:cNvPicPr/>
          <p:nvPr/>
        </p:nvPicPr>
        <p:blipFill>
          <a:blip r:embed="rId1"/>
          <a:stretch/>
        </p:blipFill>
        <p:spPr>
          <a:xfrm>
            <a:off x="5003640" y="1989000"/>
            <a:ext cx="25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700360" y="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ГАДА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112478_BIG_0_0"/>
          <p:cNvPicPr/>
          <p:nvPr/>
        </p:nvPicPr>
        <p:blipFill>
          <a:blip r:embed="rId1"/>
          <a:stretch/>
        </p:blipFill>
        <p:spPr>
          <a:xfrm>
            <a:off x="395280" y="907920"/>
            <a:ext cx="8496360" cy="5732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042920" y="981000"/>
            <a:ext cx="73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      С ч над морем я лета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г в машинах я быв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    Легко дыша в моей тен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ня ты летом часто хвалиш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буквы переставь мои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целый лес ты мною свалиш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  В каком глаголе нет слышится сто ра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  Чем кончается лето и начинается осен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  Что стоит посередине зем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их словах по сто согласны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Какое государство можно носить на голов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Какой город лета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Какая земля никогда не стар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Раскрыть смысл выражен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й под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з час по чайной лож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очить голо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есь д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учив рук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усить язы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 пуха ни п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устив рук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ватать на л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 сучка, без задори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лонять по падежа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311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итературна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 в крещенский вечер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вушки гадал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 ворота башмач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яв с ноги, бросал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щай, мой товарищ, мой верный слу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таться настало нам врем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перь отдыхай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рустно, Нина, путь мой скуч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мля, смолкнул мой ямщик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учки небесные, вечные странники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пью лазурною, цепь жемчужно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читесь, будто как я же, изгнан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милого берега в сторону южну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  И солнце остатки  сухие дожгл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 ветром их в степи потом разнесл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                                                    Чудная картина, как ты мне род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ая равнина, полная лу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21M2[1]"/>
          <p:cNvPicPr/>
          <p:nvPr/>
        </p:nvPicPr>
        <p:blipFill>
          <a:blip r:embed="rId1"/>
          <a:stretch/>
        </p:blipFill>
        <p:spPr>
          <a:xfrm>
            <a:off x="7093080" y="3716280"/>
            <a:ext cx="18349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2706480" cy="342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4645080" y="212760"/>
            <a:ext cx="2773440" cy="34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6407280" y="3213000"/>
            <a:ext cx="2736720" cy="3419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4"/>
          <a:stretch/>
        </p:blipFill>
        <p:spPr>
          <a:xfrm>
            <a:off x="2286000" y="3286080"/>
            <a:ext cx="2567160" cy="34196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214200" y="3929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28760" y="6357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"/>
              </a:rPr>
              <a:t>И.С.Ники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7244640" y="5000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"/>
              </a:rPr>
              <a:t>И.З.Сур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5143680" y="621504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"/>
              </a:rPr>
              <a:t>И.А.Бу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5"/>
          <a:stretch/>
        </p:blipFill>
        <p:spPr>
          <a:xfrm>
            <a:off x="182520" y="262080"/>
            <a:ext cx="27068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 русском язык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 чрезвычайно богат, гибок и живописен для выражения  простых , естественных понятий. В русском языке  иногда для выражения  разнообразных  оттенков  одного и того же  действия  существует  до десяти и более глаголов одного корня, но разных ви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Белин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–это история народа. Язык- это путь цивилизации и культуры. Поэтому- то изучение и сбережение  русского языка  делается не праздным занятием от нечего делать,  но насущной необходимостью.( А.И.Купри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грова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Кросвор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Чайнвор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012000" y="3645000"/>
            <a:ext cx="27622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гащайте свой словарный запас, свою память, ибо только знание языка  поможет вам в овладении многими нау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7"/>
          <p:cNvPicPr/>
          <p:nvPr/>
        </p:nvPicPr>
        <p:blipFill>
          <a:blip r:embed="rId1"/>
          <a:stretch/>
        </p:blipFill>
        <p:spPr>
          <a:xfrm>
            <a:off x="2627280" y="2565360"/>
            <a:ext cx="405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торическа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любого народа- это одно из самых  сложных явлений человеческого 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- язык великого русского народа, имеющего героическую историю, выдающиеся достижения в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ки, культуры,  литературы, общественной мыс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 считают  одним из  наиболее богатых и  развитых языков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 относят к славянской группе языков, восточнославянской подгруппы. Ближайши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го родственниками являются украинский и белорусский язы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 является государственным языком Российской Федерации языком межнационального общения народов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030a0"/>
                </a:solidFill>
                <a:latin typeface="Arial Narrow"/>
              </a:rPr>
              <a:t>Говоря по-русски – говорим на иностранном языке. Верите?</a:t>
            </a:r>
            <a:endParaRPr b="0" lang="en-US" sz="35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356840"/>
            <a:ext cx="7696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 завтрак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чай (китайск.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офе (франц.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екс (англ.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акао (америк.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мармелад (португал.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бутерброд (немецк.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сахар (индийск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Из немецкого и голландского языков много слов пришло в эпоху Петра </a:t>
            </a:r>
            <a:r>
              <a:rPr b="1" lang="en-US" sz="2800" spc="-1" strike="noStrike">
                <a:solidFill>
                  <a:srgbClr val="e3e3ff"/>
                </a:solidFill>
                <a:latin typeface="Arial Narrow"/>
              </a:rPr>
              <a:t>I</a:t>
            </a: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 в связи с его реформами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Содержимое 4" descr="петр.jpg"/>
          <p:cNvPicPr/>
          <p:nvPr/>
        </p:nvPicPr>
        <p:blipFill>
          <a:blip r:embed="rId1"/>
          <a:stretch/>
        </p:blipFill>
        <p:spPr>
          <a:xfrm>
            <a:off x="214200" y="2071800"/>
            <a:ext cx="3500640" cy="3714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928680" y="1828440"/>
            <a:ext cx="471492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ем.: </a:t>
            </a:r>
            <a:r>
              <a:rPr b="1" lang="ru-RU" sz="3600" spc="-1" strike="noStrike">
                <a:solidFill>
                  <a:srgbClr val="e3e3ff"/>
                </a:solidFill>
                <a:latin typeface="Arial Narrow"/>
              </a:rPr>
              <a:t>гауптвахта, лагерь, вексель, галстук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Голл.: </a:t>
            </a:r>
            <a:r>
              <a:rPr b="1" lang="ru-RU" sz="3600" spc="-1" strike="noStrike">
                <a:solidFill>
                  <a:srgbClr val="e3e3ff"/>
                </a:solidFill>
                <a:latin typeface="Arial Narrow"/>
              </a:rPr>
              <a:t>гавань, лоцман, флаг, флот, дюйм, рейд, зонтик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Из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греческого</a:t>
            </a: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 еще в древние времена заимствовалис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2920" y="1828800"/>
            <a:ext cx="4314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азвания из области религии 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(лампада, ангел, демон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аучные термины 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(география, математика, философ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азвания из области науки и искусства 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(анапест, комедия, хор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Содержимое 6" descr="греки.jpg"/>
          <p:cNvPicPr/>
          <p:nvPr/>
        </p:nvPicPr>
        <p:blipFill>
          <a:blip r:embed="rId1"/>
          <a:stretch/>
        </p:blipFill>
        <p:spPr>
          <a:xfrm>
            <a:off x="4849920" y="1600200"/>
            <a:ext cx="3641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 Narrow"/>
              </a:rPr>
              <a:t>Из латинского в русском языке много научных и общественно-политических терминов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827000"/>
            <a:ext cx="3772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Револю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Кон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Эволю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Вертик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Дикт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Плену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Маниф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Презид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Содержимое 4" descr="латинск.jpg"/>
          <p:cNvPicPr/>
          <p:nvPr/>
        </p:nvPicPr>
        <p:blipFill>
          <a:blip r:embed="rId1"/>
          <a:stretch/>
        </p:blipFill>
        <p:spPr>
          <a:xfrm>
            <a:off x="4786200" y="2068560"/>
            <a:ext cx="3359160" cy="38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Narrow"/>
              </a:rPr>
              <a:t>Из английского заимствования активно проникают в наш язык в настоящее врем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827000"/>
            <a:ext cx="377208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Бриф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Шо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Вау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Тинейдж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Секонд –хен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Банд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Ими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Содержимое 4" descr="англичане.jpg"/>
          <p:cNvPicPr/>
          <p:nvPr/>
        </p:nvPicPr>
        <p:blipFill>
          <a:blip r:embed="rId1"/>
          <a:stretch/>
        </p:blipFill>
        <p:spPr>
          <a:xfrm>
            <a:off x="4357800" y="1827360"/>
            <a:ext cx="3868560" cy="39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оретическа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Что такое основа сл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азовите части ре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Какие части речи не являются членами предлож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Что называется приставк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Сформулируйте правило правописания корней в словах     изложение- излагать, вырос- р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Когда после приставок пишутся буквы и или 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Назовите способы образования слов, приведит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4:48:08Z</dcterms:created>
  <dc:creator>Сергей</dc:creator>
  <dc:description/>
  <dc:language>en-US</dc:language>
  <cp:lastModifiedBy>Николай Веревкин</cp:lastModifiedBy>
  <dcterms:modified xsi:type="dcterms:W3CDTF">2022-08-22T18:04:07Z</dcterms:modified>
  <cp:revision>6</cp:revision>
  <dc:subject/>
  <dc:title>Язык мой – друг мой.</dc:title>
</cp:coreProperties>
</file>