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3.png" ContentType="image/png"/>
  <Override PartName="/ppt/media/image11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gif" ContentType="image/gif"/>
  <Override PartName="/ppt/media/image1.jpeg" ContentType="image/jpeg"/>
  <Override PartName="/ppt/media/image2.jpeg" ContentType="image/jpeg"/>
  <Override PartName="/ppt/media/image9.png" ContentType="image/png"/>
  <Override PartName="/ppt/media/image6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E16-14EA-450F-9FBB-191697A7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748-E4A4-4D40-988B-F8C7AE34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95E-58DD-474D-A0E7-7B658D2F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21F-FBFA-4E09-B370-BC8E4D2B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279F-A42F-46E9-99C4-A54564D6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9EBB2-5EB4-433B-BC81-AFB32A07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B80B3-B1C7-40E8-9EE8-4EF5F3C6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E808C-C000-4C62-9D44-B8F113EC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A7951-E619-49DB-A9D8-44EE6505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C2F48-E120-4D22-B659-8C426646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7BF40-C6EE-4A70-A240-A82F6D54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A53-291E-4920-8BA3-030B6505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19633-A48E-4988-8BB9-BE9A8BE1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83C36-5103-4748-843B-EC296178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942E5-2AA9-4ACA-86A7-C6BCC612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E1B76-CE2E-4619-B9C7-2A392416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88E21-7F1B-4AB7-A025-364F90F0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112-F2B7-488C-BB75-11BC4678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161-9D25-4B6E-9C7A-2B4B7B4A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654-5A56-40C0-AC38-4D2814E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FB5-0484-47B4-B414-98300203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D22-A0CD-4EB3-B13F-A497727E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CAE-D381-493D-954F-DFA2BB59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3F9-DB5B-465D-A2EB-5412166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ED48-A1B9-42F0-A54F-C6A3CD5ADD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6087-DBAB-4FB7-B96F-1BFFE58807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неклассное мероприятие по русскому язык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«Язык мой- друг мой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  Веревкина Р.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ловообразовательная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Союз- мой первый сло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торой мой слог- предлог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целое- у молод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ередине лиц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Мой первый слог – предло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во втором мы прожили все лет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 целое от нас и в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авно уж ждет отве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Из писка птиц мой первый слог возьмит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торой- с бараньей голов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ойте печь и там найдет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, что не раз едали в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В нем приставка, как в слове  подруга. Корень – как в слове  игрушка. Суффиксы  такие же, как в слове  чита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5" descr="girlread1"/>
          <p:cNvPicPr/>
          <p:nvPr/>
        </p:nvPicPr>
        <p:blipFill>
          <a:blip r:embed="rId1"/>
          <a:stretch/>
        </p:blipFill>
        <p:spPr>
          <a:xfrm>
            <a:off x="5724360" y="1916280"/>
            <a:ext cx="21481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актическа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Определите часть реч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садила мама в печь пироги с капустой печ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нежное покрывало  все поле покрыв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Почему по- разному пишутся сло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еревенский старожи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ад колхозный сторо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Назовите слова, начинающиеся с четырех соглас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ABOOK"/>
          <p:cNvPicPr/>
          <p:nvPr/>
        </p:nvPicPr>
        <p:blipFill>
          <a:blip r:embed="rId1"/>
          <a:stretch/>
        </p:blipFill>
        <p:spPr>
          <a:xfrm>
            <a:off x="5472000" y="3789360"/>
            <a:ext cx="3672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1" name="Picture 3" descr="закат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264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2290680" y="1735200"/>
            <a:ext cx="45626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де поставить запят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чень, очень странный ви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ечка за окном го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ей-то дом хвостом ви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есик из ружья стре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льчик чуть не слопал мыш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т в очках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тает книж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тарый дед влетел в ок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робей схватил зер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а как крикнет уле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т что значит запят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979640" y="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Корабль «Мария» во время шторм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0" y="189000"/>
            <a:ext cx="62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290680" y="911160"/>
            <a:ext cx="45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290680" y="620640"/>
            <a:ext cx="456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чень, очень странный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ечка за окно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ей-то дом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Хвостом ви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ес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Из ружья стреля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альч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уть не слопал мыш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о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 очках читает книж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тарый де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летел в ок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робей, схватил зерн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Да как крикнет, улета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Вот что значит запятая.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48080"/>
            <a:ext cx="822960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образительная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О каких словах идет реч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Я- травянистое раст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цветком сиреневого цве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о переставьте ударение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 превращаюсь я в конф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Меня вы в сказке отыщит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Я в сказке Пушкина –гер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о л на н лишь замени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бирской стану я ре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С к я в школе на стен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ры , реки есть на м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п, от вас не утаю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оже в школе я стою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Содержимое 18" descr="sova.png"/>
          <p:cNvPicPr/>
          <p:nvPr/>
        </p:nvPicPr>
        <p:blipFill>
          <a:blip r:embed="rId1"/>
          <a:stretch/>
        </p:blipFill>
        <p:spPr>
          <a:xfrm>
            <a:off x="5003640" y="1989000"/>
            <a:ext cx="25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2700360" y="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УГАДА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3" descr="112478_BIG_0_0"/>
          <p:cNvPicPr/>
          <p:nvPr/>
        </p:nvPicPr>
        <p:blipFill>
          <a:blip r:embed="rId1"/>
          <a:stretch/>
        </p:blipFill>
        <p:spPr>
          <a:xfrm>
            <a:off x="395280" y="907920"/>
            <a:ext cx="8496360" cy="5732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042920" y="981000"/>
            <a:ext cx="73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      С ч над морем я лета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г в машинах я быва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    Легко дыша в моей тен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ня ты летом часто хвалиш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буквы переставь мои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целый лес ты мною свалиш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  В каком глаголе нет слышится сто раз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  Чем кончается лето и начинается осен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  Что стоит посередине зем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lain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их словах по сто согласны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Какое государство можно носить на голов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Какой город лета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Какая земля никогда не стар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Раскрыть смысл выражений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й под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з час по чайной лож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очить голо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есь д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учив рук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усить язы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 пуха ни п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устив рук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ватать на лет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 сучка, без задори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лонять по падежа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311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итературна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 в крещенский вечер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вушки гадал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 ворота башмач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няв с ноги, бросал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щай, мой товарищ, мой верный слуг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таться настало нам врем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перь отдыхай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рустно, Нина, путь мой скуч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емля, смолкнул мой ямщик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учки небесные, вечные странники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пью лазурною, цепь жемчужно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читесь, будто как я же, изгнан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милого берега в сторону южную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  И солнце остатки  сухие дожгл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 ветром их в степи потом разнесл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                                                    Чудная картина, как ты мне род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ая равнина, полная лу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21M2[1]"/>
          <p:cNvPicPr/>
          <p:nvPr/>
        </p:nvPicPr>
        <p:blipFill>
          <a:blip r:embed="rId1"/>
          <a:stretch/>
        </p:blipFill>
        <p:spPr>
          <a:xfrm>
            <a:off x="7093080" y="3716280"/>
            <a:ext cx="183492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212760" y="285840"/>
            <a:ext cx="2706480" cy="3421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4645080" y="212760"/>
            <a:ext cx="2773440" cy="342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3"/>
          <a:stretch/>
        </p:blipFill>
        <p:spPr>
          <a:xfrm>
            <a:off x="6407280" y="3213000"/>
            <a:ext cx="2736720" cy="3419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4"/>
          <a:stretch/>
        </p:blipFill>
        <p:spPr>
          <a:xfrm>
            <a:off x="2286000" y="3286080"/>
            <a:ext cx="2567160" cy="34196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5"/>
          <p:cNvSpPr/>
          <p:nvPr/>
        </p:nvSpPr>
        <p:spPr>
          <a:xfrm>
            <a:off x="214200" y="3929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28760" y="6357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"/>
              </a:rPr>
              <a:t>И.С.Ники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7244640" y="500040"/>
            <a:ext cx="16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"/>
              </a:rPr>
              <a:t>И.З.Сур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5143680" y="621504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Segoe UI"/>
              </a:rPr>
              <a:t>И.А.Бу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5"/>
          <a:stretch/>
        </p:blipFill>
        <p:spPr>
          <a:xfrm>
            <a:off x="182520" y="262080"/>
            <a:ext cx="27068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 русском язык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 чрезвычайно богат, гибок и живописен для выражения  простых , естественных понятий. В русском языке  иногда для выражения  разнообразных  оттенков  одного и того же  действия  существует  до десяти и более глаголов одного корня, но разных ви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Белинск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–это история народа. Язык- это путь цивилизации и культуры. Поэтому- то изучение и сбережение  русского языка  делается не праздным занятием от нечего делать,  но насущной необходимостью.( А.И.Купри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грова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Кросвор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Чайнвор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6012000" y="3645000"/>
            <a:ext cx="27622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огащайте свой словарный запас, свою память, ибо только знание языка  поможет вам в овладении многими нау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7"/>
          <p:cNvPicPr/>
          <p:nvPr/>
        </p:nvPicPr>
        <p:blipFill>
          <a:blip r:embed="rId1"/>
          <a:stretch/>
        </p:blipFill>
        <p:spPr>
          <a:xfrm>
            <a:off x="2627280" y="2565360"/>
            <a:ext cx="405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сторическа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любого народа- это одно из самых  сложных явлений человеческого  об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- язык великого русского народа, имеющего героическую историю, выдающиеся достижения в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ки, культуры,  литературы, общественной мысл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 считают  одним из  наиболее богатых и  развитых языков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 относят к славянской группе языков, восточнославянской подгруппы. Ближайши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го родственниками являются украинский и белорусский язы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сский язык является государственным языком Российской Федерации языком межнационального общения народов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7030a0"/>
                </a:solidFill>
                <a:latin typeface="Arial Narrow"/>
              </a:rPr>
              <a:t>Говоря по-русски – говорим на иностранном языке. Верите?</a:t>
            </a:r>
            <a:endParaRPr b="0" lang="en-US" sz="35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356840"/>
            <a:ext cx="7696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За завтраком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чай (китайск.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офе (франц.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екс (англ.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какао (америк.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мармелад (португал.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бутерброд (немецк.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 Narrow"/>
              </a:rPr>
              <a:t>сахар (индийск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Из немецкого и голландского языков много слов пришло в эпоху Петра </a:t>
            </a:r>
            <a:r>
              <a:rPr b="1" lang="en-US" sz="2800" spc="-1" strike="noStrike">
                <a:solidFill>
                  <a:srgbClr val="e3e3ff"/>
                </a:solidFill>
                <a:latin typeface="Arial Narrow"/>
              </a:rPr>
              <a:t>I</a:t>
            </a: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 в связи с его реформами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Содержимое 4" descr="петр.jpg"/>
          <p:cNvPicPr/>
          <p:nvPr/>
        </p:nvPicPr>
        <p:blipFill>
          <a:blip r:embed="rId1"/>
          <a:stretch/>
        </p:blipFill>
        <p:spPr>
          <a:xfrm>
            <a:off x="214200" y="2071800"/>
            <a:ext cx="3500640" cy="3714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928680" y="1828440"/>
            <a:ext cx="471492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ем.: </a:t>
            </a:r>
            <a:r>
              <a:rPr b="1" lang="ru-RU" sz="3600" spc="-1" strike="noStrike">
                <a:solidFill>
                  <a:srgbClr val="e3e3ff"/>
                </a:solidFill>
                <a:latin typeface="Arial Narrow"/>
              </a:rPr>
              <a:t>гауптвахта, лагерь, вексель, галстук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Голл.: </a:t>
            </a:r>
            <a:r>
              <a:rPr b="1" lang="ru-RU" sz="3600" spc="-1" strike="noStrike">
                <a:solidFill>
                  <a:srgbClr val="e3e3ff"/>
                </a:solidFill>
                <a:latin typeface="Arial Narrow"/>
              </a:rPr>
              <a:t>гавань, лоцман, флаг, флот, дюйм, рейд, зонтик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Из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греческого</a:t>
            </a:r>
            <a:r>
              <a:rPr b="1" lang="ru-RU" sz="4000" spc="-1" strike="noStrike">
                <a:solidFill>
                  <a:srgbClr val="7030a0"/>
                </a:solidFill>
                <a:latin typeface="Arial Narrow"/>
              </a:rPr>
              <a:t> еще в древние времена заимствовались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42920" y="1828800"/>
            <a:ext cx="4314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азвания из области религии 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(лампада, ангел, демон и т.п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аучные термины 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(география, математика, философ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азвания из области науки и искусства </a:t>
            </a:r>
            <a:r>
              <a:rPr b="1" lang="ru-RU" sz="2400" spc="-1" strike="noStrike">
                <a:solidFill>
                  <a:srgbClr val="3333ff"/>
                </a:solidFill>
                <a:latin typeface="Arial Narrow"/>
              </a:rPr>
              <a:t>(анапест, комедия, хор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Содержимое 6" descr="греки.jpg"/>
          <p:cNvPicPr/>
          <p:nvPr/>
        </p:nvPicPr>
        <p:blipFill>
          <a:blip r:embed="rId1"/>
          <a:stretch/>
        </p:blipFill>
        <p:spPr>
          <a:xfrm>
            <a:off x="4849920" y="1600200"/>
            <a:ext cx="3641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 Narrow"/>
              </a:rPr>
              <a:t>Из латинского в русском языке много научных и общественно-политических терминов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827000"/>
            <a:ext cx="3772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Револю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Конститу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Эволю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Вертик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Диктату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Плену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Маниф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Презид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Содержимое 4" descr="латинск.jpg"/>
          <p:cNvPicPr/>
          <p:nvPr/>
        </p:nvPicPr>
        <p:blipFill>
          <a:blip r:embed="rId1"/>
          <a:stretch/>
        </p:blipFill>
        <p:spPr>
          <a:xfrm>
            <a:off x="4786200" y="2068560"/>
            <a:ext cx="3359160" cy="38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 Narrow"/>
              </a:rPr>
              <a:t>Из английского заимствования активно проникают в наш язык в настоящее время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827000"/>
            <a:ext cx="377208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Бриф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Шо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Вауч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Тинейдже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Секонд –хен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Банд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Ими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3e3ff"/>
                </a:solidFill>
                <a:latin typeface="Arial Narrow"/>
              </a:rPr>
              <a:t>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Содержимое 4" descr="англичане.jpg"/>
          <p:cNvPicPr/>
          <p:nvPr/>
        </p:nvPicPr>
        <p:blipFill>
          <a:blip r:embed="rId1"/>
          <a:stretch/>
        </p:blipFill>
        <p:spPr>
          <a:xfrm>
            <a:off x="4357800" y="1827360"/>
            <a:ext cx="3868560" cy="39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Теоретическая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Что такое основа сло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азовите части ре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Какие части речи не являются членами предлож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Что называется приставко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Сформулируйте правило правописания корней в словах     изложение- излагать, вырос- р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Когда после приставок пишутся буквы и или 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Назовите способы образования слов, приведит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14:48:08Z</dcterms:created>
  <dc:creator>Сергей</dc:creator>
  <dc:description/>
  <dc:language>en-US</dc:language>
  <cp:lastModifiedBy>Николай Веревкин</cp:lastModifiedBy>
  <dcterms:modified xsi:type="dcterms:W3CDTF">2022-08-22T18:04:07Z</dcterms:modified>
  <cp:revision>6</cp:revision>
  <dc:subject/>
  <dc:title>Язык мой – друг мой.</dc:title>
</cp:coreProperties>
</file>