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F6D-67C4-4560-9478-E7E34BE47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5397-1AD0-4220-813B-2D51DC0DA2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40E-C1BC-4D45-B133-FD3894DD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AB0-3E13-4107-A534-30D9F993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B44-8A46-4FDD-A427-20A82745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8D9-5399-4141-810A-2A0C2179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7F13-7FB9-4607-863C-3A187A97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8410-0DA2-40EA-A4C9-D298093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ED9C-8555-4A15-A6B0-9185D0C4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5C93-3534-4BEE-9D0F-F7E6FD0F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0CA5-C20F-47AD-A123-9AD23F7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032-3B99-43A2-8EFE-B0C0EE2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38C-DE11-4DC5-A2EB-C6E9976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0D3-B701-4D9E-8639-339188E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E16-C27B-48A5-83DD-62241CA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62D-8287-4028-AD4A-7DF562C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A0B-9212-4094-B9D1-9D654ADC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8D8-1457-439D-936D-9FB2CB1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38A8-99EA-4ABC-ADF0-2DF242B5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4FE4-B7C7-4131-8875-38F9A015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88DB-4C72-4194-9881-B0A8A8A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E56C-F953-4FDA-A4A3-EFFAE8E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1342-8D9F-4803-816E-945A562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4AFA-A063-4D63-A01B-AB0047E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824-10B7-4EF0-AC89-E0354632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2B1F-AEEF-45CC-9F8D-CE01582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50F7-A2FB-405E-BD3C-C26E789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14C6-E370-4507-B3B3-DF544DF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3459-74B5-4A89-B218-2DC2E3A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22A2-E212-4ED6-8621-FBBF549D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4640-A5F7-4558-85CB-4BD02D07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5DA7-0992-48C8-87B8-B8646D7A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1677C-5FD5-4AB4-89F5-88AB415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C0260-0B9D-49AB-A7F3-871406CA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BAA6C-4A33-4367-A1DE-3310562E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999-61A9-4B9F-8805-AA7F304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D886E-7731-49F2-BC4F-86EE361B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D8929-F2E5-4B29-9B23-2B4ACAD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6B4BD-562A-4100-BD61-3353314E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12307-945A-4D79-B34A-BF9746A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E7F82-1F03-4AB1-9463-701042D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C7CE4-8523-43F5-962C-A58C5C2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F73AF-312C-4EBF-8924-3F96E0A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29B7E-1E7A-4374-BB5D-7476D8A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46F45-30AA-4783-8B00-0FB35D8C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D9D6-52F8-4422-AF02-B70036D9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6D-B5FD-4F6B-9D66-8E651C6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89C1-0895-44B7-A179-06924A4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1886-6D7C-4E29-BD52-113C463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7DA0-EE33-4302-A8A6-068DFC0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9AAE-8CB3-4E86-B2F2-F0EFA263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8F99-2A03-497F-9841-67B54A9F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4625-2CDD-4FE0-819B-F44E4FD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7CB4-EB09-44A3-9BA4-E7F3A3A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83AC7-FBD6-48C7-84E3-DF34014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6900-70FD-4DE6-819E-443E7F71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D9AE-5D2D-4E64-9F4C-657DE005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672-BD17-4B38-9FB0-B41576F7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3C6A-C7A2-4617-9C7E-99437140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37D5-7060-4E90-B6CD-E1715CE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1F6C-89AF-4034-95B5-6F08DCB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C142-7BC5-4F06-9F87-F5F1E71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B7FC-FE24-427A-A91A-1BB003E5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BD2D-A4CD-4560-8035-E59C43A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5921-E620-4526-AC88-62AFEEF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CEC2A-2D04-444A-AE2E-63FE66A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9177-E7A8-4496-AC0A-75AE77A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EC0C-E97F-4CAC-9CCE-D3180D6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BF-834A-4BFF-8B5E-CE7C677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B3FF-BD42-4353-8902-F5E8ACD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7501F-A893-4013-9ADD-C919276E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F3002-A594-4F84-87A8-6CE7820E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3DE-9E98-4DE6-91E2-4679F8C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EC4-46AE-406B-B575-D8D4EBB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4F77-57E5-4617-B451-AB19D787C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FCD-85EC-4630-BA56-65E3DFDF790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3B3-4C75-4AC1-A1C0-9C434327B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E908-E87D-4AED-AF98-577DEBCE0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B7B3-9F38-4ADC-AD32-ABDD980874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BEC-F08E-4B65-A124-C0B2E6E8DD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7;&#1077;&#1084;&#1083;&#1103;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32360" y="2204640"/>
            <a:ext cx="216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географии МОУ СОШ № 6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альс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тов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здова Н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ГРАФИЯ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396360" cy="76788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9"/>
          <p:cNvSpPr/>
          <p:nvPr/>
        </p:nvSpPr>
        <p:spPr>
          <a:xfrm>
            <a:off x="1619280" y="26028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Географическое положение и границы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Narrow"/>
              </a:rPr>
              <a:t>Географическое положение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(Объек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чески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м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/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2560680"/>
            <a:ext cx="66247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8"/>
          <p:cNvSpPr/>
          <p:nvPr/>
        </p:nvSpPr>
        <p:spPr>
          <a:xfrm>
            <a:off x="1619280" y="260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ahoma"/>
              </a:rPr>
              <a:t>ГЕОГРАФИЧЕСКОЕ ПОЛОЖЕН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0" y="1484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ЦЕЛЬ УРО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Изучить главные черты географического положения России и их влияние на природу и хозяйственную деятельность насе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Учить работать с географической карт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Дать знания о границах России, пограничных государствах, морях омывающих территорию, крайних точках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Object 32"/>
          <p:cNvGraphicFramePr/>
          <p:nvPr/>
        </p:nvGraphicFramePr>
        <p:xfrm>
          <a:off x="250920" y="2781360"/>
          <a:ext cx="48974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8974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5" name="Picture 34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4746600" cy="31636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5"/>
          <p:cNvSpPr/>
          <p:nvPr/>
        </p:nvSpPr>
        <p:spPr>
          <a:xfrm>
            <a:off x="0" y="544500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Площадь России в сравнении с площадью материк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61128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ОССИЯ- самое крупное государство мира. Ее площадь 17,1 млн.кв.км., что примерно равно площади Южной Америки (17,8 млн.кв.км). Россия занимает 1/3 часть площади Евразии , более чем в 2 раза больше Австрал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5292720" y="61657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Россия на карте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51280" y="90792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оссия почти в 2 раза больше по площади Канады, Китая, СШ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0" name="Object 5"/>
          <p:cNvGraphicFramePr/>
          <p:nvPr/>
        </p:nvGraphicFramePr>
        <p:xfrm>
          <a:off x="324000" y="333360"/>
          <a:ext cx="49780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9780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 Box 9"/>
          <p:cNvSpPr/>
          <p:nvPr/>
        </p:nvSpPr>
        <p:spPr>
          <a:xfrm>
            <a:off x="118728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Площадь крупнейших государств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824360" cy="32180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1"/>
          <p:cNvSpPr/>
          <p:nvPr/>
        </p:nvSpPr>
        <p:spPr>
          <a:xfrm>
            <a:off x="5867280" y="3213000"/>
            <a:ext cx="28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оля России в населении планеты – 2,7%, это около 145 млн. человек.  По числу жителей она занимает седьмое место среди стран мира после Китая, Индии, США, Индонезии, Бразилии, Пакист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«положение географического объекта относительно поверхности 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"/>
              </a:rPr>
              <a:t>Земл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также по отношению к другим объектам, с которыми он находится во взаимодействии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о характеризует «место данного объекта в системе пространственных связей и потоков (вещественных, энергетических, информационных)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39640" y="40464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Sylfaen"/>
              </a:rPr>
              <a:t>Положение на материке, части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5200560" y="373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3687840" y="35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250920" y="5950080"/>
            <a:ext cx="849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оссия расположена на материке Евразия, в двух частях света – Европе и Азии. Условная граница проходит по Уральским горам, по 60 градусу восточной долготы (серебряный меридиан) по реке Эмба, по Прикаспийской низменности по Кумо-Маныческой впадине, к Азовскому морю, по Керченскому пролив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Narrow"/>
              </a:rPr>
              <a:t>ГРАНИЦА Российской Федера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1518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ница Российской Федерации – свыше 60000 км. Это составляет половину окружности земного шара по экватору. Западная и Южная границы России преимущественно сухопутные. Границы подразделяются по  видам: на государственные – со странами дальнего зарубежья, установленные по всем международным нор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Narrow"/>
              </a:rPr>
              <a:t>Моря и океаны омывающие стран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58160" cy="3816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7"/>
          <p:cNvSpPr/>
          <p:nvPr/>
        </p:nvSpPr>
        <p:spPr>
          <a:xfrm>
            <a:off x="826920" y="5013360"/>
            <a:ext cx="76327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Россия – морская держава. Омывается 13 моря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- Северного ледовитого океана – Белым, Баренцевым, Карским, Лаптевых, Восточно-Сибирским, Чукот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Тихого океана – Беринговым, Охотским, Япон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Атлантического океана – Балтийским, Черным, Азовским и морем-озером Каспий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Пограничные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7" name="Picture 1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548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1:51:03Z</dcterms:created>
  <dc:creator>1</dc:creator>
  <dc:description/>
  <dc:language>en-US</dc:language>
  <cp:lastModifiedBy>107</cp:lastModifiedBy>
  <dcterms:modified xsi:type="dcterms:W3CDTF">2022-08-23T03:10:08Z</dcterms:modified>
  <cp:revision>47</cp:revision>
  <dc:subject/>
  <dc:title>ГЕОГРАФИЯ РОССИИ</dc:title>
</cp:coreProperties>
</file>