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FAE0-D479-4EA9-AC3C-4D3B5F7CAB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CC79-B330-42E4-A202-DE3418A202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E81-8420-4349-A742-C4BF0704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5A5-FB7B-4EC4-891B-7BFF8864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09B-3C38-4E15-82C9-40351149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CBC-F5DA-4B07-A73D-D2D790C2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E2BC-CA5E-4DA1-802F-B38B9CE1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25FE-3AB0-45DD-BB77-1A5D8BCB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BC2B-9344-4BF1-AAC6-1D1B470E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D2B0-8F87-4911-8A9A-05D29962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4071-A949-42A1-9089-2B441FF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43E4-E1A3-4C30-B0DA-9335021B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CDE4-88DE-41C8-A420-4546CF4D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2B4-888D-44D0-A92D-926CED9E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C122-6D7F-459B-8E4B-09CE7C1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2379-7BF6-4817-AE76-AE630D48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B50E-1976-406E-B367-A0FA9D94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EF80-D6F8-4AEE-8EE7-83BFC161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9441-3141-4F0E-93F1-2B4CCB8A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C680-E1C1-464F-80B6-1C903D37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4ECEE-8CBC-4726-8113-084B2E02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4C950-673E-4E9C-B80B-1618168B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FB37E-1969-4E0A-A350-653C6D38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AF82-4C62-4E93-B382-2D22C57D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B5D-B888-4B98-A64B-EEACA5CF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98FC-87B5-44E9-8762-6C307E15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673F-F2B2-4A75-BC42-2F227C99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1959E-3A17-4DFA-A31F-FEEE639A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AAC5-E00A-428A-B385-2EF99867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316FE-E13E-459F-9427-B0F219CD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7C8B-681F-414A-B5D7-30C26E59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68BED-A4B2-4E8D-B678-C39A7B27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282FF-06D6-44F3-AF03-E651CDA3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110A0-2618-4B89-A8C5-5A404DFB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C1D1B-67D3-453A-A94A-5A817997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AA6-065C-4728-8D70-C254553F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B9584-4230-4C9A-B744-9E3AD713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50B5A-9377-4A5E-9B3D-E1FC1DDB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3E11B-0394-473F-842B-9B7719ED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EF936-7CBF-445F-8451-856B637F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349C02-D838-4DBE-A22C-D82B59B4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720D1E-75C0-4802-A82F-8C6C9EEB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0C356-5072-479A-955E-C23DA863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A44DF8-D9EE-4404-B13A-6BC5D625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2E455-C6C6-47EA-8F9D-0696EB11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5B332-3D4D-488C-97D3-D2B40FB5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C48-2C17-45CB-B6D9-5643A788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2FD81-EEB8-41F7-BBC0-42023CA4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40553-13FC-4AC1-AB8B-94BD7378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BED19-3889-4634-A81A-E7A1C1FF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031FC-9EDD-4A80-BC5C-28474F1A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AB82D-CA0B-4A80-B06C-A57F0447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2EEBC-2442-406A-A87D-288A462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5FEA0-DFFD-44B3-9C50-ADF35855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0CCA1-2516-4B16-8B38-042FE24D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C53F9-12F1-4562-A46F-97205546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E77B8-5B98-4061-B349-D2322D53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15B-CF98-4C30-B2EA-BDE82754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7BB85-31C1-4072-8A5A-4FFEEA8D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DBACF-F654-46F7-972D-F8181D5F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79A3B-AD7A-494C-B8AA-5092BA70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EC8B9-B233-413E-9FFC-5494EE1E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D8022-F6CC-4CBA-B7C9-52250459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A6FE8-CC7B-4AAD-B3C9-3327668A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5FCE4-FE40-41DC-9636-91F5861A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65FCD-204A-4E61-A225-CE4E19F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C3201-256E-4CFA-9C20-0DFE9788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BEBBC-8CA3-4B71-BA8A-D87A972A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CED-08C5-4348-822A-E4B6267B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F27C2-E9C6-44E9-81C0-DB0F8287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D9AF9-18A9-4960-B5BC-67B9FA3F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EA4D4-6157-44FA-B236-383BEA8F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B6B-DF5B-4563-A578-5EDF27FE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913-8AE7-47FB-8777-876CE889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66A2-05FE-4448-B14C-8793EDA7D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5561-4E2E-4D41-9B72-16409B4F3A0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0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53E2-B92E-4C19-8B6D-7129A96BF2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242F-97CF-4A8D-B88D-2353FD0B3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1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1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4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4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BE99-3DF5-4FD1-911F-D3EA7D8E9D6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0EAA-367C-492D-9004-DFF84BC3CA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7;&#1077;&#1084;&#1083;&#1103;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732360" y="2204640"/>
            <a:ext cx="216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географии МОУ СОШ № 6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. Сальс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стов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оздова Н.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ЕОГРАФИЯ РОСС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0" y="-171360"/>
            <a:ext cx="9396360" cy="76788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9"/>
          <p:cNvSpPr/>
          <p:nvPr/>
        </p:nvSpPr>
        <p:spPr>
          <a:xfrm>
            <a:off x="1619280" y="260280"/>
            <a:ext cx="626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Географическое положение и границы Росси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b7"/>
                </a:solidFill>
                <a:latin typeface="Arial Narrow"/>
              </a:rPr>
              <a:t>Географическое положение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вание (Объек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графические координ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мыв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/З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аграф №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2560680"/>
            <a:ext cx="662472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8"/>
          <p:cNvSpPr/>
          <p:nvPr/>
        </p:nvSpPr>
        <p:spPr>
          <a:xfrm>
            <a:off x="1619280" y="26028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Tahoma"/>
              </a:rPr>
              <a:t>ГЕОГРАФИЧЕСКОЕ ПОЛОЖЕН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0" y="14842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ЦЕЛЬ УРОК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Изучить главные черты географического положения России и их влияние на природу и хозяйственную деятельность насе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Учить работать с географической карт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SzPct val="12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 Narrow"/>
              </a:rPr>
              <a:t>Дать знания о границах России, пограничных государствах, морях омывающих территорию, крайних точках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Object 32"/>
          <p:cNvGraphicFramePr/>
          <p:nvPr/>
        </p:nvGraphicFramePr>
        <p:xfrm>
          <a:off x="250920" y="2781360"/>
          <a:ext cx="48974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8974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5" name="Picture 34" descr=""/>
          <p:cNvPicPr/>
          <p:nvPr/>
        </p:nvPicPr>
        <p:blipFill>
          <a:blip r:embed="rId3"/>
          <a:stretch/>
        </p:blipFill>
        <p:spPr>
          <a:xfrm>
            <a:off x="3995640" y="2924280"/>
            <a:ext cx="4746600" cy="31636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5"/>
          <p:cNvSpPr/>
          <p:nvPr/>
        </p:nvSpPr>
        <p:spPr>
          <a:xfrm>
            <a:off x="0" y="544500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Площадь России в сравнении с площадью материк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611280" y="260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ОССИЯ- самое крупное государство мира. Ее площадь 17,1 млн.кв.км., что примерно равно площади Южной Америки (17,8 млн.кв.км). Россия занимает 1/3 часть площади Евразии , более чем в 2 раза больше Австрал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37"/>
          <p:cNvSpPr/>
          <p:nvPr/>
        </p:nvSpPr>
        <p:spPr>
          <a:xfrm>
            <a:off x="5292720" y="616572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Россия на карте ми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9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651280" y="90792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оссия почти в 2 раза больше по площади Канады, Китая, США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60" name="Object 5"/>
          <p:cNvGraphicFramePr/>
          <p:nvPr/>
        </p:nvGraphicFramePr>
        <p:xfrm>
          <a:off x="324000" y="333360"/>
          <a:ext cx="497808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497808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Text Box 9"/>
          <p:cNvSpPr/>
          <p:nvPr/>
        </p:nvSpPr>
        <p:spPr>
          <a:xfrm>
            <a:off x="118728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Narrow"/>
              </a:rPr>
              <a:t>Площадь крупнейших государств мир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3" name="Picture 10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4824360" cy="32180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1"/>
          <p:cNvSpPr/>
          <p:nvPr/>
        </p:nvSpPr>
        <p:spPr>
          <a:xfrm>
            <a:off x="5867280" y="3213000"/>
            <a:ext cx="288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Доля России в населении планеты – 2,7%, это около 145 млн. человек.  По числу жителей она занимает седьмое место среди стран мира после Китая, Индии, США, Индонезии, Бразилии, Пакиста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9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2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ографическ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«положение географического объекта относительно поверхности </a:t>
            </a:r>
            <a:r>
              <a:rPr b="0" lang="ru-RU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  <a:hlinkClick r:id="rId1"/>
              </a:rPr>
              <a:t>Земл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а также по отношению к другим объектам, с которыми он находится во взаимодействии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но характеризует «место данного объекта в системе пространственных связей и потоков (вещественных, энергетических, информационных)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5"/>
          <p:cNvSpPr/>
          <p:nvPr/>
        </p:nvSpPr>
        <p:spPr>
          <a:xfrm>
            <a:off x="539640" y="40464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Sylfaen"/>
              </a:rPr>
              <a:t>Положение на материке, части св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5200560" y="3732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3687840" y="35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Text Box 32"/>
          <p:cNvSpPr/>
          <p:nvPr/>
        </p:nvSpPr>
        <p:spPr>
          <a:xfrm>
            <a:off x="250920" y="5950080"/>
            <a:ext cx="849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оссия расположена на материке Евразия, в двух частях света – Европе и Азии. Условная граница проходит по Уральским горам, по 60 градусу восточной долготы (серебряный меридиан) по реке Эмба, по Прикаспийской низменности по Кумо-Маныческой впадине, к Азовскому морю, по Керченскому пролив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9000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-387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 Narrow"/>
              </a:rPr>
              <a:t>ГРАНИЦА Российской Федера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1518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ница Российской Федерации – свыше 60000 км. Это составляет половину окружности земного шара по экватору. Западная и Южная границы России преимущественно сухопутные. Границы подразделяются по  видам: на государственные – со странами дальнего зарубежья, установленные по всем международным нор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Narrow"/>
              </a:rPr>
              <a:t>Моря и океаны омывающие страну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7058160" cy="38163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7"/>
          <p:cNvSpPr/>
          <p:nvPr/>
        </p:nvSpPr>
        <p:spPr>
          <a:xfrm>
            <a:off x="826920" y="5013360"/>
            <a:ext cx="763272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Россия – морская держава. Омывается 13 морям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- Северного ледовитого океана – Белым, Баренцевым, Карским, Лаптевых, Восточно-Сибирским, Чукотск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Тихого океана – Беринговым, Охотским, Японск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Narrow"/>
              </a:rPr>
              <a:t>Атлантического океана – Балтийским, Черным, Азовским и морем-озером Каспийски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9000"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Пограничные государ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377" name="Picture 15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35488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1:51:03Z</dcterms:created>
  <dc:creator>1</dc:creator>
  <dc:description/>
  <dc:language>en-US</dc:language>
  <cp:lastModifiedBy>107</cp:lastModifiedBy>
  <dcterms:modified xsi:type="dcterms:W3CDTF">2022-08-23T03:10:08Z</dcterms:modified>
  <cp:revision>47</cp:revision>
  <dc:subject/>
  <dc:title>ГЕОГРАФИЯ РОССИИ</dc:title>
</cp:coreProperties>
</file>