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852B-5B09-4527-A03B-84FE1F60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B6F-7AB4-4E54-B207-1CF6C978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BBD-9DCE-4A41-B408-39B7AB43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630-7627-41A7-9586-7E729F48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E64-0C5B-4737-A045-CC1D53AD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08E-1766-4283-A2B5-42F8FABD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623-E652-4C07-A3A9-0C1C531D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9AB-E64C-4BC1-8D68-F2C298E9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FEA-E9AB-4C3E-ADEF-13DA7CEC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35C8-856F-4580-84BB-CF67D278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AA7-2A42-417C-82DD-457497BF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583-A76A-4E27-BAF9-45C91E8F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511D-2945-457E-8126-48E8C6B0D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188640"/>
            <a:ext cx="5111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БОУ НСО «СК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7056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тие гибких навыков в преподавании английского языка как тренд современного образования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2421000"/>
            <a:ext cx="82198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уникативные навыки — умение общаться, доносить свою мысль, слышать собеседника, договариваться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024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уникативные навыки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мение слушать и слыша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беждение и аргументац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строение и поддержание деловых отношен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едение переговор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дение презентаци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амопрезентация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убличные выступл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мандная рабо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целенность на результа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974600"/>
            <a:ext cx="829152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ция — способность работать в команде, брать на себя как лидерские, так и исполнительские функции, распределять роли, контролировать выполнение задач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974600"/>
            <a:ext cx="829152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ция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исполнение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ланир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становка задач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отивирование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нтроль реализации задач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итуационное руководство и лидерств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дача обратной связ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правление проектами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правление изменениям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легирование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974600"/>
            <a:ext cx="829152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развития «мягких»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«гибких» навыков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буче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ск обратной связ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на опыте других и ментворкин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зад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в процессе работы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843588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развивае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 Skill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школе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ртивные, настольные, интеллектуальные игр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Квест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портивное ориентир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Проектная работа в школ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Внеурочная деятельность в школ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Образовательные лагер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Курсы и тренинги</a:t>
            </a:r>
            <a:br>
              <a:rPr sz="24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843588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Геймификация как способ формирования гибких навыков на уроках английского языка 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чальной школ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»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Развитие гибких навыков через работу 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икрогруппах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а уроках английского языка в старшей школе». 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Развитие критического мышления при обучени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нологическом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высказыванию с опорой на текст». 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вест как универсальная форма организации внеурочной деятельности по английскому язы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99640" y="2205000"/>
            <a:ext cx="814716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560" y="1685880"/>
            <a:ext cx="748980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хнологии развития гибких навыков, применяемые учителями ГБОУ НСО «СКК» на уроках английского язы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843280" y="4941720"/>
            <a:ext cx="6121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митриева Наталья Александ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итель перво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pec-school2.ucoz.com/foto/fgos.jpg"/>
          <p:cNvPicPr/>
          <p:nvPr/>
        </p:nvPicPr>
        <p:blipFill>
          <a:blip r:embed="rId2"/>
          <a:srcRect l="0" t="21061" r="0" b="16815"/>
          <a:stretch/>
        </p:blipFill>
        <p:spPr>
          <a:xfrm>
            <a:off x="3100320" y="392040"/>
            <a:ext cx="3595680" cy="15843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468360" y="2781360"/>
            <a:ext cx="251928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о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ол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универсальных умений обучающихс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Стрелка вправо 9"/>
          <p:cNvGrpSpPr/>
          <p:nvPr/>
        </p:nvGrpSpPr>
        <p:grpSpPr>
          <a:xfrm>
            <a:off x="3413160" y="3395520"/>
            <a:ext cx="1396800" cy="828720"/>
            <a:chOff x="3413160" y="3395520"/>
            <a:chExt cx="1396800" cy="828720"/>
          </a:xfrm>
        </p:grpSpPr>
        <p:pic>
          <p:nvPicPr>
            <p:cNvPr id="51" name="Стрелка вправо 9" descr=""/>
            <p:cNvPicPr/>
            <p:nvPr/>
          </p:nvPicPr>
          <p:blipFill>
            <a:blip r:embed="rId3"/>
            <a:stretch/>
          </p:blipFill>
          <p:spPr>
            <a:xfrm>
              <a:off x="3413160" y="3395520"/>
              <a:ext cx="13968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465360" y="3608280"/>
              <a:ext cx="11160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3"/>
          <p:cNvSpPr/>
          <p:nvPr/>
        </p:nvSpPr>
        <p:spPr>
          <a:xfrm>
            <a:off x="5508720" y="2781360"/>
            <a:ext cx="237636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2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ть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ол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 skills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ягких»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гибких» навыков обучающихс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77300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бкие навыки – комплекс неспециализированных надпрофессиональных навыков, которые отвечают за успешное участие в рабочем процессе, высокую производительность и являются сквозными, то есть не связаны с конкретной предметной обла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276640"/>
            <a:ext cx="821844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ь «4К»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Критическое мышле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Креативнос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3.Коммуникативные навы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Координация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2421000"/>
            <a:ext cx="82198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ическое мышление — способность критически оценивать информацию, поступающую извне, анализировать её и проверя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достоверность, видеть причинно-следственные связи, отбрасывать ненужное и выделять главное, делать выводы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9152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ическое мышление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истемное мышл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реативное мышл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руктурное мышл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огическое мышл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иск и анализ информа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работка и принятие решен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ектное мышл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актическое и стратегическое мышление (для руководите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2421000"/>
            <a:ext cx="82198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ативность — умение нешаблонно мыслить, находить неожиданные решения проблемы, гибко реагировать на происходящие изменения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2421000"/>
            <a:ext cx="82198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ативность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правление эмоциям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правление стрессо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правление собственным развитие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ланирование и целеполага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айм-менеджмен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ефлекси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спользование обратной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07:18:05Z</dcterms:created>
  <dc:creator>Лицей</dc:creator>
  <dc:description/>
  <dc:language>en-US</dc:language>
  <cp:lastModifiedBy>Дмитриева Наталья Александровна</cp:lastModifiedBy>
  <dcterms:modified xsi:type="dcterms:W3CDTF">2022-01-18T08:54:31Z</dcterms:modified>
  <cp:revision>473</cp:revision>
  <dc:subject/>
  <dc:title>Слайд 1</dc:title>
</cp:coreProperties>
</file>