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470-76DA-4BAA-AC44-7A9E7903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F95-A4F8-4627-AC7D-A0F74C92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E87-BDC5-4F4D-A5B6-2E5E8A70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EE0-8C87-45CE-9E78-666E5F1C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64E-B6D5-4760-99CA-93248F6F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4D3-66C3-460A-83D9-5E5DD851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9F0-0506-4B79-A06A-F26EB5C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3BA-EA44-426D-8BFC-F1900C65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3E9-2D8D-4F02-9484-0C4E6836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62F-58DB-4590-867F-4D3F7BD5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F3E-05D9-457B-8F6F-FA8775C3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13D-30C9-4AF3-99C4-AF0B27DC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957F-E225-44BE-85D0-92C82D447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9640" y="188640"/>
            <a:ext cx="5111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БОУ НСО «СК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565360"/>
            <a:ext cx="7056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гибких навыков в преподавании английского языка как тренд современного образовани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2421000"/>
            <a:ext cx="82198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икативные навыки — умение общаться, доносить свою мысль, слышать собеседника, договариваться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024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муникативные навыки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мение слушать и слыш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беждение и аргументац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строение и поддержание деловых отношен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едение переговор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дение презентаци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амопрезентация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убличные выступлен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мандная работ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целенность на результа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974600"/>
            <a:ext cx="829152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ция — способность работать в команде, брать на себя как лидерские, так и исполнительские функции, распределять роли, контролировать выполнение задач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974600"/>
            <a:ext cx="829152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ординация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сполнени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лан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становка зада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отивирование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онтроль реализации задач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итуационное руководство и лидерств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ача обратной связ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правление проектами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правление изменениям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елегирование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974600"/>
            <a:ext cx="829152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развития «мягких»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«гибких» навыков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уч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обратной связ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на опыте других и ментворкинг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зада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в процессе работы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84358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развива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Skill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школе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ртивные, настольные, интеллектуальные игр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Квест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ртивное ориентир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Проектная работа в шко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неурочная деятельность в шко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Образовательные лагер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Курсы и тренинги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843588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Геймификация как способ формирования гибких навыков на уроках английского языка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чальной школ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»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Развитие гибких навыков через работу 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икрогруппа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 уроках английского языка в старшей школе»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Развитие критического мышления при обучени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нологическом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высказыванию с опорой на текст». 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вест как универсальная форма организации внеурочной деятельности по английскому язы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99640" y="2205000"/>
            <a:ext cx="814716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685880"/>
            <a:ext cx="748980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и развития гибких навыков, применяемые учителями ГБОУ НСО «СКК» на уроках английского язы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843280" y="4941720"/>
            <a:ext cx="6121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митриева Наталья Александ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итель перво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pec-school2.ucoz.com/foto/fgos.jpg"/>
          <p:cNvPicPr/>
          <p:nvPr/>
        </p:nvPicPr>
        <p:blipFill>
          <a:blip r:embed="rId2"/>
          <a:srcRect l="0" t="21061" r="0" b="16815"/>
          <a:stretch/>
        </p:blipFill>
        <p:spPr>
          <a:xfrm>
            <a:off x="3100320" y="392040"/>
            <a:ext cx="3595680" cy="1584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468360" y="2781360"/>
            <a:ext cx="251928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ол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универсальных умений обучающихс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трелка вправо 9"/>
          <p:cNvGrpSpPr/>
          <p:nvPr/>
        </p:nvGrpSpPr>
        <p:grpSpPr>
          <a:xfrm>
            <a:off x="3413160" y="3395520"/>
            <a:ext cx="1396800" cy="828720"/>
            <a:chOff x="3413160" y="3395520"/>
            <a:chExt cx="1396800" cy="828720"/>
          </a:xfrm>
        </p:grpSpPr>
        <p:pic>
          <p:nvPicPr>
            <p:cNvPr id="51" name="Стрелка вправо 9" descr=""/>
            <p:cNvPicPr/>
            <p:nvPr/>
          </p:nvPicPr>
          <p:blipFill>
            <a:blip r:embed="rId3"/>
            <a:stretch/>
          </p:blipFill>
          <p:spPr>
            <a:xfrm>
              <a:off x="3413160" y="3395520"/>
              <a:ext cx="139680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465360" y="3608280"/>
              <a:ext cx="1116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3"/>
          <p:cNvSpPr/>
          <p:nvPr/>
        </p:nvSpPr>
        <p:spPr>
          <a:xfrm>
            <a:off x="5508720" y="2781360"/>
            <a:ext cx="237636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2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е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ол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skills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мягких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«гибких» навыков обучающихс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773000"/>
            <a:ext cx="821844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ие навыки – комплекс неспециализированных надпрофессиональных навыков, которые отвечают за успешное участие в рабочем процессе, высокую производительность и являются сквозными, то есть не связаны с конкретной предметной обл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276640"/>
            <a:ext cx="82184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ь «4К»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ритическое мышле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Креатив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3.Коммуникативные навы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Координация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0920" y="2421000"/>
            <a:ext cx="82198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ое мышление — способность критически оценивать информацию, поступающую извне, анализировать её и проверя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остоверность, видеть причинно-следственные связи, отбрасывать ненужное и выделять главное, делать выводы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9152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ое мышление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истемное мыш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реативное мыш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уктурное мыш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гическое мыш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иск и анализ информ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работка и принятие решен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ектное мышл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актическое и стратегическое мышление (для руковод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2421000"/>
            <a:ext cx="82198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ость — умение нешаблонно мыслить, находить неожиданные решения проблемы, гибко реагировать на происходящие изменения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421000"/>
            <a:ext cx="82198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ость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правление эмоциям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правление стрессо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правление собственным развитие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ланирование и целеполагани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айм-менеджмен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ефлекс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использование обрат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250920" y="60480"/>
            <a:ext cx="13683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7:18:05Z</dcterms:created>
  <dc:creator>Лицей</dc:creator>
  <dc:description/>
  <dc:language>en-US</dc:language>
  <cp:lastModifiedBy>Дмитриева Наталья Александровна</cp:lastModifiedBy>
  <dcterms:modified xsi:type="dcterms:W3CDTF">2022-01-18T08:54:31Z</dcterms:modified>
  <cp:revision>473</cp:revision>
  <dc:subject/>
  <dc:title>Слайд 1</dc:title>
</cp:coreProperties>
</file>