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8.jpeg" ContentType="image/jpeg"/>
  <Override PartName="/ppt/media/image47.jpeg" ContentType="image/jpeg"/>
  <Override PartName="/ppt/media/image38.jpeg" ContentType="image/jpeg"/>
  <Override PartName="/ppt/media/image28.png" ContentType="image/png"/>
  <Override PartName="/ppt/media/image8.jpeg" ContentType="image/jpe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64.png" ContentType="image/png"/>
  <Override PartName="/ppt/media/image16.png" ContentType="image/png"/>
  <Override PartName="/ppt/media/image4.png" ContentType="image/png"/>
  <Override PartName="/ppt/media/image11.gif" ContentType="image/gif"/>
  <Override PartName="/ppt/media/image2.png" ContentType="image/png"/>
  <Override PartName="/ppt/media/image62.png" ContentType="image/png"/>
  <Override PartName="/ppt/media/image25.png" ContentType="image/png"/>
  <Override PartName="/ppt/media/image19.jpeg" ContentType="image/jpeg"/>
  <Override PartName="/ppt/media/image18.jpeg" ContentType="image/jpe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63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7.gif" ContentType="image/gif"/>
  <Override PartName="/ppt/media/image9.png" ContentType="image/pn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10.gif" ContentType="image/gif"/>
  <Override PartName="/ppt/media/image13.png" ContentType="image/png"/>
  <Override PartName="/ppt/media/image30.png" ContentType="image/png"/>
  <Override PartName="/ppt/media/image31.png" ContentType="image/png"/>
  <Override PartName="/ppt/media/image32.jpeg" ContentType="image/jpeg"/>
  <Override PartName="/ppt/media/image34.jpeg" ContentType="image/jpeg"/>
  <Override PartName="/ppt/media/image37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55.png" ContentType="image/png"/>
  <Override PartName="/ppt/media/image4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2BF2-9D2F-4534-9DCB-0934EC42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747-2AD9-4742-A180-9F7AD80D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042-7934-49A4-A18D-D3267ED1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9B5-AB83-4232-8A73-C0A227F1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33DA-63AC-449E-B175-C77A59C8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8B07-64C2-494D-9487-AC234E8E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CD64-0AE6-43BE-AC39-2BD9335C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773A-B9B0-42AA-B051-5E7DFA6B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CBC3-A3A6-4174-914E-378A9CA7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47A4-7508-4B9D-9379-0E02B075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6177-81EA-41D1-A0B9-B293ADB3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59A-6385-4D1C-9AD0-E519A09B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FF57-DF35-4A0B-835B-20A15FF5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A994-CAFB-4786-8A39-6945C5F2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3C12-B3B7-4955-846C-470FC876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619D-8AA1-4241-BB0E-7079B09D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4FBB-2311-49BB-A391-21952698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6430-267D-44AD-8494-CFAD6BBB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B5A2-7274-4FE6-88C1-6AFEF2F0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63AD-4947-45F7-AB76-209E7A0D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57B6-B094-4457-BEBD-DC37A242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7603-F844-4F15-ADA9-429ABE01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E80-D7FD-4188-A2AA-0D756CFB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9204-150D-449E-B7F9-EE874A72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C5BB6-2DA6-44B3-AF23-A4C6C0F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E97A-E63B-4EAC-9E84-28842FBB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7DE1-B65D-4710-979F-0292D540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21DF0-12A0-40FA-8FCD-E22BB244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D9FA-640E-4B37-95F8-A0781C6C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805D-FB49-44E9-83AF-45AAA8C5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8C50A-DC2F-4D25-8900-41EA70FB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8AB9F-2C21-439B-9DFA-E5ECB994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CB1B0-BA6B-4E82-8475-AFA30BB2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824-DBCB-42AD-91B3-9126345A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99C54-88D9-4FB7-AF66-DAFE21E5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5C2F-A2C8-4683-83CB-CDDCEAD0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59B1-D2ED-4712-9268-07A2AB4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62E2-A539-4E9C-81D0-996AE933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4522-FA80-4257-8B26-022D6885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4B34F-125F-4459-8D9F-6AAF23F8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F4428-6439-43AC-98CC-199642D2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1CFA-9213-4FFB-BDD8-F01101AD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52BE-006D-465F-9995-650B08BC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940A-986A-4113-B9D3-A51278D8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8EA-5CF4-4028-842A-5D2ECCAA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5D162-8132-434D-AD73-1C4101E1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3F7C-D664-47FB-8F26-A14C423A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4060-A0E0-4306-8B53-EBAC686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EF0D8-188C-4855-8D59-3623086D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8902F-EBBA-4C64-97A2-58663DFC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CC83-9362-43EA-863E-361C8E90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8736C-DEA4-4189-9967-FAA21975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281B6-DB9E-439C-A373-CFA48E2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153E3-AE32-4D6C-9F93-A74CDD3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68DE9-E4EA-4A2E-9ACF-93D7990A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87D-0C23-465E-A7F9-A2457758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E786-C3EC-427C-841B-2CFA7C84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6F4D9-1F3D-44CD-A8E5-2C6CB2AE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3BD68-BFD8-4B8B-A73D-539E3836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8B013-8028-4E99-978A-D4023594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C06C2-E7CF-4176-9083-89650917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C3E15-528F-4E67-8950-E82F0204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2574E-5F3A-48D9-B917-CE644112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C4510-BEBB-4B11-84AD-16F9D11F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4C4FE-7A0E-459C-8848-9B2AE9C6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FB56-5AD6-465A-AA98-5734D03D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067-23D2-4AE2-96A3-0484AF2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CF1B4-465F-436E-BDEA-7EFB4B68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7A888-4317-4711-BBC1-1CA7BCF7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D42B-38D2-43E5-B085-1D976FCE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B4EED-FE8A-481F-A98E-653D021B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C53A9-EDAD-4757-9945-3BD19288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E7683-4EB9-4D0B-9AD7-C6630858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C927A-9649-4CF4-BD65-90346591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9F8C0-049C-41C2-8331-5EEB6845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6E177-795D-47A9-B12E-159ED8C0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13BC4-39D2-458B-A9E1-7D6EBC86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7FB-557E-402F-91A1-EA3633B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8E987-9F52-4BFC-8448-5F4AA30F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11C4A-1E10-4AB8-AAEE-C8CBB9A5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E4668-ECC6-4858-BC8C-788F119B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D51BF-D8EA-4345-B488-AB667C71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4373-5307-4094-B82A-58A313D6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238-40B3-42D2-A441-3873AC8B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8F84-82D3-429B-AC47-700EC5EB7FE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C215-DC30-45C4-A098-5F8EA85338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59F-DF5E-4374-B47D-04D1FAA621C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18D5-284F-4FE0-9F19-6683F433C9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9F5F-2576-490D-9AB7-CE4B591EBD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D753-F42C-409D-BB46-43F442F8F2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E1E8-6E2B-4130-BBBB-FB35E1E3E9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9.pn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5.jpeg"/><Relationship Id="rId5" Type="http://schemas.openxmlformats.org/officeDocument/2006/relationships/image" Target="../media/image11.gif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3.jpeg"/><Relationship Id="rId3" Type="http://schemas.openxmlformats.org/officeDocument/2006/relationships/image" Target="../media/image63.jpe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4.png"/><Relationship Id="rId3" Type="http://schemas.openxmlformats.org/officeDocument/2006/relationships/image" Target="../media/image11.gif"/><Relationship Id="rId4" Type="http://schemas.openxmlformats.org/officeDocument/2006/relationships/image" Target="../media/image6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1.gif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image" Target="../media/image11.gif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3" descr="vetton_ru_4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Заголовок 1" descr=""/>
          <p:cNvPicPr/>
          <p:nvPr/>
        </p:nvPicPr>
        <p:blipFill>
          <a:blip r:embed="rId2"/>
          <a:stretch/>
        </p:blipFill>
        <p:spPr>
          <a:xfrm>
            <a:off x="560520" y="2305080"/>
            <a:ext cx="8218440" cy="22064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ыполнила учитель МБОУ «СОШ №24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Инверс Анастасия Львовна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5" descr="j0315816"/>
          <p:cNvPicPr/>
          <p:nvPr/>
        </p:nvPicPr>
        <p:blipFill>
          <a:blip r:embed="rId3"/>
          <a:stretch/>
        </p:blipFill>
        <p:spPr>
          <a:xfrm>
            <a:off x="3286080" y="785880"/>
            <a:ext cx="16002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3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143000" y="214200"/>
            <a:ext cx="7407360" cy="19288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feb80a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Европейская </a:t>
            </a:r>
            <a:r>
              <a:rPr b="1" i="1" lang="ru-RU" sz="2000" spc="-1" strike="noStrike" u="sng">
                <a:solidFill>
                  <a:srgbClr val="320e04"/>
                </a:solidFill>
                <a:uFillTx/>
                <a:latin typeface="Corbel"/>
              </a:rPr>
              <a:t>региональная </a:t>
            </a: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система защиты прав человека сформировалась в рамках Совета Европ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В 1949 г. десятью странами – Бельгией, Великобританией, Данией, Ирландией, Италией, Люксембургом, Нидерландами, Норвегией, Францией и Швецией была создана региональная организация – </a:t>
            </a:r>
            <a:r>
              <a:rPr b="1" i="1" lang="ru-RU" sz="2000" spc="-1" strike="noStrike" u="sng">
                <a:solidFill>
                  <a:srgbClr val="320e04"/>
                </a:solidFill>
                <a:uFillTx/>
                <a:latin typeface="Corbel"/>
              </a:rPr>
              <a:t>Совет Европы</a:t>
            </a: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9" name="Прямоугольник 4" descr=""/>
          <p:cNvPicPr/>
          <p:nvPr/>
        </p:nvPicPr>
        <p:blipFill>
          <a:blip r:embed="rId3"/>
          <a:stretch/>
        </p:blipFill>
        <p:spPr>
          <a:xfrm>
            <a:off x="1000080" y="2073240"/>
            <a:ext cx="7858080" cy="14446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5"/>
          <p:cNvSpPr/>
          <p:nvPr/>
        </p:nvSpPr>
        <p:spPr>
          <a:xfrm>
            <a:off x="1143000" y="3500280"/>
            <a:ext cx="23572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Защита и укрепление демократии и прав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2643120" y="5286240"/>
            <a:ext cx="414360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одействие осознанию и развитию европейской культурной самобы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4786200" y="3571920"/>
            <a:ext cx="400068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иск совместных решений проблем, стоящих перед европейским общ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Полилиния 8" descr=""/>
          <p:cNvPicPr/>
          <p:nvPr/>
        </p:nvPicPr>
        <p:blipFill>
          <a:blip r:embed="rId4"/>
          <a:stretch/>
        </p:blipFill>
        <p:spPr>
          <a:xfrm>
            <a:off x="1170000" y="2408400"/>
            <a:ext cx="487440" cy="1023840"/>
          </a:xfrm>
          <a:prstGeom prst="rect">
            <a:avLst/>
          </a:prstGeom>
          <a:ln w="0">
            <a:noFill/>
          </a:ln>
        </p:spPr>
      </p:pic>
      <p:pic>
        <p:nvPicPr>
          <p:cNvPr id="384" name="Полилиния 10" descr=""/>
          <p:cNvPicPr/>
          <p:nvPr/>
        </p:nvPicPr>
        <p:blipFill>
          <a:blip r:embed="rId5"/>
          <a:stretch/>
        </p:blipFill>
        <p:spPr>
          <a:xfrm>
            <a:off x="8345520" y="2341440"/>
            <a:ext cx="450720" cy="1054080"/>
          </a:xfrm>
          <a:prstGeom prst="rect">
            <a:avLst/>
          </a:prstGeom>
          <a:ln w="0">
            <a:noFill/>
          </a:ln>
        </p:spPr>
      </p:pic>
      <p:pic>
        <p:nvPicPr>
          <p:cNvPr id="385" name="Полилиния 11" descr=""/>
          <p:cNvPicPr/>
          <p:nvPr/>
        </p:nvPicPr>
        <p:blipFill>
          <a:blip r:embed="rId6"/>
          <a:stretch/>
        </p:blipFill>
        <p:spPr>
          <a:xfrm>
            <a:off x="4267080" y="3444840"/>
            <a:ext cx="225720" cy="174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ag00317_"/>
          <p:cNvPicPr/>
          <p:nvPr/>
        </p:nvPicPr>
        <p:blipFill>
          <a:blip r:embed="rId7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8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4 ноября 1950 г. в Риме была принята </a:t>
            </a:r>
            <a:r>
              <a:rPr b="1" i="1" lang="ru-RU" sz="2800" spc="-1" strike="noStrike" u="sng">
                <a:solidFill>
                  <a:srgbClr val="320e04"/>
                </a:solidFill>
                <a:uFillTx/>
                <a:latin typeface="Corbel"/>
              </a:rPr>
              <a:t>Европейская конвенция о защите прав человека и основных свобод</a:t>
            </a:r>
            <a:r>
              <a:rPr b="1" lang="ru-RU" sz="28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Прямоугольник 4" descr=""/>
          <p:cNvPicPr/>
          <p:nvPr/>
        </p:nvPicPr>
        <p:blipFill>
          <a:blip r:embed="rId2"/>
          <a:stretch/>
        </p:blipFill>
        <p:spPr>
          <a:xfrm>
            <a:off x="1427040" y="1785960"/>
            <a:ext cx="7004160" cy="1000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5"/>
          <p:cNvSpPr/>
          <p:nvPr/>
        </p:nvSpPr>
        <p:spPr>
          <a:xfrm>
            <a:off x="1143000" y="2714760"/>
            <a:ext cx="2000160" cy="2288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Пытки, телесный на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6"/>
          <p:cNvSpPr/>
          <p:nvPr/>
        </p:nvSpPr>
        <p:spPr>
          <a:xfrm>
            <a:off x="1571760" y="4429080"/>
            <a:ext cx="3214440" cy="1426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Рабство и принудительны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"/>
          <p:cNvSpPr/>
          <p:nvPr/>
        </p:nvSpPr>
        <p:spPr>
          <a:xfrm>
            <a:off x="5072040" y="2643120"/>
            <a:ext cx="3571920" cy="44449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rbel"/>
              </a:rPr>
              <a:t>Высылка государством своих граждан или лишения их права на въезд в это государство, а также коллективная высылка иностра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ag00317_"/>
          <p:cNvPicPr/>
          <p:nvPr/>
        </p:nvPicPr>
        <p:blipFill>
          <a:blip r:embed="rId6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1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2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Рисунок 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Подзаголовок 2" descr=""/>
          <p:cNvPicPr/>
          <p:nvPr/>
        </p:nvPicPr>
        <p:blipFill>
          <a:blip r:embed="rId2"/>
          <a:stretch/>
        </p:blipFill>
        <p:spPr>
          <a:xfrm>
            <a:off x="1054080" y="66600"/>
            <a:ext cx="7645320" cy="204336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3" descr=""/>
          <p:cNvPicPr/>
          <p:nvPr/>
        </p:nvPicPr>
        <p:blipFill>
          <a:blip r:embed="rId3"/>
          <a:stretch/>
        </p:blipFill>
        <p:spPr>
          <a:xfrm>
            <a:off x="2262240" y="1901880"/>
            <a:ext cx="4705200" cy="1895400"/>
          </a:xfrm>
          <a:prstGeom prst="rect">
            <a:avLst/>
          </a:prstGeom>
          <a:ln w="0">
            <a:noFill/>
          </a:ln>
        </p:spPr>
      </p:pic>
      <p:pic>
        <p:nvPicPr>
          <p:cNvPr id="397" name="TextBox 5" descr=""/>
          <p:cNvPicPr/>
          <p:nvPr/>
        </p:nvPicPr>
        <p:blipFill>
          <a:blip r:embed="rId4"/>
          <a:stretch/>
        </p:blipFill>
        <p:spPr>
          <a:xfrm>
            <a:off x="974880" y="3541680"/>
            <a:ext cx="7748280" cy="2992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ag00317_"/>
          <p:cNvPicPr/>
          <p:nvPr/>
        </p:nvPicPr>
        <p:blipFill>
          <a:blip r:embed="rId5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8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714680" y="1714680"/>
            <a:ext cx="2854080" cy="3357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rbel"/>
              </a:rPr>
              <a:t>Европейский суд по правам человека работает на постоянной основе, а его судьи избираются сроком на шесть лет, но могут быть переизбран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1" name="Прямоугольник 3" descr=""/>
          <p:cNvPicPr/>
          <p:nvPr/>
        </p:nvPicPr>
        <p:blipFill>
          <a:blip r:embed="rId3"/>
          <a:stretch/>
        </p:blipFill>
        <p:spPr>
          <a:xfrm>
            <a:off x="2073240" y="139680"/>
            <a:ext cx="598500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Подзаголовок 2"/>
          <p:cNvSpPr/>
          <p:nvPr/>
        </p:nvSpPr>
        <p:spPr>
          <a:xfrm>
            <a:off x="5500800" y="1714680"/>
            <a:ext cx="2854080" cy="335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rbel"/>
              </a:rPr>
              <a:t>Решения и постановления Европейского суда обязательны для государств – ответчиков по делу, но фактически они имеют прецедент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одзаголовок 2"/>
          <p:cNvSpPr/>
          <p:nvPr/>
        </p:nvSpPr>
        <p:spPr>
          <a:xfrm>
            <a:off x="1214280" y="5214960"/>
            <a:ext cx="7643880" cy="16430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rbel"/>
              </a:rPr>
              <a:t>Европейский суд может принимать жалобы от любого физического лица, любой неправительственной организации или любой группы частных лиц, которые утверждают, что явились жертвами нарушения одним из государств 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ag00317_"/>
          <p:cNvPicPr/>
          <p:nvPr/>
        </p:nvPicPr>
        <p:blipFill>
          <a:blip r:embed="rId6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11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Прямоугольник 6" descr=""/>
          <p:cNvPicPr/>
          <p:nvPr/>
        </p:nvPicPr>
        <p:blipFill>
          <a:blip r:embed="rId2"/>
          <a:stretch/>
        </p:blipFill>
        <p:spPr>
          <a:xfrm>
            <a:off x="2073240" y="139680"/>
            <a:ext cx="5985000" cy="1573200"/>
          </a:xfrm>
          <a:prstGeom prst="rect">
            <a:avLst/>
          </a:prstGeom>
          <a:ln w="0">
            <a:noFill/>
          </a:ln>
        </p:spPr>
      </p:pic>
      <p:sp>
        <p:nvSpPr>
          <p:cNvPr id="407" name="Подзаголовок 2"/>
          <p:cNvSpPr/>
          <p:nvPr/>
        </p:nvSpPr>
        <p:spPr>
          <a:xfrm>
            <a:off x="1285920" y="1714680"/>
            <a:ext cx="7643880" cy="1785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rbel"/>
              </a:rPr>
              <a:t>Суд не принимает к рассмотрению индивидуальную жалобу, если она является анонимной, или по существу аналогична той, которая уже была рассмотрена Судом, или уже является предметом другой процедуры международного разбирательства или урегулирования, и если она не содержит новых, относящихся к делу фа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одзаголовок 2"/>
          <p:cNvSpPr/>
          <p:nvPr/>
        </p:nvSpPr>
        <p:spPr>
          <a:xfrm>
            <a:off x="1285920" y="3643200"/>
            <a:ext cx="7643880" cy="1000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rbel"/>
              </a:rPr>
              <a:t>Суд может на любой стадии разбирательства принять решение об исключении жалобы из списка подлежащих рассмотрению дел, если обстоятельства позволяют сделать вывод </a:t>
            </a: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Corbel"/>
              </a:rPr>
              <a:t>о том, что</a:t>
            </a:r>
            <a:r>
              <a:rPr b="1" lang="ru-RU" sz="2000" spc="-1" strike="noStrike">
                <a:solidFill>
                  <a:srgbClr val="ffc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1143000" y="5072040"/>
            <a:ext cx="221472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Заявитель не намерен добиваться рассмотрения своей жало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3500280" y="5357880"/>
            <a:ext cx="2143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пор был урегулиров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5715000" y="5072040"/>
            <a:ext cx="328608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По любой другой причине, установленной Судом, если дальнейшее рассмотрение жалобы является неоправда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Прямая со стрелкой 18" descr=""/>
          <p:cNvPicPr/>
          <p:nvPr/>
        </p:nvPicPr>
        <p:blipFill>
          <a:blip r:embed="rId5"/>
          <a:stretch/>
        </p:blipFill>
        <p:spPr>
          <a:xfrm>
            <a:off x="2309760" y="4651200"/>
            <a:ext cx="420840" cy="49392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ая со стрелкой 20" descr=""/>
          <p:cNvPicPr/>
          <p:nvPr/>
        </p:nvPicPr>
        <p:blipFill>
          <a:blip r:embed="rId6"/>
          <a:stretch/>
        </p:blipFill>
        <p:spPr>
          <a:xfrm>
            <a:off x="7407360" y="4651200"/>
            <a:ext cx="425520" cy="493920"/>
          </a:xfrm>
          <a:prstGeom prst="rect">
            <a:avLst/>
          </a:prstGeom>
          <a:ln w="0">
            <a:noFill/>
          </a:ln>
        </p:spPr>
      </p:pic>
      <p:pic>
        <p:nvPicPr>
          <p:cNvPr id="414" name="Прямая со стрелкой 21" descr=""/>
          <p:cNvPicPr/>
          <p:nvPr/>
        </p:nvPicPr>
        <p:blipFill>
          <a:blip r:embed="rId7"/>
          <a:stretch/>
        </p:blipFill>
        <p:spPr>
          <a:xfrm>
            <a:off x="4383000" y="4657680"/>
            <a:ext cx="378000" cy="8478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ag00317_"/>
          <p:cNvPicPr/>
          <p:nvPr/>
        </p:nvPicPr>
        <p:blipFill>
          <a:blip r:embed="rId8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Рисунок 9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17" name="Прямоугольник 3" descr=""/>
          <p:cNvPicPr/>
          <p:nvPr/>
        </p:nvPicPr>
        <p:blipFill>
          <a:blip r:embed="rId2"/>
          <a:stretch/>
        </p:blipFill>
        <p:spPr>
          <a:xfrm>
            <a:off x="2073240" y="139680"/>
            <a:ext cx="5985000" cy="1079640"/>
          </a:xfrm>
          <a:prstGeom prst="rect">
            <a:avLst/>
          </a:prstGeom>
          <a:ln w="0">
            <a:noFill/>
          </a:ln>
        </p:spPr>
      </p:pic>
      <p:pic>
        <p:nvPicPr>
          <p:cNvPr id="418" name="TextBox 4" descr=""/>
          <p:cNvPicPr/>
          <p:nvPr/>
        </p:nvPicPr>
        <p:blipFill>
          <a:blip r:embed="rId3"/>
          <a:stretch/>
        </p:blipFill>
        <p:spPr>
          <a:xfrm>
            <a:off x="871560" y="847800"/>
            <a:ext cx="3889440" cy="11937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5"/>
          <p:cNvSpPr/>
          <p:nvPr/>
        </p:nvSpPr>
        <p:spPr>
          <a:xfrm>
            <a:off x="1000080" y="1857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Существо обращения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1000080" y="242892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. Ответч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1000080" y="30002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Ист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1000080" y="364320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Критерий м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1000080" y="428616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5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Критерий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2"/>
          <p:cNvSpPr/>
          <p:nvPr/>
        </p:nvSpPr>
        <p:spPr>
          <a:xfrm>
            <a:off x="1000080" y="4857840"/>
            <a:ext cx="292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6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Исчерпание внутренних средств правовой 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11"/>
          <p:cNvSpPr/>
          <p:nvPr/>
        </p:nvSpPr>
        <p:spPr>
          <a:xfrm>
            <a:off x="4214880" y="1857240"/>
            <a:ext cx="43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7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Предельный срок подачи жалобы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3"/>
          <p:cNvSpPr/>
          <p:nvPr/>
        </p:nvSpPr>
        <p:spPr>
          <a:xfrm>
            <a:off x="4214880" y="242892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8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Анонимные жалобы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4"/>
          <p:cNvSpPr/>
          <p:nvPr/>
        </p:nvSpPr>
        <p:spPr>
          <a:xfrm>
            <a:off x="4214880" y="300024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9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Обоснованность жалобы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5"/>
          <p:cNvSpPr/>
          <p:nvPr/>
        </p:nvSpPr>
        <p:spPr>
          <a:xfrm>
            <a:off x="4214880" y="3643200"/>
            <a:ext cx="43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10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Жалоба может представляться на одном из языков государств – участников Конвенции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4" descr="ag00317_"/>
          <p:cNvPicPr/>
          <p:nvPr/>
        </p:nvPicPr>
        <p:blipFill>
          <a:blip r:embed="rId4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571400" y="2357280"/>
            <a:ext cx="7407000" cy="193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feb80a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Учитывая важность прав детей, Генеральная Ассамблея ООН в 1959 г. приняла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Декларацию прав ребенка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, в которой говорилось, что «ребенок должен при всех обстоятельств быть среди тех, кто первым получает защиту и помощь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2" name="Заголовок 3" descr=""/>
          <p:cNvPicPr/>
          <p:nvPr/>
        </p:nvPicPr>
        <p:blipFill>
          <a:blip r:embed="rId3"/>
          <a:stretch/>
        </p:blipFill>
        <p:spPr>
          <a:xfrm>
            <a:off x="1427040" y="212760"/>
            <a:ext cx="7405920" cy="1573200"/>
          </a:xfrm>
          <a:prstGeom prst="rect">
            <a:avLst/>
          </a:prstGeom>
          <a:ln w="0">
            <a:noFill/>
          </a:ln>
        </p:spPr>
      </p:pic>
      <p:sp>
        <p:nvSpPr>
          <p:cNvPr id="433" name="TextBox 4"/>
          <p:cNvSpPr/>
          <p:nvPr/>
        </p:nvSpPr>
        <p:spPr>
          <a:xfrm>
            <a:off x="1928880" y="4429080"/>
            <a:ext cx="7072200" cy="3020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20 ноября 1989 г.  Генеральной Ассамблеей ООН была принята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Конвенция о правах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Специально оговаривалась необходимость принятия возможных мер для того, чтобы подростки, не достигшие 15 лет, не принимали прямого участия в военных действ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4" descr="ag00317_"/>
          <p:cNvPicPr/>
          <p:nvPr/>
        </p:nvPicPr>
        <p:blipFill>
          <a:blip r:embed="rId5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7" descr="0004-002-Dokumenty-po-pravam-rebjonka.jpg"/>
          <p:cNvPicPr/>
          <p:nvPr/>
        </p:nvPicPr>
        <p:blipFill>
          <a:blip r:embed="rId6"/>
          <a:stretch/>
        </p:blipFill>
        <p:spPr>
          <a:xfrm>
            <a:off x="2286000" y="100008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92212.jpg"/>
          <p:cNvPicPr/>
          <p:nvPr/>
        </p:nvPicPr>
        <p:blipFill>
          <a:blip r:embed="rId7"/>
          <a:stretch/>
        </p:blipFill>
        <p:spPr>
          <a:xfrm>
            <a:off x="6715080" y="1000080"/>
            <a:ext cx="12146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66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4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Заголовок 3" descr=""/>
          <p:cNvPicPr/>
          <p:nvPr/>
        </p:nvPicPr>
        <p:blipFill>
          <a:blip r:embed="rId2"/>
          <a:stretch/>
        </p:blipFill>
        <p:spPr>
          <a:xfrm>
            <a:off x="1427040" y="212760"/>
            <a:ext cx="7405920" cy="1940040"/>
          </a:xfrm>
          <a:prstGeom prst="rect">
            <a:avLst/>
          </a:prstGeom>
          <a:ln w="0">
            <a:noFill/>
          </a:ln>
        </p:spPr>
      </p:pic>
      <p:grpSp>
        <p:nvGrpSpPr>
          <p:cNvPr id="439" name="TextBox 3"/>
          <p:cNvGrpSpPr/>
          <p:nvPr/>
        </p:nvGrpSpPr>
        <p:grpSpPr>
          <a:xfrm>
            <a:off x="1341360" y="2266920"/>
            <a:ext cx="3224160" cy="4207680"/>
            <a:chOff x="1341360" y="2266920"/>
            <a:chExt cx="3224160" cy="4207680"/>
          </a:xfrm>
        </p:grpSpPr>
        <p:pic>
          <p:nvPicPr>
            <p:cNvPr id="440" name="TextBox 3" descr=""/>
            <p:cNvPicPr/>
            <p:nvPr/>
          </p:nvPicPr>
          <p:blipFill>
            <a:blip r:embed="rId3"/>
            <a:stretch/>
          </p:blipFill>
          <p:spPr>
            <a:xfrm>
              <a:off x="1341360" y="2266920"/>
              <a:ext cx="322416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500120" y="2357280"/>
              <a:ext cx="292896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rbel"/>
                </a:rPr>
                <a:t>В международных отношениях нередко возникают разногласия. Взаимные претензии государств называются </a:t>
              </a:r>
              <a:r>
                <a:rPr b="1" i="1" lang="ru-RU" sz="2400" spc="-1" strike="noStrike" u="sng">
                  <a:solidFill>
                    <a:srgbClr val="000000"/>
                  </a:solidFill>
                  <a:uFillTx/>
                  <a:latin typeface="Corbel"/>
                </a:rPr>
                <a:t>спорам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Box 4"/>
          <p:cNvGrpSpPr/>
          <p:nvPr/>
        </p:nvGrpSpPr>
        <p:grpSpPr>
          <a:xfrm>
            <a:off x="4986360" y="2266920"/>
            <a:ext cx="3133800" cy="4573440"/>
            <a:chOff x="4986360" y="2266920"/>
            <a:chExt cx="3133800" cy="4573440"/>
          </a:xfrm>
        </p:grpSpPr>
        <p:pic>
          <p:nvPicPr>
            <p:cNvPr id="443" name="TextBox 4" descr=""/>
            <p:cNvPicPr/>
            <p:nvPr/>
          </p:nvPicPr>
          <p:blipFill>
            <a:blip r:embed="rId4"/>
            <a:stretch/>
          </p:blipFill>
          <p:spPr>
            <a:xfrm>
              <a:off x="4986360" y="2266920"/>
              <a:ext cx="313380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5143680" y="2357280"/>
              <a:ext cx="278604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rbel"/>
                </a:rPr>
                <a:t>Существует важное правило, согласно которому все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Corbel"/>
                </a:rPr>
                <a:t>споры международного характера должны решаться только мирным путе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Picture 4" descr="ag00317_"/>
          <p:cNvPicPr/>
          <p:nvPr/>
        </p:nvPicPr>
        <p:blipFill>
          <a:blip r:embed="rId5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Рисунок 21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7" name="TextBox 3"/>
          <p:cNvGrpSpPr/>
          <p:nvPr/>
        </p:nvGrpSpPr>
        <p:grpSpPr>
          <a:xfrm>
            <a:off x="2371680" y="73080"/>
            <a:ext cx="5424480" cy="969840"/>
            <a:chOff x="2371680" y="73080"/>
            <a:chExt cx="5424480" cy="969840"/>
          </a:xfrm>
        </p:grpSpPr>
        <p:pic>
          <p:nvPicPr>
            <p:cNvPr id="448" name="TextBox 3" descr=""/>
            <p:cNvPicPr/>
            <p:nvPr/>
          </p:nvPicPr>
          <p:blipFill>
            <a:blip r:embed="rId2"/>
            <a:stretch/>
          </p:blipFill>
          <p:spPr>
            <a:xfrm>
              <a:off x="2371680" y="73080"/>
              <a:ext cx="54244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500200" y="142920"/>
              <a:ext cx="5143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Corbel"/>
                </a:rPr>
                <a:t>Право предлагает государствам решать все споры мирно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xtBox 4"/>
          <p:cNvSpPr/>
          <p:nvPr/>
        </p:nvSpPr>
        <p:spPr>
          <a:xfrm>
            <a:off x="2428920" y="857160"/>
            <a:ext cx="46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Для этого рекомендуют придерживаться нескольких пра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1143000" y="1785960"/>
            <a:ext cx="150012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о-первых, можно предложить другой стороне переговоры для решения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6"/>
          <p:cNvSpPr/>
          <p:nvPr/>
        </p:nvSpPr>
        <p:spPr>
          <a:xfrm>
            <a:off x="2928960" y="1785960"/>
            <a:ext cx="2714760" cy="311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о-вторых, проводятся консультации сторон, которые способствуют поиску компромиссных решений, а также реализации достигнутых договорен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071720" y="4572000"/>
            <a:ext cx="19285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здается международная следственная комисс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3357720" y="4286160"/>
            <a:ext cx="24285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 других случаях создается международная согласительная комиссия, которая образуется по соглашению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9"/>
          <p:cNvSpPr/>
          <p:nvPr/>
        </p:nvSpPr>
        <p:spPr>
          <a:xfrm>
            <a:off x="6143760" y="4143240"/>
            <a:ext cx="25714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«Добрые услуги»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– это действия не участвующей в споре стороны, направленные на установление контактов спорящих стор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0"/>
          <p:cNvSpPr/>
          <p:nvPr/>
        </p:nvSpPr>
        <p:spPr>
          <a:xfrm>
            <a:off x="6000840" y="1785960"/>
            <a:ext cx="27144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А вот когда третья сторона начинает непосредственно участвовать в мирном разрешении спора, она становит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поср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Прямая со стрелкой 12" descr=""/>
          <p:cNvPicPr/>
          <p:nvPr/>
        </p:nvPicPr>
        <p:blipFill>
          <a:blip r:embed="rId3"/>
          <a:stretch/>
        </p:blipFill>
        <p:spPr>
          <a:xfrm>
            <a:off x="2633760" y="2548080"/>
            <a:ext cx="487440" cy="384120"/>
          </a:xfrm>
          <a:prstGeom prst="rect">
            <a:avLst/>
          </a:prstGeom>
          <a:ln w="0">
            <a:noFill/>
          </a:ln>
        </p:spPr>
      </p:pic>
      <p:pic>
        <p:nvPicPr>
          <p:cNvPr id="458" name="Прямая со стрелкой 14" descr=""/>
          <p:cNvPicPr/>
          <p:nvPr/>
        </p:nvPicPr>
        <p:blipFill>
          <a:blip r:embed="rId4"/>
          <a:stretch/>
        </p:blipFill>
        <p:spPr>
          <a:xfrm>
            <a:off x="2457360" y="4151160"/>
            <a:ext cx="493920" cy="49392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ая со стрелкой 16" descr=""/>
          <p:cNvPicPr/>
          <p:nvPr/>
        </p:nvPicPr>
        <p:blipFill>
          <a:blip r:embed="rId5"/>
          <a:stretch/>
        </p:blipFill>
        <p:spPr>
          <a:xfrm>
            <a:off x="2992320" y="4979880"/>
            <a:ext cx="489240" cy="3841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 стрелкой 18" descr=""/>
          <p:cNvPicPr/>
          <p:nvPr/>
        </p:nvPicPr>
        <p:blipFill>
          <a:blip r:embed="rId6"/>
          <a:stretch/>
        </p:blipFill>
        <p:spPr>
          <a:xfrm>
            <a:off x="5778360" y="4979880"/>
            <a:ext cx="489240" cy="3841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ая со стрелкой 20" descr=""/>
          <p:cNvPicPr/>
          <p:nvPr/>
        </p:nvPicPr>
        <p:blipFill>
          <a:blip r:embed="rId7"/>
          <a:stretch/>
        </p:blipFill>
        <p:spPr>
          <a:xfrm>
            <a:off x="7242120" y="3693960"/>
            <a:ext cx="384120" cy="4813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ag00317_"/>
          <p:cNvPicPr/>
          <p:nvPr/>
        </p:nvPicPr>
        <p:blipFill>
          <a:blip r:embed="rId8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5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460"/>
                            </p:stCondLst>
                            <p:childTnLst>
                              <p:par>
                                <p:cTn id="5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6460"/>
                            </p:stCondLst>
                            <p:childTnLst>
                              <p:par>
                                <p:cTn id="5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6960"/>
                            </p:stCondLst>
                            <p:childTnLst>
                              <p:par>
                                <p:cTn id="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5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8460"/>
                            </p:stCondLst>
                            <p:childTnLst>
                              <p:par>
                                <p:cTn id="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9460"/>
                            </p:stCondLst>
                            <p:childTnLst>
                              <p:par>
                                <p:cTn id="5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9960"/>
                            </p:stCondLst>
                            <p:childTnLst>
                              <p:par>
                                <p:cTn id="5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960"/>
                            </p:stCondLst>
                            <p:childTnLst>
                              <p:par>
                                <p:cTn id="5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146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Рисунок 7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64" name="TextBox 3" descr=""/>
          <p:cNvPicPr/>
          <p:nvPr/>
        </p:nvPicPr>
        <p:blipFill>
          <a:blip r:embed="rId2"/>
          <a:stretch/>
        </p:blipFill>
        <p:spPr>
          <a:xfrm>
            <a:off x="2189160" y="328680"/>
            <a:ext cx="4967280" cy="1896840"/>
          </a:xfrm>
          <a:prstGeom prst="rect">
            <a:avLst/>
          </a:prstGeom>
          <a:ln w="0">
            <a:noFill/>
          </a:ln>
        </p:spPr>
      </p:pic>
      <p:pic>
        <p:nvPicPr>
          <p:cNvPr id="465" name="TextBox 4" descr=""/>
          <p:cNvPicPr/>
          <p:nvPr/>
        </p:nvPicPr>
        <p:blipFill>
          <a:blip r:embed="rId3"/>
          <a:stretch/>
        </p:blipFill>
        <p:spPr>
          <a:xfrm>
            <a:off x="1901880" y="2475000"/>
            <a:ext cx="5468760" cy="29876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5"/>
          <p:cNvSpPr/>
          <p:nvPr/>
        </p:nvSpPr>
        <p:spPr>
          <a:xfrm>
            <a:off x="1643040" y="428760"/>
            <a:ext cx="71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000000"/>
                </a:solidFill>
                <a:latin typeface="Corbe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4" descr="ag00317_"/>
          <p:cNvPicPr/>
          <p:nvPr/>
        </p:nvPicPr>
        <p:blipFill>
          <a:blip r:embed="rId4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Рисунок 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3" name="Подзаголовок 2"/>
          <p:cNvGrpSpPr/>
          <p:nvPr/>
        </p:nvGrpSpPr>
        <p:grpSpPr>
          <a:xfrm>
            <a:off x="1274760" y="1127160"/>
            <a:ext cx="7431120" cy="3957480"/>
            <a:chOff x="1274760" y="1127160"/>
            <a:chExt cx="7431120" cy="3957480"/>
          </a:xfrm>
        </p:grpSpPr>
        <p:pic>
          <p:nvPicPr>
            <p:cNvPr id="324" name="Подзаголовок 2" descr=""/>
            <p:cNvPicPr/>
            <p:nvPr/>
          </p:nvPicPr>
          <p:blipFill>
            <a:blip r:embed="rId2"/>
            <a:stretch/>
          </p:blipFill>
          <p:spPr>
            <a:xfrm>
              <a:off x="1274760" y="1127160"/>
              <a:ext cx="743112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285920" y="1143000"/>
              <a:ext cx="740736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marL="270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92d050"/>
                  </a:solidFill>
                  <a:latin typeface="Corbel"/>
                </a:rPr>
                <a:t>Основу международного механизма реализации прав и свобод человека составляют </a:t>
              </a:r>
              <a:r>
                <a:rPr b="1" i="1" lang="ru-RU" sz="3200" spc="-1" strike="noStrike">
                  <a:solidFill>
                    <a:srgbClr val="92d050"/>
                  </a:solidFill>
                  <a:latin typeface="Corbel"/>
                </a:rPr>
                <a:t>международные юридические гарантии </a:t>
              </a:r>
              <a:r>
                <a:rPr b="1" lang="ru-RU" sz="3200" spc="-1" strike="noStrike">
                  <a:solidFill>
                    <a:srgbClr val="92d050"/>
                  </a:solidFill>
                  <a:latin typeface="Corbel"/>
                </a:rPr>
                <a:t>реализации прав и свобод личности и </a:t>
              </a:r>
              <a:r>
                <a:rPr b="1" i="1" lang="ru-RU" sz="3200" spc="-1" strike="noStrike">
                  <a:solidFill>
                    <a:srgbClr val="92d050"/>
                  </a:solidFill>
                  <a:latin typeface="Corbel"/>
                </a:rPr>
                <a:t>международные организации, </a:t>
              </a:r>
              <a:r>
                <a:rPr b="1" lang="ru-RU" sz="3200" spc="-1" strike="noStrike">
                  <a:solidFill>
                    <a:srgbClr val="92d050"/>
                  </a:solidFill>
                  <a:latin typeface="Corbel"/>
                </a:rPr>
                <a:t>призванные следить за реализацией прав и свобод человека и гражданина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Рисунок 3" descr="catty11.gif"/>
          <p:cNvPicPr/>
          <p:nvPr/>
        </p:nvPicPr>
        <p:blipFill>
          <a:blip r:embed="rId3"/>
          <a:stretch/>
        </p:blipFill>
        <p:spPr>
          <a:xfrm>
            <a:off x="128592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Рисунок 7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TextBox 3"/>
          <p:cNvSpPr/>
          <p:nvPr/>
        </p:nvSpPr>
        <p:spPr>
          <a:xfrm>
            <a:off x="2714760" y="214200"/>
            <a:ext cx="4286160" cy="1922760"/>
          </a:xfrm>
          <a:prstGeom prst="rect">
            <a:avLst/>
          </a:prstGeom>
          <a:solidFill>
            <a:srgbClr val="feb80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11617"/>
                </a:solidFill>
                <a:latin typeface="Corbel"/>
              </a:rPr>
              <a:t>Наиболее опасными поступками людей являются международные престу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TextBox 4"/>
          <p:cNvGrpSpPr/>
          <p:nvPr/>
        </p:nvGrpSpPr>
        <p:grpSpPr>
          <a:xfrm>
            <a:off x="944640" y="1925640"/>
            <a:ext cx="2998800" cy="3827520"/>
            <a:chOff x="944640" y="1925640"/>
            <a:chExt cx="2998800" cy="3827520"/>
          </a:xfrm>
        </p:grpSpPr>
        <p:pic>
          <p:nvPicPr>
            <p:cNvPr id="471" name="TextBox 4" descr=""/>
            <p:cNvPicPr/>
            <p:nvPr/>
          </p:nvPicPr>
          <p:blipFill>
            <a:blip r:embed="rId2"/>
            <a:stretch/>
          </p:blipFill>
          <p:spPr>
            <a:xfrm>
              <a:off x="944640" y="1925640"/>
              <a:ext cx="299880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071720" y="2000160"/>
              <a:ext cx="27860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Например, действия, направленные на полное или частичное уничтожение национальной, этнической, религиозной группы, называются </a:t>
              </a: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Corbel"/>
                </a:rPr>
                <a:t>геноцид</a:t>
              </a: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TextBox 5"/>
          <p:cNvGrpSpPr/>
          <p:nvPr/>
        </p:nvGrpSpPr>
        <p:grpSpPr>
          <a:xfrm>
            <a:off x="3803760" y="2146320"/>
            <a:ext cx="2554200" cy="4431240"/>
            <a:chOff x="3803760" y="2146320"/>
            <a:chExt cx="2554200" cy="4431240"/>
          </a:xfrm>
        </p:grpSpPr>
        <p:pic>
          <p:nvPicPr>
            <p:cNvPr id="474" name="TextBox 5" descr=""/>
            <p:cNvPicPr/>
            <p:nvPr/>
          </p:nvPicPr>
          <p:blipFill>
            <a:blip r:embed="rId3"/>
            <a:stretch/>
          </p:blipFill>
          <p:spPr>
            <a:xfrm>
              <a:off x="3803760" y="2146320"/>
              <a:ext cx="2554200" cy="37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929040" y="2214720"/>
              <a:ext cx="235764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Нарушение прав человека могут выражаться в </a:t>
              </a: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Corbel"/>
                </a:rPr>
                <a:t>дискриминации</a:t>
              </a: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 – ущемлении прав людей в зависимости от пола, национальности, имущественного положения и т.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TextBox 6"/>
          <p:cNvGrpSpPr/>
          <p:nvPr/>
        </p:nvGrpSpPr>
        <p:grpSpPr>
          <a:xfrm>
            <a:off x="6443640" y="2000160"/>
            <a:ext cx="2414520" cy="3824640"/>
            <a:chOff x="6443640" y="2000160"/>
            <a:chExt cx="2414520" cy="3824640"/>
          </a:xfrm>
        </p:grpSpPr>
        <p:pic>
          <p:nvPicPr>
            <p:cNvPr id="477" name="TextBox 6" descr=""/>
            <p:cNvPicPr/>
            <p:nvPr/>
          </p:nvPicPr>
          <p:blipFill>
            <a:blip r:embed="rId4"/>
            <a:stretch/>
          </p:blipFill>
          <p:spPr>
            <a:xfrm>
              <a:off x="6443640" y="2000160"/>
              <a:ext cx="2414520" cy="37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572160" y="2071800"/>
              <a:ext cx="221472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Одной из форм расовой дискриминации является </a:t>
              </a:r>
              <a:r>
                <a:rPr b="1" i="1" lang="ru-RU" sz="2000" spc="-1" strike="noStrike" u="sng">
                  <a:solidFill>
                    <a:srgbClr val="000000"/>
                  </a:solidFill>
                  <a:uFillTx/>
                  <a:latin typeface="Corbel"/>
                </a:rPr>
                <a:t>апартеид</a:t>
              </a:r>
              <a:r>
                <a:rPr b="1" lang="ru-RU" sz="2000" spc="-1" strike="noStrike">
                  <a:solidFill>
                    <a:srgbClr val="000000"/>
                  </a:solidFill>
                  <a:latin typeface="Corbel"/>
                </a:rPr>
                <a:t> – насильственное разделение населения страны на неравные между собой группы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4" descr="ag00317_"/>
          <p:cNvPicPr/>
          <p:nvPr/>
        </p:nvPicPr>
        <p:blipFill>
          <a:blip r:embed="rId5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3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TextBox 4"/>
          <p:cNvSpPr/>
          <p:nvPr/>
        </p:nvSpPr>
        <p:spPr>
          <a:xfrm>
            <a:off x="1285920" y="142920"/>
            <a:ext cx="721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азновидностью международно-политической ответственности яв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политическая ответственность.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Политическая ответственность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может выражаться в принесении извинений, выражении сожалений, наказании конкретных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2428920" y="2571840"/>
            <a:ext cx="5000760" cy="1008720"/>
          </a:xfrm>
          <a:prstGeom prst="rect">
            <a:avLst/>
          </a:prstGeom>
          <a:solidFill>
            <a:srgbClr val="964305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Corbel"/>
              </a:rPr>
              <a:t>К формам политической ответственности относят репрессалии и ретор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1357200" y="3643200"/>
            <a:ext cx="2928960" cy="2228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Репрессалии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– ответные насильственные действия, которые осуществляются пострадавшим субъ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5143680" y="3643200"/>
            <a:ext cx="2714400" cy="2533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Реторсии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– ответные акции в связи с недружественными действиями, не являющимися правонарушен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1071720" y="5643720"/>
            <a:ext cx="328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Пример: Задержание судна за нарушение санитарных норм в прилежащей зо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9"/>
          <p:cNvSpPr/>
          <p:nvPr/>
        </p:nvSpPr>
        <p:spPr>
          <a:xfrm>
            <a:off x="4429080" y="5533920"/>
            <a:ext cx="47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(Пример: отзыв посла в ответ на недружественное заявление в отношении страны, которую посол представля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ag00317_"/>
          <p:cNvPicPr/>
          <p:nvPr/>
        </p:nvPicPr>
        <p:blipFill>
          <a:blip r:embed="rId4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0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4" dur="2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Рисунок 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TextBox 3"/>
          <p:cNvSpPr/>
          <p:nvPr/>
        </p:nvSpPr>
        <p:spPr>
          <a:xfrm>
            <a:off x="1714680" y="1357200"/>
            <a:ext cx="6858000" cy="3751560"/>
          </a:xfrm>
          <a:prstGeom prst="rect">
            <a:avLst/>
          </a:prstGeom>
          <a:solidFill>
            <a:srgbClr val="475a8d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Международная материальная ответственность выражается в обязанности возместить материальный ущерб тому государству, которому он был нанесен. В некоторых случаях восстанавливается материальное положение, которое существовало до правонарушения (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реституция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), в другом случае компенсируются убытки потерпевшему (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репарация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Рисунок 5" descr="catty11.gif"/>
          <p:cNvPicPr/>
          <p:nvPr/>
        </p:nvPicPr>
        <p:blipFill>
          <a:blip r:embed="rId2"/>
          <a:stretch/>
        </p:blipFill>
        <p:spPr>
          <a:xfrm>
            <a:off x="4286160" y="3571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pic>
        <p:nvPicPr>
          <p:cNvPr id="492" name="Заголовок 3" descr=""/>
          <p:cNvPicPr/>
          <p:nvPr/>
        </p:nvPicPr>
        <p:blipFill>
          <a:blip r:embed="rId2"/>
          <a:stretch/>
        </p:blipFill>
        <p:spPr>
          <a:xfrm>
            <a:off x="1427040" y="212760"/>
            <a:ext cx="7405920" cy="1940040"/>
          </a:xfrm>
          <a:prstGeom prst="rect">
            <a:avLst/>
          </a:prstGeom>
          <a:ln w="0">
            <a:noFill/>
          </a:ln>
        </p:spPr>
      </p:pic>
      <p:sp>
        <p:nvSpPr>
          <p:cNvPr id="493" name="TextBox 4"/>
          <p:cNvSpPr/>
          <p:nvPr/>
        </p:nvSpPr>
        <p:spPr>
          <a:xfrm>
            <a:off x="1214280" y="2357280"/>
            <a:ext cx="778680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32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Согласно Конституции РФ в России признаются и гарантируются права и свободы человека в соответствии с общепринятыми принципами и нормами международного 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Если международным договором Российской Федерации установлены иные правила, чем предусмотрены законом, то применяются нормы международного 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 целом международное право становится общепланетарным правом. Без него невозможно решение многих важных вопросов: жизни людей,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ag00317_"/>
          <p:cNvPicPr/>
          <p:nvPr/>
        </p:nvPicPr>
        <p:blipFill>
          <a:blip r:embed="rId3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7" descr="Red_copy_of_the_Russian_constitution.jpg"/>
          <p:cNvPicPr/>
          <p:nvPr/>
        </p:nvPicPr>
        <p:blipFill>
          <a:blip r:embed="rId4"/>
          <a:stretch/>
        </p:blipFill>
        <p:spPr>
          <a:xfrm>
            <a:off x="1000080" y="285840"/>
            <a:ext cx="14382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TextBox 3"/>
          <p:cNvSpPr/>
          <p:nvPr/>
        </p:nvSpPr>
        <p:spPr>
          <a:xfrm>
            <a:off x="1071720" y="1000080"/>
            <a:ext cx="2643120" cy="521460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189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ждународное сотрудничество привело к созданию многочисленных организаций, обеспечивающих совместные действия стран и защиту прав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3786120" y="142920"/>
            <a:ext cx="5214960" cy="734616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189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 настоящему времени их насчитывается около пяти тысяч, среди которых особую роль играет Организация Объединенных Наций – международная организация безопасности, созданная по инициативе ведущих стран антигитлеровской коалиции (СССР, США, Китая, Великобритании и Франции) с целью поддержания международного мира и безопас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ag00317_"/>
          <p:cNvPicPr/>
          <p:nvPr/>
        </p:nvPicPr>
        <p:blipFill>
          <a:blip r:embed="rId2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214280" y="214200"/>
            <a:ext cx="7621920" cy="92880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5400000"/>
          </a:gradFill>
          <a:ln w="25560">
            <a:solidFill>
              <a:srgbClr val="964305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20e04"/>
                </a:solidFill>
                <a:latin typeface="Corbel"/>
              </a:rPr>
              <a:t>Устав ООН был подписан 26 июня 1945 г. в Сан-Франциско более 50 государствам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Прямоугольник 4" descr=""/>
          <p:cNvPicPr/>
          <p:nvPr/>
        </p:nvPicPr>
        <p:blipFill>
          <a:blip r:embed="rId2"/>
          <a:stretch/>
        </p:blipFill>
        <p:spPr>
          <a:xfrm>
            <a:off x="1487520" y="1274760"/>
            <a:ext cx="7211880" cy="944640"/>
          </a:xfrm>
          <a:prstGeom prst="rect">
            <a:avLst/>
          </a:prstGeom>
          <a:ln w="0">
            <a:noFill/>
          </a:ln>
        </p:spPr>
      </p:pic>
      <p:sp>
        <p:nvSpPr>
          <p:cNvPr id="334" name="TextBox 6"/>
          <p:cNvSpPr/>
          <p:nvPr/>
        </p:nvSpPr>
        <p:spPr>
          <a:xfrm>
            <a:off x="1071720" y="2357280"/>
            <a:ext cx="228600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Генеральная Ассамблея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совещательный орган, рассматривающий вопросы укрепления мира, сотрудничества стран в разных облас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7"/>
          <p:cNvSpPr/>
          <p:nvPr/>
        </p:nvSpPr>
        <p:spPr>
          <a:xfrm>
            <a:off x="3500280" y="2928960"/>
            <a:ext cx="228600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Совет Безопасности ООН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обеспечивает поддержание мира и безопа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8"/>
          <p:cNvSpPr/>
          <p:nvPr/>
        </p:nvSpPr>
        <p:spPr>
          <a:xfrm>
            <a:off x="1071720" y="5643720"/>
            <a:ext cx="357156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Международный суд ООН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– решает спорные международные пробл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9"/>
          <p:cNvSpPr/>
          <p:nvPr/>
        </p:nvSpPr>
        <p:spPr>
          <a:xfrm>
            <a:off x="5929200" y="2357280"/>
            <a:ext cx="2928960" cy="375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лавным административным должностным лицом ООН явля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Генеральный секретарь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, назначаемый Генеральной Ассамблеей по рекомендации Совета Безопасности О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0"/>
          <p:cNvSpPr/>
          <p:nvPr/>
        </p:nvSpPr>
        <p:spPr>
          <a:xfrm>
            <a:off x="5000760" y="5643720"/>
            <a:ext cx="385740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собое место в системе органов ООН принадлежи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orbel"/>
              </a:rPr>
              <a:t>Верховному комиссару по права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ag00317_"/>
          <p:cNvPicPr/>
          <p:nvPr/>
        </p:nvPicPr>
        <p:blipFill>
          <a:blip r:embed="rId3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Рисунок 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71760" y="-655560"/>
            <a:ext cx="6643440" cy="4480920"/>
          </a:xfrm>
          <a:prstGeom prst="rect">
            <a:avLst/>
          </a:pr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18900000"/>
          </a:gradFill>
          <a:ln w="25560">
            <a:solidFill>
              <a:srgbClr val="96430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 вынесением решений и формирование политики по вопросам поощрения и защиты прав человека отвечает Генеральная Ассамблея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Экономический и социальный совет и Комиссия по правам человека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2" name="Рисунок 6" descr="ecosoc_background_clip_image002.jpg"/>
          <p:cNvPicPr/>
          <p:nvPr/>
        </p:nvPicPr>
        <p:blipFill>
          <a:blip r:embed="rId2"/>
          <a:stretch/>
        </p:blipFill>
        <p:spPr>
          <a:xfrm>
            <a:off x="2475000" y="3743280"/>
            <a:ext cx="445608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4280" y="142920"/>
            <a:ext cx="7715520" cy="2357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Corbel"/>
              </a:rPr>
              <a:t>10 декабря 1948 г.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 Генеральная Ассамблея ООН приняла 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Всеобщую декларацию прав человека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, создавшую правовую основу развития и конкретизацию прав человека практически для всех международных актов.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Заголовок 1"/>
          <p:cNvSpPr/>
          <p:nvPr/>
        </p:nvSpPr>
        <p:spPr>
          <a:xfrm>
            <a:off x="1071720" y="2643120"/>
            <a:ext cx="807228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orbel"/>
              </a:rPr>
              <a:t>Декларация </a:t>
            </a:r>
            <a:r>
              <a:rPr b="1" lang="ru-RU" sz="2400" spc="-1" strike="noStrike">
                <a:solidFill>
                  <a:srgbClr val="0070c0"/>
                </a:solidFill>
                <a:latin typeface="Corbel"/>
              </a:rPr>
              <a:t>– это документ, положения которого не имеют строго обязательного характера для выпол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Заголовок 1"/>
          <p:cNvSpPr/>
          <p:nvPr/>
        </p:nvSpPr>
        <p:spPr>
          <a:xfrm>
            <a:off x="1214280" y="3643200"/>
            <a:ext cx="7715520" cy="2357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6 декабря 1966 г. ООН были приняты 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Международный пакт о гражданских и политических правах 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и</a:t>
            </a:r>
            <a:r>
              <a:rPr b="1" i="1" lang="ru-RU" sz="2800" spc="-1" strike="noStrike">
                <a:solidFill>
                  <a:srgbClr val="c00000"/>
                </a:solidFill>
                <a:latin typeface="Corbel"/>
              </a:rPr>
              <a:t> Международный пакт об экономических, социальных и культурных пра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Заголовок 1"/>
          <p:cNvSpPr/>
          <p:nvPr/>
        </p:nvSpPr>
        <p:spPr>
          <a:xfrm>
            <a:off x="1071720" y="6143760"/>
            <a:ext cx="80722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70c0"/>
                </a:solidFill>
                <a:uFillTx/>
                <a:latin typeface="Corbel"/>
              </a:rPr>
              <a:t>Пакт</a:t>
            </a:r>
            <a:r>
              <a:rPr b="1" lang="ru-RU" sz="2400" spc="-1" strike="noStrike">
                <a:solidFill>
                  <a:srgbClr val="0070c0"/>
                </a:solidFill>
                <a:latin typeface="Corbel"/>
              </a:rPr>
              <a:t> – одно из наименований международного догов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ag00317_"/>
          <p:cNvPicPr/>
          <p:nvPr/>
        </p:nvPicPr>
        <p:blipFill>
          <a:blip r:embed="rId4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10" descr="67696625_1291996005_prava1.jpg"/>
          <p:cNvPicPr/>
          <p:nvPr/>
        </p:nvPicPr>
        <p:blipFill>
          <a:blip r:embed="rId5"/>
          <a:stretch/>
        </p:blipFill>
        <p:spPr>
          <a:xfrm>
            <a:off x="0" y="2428920"/>
            <a:ext cx="1054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3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85920" y="142560"/>
            <a:ext cx="7407360" cy="350820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25560">
            <a:solidFill>
              <a:srgbClr val="3891a7"/>
            </a:solidFill>
            <a:miter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Кроме того, 16 декабря 1966 г. был принят </a:t>
            </a:r>
            <a:r>
              <a:rPr b="1" i="1" lang="ru-RU" sz="3200" spc="-1" strike="noStrike">
                <a:solidFill>
                  <a:srgbClr val="320e04"/>
                </a:solidFill>
                <a:latin typeface="Corbel"/>
              </a:rPr>
              <a:t>Факультативный протокол к Международному пакту о гражданских и политических правах</a:t>
            </a:r>
            <a:r>
              <a:rPr b="1" lang="ru-RU" sz="3200" spc="-1" strike="noStrike">
                <a:solidFill>
                  <a:srgbClr val="320e04"/>
                </a:solidFill>
                <a:latin typeface="Corbel"/>
              </a:rPr>
              <a:t>, согласно которому можно обращаться с жалобами на нарушения прав в Комитет по правам человека ООН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3071880" y="3929040"/>
            <a:ext cx="5929200" cy="265356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0"/>
          </a:gra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е эти основополагающие документы в области защиты личности составляют Хартию прав человека, или Международный билль о правах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Прямоугольник 5" descr=""/>
          <p:cNvPicPr/>
          <p:nvPr/>
        </p:nvPicPr>
        <p:blipFill>
          <a:blip r:embed="rId2"/>
          <a:stretch/>
        </p:blipFill>
        <p:spPr>
          <a:xfrm>
            <a:off x="2359080" y="4286160"/>
            <a:ext cx="542880" cy="1571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ag00317_"/>
          <p:cNvPicPr/>
          <p:nvPr/>
        </p:nvPicPr>
        <p:blipFill>
          <a:blip r:embed="rId3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7" descr="img.jpg"/>
          <p:cNvPicPr/>
          <p:nvPr/>
        </p:nvPicPr>
        <p:blipFill>
          <a:blip r:embed="rId4"/>
          <a:stretch/>
        </p:blipFill>
        <p:spPr>
          <a:xfrm>
            <a:off x="1214280" y="2714760"/>
            <a:ext cx="2700360" cy="3929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56" name="Рисунок 8" descr="800px-Charter_of_Fundamental_Rights_of_the_European_Union.jpg"/>
          <p:cNvPicPr/>
          <p:nvPr/>
        </p:nvPicPr>
        <p:blipFill>
          <a:blip r:embed="rId5"/>
          <a:stretch/>
        </p:blipFill>
        <p:spPr>
          <a:xfrm>
            <a:off x="4143240" y="285840"/>
            <a:ext cx="4714920" cy="3535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5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28840" y="142920"/>
            <a:ext cx="74073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ff0000"/>
                </a:solidFill>
                <a:uFillTx/>
                <a:latin typeface="Corbel"/>
              </a:rPr>
              <a:t>Развитие системы защиты прав челове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571400" y="1500120"/>
            <a:ext cx="7407000" cy="25084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25560">
            <a:solidFill>
              <a:srgbClr val="964305"/>
            </a:solidFill>
            <a:miter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Сложность взаимоотношений людей, живущих в одном коллективе, всегда порождала нестандартные идеи, идущие вразрез с мнением большинства или тех, кто находился у власти. Так развивалось инакомыслие, которое не устраивало тех, чьи позиции подвергались критике. Не случайно поэтому представителей оппозиции (от лат. </a:t>
            </a:r>
            <a:r>
              <a:rPr b="1" lang="en-US" sz="2000" spc="-1" strike="noStrike">
                <a:solidFill>
                  <a:srgbClr val="320e04"/>
                </a:solidFill>
                <a:latin typeface="Gill Sans MT"/>
              </a:rPr>
              <a:t>oppositio</a:t>
            </a: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 –</a:t>
            </a:r>
            <a:r>
              <a:rPr b="1" lang="en-US" sz="20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1" lang="ru-RU" sz="2000" spc="-1" strike="noStrike">
                <a:solidFill>
                  <a:srgbClr val="320e04"/>
                </a:solidFill>
                <a:latin typeface="Corbel"/>
              </a:rPr>
              <a:t>противопоставление) не любили и боролись с ними дозволенными и недозволенными методами. 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2571840" y="4071960"/>
            <a:ext cx="5072040" cy="155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нем рождения российского правозащитного движения многие считают дату 5 декабря 1965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1357200" y="5357880"/>
            <a:ext cx="692964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64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В 1970 г. в СССР был создан Комитет прав человека. В его задачи входило правовое просвещение людей, создание системы гарантий защиты их прав, пропаганда международных документов по правам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"/>
          <p:cNvSpPr/>
          <p:nvPr/>
        </p:nvSpPr>
        <p:spPr>
          <a:xfrm>
            <a:off x="1865520" y="3857760"/>
            <a:ext cx="52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c32d2e"/>
                </a:solidFill>
                <a:latin typeface="Corbe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ag00317_"/>
          <p:cNvPicPr/>
          <p:nvPr/>
        </p:nvPicPr>
        <p:blipFill>
          <a:blip r:embed="rId3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1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1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4" descr="60876735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0008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736640" y="142920"/>
            <a:ext cx="7407360" cy="936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20e04"/>
                </a:solidFill>
                <a:uFillTx/>
                <a:latin typeface="Corbel"/>
              </a:rPr>
              <a:t>Современную систему защиты прав человека юристы делят на три уровня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214280" y="1357200"/>
            <a:ext cx="2428920" cy="825480"/>
          </a:xfrm>
          <a:prstGeom prst="rect">
            <a:avLst/>
          </a:prstGeom>
          <a:gradFill rotWithShape="0">
            <a:gsLst>
              <a:gs pos="0">
                <a:srgbClr val="ffb087"/>
              </a:gs>
              <a:gs pos="100000">
                <a:srgbClr val="ffe6dc"/>
              </a:gs>
            </a:gsLst>
            <a:lin ang="27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Нац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3786120" y="1357200"/>
            <a:ext cx="2500560" cy="825480"/>
          </a:xfrm>
          <a:prstGeom prst="rect">
            <a:avLst/>
          </a:prstGeom>
          <a:gradFill rotWithShape="0">
            <a:gsLst>
              <a:gs pos="0">
                <a:srgbClr val="ffb087"/>
              </a:gs>
              <a:gs pos="100000">
                <a:srgbClr val="ffe6dc"/>
              </a:gs>
            </a:gsLst>
            <a:lin ang="27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Регион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6"/>
          <p:cNvSpPr/>
          <p:nvPr/>
        </p:nvSpPr>
        <p:spPr>
          <a:xfrm>
            <a:off x="6429240" y="1357200"/>
            <a:ext cx="2571840" cy="825480"/>
          </a:xfrm>
          <a:prstGeom prst="rect">
            <a:avLst/>
          </a:prstGeom>
          <a:gradFill rotWithShape="0">
            <a:gsLst>
              <a:gs pos="0">
                <a:srgbClr val="ffb087"/>
              </a:gs>
              <a:gs pos="100000">
                <a:srgbClr val="ffe6dc"/>
              </a:gs>
            </a:gsLst>
            <a:lin ang="2700000"/>
          </a:gradFill>
          <a:ln w="25560">
            <a:solidFill>
              <a:srgbClr val="475a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еждународ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Прямая со стрелкой 8" descr=""/>
          <p:cNvPicPr/>
          <p:nvPr/>
        </p:nvPicPr>
        <p:blipFill>
          <a:blip r:embed="rId2"/>
          <a:stretch/>
        </p:blipFill>
        <p:spPr>
          <a:xfrm>
            <a:off x="2170080" y="938160"/>
            <a:ext cx="493920" cy="5666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4668840" y="944640"/>
            <a:ext cx="379440" cy="5554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ая со стрелкой 16" descr=""/>
          <p:cNvPicPr/>
          <p:nvPr/>
        </p:nvPicPr>
        <p:blipFill>
          <a:blip r:embed="rId4"/>
          <a:stretch/>
        </p:blipFill>
        <p:spPr>
          <a:xfrm>
            <a:off x="7126200" y="938160"/>
            <a:ext cx="500040" cy="566640"/>
          </a:xfrm>
          <a:prstGeom prst="rect">
            <a:avLst/>
          </a:prstGeom>
          <a:ln w="0">
            <a:noFill/>
          </a:ln>
        </p:spPr>
      </p:pic>
      <p:sp>
        <p:nvSpPr>
          <p:cNvPr id="372" name="TextBox 18"/>
          <p:cNvSpPr/>
          <p:nvPr/>
        </p:nvSpPr>
        <p:spPr>
          <a:xfrm>
            <a:off x="1285920" y="2214720"/>
            <a:ext cx="771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первом случае речь идет о том, как можно защитить свои права, признанные международным правом, в рамках одн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Обращение в суд может осуществляться на основе Закона РФ «Об обжаловании в суд действий и решений, нарушающих права и свободы граждан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Прямая соединительная линия 22" descr=""/>
          <p:cNvPicPr/>
          <p:nvPr/>
        </p:nvPicPr>
        <p:blipFill>
          <a:blip r:embed="rId5"/>
          <a:stretch/>
        </p:blipFill>
        <p:spPr>
          <a:xfrm>
            <a:off x="920880" y="2004840"/>
            <a:ext cx="8315280" cy="184320"/>
          </a:xfrm>
          <a:prstGeom prst="rect">
            <a:avLst/>
          </a:prstGeom>
          <a:ln w="0">
            <a:noFill/>
          </a:ln>
        </p:spPr>
      </p:pic>
      <p:pic>
        <p:nvPicPr>
          <p:cNvPr id="374" name="TextBox 24" descr=""/>
          <p:cNvPicPr/>
          <p:nvPr/>
        </p:nvPicPr>
        <p:blipFill>
          <a:blip r:embed="rId6"/>
          <a:stretch/>
        </p:blipFill>
        <p:spPr>
          <a:xfrm>
            <a:off x="1573200" y="4419720"/>
            <a:ext cx="3297240" cy="2517480"/>
          </a:xfrm>
          <a:prstGeom prst="rect">
            <a:avLst/>
          </a:prstGeom>
          <a:ln w="0">
            <a:noFill/>
          </a:ln>
        </p:spPr>
      </p:pic>
      <p:pic>
        <p:nvPicPr>
          <p:cNvPr id="375" name="TextBox 25" descr=""/>
          <p:cNvPicPr/>
          <p:nvPr/>
        </p:nvPicPr>
        <p:blipFill>
          <a:blip r:embed="rId7"/>
          <a:stretch/>
        </p:blipFill>
        <p:spPr>
          <a:xfrm>
            <a:off x="4791240" y="4419720"/>
            <a:ext cx="2749320" cy="25174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ag00317_"/>
          <p:cNvPicPr/>
          <p:nvPr/>
        </p:nvPicPr>
        <p:blipFill>
          <a:blip r:embed="rId8"/>
          <a:stretch/>
        </p:blipFill>
        <p:spPr>
          <a:xfrm flipH="1">
            <a:off x="0" y="5214960"/>
            <a:ext cx="1000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3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2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4:09:54Z</dcterms:created>
  <dc:creator>Nastya</dc:creator>
  <dc:description/>
  <dc:language>en-US</dc:language>
  <cp:lastModifiedBy>Anastasiya</cp:lastModifiedBy>
  <dcterms:modified xsi:type="dcterms:W3CDTF">2022-08-23T04:18:37Z</dcterms:modified>
  <cp:revision>38</cp:revision>
  <dc:subject/>
  <dc:title>Международная защита прав человека.</dc:title>
</cp:coreProperties>
</file>