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4_1">
  <dgm:title val=""/>
  <dgm:desc val=""/>
  <dgm:catLst>
    <dgm:cat type="accent4" pri="11100"/>
  </dgm:catLst>
  <dgm:styleLbl name="node0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4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4">
        <a:tint val="40000"/>
      </a:schemeClr>
    </dgm:fillClrLst>
    <dgm:linClrLst meth="repeat">
      <a:schemeClr val="accent4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4">
        <a:tint val="40000"/>
      </a:schemeClr>
    </dgm:fillClrLst>
    <dgm:linClrLst meth="repeat">
      <a:schemeClr val="accent4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4">
        <a:tint val="40000"/>
      </a:schemeClr>
    </dgm:fillClrLst>
    <dgm:linClrLst meth="repeat">
      <a:schemeClr val="accent4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parChTrans2D4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4">
        <a:alpha val="4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4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4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4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8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0D07060-91C1-48BD-AACF-2C9487F8C3D0}" type="doc">
      <dgm:prSet loTypeId="urn:microsoft.com/office/officeart/2005/8/layout/orgChart1" loCatId="hierarchy" qsTypeId="urn:microsoft.com/office/officeart/2005/8/quickstyle/simple1" qsCatId="simple" csTypeId="urn:microsoft.com/office/officeart/2005/8/colors/accent4_1" csCatId="accent4" phldr="1"/>
      <dgm:spPr/>
      <dgm:t>
        <a:bodyPr/>
        <a:lstStyle/>
        <a:p>
          <a:endParaRPr lang="ru-RU"/>
        </a:p>
      </dgm:t>
    </dgm:pt>
    <dgm:pt modelId="{0364D95E-022D-445B-812A-BC0DCC95DB79}">
      <dgm:prSet phldrT="[Текст]" custT="1"/>
      <dgm:spPr/>
      <dgm:t>
        <a:bodyPr/>
        <a:lstStyle/>
        <a:p>
          <a:r>
            <a:rPr lang="ru-RU" sz="4000" b="1" dirty="0" smtClean="0">
              <a:solidFill>
                <a:schemeClr val="accent3">
                  <a:lumMod val="25000"/>
                </a:schemeClr>
              </a:solidFill>
            </a:rPr>
            <a:t>Речь</a:t>
          </a:r>
          <a:endParaRPr lang="ru-RU" sz="4000" b="1" dirty="0">
            <a:solidFill>
              <a:schemeClr val="accent3">
                <a:lumMod val="25000"/>
              </a:schemeClr>
            </a:solidFill>
          </a:endParaRPr>
        </a:p>
      </dgm:t>
    </dgm:pt>
    <dgm:pt modelId="{FCB624B6-FE5A-4D67-99B9-9C3C777A23AA}" type="parTrans" cxnId="{15A6A88D-8E10-445B-A136-9DEE72ABDBAC}">
      <dgm:prSet/>
      <dgm:spPr/>
      <dgm:t>
        <a:bodyPr/>
        <a:lstStyle/>
        <a:p>
          <a:endParaRPr lang="ru-RU"/>
        </a:p>
      </dgm:t>
    </dgm:pt>
    <dgm:pt modelId="{691EEFEC-6AD5-4507-9984-64D5EF7E9945}" type="sibTrans" cxnId="{15A6A88D-8E10-445B-A136-9DEE72ABDBAC}">
      <dgm:prSet/>
      <dgm:spPr/>
      <dgm:t>
        <a:bodyPr/>
        <a:lstStyle/>
        <a:p>
          <a:endParaRPr lang="ru-RU"/>
        </a:p>
      </dgm:t>
    </dgm:pt>
    <dgm:pt modelId="{3F9D0C28-6AA7-49D1-93C7-2D4EB0E6C7F7}">
      <dgm:prSet phldrT="[Текст]"/>
      <dgm:spPr/>
      <dgm:t>
        <a:bodyPr/>
        <a:lstStyle/>
        <a:p>
          <a:r>
            <a:rPr lang="ru-RU" dirty="0" smtClean="0"/>
            <a:t>Речь устная</a:t>
          </a:r>
        </a:p>
        <a:p>
          <a:r>
            <a:rPr lang="ru-RU" dirty="0" smtClean="0">
              <a:solidFill>
                <a:srgbClr val="0070C0"/>
              </a:solidFill>
            </a:rPr>
            <a:t>(говорю – слушаю)</a:t>
          </a:r>
        </a:p>
        <a:p>
          <a:r>
            <a:rPr lang="ru-RU" dirty="0" smtClean="0"/>
            <a:t>звуки речи</a:t>
          </a:r>
          <a:endParaRPr lang="ru-RU" dirty="0"/>
        </a:p>
      </dgm:t>
    </dgm:pt>
    <dgm:pt modelId="{C58243E7-7F0F-4E7C-A908-0AA5D55BC9AA}" type="parTrans" cxnId="{4722EF4D-1C76-48EC-9FE0-A5FAF1D5691E}">
      <dgm:prSet/>
      <dgm:spPr/>
      <dgm:t>
        <a:bodyPr/>
        <a:lstStyle/>
        <a:p>
          <a:endParaRPr lang="ru-RU" dirty="0"/>
        </a:p>
      </dgm:t>
    </dgm:pt>
    <dgm:pt modelId="{4A7C9D41-F9AF-48B3-96F1-8F970791B8F6}" type="sibTrans" cxnId="{4722EF4D-1C76-48EC-9FE0-A5FAF1D5691E}">
      <dgm:prSet/>
      <dgm:spPr/>
      <dgm:t>
        <a:bodyPr/>
        <a:lstStyle/>
        <a:p>
          <a:endParaRPr lang="ru-RU"/>
        </a:p>
      </dgm:t>
    </dgm:pt>
    <dgm:pt modelId="{34403E78-6060-4C75-ADA9-177BAC628060}">
      <dgm:prSet phldrT="[Текст]"/>
      <dgm:spPr/>
      <dgm:t>
        <a:bodyPr/>
        <a:lstStyle/>
        <a:p>
          <a:r>
            <a:rPr lang="ru-RU" dirty="0" smtClean="0"/>
            <a:t>Речь письменная</a:t>
          </a:r>
        </a:p>
        <a:p>
          <a:r>
            <a:rPr lang="ru-RU" dirty="0" smtClean="0">
              <a:solidFill>
                <a:srgbClr val="0070C0"/>
              </a:solidFill>
            </a:rPr>
            <a:t>(читаю – пишу)</a:t>
          </a:r>
        </a:p>
        <a:p>
          <a:r>
            <a:rPr lang="ru-RU" dirty="0" smtClean="0"/>
            <a:t>буквы</a:t>
          </a:r>
          <a:endParaRPr lang="ru-RU" dirty="0"/>
        </a:p>
      </dgm:t>
    </dgm:pt>
    <dgm:pt modelId="{A3CF56FC-66E8-4E7F-98B5-0F31E1DEB884}" type="parTrans" cxnId="{639DF5E2-6C43-4255-8DE7-C4504A7D1715}">
      <dgm:prSet/>
      <dgm:spPr/>
      <dgm:t>
        <a:bodyPr/>
        <a:lstStyle/>
        <a:p>
          <a:endParaRPr lang="ru-RU" dirty="0"/>
        </a:p>
      </dgm:t>
    </dgm:pt>
    <dgm:pt modelId="{E185EA44-5CC3-4BF0-9371-E303498727F8}" type="sibTrans" cxnId="{639DF5E2-6C43-4255-8DE7-C4504A7D1715}">
      <dgm:prSet/>
      <dgm:spPr/>
      <dgm:t>
        <a:bodyPr/>
        <a:lstStyle/>
        <a:p>
          <a:endParaRPr lang="ru-RU"/>
        </a:p>
      </dgm:t>
    </dgm:pt>
    <dgm:pt modelId="{17337BBC-64CB-4429-BB53-C368383D7395}" type="pres">
      <dgm:prSet presAssocID="{00D07060-91C1-48BD-AACF-2C9487F8C3D0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19067945-8FD6-4142-B713-A04506A1EA25}" type="pres">
      <dgm:prSet presAssocID="{0364D95E-022D-445B-812A-BC0DCC95DB79}" presName="hierRoot1" presStyleCnt="0">
        <dgm:presLayoutVars>
          <dgm:hierBranch val="init"/>
        </dgm:presLayoutVars>
      </dgm:prSet>
      <dgm:spPr/>
    </dgm:pt>
    <dgm:pt modelId="{6EABF6B3-A989-4730-8B8E-D18624908440}" type="pres">
      <dgm:prSet presAssocID="{0364D95E-022D-445B-812A-BC0DCC95DB79}" presName="rootComposite1" presStyleCnt="0"/>
      <dgm:spPr/>
    </dgm:pt>
    <dgm:pt modelId="{A1906184-E525-4623-B4B9-68E71494316E}" type="pres">
      <dgm:prSet presAssocID="{0364D95E-022D-445B-812A-BC0DCC95DB79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0251067-B19B-40FD-81A3-3F86A5A924BC}" type="pres">
      <dgm:prSet presAssocID="{0364D95E-022D-445B-812A-BC0DCC95DB79}" presName="rootConnector1" presStyleLbl="node1" presStyleIdx="0" presStyleCnt="0"/>
      <dgm:spPr/>
      <dgm:t>
        <a:bodyPr/>
        <a:lstStyle/>
        <a:p>
          <a:endParaRPr lang="ru-RU"/>
        </a:p>
      </dgm:t>
    </dgm:pt>
    <dgm:pt modelId="{3ADEF375-D557-4FFB-BBE1-D082ADD1C2C4}" type="pres">
      <dgm:prSet presAssocID="{0364D95E-022D-445B-812A-BC0DCC95DB79}" presName="hierChild2" presStyleCnt="0"/>
      <dgm:spPr/>
    </dgm:pt>
    <dgm:pt modelId="{60BD0F9C-91EB-4CCD-B8EB-FD821562BB4B}" type="pres">
      <dgm:prSet presAssocID="{C58243E7-7F0F-4E7C-A908-0AA5D55BC9AA}" presName="Name37" presStyleLbl="parChTrans1D2" presStyleIdx="0" presStyleCnt="2"/>
      <dgm:spPr/>
      <dgm:t>
        <a:bodyPr/>
        <a:lstStyle/>
        <a:p>
          <a:endParaRPr lang="ru-RU"/>
        </a:p>
      </dgm:t>
    </dgm:pt>
    <dgm:pt modelId="{7ECE2E0F-3366-4EB0-9D84-577C707FEA56}" type="pres">
      <dgm:prSet presAssocID="{3F9D0C28-6AA7-49D1-93C7-2D4EB0E6C7F7}" presName="hierRoot2" presStyleCnt="0">
        <dgm:presLayoutVars>
          <dgm:hierBranch val="init"/>
        </dgm:presLayoutVars>
      </dgm:prSet>
      <dgm:spPr/>
    </dgm:pt>
    <dgm:pt modelId="{D59BC69D-3952-40F2-BB43-EFF3CF396ED4}" type="pres">
      <dgm:prSet presAssocID="{3F9D0C28-6AA7-49D1-93C7-2D4EB0E6C7F7}" presName="rootComposite" presStyleCnt="0"/>
      <dgm:spPr/>
    </dgm:pt>
    <dgm:pt modelId="{A0C69B74-231A-4D1D-8A8D-0E1DE95CF56F}" type="pres">
      <dgm:prSet presAssocID="{3F9D0C28-6AA7-49D1-93C7-2D4EB0E6C7F7}" presName="rootText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224FEED-3859-4EF2-BF5F-A64F970AC4BE}" type="pres">
      <dgm:prSet presAssocID="{3F9D0C28-6AA7-49D1-93C7-2D4EB0E6C7F7}" presName="rootConnector" presStyleLbl="node2" presStyleIdx="0" presStyleCnt="2"/>
      <dgm:spPr/>
      <dgm:t>
        <a:bodyPr/>
        <a:lstStyle/>
        <a:p>
          <a:endParaRPr lang="ru-RU"/>
        </a:p>
      </dgm:t>
    </dgm:pt>
    <dgm:pt modelId="{1851A9AF-8C4C-4808-BD7D-60543A43FA43}" type="pres">
      <dgm:prSet presAssocID="{3F9D0C28-6AA7-49D1-93C7-2D4EB0E6C7F7}" presName="hierChild4" presStyleCnt="0"/>
      <dgm:spPr/>
    </dgm:pt>
    <dgm:pt modelId="{952C47C3-B274-4120-9884-5CB46927B2FE}" type="pres">
      <dgm:prSet presAssocID="{3F9D0C28-6AA7-49D1-93C7-2D4EB0E6C7F7}" presName="hierChild5" presStyleCnt="0"/>
      <dgm:spPr/>
    </dgm:pt>
    <dgm:pt modelId="{26B0CF1F-987A-475B-A6B8-5ACDD988CD1D}" type="pres">
      <dgm:prSet presAssocID="{A3CF56FC-66E8-4E7F-98B5-0F31E1DEB884}" presName="Name37" presStyleLbl="parChTrans1D2" presStyleIdx="1" presStyleCnt="2"/>
      <dgm:spPr/>
      <dgm:t>
        <a:bodyPr/>
        <a:lstStyle/>
        <a:p>
          <a:endParaRPr lang="ru-RU"/>
        </a:p>
      </dgm:t>
    </dgm:pt>
    <dgm:pt modelId="{C9D3C704-BB28-4B8F-898A-131629FF5C4A}" type="pres">
      <dgm:prSet presAssocID="{34403E78-6060-4C75-ADA9-177BAC628060}" presName="hierRoot2" presStyleCnt="0">
        <dgm:presLayoutVars>
          <dgm:hierBranch val="init"/>
        </dgm:presLayoutVars>
      </dgm:prSet>
      <dgm:spPr/>
    </dgm:pt>
    <dgm:pt modelId="{FD8A3CD5-6873-4EFB-8E4F-96F342F66F8B}" type="pres">
      <dgm:prSet presAssocID="{34403E78-6060-4C75-ADA9-177BAC628060}" presName="rootComposite" presStyleCnt="0"/>
      <dgm:spPr/>
    </dgm:pt>
    <dgm:pt modelId="{20D320DF-3E3A-4058-A7BF-EFDB03BB1D9E}" type="pres">
      <dgm:prSet presAssocID="{34403E78-6060-4C75-ADA9-177BAC628060}" presName="rootText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E3E9F60-352E-4C71-B069-7D1E5C1BB574}" type="pres">
      <dgm:prSet presAssocID="{34403E78-6060-4C75-ADA9-177BAC628060}" presName="rootConnector" presStyleLbl="node2" presStyleIdx="1" presStyleCnt="2"/>
      <dgm:spPr/>
      <dgm:t>
        <a:bodyPr/>
        <a:lstStyle/>
        <a:p>
          <a:endParaRPr lang="ru-RU"/>
        </a:p>
      </dgm:t>
    </dgm:pt>
    <dgm:pt modelId="{C7AE2C67-E0E9-4B96-94AE-B392EA9D2887}" type="pres">
      <dgm:prSet presAssocID="{34403E78-6060-4C75-ADA9-177BAC628060}" presName="hierChild4" presStyleCnt="0"/>
      <dgm:spPr/>
    </dgm:pt>
    <dgm:pt modelId="{ACAC6B31-2E10-427E-9685-96BEED7BE221}" type="pres">
      <dgm:prSet presAssocID="{34403E78-6060-4C75-ADA9-177BAC628060}" presName="hierChild5" presStyleCnt="0"/>
      <dgm:spPr/>
    </dgm:pt>
    <dgm:pt modelId="{2C7E3B3F-AE9C-4678-AB8A-39037C6EE40E}" type="pres">
      <dgm:prSet presAssocID="{0364D95E-022D-445B-812A-BC0DCC95DB79}" presName="hierChild3" presStyleCnt="0"/>
      <dgm:spPr/>
    </dgm:pt>
  </dgm:ptLst>
  <dgm:cxnLst>
    <dgm:cxn modelId="{6D4574FA-D8A6-4E13-9998-7344C41CA75A}" type="presOf" srcId="{A3CF56FC-66E8-4E7F-98B5-0F31E1DEB884}" destId="{26B0CF1F-987A-475B-A6B8-5ACDD988CD1D}" srcOrd="0" destOrd="0" presId="urn:microsoft.com/office/officeart/2005/8/layout/orgChart1"/>
    <dgm:cxn modelId="{491AA03B-DFD4-4FA6-AF89-D28CFB49B6AA}" type="presOf" srcId="{0364D95E-022D-445B-812A-BC0DCC95DB79}" destId="{70251067-B19B-40FD-81A3-3F86A5A924BC}" srcOrd="1" destOrd="0" presId="urn:microsoft.com/office/officeart/2005/8/layout/orgChart1"/>
    <dgm:cxn modelId="{B8E08F37-463A-493A-BA2F-CA8C8C098B5C}" type="presOf" srcId="{34403E78-6060-4C75-ADA9-177BAC628060}" destId="{8E3E9F60-352E-4C71-B069-7D1E5C1BB574}" srcOrd="1" destOrd="0" presId="urn:microsoft.com/office/officeart/2005/8/layout/orgChart1"/>
    <dgm:cxn modelId="{DCAF9F51-2986-4A36-8B62-137F2A8A19EB}" type="presOf" srcId="{3F9D0C28-6AA7-49D1-93C7-2D4EB0E6C7F7}" destId="{A0C69B74-231A-4D1D-8A8D-0E1DE95CF56F}" srcOrd="0" destOrd="0" presId="urn:microsoft.com/office/officeart/2005/8/layout/orgChart1"/>
    <dgm:cxn modelId="{15A6A88D-8E10-445B-A136-9DEE72ABDBAC}" srcId="{00D07060-91C1-48BD-AACF-2C9487F8C3D0}" destId="{0364D95E-022D-445B-812A-BC0DCC95DB79}" srcOrd="0" destOrd="0" parTransId="{FCB624B6-FE5A-4D67-99B9-9C3C777A23AA}" sibTransId="{691EEFEC-6AD5-4507-9984-64D5EF7E9945}"/>
    <dgm:cxn modelId="{7BFD20C2-A330-4633-8458-0096689B887C}" type="presOf" srcId="{C58243E7-7F0F-4E7C-A908-0AA5D55BC9AA}" destId="{60BD0F9C-91EB-4CCD-B8EB-FD821562BB4B}" srcOrd="0" destOrd="0" presId="urn:microsoft.com/office/officeart/2005/8/layout/orgChart1"/>
    <dgm:cxn modelId="{C88FE129-2AF7-4EAA-91FD-DAE89D03930B}" type="presOf" srcId="{0364D95E-022D-445B-812A-BC0DCC95DB79}" destId="{A1906184-E525-4623-B4B9-68E71494316E}" srcOrd="0" destOrd="0" presId="urn:microsoft.com/office/officeart/2005/8/layout/orgChart1"/>
    <dgm:cxn modelId="{4722EF4D-1C76-48EC-9FE0-A5FAF1D5691E}" srcId="{0364D95E-022D-445B-812A-BC0DCC95DB79}" destId="{3F9D0C28-6AA7-49D1-93C7-2D4EB0E6C7F7}" srcOrd="0" destOrd="0" parTransId="{C58243E7-7F0F-4E7C-A908-0AA5D55BC9AA}" sibTransId="{4A7C9D41-F9AF-48B3-96F1-8F970791B8F6}"/>
    <dgm:cxn modelId="{639DF5E2-6C43-4255-8DE7-C4504A7D1715}" srcId="{0364D95E-022D-445B-812A-BC0DCC95DB79}" destId="{34403E78-6060-4C75-ADA9-177BAC628060}" srcOrd="1" destOrd="0" parTransId="{A3CF56FC-66E8-4E7F-98B5-0F31E1DEB884}" sibTransId="{E185EA44-5CC3-4BF0-9371-E303498727F8}"/>
    <dgm:cxn modelId="{0C2E1EC1-240A-4059-9979-E8CC250521C4}" type="presOf" srcId="{3F9D0C28-6AA7-49D1-93C7-2D4EB0E6C7F7}" destId="{A224FEED-3859-4EF2-BF5F-A64F970AC4BE}" srcOrd="1" destOrd="0" presId="urn:microsoft.com/office/officeart/2005/8/layout/orgChart1"/>
    <dgm:cxn modelId="{07585E6C-D446-48F2-BB38-E1F87EBDE904}" type="presOf" srcId="{00D07060-91C1-48BD-AACF-2C9487F8C3D0}" destId="{17337BBC-64CB-4429-BB53-C368383D7395}" srcOrd="0" destOrd="0" presId="urn:microsoft.com/office/officeart/2005/8/layout/orgChart1"/>
    <dgm:cxn modelId="{B0746DC3-B3E1-4439-A8AE-94E1531F44D1}" type="presOf" srcId="{34403E78-6060-4C75-ADA9-177BAC628060}" destId="{20D320DF-3E3A-4058-A7BF-EFDB03BB1D9E}" srcOrd="0" destOrd="0" presId="urn:microsoft.com/office/officeart/2005/8/layout/orgChart1"/>
    <dgm:cxn modelId="{FC9DC53A-8527-4403-9172-E4E482806F49}" type="presParOf" srcId="{17337BBC-64CB-4429-BB53-C368383D7395}" destId="{19067945-8FD6-4142-B713-A04506A1EA25}" srcOrd="0" destOrd="0" presId="urn:microsoft.com/office/officeart/2005/8/layout/orgChart1"/>
    <dgm:cxn modelId="{50982231-CBF0-404B-B8EE-A367077F978D}" type="presParOf" srcId="{19067945-8FD6-4142-B713-A04506A1EA25}" destId="{6EABF6B3-A989-4730-8B8E-D18624908440}" srcOrd="0" destOrd="0" presId="urn:microsoft.com/office/officeart/2005/8/layout/orgChart1"/>
    <dgm:cxn modelId="{76CCFA8C-B499-4AA0-BF54-098A978E0B4C}" type="presParOf" srcId="{6EABF6B3-A989-4730-8B8E-D18624908440}" destId="{A1906184-E525-4623-B4B9-68E71494316E}" srcOrd="0" destOrd="0" presId="urn:microsoft.com/office/officeart/2005/8/layout/orgChart1"/>
    <dgm:cxn modelId="{D7E7E320-B749-466A-A45E-F294C726E22B}" type="presParOf" srcId="{6EABF6B3-A989-4730-8B8E-D18624908440}" destId="{70251067-B19B-40FD-81A3-3F86A5A924BC}" srcOrd="1" destOrd="0" presId="urn:microsoft.com/office/officeart/2005/8/layout/orgChart1"/>
    <dgm:cxn modelId="{65A66E3B-F6BB-4BF9-A681-6526F0011533}" type="presParOf" srcId="{19067945-8FD6-4142-B713-A04506A1EA25}" destId="{3ADEF375-D557-4FFB-BBE1-D082ADD1C2C4}" srcOrd="1" destOrd="0" presId="urn:microsoft.com/office/officeart/2005/8/layout/orgChart1"/>
    <dgm:cxn modelId="{80EF34F2-B478-4C45-B28B-7BFBB638722A}" type="presParOf" srcId="{3ADEF375-D557-4FFB-BBE1-D082ADD1C2C4}" destId="{60BD0F9C-91EB-4CCD-B8EB-FD821562BB4B}" srcOrd="0" destOrd="0" presId="urn:microsoft.com/office/officeart/2005/8/layout/orgChart1"/>
    <dgm:cxn modelId="{F0655DC0-6DAE-4C8F-9C06-803846985BC6}" type="presParOf" srcId="{3ADEF375-D557-4FFB-BBE1-D082ADD1C2C4}" destId="{7ECE2E0F-3366-4EB0-9D84-577C707FEA56}" srcOrd="1" destOrd="0" presId="urn:microsoft.com/office/officeart/2005/8/layout/orgChart1"/>
    <dgm:cxn modelId="{F0B0E7BF-94C3-44D7-A2F5-C47FBB6FD237}" type="presParOf" srcId="{7ECE2E0F-3366-4EB0-9D84-577C707FEA56}" destId="{D59BC69D-3952-40F2-BB43-EFF3CF396ED4}" srcOrd="0" destOrd="0" presId="urn:microsoft.com/office/officeart/2005/8/layout/orgChart1"/>
    <dgm:cxn modelId="{11BBDAE0-44DA-45FF-8ACB-41C918F91E73}" type="presParOf" srcId="{D59BC69D-3952-40F2-BB43-EFF3CF396ED4}" destId="{A0C69B74-231A-4D1D-8A8D-0E1DE95CF56F}" srcOrd="0" destOrd="0" presId="urn:microsoft.com/office/officeart/2005/8/layout/orgChart1"/>
    <dgm:cxn modelId="{5BBB7A28-D1F0-46BB-86E1-D53467D53787}" type="presParOf" srcId="{D59BC69D-3952-40F2-BB43-EFF3CF396ED4}" destId="{A224FEED-3859-4EF2-BF5F-A64F970AC4BE}" srcOrd="1" destOrd="0" presId="urn:microsoft.com/office/officeart/2005/8/layout/orgChart1"/>
    <dgm:cxn modelId="{992E92B4-DAE0-4826-A30D-46F5CC5E1742}" type="presParOf" srcId="{7ECE2E0F-3366-4EB0-9D84-577C707FEA56}" destId="{1851A9AF-8C4C-4808-BD7D-60543A43FA43}" srcOrd="1" destOrd="0" presId="urn:microsoft.com/office/officeart/2005/8/layout/orgChart1"/>
    <dgm:cxn modelId="{1CE557E5-94AB-4076-BB05-931AFEC9313A}" type="presParOf" srcId="{7ECE2E0F-3366-4EB0-9D84-577C707FEA56}" destId="{952C47C3-B274-4120-9884-5CB46927B2FE}" srcOrd="2" destOrd="0" presId="urn:microsoft.com/office/officeart/2005/8/layout/orgChart1"/>
    <dgm:cxn modelId="{CCBD8056-C0CF-4E1F-8016-5E5F45344946}" type="presParOf" srcId="{3ADEF375-D557-4FFB-BBE1-D082ADD1C2C4}" destId="{26B0CF1F-987A-475B-A6B8-5ACDD988CD1D}" srcOrd="2" destOrd="0" presId="urn:microsoft.com/office/officeart/2005/8/layout/orgChart1"/>
    <dgm:cxn modelId="{59C005DE-34E4-4DAC-8D8E-2163AAAE7432}" type="presParOf" srcId="{3ADEF375-D557-4FFB-BBE1-D082ADD1C2C4}" destId="{C9D3C704-BB28-4B8F-898A-131629FF5C4A}" srcOrd="3" destOrd="0" presId="urn:microsoft.com/office/officeart/2005/8/layout/orgChart1"/>
    <dgm:cxn modelId="{ED446FEB-B7BD-445C-AB49-90DB322888A9}" type="presParOf" srcId="{C9D3C704-BB28-4B8F-898A-131629FF5C4A}" destId="{FD8A3CD5-6873-4EFB-8E4F-96F342F66F8B}" srcOrd="0" destOrd="0" presId="urn:microsoft.com/office/officeart/2005/8/layout/orgChart1"/>
    <dgm:cxn modelId="{E0F59AE6-7900-4D5B-8C28-C38B6AC92018}" type="presParOf" srcId="{FD8A3CD5-6873-4EFB-8E4F-96F342F66F8B}" destId="{20D320DF-3E3A-4058-A7BF-EFDB03BB1D9E}" srcOrd="0" destOrd="0" presId="urn:microsoft.com/office/officeart/2005/8/layout/orgChart1"/>
    <dgm:cxn modelId="{530631CB-8FC4-4BD9-B518-2970B785F1E8}" type="presParOf" srcId="{FD8A3CD5-6873-4EFB-8E4F-96F342F66F8B}" destId="{8E3E9F60-352E-4C71-B069-7D1E5C1BB574}" srcOrd="1" destOrd="0" presId="urn:microsoft.com/office/officeart/2005/8/layout/orgChart1"/>
    <dgm:cxn modelId="{2B717727-CDF1-4846-8414-872E5A0A23FB}" type="presParOf" srcId="{C9D3C704-BB28-4B8F-898A-131629FF5C4A}" destId="{C7AE2C67-E0E9-4B96-94AE-B392EA9D2887}" srcOrd="1" destOrd="0" presId="urn:microsoft.com/office/officeart/2005/8/layout/orgChart1"/>
    <dgm:cxn modelId="{F80D1CD2-E4AB-4487-A5ED-3E7B9DDEF036}" type="presParOf" srcId="{C9D3C704-BB28-4B8F-898A-131629FF5C4A}" destId="{ACAC6B31-2E10-427E-9685-96BEED7BE221}" srcOrd="2" destOrd="0" presId="urn:microsoft.com/office/officeart/2005/8/layout/orgChart1"/>
    <dgm:cxn modelId="{E75C7F20-43E9-4EDC-9DA6-C67D19EE1432}" type="presParOf" srcId="{19067945-8FD6-4142-B713-A04506A1EA25}" destId="{2C7E3B3F-AE9C-4678-AB8A-39037C6EE40E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6B0CF1F-987A-475B-A6B8-5ACDD988CD1D}">
      <dsp:nvSpPr>
        <dsp:cNvPr id="0" name=""/>
        <dsp:cNvSpPr/>
      </dsp:nvSpPr>
      <dsp:spPr>
        <a:xfrm>
          <a:off x="2821801" y="1513961"/>
          <a:ext cx="1544223" cy="53601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68005"/>
              </a:lnTo>
              <a:lnTo>
                <a:pt x="1544223" y="268005"/>
              </a:lnTo>
              <a:lnTo>
                <a:pt x="1544223" y="536011"/>
              </a:lnTo>
            </a:path>
          </a:pathLst>
        </a:custGeom>
        <a:noFill/>
        <a:ln w="25400" cap="flat" cmpd="sng" algn="ctr">
          <a:solidFill>
            <a:schemeClr val="accent4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0BD0F9C-91EB-4CCD-B8EB-FD821562BB4B}">
      <dsp:nvSpPr>
        <dsp:cNvPr id="0" name=""/>
        <dsp:cNvSpPr/>
      </dsp:nvSpPr>
      <dsp:spPr>
        <a:xfrm>
          <a:off x="1277577" y="1513961"/>
          <a:ext cx="1544223" cy="536011"/>
        </a:xfrm>
        <a:custGeom>
          <a:avLst/>
          <a:gdLst/>
          <a:ahLst/>
          <a:cxnLst/>
          <a:rect l="0" t="0" r="0" b="0"/>
          <a:pathLst>
            <a:path>
              <a:moveTo>
                <a:pt x="1544223" y="0"/>
              </a:moveTo>
              <a:lnTo>
                <a:pt x="1544223" y="268005"/>
              </a:lnTo>
              <a:lnTo>
                <a:pt x="0" y="268005"/>
              </a:lnTo>
              <a:lnTo>
                <a:pt x="0" y="536011"/>
              </a:lnTo>
            </a:path>
          </a:pathLst>
        </a:custGeom>
        <a:noFill/>
        <a:ln w="25400" cap="flat" cmpd="sng" algn="ctr">
          <a:solidFill>
            <a:schemeClr val="accent4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906184-E525-4623-B4B9-68E71494316E}">
      <dsp:nvSpPr>
        <dsp:cNvPr id="0" name=""/>
        <dsp:cNvSpPr/>
      </dsp:nvSpPr>
      <dsp:spPr>
        <a:xfrm>
          <a:off x="1545583" y="237743"/>
          <a:ext cx="2552434" cy="127621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4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b="1" kern="1200" dirty="0" smtClean="0">
              <a:solidFill>
                <a:schemeClr val="accent3">
                  <a:lumMod val="25000"/>
                </a:schemeClr>
              </a:solidFill>
            </a:rPr>
            <a:t>Речь</a:t>
          </a:r>
          <a:endParaRPr lang="ru-RU" sz="4000" b="1" kern="1200" dirty="0">
            <a:solidFill>
              <a:schemeClr val="accent3">
                <a:lumMod val="25000"/>
              </a:schemeClr>
            </a:solidFill>
          </a:endParaRPr>
        </a:p>
      </dsp:txBody>
      <dsp:txXfrm>
        <a:off x="1545583" y="237743"/>
        <a:ext cx="2552434" cy="1276217"/>
      </dsp:txXfrm>
    </dsp:sp>
    <dsp:sp modelId="{A0C69B74-231A-4D1D-8A8D-0E1DE95CF56F}">
      <dsp:nvSpPr>
        <dsp:cNvPr id="0" name=""/>
        <dsp:cNvSpPr/>
      </dsp:nvSpPr>
      <dsp:spPr>
        <a:xfrm>
          <a:off x="1360" y="2049972"/>
          <a:ext cx="2552434" cy="127621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4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Речь устная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>
              <a:solidFill>
                <a:srgbClr val="0070C0"/>
              </a:solidFill>
            </a:rPr>
            <a:t>(говорю – слушаю)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звуки речи</a:t>
          </a:r>
          <a:endParaRPr lang="ru-RU" sz="2200" kern="1200" dirty="0"/>
        </a:p>
      </dsp:txBody>
      <dsp:txXfrm>
        <a:off x="1360" y="2049972"/>
        <a:ext cx="2552434" cy="1276217"/>
      </dsp:txXfrm>
    </dsp:sp>
    <dsp:sp modelId="{20D320DF-3E3A-4058-A7BF-EFDB03BB1D9E}">
      <dsp:nvSpPr>
        <dsp:cNvPr id="0" name=""/>
        <dsp:cNvSpPr/>
      </dsp:nvSpPr>
      <dsp:spPr>
        <a:xfrm>
          <a:off x="3089806" y="2049972"/>
          <a:ext cx="2552434" cy="127621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4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Речь письменная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>
              <a:solidFill>
                <a:srgbClr val="0070C0"/>
              </a:solidFill>
            </a:rPr>
            <a:t>(читаю – пишу)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буквы</a:t>
          </a:r>
          <a:endParaRPr lang="ru-RU" sz="2200" kern="1200" dirty="0"/>
        </a:p>
      </dsp:txBody>
      <dsp:txXfrm>
        <a:off x="3089806" y="2049972"/>
        <a:ext cx="2552434" cy="127621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1D6-D5BC-46C1-88C2-258A1BA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807-FBA6-4E7C-A606-40A9EB03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BC-61D8-40EB-AFE9-0DB9DCBA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81A-11BC-4453-A5F1-72DDCC2A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10DA-15FE-485C-9B7F-DADF4E30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F3AF-CBD3-4B37-81EE-3C0FA0E6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B23-EF1E-42F7-8759-FA5012F4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7C6C-6DDC-4C82-AA31-FD426DB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6246-B34A-4A63-92F7-626F37E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811-18D3-4B83-96EE-071FD785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7D5-CA32-465D-A399-380F29D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771-CBAD-49F8-ACBA-43495A3B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256B-383E-45A8-B706-0110B79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A81-9F0A-438E-B88C-957725C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2CA-250F-453D-9364-B8A811B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D040-5A86-4967-ABAC-74B02F95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997-AB9B-4041-B8B8-8B2C323A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1ED-478B-43D4-86DC-46A9105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4D6-33DB-45DC-8E22-38D8E205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BA1-9166-418D-AE4A-F17FDF3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8DF-3CCF-4794-9519-BB5441E1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FCF-3A10-4B98-B38A-6277879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772-29E7-45E0-BD04-472BD45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BFF-F8BC-47F4-B764-061F1AD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69A23A-9372-4C2F-9F90-BB94AA8B6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CAE3B4-BDA5-471D-A7BC-BB66CED81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35719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Adventure"/>
              </a:rPr>
              <a:t>Тренажер по русскому языку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Adventure"/>
              </a:rPr>
              <a:t>1 клас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429160" y="5143680"/>
            <a:ext cx="2899800" cy="132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Презентация к урокам рус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в 1классе МОУ «ООШ №2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г. Энгельса  Сарат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Федосеевой Любови Никола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229240" cy="1142640"/>
          </a:xfrm>
          <a:prstGeom prst="rect">
            <a:avLst/>
          </a:prstGeom>
          <a:solidFill>
            <a:srgbClr val="00b050">
              <a:alpha val="38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спомни правила переноса. Найди в каждом столбике «лишнее» слово. Провер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6286680" y="385776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7"/>
          <p:cNvSpPr/>
          <p:nvPr/>
        </p:nvSpPr>
        <p:spPr>
          <a:xfrm>
            <a:off x="6286680" y="30718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ша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6286680" y="23572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9"/>
          <p:cNvSpPr/>
          <p:nvPr/>
        </p:nvSpPr>
        <p:spPr>
          <a:xfrm>
            <a:off x="3714840" y="385776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щё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3714840" y="30718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г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1"/>
          <p:cNvSpPr/>
          <p:nvPr/>
        </p:nvSpPr>
        <p:spPr>
          <a:xfrm>
            <a:off x="3714840" y="23572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1071360" y="385776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ё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1071360" y="30718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1071360" y="228600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385776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643880" y="5929200"/>
            <a:ext cx="85680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286400" cy="1142640"/>
          </a:xfrm>
          <a:prstGeom prst="rect">
            <a:avLst/>
          </a:prstGeom>
          <a:solidFill>
            <a:srgbClr val="00b050">
              <a:alpha val="38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ыпиши только те слова, которые можно перенести. Провер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9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Оля, Ирина, Ира, Пётр, Петя, Та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385776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643880" y="5929200"/>
            <a:ext cx="85680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7" name="Скругленный прямоугольник 17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Ирина, Пет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286400" cy="1142640"/>
          </a:xfrm>
          <a:prstGeom prst="rect">
            <a:avLst/>
          </a:prstGeom>
          <a:solidFill>
            <a:srgbClr val="00b050">
              <a:alpha val="38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ыпиши только те слова, которые можно перенести. Провер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9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Оля, Ирина, Ира, Пётр, Петя, Та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5"/>
          <p:cNvSpPr/>
          <p:nvPr/>
        </p:nvSpPr>
        <p:spPr>
          <a:xfrm>
            <a:off x="385776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7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Ирина, Пет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400"/>
            </a:br>
            <a:r>
              <a:rPr b="0" i="1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Таблица 4"/>
          <p:cNvGraphicFramePr/>
          <p:nvPr/>
        </p:nvGraphicFramePr>
        <p:xfrm>
          <a:off x="1000080" y="1571760"/>
          <a:ext cx="7214760" cy="1714320"/>
        </p:xfrm>
        <a:graphic>
          <a:graphicData uri="http://schemas.openxmlformats.org/drawingml/2006/table">
            <a:tbl>
              <a:tblPr/>
              <a:tblGrid>
                <a:gridCol w="173160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1154160"/>
              </a:tblGrid>
              <a:tr h="42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11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Ударные, безуда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Звон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Глух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Скругленный прямоугольник 6"/>
          <p:cNvSpPr/>
          <p:nvPr/>
        </p:nvSpPr>
        <p:spPr>
          <a:xfrm>
            <a:off x="1071360" y="3643200"/>
            <a:ext cx="7214760" cy="3567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й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ч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щ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б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г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д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з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к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л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н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п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р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с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т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ф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7"/>
          <p:cNvSpPr/>
          <p:nvPr/>
        </p:nvSpPr>
        <p:spPr>
          <a:xfrm>
            <a:off x="1071360" y="4286160"/>
            <a:ext cx="721476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solidFill>
              <a:srgbClr val="0a0ab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357280" y="3357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Согласные мя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2428920" y="400068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Согласные твер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0"/>
          <p:cNvSpPr/>
          <p:nvPr/>
        </p:nvSpPr>
        <p:spPr>
          <a:xfrm>
            <a:off x="3286080" y="1143000"/>
            <a:ext cx="2999880" cy="428400"/>
          </a:xfrm>
          <a:prstGeom prst="roundRect">
            <a:avLst>
              <a:gd name="adj" fmla="val 16667"/>
            </a:avLst>
          </a:prstGeom>
          <a:solidFill>
            <a:srgbClr val="c00000">
              <a:alpha val="43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Arial"/>
              </a:rPr>
              <a:t>Звуки бук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Выпиши слова, в которых есть только буквы твердых согласных звуков. Каким одним словом можно заменить слова каждой строчки?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"/>
          <p:cNvSpPr/>
          <p:nvPr/>
        </p:nvSpPr>
        <p:spPr>
          <a:xfrm>
            <a:off x="2428920" y="385776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Чашка, ложка, нож, тарелк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428920" y="471492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Стол, шкаф, диван, кресло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428920" y="385776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Ложка, нож – пос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2428920" y="557208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Хурма, слива, груша, перс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7"/>
          <p:cNvSpPr/>
          <p:nvPr/>
        </p:nvSpPr>
        <p:spPr>
          <a:xfrm>
            <a:off x="2428920" y="471492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Стол, шкаф - меб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8"/>
          <p:cNvSpPr/>
          <p:nvPr/>
        </p:nvSpPr>
        <p:spPr>
          <a:xfrm>
            <a:off x="2428920" y="557208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Хурма, груша - 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9"/>
          <p:cNvSpPr/>
          <p:nvPr/>
        </p:nvSpPr>
        <p:spPr>
          <a:xfrm>
            <a:off x="7572240" y="550080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929720" y="62150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тгадай загадку. Запиши отгадку. </a:t>
            </a:r>
            <a:br>
              <a:rPr sz="2400"/>
            </a:b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делай схему слова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0040" y="3571920"/>
            <a:ext cx="5143320" cy="291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Трав копытами касаясь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Ходит по лесу красавец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Ходит смело и легко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Рога раскинув широко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g0112679.WMF"/>
          <p:cNvPicPr/>
          <p:nvPr/>
        </p:nvPicPr>
        <p:blipFill>
          <a:blip r:embed="rId1"/>
          <a:stretch/>
        </p:blipFill>
        <p:spPr>
          <a:xfrm>
            <a:off x="5143680" y="3500280"/>
            <a:ext cx="1456200" cy="24285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6715080" y="3643200"/>
            <a:ext cx="199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Таблица 6"/>
          <p:cNvGraphicFramePr/>
          <p:nvPr/>
        </p:nvGraphicFramePr>
        <p:xfrm>
          <a:off x="6643800" y="4286160"/>
          <a:ext cx="1833120" cy="370800"/>
        </p:xfrm>
        <a:graphic>
          <a:graphicData uri="http://schemas.openxmlformats.org/drawingml/2006/table">
            <a:tbl>
              <a:tblPr/>
              <a:tblGrid>
                <a:gridCol w="366480"/>
                <a:gridCol w="366480"/>
                <a:gridCol w="366480"/>
                <a:gridCol w="366480"/>
                <a:gridCol w="3664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3" name="Прямая соединительная линия 8"/>
          <p:cNvCxnSpPr/>
          <p:nvPr/>
        </p:nvCxnSpPr>
        <p:spPr>
          <a:xfrm>
            <a:off x="7000560" y="4143240"/>
            <a:ext cx="360" cy="71460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cxnSp>
        <p:nvCxnSpPr>
          <p:cNvPr id="164" name="Прямая соединительная линия 11"/>
          <p:cNvCxnSpPr/>
          <p:nvPr/>
        </p:nvCxnSpPr>
        <p:spPr>
          <a:xfrm flipH="1">
            <a:off x="7572240" y="4071600"/>
            <a:ext cx="71640" cy="14328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sp>
        <p:nvSpPr>
          <p:cNvPr id="165" name="Скругленный прямоугольник 15"/>
          <p:cNvSpPr/>
          <p:nvPr/>
        </p:nvSpPr>
        <p:spPr>
          <a:xfrm>
            <a:off x="6715080" y="50720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286760" y="600084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тгадай загадку. Запиши отгадку. </a:t>
            </a:r>
            <a:br>
              <a:rPr sz="2400"/>
            </a:b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делай схему слова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3946680"/>
            <a:ext cx="5143320" cy="291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В золотой клубочек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прятался дубоч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072120" y="3357720"/>
            <a:ext cx="199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ЖЁЛ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Таблица 6"/>
          <p:cNvGraphicFramePr/>
          <p:nvPr/>
        </p:nvGraphicFramePr>
        <p:xfrm>
          <a:off x="5643720" y="4143240"/>
          <a:ext cx="2785680" cy="513360"/>
        </p:xfrm>
        <a:graphic>
          <a:graphicData uri="http://schemas.openxmlformats.org/drawingml/2006/table">
            <a:tbl>
              <a:tblPr/>
              <a:tblGrid>
                <a:gridCol w="464040"/>
                <a:gridCol w="464040"/>
                <a:gridCol w="464040"/>
                <a:gridCol w="464040"/>
                <a:gridCol w="464040"/>
                <a:gridCol w="464040"/>
              </a:tblGrid>
              <a:tr h="51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71" name="Прямая соединительная линия 11"/>
          <p:cNvCxnSpPr/>
          <p:nvPr/>
        </p:nvCxnSpPr>
        <p:spPr>
          <a:xfrm flipH="1">
            <a:off x="6429240" y="3929040"/>
            <a:ext cx="71640" cy="14292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cxnSp>
        <p:nvCxnSpPr>
          <p:cNvPr id="172" name="Прямая соединительная линия 8"/>
          <p:cNvCxnSpPr/>
          <p:nvPr/>
        </p:nvCxnSpPr>
        <p:spPr>
          <a:xfrm>
            <a:off x="6572160" y="4071600"/>
            <a:ext cx="360" cy="71496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pic>
        <p:nvPicPr>
          <p:cNvPr id="173" name="Picture 5" descr="C:\Documents and Settings\Admin\Local Settings\Temporary Internet Files\Content.IE5\I0YEGV0I\MC900241677[1].wmf"/>
          <p:cNvPicPr/>
          <p:nvPr/>
        </p:nvPicPr>
        <p:blipFill>
          <a:blip r:embed="rId1"/>
          <a:stretch/>
        </p:blipFill>
        <p:spPr>
          <a:xfrm>
            <a:off x="4143240" y="4714920"/>
            <a:ext cx="1856880" cy="1859760"/>
          </a:xfrm>
          <a:prstGeom prst="rect">
            <a:avLst/>
          </a:prstGeom>
          <a:ln w="0">
            <a:noFill/>
          </a:ln>
        </p:spPr>
      </p:pic>
      <p:sp>
        <p:nvSpPr>
          <p:cNvPr id="174" name="Скругленный прямоугольник 17"/>
          <p:cNvSpPr/>
          <p:nvPr/>
        </p:nvSpPr>
        <p:spPr>
          <a:xfrm>
            <a:off x="671508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7286760" y="5857920"/>
            <a:ext cx="71388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тгадай загадку. Запиши отгадку. </a:t>
            </a:r>
            <a:br>
              <a:rPr sz="2400"/>
            </a:b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делай схему слова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3946680"/>
            <a:ext cx="4500360" cy="291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Шелестя, шурша травой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Проползает кнут живой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Вот он встал и зашипел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Подходи, кто очень смел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6072120" y="3357720"/>
            <a:ext cx="199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Таблица 6"/>
          <p:cNvGraphicFramePr/>
          <p:nvPr/>
        </p:nvGraphicFramePr>
        <p:xfrm>
          <a:off x="5643720" y="4071960"/>
          <a:ext cx="2071440" cy="585000"/>
        </p:xfrm>
        <a:graphic>
          <a:graphicData uri="http://schemas.openxmlformats.org/drawingml/2006/table">
            <a:tbl>
              <a:tblPr/>
              <a:tblGrid>
                <a:gridCol w="517680"/>
                <a:gridCol w="517680"/>
                <a:gridCol w="517680"/>
                <a:gridCol w="517680"/>
              </a:tblGrid>
              <a:tr h="58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0" name="Прямая соединительная линия 11"/>
          <p:cNvCxnSpPr/>
          <p:nvPr/>
        </p:nvCxnSpPr>
        <p:spPr>
          <a:xfrm flipH="1">
            <a:off x="7643520" y="3786120"/>
            <a:ext cx="72000" cy="14328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sp>
        <p:nvSpPr>
          <p:cNvPr id="181" name="Скругленный прямоугольник 17"/>
          <p:cNvSpPr/>
          <p:nvPr/>
        </p:nvSpPr>
        <p:spPr>
          <a:xfrm>
            <a:off x="671508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g0100406.WMF"/>
          <p:cNvPicPr/>
          <p:nvPr/>
        </p:nvPicPr>
        <p:blipFill>
          <a:blip r:embed="rId1"/>
          <a:stretch/>
        </p:blipFill>
        <p:spPr>
          <a:xfrm>
            <a:off x="4643280" y="3500280"/>
            <a:ext cx="1054800" cy="20714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ый треугольник 12"/>
          <p:cNvSpPr/>
          <p:nvPr/>
        </p:nvSpPr>
        <p:spPr>
          <a:xfrm rot="5400000">
            <a:off x="7179480" y="4107600"/>
            <a:ext cx="571320" cy="499680"/>
          </a:xfrm>
          <a:prstGeom prst="rtTriangle">
            <a:avLst/>
          </a:prstGeom>
          <a:solidFill>
            <a:srgbClr val="00b050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Прямоугольный треугольник 13"/>
          <p:cNvSpPr/>
          <p:nvPr/>
        </p:nvSpPr>
        <p:spPr>
          <a:xfrm rot="16200000">
            <a:off x="7179120" y="4107600"/>
            <a:ext cx="571320" cy="499680"/>
          </a:xfrm>
          <a:prstGeom prst="rtTriangl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85" name="Прямая соединительная линия 8"/>
          <p:cNvCxnSpPr/>
          <p:nvPr/>
        </p:nvCxnSpPr>
        <p:spPr>
          <a:xfrm>
            <a:off x="7215120" y="4000320"/>
            <a:ext cx="360" cy="78624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31"/>
          <p:cNvSpPr/>
          <p:nvPr/>
        </p:nvSpPr>
        <p:spPr>
          <a:xfrm>
            <a:off x="928800" y="1714320"/>
            <a:ext cx="7286400" cy="499680"/>
          </a:xfrm>
          <a:prstGeom prst="roundRect">
            <a:avLst>
              <a:gd name="adj" fmla="val 16667"/>
            </a:avLst>
          </a:prstGeom>
          <a:solidFill>
            <a:srgbClr val="c00000">
              <a:alpha val="43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Arial"/>
              </a:rPr>
              <a:t>Буквы, которые не обозначают зву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32"/>
          <p:cNvSpPr/>
          <p:nvPr/>
        </p:nvSpPr>
        <p:spPr>
          <a:xfrm>
            <a:off x="1143000" y="2357280"/>
            <a:ext cx="3928680" cy="249984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  <a:alpha val="22000"/>
            </a:schemeClr>
          </a:solidFill>
          <a:ln>
            <a:solidFill>
              <a:srgbClr val="e7e7b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3"/>
          <p:cNvSpPr/>
          <p:nvPr/>
        </p:nvSpPr>
        <p:spPr>
          <a:xfrm>
            <a:off x="5357880" y="2357280"/>
            <a:ext cx="2785680" cy="249984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  <a:alpha val="22000"/>
            </a:schemeClr>
          </a:solidFill>
          <a:ln>
            <a:solidFill>
              <a:srgbClr val="e7e7b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Раз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ЪЕ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ОБЪ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34"/>
          <p:cNvSpPr/>
          <p:nvPr/>
        </p:nvSpPr>
        <p:spPr>
          <a:xfrm>
            <a:off x="1214280" y="3000240"/>
            <a:ext cx="1856880" cy="171432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73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Показатель мяг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О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ОН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6"/>
          <p:cNvSpPr/>
          <p:nvPr/>
        </p:nvSpPr>
        <p:spPr>
          <a:xfrm>
            <a:off x="3143160" y="3000240"/>
            <a:ext cx="1856880" cy="171432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73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Разделит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АР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Ь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Выпиши слова, в которых звуков меньше, чем букв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71360" y="2071800"/>
            <a:ext cx="7572240" cy="264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еть, июль, конь, новость, янтарь, ель, тень, тополь, пень, коньки, ехать, зверь, яблонька, мельниц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4"/>
          <p:cNvSpPr/>
          <p:nvPr/>
        </p:nvSpPr>
        <p:spPr>
          <a:xfrm>
            <a:off x="685800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1285920" y="2143080"/>
            <a:ext cx="7572240" cy="185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еть, конь, новость, тень, тополь, пень, коньки, зверь, мель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85808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91336586"/>
              </p:ext>
            </p:extLst>
          </p:nvPr>
        </p:nvGraphicFramePr>
        <p:xfrm>
          <a:off x="1785960" y="1643040"/>
          <a:ext cx="5643360" cy="3563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85" name="Стрелка вправо 5">
            <a:hlinkClick r:id="rId7" action="ppaction://hlinksldjump"/>
          </p:cNvPr>
          <p:cNvSpPr/>
          <p:nvPr/>
        </p:nvSpPr>
        <p:spPr>
          <a:xfrm>
            <a:off x="7500960" y="6072120"/>
            <a:ext cx="1428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Запиши слова, разделив их на слоги и для переноса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1360" y="2000160"/>
            <a:ext cx="7572240" cy="264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альчик, крыльцо, сильный, маленькие, жительница, вальс, сельски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4"/>
          <p:cNvSpPr/>
          <p:nvPr/>
        </p:nvSpPr>
        <p:spPr>
          <a:xfrm>
            <a:off x="685800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85808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1143000" y="1928880"/>
            <a:ext cx="7572240" cy="264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аль-чик, крыль-цо, силь-ный, ма-лень-кие, жи-тель-ни-ца, вальс, сель-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Измени слова по образцу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4"/>
          <p:cNvSpPr/>
          <p:nvPr/>
        </p:nvSpPr>
        <p:spPr>
          <a:xfrm>
            <a:off x="6929280" y="492912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85808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Скругленный прямоугольник 9"/>
          <p:cNvSpPr/>
          <p:nvPr/>
        </p:nvSpPr>
        <p:spPr>
          <a:xfrm>
            <a:off x="100008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ен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1"/>
          <p:cNvSpPr/>
          <p:nvPr/>
        </p:nvSpPr>
        <p:spPr>
          <a:xfrm>
            <a:off x="685800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ы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2"/>
          <p:cNvSpPr/>
          <p:nvPr/>
        </p:nvSpPr>
        <p:spPr>
          <a:xfrm>
            <a:off x="500076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ыл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3"/>
          <p:cNvSpPr/>
          <p:nvPr/>
        </p:nvSpPr>
        <p:spPr>
          <a:xfrm>
            <a:off x="285732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огон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4"/>
          <p:cNvSpPr/>
          <p:nvPr/>
        </p:nvSpPr>
        <p:spPr>
          <a:xfrm>
            <a:off x="285732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вер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5"/>
          <p:cNvSpPr/>
          <p:nvPr/>
        </p:nvSpPr>
        <p:spPr>
          <a:xfrm>
            <a:off x="100008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вер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6"/>
          <p:cNvSpPr/>
          <p:nvPr/>
        </p:nvSpPr>
        <p:spPr>
          <a:xfrm>
            <a:off x="100008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огон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7"/>
          <p:cNvSpPr/>
          <p:nvPr/>
        </p:nvSpPr>
        <p:spPr>
          <a:xfrm>
            <a:off x="685800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бо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8"/>
          <p:cNvSpPr/>
          <p:nvPr/>
        </p:nvSpPr>
        <p:spPr>
          <a:xfrm>
            <a:off x="500076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бол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9"/>
          <p:cNvSpPr/>
          <p:nvPr/>
        </p:nvSpPr>
        <p:spPr>
          <a:xfrm>
            <a:off x="685800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0"/>
          <p:cNvSpPr/>
          <p:nvPr/>
        </p:nvSpPr>
        <p:spPr>
          <a:xfrm>
            <a:off x="500076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ал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21"/>
          <p:cNvSpPr/>
          <p:nvPr/>
        </p:nvSpPr>
        <p:spPr>
          <a:xfrm>
            <a:off x="285732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ен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"/>
          <p:cNvSpPr/>
          <p:nvPr/>
        </p:nvSpPr>
        <p:spPr>
          <a:xfrm>
            <a:off x="1000080" y="1643040"/>
            <a:ext cx="7286400" cy="2999880"/>
          </a:xfrm>
          <a:prstGeom prst="roundRect">
            <a:avLst>
              <a:gd name="adj" fmla="val 16667"/>
            </a:avLst>
          </a:prstGeom>
          <a:solidFill>
            <a:schemeClr val="accent2">
              <a:lumMod val="75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Опасности при обозначении звуков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60610c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Безударные 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Звуки похожие – буквы раз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1"/>
          <p:cNvSpPr/>
          <p:nvPr/>
        </p:nvSpPr>
        <p:spPr>
          <a:xfrm>
            <a:off x="1285920" y="2857320"/>
            <a:ext cx="2857320" cy="1571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Тр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ва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К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а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2"/>
          <p:cNvSpPr/>
          <p:nvPr/>
        </p:nvSpPr>
        <p:spPr>
          <a:xfrm>
            <a:off x="2714760" y="3500280"/>
            <a:ext cx="356760" cy="356760"/>
          </a:xfrm>
          <a:prstGeom prst="rect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21" name="Прямая со стрелкой 14"/>
          <p:cNvCxnSpPr/>
          <p:nvPr/>
        </p:nvCxnSpPr>
        <p:spPr>
          <a:xfrm flipV="1">
            <a:off x="3143160" y="3429000"/>
            <a:ext cx="357480" cy="2145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2" name="Прямая со стрелкой 16"/>
          <p:cNvCxnSpPr/>
          <p:nvPr/>
        </p:nvCxnSpPr>
        <p:spPr>
          <a:xfrm>
            <a:off x="3143160" y="3714480"/>
            <a:ext cx="357480" cy="14328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223" name="TextBox 19"/>
          <p:cNvSpPr/>
          <p:nvPr/>
        </p:nvSpPr>
        <p:spPr>
          <a:xfrm>
            <a:off x="3571920" y="307188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3571920" y="371484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1"/>
          <p:cNvSpPr/>
          <p:nvPr/>
        </p:nvSpPr>
        <p:spPr>
          <a:xfrm>
            <a:off x="4643280" y="2857320"/>
            <a:ext cx="2857320" cy="1571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бы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а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и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2"/>
          <p:cNvSpPr/>
          <p:nvPr/>
        </p:nvSpPr>
        <p:spPr>
          <a:xfrm>
            <a:off x="6000840" y="3429000"/>
            <a:ext cx="356760" cy="356760"/>
          </a:xfrm>
          <a:prstGeom prst="rect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27" name="Прямая со стрелкой 23"/>
          <p:cNvCxnSpPr/>
          <p:nvPr/>
        </p:nvCxnSpPr>
        <p:spPr>
          <a:xfrm>
            <a:off x="6429240" y="3786120"/>
            <a:ext cx="429120" cy="2145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8" name="Прямая со стрелкой 24"/>
          <p:cNvCxnSpPr/>
          <p:nvPr/>
        </p:nvCxnSpPr>
        <p:spPr>
          <a:xfrm>
            <a:off x="6429240" y="3643200"/>
            <a:ext cx="429120" cy="180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9" name="Прямая со стрелкой 25"/>
          <p:cNvCxnSpPr/>
          <p:nvPr/>
        </p:nvCxnSpPr>
        <p:spPr>
          <a:xfrm flipV="1">
            <a:off x="6429240" y="3214440"/>
            <a:ext cx="357480" cy="21492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230" name="TextBox 28"/>
          <p:cNvSpPr/>
          <p:nvPr/>
        </p:nvSpPr>
        <p:spPr>
          <a:xfrm>
            <a:off x="6929280" y="392904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9"/>
          <p:cNvSpPr/>
          <p:nvPr/>
        </p:nvSpPr>
        <p:spPr>
          <a:xfrm>
            <a:off x="6929280" y="342900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0"/>
          <p:cNvSpPr/>
          <p:nvPr/>
        </p:nvSpPr>
        <p:spPr>
          <a:xfrm>
            <a:off x="6929280" y="292896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solidFill>
            <a:srgbClr val="009999">
              <a:alpha val="45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пиши слова в три столбика: в первый – с ударением на первом слоге, во второй – с ударением на втором слоге, в третий – с ударением на третьем слоге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0040" y="2786040"/>
            <a:ext cx="8229240" cy="218556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Малина, яблоки, груши, ежевика, рябина, смородина, вишня, земляника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3"/>
          <p:cNvSpPr/>
          <p:nvPr/>
        </p:nvSpPr>
        <p:spPr>
          <a:xfrm>
            <a:off x="7072200" y="52149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5"/>
          <p:cNvSpPr/>
          <p:nvPr/>
        </p:nvSpPr>
        <p:spPr>
          <a:xfrm>
            <a:off x="642960" y="2786040"/>
            <a:ext cx="2642760" cy="2142720"/>
          </a:xfrm>
          <a:prstGeom prst="roundRect">
            <a:avLst>
              <a:gd name="adj" fmla="val 16667"/>
            </a:avLst>
          </a:prstGeom>
          <a:solidFill>
            <a:srgbClr val="008000">
              <a:alpha val="54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ВИ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6"/>
          <p:cNvSpPr/>
          <p:nvPr/>
        </p:nvSpPr>
        <p:spPr>
          <a:xfrm>
            <a:off x="3357720" y="2786040"/>
            <a:ext cx="2642760" cy="2142720"/>
          </a:xfrm>
          <a:prstGeom prst="roundRect">
            <a:avLst>
              <a:gd name="adj" fmla="val 16667"/>
            </a:avLst>
          </a:prstGeom>
          <a:solidFill>
            <a:srgbClr val="008000">
              <a:alpha val="54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РЯБИНА</a:t>
            </a:r>
            <a:br>
              <a:rPr sz="3600"/>
            </a:b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СМО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7"/>
          <p:cNvSpPr/>
          <p:nvPr/>
        </p:nvSpPr>
        <p:spPr>
          <a:xfrm>
            <a:off x="6072120" y="2786040"/>
            <a:ext cx="2642760" cy="2142720"/>
          </a:xfrm>
          <a:prstGeom prst="roundRect">
            <a:avLst>
              <a:gd name="adj" fmla="val 16667"/>
            </a:avLst>
          </a:prstGeom>
          <a:solidFill>
            <a:srgbClr val="008000">
              <a:alpha val="54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ЕЖЕВ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ЕМЛЯ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715160" y="600084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solidFill>
            <a:srgbClr val="009999">
              <a:alpha val="45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тавь в словах ударение, подчеркни гласную, которую нужно проверить или запомнит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28760" y="2428920"/>
            <a:ext cx="8229240" cy="2785680"/>
          </a:xfrm>
          <a:prstGeom prst="rect">
            <a:avLst/>
          </a:prstGeom>
          <a:solidFill>
            <a:schemeClr val="accent5">
              <a:lumMod val="25000"/>
            </a:schemeClr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есело, машина, стрижи, смешной, петух, солить, пятерка, плясать, пальто, большой, линейка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5786280" y="585792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715160" y="600084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428760" y="2571840"/>
            <a:ext cx="8229240" cy="2785680"/>
          </a:xfrm>
          <a:prstGeom prst="rect">
            <a:avLst/>
          </a:prstGeom>
          <a:solidFill>
            <a:schemeClr val="accent5">
              <a:lumMod val="25000"/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é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о, м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а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ú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на, стр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ж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ú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, см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н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ó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й, п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ý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х, с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ú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ь, п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я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</a:t>
            </a:r>
            <a:r>
              <a:rPr b="0" lang="ru-RU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ё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рка, пл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я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á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ь, п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а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ьт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ó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, б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ьш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ó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й, л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н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é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й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solidFill>
            <a:srgbClr val="009999">
              <a:alpha val="45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пиши проверочные слова. Вставь пропущенные буквы в проверяемых словах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3"/>
          <p:cNvSpPr/>
          <p:nvPr/>
        </p:nvSpPr>
        <p:spPr>
          <a:xfrm>
            <a:off x="4000320" y="607212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572240" y="607212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8" name="Скругленный прямоугольник 7"/>
          <p:cNvSpPr/>
          <p:nvPr/>
        </p:nvSpPr>
        <p:spPr>
          <a:xfrm>
            <a:off x="1357200" y="1857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с..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2"/>
          <p:cNvSpPr/>
          <p:nvPr/>
        </p:nvSpPr>
        <p:spPr>
          <a:xfrm>
            <a:off x="4857840" y="185724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м..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3"/>
          <p:cNvSpPr/>
          <p:nvPr/>
        </p:nvSpPr>
        <p:spPr>
          <a:xfrm>
            <a:off x="4857840" y="442908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зап..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4"/>
          <p:cNvSpPr/>
          <p:nvPr/>
        </p:nvSpPr>
        <p:spPr>
          <a:xfrm>
            <a:off x="4857840" y="528624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дв..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5"/>
          <p:cNvSpPr/>
          <p:nvPr/>
        </p:nvSpPr>
        <p:spPr>
          <a:xfrm>
            <a:off x="4857840" y="357192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г..ло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6"/>
          <p:cNvSpPr/>
          <p:nvPr/>
        </p:nvSpPr>
        <p:spPr>
          <a:xfrm>
            <a:off x="4857840" y="271476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заш..г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7"/>
          <p:cNvSpPr/>
          <p:nvPr/>
        </p:nvSpPr>
        <p:spPr>
          <a:xfrm>
            <a:off x="1357200" y="5286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н..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8"/>
          <p:cNvSpPr/>
          <p:nvPr/>
        </p:nvSpPr>
        <p:spPr>
          <a:xfrm>
            <a:off x="1357200" y="442908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пч..л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19"/>
          <p:cNvSpPr/>
          <p:nvPr/>
        </p:nvSpPr>
        <p:spPr>
          <a:xfrm>
            <a:off x="1357200" y="357192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б..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0"/>
          <p:cNvSpPr/>
          <p:nvPr/>
        </p:nvSpPr>
        <p:spPr>
          <a:xfrm>
            <a:off x="1357200" y="271476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з..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3"/>
          <p:cNvSpPr/>
          <p:nvPr/>
        </p:nvSpPr>
        <p:spPr>
          <a:xfrm>
            <a:off x="4929120" y="5286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в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 - дв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4"/>
          <p:cNvSpPr/>
          <p:nvPr/>
        </p:nvSpPr>
        <p:spPr>
          <a:xfrm>
            <a:off x="4929120" y="4429080"/>
            <a:ext cx="35715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ный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н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25"/>
          <p:cNvSpPr/>
          <p:nvPr/>
        </p:nvSpPr>
        <p:spPr>
          <a:xfrm>
            <a:off x="4929120" y="357192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 - г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á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26"/>
          <p:cNvSpPr/>
          <p:nvPr/>
        </p:nvSpPr>
        <p:spPr>
          <a:xfrm>
            <a:off x="4929120" y="271476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á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27"/>
          <p:cNvSpPr/>
          <p:nvPr/>
        </p:nvSpPr>
        <p:spPr>
          <a:xfrm>
            <a:off x="4929120" y="1857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т - м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28"/>
          <p:cNvSpPr/>
          <p:nvPr/>
        </p:nvSpPr>
        <p:spPr>
          <a:xfrm>
            <a:off x="1357200" y="5286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чь - н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чн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29"/>
          <p:cNvSpPr/>
          <p:nvPr/>
        </p:nvSpPr>
        <p:spPr>
          <a:xfrm>
            <a:off x="1285920" y="4429080"/>
            <a:ext cx="328572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ч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ё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ы - пч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30"/>
          <p:cNvSpPr/>
          <p:nvPr/>
        </p:nvSpPr>
        <p:spPr>
          <a:xfrm>
            <a:off x="1357200" y="357192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ь - б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31"/>
          <p:cNvSpPr/>
          <p:nvPr/>
        </p:nvSpPr>
        <p:spPr>
          <a:xfrm>
            <a:off x="1357200" y="271476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ú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ы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2"/>
          <p:cNvSpPr/>
          <p:nvPr/>
        </p:nvSpPr>
        <p:spPr>
          <a:xfrm>
            <a:off x="1357200" y="1857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 - с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10"/>
          <p:cNvSpPr/>
          <p:nvPr/>
        </p:nvSpPr>
        <p:spPr>
          <a:xfrm>
            <a:off x="1000080" y="1643040"/>
            <a:ext cx="7286400" cy="2999880"/>
          </a:xfrm>
          <a:prstGeom prst="roundRect">
            <a:avLst>
              <a:gd name="adj" fmla="val 16667"/>
            </a:avLst>
          </a:prstGeom>
          <a:solidFill>
            <a:schemeClr val="accent2">
              <a:lumMod val="75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Опасности при обозначении звуков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2. Сочетания ЖИ – ШИ, ЧА – ЩА, ЧУ – ЩУ пиши только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ЛЫ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ЖИ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         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ШИ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ЧА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ША         РО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ЧУ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О          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ЩУ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9933">
              <a:alpha val="66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Измени слова по образцу.</a:t>
            </a:r>
            <a:br>
              <a:rPr sz="3600"/>
            </a:b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 Выдели орфограмму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"/>
          <p:cNvSpPr/>
          <p:nvPr/>
        </p:nvSpPr>
        <p:spPr>
          <a:xfrm>
            <a:off x="21420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ужа – лу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ышь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нож -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шалаш -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уша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иж -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риж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4"/>
          <p:cNvSpPr/>
          <p:nvPr/>
        </p:nvSpPr>
        <p:spPr>
          <a:xfrm>
            <a:off x="450072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ережа – у Сере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Алеша - 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иша - 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аша -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иша - 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аша - 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5"/>
          <p:cNvSpPr/>
          <p:nvPr/>
        </p:nvSpPr>
        <p:spPr>
          <a:xfrm>
            <a:off x="21420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ужа – лу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ышь - мы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нож - но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шалаш - шала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уша - гру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иж - ч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риж - стр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6"/>
          <p:cNvSpPr/>
          <p:nvPr/>
        </p:nvSpPr>
        <p:spPr>
          <a:xfrm>
            <a:off x="450072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ережа – у Сере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Алеша – у Але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иша – у Гр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аша – у Са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иша – у М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аша – у Ма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7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929720" y="60008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9933">
              <a:alpha val="66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Спиши текст, вставь пропущенные буквы. Выдели орфограммы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"/>
          <p:cNvSpPr/>
          <p:nvPr/>
        </p:nvSpPr>
        <p:spPr>
          <a:xfrm>
            <a:off x="571320" y="1857240"/>
            <a:ext cx="8214840" cy="292860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За наш..м уч..стком рощ.. . Мы ч..сто ходим туда собирать щ..вель. В траве кач..ются жёлтые и голубые цветы. Стуч..т дятлы. Но вот солнце закрыла большая туч... . Пора домой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929720" y="60008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571320" y="1857240"/>
            <a:ext cx="8214840" cy="292860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За на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м у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стком ро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щ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. Мы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сто ходим туда собирать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щ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вель. В траве ка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ются жёлтые и голубые цветы. Сту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т дятлы. Но вот солнце закрыла большая ту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. Пора домой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53760"/>
          </a:xfrm>
          <a:prstGeom prst="rect">
            <a:avLst/>
          </a:prstGeom>
          <a:solidFill>
            <a:srgbClr val="ff9933">
              <a:alpha val="66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Собери слова. Запиши их. Выдели орфограмму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929720" y="60008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graphicFrame>
        <p:nvGraphicFramePr>
          <p:cNvPr id="285" name="Таблица 6"/>
          <p:cNvGraphicFramePr/>
          <p:nvPr/>
        </p:nvGraphicFramePr>
        <p:xfrm>
          <a:off x="857160" y="1071720"/>
          <a:ext cx="3428640" cy="2642760"/>
        </p:xfrm>
        <a:graphic>
          <a:graphicData uri="http://schemas.openxmlformats.org/drawingml/2006/table">
            <a:tbl>
              <a:tblPr/>
              <a:tblGrid>
                <a:gridCol w="1623960"/>
                <a:gridCol w="1804680"/>
              </a:tblGrid>
              <a:tr h="52848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6" name="Прямоугольник 10"/>
          <p:cNvSpPr/>
          <p:nvPr/>
        </p:nvSpPr>
        <p:spPr>
          <a:xfrm>
            <a:off x="642960" y="1643040"/>
            <a:ext cx="207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9933"/>
                </a:solidFill>
                <a:latin typeface="Arial"/>
              </a:rPr>
              <a:t>Ч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Таблица 12"/>
          <p:cNvGraphicFramePr/>
          <p:nvPr/>
        </p:nvGraphicFramePr>
        <p:xfrm>
          <a:off x="4643280" y="1071720"/>
          <a:ext cx="4000320" cy="2642760"/>
        </p:xfrm>
        <a:graphic>
          <a:graphicData uri="http://schemas.openxmlformats.org/drawingml/2006/table">
            <a:tbl>
              <a:tblPr/>
              <a:tblGrid>
                <a:gridCol w="2143080"/>
                <a:gridCol w="1857240"/>
              </a:tblGrid>
              <a:tr h="52848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8" name="Прямоугольник 13"/>
          <p:cNvSpPr/>
          <p:nvPr/>
        </p:nvSpPr>
        <p:spPr>
          <a:xfrm>
            <a:off x="4357800" y="1714320"/>
            <a:ext cx="2499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9933"/>
                </a:solidFill>
                <a:latin typeface="Arial"/>
              </a:rPr>
              <a:t>Щ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4"/>
          <p:cNvSpPr/>
          <p:nvPr/>
        </p:nvSpPr>
        <p:spPr>
          <a:xfrm>
            <a:off x="2357280" y="400068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857160" y="407196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6"/>
          <p:cNvSpPr/>
          <p:nvPr/>
        </p:nvSpPr>
        <p:spPr>
          <a:xfrm>
            <a:off x="2000160" y="492912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7"/>
          <p:cNvSpPr/>
          <p:nvPr/>
        </p:nvSpPr>
        <p:spPr>
          <a:xfrm>
            <a:off x="3357720" y="492912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8"/>
          <p:cNvSpPr/>
          <p:nvPr/>
        </p:nvSpPr>
        <p:spPr>
          <a:xfrm>
            <a:off x="3857760" y="407196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9"/>
          <p:cNvSpPr/>
          <p:nvPr/>
        </p:nvSpPr>
        <p:spPr>
          <a:xfrm>
            <a:off x="4929120" y="4857840"/>
            <a:ext cx="149976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а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0"/>
          <p:cNvSpPr/>
          <p:nvPr/>
        </p:nvSpPr>
        <p:spPr>
          <a:xfrm>
            <a:off x="5500800" y="407196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1"/>
          <p:cNvSpPr/>
          <p:nvPr/>
        </p:nvSpPr>
        <p:spPr>
          <a:xfrm>
            <a:off x="6715080" y="4929120"/>
            <a:ext cx="149976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р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2"/>
          <p:cNvSpPr/>
          <p:nvPr/>
        </p:nvSpPr>
        <p:spPr>
          <a:xfrm>
            <a:off x="7215120" y="4071960"/>
            <a:ext cx="157140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3"/>
          <p:cNvSpPr/>
          <p:nvPr/>
        </p:nvSpPr>
        <p:spPr>
          <a:xfrm>
            <a:off x="428760" y="492912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3004 -0.41898 E">
                                      <p:cBhvr>
                                        <p:cTn id="34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022E-016 L 0.1941 -0.35602 E">
                                      <p:cBhvr>
                                        <p:cTn id="35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0.0691 -0.39699 E">
                                      <p:cBhvr>
                                        <p:cTn id="35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022E-016 L -0.07934 -0.32361 E">
                                      <p:cBhvr>
                                        <p:cTn id="35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022E-016 L -0.50885 -0.125 E">
                                      <p:cBhvr>
                                        <p:cTn id="3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0.72917 -0.5544 E">
                                      <p:cBhvr>
                                        <p:cTn id="35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0.21753 -0.4706 E">
                                      <p:cBhvr>
                                        <p:cTn id="36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022E-016 L 0.02222 -0.39699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0.33056 -0.19861 E">
                                      <p:cBhvr>
                                        <p:cTn id="36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15087 -0.11458 E">
                                      <p:cBhvr>
                                        <p:cTn id="36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4"/>
          <p:cNvSpPr/>
          <p:nvPr/>
        </p:nvSpPr>
        <p:spPr>
          <a:xfrm>
            <a:off x="1714320" y="5572080"/>
            <a:ext cx="5428800" cy="6426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оставь предложение из данных слов. Запиши его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14320" y="5572080"/>
            <a:ext cx="56862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, на, летом, даче, жил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7286760" y="55720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5572080"/>
            <a:ext cx="5714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летом жили на д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далее 9">
            <a:hlinkClick r:id="rId2" action="ppaction://hlinksldjump"/>
          </p:cNvPr>
          <p:cNvSpPr/>
          <p:nvPr/>
        </p:nvSpPr>
        <p:spPr>
          <a:xfrm>
            <a:off x="357120" y="578628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0"/>
          <p:cNvSpPr/>
          <p:nvPr/>
        </p:nvSpPr>
        <p:spPr>
          <a:xfrm>
            <a:off x="1000080" y="1643040"/>
            <a:ext cx="7286400" cy="2999880"/>
          </a:xfrm>
          <a:prstGeom prst="roundRect">
            <a:avLst>
              <a:gd name="adj" fmla="val 16667"/>
            </a:avLst>
          </a:prstGeom>
          <a:solidFill>
            <a:schemeClr val="accent2">
              <a:lumMod val="75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Опасности при обозначении звуков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3. Парные согласные по глухости-звонкости на конце слов и перед другими парными согласными. Звуки одинаковые – буквы раз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У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 -  СУ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АРЕ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Ж</a:t>
            </a: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А - БАБУ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Ш</a:t>
            </a: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 rot="21351600">
            <a:off x="518040" y="86724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Напиши проверочные слова, вставь орфограммы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 rot="21347400">
            <a:off x="1070640" y="214272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Кру… - ………        пля… -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эта… - ……….       сторо…-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лебе….- ………        хле… -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у…- ……            гла…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чи… - ……           ду…-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 rot="21347400">
            <a:off x="1318320" y="2302560"/>
            <a:ext cx="64292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Кр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- кру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        пля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– на пля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эт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эта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     стор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- сторо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лебе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- лебе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       хле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– нет хле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п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–кормить су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п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ом гл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гла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чи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чи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к        д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ду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6"/>
          <p:cNvSpPr/>
          <p:nvPr/>
        </p:nvSpPr>
        <p:spPr>
          <a:xfrm>
            <a:off x="4000320" y="57862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215120" y="5786280"/>
            <a:ext cx="78552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 rot="21351600">
            <a:off x="518040" y="86724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з двух слов выбери проверочное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"/>
          <p:cNvSpPr/>
          <p:nvPr/>
        </p:nvSpPr>
        <p:spPr>
          <a:xfrm rot="21347400">
            <a:off x="1644480" y="258984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Рассказ –  сказка,  сказ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Голос – голосистый,  гол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Увяз – вязкий,  завяз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Брошь – броши,   бро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Прорубь – рубка,  пору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1 7"/>
          <p:cNvSpPr/>
          <p:nvPr/>
        </p:nvSpPr>
        <p:spPr>
          <a:xfrm>
            <a:off x="3143160" y="2643120"/>
            <a:ext cx="171432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9" name="Пятно 1 8"/>
          <p:cNvSpPr/>
          <p:nvPr/>
        </p:nvSpPr>
        <p:spPr>
          <a:xfrm>
            <a:off x="4286160" y="3786120"/>
            <a:ext cx="178560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0" name="Пятно 1 9"/>
          <p:cNvSpPr/>
          <p:nvPr/>
        </p:nvSpPr>
        <p:spPr>
          <a:xfrm>
            <a:off x="3071880" y="4357800"/>
            <a:ext cx="164268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1" name="Пятно 1 10"/>
          <p:cNvSpPr/>
          <p:nvPr/>
        </p:nvSpPr>
        <p:spPr>
          <a:xfrm>
            <a:off x="4857840" y="2928960"/>
            <a:ext cx="207144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2" name="Пятно 1 11"/>
          <p:cNvSpPr/>
          <p:nvPr/>
        </p:nvSpPr>
        <p:spPr>
          <a:xfrm>
            <a:off x="2714760" y="3500280"/>
            <a:ext cx="157140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3" name="Скругленный прямоугольник 12"/>
          <p:cNvSpPr/>
          <p:nvPr/>
        </p:nvSpPr>
        <p:spPr>
          <a:xfrm>
            <a:off x="3929040" y="57862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6858000" y="5572080"/>
            <a:ext cx="856800" cy="7855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 rot="21351600">
            <a:off x="518040" y="86724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пиши слова. Подчеркни только те парные </a:t>
            </a:r>
            <a:br>
              <a:rPr sz="2400"/>
            </a:b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огласные, которые нужно проверит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 rot="21347400">
            <a:off x="1086480" y="235764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	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Голубь, морковь, рассказ, арбуз, лошадь, рукав, камыш, насос, сторож, овраг, шалаш, сапог, гараж, медведь, горб, шка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 rot="21347400">
            <a:off x="1144080" y="237564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	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Гол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морк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в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расск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арб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лош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рук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в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камы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ш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нас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с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стор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овр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шал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ш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сап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гар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медве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гор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шк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ф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3929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6858000" y="5929200"/>
            <a:ext cx="57132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3"/>
          <p:cNvSpPr/>
          <p:nvPr/>
        </p:nvSpPr>
        <p:spPr>
          <a:xfrm>
            <a:off x="928800" y="1571760"/>
            <a:ext cx="7214760" cy="314280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едложения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ь идет?   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Спрашива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ь идет.    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Утвержда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ик, дождик перестань.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Побужда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ь идет!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Выражаю сильные чувств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714240" y="714240"/>
            <a:ext cx="4785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пиши текст. Поставь в конце предложений точки. Подчеркни подлежащее и сказу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42960" y="1928880"/>
            <a:ext cx="4643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Наступило чудесное теплое утро подул свежий ветерок журчал по камням ручей в тенистых кустах пели соловьи яркое солнце поднималось все выше и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5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714240" y="1857240"/>
            <a:ext cx="4643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Наступило чудесное теплое утро. Подул свежий ветерок. Журчал по камням ручей. В тенистых кустах пели соловьи.  Яркое солнце поднималось все выше и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072640" y="6215040"/>
            <a:ext cx="57132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3"/>
          <p:cNvSpPr/>
          <p:nvPr/>
        </p:nvSpPr>
        <p:spPr>
          <a:xfrm>
            <a:off x="714240" y="714240"/>
            <a:ext cx="492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Подчеркни подлежащее и сказуемое. Выпиши пары связанных между собой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42960" y="1928880"/>
            <a:ext cx="46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5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500040" y="2143080"/>
            <a:ext cx="478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Бегут по небу легкие обла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571320" y="3500280"/>
            <a:ext cx="4785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 u="dbl">
                <a:solidFill>
                  <a:srgbClr val="ff6600"/>
                </a:solidFill>
                <a:uFillTx/>
                <a:latin typeface="Arial"/>
              </a:rPr>
              <a:t>Бегут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по небу легкие </a:t>
            </a:r>
            <a:r>
              <a:rPr b="0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облачка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егкие облачка; бегут по н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9"/>
          <p:cNvSpPr/>
          <p:nvPr/>
        </p:nvSpPr>
        <p:spPr>
          <a:xfrm>
            <a:off x="4074120" y="3286080"/>
            <a:ext cx="7952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d2c3ff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0"/>
          <p:cNvSpPr/>
          <p:nvPr/>
        </p:nvSpPr>
        <p:spPr>
          <a:xfrm>
            <a:off x="509760" y="3286080"/>
            <a:ext cx="147312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d2c3ff"/>
                </a:solidFill>
                <a:latin typeface="Arial"/>
              </a:rPr>
              <a:t>Что делаю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001000" y="6143760"/>
            <a:ext cx="4996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5043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Вставь в тексте пропущенные слова. Запиши текст по правилам орфографи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86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Пчелы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весело гудят.  … сели на клевер.  … пили сок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ва для справок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челы, они, пчелк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214200" y="2332080"/>
            <a:ext cx="592884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че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челы весело гудят. Они сели на клевер. Пчелки пили 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4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86840" y="6286680"/>
            <a:ext cx="499680" cy="4284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7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4"/>
          <p:cNvSpPr/>
          <p:nvPr/>
        </p:nvSpPr>
        <p:spPr>
          <a:xfrm>
            <a:off x="1071360" y="1500120"/>
            <a:ext cx="6857640" cy="26427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одстве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ь    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к   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д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евой    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7"/>
          <p:cNvSpPr/>
          <p:nvPr/>
        </p:nvSpPr>
        <p:spPr>
          <a:xfrm>
            <a:off x="2019600" y="209304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уга 9"/>
          <p:cNvSpPr/>
          <p:nvPr/>
        </p:nvSpPr>
        <p:spPr>
          <a:xfrm>
            <a:off x="3500280" y="207180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Дуга 10"/>
          <p:cNvSpPr/>
          <p:nvPr/>
        </p:nvSpPr>
        <p:spPr>
          <a:xfrm>
            <a:off x="5214960" y="207180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Дуга 11"/>
          <p:cNvSpPr/>
          <p:nvPr/>
        </p:nvSpPr>
        <p:spPr>
          <a:xfrm>
            <a:off x="2714760" y="307188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уга 12"/>
          <p:cNvSpPr/>
          <p:nvPr/>
        </p:nvSpPr>
        <p:spPr>
          <a:xfrm>
            <a:off x="5000760" y="307188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единительная линия 14"/>
          <p:cNvCxnSpPr/>
          <p:nvPr/>
        </p:nvCxnSpPr>
        <p:spPr>
          <a:xfrm>
            <a:off x="2143080" y="278604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48" name="Прямая соединительная линия 16"/>
          <p:cNvCxnSpPr/>
          <p:nvPr/>
        </p:nvCxnSpPr>
        <p:spPr>
          <a:xfrm>
            <a:off x="3786120" y="278604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49" name="Прямая соединительная линия 17"/>
          <p:cNvCxnSpPr/>
          <p:nvPr/>
        </p:nvCxnSpPr>
        <p:spPr>
          <a:xfrm>
            <a:off x="4286160" y="278604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50" name="Прямая соединительная линия 18"/>
          <p:cNvCxnSpPr/>
          <p:nvPr/>
        </p:nvCxnSpPr>
        <p:spPr>
          <a:xfrm>
            <a:off x="6000480" y="2786040"/>
            <a:ext cx="21492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51" name="Прямая соединительная линия 20"/>
          <p:cNvCxnSpPr/>
          <p:nvPr/>
        </p:nvCxnSpPr>
        <p:spPr>
          <a:xfrm>
            <a:off x="5786280" y="378612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52" name="Прямая соединительная линия 21"/>
          <p:cNvCxnSpPr/>
          <p:nvPr/>
        </p:nvCxnSpPr>
        <p:spPr>
          <a:xfrm>
            <a:off x="3428640" y="3786120"/>
            <a:ext cx="21492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solidFill>
            <a:schemeClr val="accent5">
              <a:lumMod val="2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ыпиши только родственные слова. Выдели корен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2928960" y="1357200"/>
            <a:ext cx="3285720" cy="1796040"/>
          </a:xfrm>
          <a:prstGeom prst="rect">
            <a:avLst/>
          </a:prstGeom>
          <a:solidFill>
            <a:srgbClr val="0965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яной, вода, подводный, води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овоз, вод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2786040" y="3786120"/>
            <a:ext cx="3285720" cy="2649240"/>
          </a:xfrm>
          <a:prstGeom prst="rect">
            <a:avLst/>
          </a:prstGeom>
          <a:solidFill>
            <a:srgbClr val="0965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яной, 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подвод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овоз, вод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Дуга 5"/>
          <p:cNvSpPr/>
          <p:nvPr/>
        </p:nvSpPr>
        <p:spPr>
          <a:xfrm>
            <a:off x="2928960" y="400068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Дуга 6"/>
          <p:cNvSpPr/>
          <p:nvPr/>
        </p:nvSpPr>
        <p:spPr>
          <a:xfrm>
            <a:off x="4500720" y="400068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Дуга 7"/>
          <p:cNvSpPr/>
          <p:nvPr/>
        </p:nvSpPr>
        <p:spPr>
          <a:xfrm>
            <a:off x="4429080" y="578628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Дуга 8"/>
          <p:cNvSpPr/>
          <p:nvPr/>
        </p:nvSpPr>
        <p:spPr>
          <a:xfrm>
            <a:off x="3429000" y="492912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Дуга 9"/>
          <p:cNvSpPr/>
          <p:nvPr/>
        </p:nvSpPr>
        <p:spPr>
          <a:xfrm>
            <a:off x="3643200" y="571500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Дуга 10"/>
          <p:cNvSpPr/>
          <p:nvPr/>
        </p:nvSpPr>
        <p:spPr>
          <a:xfrm>
            <a:off x="2857320" y="571500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11"/>
          <p:cNvSpPr/>
          <p:nvPr/>
        </p:nvSpPr>
        <p:spPr>
          <a:xfrm>
            <a:off x="78588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286840" y="6072120"/>
            <a:ext cx="57132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4"/>
          <p:cNvSpPr/>
          <p:nvPr/>
        </p:nvSpPr>
        <p:spPr>
          <a:xfrm>
            <a:off x="1714320" y="5572080"/>
            <a:ext cx="5428800" cy="6426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оставь предложение из данных слов. Запиши его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14320" y="5572080"/>
            <a:ext cx="56862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пинке, по, птенец, прыга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7286760" y="55720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714320" y="5572080"/>
            <a:ext cx="5714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опинке прыгал пт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7">
            <a:hlinkClick r:id="rId2" action="ppaction://hlinksldjump"/>
          </p:cNvPr>
          <p:cNvSpPr/>
          <p:nvPr/>
        </p:nvSpPr>
        <p:spPr>
          <a:xfrm>
            <a:off x="428760" y="5715000"/>
            <a:ext cx="64260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1071360" y="1571760"/>
            <a:ext cx="6857640" cy="26427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, близкие по смы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ождь - ли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, противоположные по смыс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(день) дождливый - я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9650b">
              <a:alpha val="33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одбери слова, близкие по смыслу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286160" y="1500120"/>
            <a:ext cx="4857480" cy="405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- недруг, неприятел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ребята, детвор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ключ, родник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еда, кушань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ужас, испуг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3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одержимое 2"/>
          <p:cNvSpPr/>
          <p:nvPr/>
        </p:nvSpPr>
        <p:spPr>
          <a:xfrm>
            <a:off x="1866960" y="1509840"/>
            <a:ext cx="2714400" cy="405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р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Источ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ищ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5812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9650b">
              <a:alpha val="4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Запиши слова, противоположные по смыслу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71760" y="1285920"/>
            <a:ext cx="2757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опрос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Богач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люс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равда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ольза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Мир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одержимое 2"/>
          <p:cNvSpPr/>
          <p:nvPr/>
        </p:nvSpPr>
        <p:spPr>
          <a:xfrm>
            <a:off x="4572000" y="1285920"/>
            <a:ext cx="275724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бедня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м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4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1928880"/>
            <a:ext cx="8072280" cy="1142640"/>
          </a:xfrm>
          <a:prstGeom prst="rect">
            <a:avLst/>
          </a:prstGeom>
          <a:solidFill>
            <a:srgbClr val="09650b">
              <a:alpha val="5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итература, использованная при создании презентации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240" cy="298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59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Н.В.Нечаева. Русский язык: Учебник для 1 класса.- Самара: Издательство «Учебная литература»:Издательский до «Федоров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59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.В.Шклярова. Сборник упражнений по русскому языку для 1 класса. М.: «Грамотей», 1999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59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.И.Тикунова. Диктанты и творческие работы по русскому языку. 1 класс.- М.: «Дрофа», 2002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4"/>
          <p:cNvSpPr/>
          <p:nvPr/>
        </p:nvSpPr>
        <p:spPr>
          <a:xfrm>
            <a:off x="1714320" y="5572080"/>
            <a:ext cx="5428800" cy="6426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оставь предложение из данных слов. Запиши его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14320" y="5572080"/>
            <a:ext cx="56862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зке, появились, листики, 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7286760" y="55720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643040" y="5643720"/>
            <a:ext cx="571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березке появились л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214200" y="5643720"/>
            <a:ext cx="57132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66">
              <a:alpha val="6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Отредактируй текст. 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Запиши его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042640"/>
          </a:xfrm>
          <a:prstGeom prst="rect">
            <a:avLst/>
          </a:prstGeom>
          <a:solidFill>
            <a:srgbClr val="00b0f0">
              <a:alpha val="40000"/>
            </a:srgbClr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За городом красивый парк в парке растут липы, клены, березки на клумбах цветут яркие цветы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378612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785880" y="1643040"/>
            <a:ext cx="7943400" cy="2642760"/>
          </a:xfrm>
          <a:prstGeom prst="rect">
            <a:avLst/>
          </a:prstGeom>
          <a:solidFill>
            <a:srgbClr val="00b0f0">
              <a:alpha val="4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За городом красивый парк. В парке растут липы, клены, березки.  На клумбах цветут яркие цв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86800" y="6072120"/>
            <a:ext cx="92844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66">
              <a:alpha val="6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Отредактируй текст. 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Запиши его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78612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86800" y="6072120"/>
            <a:ext cx="92844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000080" y="1928880"/>
            <a:ext cx="7357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Дети выбежали в сад они играли в мячик малыши смея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28800" y="1928880"/>
            <a:ext cx="7357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Дети выбежали в сад. Они играли в мячик. Малыши смея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66">
              <a:alpha val="6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Расположи предложения так, чтобы получился рассказ. Запиши его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378612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86800" y="6072120"/>
            <a:ext cx="92844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000080" y="1928880"/>
            <a:ext cx="7357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Мы любили ходить в лес за ягодами. За деревней речка и еловый лес. Летом мы жили в дерев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928800" y="2000160"/>
            <a:ext cx="7357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Летом мы жили в деревне. За деревней речка и еловый лес. Мы любили ходить в лес за ягод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0"/>
          <p:cNvSpPr/>
          <p:nvPr/>
        </p:nvSpPr>
        <p:spPr>
          <a:xfrm>
            <a:off x="928800" y="1785960"/>
            <a:ext cx="7500600" cy="271440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33000"/>
            </a:schemeClr>
          </a:solidFill>
          <a:ln>
            <a:solidFill>
              <a:srgbClr val="f6f7b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Правила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60610c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Переноси слова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2. Слог из одной гласной не оставляй на строчке и не переноси на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aster">
  <a:themeElements>
    <a:clrScheme name="master 10">
      <a:dk1>
        <a:srgbClr val="000000"/>
      </a:dk1>
      <a:lt1>
        <a:srgbClr val="eff274"/>
      </a:lt1>
      <a:dk2>
        <a:srgbClr val="1c1c1c"/>
      </a:dk2>
      <a:lt2>
        <a:srgbClr val="4d4d4d"/>
      </a:lt2>
      <a:accent1>
        <a:srgbClr val="9966ff"/>
      </a:accent1>
      <a:accent2>
        <a:srgbClr val="ffffcc"/>
      </a:accent2>
      <a:accent3>
        <a:srgbClr val="f6f7bc"/>
      </a:accent3>
      <a:accent4>
        <a:srgbClr val="000000"/>
      </a:accent4>
      <a:accent5>
        <a:srgbClr val="cab8ff"/>
      </a:accent5>
      <a:accent6>
        <a:srgbClr val="e7e7b9"/>
      </a:accent6>
      <a:hlink>
        <a:srgbClr val="6666ff"/>
      </a:hlink>
      <a:folHlink>
        <a:srgbClr val="99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ster">
  <a:themeElements>
    <a:clrScheme name="master 10">
      <a:dk1>
        <a:srgbClr val="000000"/>
      </a:dk1>
      <a:lt1>
        <a:srgbClr val="eff274"/>
      </a:lt1>
      <a:dk2>
        <a:srgbClr val="1c1c1c"/>
      </a:dk2>
      <a:lt2>
        <a:srgbClr val="4d4d4d"/>
      </a:lt2>
      <a:accent1>
        <a:srgbClr val="9966ff"/>
      </a:accent1>
      <a:accent2>
        <a:srgbClr val="ffffcc"/>
      </a:accent2>
      <a:accent3>
        <a:srgbClr val="f6f7bc"/>
      </a:accent3>
      <a:accent4>
        <a:srgbClr val="000000"/>
      </a:accent4>
      <a:accent5>
        <a:srgbClr val="cab8ff"/>
      </a:accent5>
      <a:accent6>
        <a:srgbClr val="e7e7b9"/>
      </a:accent6>
      <a:hlink>
        <a:srgbClr val="6666ff"/>
      </a:hlink>
      <a:folHlink>
        <a:srgbClr val="99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цветные мелки</Template>
  <TotalTime>532</TotalTime>
  <Application>LibreOffice/7.4.7.2$Linux_X86_64 LibreOffice_project/40$Build-2</Application>
  <AppVersion>15.0000</AppVersion>
  <Words>1821</Words>
  <Paragraphs>39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31:43Z</dcterms:created>
  <dc:creator>User</dc:creator>
  <dc:description/>
  <dc:language>en-US</dc:language>
  <cp:lastModifiedBy>User</cp:lastModifiedBy>
  <dcterms:modified xsi:type="dcterms:W3CDTF">2011-03-23T17:54:19Z</dcterms:modified>
  <cp:revision>86</cp:revision>
  <dc:subject/>
  <dc:title> Тренажер по русскому языку 1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3</vt:r8>
  </property>
</Properties>
</file>