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3C3-AFC4-47E9-8FBC-27B0F6AE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A36-4962-4979-B023-9F4FB664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B43-7D1F-4465-AFE4-E28F2973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B4A-229F-405F-8DD8-5D46FF50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E65-6500-4575-8D38-F61F5D95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020-071B-43C3-811A-99942E83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1F6-A5FB-44ED-9937-238FCD54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080-7041-4CB3-9EAE-658D555A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D07-BE32-420C-9D87-D667896B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474-37FE-46F6-B2CF-6A1B778C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6AF-3E6C-48FB-A8AD-59CA89A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587-F44B-4C94-BFFB-FBA2A260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72E4-7CBC-4A0A-B01D-A5F48E9FA9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securitylab.ru/upload/iblock/51021c813e17e48872b639aa8a055600.png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47840" y="3357360"/>
            <a:ext cx="607536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екомендации для родителе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1262160" y="1414440"/>
            <a:ext cx="6431040" cy="1755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471600" y="5300640"/>
            <a:ext cx="36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БОУ СШ №11 г Павл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инова Елена Васил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те, что безопасность ваших детей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Интернете на 90% зависит от  ва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356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сентября 2012 года вступил в силу ФЕДЕРАЛЬНЫЙ ЗАКОН   N 436-ФЗ"О защите детей от информации, причиняющей вред их здоровью и развити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аправлен на защиту детей от разрушительного, травмирующего их психику информационного воздействия, а также от информации, способной развить в ребенке порочные накло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Users\Артем\Desktop\hugePhoto_0.jpg"/>
          <p:cNvPicPr/>
          <p:nvPr/>
        </p:nvPicPr>
        <p:blipFill>
          <a:blip r:embed="rId1"/>
          <a:stretch/>
        </p:blipFill>
        <p:spPr>
          <a:xfrm>
            <a:off x="611280" y="4230720"/>
            <a:ext cx="25732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Овал 3"/>
          <p:cNvSpPr/>
          <p:nvPr/>
        </p:nvSpPr>
        <p:spPr>
          <a:xfrm>
            <a:off x="2998800" y="2494080"/>
            <a:ext cx="3166920" cy="1225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-13311360" y="7050240"/>
            <a:ext cx="223920" cy="193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cc"/>
                </a:solidFill>
                <a:latin typeface="Times New Roman"/>
              </a:rPr>
              <a:t>Депрессивные молодежные т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10" descr=""/>
          <p:cNvPicPr/>
          <p:nvPr/>
        </p:nvPicPr>
        <p:blipFill>
          <a:blip r:embed="rId1"/>
          <a:stretch/>
        </p:blipFill>
        <p:spPr>
          <a:xfrm>
            <a:off x="6567480" y="765000"/>
            <a:ext cx="210996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11" descr=""/>
          <p:cNvPicPr/>
          <p:nvPr/>
        </p:nvPicPr>
        <p:blipFill>
          <a:blip r:embed="rId2"/>
          <a:stretch/>
        </p:blipFill>
        <p:spPr>
          <a:xfrm>
            <a:off x="3492360" y="452520"/>
            <a:ext cx="247356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2" descr="https://avatars.mds.yandex.net/get-zen_doc/39788/pub_5a37a9d54bf161721b18d478_5a37aa379b403cc4afaa77f7/scale_1200"/>
          <p:cNvPicPr/>
          <p:nvPr/>
        </p:nvPicPr>
        <p:blipFill>
          <a:blip r:embed="rId3"/>
          <a:stretch/>
        </p:blipFill>
        <p:spPr>
          <a:xfrm>
            <a:off x="615960" y="3719520"/>
            <a:ext cx="2155680" cy="171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s://miro.medium.com/max/4000/1*AkX-sfCdd_gZ56ZKz27E4A.jpeg"/>
          <p:cNvPicPr/>
          <p:nvPr/>
        </p:nvPicPr>
        <p:blipFill>
          <a:blip r:embed="rId4"/>
          <a:stretch/>
        </p:blipFill>
        <p:spPr>
          <a:xfrm>
            <a:off x="3348000" y="3971880"/>
            <a:ext cx="3475080" cy="1866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3127320" y="5675400"/>
            <a:ext cx="39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Депрессивные молодеж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т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771840" y="537696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4200480" y="197496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6591600" y="2392200"/>
            <a:ext cx="209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Экстремиз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национализ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фаш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205920" y="2340000"/>
            <a:ext cx="289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айты знакомст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оциальные се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блоги и ч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https://i.ytimg.com/vi/ppHKDPCi2F4/hqdefault.jpg"/>
          <p:cNvPicPr/>
          <p:nvPr/>
        </p:nvPicPr>
        <p:blipFill>
          <a:blip r:embed="rId5"/>
          <a:srcRect l="15488" t="0" r="18488" b="0"/>
          <a:stretch/>
        </p:blipFill>
        <p:spPr>
          <a:xfrm>
            <a:off x="804960" y="452520"/>
            <a:ext cx="18000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вал 8"/>
          <p:cNvSpPr/>
          <p:nvPr/>
        </p:nvSpPr>
        <p:spPr>
          <a:xfrm>
            <a:off x="2816280" y="2654280"/>
            <a:ext cx="3456000" cy="1366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рограммы-фильт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SNAG-0015"/>
          <p:cNvPicPr/>
          <p:nvPr/>
        </p:nvPicPr>
        <p:blipFill>
          <a:blip r:embed="rId1"/>
          <a:stretch/>
        </p:blipFill>
        <p:spPr>
          <a:xfrm>
            <a:off x="509760" y="455760"/>
            <a:ext cx="2381040" cy="1969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0"/>
          <p:cNvSpPr/>
          <p:nvPr/>
        </p:nvSpPr>
        <p:spPr>
          <a:xfrm>
            <a:off x="514440" y="2309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Power Spy 200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51021c813e17e48872b639aa8a055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6160" y="768240"/>
            <a:ext cx="2182680" cy="1728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2"/>
          <p:cNvSpPr/>
          <p:nvPr/>
        </p:nvSpPr>
        <p:spPr>
          <a:xfrm>
            <a:off x="3348000" y="287280"/>
            <a:ext cx="23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iProtectYou P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SNAG-0014"/>
          <p:cNvPicPr/>
          <p:nvPr/>
        </p:nvPicPr>
        <p:blipFill>
          <a:blip r:embed="rId4"/>
          <a:stretch/>
        </p:blipFill>
        <p:spPr>
          <a:xfrm>
            <a:off x="560520" y="2976480"/>
            <a:ext cx="1979640" cy="1889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4"/>
          <p:cNvSpPr/>
          <p:nvPr/>
        </p:nvSpPr>
        <p:spPr>
          <a:xfrm>
            <a:off x="614520" y="4788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Kids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SNAG-0013"/>
          <p:cNvPicPr/>
          <p:nvPr/>
        </p:nvPicPr>
        <p:blipFill>
          <a:blip r:embed="rId5"/>
          <a:stretch/>
        </p:blipFill>
        <p:spPr>
          <a:xfrm>
            <a:off x="4716360" y="4260960"/>
            <a:ext cx="2871720" cy="963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6"/>
          <p:cNvSpPr/>
          <p:nvPr/>
        </p:nvSpPr>
        <p:spPr>
          <a:xfrm>
            <a:off x="5327640" y="518004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CYBERsitter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SNAG-0013"/>
          <p:cNvPicPr/>
          <p:nvPr/>
        </p:nvPicPr>
        <p:blipFill>
          <a:blip r:embed="rId6"/>
          <a:stretch/>
        </p:blipFill>
        <p:spPr>
          <a:xfrm>
            <a:off x="6049800" y="458640"/>
            <a:ext cx="2629080" cy="1614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8"/>
          <p:cNvSpPr/>
          <p:nvPr/>
        </p:nvSpPr>
        <p:spPr>
          <a:xfrm>
            <a:off x="6229440" y="1963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КиберМама 1.0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7"/>
          <a:stretch/>
        </p:blipFill>
        <p:spPr>
          <a:xfrm>
            <a:off x="6372360" y="2654280"/>
            <a:ext cx="2420640" cy="100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0"/>
          <p:cNvSpPr/>
          <p:nvPr/>
        </p:nvSpPr>
        <p:spPr>
          <a:xfrm>
            <a:off x="6759720" y="35701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NetPolice L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8"/>
          <a:stretch/>
        </p:blipFill>
        <p:spPr>
          <a:xfrm>
            <a:off x="2754360" y="4162320"/>
            <a:ext cx="1382760" cy="1919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2"/>
          <p:cNvSpPr/>
          <p:nvPr/>
        </p:nvSpPr>
        <p:spPr>
          <a:xfrm>
            <a:off x="1909800" y="60008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http://www.icensor.r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какие игры играют ваши дет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4040" y="800280"/>
            <a:ext cx="375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Европе перечислены десять самых жестоких компьютерных игр, популярных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реди дет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A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Warcraf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Dagger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D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Duke Nuk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Mech Warrior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Mortal Komb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Pray for Dea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Qu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Crusader No Reg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039920" y="799920"/>
            <a:ext cx="4779720" cy="57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давайте предпочтение обучающе-развивающим программам, а не развлекательным игр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Развивающая программа     долж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 соответствовать возрасту ребё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состоять из мини-игр, которые он сможет прой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занимать по времени одна игра или уровень, тур должен не более 15 минут, чтобы ее можно было прервать,  не приводя малыша к раздраж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5" descr="i?id=50123953&amp;tov=8"/>
          <p:cNvPicPr/>
          <p:nvPr/>
        </p:nvPicPr>
        <p:blipFill>
          <a:blip r:embed="rId1"/>
          <a:stretch/>
        </p:blipFill>
        <p:spPr>
          <a:xfrm>
            <a:off x="2746440" y="4168800"/>
            <a:ext cx="1120680" cy="1308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i?id=41679973&amp;tov=7"/>
          <p:cNvPicPr/>
          <p:nvPr/>
        </p:nvPicPr>
        <p:blipFill>
          <a:blip r:embed="rId2"/>
          <a:stretch/>
        </p:blipFill>
        <p:spPr>
          <a:xfrm>
            <a:off x="2313000" y="2355840"/>
            <a:ext cx="1554120" cy="130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s://1.bp.blogspot.com/-rGp3xq65VEw/XuDNX3HrpFI/AAAAAAAAKuw/4CNm8XkgibEWbqxkmMfk5JlQmZS5hTH_QCLcBGAsYHQ/s1600/fTkaJZd62Hk.jpg"/>
          <p:cNvPicPr/>
          <p:nvPr/>
        </p:nvPicPr>
        <p:blipFill>
          <a:blip r:embed="rId3"/>
          <a:stretch/>
        </p:blipFill>
        <p:spPr>
          <a:xfrm>
            <a:off x="7775640" y="1355760"/>
            <a:ext cx="911160" cy="909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s://sm-ahmedhanova.ru/wp-content/uploads/2015/08/post5.png"/>
          <p:cNvPicPr/>
          <p:nvPr/>
        </p:nvPicPr>
        <p:blipFill>
          <a:blip r:embed="rId4"/>
          <a:srcRect l="10692" t="0" r="11136" b="0"/>
          <a:stretch/>
        </p:blipFill>
        <p:spPr>
          <a:xfrm>
            <a:off x="7931160" y="2617920"/>
            <a:ext cx="888840" cy="852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s://geekhacker.ru/wp-content/uploads/2021/01/foksford_logo.png"/>
          <p:cNvPicPr/>
          <p:nvPr/>
        </p:nvPicPr>
        <p:blipFill>
          <a:blip r:embed="rId5"/>
          <a:srcRect l="12743" t="0" r="12387" b="0"/>
          <a:stretch/>
        </p:blipFill>
        <p:spPr>
          <a:xfrm>
            <a:off x="7724880" y="333360"/>
            <a:ext cx="1135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ормы работы на компьютер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9520" y="831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- Если не соблюдать правила безопасности, просиживая за играми целыми днями, то компьютер превращается из друга во враг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 даже самые добрые и замечательные игры, столь полезные для детей, могут стать вредны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Чтобы избежать проблем со здоровьем выполняйте нормы работы на компьюте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-31680" y="4040280"/>
            <a:ext cx="187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6"/>
          <p:cNvSpPr/>
          <p:nvPr/>
        </p:nvSpPr>
        <p:spPr>
          <a:xfrm>
            <a:off x="826920" y="3795840"/>
            <a:ext cx="684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Продолжительность работы за компьюте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(с жидкокристаллическим дисплее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7840" y="4411800"/>
          <a:ext cx="6481440" cy="2104920"/>
        </p:xfrm>
        <a:graphic>
          <a:graphicData uri="http://schemas.openxmlformats.org/drawingml/2006/table">
            <a:tbl>
              <a:tblPr/>
              <a:tblGrid>
                <a:gridCol w="1315800"/>
                <a:gridCol w="51656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минут в нед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—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минут в нед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—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часа в неделю, не &gt; 1 часа в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—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 часа в неделю, не &gt;1 часа в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1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—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часов в неделю, не &gt; 1 часа в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Пользователь</cp:lastModifiedBy>
  <dcterms:modified xsi:type="dcterms:W3CDTF">2021-11-18T14:09:50Z</dcterms:modified>
  <cp:revision>17</cp:revision>
  <dc:subject/>
  <dc:title>Слайд 1</dc:title>
</cp:coreProperties>
</file>