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C46-5BC6-47A0-BBCC-AC8501B8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4CE-A505-4872-94C4-3DF1AB6E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6CBAFD-2CD2-4538-8E7B-530F7AEB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49987-0F8E-441D-ABA5-0035B416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64A3DB-5FA8-4944-AE1F-E718BAD9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25D827-D1F2-4A44-A7FD-51C72BF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876086-2A52-4749-99BF-2ECB6ABD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D74267-5D93-4730-A950-7614C1D7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C6A2C5-3F9B-44E4-90E8-86E38C7C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CC71A8-2D39-4261-B638-9E0A3508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A9FAC-AFC1-4894-B18B-969DA948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BC2E7A-B27A-4C73-8DBC-B29328D03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DA1C-9410-4F28-8C0A-860990CD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982AA1-C269-48F7-ACAA-F373E30E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301660-513C-4FAC-8538-6A738E3A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E6564F-9406-4A3B-98EA-BAA8896A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AF9766-AE6D-46CD-A8B8-4B6EAB68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0EBF8A-12C9-49ED-8990-9BF257C1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ABAC7-99B2-4FD1-B23D-2ECF09C9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09506-DF8B-4CDA-A222-576CC08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F8CFC7-812D-4930-BE6E-650AECB6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4593EA-8013-41B9-AD61-086D618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8FC317-8FFB-43B3-86C5-E101AB2E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0BE-8F0D-42B3-8B7A-D00B2569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9CC54E-70DD-4CCE-8242-4098F5B4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51CDE-B021-45C6-8383-E2CE67F4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68192-09B3-41A2-BA16-9922F16D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8BC96-A3C3-4E9A-88E6-AD72149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4B9AE-FCF4-496B-8686-76AA1A65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7E1AB-B1B1-4983-B56D-76FE0EF5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936D9-2FD4-478D-8A6A-7F088BC0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01D90-CE24-452B-B99C-7B6F7FC8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F3A49-A980-489F-BC07-6486D07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1B119-7C8E-4C6A-9788-6E851186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EFC9-9984-4A01-8154-E72E6F3A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9406F-5FF6-46CC-9755-9AA4C61D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96A2-DAD2-4E36-87E9-FFCDAD51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4EE4C-6C20-4C82-BE08-FFD231A8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D8DE6-73FA-4C36-AA7B-5C23E0AF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48F20-F4E2-419F-A390-EE0F5F5C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69008-7F00-468B-808C-6494E389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F30E8-FD5F-4901-9A95-82570487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1061B-227C-499B-9594-9447EA97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08455-4A6D-4D07-AC75-54DCD449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53AE3-7219-498A-9BE8-C45D06D1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4CB8-7D15-45C7-AC1C-152A0DA5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AB616-F66C-4E64-B353-D07A8C59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EF177-DB5F-4E5E-BC69-44E12BC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508A0-F59A-4BA6-85EC-FBE85232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3B327-42CD-4E26-B116-F5244575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A5459-EF4E-4B86-8756-802EAFA3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E875-3422-4C5C-BA79-DC48C784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B4C5-A8E3-492C-8241-23C231C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55D-96FC-4C0F-B699-B6C861C0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BBBC-8138-4299-9BD7-FFB1FA51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761-3863-4A1B-A91F-ECF4B749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E89D-D2B1-4AF5-ADFD-64B757C0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1D8F-9EB4-4A3F-8285-95BA6C9B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71EE-B363-43C1-860A-5B51DB1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A67D-94E0-4E6F-884F-377F6711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C49C-AA0E-4478-A066-B24525C7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AC6-1301-4117-AD77-3EE087F0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6EA66-B9BA-43A7-B271-9CF57549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F31869-015E-460E-BF86-238FAA67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96012-13B0-43CC-9247-F457D6C9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D42EF-9947-4A9C-8B45-CBC36445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B46B5-1E7C-435E-B6CB-33CBFAEC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8E3-A08C-4096-8298-515185E6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28719-DD47-4275-B743-53845E0A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A8DB4-DD1D-4DFE-8918-B3A6CFCD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3812F-6707-4DA1-A702-36E4446A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42572-DA1C-415D-BF97-BA48A30E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7EF40-C6D6-4C95-A2B2-FB5AA54C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22172-17A5-4102-866F-C4B5DCAB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9103A-CB61-4E61-8E73-07AB6DCB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50E6-5557-42BF-9481-DBE86011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2604-C09D-4450-B879-25095DB9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4B74F-6554-45E7-9EF7-D3F3236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2C8-58EE-403C-B39D-3108C39E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55C4-FAD8-4DEE-A747-C87FE8EC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294B-5011-4A44-9907-0BA0EA56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E828A-1716-4600-A8CD-63C9C870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C4EB8-1810-48B6-B500-07D57E8B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1EFC-21CB-4AB8-BE04-92E65341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400E-6458-40FD-A2CF-8D741EE4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65BD-7B12-4E69-B207-7D3B995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00E3-C717-4C35-B399-C55F4398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F1A72-BABC-45E3-9BE7-6EE039BC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60B75-7676-4345-8F85-CF5E8AE3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5B8-0E52-458F-BBC0-52B8A903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2106-C9BA-4CC4-A91B-1A547212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194B-2F68-43CE-AE9D-675A1161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F1A9-74C9-4725-B5E9-C7BCC80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14673-E7E6-4F79-BC25-AC825ACB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2E30-E9BD-450E-8A95-58AEF24A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27D2C-C8C7-4544-96AC-04B565D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B72DB-F67A-4D3E-AFA5-9FCCFF6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6F043-2265-49CA-BA28-DC48D7E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8C78E-4E15-4DDD-9182-9C2F2B25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B076C-B70D-4944-80C2-6ACEB77F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104-5F35-4C82-8AA0-6784BE71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B3DC-2BF9-4A9A-94CD-8300BA60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0648-1DE7-4D28-BE89-7A6405A9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1E5C-64A9-4331-851D-EE62D830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1AB7-5AB6-443D-806E-E41BE0F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2983-F34D-4EBD-A409-331DB962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0475-9F32-48AD-9750-C4AC5AD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40435-93B9-4FB1-BCE9-B7A2847B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C6707-38EA-4EC5-B8C3-E1BFDC4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080B9-CE4F-4F44-BAD1-B0537862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8B1A6-A912-4D1E-8E1E-DB3FB97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265-AF06-4B63-A092-2830CC7A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77A78-653C-4487-8680-BD10FD51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4F408-C8C1-49E9-8630-08F05B72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05799-F611-434D-8F90-71477835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D33ECE-C32E-4E7E-ACF2-AA0D14D3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BAD47-5A58-4769-A4FE-072BADBE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90D55-4B2E-4FC6-9E83-496A4911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BEC90-4128-4A42-889E-F5BAFE74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21ECC-360D-47BE-9D9E-6A0BD0B2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5E104-CB77-41C4-A08E-D92C761C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BF5DF-A9A3-4715-AEA8-D3192031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2B0A-3573-4C24-A5E7-E2A8117F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71E5D-6EE7-44B1-94D2-FA0C1FD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26B95-BB62-4CDF-9F15-B3A6D144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4F4D2-1E97-41F0-976D-82BD92B8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630AE-4CFF-4565-A630-9661293D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EBC25-EEB9-4255-986B-5DE197CE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ACE56-D03B-4CDE-98B9-E00D15A2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0728-FB7E-47AC-B09D-D3795775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20513-8118-41E0-9476-2B1E4AD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A605-141B-4ACC-96BF-4A32EA6A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654DF-9F6D-464A-871B-C0D05DF5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D6A-7723-4B5C-B02E-B9E3D0B6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B4D1E-2F5C-4DCE-89CD-C1FE19F8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0F0F-3088-4355-9955-DBD6BFA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FDEA-EC11-4C95-AED9-42071C67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83F2C-0D71-46AE-9C52-A80B6C6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722E7-F066-4537-91A3-43729196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24368-8E56-428B-8944-60315B01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D01A-4C53-4CE0-B63B-73CBAB8D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95594C-DCA5-4B5A-B3DD-ED04BE65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36597-F2C6-42F3-865D-CA967014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BF20A-6A84-4164-BC4D-5BC12A1D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F3F-A7A1-49CB-B59E-A24CF9024934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13E2-EE91-4FE2-AF1E-5DCE120E17A9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FBBF-F6A3-4622-AB45-5DC0FE755003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EACE-2096-4117-96A9-3BAEE7ECAB2C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2225-8787-4A80-92C4-1407163B187B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12DA-CBDB-41FD-842E-9020AE2113B1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0EFA-7BE0-400C-9110-1121CD1EA68F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729A-FEF4-4F9E-8DB0-1D844BEC8CA5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B5C1-2BD6-458E-A8C4-4AF3425C7D52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FF1-0C94-4A29-BBE4-38DD1344A851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ABE1-4AF0-4D7F-8E81-71D7D9B79E3E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Gothic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B7E1-8CC1-4B49-A142-6DFC13B02FF9}" type="slidenum">
              <a:rPr b="1" lang="ru-RU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99760" y="571680"/>
            <a:ext cx="4643640" cy="24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                 </a:t>
            </a:r>
            <a:r>
              <a:rPr b="1" lang="ru-RU" sz="5400" spc="-1" strike="noStrike">
                <a:solidFill>
                  <a:srgbClr val="e75c01"/>
                </a:solidFill>
                <a:latin typeface="Century Gothic"/>
              </a:rPr>
              <a:t>ПО - …</a:t>
            </a:r>
            <a:br>
              <a:rPr sz="3200"/>
            </a:br>
            <a:r>
              <a:rPr b="1" lang="ru-RU" sz="2400" spc="-1" strike="noStrike">
                <a:solidFill>
                  <a:srgbClr val="575f6d"/>
                </a:solidFill>
                <a:latin typeface="Century Gothic"/>
              </a:rPr>
              <a:t>ОСОБЕННОСТИ НАЦИОНАЛЬНОГО ЮМОРА</a:t>
            </a:r>
            <a:endParaRPr b="0" lang="en-US" sz="24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214360" y="3214800"/>
            <a:ext cx="62434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46" name="Picture 4" descr="images (1)"/>
          <p:cNvPicPr/>
          <p:nvPr/>
        </p:nvPicPr>
        <p:blipFill>
          <a:blip r:embed="rId1"/>
          <a:stretch/>
        </p:blipFill>
        <p:spPr>
          <a:xfrm>
            <a:off x="6141960" y="476280"/>
            <a:ext cx="2386080" cy="2738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D:\Проект Статьи\Школьный картинки\1669663-d66af8324baa0bbb.gif"/>
          <p:cNvPicPr/>
          <p:nvPr/>
        </p:nvPicPr>
        <p:blipFill>
          <a:blip r:embed="rId2"/>
          <a:stretch/>
        </p:blipFill>
        <p:spPr>
          <a:xfrm>
            <a:off x="785880" y="1428840"/>
            <a:ext cx="271440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290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РОСТОТ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НЕМЕЦКОГО ЮМОРА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72" name="Picture 5" descr="D:\Проект Статьи\Немецкий юмор\Нем картинки\x_75573d56.jpg"/>
          <p:cNvPicPr/>
          <p:nvPr/>
        </p:nvPicPr>
        <p:blipFill>
          <a:blip r:embed="rId1"/>
          <a:stretch/>
        </p:blipFill>
        <p:spPr>
          <a:xfrm>
            <a:off x="142920" y="214200"/>
            <a:ext cx="3714840" cy="25005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214200" y="15184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ого харак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о вс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мору отведено определенное место и время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юм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и отдельных регионов Герм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нд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ый юм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6" name="Picture 2" descr="C:\Documents and Settings\Админ\Рабочий стол\Проект Статьи 1\Немецкий юмор\Нем картинки\smeshnye-komiksy-30-kartinok_21.jpg"/>
          <p:cNvPicPr/>
          <p:nvPr/>
        </p:nvPicPr>
        <p:blipFill>
          <a:blip r:embed="rId1"/>
          <a:stretch/>
        </p:blipFill>
        <p:spPr>
          <a:xfrm>
            <a:off x="127080" y="38160"/>
            <a:ext cx="88898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4" descr="D:\Проект Статьи\Савельева\Мама, не удаляй! А то ты любишь удалять нужные папки!\bZEUw96sZew.jpg"/>
          <p:cNvPicPr/>
          <p:nvPr/>
        </p:nvPicPr>
        <p:blipFill>
          <a:blip r:embed="rId1"/>
          <a:stretch/>
        </p:blipFill>
        <p:spPr>
          <a:xfrm>
            <a:off x="142920" y="571680"/>
            <a:ext cx="3429000" cy="221436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43240" y="274320"/>
            <a:ext cx="378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РУССКИЙ ЮМОР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ОСТРЫЙ И РЕЗКИЙ.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и                                   национального характер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Коллективизм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ездесущий, свобода шутить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ы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литика ;    семья;    учеб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жнациональные отнош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юбовь ; религия; искусство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роки (пьянство, алкоголизм, наркомания, лень, невежество…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ЛАВНЫЕ ГЕРОИ РУССКИХ АНЕКДОТОВ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81" name="Picture 2" descr="D:\Проект Статьи\Савельева\Мама, не удаляй! А то ты любишь удалять нужные папки!\4941_1.jpg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4" descr="D:\Проект Статьи\Франц. юмор\Фр. юмор\pics-0080.jpg"/>
          <p:cNvPicPr/>
          <p:nvPr/>
        </p:nvPicPr>
        <p:blipFill>
          <a:blip r:embed="rId1"/>
          <a:stretch/>
        </p:blipFill>
        <p:spPr>
          <a:xfrm>
            <a:off x="357120" y="214200"/>
            <a:ext cx="1714680" cy="33577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92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ИРОНИЧНЫЙ ФРАНЦУЗСКИЙ ЮМОР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428920" y="1071720"/>
            <a:ext cx="62863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и национального характе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ндивидуализм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гра слов, самоиронич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ы юмор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ранцуз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лабые и убог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лижайшие соседи (бельгийцы, швейцарц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изиологический юмо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рубые шутк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86" name="Picture 2" descr="C:\Documents and Settings\Админ\Рабочий стол\Проект Статьи 1\Франц. юмор\Фр. юмор\эйфелева-башня-черно-белое-фото-песочница-726577.jpeg"/>
          <p:cNvPicPr/>
          <p:nvPr/>
        </p:nvPicPr>
        <p:blipFill>
          <a:blip r:embed="rId1"/>
          <a:stretch/>
        </p:blipFill>
        <p:spPr>
          <a:xfrm>
            <a:off x="2286000" y="642960"/>
            <a:ext cx="528624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88" name="Picture 2" descr="C:\Documents and Settings\Админ\Рабочий стол\Проект Статьи 1\Франц. юмор\Фр. юмор\1356908241_dranstreetart_13.jpeg"/>
          <p:cNvPicPr/>
          <p:nvPr/>
        </p:nvPicPr>
        <p:blipFill>
          <a:blip r:embed="rId1"/>
          <a:stretch/>
        </p:blipFill>
        <p:spPr>
          <a:xfrm>
            <a:off x="1928880" y="571680"/>
            <a:ext cx="535788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90" name="Picture 2" descr="C:\Documents and Settings\Админ\Рабочий стол\Проект Статьи 1\Франц. юмор\Фр. юмор\95975813_1_1_81.jpg"/>
          <p:cNvPicPr/>
          <p:nvPr/>
        </p:nvPicPr>
        <p:blipFill>
          <a:blip r:embed="rId1"/>
          <a:stretch/>
        </p:blipFill>
        <p:spPr>
          <a:xfrm>
            <a:off x="1071720" y="857160"/>
            <a:ext cx="7310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8400" y="-357120"/>
            <a:ext cx="5686200" cy="193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200" spc="-1" strike="noStrike">
                <a:solidFill>
                  <a:srgbClr val="ff0000"/>
                </a:solidFill>
                <a:latin typeface="Century Gothic"/>
              </a:rPr>
              <a:t>Школьный юмор как часть русского национального юмора</a:t>
            </a:r>
            <a:br>
              <a:rPr sz="2200"/>
            </a:br>
            <a:endParaRPr b="0" lang="en-US" sz="22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езультаты анкетирова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3" name="Рисунок 3" descr="C:\Documents and Settings\Админ\Рабочий стол\Проект Статьи 1\P2100410.JPG"/>
          <p:cNvPicPr/>
          <p:nvPr/>
        </p:nvPicPr>
        <p:blipFill>
          <a:blip r:embed="rId1"/>
          <a:stretch/>
        </p:blipFill>
        <p:spPr>
          <a:xfrm>
            <a:off x="6072120" y="357120"/>
            <a:ext cx="2571840" cy="192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357120" y="2500200"/>
          <a:ext cx="8358120" cy="3657600"/>
        </p:xfrm>
        <a:graphic>
          <a:graphicData uri="http://schemas.openxmlformats.org/drawingml/2006/table">
            <a:tbl>
              <a:tblPr/>
              <a:tblGrid>
                <a:gridCol w="2786040"/>
                <a:gridCol w="2786040"/>
                <a:gridCol w="2786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веты 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тветы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к Вы считаете , не мешает ли юмор на уро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, мешает-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т, не мешает-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огда мешает- 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, мешает-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т, не мешает-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огда мешает-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цените свое чувство юм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5»- 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4»-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3»- 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2»- 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5»-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4»-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3»- 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2»-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96" name="Picture 2" descr="C:\Documents and Settings\Админ\Рабочий стол\Проект Статьи 1\Школьный картинки\2336.jpg"/>
          <p:cNvPicPr/>
          <p:nvPr/>
        </p:nvPicPr>
        <p:blipFill>
          <a:blip r:embed="rId1"/>
          <a:stretch/>
        </p:blipFill>
        <p:spPr>
          <a:xfrm>
            <a:off x="1309680" y="985680"/>
            <a:ext cx="652464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85920" y="1214280"/>
            <a:ext cx="50436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9a3d01"/>
                </a:solidFill>
                <a:uFillTx/>
                <a:latin typeface="Century Gothic"/>
              </a:rPr>
              <a:t>ЦЕЛЬ ИССЛЕДОВАНИЯ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99680" y="2499840"/>
            <a:ext cx="74674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определение характерных особенностей национального юмора; создание условий для расширения языковой компетентности и пробуждения интереса к явлениям мировой культур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0" name="Picture 5" descr="D:\Проект Статьи 1\9168772Comedy_mask_small.jpg"/>
          <p:cNvPicPr/>
          <p:nvPr/>
        </p:nvPicPr>
        <p:blipFill>
          <a:blip r:embed="rId1"/>
          <a:stretch/>
        </p:blipFill>
        <p:spPr>
          <a:xfrm>
            <a:off x="7072200" y="571680"/>
            <a:ext cx="152424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98" name="Picture 2" descr="C:\Documents and Settings\Админ\Рабочий стол\Проект Статьи 1\Школьный картинки\1283374835_1.1.jpg"/>
          <p:cNvPicPr/>
          <p:nvPr/>
        </p:nvPicPr>
        <p:blipFill>
          <a:blip r:embed="rId1"/>
          <a:stretch/>
        </p:blipFill>
        <p:spPr>
          <a:xfrm>
            <a:off x="928800" y="785880"/>
            <a:ext cx="7000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600" name="Picture 2" descr="C:\Documents and Settings\Админ\Рабочий стол\Проект Статьи 1\Школьный картинки\ce8ec883751d.jpg"/>
          <p:cNvPicPr/>
          <p:nvPr/>
        </p:nvPicPr>
        <p:blipFill>
          <a:blip r:embed="rId1"/>
          <a:stretch/>
        </p:blipFill>
        <p:spPr>
          <a:xfrm>
            <a:off x="714240" y="676440"/>
            <a:ext cx="7286760" cy="55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ЮМОР КАК ОТРАЖЕНИЕ НАЦИОНАЛЬНОГО ХАРАКТЕРА</a:t>
            </a:r>
            <a:endParaRPr b="0" lang="en-US" sz="2400" spc="-1" strike="noStrike">
              <a:solidFill>
                <a:srgbClr val="575f6d"/>
              </a:solidFill>
              <a:latin typeface="Century Gothic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28760" y="1143000"/>
          <a:ext cx="8400960" cy="5527800"/>
        </p:xfrm>
        <a:graphic>
          <a:graphicData uri="http://schemas.openxmlformats.org/drawingml/2006/table">
            <a:tbl>
              <a:tblPr/>
              <a:tblGrid>
                <a:gridCol w="1679400"/>
                <a:gridCol w="1249560"/>
                <a:gridCol w="2286000"/>
                <a:gridCol w="1506240"/>
                <a:gridCol w="1679760"/>
              </a:tblGrid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национ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10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ц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во вс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тели отдельных регионов Герм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онди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ы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ст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е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вкусы и интересы собесед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иро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мору отведено определенное место и 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уз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у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и убог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жайшие соседи (бельгийцы, швейцарц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 шу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любят, когда шутят над ни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слов, самоирон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лий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порность и высокомер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лительность и невозмутимость англичан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е ц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держ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ЮМОР КАК ОТРАЖЕНИЕ НАЦИОНАЛЬНОГО ХАРАКТЕРА</a:t>
            </a:r>
            <a:endParaRPr b="0" lang="en-US" sz="2400" spc="-1" strike="noStrike">
              <a:solidFill>
                <a:srgbClr val="575f6d"/>
              </a:solidFill>
              <a:latin typeface="Century Gothic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28760" y="1143000"/>
          <a:ext cx="8400960" cy="4192560"/>
        </p:xfrm>
        <a:graphic>
          <a:graphicData uri="http://schemas.openxmlformats.org/drawingml/2006/table">
            <a:tbl>
              <a:tblPr/>
              <a:tblGrid>
                <a:gridCol w="1679400"/>
                <a:gridCol w="1249560"/>
                <a:gridCol w="2286000"/>
                <a:gridCol w="1506240"/>
                <a:gridCol w="1679760"/>
              </a:tblGrid>
              <a:tr h="900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ый юм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национально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кты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б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юм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29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а, семья (теща-зять, муж-жена-любовник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национальные отношени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овь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игия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ки (пьянство алкоголизм), наркомания, лень, невежество…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десущий, свобода шути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ЫВОДЫ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того чтобы понять юмор, необходимо самому обладать чувством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Понимать» душу и культуру тех людей, от которых исходит этот самый юмо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нать язы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fe8637"/>
              </a:buClr>
              <a:buSzPct val="7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ула понимания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уша – язык – юмор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608" name="Picture 2" descr="C:\Documents and Settings\Админ\Рабочий стол\Проект Статьи 1\Школьный картинки\3f4808b525a42a0bb340252b3c0de1d3_L.jpg"/>
          <p:cNvPicPr/>
          <p:nvPr/>
        </p:nvPicPr>
        <p:blipFill>
          <a:blip r:embed="rId1"/>
          <a:stretch/>
        </p:blipFill>
        <p:spPr>
          <a:xfrm>
            <a:off x="619200" y="2286000"/>
            <a:ext cx="3333600" cy="292896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за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75c01"/>
                </a:solidFill>
                <a:latin typeface="Century Gothic"/>
              </a:rPr>
              <a:t>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568656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entury Gothic"/>
              </a:rPr>
              <a:t>ЗАДАЧИ ИССЛЕДОВАНИЯ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зучить опубликованные исследовательские работы по данной проблем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равнить характерные особенности национального юм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вести анкетирование среди учителей и учащихся с целью выявления роли школьного юмора как части национального русского юм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ставить собранный материал в виде буклета и презентации для дальнейшего использования на уроках и внеурочных занятиях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3" name="Picture 5" descr="D:\Проект Статьи 1\9168772Comedy_mask_small.jpg"/>
          <p:cNvPicPr/>
          <p:nvPr/>
        </p:nvPicPr>
        <p:blipFill>
          <a:blip r:embed="rId1"/>
          <a:stretch/>
        </p:blipFill>
        <p:spPr>
          <a:xfrm>
            <a:off x="7429680" y="2858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00"/>
                </a:solidFill>
                <a:uFillTx/>
                <a:latin typeface="Century Gothic"/>
              </a:rPr>
              <a:t>ОБЪЕКТ ИССЛЕДОВАНИЯ </a:t>
            </a: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Gothic"/>
              </a:rPr>
              <a:t>НАЦИОНАЛЬНЫЙ ЮМОР</a:t>
            </a: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entury Gothic"/>
              </a:rPr>
              <a:t>Предмет исследования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характерные особенности национального юмора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entury Gothic"/>
              </a:rPr>
              <a:t>Методы работы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изучение специальной литературы и Интернет-ресурсов, анализ собранного материала, сравнение, обобщение, анкетировани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6" name="Picture 5" descr="D:\Проект Статьи 1\9168772Comedy_mask_small.jpg"/>
          <p:cNvPicPr/>
          <p:nvPr/>
        </p:nvPicPr>
        <p:blipFill>
          <a:blip r:embed="rId1"/>
          <a:stretch/>
        </p:blipFill>
        <p:spPr>
          <a:xfrm>
            <a:off x="7572240" y="285840"/>
            <a:ext cx="1357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ОНЯТИЕ ЮМОРА</a:t>
            </a: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6840" y="16002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 Понимание комического, умение видеть и показывать смешное, снисходительно-насмешливое отношение к чему-н…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В искусстве: изображение чего-н. в смешном, комическом виде».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59" name="Picture 4" descr="C:\Documents and Settings\Админ\Рабочий стол\Проект Статьи 1\ozhegov.jpg"/>
          <p:cNvPicPr/>
          <p:nvPr/>
        </p:nvPicPr>
        <p:blipFill>
          <a:blip r:embed="rId1"/>
          <a:stretch/>
        </p:blipFill>
        <p:spPr>
          <a:xfrm>
            <a:off x="5500800" y="1785960"/>
            <a:ext cx="2786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C:\Documents and Settings\Admin\Мои документы\Мои рисунки\рабочая\АНИМИРОВАННЫЕ ГИФЫ --- праздн1.files\birth1.files\5-16.gif"/>
          <p:cNvPicPr/>
          <p:nvPr/>
        </p:nvPicPr>
        <p:blipFill>
          <a:blip r:embed="rId1"/>
          <a:stretch/>
        </p:blipFill>
        <p:spPr>
          <a:xfrm>
            <a:off x="0" y="0"/>
            <a:ext cx="2517840" cy="306864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99880" y="571680"/>
            <a:ext cx="492444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НГЛИЙСКИЙ ЮМОР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КАК ПРИЗНАК ТОНКОГО УМА</a:t>
            </a:r>
            <a:br>
              <a:rPr sz="2800"/>
            </a:br>
            <a:endParaRPr b="0" lang="en-US" sz="28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и национального   характера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чопорность и высокомерие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собенность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держанный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ъекты юмор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медлительность и невозмутим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нгличан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год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олити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емейные цен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рландцы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67120" indent="-26712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pic>
        <p:nvPicPr>
          <p:cNvPr id="564" name="Picture 2" descr="C:\Documents and Settings\Админ\Рабочий стол\Проект Статьи 1\Анг. юмор\Англ. картинки\0023.jpg"/>
          <p:cNvPicPr/>
          <p:nvPr/>
        </p:nvPicPr>
        <p:blipFill>
          <a:blip r:embed="rId1"/>
          <a:stretch/>
        </p:blipFill>
        <p:spPr>
          <a:xfrm>
            <a:off x="1593720" y="1600200"/>
            <a:ext cx="5194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7" name="Picture 2" descr="C:\Documents and Settings\Админ\Рабочий стол\Проект Статьи 1\Анг. юмор\Англ. картинки\1361198251_comics-08022013-026_resize.jpg"/>
          <p:cNvPicPr/>
          <p:nvPr/>
        </p:nvPicPr>
        <p:blipFill>
          <a:blip r:embed="rId1"/>
          <a:stretch/>
        </p:blipFill>
        <p:spPr>
          <a:xfrm>
            <a:off x="2176560" y="571680"/>
            <a:ext cx="4790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70" name="Picture 2" descr="C:\Documents and Settings\Админ\Рабочий стол\Проект Статьи 1\Анг. юмор\Англ. картинки\prikolnullnaa_fotopodborka_34.jpg"/>
          <p:cNvPicPr/>
          <p:nvPr/>
        </p:nvPicPr>
        <p:blipFill>
          <a:blip r:embed="rId1"/>
          <a:stretch/>
        </p:blipFill>
        <p:spPr>
          <a:xfrm>
            <a:off x="1000080" y="1438200"/>
            <a:ext cx="71438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1:54:03Z</dcterms:created>
  <dc:creator>Admin</dc:creator>
  <dc:description/>
  <dc:language>en-US</dc:language>
  <cp:lastModifiedBy>МАМА</cp:lastModifiedBy>
  <dcterms:modified xsi:type="dcterms:W3CDTF">2022-09-29T18:17:40Z</dcterms:modified>
  <cp:revision>128</cp:revision>
  <dc:subject/>
  <dc:title>Слайд 1</dc:title>
</cp:coreProperties>
</file>