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654-30DA-40C8-ABE1-A856A6F7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48B-8DA1-4E96-ACB6-76C7A29F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49B35-A866-4DE8-BCEB-572DAE4E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468F41-B1A5-4B1A-A0A2-02BD9979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6BC229-EB63-4D4F-8D9A-3D984336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6DE261-E419-4FB7-9399-A9054D35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CC6924-3846-4037-A454-52706DAF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861F21-D971-421C-A4F0-7B2FEF9D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8781F3-A285-4402-8220-391F9A9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9EB217-E4B3-4094-BCEC-493BA24E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BE0BC7-571E-4648-B527-E18C639E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0E1E33-218E-4809-A4FA-7BB64099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3E1-2F7A-4615-A9F1-AD5AC223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EE83D7-9A4C-4A3B-99AB-9BF80ACD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7D7134-E297-4E51-8B2B-9FFC07E5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E85DDA-D6A2-44D4-AC7D-2FF16797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204596-97DD-4166-B31F-39A0C066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09DAC1-DAAC-441D-91D2-D0F1ADAD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254CAB-1EA9-466F-A118-B4EB1982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467158-6624-4FC5-9A19-3C63F07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AF5099-C29A-4889-BBA6-7A46244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4EF27-0073-4CFA-A998-3CCF920E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526AE-9AF4-4ECD-A129-6A3DDC41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389-157B-44B4-831B-D81C33F8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F1B99A-C839-4B62-B084-82A272DF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7341C-3EB8-4381-99B1-DD565344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8736C-8975-46B3-96E1-E1224E47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81796-60FB-4B83-ABE9-FACE60BC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18523-55B3-454C-AD47-F1582D82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23AEE-F34C-4CEE-866F-B7888F47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2E72B-965C-4F1D-8D88-902807F6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F02BB-B461-43B9-BF27-EB570CF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1C454-EAAF-4735-88C8-9506F76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800AE-CE74-413C-A459-8830BD5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B8C0-C708-4201-B737-BD744821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001C2-639C-4E02-B42E-CBD85108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E2961-282A-471F-968D-32CF0191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A9DCF-8DCF-4F72-91F3-601F1065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A2F58-4EAA-40AD-B7CA-608896A1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443D5-693D-4CEF-B426-CDB5ECEC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2A286-39B1-499A-A706-5E2243E7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0F9C7-1C75-4597-81FB-281C39C6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F2194-7EBF-443F-8E3B-03E5B260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854E0-EADC-414B-A921-73E4A0EC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E782D-D17B-4087-A2ED-75027866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E1F8-E94F-4516-98F7-9FB99FC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F1746-659E-4F0D-9229-F4B6A7F0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E9843-006D-47F6-8E3C-5C71681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00E84-64CE-437B-B93A-8160B985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8024D-EA3C-4770-9C43-D18033A4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6CC25-4C17-4911-A7AA-2E58CDEC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963E-5964-4447-B2F0-BB6BBEB5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2165-0FC7-4EF8-88D5-1A5038B3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4373-15AF-4D4F-A94D-603488DC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E758-1EB2-4364-9407-824504AE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A461-C1D2-4C36-BC95-4D2089C2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EF0-3D8C-4728-ADE2-DAF9F727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E646-8884-4AFA-B0BD-BFCC56E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E775-A4AC-41A2-BB4E-94FDF85B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1656-2FE5-4D74-B72F-A22C0F1C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1ADF-BCAC-491A-8A68-82164399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2159-D4F1-45D3-AD77-C23AAA1D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58761-6B34-4E75-901E-AB8C33F6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69656-F53C-4E3B-AD97-87096993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C4A48-5687-4E8C-A44E-1186D193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8D846-294C-4049-8A47-16ECE001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FC9EC-76F0-4014-AB79-7EAED520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370-FF55-4E29-B2FF-63A680E5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311B3-8D40-4736-8B06-85F2A58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66726-3565-409F-A25C-8F59514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9AD01-61ED-474E-B209-1BF8903A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CD745-0E7B-43A5-88C0-DC608D79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21643-B243-4607-8F14-45E2A319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B845D-B940-4039-8332-DFEBD2BB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850F2-C882-413B-A93D-89382F1C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C130F-8E66-472E-B8DD-19445158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79CF-B4EE-4AAE-987A-09FCD94F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BDD5-96CE-4BB8-89F1-09B6A24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9C8-3F66-4317-A2E0-D1AB3A27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94B19-5D38-4E64-A00A-23BFD0A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FF7EE-DBF4-4B9B-A9C1-ADFF217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9F575-3EF2-4BC9-85A1-7C742E1C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3976-834B-4174-9F6B-57733FF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5175-A00B-4007-B08B-15794163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B7B3-5F60-424E-9F55-3E4C0E9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ACC7F-2E51-404C-8217-85D0C216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7B1A-1129-45CA-91DC-6D50E2EE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F4949-6CAC-4148-88D9-493C7455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2DE4-0DAE-4063-A28B-A1617F88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62B-ED87-4401-868A-890C2116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758E3-99C4-4354-B252-85ECCF74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EDD86-AC4E-42E2-8726-95D8006C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C095E-901A-41CA-A22F-54313249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6392F-CA16-4573-B118-66BF784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B56DD-548A-4111-824E-DD066317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D0D28-A881-441C-BA83-8D183CA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F3504-B414-48B6-A0BB-BD67924F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6710-BADC-4470-8B9A-52A341C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B9D3-3B84-4C26-BEDD-C9AC1DFE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65AB-76D7-455F-BE10-84E9DF85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1E5-3776-4C11-A585-C86C309D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45B19-511E-4A9B-BC8D-15D215A5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0891-3924-43DF-B037-AED2B097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61C52-8B8F-4486-BB32-FD18F9DA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CDDBE-08CB-455C-90F3-C08C8823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C189-52EB-4AA2-9FE7-47CB8EE2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910C4-CDF4-493D-BC46-96237CB0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D8943-4942-4A19-A2EA-7FEA3DAA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6288B-E47A-437C-913D-D8D932B8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8CED2-CEBB-44EC-9BF6-9A02BEB4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DBC8-D449-49E1-9B53-983F5A4F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1B0-2C4E-4655-A15F-98D8EA0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6C831-52CE-4D9C-BCEE-CA6D992A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33BF6-7924-4369-ADCF-5D3591D4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BF1ED-D0EB-45B1-A17C-3C1307D1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024D5-71D9-4BEC-9427-F32841B5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82FFC-5D44-4D93-AD87-B88C667B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2617F-A875-4275-B718-53E6B50A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7BBCF-E0D5-4563-B8A3-C7F3D23A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360D8-2CA0-4F00-8D5E-6BF8B0E5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EA91D-F1BD-40CB-BF42-1A1C5E18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EC266-4080-4D69-A7E8-091A702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D89-DF0B-414E-B167-1DA8028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D4072-A51D-4847-9194-E0EB8C7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2D4E1-3750-4125-80F2-2AF7EFEC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7E7AE-7FA4-4AA9-B7D7-AFD35D19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32FB6-443C-4EC2-86E7-13329564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746C7-A0F4-4313-ABE9-68F2C4C0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672C8-1271-4F78-B07E-EDA26C22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86CB0-5543-404E-BC22-ACAD9F2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59377-ABF6-4B8A-8BAE-15ABEB1E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0A56-63AE-4E30-947D-581AF429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F5E64-E82D-495F-B207-E28C3283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E44-13CB-46B1-A2B0-122C822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7269C-C2B1-4CB3-9479-1C4ABC2C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6D90A-7BA5-4BB8-B407-DA972837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4F9EE-C252-4725-AA17-A49E61B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2E98A-8C0C-4366-9301-B9E11A1B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6B0DD-2954-4119-B0AB-4FDE8964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88A66-75F9-456C-901B-7F411D8C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30B0A-ECD8-4D6F-A1FA-D4760720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46A20-90CF-410A-8625-66B5B296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EED43C-33F2-4749-A796-2D23C593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FBA8D4-A806-456E-B675-3276002D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586-7573-46EF-A4A6-A571CD31841D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B216-5EF0-43CC-88BA-29BF72C2F189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566C-3DC0-4E37-B155-D9B18761B059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7315-0434-490F-8316-2E0F686EE4FA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DD0A-8EFB-4C79-A282-E0CD7B24631C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3E21-1E3E-4E22-AE8E-086F0B4C0F87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FC14-9DCD-4BFF-ABF1-1DF1D9E659B2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71D3-9168-4C49-918D-40BA5F321C00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C088-3CB1-4CA3-BB8F-1F49A572EF67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3A59-C8FC-4E75-A157-FA0057D62E5C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FD4D-B961-4563-86F4-2769E86D7F35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07C9-FDC0-42A0-B959-5082A9CF93B2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99760" y="571680"/>
            <a:ext cx="464364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                 </a:t>
            </a:r>
            <a:r>
              <a:rPr b="1" lang="ru-RU" sz="5400" spc="-1" strike="noStrike">
                <a:solidFill>
                  <a:srgbClr val="e75c01"/>
                </a:solidFill>
                <a:latin typeface="Century Gothic"/>
              </a:rPr>
              <a:t>ПО - …</a:t>
            </a:r>
            <a:br>
              <a:rPr sz="3200"/>
            </a:br>
            <a:r>
              <a:rPr b="1" lang="ru-RU" sz="2400" spc="-1" strike="noStrike">
                <a:solidFill>
                  <a:srgbClr val="575f6d"/>
                </a:solidFill>
                <a:latin typeface="Century Gothic"/>
              </a:rPr>
              <a:t>ОСОБЕННОСТИ НАЦИОНАЛЬНОГО ЮМОРА</a:t>
            </a:r>
            <a:endParaRPr b="0" lang="en-US" sz="24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2214360" y="3214800"/>
            <a:ext cx="62434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6" name="Picture 4" descr="images (1)"/>
          <p:cNvPicPr/>
          <p:nvPr/>
        </p:nvPicPr>
        <p:blipFill>
          <a:blip r:embed="rId1"/>
          <a:stretch/>
        </p:blipFill>
        <p:spPr>
          <a:xfrm>
            <a:off x="6141960" y="476280"/>
            <a:ext cx="2386080" cy="2738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D:\Проект Статьи\Школьный картинки\1669663-d66af8324baa0bbb.gif"/>
          <p:cNvPicPr/>
          <p:nvPr/>
        </p:nvPicPr>
        <p:blipFill>
          <a:blip r:embed="rId2"/>
          <a:stretch/>
        </p:blipFill>
        <p:spPr>
          <a:xfrm>
            <a:off x="785880" y="1428840"/>
            <a:ext cx="271440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4290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РОСТОТ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 НЕМЕЦКОГО ЮМОРА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72" name="Picture 5" descr="D:\Проект Статьи\Немецкий юмор\Нем картинки\x_75573d56.jpg"/>
          <p:cNvPicPr/>
          <p:nvPr/>
        </p:nvPicPr>
        <p:blipFill>
          <a:blip r:embed="rId1"/>
          <a:stretch/>
        </p:blipFill>
        <p:spPr>
          <a:xfrm>
            <a:off x="142920" y="214200"/>
            <a:ext cx="3714840" cy="25005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5"/>
          <p:cNvSpPr/>
          <p:nvPr/>
        </p:nvSpPr>
        <p:spPr>
          <a:xfrm>
            <a:off x="214200" y="15184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о в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ю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ору отведено определенное место и время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юм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и отдельных регионов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нд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ю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6" name="Picture 2" descr="C:\Documents and Settings\Админ\Рабочий стол\Проект Статьи 1\Немецкий юмор\Нем картинки\smeshnye-komiksy-30-kartinok_21.jpg"/>
          <p:cNvPicPr/>
          <p:nvPr/>
        </p:nvPicPr>
        <p:blipFill>
          <a:blip r:embed="rId1"/>
          <a:stretch/>
        </p:blipFill>
        <p:spPr>
          <a:xfrm>
            <a:off x="127080" y="38160"/>
            <a:ext cx="88898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D:\Проект Статьи\Савельева\Мама, не удаляй! А то ты любишь удалять нужные папки!\bZEUw96sZew.jpg"/>
          <p:cNvPicPr/>
          <p:nvPr/>
        </p:nvPicPr>
        <p:blipFill>
          <a:blip r:embed="rId1"/>
          <a:stretch/>
        </p:blipFill>
        <p:spPr>
          <a:xfrm>
            <a:off x="142920" y="571680"/>
            <a:ext cx="3429000" cy="221436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43240" y="274320"/>
            <a:ext cx="37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РУССКИЙ ЮМОР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СТРЫЙ И РЕЗКИЙ.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и                                   национального характер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ллективизм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ь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ездесущий, свобода шути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ъекты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литика ;    семья;    учеб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ежнациональные отнош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юбовь ; религия; искусство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роки (пьянство, алкоголизм, наркомания, лень, невежество…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ЛАВНЫЕ ГЕРОИ РУССКИХ АНЕКДОТОВ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81" name="Picture 2" descr="D:\Проект Статьи\Савельева\Мама, не удаляй! А то ты любишь удалять нужные папки!\4941_1.jpg"/>
          <p:cNvPicPr/>
          <p:nvPr/>
        </p:nvPicPr>
        <p:blipFill>
          <a:blip r:embed="rId1"/>
          <a:stretch/>
        </p:blipFill>
        <p:spPr>
          <a:xfrm>
            <a:off x="285840" y="1571760"/>
            <a:ext cx="85723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D:\Проект Статьи\Франц. юмор\Фр. юмор\pics-0080.jpg"/>
          <p:cNvPicPr/>
          <p:nvPr/>
        </p:nvPicPr>
        <p:blipFill>
          <a:blip r:embed="rId1"/>
          <a:stretch/>
        </p:blipFill>
        <p:spPr>
          <a:xfrm>
            <a:off x="357120" y="214200"/>
            <a:ext cx="1714680" cy="33577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ИРОНИЧНЫЙ ФРАНЦУЗСКИЙ ЮМОР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428920" y="1071720"/>
            <a:ext cx="62863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и национального характе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ндивидуализм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ь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гра слов, самоиронич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ъекты юмор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ранцуз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лабые и убог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лижайшие соседи (бельгийцы, швейцарцы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изиологический юмо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грубые шутк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86" name="Picture 2" descr="C:\Documents and Settings\Админ\Рабочий стол\Проект Статьи 1\Франц. юмор\Фр. юмор\эйфелева-башня-черно-белое-фото-песочница-726577.jpeg"/>
          <p:cNvPicPr/>
          <p:nvPr/>
        </p:nvPicPr>
        <p:blipFill>
          <a:blip r:embed="rId1"/>
          <a:stretch/>
        </p:blipFill>
        <p:spPr>
          <a:xfrm>
            <a:off x="2286000" y="642960"/>
            <a:ext cx="52862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88" name="Picture 2" descr="C:\Documents and Settings\Админ\Рабочий стол\Проект Статьи 1\Франц. юмор\Фр. юмор\1356908241_dranstreetart_13.jpeg"/>
          <p:cNvPicPr/>
          <p:nvPr/>
        </p:nvPicPr>
        <p:blipFill>
          <a:blip r:embed="rId1"/>
          <a:stretch/>
        </p:blipFill>
        <p:spPr>
          <a:xfrm>
            <a:off x="1928880" y="571680"/>
            <a:ext cx="535788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90" name="Picture 2" descr="C:\Documents and Settings\Админ\Рабочий стол\Проект Статьи 1\Франц. юмор\Фр. юмор\95975813_1_1_81.jpg"/>
          <p:cNvPicPr/>
          <p:nvPr/>
        </p:nvPicPr>
        <p:blipFill>
          <a:blip r:embed="rId1"/>
          <a:stretch/>
        </p:blipFill>
        <p:spPr>
          <a:xfrm>
            <a:off x="1071720" y="857160"/>
            <a:ext cx="7310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400" y="-357120"/>
            <a:ext cx="5686200" cy="19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Школьный юмор как часть русского национального юмора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езультаты анкетирова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3" name="Рисунок 3" descr="C:\Documents and Settings\Админ\Рабочий стол\Проект Статьи 1\P2100410.JPG"/>
          <p:cNvPicPr/>
          <p:nvPr/>
        </p:nvPicPr>
        <p:blipFill>
          <a:blip r:embed="rId1"/>
          <a:stretch/>
        </p:blipFill>
        <p:spPr>
          <a:xfrm>
            <a:off x="6072120" y="357120"/>
            <a:ext cx="257184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357120" y="2500200"/>
          <a:ext cx="8358120" cy="365760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веты уч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веты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к Вы считаете , не мешает ли юмор на уро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, мешает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т, не мешает-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огда мешает- 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, мешает-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т, не мешает-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огда мешает-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цените свое чувство юм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5»- 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4»-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3»- 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2»-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5»-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4»-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3»- 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2»-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96" name="Picture 2" descr="C:\Documents and Settings\Админ\Рабочий стол\Проект Статьи 1\Школьный картинки\2336.jpg"/>
          <p:cNvPicPr/>
          <p:nvPr/>
        </p:nvPicPr>
        <p:blipFill>
          <a:blip r:embed="rId1"/>
          <a:stretch/>
        </p:blipFill>
        <p:spPr>
          <a:xfrm>
            <a:off x="1309680" y="985680"/>
            <a:ext cx="65246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85920" y="1214280"/>
            <a:ext cx="50436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9a3d01"/>
                </a:solidFill>
                <a:uFillTx/>
                <a:latin typeface="Century Gothic"/>
              </a:rPr>
              <a:t>ЦЕЛЬ ИССЛЕДОВАНИЯ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99680" y="2499840"/>
            <a:ext cx="74674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пределение характерных особенностей национального юмора; создание условий для расширения языковой компетентности и пробуждения интереса к явлениям мировой культур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0" name="Picture 5" descr="D:\Проект Статьи 1\9168772Comedy_mask_small.jpg"/>
          <p:cNvPicPr/>
          <p:nvPr/>
        </p:nvPicPr>
        <p:blipFill>
          <a:blip r:embed="rId1"/>
          <a:stretch/>
        </p:blipFill>
        <p:spPr>
          <a:xfrm>
            <a:off x="7072200" y="571680"/>
            <a:ext cx="15242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98" name="Picture 2" descr="C:\Documents and Settings\Админ\Рабочий стол\Проект Статьи 1\Школьный картинки\1283374835_1.1.jpg"/>
          <p:cNvPicPr/>
          <p:nvPr/>
        </p:nvPicPr>
        <p:blipFill>
          <a:blip r:embed="rId1"/>
          <a:stretch/>
        </p:blipFill>
        <p:spPr>
          <a:xfrm>
            <a:off x="928800" y="785880"/>
            <a:ext cx="7000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600" name="Picture 2" descr="C:\Documents and Settings\Админ\Рабочий стол\Проект Статьи 1\Школьный картинки\ce8ec883751d.jpg"/>
          <p:cNvPicPr/>
          <p:nvPr/>
        </p:nvPicPr>
        <p:blipFill>
          <a:blip r:embed="rId1"/>
          <a:stretch/>
        </p:blipFill>
        <p:spPr>
          <a:xfrm>
            <a:off x="714240" y="676440"/>
            <a:ext cx="728676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ЮМОР КАК ОТРАЖЕНИЕ НАЦИОНАЛЬНОГО ХАРАКТЕРА</a:t>
            </a:r>
            <a:endParaRPr b="0" lang="en-US" sz="2400" spc="-1" strike="noStrike">
              <a:solidFill>
                <a:srgbClr val="575f6d"/>
              </a:solidFill>
              <a:latin typeface="Century Gothic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28760" y="1143000"/>
          <a:ext cx="8400960" cy="5527800"/>
        </p:xfrm>
        <a:graphic>
          <a:graphicData uri="http://schemas.openxmlformats.org/drawingml/2006/table">
            <a:tbl>
              <a:tblPr/>
              <a:tblGrid>
                <a:gridCol w="1679400"/>
                <a:gridCol w="1249560"/>
                <a:gridCol w="2286000"/>
                <a:gridCol w="1506240"/>
                <a:gridCol w="1679760"/>
              </a:tblGrid>
              <a:tr h="90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ый 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национально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ы юм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юм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10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ц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во вс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и отдельных регионов Герм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нди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ый 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ст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е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, вкусы и интересы собесед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иро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у отведено определенное место и 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уз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у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и убог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жайшие соседи (бельгийцы, швейцарц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ий 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 шу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любят, когда шутят над н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слов, самоирон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опорность и высокомер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лительность и невозмутимость англича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е ц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рж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ЮМОР КАК ОТРАЖЕНИЕ НАЦИОНАЛЬНОГО ХАРАКТЕРА</a:t>
            </a:r>
            <a:endParaRPr b="0" lang="en-US" sz="2400" spc="-1" strike="noStrike">
              <a:solidFill>
                <a:srgbClr val="575f6d"/>
              </a:solidFill>
              <a:latin typeface="Century Gothic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28760" y="1143000"/>
          <a:ext cx="8400960" cy="4192560"/>
        </p:xfrm>
        <a:graphic>
          <a:graphicData uri="http://schemas.openxmlformats.org/drawingml/2006/table">
            <a:tbl>
              <a:tblPr/>
              <a:tblGrid>
                <a:gridCol w="1679400"/>
                <a:gridCol w="1249560"/>
                <a:gridCol w="2286000"/>
                <a:gridCol w="1506240"/>
                <a:gridCol w="1679760"/>
              </a:tblGrid>
              <a:tr h="90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ый 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национально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ы юм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юм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29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а, семья (теща-зять, муж-жена-любовник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национальные отношени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ки (пьянство алкоголизм), наркомания, лень, невежество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здесущий, свобода шу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ЫВОДЫ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того чтобы понять юмор, необходимо самому обладать чувством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Понимать» душу и культуру тех людей, от которых исходит этот самый юмо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нать язы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рмула понимания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уша – язык – юмо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608" name="Picture 2" descr="C:\Documents and Settings\Админ\Рабочий стол\Проект Статьи 1\Школьный картинки\3f4808b525a42a0bb340252b3c0de1d3_L.jpg"/>
          <p:cNvPicPr/>
          <p:nvPr/>
        </p:nvPicPr>
        <p:blipFill>
          <a:blip r:embed="rId1"/>
          <a:stretch/>
        </p:blipFill>
        <p:spPr>
          <a:xfrm>
            <a:off x="619200" y="2286000"/>
            <a:ext cx="3333600" cy="29289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Gothic"/>
              </a:rPr>
              <a:t>Спасиб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e75c01"/>
                </a:solidFill>
                <a:latin typeface="Century Gothic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Gothic"/>
              </a:rPr>
              <a:t>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56865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entury Gothic"/>
              </a:rPr>
              <a:t>ЗАДАЧИ ИССЛЕДОВАНИЯ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зучить опубликованные исследовательские работы по данной проблеме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равнить характерные особенности национального юмор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вести анкетирование среди учителей и учащихся с целью выявления роли школьного юмора как части национального русского юмор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дставить собранный материал в виде буклета и презентации для дальнейшего использования на уроках и внеурочных занятиях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3" name="Picture 5" descr="D:\Проект Статьи 1\9168772Comedy_mask_small.jpg"/>
          <p:cNvPicPr/>
          <p:nvPr/>
        </p:nvPicPr>
        <p:blipFill>
          <a:blip r:embed="rId1"/>
          <a:stretch/>
        </p:blipFill>
        <p:spPr>
          <a:xfrm>
            <a:off x="7429680" y="2858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Century Gothic"/>
              </a:rPr>
              <a:t>ОБЪЕКТ ИССЛЕДОВАНИЯ </a:t>
            </a:r>
            <a:r>
              <a:rPr b="0" lang="ru-RU" sz="3000" spc="-1" strike="noStrike" u="sng">
                <a:solidFill>
                  <a:srgbClr val="575f6d"/>
                </a:solidFill>
                <a:uFillTx/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Century Gothic"/>
              </a:rPr>
              <a:t>НАЦИОНАЛЬНЫЙ ЮМОР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entury Gothic"/>
              </a:rPr>
              <a:t>Предмет исследования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характерные особенности национального юмора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entury Gothic"/>
              </a:rPr>
              <a:t>Методы работы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зучение специальной литературы и Интернет-ресурсов, анализ собранного материала, сравнение, обобщение, анкетировани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6" name="Picture 5" descr="D:\Проект Статьи 1\9168772Comedy_mask_small.jpg"/>
          <p:cNvPicPr/>
          <p:nvPr/>
        </p:nvPicPr>
        <p:blipFill>
          <a:blip r:embed="rId1"/>
          <a:stretch/>
        </p:blipFill>
        <p:spPr>
          <a:xfrm>
            <a:off x="7572240" y="285840"/>
            <a:ext cx="1357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ОНЯТИЕ ЮМОРА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6002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 Понимание комического, умение видеть и показывать смешное, снисходительно-насмешливое отношение к чему-н…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В искусстве: изображение чего-н. в смешном, комическом виде»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9" name="Picture 4" descr="C:\Documents and Settings\Админ\Рабочий стол\Проект Статьи 1\ozhegov.jpg"/>
          <p:cNvPicPr/>
          <p:nvPr/>
        </p:nvPicPr>
        <p:blipFill>
          <a:blip r:embed="rId1"/>
          <a:stretch/>
        </p:blipFill>
        <p:spPr>
          <a:xfrm>
            <a:off x="5500800" y="1785960"/>
            <a:ext cx="2786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C:\Documents and Settings\Admin\Мои документы\Мои рисунки\рабочая\АНИМИРОВАННЫЕ ГИФЫ --- праздн1.files\birth1.files\5-16.gif"/>
          <p:cNvPicPr/>
          <p:nvPr/>
        </p:nvPicPr>
        <p:blipFill>
          <a:blip r:embed="rId1"/>
          <a:stretch/>
        </p:blipFill>
        <p:spPr>
          <a:xfrm>
            <a:off x="0" y="0"/>
            <a:ext cx="2517840" cy="30686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99880" y="571680"/>
            <a:ext cx="49244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НГЛИЙСКИЙ ЮМОР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КАК ПРИЗНАК ТОНКОГО УМА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и национального   характер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чопорность и высокомер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ь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держанны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ъекты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едлительность и невозмутим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нглича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го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лити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емейные цен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рландц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64" name="Picture 2" descr="C:\Documents and Settings\Админ\Рабочий стол\Проект Статьи 1\Анг. юмор\Англ. картинки\0023.jpg"/>
          <p:cNvPicPr/>
          <p:nvPr/>
        </p:nvPicPr>
        <p:blipFill>
          <a:blip r:embed="rId1"/>
          <a:stretch/>
        </p:blipFill>
        <p:spPr>
          <a:xfrm>
            <a:off x="1593720" y="1600200"/>
            <a:ext cx="51944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7" name="Picture 2" descr="C:\Documents and Settings\Админ\Рабочий стол\Проект Статьи 1\Анг. юмор\Англ. картинки\1361198251_comics-08022013-026_resize.jpg"/>
          <p:cNvPicPr/>
          <p:nvPr/>
        </p:nvPicPr>
        <p:blipFill>
          <a:blip r:embed="rId1"/>
          <a:stretch/>
        </p:blipFill>
        <p:spPr>
          <a:xfrm>
            <a:off x="2176560" y="571680"/>
            <a:ext cx="4790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0" name="Picture 2" descr="C:\Documents and Settings\Админ\Рабочий стол\Проект Статьи 1\Анг. юмор\Англ. картинки\prikolnullnaa_fotopodborka_34.jpg"/>
          <p:cNvPicPr/>
          <p:nvPr/>
        </p:nvPicPr>
        <p:blipFill>
          <a:blip r:embed="rId1"/>
          <a:stretch/>
        </p:blipFill>
        <p:spPr>
          <a:xfrm>
            <a:off x="1000080" y="1438200"/>
            <a:ext cx="71438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1:54:03Z</dcterms:created>
  <dc:creator>Admin</dc:creator>
  <dc:description/>
  <dc:language>en-US</dc:language>
  <cp:lastModifiedBy>МАМА</cp:lastModifiedBy>
  <dcterms:modified xsi:type="dcterms:W3CDTF">2022-09-29T18:17:40Z</dcterms:modified>
  <cp:revision>128</cp:revision>
  <dc:subject/>
  <dc:title>Слайд 1</dc:title>
</cp:coreProperties>
</file>