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13.wmf" ContentType="image/x-wmf"/>
  <Override PartName="/ppt/media/image15.png" ContentType="image/png"/>
  <Override PartName="/ppt/media/image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B2B4-FBA8-4B24-91EF-7900AF15D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11280" y="117360"/>
            <a:ext cx="8075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9640" y="112356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9640" y="348876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4E68-D00C-42DC-AF75-98BE94266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11280" y="117360"/>
            <a:ext cx="8075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9640" y="112356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6680" y="112356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9640" y="348876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6680" y="348876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E949-2AA6-469A-AB59-D2D5C9C47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11280" y="117360"/>
            <a:ext cx="8075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9640" y="112356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080" y="112356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4520" y="112356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9640" y="348876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080" y="348876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4520" y="348876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1531-F920-4750-A7EE-F77213948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117360"/>
            <a:ext cx="8075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9640" y="112356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1280" y="117360"/>
            <a:ext cx="8075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640" y="112356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117360"/>
            <a:ext cx="8075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9640" y="112356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6680" y="112356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1280" y="117360"/>
            <a:ext cx="8075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11280" y="117360"/>
            <a:ext cx="807552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11280" y="117360"/>
            <a:ext cx="8075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9640" y="112356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6680" y="112356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9640" y="348876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11280" y="117360"/>
            <a:ext cx="8075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9640" y="112356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14EE-105E-4C56-9C0C-AD16C3815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17360"/>
            <a:ext cx="8075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9640" y="112356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56680" y="112356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56680" y="348876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11280" y="117360"/>
            <a:ext cx="8075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9640" y="112356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56680" y="112356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39640" y="348876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11280" y="117360"/>
            <a:ext cx="8075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9640" y="112356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9640" y="348876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11280" y="117360"/>
            <a:ext cx="8075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9640" y="112356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56680" y="112356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39640" y="348876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56680" y="348876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11280" y="117360"/>
            <a:ext cx="8075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9640" y="112356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22080" y="112356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04520" y="112356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39640" y="348876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22080" y="348876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04520" y="348876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11280" y="117360"/>
            <a:ext cx="8075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9640" y="112356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FB55-7046-46A3-BB56-D41526EBF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11280" y="117360"/>
            <a:ext cx="8075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9640" y="112356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6680" y="112356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0640-D6AA-4A7E-8948-55DA34661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11280" y="117360"/>
            <a:ext cx="8075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A8FE-3FF6-4CED-A3E0-DBF61381A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11280" y="117360"/>
            <a:ext cx="807552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4536-BFE9-4442-A7A9-EAF040FBE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11280" y="117360"/>
            <a:ext cx="8075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640" y="112356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6680" y="112356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9640" y="348876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653D-2E96-449E-9992-FD3AF07D1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11280" y="117360"/>
            <a:ext cx="8075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640" y="112356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6680" y="112356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6680" y="348876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7CD6-797B-4158-B434-E54129E50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11280" y="117360"/>
            <a:ext cx="8075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640" y="112356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680" y="112356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9640" y="348876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1E0B-53D7-4F67-BDFB-E2F0F581C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2"/>
          <p:cNvPicPr/>
          <p:nvPr/>
        </p:nvPicPr>
        <p:blipFill>
          <a:blip r:embed="rId2"/>
          <a:srcRect l="3195" t="0" r="2283" b="0"/>
          <a:stretch/>
        </p:blipFill>
        <p:spPr>
          <a:xfrm>
            <a:off x="0" y="0"/>
            <a:ext cx="91695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11280" y="117360"/>
            <a:ext cx="8075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9640" y="112356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E7359-5BB4-42FC-B25C-67657074E21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1"/>
          <p:cNvPicPr/>
          <p:nvPr/>
        </p:nvPicPr>
        <p:blipFill>
          <a:blip r:embed="rId2"/>
          <a:srcRect l="0" t="3595" r="0" b="0"/>
          <a:stretch/>
        </p:blipFill>
        <p:spPr>
          <a:xfrm>
            <a:off x="0" y="0"/>
            <a:ext cx="9144000" cy="623268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7"/>
          <p:cNvSpPr/>
          <p:nvPr/>
        </p:nvSpPr>
        <p:spPr>
          <a:xfrm>
            <a:off x="6445080" y="6381720"/>
            <a:ext cx="2448000" cy="287280"/>
          </a:xfrm>
          <a:prstGeom prst="rect">
            <a:avLst/>
          </a:prstGeom>
          <a:solidFill>
            <a:srgbClr val="dddddd"/>
          </a:solidFill>
          <a:ln w="936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11280" y="117360"/>
            <a:ext cx="8075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39640" y="112356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png"/><Relationship Id="rId4" Type="http://schemas.openxmlformats.org/officeDocument/2006/relationships/package" Target="../embeddings/oleObject2.xlsx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11160" y="4549680"/>
            <a:ext cx="777240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РЕФОРМА ПЕНСИОННОГО ВОЗРАСТА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-11520" y="5516280"/>
            <a:ext cx="8209080" cy="6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ыполнила: ученица 10 класса – Коротаева Елизаве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уководитель: Семенищев Александр Владимирови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4" descr=""/>
          <p:cNvPicPr/>
          <p:nvPr/>
        </p:nvPicPr>
        <p:blipFill>
          <a:blip r:embed="rId1"/>
          <a:stretch/>
        </p:blipFill>
        <p:spPr>
          <a:xfrm>
            <a:off x="6227640" y="6273720"/>
            <a:ext cx="2800440" cy="4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11280" y="117360"/>
            <a:ext cx="80755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ухановская сельская администрация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Рисунок 13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5160960" cy="3530520"/>
          </a:xfrm>
          <a:prstGeom prst="rect">
            <a:avLst/>
          </a:prstGeom>
          <a:ln w="0">
            <a:noFill/>
          </a:ln>
        </p:spPr>
      </p:pic>
      <p:sp>
        <p:nvSpPr>
          <p:cNvPr id="117" name="TextBox 14"/>
          <p:cNvSpPr/>
          <p:nvPr/>
        </p:nvSpPr>
        <p:spPr>
          <a:xfrm>
            <a:off x="1476360" y="5013360"/>
            <a:ext cx="547200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Диаграмма 7"/>
          <p:cNvGraphicFramePr/>
          <p:nvPr/>
        </p:nvGraphicFramePr>
        <p:xfrm>
          <a:off x="6459480" y="1197000"/>
          <a:ext cx="4454640" cy="4059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9" name="Диаграмма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59480" y="1197000"/>
                    <a:ext cx="4454640" cy="40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-684360" y="1197000"/>
            <a:ext cx="8229600" cy="45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117360"/>
            <a:ext cx="80755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ывод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2" descr="ÐÐ°ÑÑÐ¸Ð½ÐºÐ¸ Ð¿Ð¾ Ð·Ð°Ð¿ÑÐ¾ÑÑ Ð¿ÑÐ¾ÑÐ¸Ð² Ð¿Ð¾Ð²ÑÑÐµÐ½Ð¸Ñ Ð¿ÐµÐ½ÑÐ¸Ð¾Ð½Ð½Ð¾Ð³Ð¾ Ð²Ð¾Ð·ÑÐ°ÑÑÐ°"/>
          <p:cNvPicPr/>
          <p:nvPr/>
        </p:nvPicPr>
        <p:blipFill>
          <a:blip r:embed="rId1"/>
          <a:stretch/>
        </p:blipFill>
        <p:spPr>
          <a:xfrm>
            <a:off x="468360" y="1413000"/>
            <a:ext cx="7929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11280" y="117360"/>
            <a:ext cx="80755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видео к проекту.mp4" descr=""/>
          <p:cNvPicPr/>
          <p:nvPr/>
        </p:nvPicPr>
        <p:blipFill>
          <a:blip r:embed="rId1"/>
          <a:stretch/>
        </p:blipFill>
        <p:spPr>
          <a:xfrm>
            <a:off x="22320" y="838080"/>
            <a:ext cx="9086760" cy="54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1280" y="117360"/>
            <a:ext cx="80755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опологающие элементы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480" y="837720"/>
            <a:ext cx="91375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ктуальнос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явление уровня смертности среди насе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ипотез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йствительно ли повышение пенсионного возраста совпадает с повышением уровня жизн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л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явление среднего возраста в процессе жизнедеятельности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дач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явление доли пенсионеров от общего насел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ализ смертности насе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ъек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нсионный возрас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дмет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форма пенсионного возра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дук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енгазета с информацией о пенсионном возрас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69480" y="115920"/>
            <a:ext cx="80758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вышение пенсионного возраста – проблема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егодняшнего времени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2" descr="ÐÐ°ÑÑÐ¸Ð½ÐºÐ¸ Ð¿Ð¾ Ð·Ð°Ð¿ÑÐ¾ÑÑ ÐÐ¾Ð²ÑÑÐµÐ½Ð¸Ðµ Ð¿ÐµÐ½ÑÐ¸Ð¾Ð½Ð½Ð¾Ð³Ð¾ Ð²Ð¾Ð·ÑÐ°ÑÑÐ° - Ð¿ÑÐ¾Ð±Ð»ÐµÐ¼Ð° ÑÐµÐ³Ð¾Ð´Ð½ÑÑÐ½ÐµÐ³Ð¾ Ð²ÑÐµÐ¼ÐµÐ½Ð¸"/>
          <p:cNvPicPr/>
          <p:nvPr/>
        </p:nvPicPr>
        <p:blipFill>
          <a:blip r:embed="rId1"/>
          <a:stretch/>
        </p:blipFill>
        <p:spPr>
          <a:xfrm>
            <a:off x="969840" y="1052640"/>
            <a:ext cx="7167600" cy="4752720"/>
          </a:xfrm>
          <a:prstGeom prst="rect">
            <a:avLst/>
          </a:prstGeom>
          <a:ln w="0">
            <a:noFill/>
          </a:ln>
        </p:spPr>
      </p:pic>
      <p:sp>
        <p:nvSpPr>
          <p:cNvPr id="91" name="TextBox 3"/>
          <p:cNvSpPr/>
          <p:nvPr/>
        </p:nvSpPr>
        <p:spPr>
          <a:xfrm>
            <a:off x="948240" y="1773360"/>
            <a:ext cx="713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宋体"/>
              </a:rPr>
              <a:t>«ПЕНСИОННЫЙ ВОЗРАСТ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11280" y="117360"/>
            <a:ext cx="80755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чины и проблемы развития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2" descr="ÐÐ°ÑÑÐ¸Ð½ÐºÐ¸ Ð¿Ð¾ Ð·Ð°Ð¿ÑÐ¾ÑÑ ÑÐ²ÐµÐ»Ð¸ÑÐµÐ½Ð¸Ðµ ÑÐ¸ÑÐ»ÐµÐ½Ð½Ð¾ÑÑÐ¸ Ð¿ÐµÐ½ÑÐ¸Ð¾Ð½ÐµÑÐ¾Ð²"/>
          <p:cNvPicPr/>
          <p:nvPr/>
        </p:nvPicPr>
        <p:blipFill>
          <a:blip r:embed="rId1"/>
          <a:stretch/>
        </p:blipFill>
        <p:spPr>
          <a:xfrm>
            <a:off x="4524480" y="1773360"/>
            <a:ext cx="4155840" cy="3168360"/>
          </a:xfrm>
          <a:prstGeom prst="rect">
            <a:avLst/>
          </a:prstGeom>
          <a:ln w="0">
            <a:noFill/>
          </a:ln>
        </p:spPr>
      </p:pic>
      <p:sp>
        <p:nvSpPr>
          <p:cNvPr id="94" name="TextBox 3"/>
          <p:cNvSpPr/>
          <p:nvPr/>
        </p:nvSpPr>
        <p:spPr>
          <a:xfrm>
            <a:off x="442800" y="1557360"/>
            <a:ext cx="417672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Диаграмма 5"/>
          <p:cNvGraphicFramePr/>
          <p:nvPr/>
        </p:nvGraphicFramePr>
        <p:xfrm>
          <a:off x="264960" y="1052640"/>
          <a:ext cx="3494160" cy="2859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6" name="Диаграмма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4960" y="1052640"/>
                    <a:ext cx="3494160" cy="28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TextBox 4"/>
          <p:cNvSpPr/>
          <p:nvPr/>
        </p:nvSpPr>
        <p:spPr>
          <a:xfrm>
            <a:off x="5508720" y="4530600"/>
            <a:ext cx="7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Диаграмма 7"/>
          <p:cNvGraphicFramePr/>
          <p:nvPr/>
        </p:nvGraphicFramePr>
        <p:xfrm>
          <a:off x="560520" y="3540240"/>
          <a:ext cx="4273560" cy="28033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99" name="Диаграмма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60520" y="3540240"/>
                    <a:ext cx="4273560" cy="28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11280" y="117360"/>
            <a:ext cx="80755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зносы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539640" y="1125360"/>
          <a:ext cx="8147160" cy="3311640"/>
        </p:xfrm>
        <a:graphic>
          <a:graphicData uri="http://schemas.openxmlformats.org/drawingml/2006/table">
            <a:tbl>
              <a:tblPr/>
              <a:tblGrid>
                <a:gridCol w="2036880"/>
                <a:gridCol w="2036880"/>
                <a:gridCol w="2036520"/>
                <a:gridCol w="2036880"/>
              </a:tblGrid>
              <a:tr h="54936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spcBef>
                          <a:spcPts val="1199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  <a:ea typeface="Microsoft YaHei"/>
                        </a:rPr>
                        <a:t>Вид взнос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spcBef>
                          <a:spcPts val="1199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  <a:ea typeface="Microsoft YaHei"/>
                        </a:rPr>
                        <a:t>База для начисления взносов в 2018 г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spcBef>
                          <a:spcPts val="1199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  <a:ea typeface="Microsoft YaHei"/>
                        </a:rPr>
                        <a:t>Ставка взносов в пределах баз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spcBef>
                          <a:spcPts val="1199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  <a:ea typeface="Microsoft YaHei"/>
                        </a:rPr>
                        <a:t>Ставка взносов при превышении баз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54792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spcBef>
                          <a:spcPts val="1199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  <a:ea typeface="Microsoft YaHei"/>
                        </a:rPr>
                        <a:t>На обязательное пенсионное страхова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spcBef>
                          <a:spcPts val="1199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 021 000 руб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spcBef>
                          <a:spcPts val="1199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22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spcBef>
                          <a:spcPts val="1199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0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40148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spcBef>
                          <a:spcPts val="1199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  <a:ea typeface="Microsoft YaHei"/>
                        </a:rPr>
                        <a:t>На обязательное социальное страхование на случай временной нетрудоспособности и материнств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spcBef>
                          <a:spcPts val="1199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815 000 руб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spcBef>
                          <a:spcPts val="1199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2,9 % (1,8 %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spcBef>
                          <a:spcPts val="1199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  <a:ea typeface="Microsoft YaHei"/>
                        </a:rPr>
                        <a:t>На обязательное медицинское страхова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spcBef>
                          <a:spcPts val="1199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Не устанавливаетс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spcBef>
                          <a:spcPts val="1199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5,1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496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spcBef>
                          <a:spcPts val="1199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  <a:ea typeface="Microsoft YaHei"/>
                        </a:rPr>
                        <a:t>От несчастных случае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spcBef>
                          <a:spcPts val="1199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spcBef>
                          <a:spcPts val="1199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2" name="TextBox 5"/>
          <p:cNvSpPr/>
          <p:nvPr/>
        </p:nvSpPr>
        <p:spPr>
          <a:xfrm>
            <a:off x="539640" y="4724280"/>
            <a:ext cx="814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宋体"/>
              </a:rPr>
              <a:t>Формула определения размера накопительной части пен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宋体"/>
              </a:rPr>
              <a:t>НЧ = ПН / 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宋体"/>
              </a:rPr>
              <a:t>НЧ — размер накопительной части трудовой пенсии по старост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宋体"/>
              </a:rPr>
              <a:t>ПН — сумма пенсионных накоплений застрахованного лиц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11280" y="117360"/>
            <a:ext cx="80755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нсионный возраст в разных странах мира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Рисунок 6" descr=""/>
          <p:cNvPicPr/>
          <p:nvPr/>
        </p:nvPicPr>
        <p:blipFill>
          <a:blip r:embed="rId1"/>
          <a:stretch/>
        </p:blipFill>
        <p:spPr>
          <a:xfrm>
            <a:off x="3780000" y="1123920"/>
            <a:ext cx="5194080" cy="49626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ÐÐ°ÑÑÐ¸Ð½ÐºÐ¸ Ð¿Ð¾ Ð·Ð°Ð¿ÑÐ¾ÑÑ Ð³ÑÐ°ÑÐ¸Ðº Ð²ÑÑÐ¾Ð´Ð° Ð½Ð° Ð¿ÐµÐ½ÑÐ¸Ñ"/>
          <p:cNvPicPr/>
          <p:nvPr/>
        </p:nvPicPr>
        <p:blipFill>
          <a:blip r:embed="rId2"/>
          <a:stretch/>
        </p:blipFill>
        <p:spPr>
          <a:xfrm>
            <a:off x="179280" y="1123920"/>
            <a:ext cx="350532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11280" y="117360"/>
            <a:ext cx="80755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меры пенсий в некоторых странах мира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39640" y="1123560"/>
            <a:ext cx="8229600" cy="452772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5" descr=""/>
          <p:cNvPicPr/>
          <p:nvPr/>
        </p:nvPicPr>
        <p:blipFill>
          <a:blip r:embed="rId2"/>
          <a:stretch/>
        </p:blipFill>
        <p:spPr>
          <a:xfrm>
            <a:off x="611280" y="855720"/>
            <a:ext cx="7848360" cy="54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11280" y="117360"/>
            <a:ext cx="80755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ечень стран, где отсутствуют пенсии по старости: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9640" y="112356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ьетн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ндура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д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ра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итайская Народная Республи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гер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киста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илан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нз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липп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1280" y="117360"/>
            <a:ext cx="80755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ухановская сельская администрация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276720" y="847800"/>
          <a:ext cx="5616360" cy="4267080"/>
        </p:xfrm>
        <a:graphic>
          <a:graphicData uri="http://schemas.openxmlformats.org/drawingml/2006/table">
            <a:tbl>
              <a:tblPr/>
              <a:tblGrid>
                <a:gridCol w="1403280"/>
                <a:gridCol w="1404720"/>
                <a:gridCol w="1403640"/>
                <a:gridCol w="1404720"/>
              </a:tblGrid>
              <a:tr h="4266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Microsoft YaHei"/>
                        </a:rPr>
                        <a:t>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Microsoft YaHei"/>
                        </a:rPr>
                        <a:t>Средний возра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Microsoft YaHei"/>
                        </a:rPr>
                        <a:t>% женщ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Microsoft YaHei"/>
                        </a:rPr>
                        <a:t>% мужч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134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Microsoft YaHei"/>
                        </a:rPr>
                        <a:t>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69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,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134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Microsoft YaHei"/>
                        </a:rPr>
                        <a:t>2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64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,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134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Microsoft YaHei"/>
                        </a:rPr>
                        <a:t>2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68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,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,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134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Microsoft YaHei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64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,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,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134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Microsoft YaHei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62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134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Microsoft YaHei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68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,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134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Microsoft YaHei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47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,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134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Microsoft YaHei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66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,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134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Microsoft YaHei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71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134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Microsoft YaHei"/>
                        </a:rPr>
                        <a:t>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69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,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,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134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Microsoft YaHei"/>
                        </a:rPr>
                        <a:t>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64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,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,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134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Microsoft YaHei"/>
                        </a:rPr>
                        <a:t>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,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134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Microsoft YaHei"/>
                        </a:rPr>
                        <a:t>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70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,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134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Microsoft YaHei"/>
                        </a:rPr>
                        <a:t>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65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,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134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Microsoft YaHei"/>
                        </a:rPr>
                        <a:t>2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134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Microsoft YaHei"/>
                        </a:rPr>
                        <a:t>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63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134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Microsoft YaHei"/>
                        </a:rPr>
                        <a:t>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134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Microsoft YaHei"/>
                        </a:rPr>
                        <a:t>20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113" name="TextBox 4"/>
          <p:cNvSpPr/>
          <p:nvPr/>
        </p:nvSpPr>
        <p:spPr>
          <a:xfrm>
            <a:off x="826920" y="1657440"/>
            <a:ext cx="1413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宋体"/>
              </a:rPr>
              <a:t>Анализ убыли населения и средней продолжительности жизни умерш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27120" y="5126040"/>
          <a:ext cx="7781760" cy="1484280"/>
        </p:xfrm>
        <a:graphic>
          <a:graphicData uri="http://schemas.openxmlformats.org/drawingml/2006/table">
            <a:tbl>
              <a:tblPr/>
              <a:tblGrid>
                <a:gridCol w="3890880"/>
                <a:gridCol w="3890880"/>
              </a:tblGrid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Microsoft YaHei"/>
                        </a:rPr>
                        <a:t>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Microsoft YaHei"/>
                        </a:rPr>
                        <a:t>Средний возра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Microsoft YaHei"/>
                        </a:rPr>
                        <a:t>2000 - 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66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9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Microsoft YaHei"/>
                        </a:rPr>
                        <a:t>2006 - 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64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Microsoft YaHei"/>
                        </a:rPr>
                        <a:t>2012 - 20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65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0T09:03:14Z</dcterms:created>
  <dc:creator/>
  <dc:description/>
  <cp:keywords/>
  <dc:language>en-US</dc:language>
  <cp:lastModifiedBy/>
  <dcterms:modified xsi:type="dcterms:W3CDTF">2019-03-05T05:50:37Z</dcterms:modified>
  <cp:revision>1</cp:revision>
  <dc:subject/>
  <dc:title/>
</cp:coreProperties>
</file>