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18F-B91E-4975-BFDD-4A6C1D12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4887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7B4-0E78-40EE-A1CD-CED929EF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D4E-661B-4BF3-834A-5EC89F0B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34B-9999-4023-B31B-30FC14DB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11280" y="117360"/>
            <a:ext cx="8075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0D5-6233-4890-86FF-CC7F4125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668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640" y="34887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668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2208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452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64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2208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452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B80-FC56-41A4-B04B-FFB22A5E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011-A7FB-433A-AE0A-1F2E3B50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D5D-4C87-49EC-9E12-06DBC01C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117360"/>
            <a:ext cx="8075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A87-27E3-4FEC-9983-DCBA171C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7CF-6925-4F1B-990B-77E5142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86E-8DBB-434F-8313-CB0841BF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B0D-1022-4588-AE62-60FE5347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"/>
          <p:cNvPicPr/>
          <p:nvPr/>
        </p:nvPicPr>
        <p:blipFill>
          <a:blip r:embed="rId2"/>
          <a:srcRect l="3195" t="0" r="2283" b="0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A86A-7E26-4FB3-B8BE-42864D498A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"/>
          <p:cNvPicPr/>
          <p:nvPr/>
        </p:nvPicPr>
        <p:blipFill>
          <a:blip r:embed="rId2"/>
          <a:srcRect l="0" t="3595" r="0" b="0"/>
          <a:stretch/>
        </p:blipFill>
        <p:spPr>
          <a:xfrm>
            <a:off x="0" y="0"/>
            <a:ext cx="9144000" cy="6232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6445080" y="6381720"/>
            <a:ext cx="244800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1160" y="454968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ФОРМА ПЕНСИОННОГО ВОЗРАСТ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11520" y="5516280"/>
            <a:ext cx="820908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ла: ученица 10 класса – Коротаева Елиза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ководитель: Семенищев Александр Владими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6227640" y="6273720"/>
            <a:ext cx="28004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хановская сельская администрац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13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5160960" cy="35305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4"/>
          <p:cNvSpPr/>
          <p:nvPr/>
        </p:nvSpPr>
        <p:spPr>
          <a:xfrm>
            <a:off x="1476360" y="5013360"/>
            <a:ext cx="54720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Диаграмма 7"/>
          <p:cNvGraphicFramePr/>
          <p:nvPr/>
        </p:nvGraphicFramePr>
        <p:xfrm>
          <a:off x="6459480" y="1197000"/>
          <a:ext cx="4454640" cy="405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" name="Диаграмма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59480" y="1197000"/>
                    <a:ext cx="445464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-684360" y="1197000"/>
            <a:ext cx="82296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ÐÐ°ÑÑÐ¸Ð½ÐºÐ¸ Ð¿Ð¾ Ð·Ð°Ð¿ÑÐ¾ÑÑ Ð¿ÑÐ¾ÑÐ¸Ð² Ð¿Ð¾Ð²ÑÑÐµÐ½Ð¸Ñ Ð¿ÐµÐ½ÑÐ¸Ð¾Ð½Ð½Ð¾Ð³Ð¾ Ð²Ð¾Ð·ÑÐ°ÑÑÐ°"/>
          <p:cNvPicPr/>
          <p:nvPr/>
        </p:nvPicPr>
        <p:blipFill>
          <a:blip r:embed="rId1"/>
          <a:stretch/>
        </p:blipFill>
        <p:spPr>
          <a:xfrm>
            <a:off x="468360" y="1413000"/>
            <a:ext cx="7929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видео к проекту.mp4" descr=""/>
          <p:cNvPicPr/>
          <p:nvPr/>
        </p:nvPicPr>
        <p:blipFill>
          <a:blip r:embed="rId1"/>
          <a:stretch/>
        </p:blipFill>
        <p:spPr>
          <a:xfrm>
            <a:off x="22320" y="838080"/>
            <a:ext cx="908676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опологающие элементы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480" y="837720"/>
            <a:ext cx="913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уровня смертности среди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тельно ли повышение пенсионного возраста совпадает с повышением уровня жиз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среднего возраста в процессе жизнедеятельност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доли пенсионеров от общего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смертности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нсионный возра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форма пенсион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у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нгазета с информацией о пенсионном возра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9480" y="115920"/>
            <a:ext cx="8075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пенсионного возраста – проблем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шнего времен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ÐÐ°ÑÑÐ¸Ð½ÐºÐ¸ Ð¿Ð¾ Ð·Ð°Ð¿ÑÐ¾ÑÑ ÐÐ¾Ð²ÑÑÐµÐ½Ð¸Ðµ Ð¿ÐµÐ½ÑÐ¸Ð¾Ð½Ð½Ð¾Ð³Ð¾ Ð²Ð¾Ð·ÑÐ°ÑÑÐ° - Ð¿ÑÐ¾Ð±Ð»ÐµÐ¼Ð° ÑÐµÐ³Ð¾Ð´Ð½ÑÑÐ½ÐµÐ³Ð¾ Ð²ÑÐµÐ¼ÐµÐ½Ð¸"/>
          <p:cNvPicPr/>
          <p:nvPr/>
        </p:nvPicPr>
        <p:blipFill>
          <a:blip r:embed="rId1"/>
          <a:stretch/>
        </p:blipFill>
        <p:spPr>
          <a:xfrm>
            <a:off x="969840" y="1052640"/>
            <a:ext cx="7167600" cy="47527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948240" y="1773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宋体"/>
              </a:rPr>
              <a:t>«ПЕНСИОННЫЙ ВОЗРАС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ы и проблемы развит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ÐÐ°ÑÑÐ¸Ð½ÐºÐ¸ Ð¿Ð¾ Ð·Ð°Ð¿ÑÐ¾ÑÑ ÑÐ²ÐµÐ»Ð¸ÑÐµÐ½Ð¸Ðµ ÑÐ¸ÑÐ»ÐµÐ½Ð½Ð¾ÑÑÐ¸ Ð¿ÐµÐ½ÑÐ¸Ð¾Ð½ÐµÑÐ¾Ð²"/>
          <p:cNvPicPr/>
          <p:nvPr/>
        </p:nvPicPr>
        <p:blipFill>
          <a:blip r:embed="rId1"/>
          <a:stretch/>
        </p:blipFill>
        <p:spPr>
          <a:xfrm>
            <a:off x="4524480" y="1773360"/>
            <a:ext cx="4155840" cy="3168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442800" y="1557360"/>
            <a:ext cx="417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Диаграмма 5"/>
          <p:cNvGraphicFramePr/>
          <p:nvPr/>
        </p:nvGraphicFramePr>
        <p:xfrm>
          <a:off x="264960" y="1052640"/>
          <a:ext cx="3494160" cy="2859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Диаграмма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4960" y="1052640"/>
                    <a:ext cx="349416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Box 4"/>
          <p:cNvSpPr/>
          <p:nvPr/>
        </p:nvSpPr>
        <p:spPr>
          <a:xfrm>
            <a:off x="5508720" y="45306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Диаграмма 7"/>
          <p:cNvGraphicFramePr/>
          <p:nvPr/>
        </p:nvGraphicFramePr>
        <p:xfrm>
          <a:off x="560520" y="3540240"/>
          <a:ext cx="4273560" cy="2803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Диаграмма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520" y="3540240"/>
                    <a:ext cx="427356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знос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125360"/>
          <a:ext cx="8147160" cy="33116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  <a:gridCol w="2036880"/>
              </a:tblGrid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Вид взнос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База для начисления взносов в 2018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Ставка взносов в пределах баз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Ставка взносов при превышении баз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На обязательное пенсионное страх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021 000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014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На обязательное социальное страхование на случай временной нетрудоспособности и материн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15 000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,9 % (1,8 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На обязательное медицинское страх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е устанавливает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,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От несчастных случае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2" name="TextBox 5"/>
          <p:cNvSpPr/>
          <p:nvPr/>
        </p:nvSpPr>
        <p:spPr>
          <a:xfrm>
            <a:off x="539640" y="4724280"/>
            <a:ext cx="81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Формула определения размера накопительной части пен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НЧ = ПН / 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НЧ — размер накопительной части трудовой пенсии по стар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ПН — сумма пенсионных накоплений застрахованного 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нсионный возраст в разных странах мир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Рисунок 6" descr=""/>
          <p:cNvPicPr/>
          <p:nvPr/>
        </p:nvPicPr>
        <p:blipFill>
          <a:blip r:embed="rId1"/>
          <a:stretch/>
        </p:blipFill>
        <p:spPr>
          <a:xfrm>
            <a:off x="3780000" y="1123920"/>
            <a:ext cx="5194080" cy="4962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ÐÐ°ÑÑÐ¸Ð½ÐºÐ¸ Ð¿Ð¾ Ð·Ð°Ð¿ÑÐ¾ÑÑ Ð³ÑÐ°ÑÐ¸Ðº Ð²ÑÑÐ¾Ð´Ð° Ð½Ð° Ð¿ÐµÐ½ÑÐ¸Ñ"/>
          <p:cNvPicPr/>
          <p:nvPr/>
        </p:nvPicPr>
        <p:blipFill>
          <a:blip r:embed="rId2"/>
          <a:stretch/>
        </p:blipFill>
        <p:spPr>
          <a:xfrm>
            <a:off x="179280" y="1123920"/>
            <a:ext cx="35053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меры пенсий в некоторых странах мир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123560"/>
            <a:ext cx="8229600" cy="4527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611280" y="855720"/>
            <a:ext cx="784836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чень стран, где отсутствуют пенсии по старости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ьет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ндур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тайская Народная Респуб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ге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кист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ила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з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ипп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хановская сельская администрац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76720" y="847800"/>
          <a:ext cx="5616360" cy="4267080"/>
        </p:xfrm>
        <a:graphic>
          <a:graphicData uri="http://schemas.openxmlformats.org/drawingml/2006/table">
            <a:tbl>
              <a:tblPr/>
              <a:tblGrid>
                <a:gridCol w="1403280"/>
                <a:gridCol w="1404720"/>
                <a:gridCol w="1403640"/>
                <a:gridCol w="1404720"/>
              </a:tblGrid>
              <a:tr h="426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Средний 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% женщ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% мужч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3" name="TextBox 4"/>
          <p:cNvSpPr/>
          <p:nvPr/>
        </p:nvSpPr>
        <p:spPr>
          <a:xfrm>
            <a:off x="826920" y="1657440"/>
            <a:ext cx="141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Анализ убыли населения и средней продолжительности жизни умер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27120" y="5126040"/>
          <a:ext cx="7781760" cy="1484280"/>
        </p:xfrm>
        <a:graphic>
          <a:graphicData uri="http://schemas.openxmlformats.org/drawingml/2006/table">
            <a:tbl>
              <a:tblPr/>
              <a:tblGrid>
                <a:gridCol w="3890880"/>
                <a:gridCol w="3890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Средний 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0 -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6 -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2 - 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09:03:14Z</dcterms:created>
  <dc:creator/>
  <dc:description/>
  <cp:keywords/>
  <dc:language>en-US</dc:language>
  <cp:lastModifiedBy/>
  <dcterms:modified xsi:type="dcterms:W3CDTF">2019-03-05T05:50:37Z</dcterms:modified>
  <cp:revision>1</cp:revision>
  <dc:subject/>
  <dc:title/>
</cp:coreProperties>
</file>