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A57-93D0-4366-9977-349A5A8E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F44-47DD-497D-AB31-BB6BE9A0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A8F77-5424-4FF8-A694-C7F93AB8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7DDB1-0E39-46C4-AB60-70605372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67504-53EE-4E3D-81E4-739FBF20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D036C-40A1-41FA-A904-26CA3859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D2402-E885-475E-9314-6169800D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5E662-C61D-4C53-9DF0-4FD8014C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C6FF8-BC53-49AB-A0FE-A71434F9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8AB22-C358-4B25-A12E-1448B19D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1FD09-9E41-4D57-8543-E8D71846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EB70A-6567-4407-B0B0-CBA90176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618-40B8-40B2-97E2-021A165B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8733D-455F-457B-82EB-C0F8959D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1BB8A-21C8-4D08-95AB-E6241A3B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0CBAA-B654-4F98-A3B0-6EEF9673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90D40-8AA7-459C-99CA-CBCCCC22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190EB-A899-4453-90AF-13C0EC93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F3978-8027-45F6-B2BD-7D42F24C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4E0CF-F820-45A2-8767-3F28A691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C98A9-C71D-4277-B5A8-8E8C44E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C472E-6DD7-4BA5-BEF8-05AD2B37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7D841-A6C1-4D50-9694-76BEBD21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311-1F11-400C-8ACC-8D5D05F8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FD01B-CADE-43E9-A3F4-2230DABC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CB39C-B870-44B6-86B7-41661D38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ED735-EE80-4E8A-ACC5-53C6EDBA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D5163-26E9-4DA8-AEB6-EC559FEF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4E086-CC46-41F9-9CD9-AD71EF58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7DB47-3DFF-47E1-809C-350E296B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73148-960E-45A1-BA35-75DB0362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1094D-B084-4BF3-8C75-02AB85A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A29FB-AEE0-4BC8-A7B0-75370F0A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D1036-D5FB-4D2B-BE38-AEA00D4E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5545-1FD5-4C7B-B65F-4F828F83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B11B2-010D-4599-AD14-8E8A045C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B95A2-378D-4602-806A-DABF8254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BABB7-4B9C-4B60-9522-D815C21E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CA362-E644-4E58-8357-1E9C4046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52C87-7AA9-4C72-A1ED-37AD167A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1D130-257E-4278-9EE5-63FB8ED2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FDD3B-195F-4C4E-9252-322FD9A5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5CD1A-B293-4DCD-8812-79C5FDA7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392FB-7888-4CAF-BF28-EA65810E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1EB3D-B8C6-462D-99F8-EA45257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DC88-C27B-4E4A-90F6-EB278A91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4FADA-B3D5-4718-98F3-B9CC4854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DB9F4-81C2-40FB-A211-99CD68E6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38669-64AE-4F27-8969-F496576A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31A3D-63E1-4347-B6C0-511DEE91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9A4A7-B3AD-47D1-B463-7F5FC391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68E4-9537-4EB7-97FD-25CD1FBF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B95A-CD22-44B2-B9CD-8B961ED9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2A12-1639-42FD-B4EC-2D6EB692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F1CF-8BD0-4ED1-8800-F8C698BF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6204-1994-4E76-AFAF-9DBD929D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9E4-9B17-43CB-9C88-1E812771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ABFD-F063-4075-A1DA-82323E06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FFAA-7100-456F-94AF-79ECF101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A43E-46D0-4D1D-9D3C-31C5B95E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5552-8312-47A5-8C63-07ACDA2B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2F04-DECE-4622-A0CF-CB937531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28D8-4119-4E80-99E6-7AE8C5D4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5657-E5CF-427B-AB31-1CC543EE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FF2B-14E1-4E96-B35E-A6908169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2BFB-8852-4F68-AEC9-047BE0E0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BEA9-89F5-4AD9-9513-8CC094C5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706-5BBC-4126-B7DE-F47BE247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F386C-6D7A-4784-8257-924D92A4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F5C6-4282-4377-8071-A2A196D9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A9CBE-F9B2-4BB9-914D-34F58E89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45AB-806A-44AB-88E4-A6033663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758F-98CE-4285-BF6B-3AAFB349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DAC1-768F-452F-A42A-94A40271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B1369-377A-4D83-900C-0DC408D7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79CE-5D11-4F29-8532-25804726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A6C2-4254-42D4-B36B-74C770F2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5A08-0DC0-4C90-B88A-2BE48CE0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561-6644-4849-819C-9B1D5558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DB16-B66A-48DA-AB2A-6C4D5361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DDA1-6AB1-454C-B468-B6012161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0DB2-0101-46BF-BBAE-A3A206E5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FEBB7-D045-4221-94B2-BC2DEE12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CC671-A64B-4859-9ACB-910B004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C702-710D-4BCB-A679-68311843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9416-6ECF-4DB7-BC38-513E25A8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8B0D-9558-4706-A449-7384AF75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AFE39-3889-4F25-AD3F-1C5EF045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2C84-154E-408C-8712-8CBC5980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71C-E8F8-4C60-A74E-1257A8C6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3499-D432-48AA-B2ED-57F17F03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1916E-1ACB-4E2A-B323-0B6CFAF3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CE17-7906-4A55-A20F-5A04A386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50FD5-4D9E-48C0-9C18-9751A52E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A6961-D2B4-49DD-A240-4C1871CD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741E-EE22-4A34-A9F6-17BCB534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61CE-06EF-4EF3-85E1-F76C5D8E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4864-5E04-4D8C-B006-5E8933FC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337E3-B567-49D3-9105-17AEDF67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7B761-67DA-4454-A0C3-D661F818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945-5FFA-4C87-A773-6A3E4226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69C2E-2892-4CA1-898F-3374D150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260BF-7ED3-4C05-BF3C-47BFDBD7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C2D40-D448-43D5-8694-A9B28581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9E384-02BC-41F6-AD83-17226DB0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75534-89B7-4157-90BF-7B5612F0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8C0AF-166A-4B55-8D48-725E8718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AEF54-4B1E-4F5B-B8A6-71C96564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681A-15B9-45E2-852F-9548C996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8C909-21E0-489D-906B-B40B1A59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BD38-1673-46BA-94CE-AED2D34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964-6F6A-4346-A44B-613F98A8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08A74-A854-43EA-AF96-F42770DF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58018-72B4-480C-86C9-E7DD0F25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5C217-15E3-4936-96BA-3128929E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0DA22-0E20-4536-8FB6-AFC69DD9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F4F73-522E-426C-A80D-01AF138E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B7722-44B3-4476-AAE0-42CC1060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EDEA5-E7A8-4993-8094-4EAE2C66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B4BEB-A036-4345-8C0D-138E5E14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74D04-7FB8-446A-98E9-054076D6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822DD-7A96-43B0-B010-F9E688B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1FC-70DB-4144-992A-412BF5E5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8FDBA-24C5-4A92-AEA2-5324570D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5F0EC-101A-4F6A-873C-B342C49C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08FB8-6084-4EB9-A288-3D3F79CE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DDF38-FF19-470C-8538-024BE0F1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BE0E6-88F3-4DF3-A381-199FAAFF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E8FDC-B447-4F57-BC4B-AD702EB7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941DA-ABDE-4F6F-A36E-460BA942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5D02-4009-46E6-BC66-C0CB2AE2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2AD60-B7A4-4168-92FF-446D334F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CF518-B1DA-4701-AD43-AC230CC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82A-5E6B-4118-A809-6CD1504B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B541D-7225-47A6-A932-C2A96E31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C5720-5DDE-4469-8AE6-79AB1EE6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2DC14-01F6-4742-9E57-6282891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8251E-9E40-4645-AF3C-FA70FC85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66303-BF79-49E7-9A25-1DF0592C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C8B38-4979-4D50-996B-D40BF71C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09AD2-4148-45DB-8894-B3F86FD0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356F4-4E7C-4473-823D-D2D2836F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E44EE-328B-4CFB-924F-38AFB515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3EA72-B59E-4053-9AE7-A48B54EC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5789-4B05-4FC6-B88E-DE4C6DE92F9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FE62-5E29-4403-928D-60CF0D406C8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F338-62BC-4D28-9046-AE0D9E073E0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95EE-0B51-4366-A091-A5A762D686C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5EBC-E120-40B9-A8C3-EC001C629D3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EE50-18A4-4275-92C9-C9F590DA3C9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6A2F-29B1-452B-ACAC-D2F57E9EF72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FE05-C494-497D-87BC-06AEA0E9271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569B-27F7-4EE7-91E8-CA2D2212748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F4A7-B594-41A9-845E-902ECF301FA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E2F5-3CD0-4D64-B3F7-C1A83AB75CA0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E86D-AB4F-4693-B667-7CDA3E2B092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eorgia"/>
              </a:rPr>
              <a:t>Урок математик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знайка"/>
          <p:cNvPicPr/>
          <p:nvPr/>
        </p:nvPicPr>
        <p:blipFill>
          <a:blip r:embed="rId1"/>
          <a:stretch/>
        </p:blipFill>
        <p:spPr>
          <a:xfrm>
            <a:off x="539640" y="1413000"/>
            <a:ext cx="2324160" cy="4190760"/>
          </a:xfrm>
          <a:prstGeom prst="rect">
            <a:avLst/>
          </a:prstGeom>
          <a:ln w="0">
            <a:noFill/>
          </a:ln>
        </p:spPr>
      </p:pic>
      <p:pic>
        <p:nvPicPr>
          <p:cNvPr id="608" name="Объект 4" descr="1226265521_nez.jpg"/>
          <p:cNvPicPr/>
          <p:nvPr/>
        </p:nvPicPr>
        <p:blipFill>
          <a:blip r:embed="rId2"/>
          <a:srcRect l="5938" t="7403" r="52818" b="6109"/>
          <a:stretch/>
        </p:blipFill>
        <p:spPr>
          <a:xfrm>
            <a:off x="6257880" y="1700280"/>
            <a:ext cx="2706840" cy="4122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4"/>
          <p:cNvSpPr/>
          <p:nvPr/>
        </p:nvSpPr>
        <p:spPr>
          <a:xfrm>
            <a:off x="3276720" y="2349360"/>
            <a:ext cx="28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ЛИТ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1013400" y="54450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ько Мария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ОУ «СОШ «Лесколовский центр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волож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2422080" y="4005360"/>
            <a:ext cx="39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3718800" y="18900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"/>
          <p:cNvSpPr/>
          <p:nvPr/>
        </p:nvSpPr>
        <p:spPr>
          <a:xfrm>
            <a:off x="1304280" y="770400"/>
            <a:ext cx="704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уда больше входит в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кастрюлю или в 3-х литровую банк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измерять одной меркой банкой в 1 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C:\Users\Dank\Pictures\96606487b1391f88233940d4835b8849.jpg"/>
          <p:cNvPicPr/>
          <p:nvPr/>
        </p:nvPicPr>
        <p:blipFill>
          <a:blip r:embed="rId1"/>
          <a:stretch/>
        </p:blipFill>
        <p:spPr>
          <a:xfrm>
            <a:off x="0" y="2924280"/>
            <a:ext cx="3510000" cy="28083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" descr="C:\Users\Dank\Pictures\700-nw.jpg"/>
          <p:cNvPicPr/>
          <p:nvPr/>
        </p:nvPicPr>
        <p:blipFill>
          <a:blip r:embed="rId2"/>
          <a:stretch/>
        </p:blipFill>
        <p:spPr>
          <a:xfrm>
            <a:off x="3059280" y="2781360"/>
            <a:ext cx="2665080" cy="2663640"/>
          </a:xfrm>
          <a:prstGeom prst="rect">
            <a:avLst/>
          </a:prstGeom>
          <a:ln w="0">
            <a:noFill/>
          </a:ln>
        </p:spPr>
      </p:pic>
      <p:sp>
        <p:nvSpPr>
          <p:cNvPr id="660" name="TextBox 7"/>
          <p:cNvSpPr/>
          <p:nvPr/>
        </p:nvSpPr>
        <p:spPr>
          <a:xfrm>
            <a:off x="5872320" y="30686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8"/>
          <p:cNvSpPr/>
          <p:nvPr/>
        </p:nvSpPr>
        <p:spPr>
          <a:xfrm>
            <a:off x="1336680" y="4221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9"/>
          <p:cNvSpPr/>
          <p:nvPr/>
        </p:nvSpPr>
        <p:spPr>
          <a:xfrm>
            <a:off x="4000320" y="39337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C:\Users\Dank\Pictures\003.jpg"/>
          <p:cNvPicPr/>
          <p:nvPr/>
        </p:nvPicPr>
        <p:blipFill>
          <a:blip r:embed="rId3"/>
          <a:stretch/>
        </p:blipFill>
        <p:spPr>
          <a:xfrm>
            <a:off x="6732720" y="4005360"/>
            <a:ext cx="1995480" cy="2409840"/>
          </a:xfrm>
          <a:prstGeom prst="rect">
            <a:avLst/>
          </a:prstGeom>
          <a:ln w="0">
            <a:noFill/>
          </a:ln>
        </p:spPr>
      </p:pic>
      <p:sp>
        <p:nvSpPr>
          <p:cNvPr id="664" name="TextBox 11"/>
          <p:cNvSpPr/>
          <p:nvPr/>
        </p:nvSpPr>
        <p:spPr>
          <a:xfrm>
            <a:off x="7171200" y="59198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7312680" y="494172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1"/>
          <p:cNvSpPr/>
          <p:nvPr/>
        </p:nvSpPr>
        <p:spPr>
          <a:xfrm>
            <a:off x="3574800" y="26028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№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C:\Users\Dank\Pictures\96606487b1391f88233940d4835b8849.jpg"/>
          <p:cNvPicPr/>
          <p:nvPr/>
        </p:nvPicPr>
        <p:blipFill>
          <a:blip r:embed="rId1"/>
          <a:stretch/>
        </p:blipFill>
        <p:spPr>
          <a:xfrm>
            <a:off x="1042920" y="2492280"/>
            <a:ext cx="2881440" cy="23050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C:\Users\Dank\Pictures\700-nw.jpg"/>
          <p:cNvPicPr/>
          <p:nvPr/>
        </p:nvPicPr>
        <p:blipFill>
          <a:blip r:embed="rId2"/>
          <a:stretch/>
        </p:blipFill>
        <p:spPr>
          <a:xfrm>
            <a:off x="6156360" y="2565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C:\Users\Dank\Pictures\003.jpg"/>
          <p:cNvPicPr/>
          <p:nvPr/>
        </p:nvPicPr>
        <p:blipFill>
          <a:blip r:embed="rId3"/>
          <a:stretch/>
        </p:blipFill>
        <p:spPr>
          <a:xfrm>
            <a:off x="1835280" y="4365720"/>
            <a:ext cx="1260360" cy="1520640"/>
          </a:xfrm>
          <a:prstGeom prst="rect">
            <a:avLst/>
          </a:prstGeom>
          <a:ln w="0">
            <a:noFill/>
          </a:ln>
        </p:spPr>
      </p:pic>
      <p:sp>
        <p:nvSpPr>
          <p:cNvPr id="670" name="TextBox 8"/>
          <p:cNvSpPr/>
          <p:nvPr/>
        </p:nvSpPr>
        <p:spPr>
          <a:xfrm>
            <a:off x="900000" y="765000"/>
            <a:ext cx="755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 Будет ли одинаковое количество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кастрюле и в 3-х литровой бан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измерять вместимость разными мерками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6" descr=""/>
          <p:cNvPicPr/>
          <p:nvPr/>
        </p:nvPicPr>
        <p:blipFill>
          <a:blip r:embed="rId4"/>
          <a:stretch/>
        </p:blipFill>
        <p:spPr>
          <a:xfrm>
            <a:off x="6804000" y="4508640"/>
            <a:ext cx="558720" cy="1019160"/>
          </a:xfrm>
          <a:prstGeom prst="rect">
            <a:avLst/>
          </a:prstGeom>
          <a:ln w="0">
            <a:noFill/>
          </a:ln>
        </p:spPr>
      </p:pic>
      <p:sp>
        <p:nvSpPr>
          <p:cNvPr id="672" name="TextBox 10"/>
          <p:cNvSpPr/>
          <p:nvPr/>
        </p:nvSpPr>
        <p:spPr>
          <a:xfrm>
            <a:off x="1916640" y="57326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1"/>
          <p:cNvSpPr/>
          <p:nvPr/>
        </p:nvSpPr>
        <p:spPr>
          <a:xfrm>
            <a:off x="6162840" y="558972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стак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1"/>
          <p:cNvSpPr/>
          <p:nvPr/>
        </p:nvSpPr>
        <p:spPr>
          <a:xfrm>
            <a:off x="2556000" y="1197000"/>
            <a:ext cx="55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остоятельная работа по учебн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стр. 38,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" descr="знайка"/>
          <p:cNvPicPr/>
          <p:nvPr/>
        </p:nvPicPr>
        <p:blipFill>
          <a:blip r:embed="rId1"/>
          <a:stretch/>
        </p:blipFill>
        <p:spPr>
          <a:xfrm>
            <a:off x="392040" y="692280"/>
            <a:ext cx="288612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"/>
          <p:cNvSpPr/>
          <p:nvPr/>
        </p:nvSpPr>
        <p:spPr>
          <a:xfrm>
            <a:off x="2230200" y="489240"/>
            <a:ext cx="49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“Верю – не верю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"/>
          <p:cNvSpPr/>
          <p:nvPr/>
        </p:nvSpPr>
        <p:spPr>
          <a:xfrm>
            <a:off x="962280" y="1989000"/>
            <a:ext cx="7535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В  банку  умещается 1 сантиметр жид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Длину кошки можно измерить в ли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Объем жидкости измеряется в килограм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Единица измерения объема жид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ывается ли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Box 1"/>
          <p:cNvSpPr/>
          <p:nvPr/>
        </p:nvSpPr>
        <p:spPr>
          <a:xfrm>
            <a:off x="258840" y="260280"/>
            <a:ext cx="861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Ребята, а как вы думаете, что произойд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с нашей планеты исчезнет вся в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вы думаете, что может приве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 исчезновению воды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–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же мы должны относиться к во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" descr="C:\Users\Dank\Pictures\img9.jpg"/>
          <p:cNvPicPr/>
          <p:nvPr/>
        </p:nvPicPr>
        <p:blipFill>
          <a:blip r:embed="rId1"/>
          <a:stretch/>
        </p:blipFill>
        <p:spPr>
          <a:xfrm>
            <a:off x="2556000" y="3338640"/>
            <a:ext cx="396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"/>
          <p:cNvGraphicFramePr/>
          <p:nvPr/>
        </p:nvGraphicFramePr>
        <p:xfrm>
          <a:off x="900000" y="404640"/>
          <a:ext cx="7632720" cy="31705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4840"/>
              </a:tblGrid>
              <a:tr h="317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 работа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поня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 работал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сё поня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 работ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чего не поня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1" name="Рисунок 3" descr=""/>
          <p:cNvPicPr/>
          <p:nvPr/>
        </p:nvPicPr>
        <p:blipFill>
          <a:blip r:embed="rId1"/>
          <a:srcRect l="24120" t="16865" r="21626" b="39139"/>
          <a:stretch/>
        </p:blipFill>
        <p:spPr>
          <a:xfrm>
            <a:off x="826920" y="3860640"/>
            <a:ext cx="2338560" cy="2448000"/>
          </a:xfrm>
          <a:prstGeom prst="rect">
            <a:avLst/>
          </a:prstGeom>
          <a:ln w="0">
            <a:noFill/>
          </a:ln>
        </p:spPr>
      </p:pic>
      <p:pic>
        <p:nvPicPr>
          <p:cNvPr id="682" name="Рисунок 3" descr=""/>
          <p:cNvPicPr/>
          <p:nvPr/>
        </p:nvPicPr>
        <p:blipFill>
          <a:blip r:embed="rId2"/>
          <a:srcRect l="24120" t="16865" r="21626" b="39139"/>
          <a:stretch/>
        </p:blipFill>
        <p:spPr>
          <a:xfrm>
            <a:off x="3564000" y="3860640"/>
            <a:ext cx="2338200" cy="2448000"/>
          </a:xfrm>
          <a:prstGeom prst="rect">
            <a:avLst/>
          </a:prstGeom>
          <a:ln w="0">
            <a:noFill/>
          </a:ln>
        </p:spPr>
      </p:pic>
      <p:pic>
        <p:nvPicPr>
          <p:cNvPr id="683" name="Рисунок 3" descr=""/>
          <p:cNvPicPr/>
          <p:nvPr/>
        </p:nvPicPr>
        <p:blipFill>
          <a:blip r:embed="rId3"/>
          <a:srcRect l="24120" t="16865" r="21626" b="39139"/>
          <a:stretch/>
        </p:blipFill>
        <p:spPr>
          <a:xfrm>
            <a:off x="6300720" y="3860640"/>
            <a:ext cx="2336760" cy="2448000"/>
          </a:xfrm>
          <a:prstGeom prst="rect">
            <a:avLst/>
          </a:prstGeom>
          <a:ln w="0">
            <a:noFill/>
          </a:ln>
        </p:spPr>
      </p:pic>
      <p:grpSp>
        <p:nvGrpSpPr>
          <p:cNvPr id="684" name="Минус 6"/>
          <p:cNvGrpSpPr/>
          <p:nvPr/>
        </p:nvGrpSpPr>
        <p:grpSpPr>
          <a:xfrm>
            <a:off x="1042920" y="4614840"/>
            <a:ext cx="1724040" cy="195120"/>
            <a:chOff x="1042920" y="4614840"/>
            <a:chExt cx="1724040" cy="195120"/>
          </a:xfrm>
        </p:grpSpPr>
        <p:pic>
          <p:nvPicPr>
            <p:cNvPr id="685" name="Минус 6" descr=""/>
            <p:cNvPicPr/>
            <p:nvPr/>
          </p:nvPicPr>
          <p:blipFill>
            <a:blip r:embed="rId4"/>
            <a:stretch/>
          </p:blipFill>
          <p:spPr>
            <a:xfrm>
              <a:off x="1042920" y="4614840"/>
              <a:ext cx="172404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 rot="10800000">
              <a:off x="1114200" y="4663800"/>
              <a:ext cx="158724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Минус 7"/>
          <p:cNvGrpSpPr/>
          <p:nvPr/>
        </p:nvGrpSpPr>
        <p:grpSpPr>
          <a:xfrm>
            <a:off x="6497640" y="5430960"/>
            <a:ext cx="1682640" cy="214200"/>
            <a:chOff x="6497640" y="5430960"/>
            <a:chExt cx="1682640" cy="214200"/>
          </a:xfrm>
        </p:grpSpPr>
        <p:pic>
          <p:nvPicPr>
            <p:cNvPr id="688" name="Минус 7" descr=""/>
            <p:cNvPicPr/>
            <p:nvPr/>
          </p:nvPicPr>
          <p:blipFill>
            <a:blip r:embed="rId5"/>
            <a:stretch/>
          </p:blipFill>
          <p:spPr>
            <a:xfrm>
              <a:off x="6497640" y="5430960"/>
              <a:ext cx="168264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 rot="10800000">
              <a:off x="6576480" y="5483160"/>
              <a:ext cx="15354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Минус 8"/>
          <p:cNvGrpSpPr/>
          <p:nvPr/>
        </p:nvGrpSpPr>
        <p:grpSpPr>
          <a:xfrm>
            <a:off x="3767040" y="5005440"/>
            <a:ext cx="1676520" cy="212760"/>
            <a:chOff x="3767040" y="5005440"/>
            <a:chExt cx="1676520" cy="212760"/>
          </a:xfrm>
        </p:grpSpPr>
        <p:pic>
          <p:nvPicPr>
            <p:cNvPr id="691" name="Минус 8" descr=""/>
            <p:cNvPicPr/>
            <p:nvPr/>
          </p:nvPicPr>
          <p:blipFill>
            <a:blip r:embed="rId6"/>
            <a:stretch/>
          </p:blipFill>
          <p:spPr>
            <a:xfrm>
              <a:off x="3767040" y="5005440"/>
              <a:ext cx="167652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 rot="10800000">
              <a:off x="3840120" y="5051160"/>
              <a:ext cx="153504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TextBox 10"/>
          <p:cNvGrpSpPr/>
          <p:nvPr/>
        </p:nvGrpSpPr>
        <p:grpSpPr>
          <a:xfrm>
            <a:off x="1835280" y="2120760"/>
            <a:ext cx="4833720" cy="1676520"/>
            <a:chOff x="1835280" y="2120760"/>
            <a:chExt cx="4833720" cy="1676520"/>
          </a:xfrm>
        </p:grpSpPr>
        <p:pic>
          <p:nvPicPr>
            <p:cNvPr id="694" name="TextBox 10" descr=""/>
            <p:cNvPicPr/>
            <p:nvPr/>
          </p:nvPicPr>
          <p:blipFill>
            <a:blip r:embed="rId1"/>
            <a:stretch/>
          </p:blipFill>
          <p:spPr>
            <a:xfrm>
              <a:off x="1835280" y="2120760"/>
              <a:ext cx="4833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071800" y="2357280"/>
              <a:ext cx="435744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Прямоугольник 4"/>
          <p:cNvSpPr/>
          <p:nvPr/>
        </p:nvSpPr>
        <p:spPr>
          <a:xfrm>
            <a:off x="7326360" y="1429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Рисунок 1" descr=""/>
          <p:cNvPicPr/>
          <p:nvPr/>
        </p:nvPicPr>
        <p:blipFill>
          <a:blip r:embed="rId2"/>
          <a:stretch/>
        </p:blipFill>
        <p:spPr>
          <a:xfrm>
            <a:off x="1523880" y="1214280"/>
            <a:ext cx="6096240" cy="4429440"/>
          </a:xfrm>
          <a:prstGeom prst="rect">
            <a:avLst/>
          </a:prstGeom>
          <a:ln w="0">
            <a:noFill/>
          </a:ln>
        </p:spPr>
      </p:pic>
      <p:sp>
        <p:nvSpPr>
          <p:cNvPr id="698" name="TextBox 4"/>
          <p:cNvSpPr/>
          <p:nvPr/>
        </p:nvSpPr>
        <p:spPr>
          <a:xfrm>
            <a:off x="1928880" y="476280"/>
            <a:ext cx="54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АСИБО  ЗА УР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Georgia"/>
              </a:rPr>
              <a:t>Девиз урока 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Чем больше 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я знаю, 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тем больше умею.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Овал 3"/>
          <p:cNvSpPr/>
          <p:nvPr/>
        </p:nvSpPr>
        <p:spPr>
          <a:xfrm>
            <a:off x="2484360" y="1989000"/>
            <a:ext cx="4175280" cy="1440000"/>
          </a:xfrm>
          <a:prstGeom prst="ellipse">
            <a:avLst/>
          </a:prstGeom>
          <a:solidFill>
            <a:srgbClr val="fff185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Велич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4"/>
          <p:cNvSpPr/>
          <p:nvPr/>
        </p:nvSpPr>
        <p:spPr>
          <a:xfrm>
            <a:off x="250920" y="765000"/>
            <a:ext cx="2952720" cy="79236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М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5"/>
          <p:cNvSpPr/>
          <p:nvPr/>
        </p:nvSpPr>
        <p:spPr>
          <a:xfrm>
            <a:off x="2843280" y="5157720"/>
            <a:ext cx="3025800" cy="72072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7"/>
          <p:cNvSpPr/>
          <p:nvPr/>
        </p:nvSpPr>
        <p:spPr>
          <a:xfrm>
            <a:off x="5651640" y="4149720"/>
            <a:ext cx="3311280" cy="79200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Д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8"/>
          <p:cNvSpPr/>
          <p:nvPr/>
        </p:nvSpPr>
        <p:spPr>
          <a:xfrm>
            <a:off x="250920" y="2708280"/>
            <a:ext cx="2232000" cy="72072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9"/>
          <p:cNvSpPr/>
          <p:nvPr/>
        </p:nvSpPr>
        <p:spPr>
          <a:xfrm>
            <a:off x="179280" y="4292640"/>
            <a:ext cx="2952720" cy="72072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Вк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6804000" y="2924280"/>
            <a:ext cx="2089080" cy="50472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Куб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13"/>
          <p:cNvSpPr/>
          <p:nvPr/>
        </p:nvSpPr>
        <p:spPr>
          <a:xfrm>
            <a:off x="5940360" y="765000"/>
            <a:ext cx="2881440" cy="72108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Ц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Прямая со стрелкой 12" descr=""/>
          <p:cNvPicPr/>
          <p:nvPr/>
        </p:nvPicPr>
        <p:blipFill>
          <a:blip r:embed="rId1"/>
          <a:stretch/>
        </p:blipFill>
        <p:spPr>
          <a:xfrm>
            <a:off x="3133800" y="1504800"/>
            <a:ext cx="657000" cy="731880"/>
          </a:xfrm>
          <a:prstGeom prst="rect">
            <a:avLst/>
          </a:prstGeom>
          <a:ln w="0">
            <a:noFill/>
          </a:ln>
        </p:spPr>
      </p:pic>
      <p:pic>
        <p:nvPicPr>
          <p:cNvPr id="623" name="Прямая со стрелкой 15" descr=""/>
          <p:cNvPicPr/>
          <p:nvPr/>
        </p:nvPicPr>
        <p:blipFill>
          <a:blip r:embed="rId2"/>
          <a:stretch/>
        </p:blipFill>
        <p:spPr>
          <a:xfrm>
            <a:off x="5784840" y="3157560"/>
            <a:ext cx="731880" cy="109044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20"/>
          <p:cNvSpPr/>
          <p:nvPr/>
        </p:nvSpPr>
        <p:spPr>
          <a:xfrm>
            <a:off x="2556000" y="5157720"/>
            <a:ext cx="3528720" cy="72072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Вместим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Прямая со стрелкой 21" descr=""/>
          <p:cNvPicPr/>
          <p:nvPr/>
        </p:nvPicPr>
        <p:blipFill>
          <a:blip r:embed="rId3"/>
          <a:stretch/>
        </p:blipFill>
        <p:spPr>
          <a:xfrm>
            <a:off x="4273560" y="3303720"/>
            <a:ext cx="30492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Овал 5"/>
          <p:cNvSpPr/>
          <p:nvPr/>
        </p:nvSpPr>
        <p:spPr>
          <a:xfrm>
            <a:off x="2033640" y="4041720"/>
            <a:ext cx="4680000" cy="914400"/>
          </a:xfrm>
          <a:prstGeom prst="ellipse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8"/>
          <p:cNvSpPr/>
          <p:nvPr/>
        </p:nvSpPr>
        <p:spPr>
          <a:xfrm>
            <a:off x="228600" y="10508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м похожи и чем отличаются кувшин и чашка на рисунке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2484360" y="3541680"/>
            <a:ext cx="1530360" cy="933480"/>
          </a:xfrm>
          <a:prstGeom prst="rect">
            <a:avLst/>
          </a:prstGeom>
          <a:ln w="0">
            <a:noFill/>
          </a:ln>
        </p:spPr>
      </p:pic>
      <p:sp>
        <p:nvSpPr>
          <p:cNvPr id="629" name="Прямоугольник 3"/>
          <p:cNvSpPr/>
          <p:nvPr/>
        </p:nvSpPr>
        <p:spPr>
          <a:xfrm>
            <a:off x="142920" y="4962600"/>
            <a:ext cx="68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де помещается больше воды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2530440" cy="271332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9"/>
          <p:cNvSpPr/>
          <p:nvPr/>
        </p:nvSpPr>
        <p:spPr>
          <a:xfrm>
            <a:off x="3446640" y="34920"/>
            <a:ext cx="282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10"/>
          <p:cNvSpPr/>
          <p:nvPr/>
        </p:nvSpPr>
        <p:spPr>
          <a:xfrm>
            <a:off x="7326360" y="1429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112320" y="5805360"/>
            <a:ext cx="90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ому что вместимость кувшина больше вместимости ча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"/>
          <p:cNvSpPr/>
          <p:nvPr/>
        </p:nvSpPr>
        <p:spPr>
          <a:xfrm>
            <a:off x="288720" y="482760"/>
            <a:ext cx="848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Ребята, давайте рассмотрим ситуац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ляр хочет покрасить стену в оранжевый цв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у него есть банка желтой краски и банка красной кра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ему нужн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C:\Users\Dank\Pictures\img15.jpg"/>
          <p:cNvPicPr/>
          <p:nvPr/>
        </p:nvPicPr>
        <p:blipFill>
          <a:blip r:embed="rId1"/>
          <a:srcRect l="0" t="18583" r="2277" b="0"/>
          <a:stretch/>
        </p:blipFill>
        <p:spPr>
          <a:xfrm>
            <a:off x="1476360" y="2276640"/>
            <a:ext cx="59911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1"/>
          <p:cNvSpPr/>
          <p:nvPr/>
        </p:nvSpPr>
        <p:spPr>
          <a:xfrm>
            <a:off x="468360" y="692280"/>
            <a:ext cx="8207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А где он будет ее смешива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А как узнать уместятся ли в ем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е крас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какая мерка подойдет для ре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й пробле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ойдёт ли, к примеру, линейка или весы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что, кроме воды можно измерять  этой мер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659800" cy="3529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" descr=""/>
          <p:cNvPicPr/>
          <p:nvPr/>
        </p:nvPicPr>
        <p:blipFill>
          <a:blip r:embed="rId2"/>
          <a:stretch/>
        </p:blipFill>
        <p:spPr>
          <a:xfrm>
            <a:off x="2700360" y="5229360"/>
            <a:ext cx="37242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Box 1"/>
          <p:cNvSpPr/>
          <p:nvPr/>
        </p:nvSpPr>
        <p:spPr>
          <a:xfrm>
            <a:off x="177840" y="662040"/>
            <a:ext cx="80676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 А как вы думаете, сколько в один литр вмещается жидкости, если ее измерять стака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Что нужно сделать, чтобы выполнить это зада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559080" cy="1019160"/>
          </a:xfrm>
          <a:prstGeom prst="rect">
            <a:avLst/>
          </a:prstGeom>
          <a:ln w="0">
            <a:noFill/>
          </a:ln>
        </p:spPr>
      </p:pic>
      <p:sp>
        <p:nvSpPr>
          <p:cNvPr id="641" name="TextBox 19"/>
          <p:cNvSpPr/>
          <p:nvPr/>
        </p:nvSpPr>
        <p:spPr>
          <a:xfrm>
            <a:off x="324000" y="3429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7"/>
          <p:cNvSpPr/>
          <p:nvPr/>
        </p:nvSpPr>
        <p:spPr>
          <a:xfrm>
            <a:off x="250920" y="213372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брать одинаковую мер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7451640" y="2924280"/>
            <a:ext cx="1089000" cy="2709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8" descr=""/>
          <p:cNvPicPr/>
          <p:nvPr/>
        </p:nvPicPr>
        <p:blipFill>
          <a:blip r:embed="rId3"/>
          <a:stretch/>
        </p:blipFill>
        <p:spPr>
          <a:xfrm>
            <a:off x="4932360" y="3068640"/>
            <a:ext cx="1292400" cy="2341440"/>
          </a:xfrm>
          <a:prstGeom prst="rect">
            <a:avLst/>
          </a:prstGeom>
          <a:ln w="0">
            <a:noFill/>
          </a:ln>
        </p:spPr>
      </p:pic>
      <p:sp>
        <p:nvSpPr>
          <p:cNvPr id="645" name="Прямоугольник 16"/>
          <p:cNvSpPr/>
          <p:nvPr/>
        </p:nvSpPr>
        <p:spPr>
          <a:xfrm>
            <a:off x="163440" y="44280"/>
            <a:ext cx="59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17"/>
          <p:cNvSpPr/>
          <p:nvPr/>
        </p:nvSpPr>
        <p:spPr>
          <a:xfrm>
            <a:off x="7326360" y="1429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4"/>
          <p:cNvSpPr/>
          <p:nvPr/>
        </p:nvSpPr>
        <p:spPr>
          <a:xfrm>
            <a:off x="3645720" y="18900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5"/>
          <p:cNvSpPr/>
          <p:nvPr/>
        </p:nvSpPr>
        <p:spPr>
          <a:xfrm>
            <a:off x="1346040" y="5589720"/>
            <a:ext cx="50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1 л входит 5 стак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18" descr="C:\Users\Dank\Pictures\moloko_prostokvashino_2_5_640x480.jpg"/>
          <p:cNvPicPr/>
          <p:nvPr/>
        </p:nvPicPr>
        <p:blipFill>
          <a:blip r:embed="rId4"/>
          <a:stretch/>
        </p:blipFill>
        <p:spPr>
          <a:xfrm>
            <a:off x="1835280" y="3141720"/>
            <a:ext cx="3168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315280" cy="1933560"/>
          </a:xfrm>
          <a:prstGeom prst="rect">
            <a:avLst/>
          </a:prstGeom>
          <a:ln w="0">
            <a:noFill/>
          </a:ln>
        </p:spPr>
      </p:pic>
      <p:sp>
        <p:nvSpPr>
          <p:cNvPr id="65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6" descr="C:\Users\Dank\Pictures\23621_original.500x500.jpg"/>
          <p:cNvPicPr/>
          <p:nvPr/>
        </p:nvPicPr>
        <p:blipFill>
          <a:blip r:embed="rId2"/>
          <a:stretch/>
        </p:blipFill>
        <p:spPr>
          <a:xfrm>
            <a:off x="4356000" y="213372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468360" y="2565360"/>
            <a:ext cx="280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го- 5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тром-2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чером-1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талось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7"/>
          <p:cNvSpPr/>
          <p:nvPr/>
        </p:nvSpPr>
        <p:spPr>
          <a:xfrm>
            <a:off x="1114920" y="486900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-2-1= 2 (с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638280" y="5732640"/>
            <a:ext cx="61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 осталось 2 стакана вишнёвого 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31:01Z</dcterms:created>
  <dc:creator>Анна</dc:creator>
  <dc:description/>
  <dc:language>en-US</dc:language>
  <cp:lastModifiedBy>Dank</cp:lastModifiedBy>
  <dcterms:modified xsi:type="dcterms:W3CDTF">2020-06-25T09:15:23Z</dcterms:modified>
  <cp:revision>1065</cp:revision>
  <dc:subject/>
  <dc:title>Слайд 1</dc:title>
</cp:coreProperties>
</file>