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767-BE49-456F-89DB-F7117342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BB2-3634-4593-9B1E-64332989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CB390-D6F2-457F-B957-F5882027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1D91D-7DA2-4657-BDAC-A4187B42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95193-63F3-4CCA-B77C-CCB09215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4D796-095F-4889-92F9-EB1C331D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8D42F-DCDC-437D-8BC0-7863B89C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BCE73-A6F3-4B20-B644-CF00894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968B8-2313-435A-9617-3679589B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BD0B6-E95D-48AA-BDC9-F4033077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831F7-4882-411D-857B-BDD8EA8C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1B263-16DC-4111-9E04-EA9DC74B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3C8-8869-4B4D-B430-4AF0845A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72997-C3E0-4A26-96DD-E0D3D802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6D6C17-449B-4B62-A096-09031BA5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D291D-A160-46B8-8CA5-E121B9D9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C66CB0-132A-44A3-8163-ADED4976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8A6FE-4657-4E06-88FA-3CC9F6A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18760-814B-4078-BCF1-DD4033A6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27C42-C186-4CD9-8F6F-7F4D48B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A1C35-9586-480F-BDAF-12894B7E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1307E-54C8-403C-BDF7-6BC76E7F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6A679-1EA5-4C40-B0C1-F907D6BB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41D-7324-4F6E-8745-7F2F2A08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7B0FB-B3F3-4F59-A2CD-23CE6521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21989-5FEE-4F8A-A3F3-4ACD57EA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A9A3E-50C1-4322-BE1D-A6413B9F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37E32-A131-4903-AD35-2C568A80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EACF5-2602-45D5-AE57-AD456E97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A3249-C130-4ED1-B3C9-429A537C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72C4A-18EF-4001-8652-B4464B74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8B56C-CE75-4E19-ADC9-FB6B0A74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92748-297F-484D-AF06-B3721929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08E6A-B3BA-40E9-AA7A-213C72DF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6F37-22F7-469F-9440-F82E820C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6D0AD-3D8C-4623-8D1E-EF508D8B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530AA-794D-4A2B-BF39-962F5A63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65E0D-5D72-4CCC-99D5-86D86400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E71B0-CD1D-460E-ADF3-B4D4279F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1AA481-4071-4A88-89EE-93D184FA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E576D-EC25-410A-B5C7-EF5DBF17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FC806-A32E-4E7B-8628-09EDE1FC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BCA08-A192-47DD-8320-EEF666CA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61084-455D-4DAB-8AB6-778FA68B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C2554-1084-4034-BB8F-91A0E035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26B2-30EC-4E70-817B-69A4331E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8AC4A-4CF9-45BD-85B6-E3B176C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B0384-0A4F-4E91-A3B1-E51F951F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545993-55EE-4D30-A896-3DAA6D12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E4939-38AC-41D3-BF4D-F530DD36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F20FB-7822-4EBC-BAF8-48D12FA2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AB6-C94E-4E87-9953-1F55D1F6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A0BE0-4C3D-472B-9080-C56280BC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1285-384D-47EA-BCE9-8E371798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A098-27F5-46CF-B489-4B5E44C2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8923-87C2-40AA-A1F0-E7D3A5C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75B-7945-4D00-935D-E11BD25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881-5EFA-4C17-8A21-1BAD4F37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CCCF-D417-4297-8EB3-4E912A3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B2A4-C001-4C1A-8043-085637EE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23DC-D5EE-43FE-B7AC-72039352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6FCD-8841-44E4-B679-5D6DE52F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9480-0235-416C-A5F1-8C525244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2FBA-FEBD-4E8D-95C6-8DE9A3B1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29BA-0536-4234-971C-5725CC4E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7C8EF-89C9-45DB-A586-3427140A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4A14-786F-412C-A6D2-8D386D80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62B-9771-4EA2-9432-EC10C85F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F9FA-20B6-45E4-BE9B-B49F343F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0F02-591B-43D2-8564-AC435332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6467-6F25-4F9E-8894-18C438E0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4D7C-9763-4BFD-9EC8-5E168313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F75B8-2DE2-40F3-BCDA-F0DE1D50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9E53E-5C22-4431-B475-CF6314B0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D4ECA-D2D0-4BF6-8BDD-5B251787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ACD0-B8DB-4D2E-A168-9A204749A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2960-562D-4346-B335-8B175CB3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3B5B4-A682-4183-B699-47AE1E9B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02F-5B05-4917-94A9-3F2E0C63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8423-D2C6-41F0-B65C-DF718257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4C538-8D4D-4F10-9732-5795B5B6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3989C-27A1-4C78-B6DF-59AFF127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F59D-CF96-4DCC-B03D-210937FE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98CC-A15F-4E86-BB27-1A3A90B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C23F-5AAA-405E-B57C-6B30EB5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1194-63E9-4EAB-8543-9E182857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4D780-117F-4FFA-ABA1-17875D3F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5B27-83F6-477E-9348-7719DC1F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A202E-A10F-4435-8C21-475B0513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04B-28F5-485B-890C-A4B41C3C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3A8BC-78C4-458D-9899-8D09054C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732E5-C8CD-420A-B122-2D3D1355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35ECC-B7AA-4BB1-9FF7-E7F4F40A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59A43-84CC-4F6B-9B1F-B83CD323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45B0F-A64A-48AB-A95E-1869A042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53D6D-CF1B-4F1D-9CEA-4D62ED2B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D17A4-E706-4074-B6B5-DB5F3BCD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3DE7F-FA1B-436E-8CDD-39234142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0277-C9A4-4467-8DA4-06432F9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1F898-BB04-4404-9736-75E6C1DF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A9BE-C843-42F7-8085-A189ED7C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5F812-3E55-40E0-B172-C7032708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7C0DE-FF3C-40D9-AA3F-8B91FF3F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EDBB8-FE25-4962-8DF1-48FDDC32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5C8DE-AF38-44A3-8438-27A5ECDC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996BA-3AD4-4C0A-9C44-ECB52392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4320F-A74B-4CE1-B2CD-E7014E3E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2F8D8-F069-4083-B779-3CF3A07F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84DD-44A1-41AE-AB08-C1849865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D806-F9B3-413C-AF13-84D3BB83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66FB8-9D65-49FF-B20F-ADEF2873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B24B-49B2-4C84-A4AA-35723E8E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5561B-2A6C-4603-A3EB-A4C16D0B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34F4-F838-4199-B523-C4D3C139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29F7C-06F9-4CD0-97E7-93262C95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BF20-37FC-4723-A1A1-58D55FAC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4E74E-C519-4B79-B7EC-0822F03A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B2F2-7AF2-49DF-A35D-E4652E62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5B89A-6B10-4011-8C23-787835F5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45D28-84B6-4F79-A784-CEA6EBED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A20D9-A5CA-4864-8360-A072F3CA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B433-B9B9-4F4C-BB7E-4BC9EEB3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6F0-4FCA-4FD0-A915-7E6FE7E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79234-4CCE-42E9-83CC-8755900C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6610-B139-4C3F-88D1-D20E1F6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4D7F5-7D57-4212-A9CB-5862E785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E6B3-7B2C-43E4-A00D-2914E0D86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67E8F-0C05-4D77-810D-751719BD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1DBEA-186A-4858-9AD0-EC7DA66B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ED6B5-DBA3-4267-B762-9F19DE85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5B1B3-D329-443D-BDC6-DA093F9D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467C0-4DB1-4864-BD08-0911207F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0A0F3-48EB-4DD0-88A6-6F63E269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979A-915E-4845-997A-F6248669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7595B-FF6E-4AD2-90BE-CB59463A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4839C-8F35-40E6-AAFC-E2072FFA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F0781-A91C-4B30-8159-DE0E7E2A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D162B-DDA2-426C-8429-1A1EDA22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D524F-8DB7-41AA-9C78-7C94C8E5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FE9F3-11A3-409B-AB78-68FB683E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0E17-3787-4931-B7D2-B9E6333C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C81CC-A064-444F-BBC4-B9EA12663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1E9C70-10AE-44C6-98BF-4A39577E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6A3B6-F538-4889-B9BE-2E888587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CBF7-BFBF-41C1-B9CF-4BB0892F176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AC37-FC90-4F85-90EB-C66FE9AF833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5564-22E1-4FD9-9B3C-83BDBA02BD8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7D3C-16BD-41D6-9C4A-2B0306AE382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BF8-B701-4E53-84B9-05B4FDA0405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C5B8-529F-4C23-A0B4-6A4FC758533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7F7A-5B48-40AF-B209-776EEFD5933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16ED-BA59-448D-AA7A-08256F8BAB6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1E8C-BAD0-4AD6-83A5-0A309D4F18D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58FE-ADAD-49F7-A58E-9BB1E2F3DB0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76A-E5A1-455B-B52C-D1F02670A3EB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D8BE-15C0-4F5D-90EF-E55626E93B6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Georgia"/>
              </a:rPr>
              <a:t>Урок математик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знайка"/>
          <p:cNvPicPr/>
          <p:nvPr/>
        </p:nvPicPr>
        <p:blipFill>
          <a:blip r:embed="rId1"/>
          <a:stretch/>
        </p:blipFill>
        <p:spPr>
          <a:xfrm>
            <a:off x="539640" y="1413000"/>
            <a:ext cx="2324160" cy="4190760"/>
          </a:xfrm>
          <a:prstGeom prst="rect">
            <a:avLst/>
          </a:prstGeom>
          <a:ln w="0">
            <a:noFill/>
          </a:ln>
        </p:spPr>
      </p:pic>
      <p:pic>
        <p:nvPicPr>
          <p:cNvPr id="608" name="Объект 4" descr="1226265521_nez.jpg"/>
          <p:cNvPicPr/>
          <p:nvPr/>
        </p:nvPicPr>
        <p:blipFill>
          <a:blip r:embed="rId2"/>
          <a:srcRect l="5938" t="7403" r="52818" b="6109"/>
          <a:stretch/>
        </p:blipFill>
        <p:spPr>
          <a:xfrm>
            <a:off x="6257880" y="1700280"/>
            <a:ext cx="2706840" cy="4122720"/>
          </a:xfrm>
          <a:prstGeom prst="rect">
            <a:avLst/>
          </a:prstGeom>
          <a:ln w="0">
            <a:noFill/>
          </a:ln>
        </p:spPr>
      </p:pic>
      <p:sp>
        <p:nvSpPr>
          <p:cNvPr id="609" name="TextBox 4"/>
          <p:cNvSpPr/>
          <p:nvPr/>
        </p:nvSpPr>
        <p:spPr>
          <a:xfrm>
            <a:off x="3276720" y="2349360"/>
            <a:ext cx="28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ЛИТ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1013400" y="54450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ько Мария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ОУ «СОШ «Лесколовский центр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волож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6"/>
          <p:cNvSpPr/>
          <p:nvPr/>
        </p:nvSpPr>
        <p:spPr>
          <a:xfrm>
            <a:off x="2422080" y="4005360"/>
            <a:ext cx="39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3718800" y="18900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"/>
          <p:cNvSpPr/>
          <p:nvPr/>
        </p:nvSpPr>
        <p:spPr>
          <a:xfrm>
            <a:off x="1304280" y="770400"/>
            <a:ext cx="704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да больше входит в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кастрюлю или в 3-х литровую банк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измерять одной меркой банкой в 1 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C:\Users\Dank\Pictures\96606487b1391f88233940d4835b8849.jpg"/>
          <p:cNvPicPr/>
          <p:nvPr/>
        </p:nvPicPr>
        <p:blipFill>
          <a:blip r:embed="rId1"/>
          <a:stretch/>
        </p:blipFill>
        <p:spPr>
          <a:xfrm>
            <a:off x="0" y="2924280"/>
            <a:ext cx="3510000" cy="280836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" descr="C:\Users\Dank\Pictures\700-nw.jpg"/>
          <p:cNvPicPr/>
          <p:nvPr/>
        </p:nvPicPr>
        <p:blipFill>
          <a:blip r:embed="rId2"/>
          <a:stretch/>
        </p:blipFill>
        <p:spPr>
          <a:xfrm>
            <a:off x="3059280" y="2781360"/>
            <a:ext cx="2665080" cy="2663640"/>
          </a:xfrm>
          <a:prstGeom prst="rect">
            <a:avLst/>
          </a:prstGeom>
          <a:ln w="0">
            <a:noFill/>
          </a:ln>
        </p:spPr>
      </p:pic>
      <p:sp>
        <p:nvSpPr>
          <p:cNvPr id="660" name="TextBox 7"/>
          <p:cNvSpPr/>
          <p:nvPr/>
        </p:nvSpPr>
        <p:spPr>
          <a:xfrm>
            <a:off x="5872320" y="3068640"/>
            <a:ext cx="64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1336680" y="4221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9"/>
          <p:cNvSpPr/>
          <p:nvPr/>
        </p:nvSpPr>
        <p:spPr>
          <a:xfrm>
            <a:off x="4000320" y="39337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Picture 4" descr="C:\Users\Dank\Pictures\003.jpg"/>
          <p:cNvPicPr/>
          <p:nvPr/>
        </p:nvPicPr>
        <p:blipFill>
          <a:blip r:embed="rId3"/>
          <a:stretch/>
        </p:blipFill>
        <p:spPr>
          <a:xfrm>
            <a:off x="6732720" y="4005360"/>
            <a:ext cx="1995480" cy="2409840"/>
          </a:xfrm>
          <a:prstGeom prst="rect">
            <a:avLst/>
          </a:prstGeom>
          <a:ln w="0">
            <a:noFill/>
          </a:ln>
        </p:spPr>
      </p:pic>
      <p:sp>
        <p:nvSpPr>
          <p:cNvPr id="664" name="TextBox 11"/>
          <p:cNvSpPr/>
          <p:nvPr/>
        </p:nvSpPr>
        <p:spPr>
          <a:xfrm>
            <a:off x="7171200" y="59198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7312680" y="4941720"/>
            <a:ext cx="7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1"/>
          <p:cNvSpPr/>
          <p:nvPr/>
        </p:nvSpPr>
        <p:spPr>
          <a:xfrm>
            <a:off x="3574800" y="26028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№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2" descr="C:\Users\Dank\Pictures\96606487b1391f88233940d4835b8849.jpg"/>
          <p:cNvPicPr/>
          <p:nvPr/>
        </p:nvPicPr>
        <p:blipFill>
          <a:blip r:embed="rId1"/>
          <a:stretch/>
        </p:blipFill>
        <p:spPr>
          <a:xfrm>
            <a:off x="1042920" y="2492280"/>
            <a:ext cx="2881440" cy="23050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C:\Users\Dank\Pictures\700-nw.jpg"/>
          <p:cNvPicPr/>
          <p:nvPr/>
        </p:nvPicPr>
        <p:blipFill>
          <a:blip r:embed="rId2"/>
          <a:stretch/>
        </p:blipFill>
        <p:spPr>
          <a:xfrm>
            <a:off x="6156360" y="2565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4" descr="C:\Users\Dank\Pictures\003.jpg"/>
          <p:cNvPicPr/>
          <p:nvPr/>
        </p:nvPicPr>
        <p:blipFill>
          <a:blip r:embed="rId3"/>
          <a:stretch/>
        </p:blipFill>
        <p:spPr>
          <a:xfrm>
            <a:off x="1835280" y="4365720"/>
            <a:ext cx="1260360" cy="1520640"/>
          </a:xfrm>
          <a:prstGeom prst="rect">
            <a:avLst/>
          </a:prstGeom>
          <a:ln w="0">
            <a:noFill/>
          </a:ln>
        </p:spPr>
      </p:pic>
      <p:sp>
        <p:nvSpPr>
          <p:cNvPr id="670" name="TextBox 8"/>
          <p:cNvSpPr/>
          <p:nvPr/>
        </p:nvSpPr>
        <p:spPr>
          <a:xfrm>
            <a:off x="900000" y="765000"/>
            <a:ext cx="75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 Будет ли одинаковое количество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кастрюле и в 3-х литровой бан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измерять вместимость разными мерками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6" descr=""/>
          <p:cNvPicPr/>
          <p:nvPr/>
        </p:nvPicPr>
        <p:blipFill>
          <a:blip r:embed="rId4"/>
          <a:stretch/>
        </p:blipFill>
        <p:spPr>
          <a:xfrm>
            <a:off x="6804000" y="4508640"/>
            <a:ext cx="558720" cy="101916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0"/>
          <p:cNvSpPr/>
          <p:nvPr/>
        </p:nvSpPr>
        <p:spPr>
          <a:xfrm>
            <a:off x="1916640" y="57326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1"/>
          <p:cNvSpPr/>
          <p:nvPr/>
        </p:nvSpPr>
        <p:spPr>
          <a:xfrm>
            <a:off x="6162840" y="5589720"/>
            <a:ext cx="18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стак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1"/>
          <p:cNvSpPr/>
          <p:nvPr/>
        </p:nvSpPr>
        <p:spPr>
          <a:xfrm>
            <a:off x="2556000" y="1197000"/>
            <a:ext cx="554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амостоятельная работа по учебн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стр. 38,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знайка"/>
          <p:cNvPicPr/>
          <p:nvPr/>
        </p:nvPicPr>
        <p:blipFill>
          <a:blip r:embed="rId1"/>
          <a:stretch/>
        </p:blipFill>
        <p:spPr>
          <a:xfrm>
            <a:off x="392040" y="692280"/>
            <a:ext cx="28861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"/>
          <p:cNvSpPr/>
          <p:nvPr/>
        </p:nvSpPr>
        <p:spPr>
          <a:xfrm>
            <a:off x="2230200" y="489240"/>
            <a:ext cx="49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“Верю – не верю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2"/>
          <p:cNvSpPr/>
          <p:nvPr/>
        </p:nvSpPr>
        <p:spPr>
          <a:xfrm>
            <a:off x="962280" y="1989000"/>
            <a:ext cx="7535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В  банку  умещается 1 сантиметр жид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Длину кошки можно измерить в ли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Объем жидко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Единица измерения объема жид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зывается ли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Box 1"/>
          <p:cNvSpPr/>
          <p:nvPr/>
        </p:nvSpPr>
        <p:spPr>
          <a:xfrm>
            <a:off x="258840" y="260280"/>
            <a:ext cx="861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Ребята, а как вы думаете, что произойд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с нашей планеты исчезнет вся в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вы думаете, что может приве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 исчезновению вод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–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же мы должны относиться к во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" descr="C:\Users\Dank\Pictures\img9.jpg"/>
          <p:cNvPicPr/>
          <p:nvPr/>
        </p:nvPicPr>
        <p:blipFill>
          <a:blip r:embed="rId1"/>
          <a:stretch/>
        </p:blipFill>
        <p:spPr>
          <a:xfrm>
            <a:off x="2556000" y="3338640"/>
            <a:ext cx="39607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900000" y="404640"/>
          <a:ext cx="7632720" cy="3170520"/>
        </p:xfrm>
        <a:graphic>
          <a:graphicData uri="http://schemas.openxmlformats.org/drawingml/2006/table">
            <a:tbl>
              <a:tblPr/>
              <a:tblGrid>
                <a:gridCol w="2543400"/>
                <a:gridCol w="2544480"/>
                <a:gridCol w="2544840"/>
              </a:tblGrid>
              <a:tr h="317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 работа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поня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рошо работал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сё поня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хо работ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чего не поня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1" name="Рисунок 3" descr=""/>
          <p:cNvPicPr/>
          <p:nvPr/>
        </p:nvPicPr>
        <p:blipFill>
          <a:blip r:embed="rId1"/>
          <a:srcRect l="24120" t="16865" r="21626" b="39139"/>
          <a:stretch/>
        </p:blipFill>
        <p:spPr>
          <a:xfrm>
            <a:off x="826920" y="3860640"/>
            <a:ext cx="2338560" cy="2448000"/>
          </a:xfrm>
          <a:prstGeom prst="rect">
            <a:avLst/>
          </a:prstGeom>
          <a:ln w="0">
            <a:noFill/>
          </a:ln>
        </p:spPr>
      </p:pic>
      <p:pic>
        <p:nvPicPr>
          <p:cNvPr id="682" name="Рисунок 3" descr=""/>
          <p:cNvPicPr/>
          <p:nvPr/>
        </p:nvPicPr>
        <p:blipFill>
          <a:blip r:embed="rId2"/>
          <a:srcRect l="24120" t="16865" r="21626" b="39139"/>
          <a:stretch/>
        </p:blipFill>
        <p:spPr>
          <a:xfrm>
            <a:off x="3564000" y="3860640"/>
            <a:ext cx="2338200" cy="2448000"/>
          </a:xfrm>
          <a:prstGeom prst="rect">
            <a:avLst/>
          </a:prstGeom>
          <a:ln w="0">
            <a:noFill/>
          </a:ln>
        </p:spPr>
      </p:pic>
      <p:pic>
        <p:nvPicPr>
          <p:cNvPr id="683" name="Рисунок 3" descr=""/>
          <p:cNvPicPr/>
          <p:nvPr/>
        </p:nvPicPr>
        <p:blipFill>
          <a:blip r:embed="rId3"/>
          <a:srcRect l="24120" t="16865" r="21626" b="39139"/>
          <a:stretch/>
        </p:blipFill>
        <p:spPr>
          <a:xfrm>
            <a:off x="6300720" y="3860640"/>
            <a:ext cx="2336760" cy="2448000"/>
          </a:xfrm>
          <a:prstGeom prst="rect">
            <a:avLst/>
          </a:prstGeom>
          <a:ln w="0">
            <a:noFill/>
          </a:ln>
        </p:spPr>
      </p:pic>
      <p:grpSp>
        <p:nvGrpSpPr>
          <p:cNvPr id="684" name="Минус 6"/>
          <p:cNvGrpSpPr/>
          <p:nvPr/>
        </p:nvGrpSpPr>
        <p:grpSpPr>
          <a:xfrm>
            <a:off x="1042920" y="4614840"/>
            <a:ext cx="1724040" cy="195120"/>
            <a:chOff x="1042920" y="4614840"/>
            <a:chExt cx="1724040" cy="195120"/>
          </a:xfrm>
        </p:grpSpPr>
        <p:pic>
          <p:nvPicPr>
            <p:cNvPr id="685" name="Минус 6" descr=""/>
            <p:cNvPicPr/>
            <p:nvPr/>
          </p:nvPicPr>
          <p:blipFill>
            <a:blip r:embed="rId4"/>
            <a:stretch/>
          </p:blipFill>
          <p:spPr>
            <a:xfrm>
              <a:off x="1042920" y="4614840"/>
              <a:ext cx="1724040" cy="1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 rot="10800000">
              <a:off x="1114200" y="4663800"/>
              <a:ext cx="158724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Минус 7"/>
          <p:cNvGrpSpPr/>
          <p:nvPr/>
        </p:nvGrpSpPr>
        <p:grpSpPr>
          <a:xfrm>
            <a:off x="6497640" y="5430960"/>
            <a:ext cx="1682640" cy="214200"/>
            <a:chOff x="6497640" y="5430960"/>
            <a:chExt cx="1682640" cy="214200"/>
          </a:xfrm>
        </p:grpSpPr>
        <p:pic>
          <p:nvPicPr>
            <p:cNvPr id="688" name="Минус 7" descr=""/>
            <p:cNvPicPr/>
            <p:nvPr/>
          </p:nvPicPr>
          <p:blipFill>
            <a:blip r:embed="rId5"/>
            <a:stretch/>
          </p:blipFill>
          <p:spPr>
            <a:xfrm>
              <a:off x="6497640" y="5430960"/>
              <a:ext cx="168264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 rot="10800000">
              <a:off x="6576480" y="5483160"/>
              <a:ext cx="153540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Минус 8"/>
          <p:cNvGrpSpPr/>
          <p:nvPr/>
        </p:nvGrpSpPr>
        <p:grpSpPr>
          <a:xfrm>
            <a:off x="3767040" y="5005440"/>
            <a:ext cx="1676520" cy="212760"/>
            <a:chOff x="3767040" y="5005440"/>
            <a:chExt cx="1676520" cy="212760"/>
          </a:xfrm>
        </p:grpSpPr>
        <p:pic>
          <p:nvPicPr>
            <p:cNvPr id="691" name="Минус 8" descr=""/>
            <p:cNvPicPr/>
            <p:nvPr/>
          </p:nvPicPr>
          <p:blipFill>
            <a:blip r:embed="rId6"/>
            <a:stretch/>
          </p:blipFill>
          <p:spPr>
            <a:xfrm>
              <a:off x="3767040" y="5005440"/>
              <a:ext cx="167652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 rot="10800000">
              <a:off x="3840120" y="5051160"/>
              <a:ext cx="1535040" cy="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TextBox 10"/>
          <p:cNvGrpSpPr/>
          <p:nvPr/>
        </p:nvGrpSpPr>
        <p:grpSpPr>
          <a:xfrm>
            <a:off x="1835280" y="2120760"/>
            <a:ext cx="4833720" cy="1676520"/>
            <a:chOff x="1835280" y="2120760"/>
            <a:chExt cx="4833720" cy="1676520"/>
          </a:xfrm>
        </p:grpSpPr>
        <p:pic>
          <p:nvPicPr>
            <p:cNvPr id="694" name="TextBox 10" descr=""/>
            <p:cNvPicPr/>
            <p:nvPr/>
          </p:nvPicPr>
          <p:blipFill>
            <a:blip r:embed="rId1"/>
            <a:stretch/>
          </p:blipFill>
          <p:spPr>
            <a:xfrm>
              <a:off x="1835280" y="2120760"/>
              <a:ext cx="4833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071800" y="2357280"/>
              <a:ext cx="435744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Прямоугольник 4"/>
          <p:cNvSpPr/>
          <p:nvPr/>
        </p:nvSpPr>
        <p:spPr>
          <a:xfrm>
            <a:off x="7326360" y="1429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Рисунок 1" descr=""/>
          <p:cNvPicPr/>
          <p:nvPr/>
        </p:nvPicPr>
        <p:blipFill>
          <a:blip r:embed="rId2"/>
          <a:stretch/>
        </p:blipFill>
        <p:spPr>
          <a:xfrm>
            <a:off x="1523880" y="1214280"/>
            <a:ext cx="6096240" cy="4429440"/>
          </a:xfrm>
          <a:prstGeom prst="rect">
            <a:avLst/>
          </a:prstGeom>
          <a:ln w="0">
            <a:noFill/>
          </a:ln>
        </p:spPr>
      </p:pic>
      <p:sp>
        <p:nvSpPr>
          <p:cNvPr id="698" name="TextBox 4"/>
          <p:cNvSpPr/>
          <p:nvPr/>
        </p:nvSpPr>
        <p:spPr>
          <a:xfrm>
            <a:off x="1928880" y="476280"/>
            <a:ext cx="54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БО  ЗА УР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Georgia"/>
              </a:rPr>
              <a:t>Девиз урока 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Чем больше 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я знаю, 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eorgia"/>
              </a:rPr>
              <a:t>тем больше умею.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Овал 3"/>
          <p:cNvSpPr/>
          <p:nvPr/>
        </p:nvSpPr>
        <p:spPr>
          <a:xfrm>
            <a:off x="2484360" y="1989000"/>
            <a:ext cx="4175280" cy="1440000"/>
          </a:xfrm>
          <a:prstGeom prst="ellipse">
            <a:avLst/>
          </a:prstGeom>
          <a:solidFill>
            <a:srgbClr val="fff185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eorgia"/>
              </a:rPr>
              <a:t>Велич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4"/>
          <p:cNvSpPr/>
          <p:nvPr/>
        </p:nvSpPr>
        <p:spPr>
          <a:xfrm>
            <a:off x="250920" y="765000"/>
            <a:ext cx="2952720" cy="79236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Ма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5"/>
          <p:cNvSpPr/>
          <p:nvPr/>
        </p:nvSpPr>
        <p:spPr>
          <a:xfrm>
            <a:off x="2843280" y="5157720"/>
            <a:ext cx="3025800" cy="720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7"/>
          <p:cNvSpPr/>
          <p:nvPr/>
        </p:nvSpPr>
        <p:spPr>
          <a:xfrm>
            <a:off x="5651640" y="4149720"/>
            <a:ext cx="3311280" cy="79200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Д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8"/>
          <p:cNvSpPr/>
          <p:nvPr/>
        </p:nvSpPr>
        <p:spPr>
          <a:xfrm>
            <a:off x="250920" y="2708280"/>
            <a:ext cx="2232000" cy="720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9"/>
          <p:cNvSpPr/>
          <p:nvPr/>
        </p:nvSpPr>
        <p:spPr>
          <a:xfrm>
            <a:off x="179280" y="4292640"/>
            <a:ext cx="2952720" cy="720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Вк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6804000" y="2924280"/>
            <a:ext cx="2089080" cy="504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Куб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13"/>
          <p:cNvSpPr/>
          <p:nvPr/>
        </p:nvSpPr>
        <p:spPr>
          <a:xfrm>
            <a:off x="5940360" y="765000"/>
            <a:ext cx="2881440" cy="72108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Georgia"/>
              </a:rPr>
              <a:t>Ц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Прямая со стрелкой 12" descr=""/>
          <p:cNvPicPr/>
          <p:nvPr/>
        </p:nvPicPr>
        <p:blipFill>
          <a:blip r:embed="rId1"/>
          <a:stretch/>
        </p:blipFill>
        <p:spPr>
          <a:xfrm>
            <a:off x="3133800" y="1504800"/>
            <a:ext cx="657000" cy="731880"/>
          </a:xfrm>
          <a:prstGeom prst="rect">
            <a:avLst/>
          </a:prstGeom>
          <a:ln w="0">
            <a:noFill/>
          </a:ln>
        </p:spPr>
      </p:pic>
      <p:pic>
        <p:nvPicPr>
          <p:cNvPr id="623" name="Прямая со стрелкой 15" descr=""/>
          <p:cNvPicPr/>
          <p:nvPr/>
        </p:nvPicPr>
        <p:blipFill>
          <a:blip r:embed="rId2"/>
          <a:stretch/>
        </p:blipFill>
        <p:spPr>
          <a:xfrm>
            <a:off x="5784840" y="3157560"/>
            <a:ext cx="731880" cy="109044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20"/>
          <p:cNvSpPr/>
          <p:nvPr/>
        </p:nvSpPr>
        <p:spPr>
          <a:xfrm>
            <a:off x="2556000" y="5157720"/>
            <a:ext cx="3528720" cy="720720"/>
          </a:xfrm>
          <a:prstGeom prst="rect">
            <a:avLst/>
          </a:prstGeom>
          <a:solidFill>
            <a:srgbClr val="fff8c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Georgia"/>
              </a:rPr>
              <a:t>Вместим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Прямая со стрелкой 21" descr=""/>
          <p:cNvPicPr/>
          <p:nvPr/>
        </p:nvPicPr>
        <p:blipFill>
          <a:blip r:embed="rId3"/>
          <a:stretch/>
        </p:blipFill>
        <p:spPr>
          <a:xfrm>
            <a:off x="4273560" y="3303720"/>
            <a:ext cx="30492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Овал 5"/>
          <p:cNvSpPr/>
          <p:nvPr/>
        </p:nvSpPr>
        <p:spPr>
          <a:xfrm>
            <a:off x="2033640" y="4041720"/>
            <a:ext cx="4680000" cy="914400"/>
          </a:xfrm>
          <a:prstGeom prst="ellipse">
            <a:avLst/>
          </a:prstGeom>
          <a:gradFill rotWithShape="0">
            <a:gsLst>
              <a:gs pos="0">
                <a:srgbClr val="8fdea0"/>
              </a:gs>
              <a:gs pos="100000">
                <a:srgbClr val="dff3e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8"/>
          <p:cNvSpPr/>
          <p:nvPr/>
        </p:nvSpPr>
        <p:spPr>
          <a:xfrm>
            <a:off x="228600" y="105084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ем похожи и чем отличаются кувшин и чашка на рисунке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2484360" y="3541680"/>
            <a:ext cx="1530360" cy="933480"/>
          </a:xfrm>
          <a:prstGeom prst="rect">
            <a:avLst/>
          </a:prstGeom>
          <a:ln w="0">
            <a:noFill/>
          </a:ln>
        </p:spPr>
      </p:pic>
      <p:sp>
        <p:nvSpPr>
          <p:cNvPr id="629" name="Прямоугольник 3"/>
          <p:cNvSpPr/>
          <p:nvPr/>
        </p:nvSpPr>
        <p:spPr>
          <a:xfrm>
            <a:off x="142920" y="496260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 помещается больше воды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2530440" cy="271332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9"/>
          <p:cNvSpPr/>
          <p:nvPr/>
        </p:nvSpPr>
        <p:spPr>
          <a:xfrm>
            <a:off x="3446640" y="34920"/>
            <a:ext cx="282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10"/>
          <p:cNvSpPr/>
          <p:nvPr/>
        </p:nvSpPr>
        <p:spPr>
          <a:xfrm>
            <a:off x="7326360" y="1429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112320" y="5805360"/>
            <a:ext cx="90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ому что вместимость кувшина больше вместимости ча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"/>
          <p:cNvSpPr/>
          <p:nvPr/>
        </p:nvSpPr>
        <p:spPr>
          <a:xfrm>
            <a:off x="288720" y="482760"/>
            <a:ext cx="848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Ребята, давайте рассмотрим ситуац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ляр хочет покрасить стену в оранжевый цв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у него есть банка желтой краски и банка красной крас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ему нужно сдел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C:\Users\Dank\Pictures\img15.jpg"/>
          <p:cNvPicPr/>
          <p:nvPr/>
        </p:nvPicPr>
        <p:blipFill>
          <a:blip r:embed="rId1"/>
          <a:srcRect l="0" t="18583" r="2277" b="0"/>
          <a:stretch/>
        </p:blipFill>
        <p:spPr>
          <a:xfrm>
            <a:off x="1476360" y="2276640"/>
            <a:ext cx="59911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1"/>
          <p:cNvSpPr/>
          <p:nvPr/>
        </p:nvSpPr>
        <p:spPr>
          <a:xfrm>
            <a:off x="468360" y="692280"/>
            <a:ext cx="8207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А где он будет ее смешивать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А как узнать уместятся ли в емко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е крас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какая мерка подойдет для ре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той пробле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ойдёт ли, к примеру, линейка или весы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 что, кроме воды можно измерять  этой мерк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659800" cy="3529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" descr=""/>
          <p:cNvPicPr/>
          <p:nvPr/>
        </p:nvPicPr>
        <p:blipFill>
          <a:blip r:embed="rId2"/>
          <a:stretch/>
        </p:blipFill>
        <p:spPr>
          <a:xfrm>
            <a:off x="2700360" y="5229360"/>
            <a:ext cx="37242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1"/>
          <p:cNvSpPr/>
          <p:nvPr/>
        </p:nvSpPr>
        <p:spPr>
          <a:xfrm>
            <a:off x="177840" y="662040"/>
            <a:ext cx="8067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 А как вы думаете, сколько в один литр вмещается жидкости, если ее измерять стака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Что нужно сделать, чтобы выполнить это зада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559080" cy="1019160"/>
          </a:xfrm>
          <a:prstGeom prst="rect">
            <a:avLst/>
          </a:prstGeom>
          <a:ln w="0">
            <a:noFill/>
          </a:ln>
        </p:spPr>
      </p:pic>
      <p:sp>
        <p:nvSpPr>
          <p:cNvPr id="641" name="TextBox 19"/>
          <p:cNvSpPr/>
          <p:nvPr/>
        </p:nvSpPr>
        <p:spPr>
          <a:xfrm>
            <a:off x="324000" y="3429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7"/>
          <p:cNvSpPr/>
          <p:nvPr/>
        </p:nvSpPr>
        <p:spPr>
          <a:xfrm>
            <a:off x="250920" y="21337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брать одинаковую мерк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3" descr=""/>
          <p:cNvPicPr/>
          <p:nvPr/>
        </p:nvPicPr>
        <p:blipFill>
          <a:blip r:embed="rId2"/>
          <a:stretch/>
        </p:blipFill>
        <p:spPr>
          <a:xfrm>
            <a:off x="7451640" y="2924280"/>
            <a:ext cx="1089000" cy="2709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8" descr=""/>
          <p:cNvPicPr/>
          <p:nvPr/>
        </p:nvPicPr>
        <p:blipFill>
          <a:blip r:embed="rId3"/>
          <a:stretch/>
        </p:blipFill>
        <p:spPr>
          <a:xfrm>
            <a:off x="4932360" y="3068640"/>
            <a:ext cx="1292400" cy="234144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16"/>
          <p:cNvSpPr/>
          <p:nvPr/>
        </p:nvSpPr>
        <p:spPr>
          <a:xfrm>
            <a:off x="163440" y="44280"/>
            <a:ext cx="59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17"/>
          <p:cNvSpPr/>
          <p:nvPr/>
        </p:nvSpPr>
        <p:spPr>
          <a:xfrm>
            <a:off x="7326360" y="1429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4"/>
          <p:cNvSpPr/>
          <p:nvPr/>
        </p:nvSpPr>
        <p:spPr>
          <a:xfrm>
            <a:off x="3645720" y="18900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5"/>
          <p:cNvSpPr/>
          <p:nvPr/>
        </p:nvSpPr>
        <p:spPr>
          <a:xfrm>
            <a:off x="1346040" y="5589720"/>
            <a:ext cx="50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 1 л входит 5 стак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18" descr="C:\Users\Dank\Pictures\moloko_prostokvashino_2_5_640x480.jpg"/>
          <p:cNvPicPr/>
          <p:nvPr/>
        </p:nvPicPr>
        <p:blipFill>
          <a:blip r:embed="rId4"/>
          <a:stretch/>
        </p:blipFill>
        <p:spPr>
          <a:xfrm>
            <a:off x="1835280" y="3141720"/>
            <a:ext cx="3168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8315280" cy="1933560"/>
          </a:xfrm>
          <a:prstGeom prst="rect">
            <a:avLst/>
          </a:prstGeom>
          <a:ln w="0">
            <a:noFill/>
          </a:ln>
        </p:spPr>
      </p:pic>
      <p:sp>
        <p:nvSpPr>
          <p:cNvPr id="65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6" descr="C:\Users\Dank\Pictures\23621_original.500x500.jpg"/>
          <p:cNvPicPr/>
          <p:nvPr/>
        </p:nvPicPr>
        <p:blipFill>
          <a:blip r:embed="rId2"/>
          <a:stretch/>
        </p:blipFill>
        <p:spPr>
          <a:xfrm>
            <a:off x="4356000" y="213372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653" name="TextBox 5"/>
          <p:cNvSpPr/>
          <p:nvPr/>
        </p:nvSpPr>
        <p:spPr>
          <a:xfrm>
            <a:off x="468360" y="2565360"/>
            <a:ext cx="280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го- 5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тром-2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чером-1 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талось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7"/>
          <p:cNvSpPr/>
          <p:nvPr/>
        </p:nvSpPr>
        <p:spPr>
          <a:xfrm>
            <a:off x="1114920" y="4869000"/>
            <a:ext cx="216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-2-1= 2 (с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638280" y="5732640"/>
            <a:ext cx="61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вет: осталось 2 стакана вишнёвого 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4:31:01Z</dcterms:created>
  <dc:creator>Анна</dc:creator>
  <dc:description/>
  <dc:language>en-US</dc:language>
  <cp:lastModifiedBy>Dank</cp:lastModifiedBy>
  <dcterms:modified xsi:type="dcterms:W3CDTF">2020-06-25T09:15:23Z</dcterms:modified>
  <cp:revision>1065</cp:revision>
  <dc:subject/>
  <dc:title>Слайд 1</dc:title>
</cp:coreProperties>
</file>